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E457C5-CF00-47EE-8DE3-E6BA58667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68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LIDE 1 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68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HANKS FOR THE OPPORTUNITY TO SHARE WITH YOU TODAY A BRIEF LOOK INTO THE VIDEO-GAME INDUSTRY’S MOST EXCITING MARKET OPPORTUNITY...THE 64-BIT JAGUAR INTERACTIVE MULTIMEDIA SYSTEM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68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ALLING JAGUAR AN EXCITING MARKET OPPORTUNITY IS PRETTY BIG TALK TO LIVE UP TO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68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FTER ALL, I COULD SPEND THE NEXT HOUR JUST TELLING YOU WHAT A GREAT PIECE OF HARDWARE IT IS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68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UT THE FACT IS, THE MACHINE SPEAKS FOR ITSELF, SO I’LL JUST POINT OUT SOME OF THE TECHNICAL HIGHLIGHTS IN A FEW MINUTES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68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HE REAL OPPORTUNITIES I WANT TO FOCUS ON TODAY ARE THE HUGE PROFITS AND MARKET-SHARE GAINS ATARI’S THIRD PARTY LICENSEES COULD REALIZE OVER THE NEXT FIVE YEARS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68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HIS RINGS ESPECIALLY TRUE FOR TALENTED DEVELOPMENT GROUPS EAGER TO BUILD THEIR OWN BRANDED PRESENCE IN A TOUGH MARKET WHERE A FEW HUGE, BUREAUCRATIC HARDWARE AND SOFTWARE COMPANIES MAKE IT VERY DIFFICULT FOR DEVELOPERS TO EARN THERE FAIR SHARE OF RECOGNITION AND FINANCIAL GAI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68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TARI’S NEW CONSUMER ADVERTISING CAMPAIGN IS THEMED “DO THE MATH”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681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IDE 23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’RE VERY EXCITED AND VERY COMMITTED TO ATTACKING THE JAGUAR’S HARDWARE SALES POTENTIAL...DESPITE ALL THE NAYSAY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IDE 25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FTER ALL, IT WAS THIS SAME GROUP OF NAYSAYERS THAT WAS ABSOLUTELY, 100% POSITIVE THAT SEGA NEVER HAD A CHANCE AGAINST NINTENDO JUST FIVE YEARS AGO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IDE 26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NKLY WE DON’T MIND STANDING UP AGAINST ALL THE DOUBTERS...LIKE SEGA DID...AND NINTENDO BEFORE THEM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CAUSE THE REALITY IS THAT JAGUAR IS FAR BETTER POSITIONED TO TAKE OFF THAN ANY VIDEO-GAME MACHINE EVER BEFORE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IDE 27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OTHER VERY CLEAR REALITY IS THAT JAGUAR HAS WIDESPREAD SUPPORT FROM THOSE WHO WANT TO SEE A GREAT, AFFORDABLE CARTRIDGE VIDEO-GAME SYSTEM FOR THE MASS MARKET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IDE 25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UST GO AHEAD AND ASK THE EDITORIAL COMMUNITY WHAT THEY THINK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OM THE MOST ENTHUSIASTIC FANZINES ALL THE WAY TO NATIONAL BROADCAST NEW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AGUAR’S A HI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IDE 29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 MAJOR PART OF THE EXCITEMENT SURROUNDING JAGUAR IS THE SIMPLE FACT THAT IT’S OUT, IT’S REAL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 NEED FOR SPECULATION AND CONFUSION ABOUT WHAT’S COMING 18-MONTHS FROM NOW...IT’S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IDE 30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VEN MORE EXCITING IS OUR STRONG PRICING ADVANTAGE OVER OTHER HARDWARE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UR SOLE FOCUS IS ESTABLISHING A MASS MARKET PRESENCE AS QUICKLY A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IDE 31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THEN LEVERAGING THE CARTRIDGE HARDWARE SYSTEM INSTALLED BASE TO DELIVER A WHOLE NEW DIMENSION IN GAM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PC JAGUAR CD 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D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IRUAL RE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IN-OP UN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AGUA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ND TO MAKE THEM ALL AFFORDABLE TO MASS-MARKET AS 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IDE 32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TRUTH IS WE WILL ONLY BE ABLE TO ACCOMPLISH ALL OF THIS WITH THE STRONG SUPPORT OF OUR THIRD PARTY LICENSEE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HOM WE INTEND TO TREAT LIKE THE GATE-KEEPERS TO THE TREASURE ROOM...BECAUSE THEY AR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IDE 2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DAY I HOPE TO HAVE YOU DOING THE MATH YOURSELVES AFTER I TELL YOU ABOUT JAGUAR AND THE HUGE MARKET OPPORTUNITIES I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64-BIT CARTRIDGE BUSINES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INTERACTIVE SET-TOP CD MARKET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DESKTOP MPC MARKET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ACTIVE-NETWORK AND MODEM GAMING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CATION-BASED AND COIN-OP ARCADE MARKET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OF COURSE, VIRTUAL REALITY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IDE 33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AT’S WHY IN BUILDING OUR LICENSEE PROGRAM WE FOCUSED ON WHERE WE CAN DO OUR LICENSEES THE MOST GOOD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OF COURSE, IT CAME DOWN TO MON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 PLACED OUR STRONGEST EMPHASIS ON MARGINS, PROFITS AND C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IDE 31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44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EN YOU COMPARE TYPICAL FINANCIAL MODELS, A JAGUAR CARTRIDGE DELIVERS A PROFIT MARGIN ALMOST 50% GREATER THAN THAT OF A 16-BIT CARTRIDG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44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IRST PROBLEM WITH 16-BIT IS THE FACT THAT IT’S A RAPIDLY DECLINING MARKET WITH TOO MANY TITLES, TOO MUCH INVENTORY AND NOT ENOUGH PURCHASING CONSUMER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44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A RESULT, WE’RE GOING TO SEE STEEP DISCOUNTING AND PRICE SLASHNG, RESULTING IN MUCH THINNER MARGINS ON A TYPICAL 59.95 PRODUC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44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SUCH PROBLEM WITH JAGUAR PRI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44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OTHER AREA LICENSEES TAKE IT IN THE SHORTS IS IN COST-OF-GOODS PRICING FROM THE OTHER HARDWARE MANUFACTURERS, WHO HAVE A HUGE MARK-UP IN EVERY STEP OF THE PROCES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44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EN YOU ADD THESE MARK-UPS TO THE CASH REQUIREMENTS OF PAYING EVERYTHING IN ADVANCE AND THE MANUFACTURING LEAD TIMES OF BUILDING THE STUFF IN JAPAN AND SHIPPING IT OVER HERE, IT ROUNDS OUT A PRETTY GRIM PICTURE FOR 16-BIT FINANCIALS WHEN COMPARED TO JAG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34 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UR UNIQUE CO-PUBLISHING AGREEMENT CAN PROVIDE HUGE PROFIT-SHARE STRUCTURES FOR CERTAIN DEVELOPERS, PLUS AVAILABLE FUNDING FOR MANUFACTURING, MARKETING AND DISTRIBUTION SUPPORT THROUGH ATARI AND ITS VENDORS AT NO “CASH” COST TO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Y OBJECTIVE TODAY WAS TO GET YOU TO DO THE MATH...HOPEFULLY I’VE ACCOMPLISHED THA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NEXT TEST COMES NOW IN HOW WELL ATARI CAN RESPOND TO YOUR INQUIRIES AND TECHNICAL NEED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GET THE BALL ROLLING, WE’VE GOT INFORMATION REQUEST FORMS AVAILABLE HERE FOR BOTH OUR LICENSEE AND CO-PUBLISHING PROGRAMS THAT YOU CAN PICK UP AFTER THE SESSIO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MEANTIME, I’VE APPRECIATED YOUR ATTENTION DURING MY PRESENTATION AND WOULD BE GLAD TO TRY TO ANSWER ANY QUESTIONS YOU MIGHT HAV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IDE 16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----BILL’S PRESENTATION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WHAT IT ALL REALLY BOILS DOWN TO IS THAT ATARI HAS ITSELF ONE GREAT PIECE OF HARDWARE...THE REAL TEST COMES IN WHAT WE DO WITH IT IN AN EVER-CHANGING MARKET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IDE 17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SO LET ME TALK FOR A FEW MINUTES ABOUT WHERE WE SEE THE MARKET GOING AND HOW JAGUAR FITS IN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IDE 18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L MARKET DISCUSSI0NS BEGIN WITH “CONVERGENCE”...THE HOT BUZZWORD MAKING THE ROUNDS FROM SPAGO TO SILICON VALLEY TO WALL STREET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Y THE END OF THE DECADE,  THE MERGED INTERACTIVE MEGAMARKET WILL APPROACH $100 BILLION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IT ALL STARTS WITH VIDEO GAME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IDE 19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’S ONLY A COUPLE YEARS AGO THAT VIDEO-GAMES SURPASSED MOVIE TICKET SALES IN AMERICAN ENTERTAINMENT SPENDING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VER THE NEXT FIVE YEARS, INTERACTIVE SOFTWARE WILL MAKE ITS PRESENCE FELT IN ALL OTHER KEY ENTERTAINMENT SECTOR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BLE DOWNLOAD OF GAMES AND INTERACTIVE TV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ARLY 1/3 OF ALL TOY RETAILER REVE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APID-GROWING CATEGORY FOR VIDEOTAPE DEAL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NSE PRODUCTION AND CONTENT INTEREST IN HOLLYWO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Y THE END OF THE DECADE, VIDEO-GAMES—OR INTERACTIVE ENTERTAINMENT SOFTWARE, AS IT WILL BE KNOWN THEN—ARE EXPECTED TO RANK SECOND ONLY TO CABLE NETWORKS IN TOTAL SHARE OF ENTERTAINMENT SPE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IDE 20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ONG GROWTH OVER NEXT FIVE YEARS WILL PUSH THE MARKET UP OVER $10 B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RE THAN $7 BILLION OF THAT IS I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IDE 21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MARILY THE GROWTH THROUGH THE END OF THE DECADE WILL BE FUELED BY THE MARKET’S HARDWARE TRANSITION TO MORE POWERFUL 32- AND 64-BIT SYSTEM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XT HARDWARE CYCLE WILL DWARF EVERYTHING WE’VE SEEN SO FAR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SHOULD ACCOUNT FOR MORE THAN $7 BILLION OF THE TOTAL MARKET BY THE END OF THE DECADE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ANDHELDS AND ACCESSORIES MAKING UP THE OTHER $3 BILLION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IDE 22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 WHERE DOES JAGUAR FIT IN THE NEXT CYC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E MARKET FORECAST HAS ATARI SELLING MORE THAN 11 MILLION UNITS OVER THE NEXT FIVE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4 PROJECTIONS ARE ROUGHLY HALF A MILLION UNIT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ICK RAMP IN MANUFACTURING CAPACITY ALSO MEANS MORE AND MORE AFFORDABLE JAGUAR HARDWARE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1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058840" y="5424480"/>
            <a:ext cx="50259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  <a:ea typeface="Arial"/>
              </a:rPr>
              <a:t>DO THE MATH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74880" y="2154240"/>
            <a:ext cx="7175520" cy="2529360"/>
            <a:chOff x="974880" y="2154240"/>
            <a:chExt cx="7175520" cy="2529360"/>
          </a:xfrm>
        </p:grpSpPr>
        <p:sp>
          <p:nvSpPr>
            <p:cNvPr id="46" name=""/>
            <p:cNvSpPr/>
            <p:nvPr/>
          </p:nvSpPr>
          <p:spPr>
            <a:xfrm>
              <a:off x="974880" y="2154240"/>
              <a:ext cx="2049840" cy="1830600"/>
            </a:xfrm>
            <a:custGeom>
              <a:avLst/>
              <a:gdLst/>
              <a:ahLst/>
              <a:rect l="0" t="0" r="r" b="b"/>
              <a:pathLst>
                <a:path w="5694" h="5085">
                  <a:moveTo>
                    <a:pt x="5694" y="96"/>
                  </a:moveTo>
                  <a:lnTo>
                    <a:pt x="5668" y="109"/>
                  </a:lnTo>
                  <a:lnTo>
                    <a:pt x="5633" y="118"/>
                  </a:lnTo>
                  <a:lnTo>
                    <a:pt x="5541" y="140"/>
                  </a:lnTo>
                  <a:lnTo>
                    <a:pt x="5304" y="175"/>
                  </a:lnTo>
                  <a:lnTo>
                    <a:pt x="5054" y="214"/>
                  </a:lnTo>
                  <a:lnTo>
                    <a:pt x="4860" y="250"/>
                  </a:lnTo>
                  <a:lnTo>
                    <a:pt x="4874" y="289"/>
                  </a:lnTo>
                  <a:lnTo>
                    <a:pt x="4874" y="298"/>
                  </a:lnTo>
                  <a:lnTo>
                    <a:pt x="4882" y="302"/>
                  </a:lnTo>
                  <a:lnTo>
                    <a:pt x="4931" y="311"/>
                  </a:lnTo>
                  <a:lnTo>
                    <a:pt x="5045" y="324"/>
                  </a:lnTo>
                  <a:lnTo>
                    <a:pt x="5040" y="377"/>
                  </a:lnTo>
                  <a:lnTo>
                    <a:pt x="4935" y="456"/>
                  </a:lnTo>
                  <a:lnTo>
                    <a:pt x="4909" y="478"/>
                  </a:lnTo>
                  <a:lnTo>
                    <a:pt x="4900" y="491"/>
                  </a:lnTo>
                  <a:lnTo>
                    <a:pt x="4904" y="508"/>
                  </a:lnTo>
                  <a:lnTo>
                    <a:pt x="4909" y="517"/>
                  </a:lnTo>
                  <a:lnTo>
                    <a:pt x="4900" y="526"/>
                  </a:lnTo>
                  <a:lnTo>
                    <a:pt x="4869" y="557"/>
                  </a:lnTo>
                  <a:lnTo>
                    <a:pt x="4825" y="574"/>
                  </a:lnTo>
                  <a:lnTo>
                    <a:pt x="4786" y="592"/>
                  </a:lnTo>
                  <a:lnTo>
                    <a:pt x="4742" y="596"/>
                  </a:lnTo>
                  <a:lnTo>
                    <a:pt x="4659" y="614"/>
                  </a:lnTo>
                  <a:lnTo>
                    <a:pt x="4597" y="636"/>
                  </a:lnTo>
                  <a:lnTo>
                    <a:pt x="4571" y="662"/>
                  </a:lnTo>
                  <a:lnTo>
                    <a:pt x="4566" y="675"/>
                  </a:lnTo>
                  <a:lnTo>
                    <a:pt x="4566" y="688"/>
                  </a:lnTo>
                  <a:lnTo>
                    <a:pt x="4558" y="701"/>
                  </a:lnTo>
                  <a:lnTo>
                    <a:pt x="4523" y="723"/>
                  </a:lnTo>
                  <a:lnTo>
                    <a:pt x="4448" y="750"/>
                  </a:lnTo>
                  <a:lnTo>
                    <a:pt x="4105" y="851"/>
                  </a:lnTo>
                  <a:lnTo>
                    <a:pt x="4087" y="859"/>
                  </a:lnTo>
                  <a:lnTo>
                    <a:pt x="4069" y="877"/>
                  </a:lnTo>
                  <a:lnTo>
                    <a:pt x="4039" y="921"/>
                  </a:lnTo>
                  <a:lnTo>
                    <a:pt x="4004" y="969"/>
                  </a:lnTo>
                  <a:lnTo>
                    <a:pt x="3986" y="995"/>
                  </a:lnTo>
                  <a:lnTo>
                    <a:pt x="3964" y="1004"/>
                  </a:lnTo>
                  <a:lnTo>
                    <a:pt x="3933" y="1013"/>
                  </a:lnTo>
                  <a:lnTo>
                    <a:pt x="3885" y="1017"/>
                  </a:lnTo>
                  <a:lnTo>
                    <a:pt x="3797" y="1039"/>
                  </a:lnTo>
                  <a:lnTo>
                    <a:pt x="3661" y="1105"/>
                  </a:lnTo>
                  <a:lnTo>
                    <a:pt x="3609" y="1377"/>
                  </a:lnTo>
                  <a:lnTo>
                    <a:pt x="3551" y="1636"/>
                  </a:lnTo>
                  <a:lnTo>
                    <a:pt x="3490" y="1890"/>
                  </a:lnTo>
                  <a:lnTo>
                    <a:pt x="3424" y="2136"/>
                  </a:lnTo>
                  <a:lnTo>
                    <a:pt x="3284" y="2598"/>
                  </a:lnTo>
                  <a:lnTo>
                    <a:pt x="3134" y="3010"/>
                  </a:lnTo>
                  <a:lnTo>
                    <a:pt x="3060" y="3203"/>
                  </a:lnTo>
                  <a:lnTo>
                    <a:pt x="2985" y="3383"/>
                  </a:lnTo>
                  <a:lnTo>
                    <a:pt x="2836" y="3703"/>
                  </a:lnTo>
                  <a:lnTo>
                    <a:pt x="2761" y="3839"/>
                  </a:lnTo>
                  <a:lnTo>
                    <a:pt x="2691" y="3962"/>
                  </a:lnTo>
                  <a:lnTo>
                    <a:pt x="2621" y="4072"/>
                  </a:lnTo>
                  <a:lnTo>
                    <a:pt x="2555" y="4164"/>
                  </a:lnTo>
                  <a:lnTo>
                    <a:pt x="2371" y="4392"/>
                  </a:lnTo>
                  <a:lnTo>
                    <a:pt x="2287" y="4493"/>
                  </a:lnTo>
                  <a:lnTo>
                    <a:pt x="2200" y="4580"/>
                  </a:lnTo>
                  <a:lnTo>
                    <a:pt x="2121" y="4664"/>
                  </a:lnTo>
                  <a:lnTo>
                    <a:pt x="2042" y="4734"/>
                  </a:lnTo>
                  <a:lnTo>
                    <a:pt x="1967" y="4800"/>
                  </a:lnTo>
                  <a:lnTo>
                    <a:pt x="1888" y="4861"/>
                  </a:lnTo>
                  <a:lnTo>
                    <a:pt x="1818" y="4914"/>
                  </a:lnTo>
                  <a:lnTo>
                    <a:pt x="1747" y="4953"/>
                  </a:lnTo>
                  <a:lnTo>
                    <a:pt x="1607" y="5019"/>
                  </a:lnTo>
                  <a:lnTo>
                    <a:pt x="1471" y="5063"/>
                  </a:lnTo>
                  <a:lnTo>
                    <a:pt x="1334" y="5081"/>
                  </a:lnTo>
                  <a:lnTo>
                    <a:pt x="1233" y="5085"/>
                  </a:lnTo>
                  <a:lnTo>
                    <a:pt x="1128" y="5072"/>
                  </a:lnTo>
                  <a:lnTo>
                    <a:pt x="1027" y="5050"/>
                  </a:lnTo>
                  <a:lnTo>
                    <a:pt x="921" y="5023"/>
                  </a:lnTo>
                  <a:lnTo>
                    <a:pt x="825" y="4988"/>
                  </a:lnTo>
                  <a:lnTo>
                    <a:pt x="724" y="4945"/>
                  </a:lnTo>
                  <a:lnTo>
                    <a:pt x="539" y="4852"/>
                  </a:lnTo>
                  <a:lnTo>
                    <a:pt x="381" y="4760"/>
                  </a:lnTo>
                  <a:lnTo>
                    <a:pt x="254" y="4673"/>
                  </a:lnTo>
                  <a:lnTo>
                    <a:pt x="171" y="4607"/>
                  </a:lnTo>
                  <a:lnTo>
                    <a:pt x="136" y="4576"/>
                  </a:lnTo>
                  <a:lnTo>
                    <a:pt x="70" y="4484"/>
                  </a:lnTo>
                  <a:lnTo>
                    <a:pt x="26" y="4409"/>
                  </a:lnTo>
                  <a:lnTo>
                    <a:pt x="4" y="4352"/>
                  </a:lnTo>
                  <a:lnTo>
                    <a:pt x="0" y="4308"/>
                  </a:lnTo>
                  <a:lnTo>
                    <a:pt x="0" y="4282"/>
                  </a:lnTo>
                  <a:lnTo>
                    <a:pt x="8" y="4265"/>
                  </a:lnTo>
                  <a:lnTo>
                    <a:pt x="35" y="4247"/>
                  </a:lnTo>
                  <a:lnTo>
                    <a:pt x="65" y="4247"/>
                  </a:lnTo>
                  <a:lnTo>
                    <a:pt x="83" y="4256"/>
                  </a:lnTo>
                  <a:lnTo>
                    <a:pt x="100" y="4269"/>
                  </a:lnTo>
                  <a:lnTo>
                    <a:pt x="153" y="4326"/>
                  </a:lnTo>
                  <a:lnTo>
                    <a:pt x="254" y="4418"/>
                  </a:lnTo>
                  <a:lnTo>
                    <a:pt x="373" y="4510"/>
                  </a:lnTo>
                  <a:lnTo>
                    <a:pt x="491" y="4580"/>
                  </a:lnTo>
                  <a:lnTo>
                    <a:pt x="610" y="4633"/>
                  </a:lnTo>
                  <a:lnTo>
                    <a:pt x="719" y="4668"/>
                  </a:lnTo>
                  <a:lnTo>
                    <a:pt x="829" y="4690"/>
                  </a:lnTo>
                  <a:lnTo>
                    <a:pt x="939" y="4694"/>
                  </a:lnTo>
                  <a:lnTo>
                    <a:pt x="1040" y="4681"/>
                  </a:lnTo>
                  <a:lnTo>
                    <a:pt x="1141" y="4659"/>
                  </a:lnTo>
                  <a:lnTo>
                    <a:pt x="1242" y="4624"/>
                  </a:lnTo>
                  <a:lnTo>
                    <a:pt x="1334" y="4572"/>
                  </a:lnTo>
                  <a:lnTo>
                    <a:pt x="1431" y="4510"/>
                  </a:lnTo>
                  <a:lnTo>
                    <a:pt x="1524" y="4436"/>
                  </a:lnTo>
                  <a:lnTo>
                    <a:pt x="1616" y="4352"/>
                  </a:lnTo>
                  <a:lnTo>
                    <a:pt x="1699" y="4256"/>
                  </a:lnTo>
                  <a:lnTo>
                    <a:pt x="1787" y="4155"/>
                  </a:lnTo>
                  <a:lnTo>
                    <a:pt x="1870" y="4045"/>
                  </a:lnTo>
                  <a:lnTo>
                    <a:pt x="1989" y="3865"/>
                  </a:lnTo>
                  <a:lnTo>
                    <a:pt x="2103" y="3668"/>
                  </a:lnTo>
                  <a:lnTo>
                    <a:pt x="2217" y="3449"/>
                  </a:lnTo>
                  <a:lnTo>
                    <a:pt x="2322" y="3212"/>
                  </a:lnTo>
                  <a:lnTo>
                    <a:pt x="2423" y="2957"/>
                  </a:lnTo>
                  <a:lnTo>
                    <a:pt x="2524" y="2672"/>
                  </a:lnTo>
                  <a:lnTo>
                    <a:pt x="2621" y="2368"/>
                  </a:lnTo>
                  <a:lnTo>
                    <a:pt x="2709" y="2035"/>
                  </a:lnTo>
                  <a:lnTo>
                    <a:pt x="2893" y="1254"/>
                  </a:lnTo>
                  <a:lnTo>
                    <a:pt x="2889" y="1197"/>
                  </a:lnTo>
                  <a:lnTo>
                    <a:pt x="1677" y="1338"/>
                  </a:lnTo>
                  <a:lnTo>
                    <a:pt x="1515" y="1351"/>
                  </a:lnTo>
                  <a:lnTo>
                    <a:pt x="1484" y="1346"/>
                  </a:lnTo>
                  <a:lnTo>
                    <a:pt x="1427" y="1223"/>
                  </a:lnTo>
                  <a:lnTo>
                    <a:pt x="1308" y="1232"/>
                  </a:lnTo>
                  <a:lnTo>
                    <a:pt x="1290" y="1223"/>
                  </a:lnTo>
                  <a:lnTo>
                    <a:pt x="1277" y="1197"/>
                  </a:lnTo>
                  <a:lnTo>
                    <a:pt x="1281" y="1171"/>
                  </a:lnTo>
                  <a:lnTo>
                    <a:pt x="1286" y="1158"/>
                  </a:lnTo>
                  <a:lnTo>
                    <a:pt x="1312" y="1153"/>
                  </a:lnTo>
                  <a:lnTo>
                    <a:pt x="1351" y="1140"/>
                  </a:lnTo>
                  <a:lnTo>
                    <a:pt x="1378" y="1127"/>
                  </a:lnTo>
                  <a:lnTo>
                    <a:pt x="1400" y="1096"/>
                  </a:lnTo>
                  <a:lnTo>
                    <a:pt x="1404" y="1074"/>
                  </a:lnTo>
                  <a:lnTo>
                    <a:pt x="1391" y="1052"/>
                  </a:lnTo>
                  <a:lnTo>
                    <a:pt x="1334" y="1017"/>
                  </a:lnTo>
                  <a:lnTo>
                    <a:pt x="1268" y="978"/>
                  </a:lnTo>
                  <a:lnTo>
                    <a:pt x="1246" y="960"/>
                  </a:lnTo>
                  <a:lnTo>
                    <a:pt x="1233" y="938"/>
                  </a:lnTo>
                  <a:lnTo>
                    <a:pt x="1229" y="890"/>
                  </a:lnTo>
                  <a:lnTo>
                    <a:pt x="1237" y="855"/>
                  </a:lnTo>
                  <a:lnTo>
                    <a:pt x="1255" y="837"/>
                  </a:lnTo>
                  <a:lnTo>
                    <a:pt x="1281" y="829"/>
                  </a:lnTo>
                  <a:lnTo>
                    <a:pt x="1351" y="824"/>
                  </a:lnTo>
                  <a:lnTo>
                    <a:pt x="1400" y="824"/>
                  </a:lnTo>
                  <a:lnTo>
                    <a:pt x="1445" y="811"/>
                  </a:lnTo>
                  <a:lnTo>
                    <a:pt x="1445" y="776"/>
                  </a:lnTo>
                  <a:lnTo>
                    <a:pt x="1378" y="772"/>
                  </a:lnTo>
                  <a:lnTo>
                    <a:pt x="1334" y="758"/>
                  </a:lnTo>
                  <a:lnTo>
                    <a:pt x="1325" y="745"/>
                  </a:lnTo>
                  <a:lnTo>
                    <a:pt x="1321" y="723"/>
                  </a:lnTo>
                  <a:lnTo>
                    <a:pt x="1334" y="636"/>
                  </a:lnTo>
                  <a:lnTo>
                    <a:pt x="1338" y="627"/>
                  </a:lnTo>
                  <a:lnTo>
                    <a:pt x="1351" y="618"/>
                  </a:lnTo>
                  <a:lnTo>
                    <a:pt x="1400" y="609"/>
                  </a:lnTo>
                  <a:lnTo>
                    <a:pt x="1646" y="609"/>
                  </a:lnTo>
                  <a:lnTo>
                    <a:pt x="1875" y="596"/>
                  </a:lnTo>
                  <a:lnTo>
                    <a:pt x="2191" y="570"/>
                  </a:lnTo>
                  <a:lnTo>
                    <a:pt x="2608" y="517"/>
                  </a:lnTo>
                  <a:lnTo>
                    <a:pt x="3143" y="434"/>
                  </a:lnTo>
                  <a:lnTo>
                    <a:pt x="4834" y="105"/>
                  </a:lnTo>
                  <a:lnTo>
                    <a:pt x="5348" y="17"/>
                  </a:lnTo>
                  <a:lnTo>
                    <a:pt x="5501" y="0"/>
                  </a:lnTo>
                  <a:lnTo>
                    <a:pt x="5598" y="0"/>
                  </a:lnTo>
                  <a:lnTo>
                    <a:pt x="5659" y="13"/>
                  </a:lnTo>
                  <a:lnTo>
                    <a:pt x="5686" y="35"/>
                  </a:lnTo>
                  <a:lnTo>
                    <a:pt x="5694" y="65"/>
                  </a:lnTo>
                  <a:lnTo>
                    <a:pt x="5694" y="96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41640" y="2324160"/>
              <a:ext cx="1787760" cy="1667160"/>
            </a:xfrm>
            <a:custGeom>
              <a:avLst/>
              <a:gdLst/>
              <a:ahLst/>
              <a:rect l="0" t="0" r="r" b="b"/>
              <a:pathLst>
                <a:path w="4966" h="4631">
                  <a:moveTo>
                    <a:pt x="1486" y="306"/>
                  </a:moveTo>
                  <a:lnTo>
                    <a:pt x="1557" y="342"/>
                  </a:lnTo>
                  <a:lnTo>
                    <a:pt x="1605" y="372"/>
                  </a:lnTo>
                  <a:lnTo>
                    <a:pt x="1618" y="390"/>
                  </a:lnTo>
                  <a:lnTo>
                    <a:pt x="1627" y="412"/>
                  </a:lnTo>
                  <a:lnTo>
                    <a:pt x="1627" y="464"/>
                  </a:lnTo>
                  <a:lnTo>
                    <a:pt x="1596" y="539"/>
                  </a:lnTo>
                  <a:lnTo>
                    <a:pt x="1535" y="644"/>
                  </a:lnTo>
                  <a:lnTo>
                    <a:pt x="1337" y="969"/>
                  </a:lnTo>
                  <a:lnTo>
                    <a:pt x="1293" y="1012"/>
                  </a:lnTo>
                  <a:lnTo>
                    <a:pt x="1245" y="1223"/>
                  </a:lnTo>
                  <a:lnTo>
                    <a:pt x="1223" y="1280"/>
                  </a:lnTo>
                  <a:lnTo>
                    <a:pt x="1197" y="1319"/>
                  </a:lnTo>
                  <a:lnTo>
                    <a:pt x="1127" y="1420"/>
                  </a:lnTo>
                  <a:lnTo>
                    <a:pt x="1065" y="1512"/>
                  </a:lnTo>
                  <a:lnTo>
                    <a:pt x="986" y="1648"/>
                  </a:lnTo>
                  <a:lnTo>
                    <a:pt x="886" y="1933"/>
                  </a:lnTo>
                  <a:lnTo>
                    <a:pt x="855" y="1973"/>
                  </a:lnTo>
                  <a:lnTo>
                    <a:pt x="785" y="2073"/>
                  </a:lnTo>
                  <a:lnTo>
                    <a:pt x="736" y="2152"/>
                  </a:lnTo>
                  <a:lnTo>
                    <a:pt x="679" y="2253"/>
                  </a:lnTo>
                  <a:lnTo>
                    <a:pt x="561" y="2535"/>
                  </a:lnTo>
                  <a:lnTo>
                    <a:pt x="491" y="2745"/>
                  </a:lnTo>
                  <a:lnTo>
                    <a:pt x="438" y="2912"/>
                  </a:lnTo>
                  <a:lnTo>
                    <a:pt x="412" y="3039"/>
                  </a:lnTo>
                  <a:lnTo>
                    <a:pt x="403" y="3127"/>
                  </a:lnTo>
                  <a:lnTo>
                    <a:pt x="421" y="3184"/>
                  </a:lnTo>
                  <a:lnTo>
                    <a:pt x="434" y="3201"/>
                  </a:lnTo>
                  <a:lnTo>
                    <a:pt x="451" y="3206"/>
                  </a:lnTo>
                  <a:lnTo>
                    <a:pt x="469" y="3210"/>
                  </a:lnTo>
                  <a:lnTo>
                    <a:pt x="495" y="3206"/>
                  </a:lnTo>
                  <a:lnTo>
                    <a:pt x="557" y="3175"/>
                  </a:lnTo>
                  <a:lnTo>
                    <a:pt x="627" y="3131"/>
                  </a:lnTo>
                  <a:lnTo>
                    <a:pt x="710" y="3070"/>
                  </a:lnTo>
                  <a:lnTo>
                    <a:pt x="890" y="2908"/>
                  </a:lnTo>
                  <a:lnTo>
                    <a:pt x="1293" y="2535"/>
                  </a:lnTo>
                  <a:lnTo>
                    <a:pt x="1359" y="2473"/>
                  </a:lnTo>
                  <a:lnTo>
                    <a:pt x="1399" y="2430"/>
                  </a:lnTo>
                  <a:lnTo>
                    <a:pt x="1443" y="2373"/>
                  </a:lnTo>
                  <a:lnTo>
                    <a:pt x="1482" y="2306"/>
                  </a:lnTo>
                  <a:lnTo>
                    <a:pt x="1526" y="2227"/>
                  </a:lnTo>
                  <a:lnTo>
                    <a:pt x="1565" y="2130"/>
                  </a:lnTo>
                  <a:lnTo>
                    <a:pt x="1596" y="2016"/>
                  </a:lnTo>
                  <a:lnTo>
                    <a:pt x="1658" y="1767"/>
                  </a:lnTo>
                  <a:lnTo>
                    <a:pt x="1679" y="1657"/>
                  </a:lnTo>
                  <a:lnTo>
                    <a:pt x="1697" y="1626"/>
                  </a:lnTo>
                  <a:lnTo>
                    <a:pt x="1736" y="1582"/>
                  </a:lnTo>
                  <a:lnTo>
                    <a:pt x="1754" y="1574"/>
                  </a:lnTo>
                  <a:lnTo>
                    <a:pt x="1750" y="1482"/>
                  </a:lnTo>
                  <a:lnTo>
                    <a:pt x="1750" y="1411"/>
                  </a:lnTo>
                  <a:lnTo>
                    <a:pt x="1763" y="1354"/>
                  </a:lnTo>
                  <a:lnTo>
                    <a:pt x="1780" y="1315"/>
                  </a:lnTo>
                  <a:lnTo>
                    <a:pt x="1802" y="1293"/>
                  </a:lnTo>
                  <a:lnTo>
                    <a:pt x="1820" y="1275"/>
                  </a:lnTo>
                  <a:lnTo>
                    <a:pt x="1855" y="1262"/>
                  </a:lnTo>
                  <a:lnTo>
                    <a:pt x="1899" y="1227"/>
                  </a:lnTo>
                  <a:lnTo>
                    <a:pt x="1868" y="1153"/>
                  </a:lnTo>
                  <a:lnTo>
                    <a:pt x="1864" y="1126"/>
                  </a:lnTo>
                  <a:lnTo>
                    <a:pt x="1864" y="1096"/>
                  </a:lnTo>
                  <a:lnTo>
                    <a:pt x="1912" y="1004"/>
                  </a:lnTo>
                  <a:lnTo>
                    <a:pt x="2030" y="819"/>
                  </a:lnTo>
                  <a:lnTo>
                    <a:pt x="2101" y="714"/>
                  </a:lnTo>
                  <a:lnTo>
                    <a:pt x="2158" y="613"/>
                  </a:lnTo>
                  <a:lnTo>
                    <a:pt x="2250" y="451"/>
                  </a:lnTo>
                  <a:lnTo>
                    <a:pt x="2302" y="394"/>
                  </a:lnTo>
                  <a:lnTo>
                    <a:pt x="2355" y="363"/>
                  </a:lnTo>
                  <a:lnTo>
                    <a:pt x="2421" y="355"/>
                  </a:lnTo>
                  <a:lnTo>
                    <a:pt x="2460" y="359"/>
                  </a:lnTo>
                  <a:lnTo>
                    <a:pt x="2501" y="372"/>
                  </a:lnTo>
                  <a:lnTo>
                    <a:pt x="2518" y="399"/>
                  </a:lnTo>
                  <a:lnTo>
                    <a:pt x="2667" y="381"/>
                  </a:lnTo>
                  <a:lnTo>
                    <a:pt x="2720" y="390"/>
                  </a:lnTo>
                  <a:lnTo>
                    <a:pt x="2760" y="416"/>
                  </a:lnTo>
                  <a:lnTo>
                    <a:pt x="2786" y="491"/>
                  </a:lnTo>
                  <a:lnTo>
                    <a:pt x="2790" y="539"/>
                  </a:lnTo>
                  <a:lnTo>
                    <a:pt x="2790" y="578"/>
                  </a:lnTo>
                  <a:lnTo>
                    <a:pt x="2781" y="600"/>
                  </a:lnTo>
                  <a:lnTo>
                    <a:pt x="2768" y="635"/>
                  </a:lnTo>
                  <a:lnTo>
                    <a:pt x="2768" y="648"/>
                  </a:lnTo>
                  <a:lnTo>
                    <a:pt x="2781" y="657"/>
                  </a:lnTo>
                  <a:lnTo>
                    <a:pt x="2803" y="670"/>
                  </a:lnTo>
                  <a:lnTo>
                    <a:pt x="2834" y="679"/>
                  </a:lnTo>
                  <a:lnTo>
                    <a:pt x="2865" y="697"/>
                  </a:lnTo>
                  <a:lnTo>
                    <a:pt x="2874" y="714"/>
                  </a:lnTo>
                  <a:lnTo>
                    <a:pt x="2882" y="736"/>
                  </a:lnTo>
                  <a:lnTo>
                    <a:pt x="2882" y="771"/>
                  </a:lnTo>
                  <a:lnTo>
                    <a:pt x="2874" y="806"/>
                  </a:lnTo>
                  <a:lnTo>
                    <a:pt x="2838" y="903"/>
                  </a:lnTo>
                  <a:lnTo>
                    <a:pt x="2698" y="1179"/>
                  </a:lnTo>
                  <a:lnTo>
                    <a:pt x="2478" y="1609"/>
                  </a:lnTo>
                  <a:lnTo>
                    <a:pt x="2351" y="1894"/>
                  </a:lnTo>
                  <a:lnTo>
                    <a:pt x="2215" y="2227"/>
                  </a:lnTo>
                  <a:lnTo>
                    <a:pt x="2087" y="2579"/>
                  </a:lnTo>
                  <a:lnTo>
                    <a:pt x="1995" y="2842"/>
                  </a:lnTo>
                  <a:lnTo>
                    <a:pt x="1943" y="3022"/>
                  </a:lnTo>
                  <a:lnTo>
                    <a:pt x="1921" y="3149"/>
                  </a:lnTo>
                  <a:lnTo>
                    <a:pt x="1929" y="3228"/>
                  </a:lnTo>
                  <a:lnTo>
                    <a:pt x="1943" y="3254"/>
                  </a:lnTo>
                  <a:lnTo>
                    <a:pt x="1960" y="3276"/>
                  </a:lnTo>
                  <a:lnTo>
                    <a:pt x="2013" y="3307"/>
                  </a:lnTo>
                  <a:lnTo>
                    <a:pt x="2079" y="3342"/>
                  </a:lnTo>
                  <a:lnTo>
                    <a:pt x="2285" y="3048"/>
                  </a:lnTo>
                  <a:lnTo>
                    <a:pt x="2390" y="2912"/>
                  </a:lnTo>
                  <a:lnTo>
                    <a:pt x="2447" y="2837"/>
                  </a:lnTo>
                  <a:lnTo>
                    <a:pt x="2501" y="2732"/>
                  </a:lnTo>
                  <a:lnTo>
                    <a:pt x="2272" y="2798"/>
                  </a:lnTo>
                  <a:lnTo>
                    <a:pt x="2285" y="2732"/>
                  </a:lnTo>
                  <a:lnTo>
                    <a:pt x="2298" y="2715"/>
                  </a:lnTo>
                  <a:lnTo>
                    <a:pt x="2315" y="2697"/>
                  </a:lnTo>
                  <a:lnTo>
                    <a:pt x="2346" y="2644"/>
                  </a:lnTo>
                  <a:lnTo>
                    <a:pt x="2333" y="2614"/>
                  </a:lnTo>
                  <a:lnTo>
                    <a:pt x="2315" y="2579"/>
                  </a:lnTo>
                  <a:lnTo>
                    <a:pt x="2307" y="2548"/>
                  </a:lnTo>
                  <a:lnTo>
                    <a:pt x="2311" y="2535"/>
                  </a:lnTo>
                  <a:lnTo>
                    <a:pt x="2315" y="2522"/>
                  </a:lnTo>
                  <a:lnTo>
                    <a:pt x="2733" y="2253"/>
                  </a:lnTo>
                  <a:lnTo>
                    <a:pt x="2838" y="2183"/>
                  </a:lnTo>
                  <a:lnTo>
                    <a:pt x="2900" y="2130"/>
                  </a:lnTo>
                  <a:lnTo>
                    <a:pt x="2922" y="2104"/>
                  </a:lnTo>
                  <a:lnTo>
                    <a:pt x="2939" y="2078"/>
                  </a:lnTo>
                  <a:lnTo>
                    <a:pt x="2974" y="2008"/>
                  </a:lnTo>
                  <a:lnTo>
                    <a:pt x="3031" y="1902"/>
                  </a:lnTo>
                  <a:lnTo>
                    <a:pt x="3119" y="1740"/>
                  </a:lnTo>
                  <a:lnTo>
                    <a:pt x="3286" y="1556"/>
                  </a:lnTo>
                  <a:lnTo>
                    <a:pt x="3334" y="1530"/>
                  </a:lnTo>
                  <a:lnTo>
                    <a:pt x="3343" y="1464"/>
                  </a:lnTo>
                  <a:lnTo>
                    <a:pt x="3374" y="1438"/>
                  </a:lnTo>
                  <a:lnTo>
                    <a:pt x="3453" y="1363"/>
                  </a:lnTo>
                  <a:lnTo>
                    <a:pt x="3518" y="1289"/>
                  </a:lnTo>
                  <a:lnTo>
                    <a:pt x="3610" y="1170"/>
                  </a:lnTo>
                  <a:lnTo>
                    <a:pt x="3874" y="833"/>
                  </a:lnTo>
                  <a:lnTo>
                    <a:pt x="3988" y="714"/>
                  </a:lnTo>
                  <a:lnTo>
                    <a:pt x="4058" y="662"/>
                  </a:lnTo>
                  <a:lnTo>
                    <a:pt x="4119" y="618"/>
                  </a:lnTo>
                  <a:lnTo>
                    <a:pt x="4211" y="534"/>
                  </a:lnTo>
                  <a:lnTo>
                    <a:pt x="4242" y="499"/>
                  </a:lnTo>
                  <a:lnTo>
                    <a:pt x="4268" y="460"/>
                  </a:lnTo>
                  <a:lnTo>
                    <a:pt x="4295" y="381"/>
                  </a:lnTo>
                  <a:lnTo>
                    <a:pt x="4312" y="245"/>
                  </a:lnTo>
                  <a:lnTo>
                    <a:pt x="4325" y="192"/>
                  </a:lnTo>
                  <a:lnTo>
                    <a:pt x="4334" y="175"/>
                  </a:lnTo>
                  <a:lnTo>
                    <a:pt x="4356" y="162"/>
                  </a:lnTo>
                  <a:lnTo>
                    <a:pt x="4418" y="157"/>
                  </a:lnTo>
                  <a:lnTo>
                    <a:pt x="4523" y="179"/>
                  </a:lnTo>
                  <a:lnTo>
                    <a:pt x="4567" y="214"/>
                  </a:lnTo>
                  <a:lnTo>
                    <a:pt x="4567" y="267"/>
                  </a:lnTo>
                  <a:lnTo>
                    <a:pt x="4575" y="276"/>
                  </a:lnTo>
                  <a:lnTo>
                    <a:pt x="4589" y="280"/>
                  </a:lnTo>
                  <a:lnTo>
                    <a:pt x="4681" y="285"/>
                  </a:lnTo>
                  <a:lnTo>
                    <a:pt x="4891" y="315"/>
                  </a:lnTo>
                  <a:lnTo>
                    <a:pt x="4926" y="324"/>
                  </a:lnTo>
                  <a:lnTo>
                    <a:pt x="4948" y="342"/>
                  </a:lnTo>
                  <a:lnTo>
                    <a:pt x="4961" y="363"/>
                  </a:lnTo>
                  <a:lnTo>
                    <a:pt x="4966" y="394"/>
                  </a:lnTo>
                  <a:lnTo>
                    <a:pt x="4961" y="495"/>
                  </a:lnTo>
                  <a:lnTo>
                    <a:pt x="4931" y="653"/>
                  </a:lnTo>
                  <a:lnTo>
                    <a:pt x="4887" y="885"/>
                  </a:lnTo>
                  <a:lnTo>
                    <a:pt x="4839" y="1201"/>
                  </a:lnTo>
                  <a:lnTo>
                    <a:pt x="4786" y="1617"/>
                  </a:lnTo>
                  <a:lnTo>
                    <a:pt x="4747" y="2144"/>
                  </a:lnTo>
                  <a:lnTo>
                    <a:pt x="4676" y="3166"/>
                  </a:lnTo>
                  <a:lnTo>
                    <a:pt x="4597" y="3947"/>
                  </a:lnTo>
                  <a:lnTo>
                    <a:pt x="4584" y="4126"/>
                  </a:lnTo>
                  <a:lnTo>
                    <a:pt x="4575" y="4289"/>
                  </a:lnTo>
                  <a:lnTo>
                    <a:pt x="4567" y="4346"/>
                  </a:lnTo>
                  <a:lnTo>
                    <a:pt x="4554" y="4385"/>
                  </a:lnTo>
                  <a:lnTo>
                    <a:pt x="4545" y="4394"/>
                  </a:lnTo>
                  <a:lnTo>
                    <a:pt x="4532" y="4398"/>
                  </a:lnTo>
                  <a:lnTo>
                    <a:pt x="4497" y="4381"/>
                  </a:lnTo>
                  <a:lnTo>
                    <a:pt x="4497" y="4354"/>
                  </a:lnTo>
                  <a:lnTo>
                    <a:pt x="4479" y="4341"/>
                  </a:lnTo>
                  <a:lnTo>
                    <a:pt x="4466" y="4179"/>
                  </a:lnTo>
                  <a:lnTo>
                    <a:pt x="4396" y="4148"/>
                  </a:lnTo>
                  <a:lnTo>
                    <a:pt x="4365" y="4118"/>
                  </a:lnTo>
                  <a:lnTo>
                    <a:pt x="4356" y="4100"/>
                  </a:lnTo>
                  <a:lnTo>
                    <a:pt x="4356" y="4074"/>
                  </a:lnTo>
                  <a:lnTo>
                    <a:pt x="4378" y="4061"/>
                  </a:lnTo>
                  <a:lnTo>
                    <a:pt x="4396" y="4039"/>
                  </a:lnTo>
                  <a:lnTo>
                    <a:pt x="4413" y="3995"/>
                  </a:lnTo>
                  <a:lnTo>
                    <a:pt x="4418" y="3947"/>
                  </a:lnTo>
                  <a:lnTo>
                    <a:pt x="4413" y="3912"/>
                  </a:lnTo>
                  <a:lnTo>
                    <a:pt x="4365" y="3885"/>
                  </a:lnTo>
                  <a:lnTo>
                    <a:pt x="4343" y="3811"/>
                  </a:lnTo>
                  <a:lnTo>
                    <a:pt x="4339" y="3793"/>
                  </a:lnTo>
                  <a:lnTo>
                    <a:pt x="4361" y="3789"/>
                  </a:lnTo>
                  <a:lnTo>
                    <a:pt x="4378" y="3780"/>
                  </a:lnTo>
                  <a:lnTo>
                    <a:pt x="4400" y="3754"/>
                  </a:lnTo>
                  <a:lnTo>
                    <a:pt x="4404" y="3727"/>
                  </a:lnTo>
                  <a:lnTo>
                    <a:pt x="4400" y="3719"/>
                  </a:lnTo>
                  <a:lnTo>
                    <a:pt x="4321" y="3719"/>
                  </a:lnTo>
                  <a:lnTo>
                    <a:pt x="4273" y="3438"/>
                  </a:lnTo>
                  <a:lnTo>
                    <a:pt x="4246" y="3276"/>
                  </a:lnTo>
                  <a:lnTo>
                    <a:pt x="4238" y="3245"/>
                  </a:lnTo>
                  <a:lnTo>
                    <a:pt x="4229" y="3241"/>
                  </a:lnTo>
                  <a:lnTo>
                    <a:pt x="4181" y="3333"/>
                  </a:lnTo>
                  <a:lnTo>
                    <a:pt x="4146" y="3026"/>
                  </a:lnTo>
                  <a:lnTo>
                    <a:pt x="4146" y="2925"/>
                  </a:lnTo>
                  <a:lnTo>
                    <a:pt x="4163" y="2903"/>
                  </a:lnTo>
                  <a:lnTo>
                    <a:pt x="4168" y="2886"/>
                  </a:lnTo>
                  <a:lnTo>
                    <a:pt x="4172" y="2846"/>
                  </a:lnTo>
                  <a:lnTo>
                    <a:pt x="4146" y="2697"/>
                  </a:lnTo>
                  <a:lnTo>
                    <a:pt x="4132" y="2671"/>
                  </a:lnTo>
                  <a:lnTo>
                    <a:pt x="4124" y="2623"/>
                  </a:lnTo>
                  <a:lnTo>
                    <a:pt x="4124" y="2500"/>
                  </a:lnTo>
                  <a:lnTo>
                    <a:pt x="4146" y="2244"/>
                  </a:lnTo>
                  <a:lnTo>
                    <a:pt x="4159" y="2135"/>
                  </a:lnTo>
                  <a:lnTo>
                    <a:pt x="4154" y="2025"/>
                  </a:lnTo>
                  <a:lnTo>
                    <a:pt x="3979" y="2078"/>
                  </a:lnTo>
                  <a:lnTo>
                    <a:pt x="3847" y="2126"/>
                  </a:lnTo>
                  <a:lnTo>
                    <a:pt x="3755" y="2170"/>
                  </a:lnTo>
                  <a:lnTo>
                    <a:pt x="3694" y="2209"/>
                  </a:lnTo>
                  <a:lnTo>
                    <a:pt x="3606" y="2284"/>
                  </a:lnTo>
                  <a:lnTo>
                    <a:pt x="3567" y="2320"/>
                  </a:lnTo>
                  <a:lnTo>
                    <a:pt x="3510" y="2351"/>
                  </a:lnTo>
                  <a:lnTo>
                    <a:pt x="3391" y="2390"/>
                  </a:lnTo>
                  <a:lnTo>
                    <a:pt x="3321" y="2403"/>
                  </a:lnTo>
                  <a:lnTo>
                    <a:pt x="3281" y="2399"/>
                  </a:lnTo>
                  <a:lnTo>
                    <a:pt x="3242" y="2412"/>
                  </a:lnTo>
                  <a:lnTo>
                    <a:pt x="3229" y="2469"/>
                  </a:lnTo>
                  <a:lnTo>
                    <a:pt x="3159" y="2513"/>
                  </a:lnTo>
                  <a:lnTo>
                    <a:pt x="3141" y="2535"/>
                  </a:lnTo>
                  <a:lnTo>
                    <a:pt x="3119" y="2579"/>
                  </a:lnTo>
                  <a:lnTo>
                    <a:pt x="3071" y="2675"/>
                  </a:lnTo>
                  <a:lnTo>
                    <a:pt x="2988" y="2842"/>
                  </a:lnTo>
                  <a:lnTo>
                    <a:pt x="2852" y="3096"/>
                  </a:lnTo>
                  <a:lnTo>
                    <a:pt x="2641" y="3460"/>
                  </a:lnTo>
                  <a:lnTo>
                    <a:pt x="2430" y="3837"/>
                  </a:lnTo>
                  <a:lnTo>
                    <a:pt x="2408" y="3872"/>
                  </a:lnTo>
                  <a:lnTo>
                    <a:pt x="2394" y="3885"/>
                  </a:lnTo>
                  <a:lnTo>
                    <a:pt x="2377" y="3890"/>
                  </a:lnTo>
                  <a:lnTo>
                    <a:pt x="2355" y="3885"/>
                  </a:lnTo>
                  <a:lnTo>
                    <a:pt x="2329" y="3872"/>
                  </a:lnTo>
                  <a:lnTo>
                    <a:pt x="2315" y="3863"/>
                  </a:lnTo>
                  <a:lnTo>
                    <a:pt x="2311" y="3868"/>
                  </a:lnTo>
                  <a:lnTo>
                    <a:pt x="2298" y="3885"/>
                  </a:lnTo>
                  <a:lnTo>
                    <a:pt x="2237" y="4008"/>
                  </a:lnTo>
                  <a:lnTo>
                    <a:pt x="2175" y="4122"/>
                  </a:lnTo>
                  <a:lnTo>
                    <a:pt x="2079" y="4289"/>
                  </a:lnTo>
                  <a:lnTo>
                    <a:pt x="2022" y="4359"/>
                  </a:lnTo>
                  <a:lnTo>
                    <a:pt x="1995" y="4385"/>
                  </a:lnTo>
                  <a:lnTo>
                    <a:pt x="1965" y="4407"/>
                  </a:lnTo>
                  <a:lnTo>
                    <a:pt x="1925" y="4429"/>
                  </a:lnTo>
                  <a:lnTo>
                    <a:pt x="1899" y="4425"/>
                  </a:lnTo>
                  <a:lnTo>
                    <a:pt x="1868" y="4376"/>
                  </a:lnTo>
                  <a:lnTo>
                    <a:pt x="1864" y="4376"/>
                  </a:lnTo>
                  <a:lnTo>
                    <a:pt x="1851" y="4390"/>
                  </a:lnTo>
                  <a:lnTo>
                    <a:pt x="1829" y="4433"/>
                  </a:lnTo>
                  <a:lnTo>
                    <a:pt x="1802" y="4468"/>
                  </a:lnTo>
                  <a:lnTo>
                    <a:pt x="1772" y="4499"/>
                  </a:lnTo>
                  <a:lnTo>
                    <a:pt x="1728" y="4490"/>
                  </a:lnTo>
                  <a:lnTo>
                    <a:pt x="1723" y="4429"/>
                  </a:lnTo>
                  <a:lnTo>
                    <a:pt x="1715" y="4403"/>
                  </a:lnTo>
                  <a:lnTo>
                    <a:pt x="1701" y="4411"/>
                  </a:lnTo>
                  <a:lnTo>
                    <a:pt x="1679" y="4447"/>
                  </a:lnTo>
                  <a:lnTo>
                    <a:pt x="1618" y="4547"/>
                  </a:lnTo>
                  <a:lnTo>
                    <a:pt x="1574" y="4596"/>
                  </a:lnTo>
                  <a:lnTo>
                    <a:pt x="1522" y="4631"/>
                  </a:lnTo>
                  <a:lnTo>
                    <a:pt x="1460" y="4631"/>
                  </a:lnTo>
                  <a:lnTo>
                    <a:pt x="1469" y="4490"/>
                  </a:lnTo>
                  <a:lnTo>
                    <a:pt x="1386" y="4482"/>
                  </a:lnTo>
                  <a:lnTo>
                    <a:pt x="1408" y="4429"/>
                  </a:lnTo>
                  <a:lnTo>
                    <a:pt x="1429" y="4372"/>
                  </a:lnTo>
                  <a:lnTo>
                    <a:pt x="1504" y="4262"/>
                  </a:lnTo>
                  <a:lnTo>
                    <a:pt x="1583" y="4153"/>
                  </a:lnTo>
                  <a:lnTo>
                    <a:pt x="1653" y="4048"/>
                  </a:lnTo>
                  <a:lnTo>
                    <a:pt x="1750" y="3863"/>
                  </a:lnTo>
                  <a:lnTo>
                    <a:pt x="1794" y="3749"/>
                  </a:lnTo>
                  <a:lnTo>
                    <a:pt x="1802" y="3714"/>
                  </a:lnTo>
                  <a:lnTo>
                    <a:pt x="1802" y="3692"/>
                  </a:lnTo>
                  <a:lnTo>
                    <a:pt x="1794" y="3679"/>
                  </a:lnTo>
                  <a:lnTo>
                    <a:pt x="1776" y="3675"/>
                  </a:lnTo>
                  <a:lnTo>
                    <a:pt x="1719" y="3684"/>
                  </a:lnTo>
                  <a:lnTo>
                    <a:pt x="1649" y="3710"/>
                  </a:lnTo>
                  <a:lnTo>
                    <a:pt x="1565" y="3736"/>
                  </a:lnTo>
                  <a:lnTo>
                    <a:pt x="1478" y="3745"/>
                  </a:lnTo>
                  <a:lnTo>
                    <a:pt x="1399" y="3736"/>
                  </a:lnTo>
                  <a:lnTo>
                    <a:pt x="1337" y="3710"/>
                  </a:lnTo>
                  <a:lnTo>
                    <a:pt x="1289" y="3666"/>
                  </a:lnTo>
                  <a:lnTo>
                    <a:pt x="1254" y="3618"/>
                  </a:lnTo>
                  <a:lnTo>
                    <a:pt x="1254" y="3526"/>
                  </a:lnTo>
                  <a:lnTo>
                    <a:pt x="1250" y="3508"/>
                  </a:lnTo>
                  <a:lnTo>
                    <a:pt x="1241" y="3495"/>
                  </a:lnTo>
                  <a:lnTo>
                    <a:pt x="1219" y="3460"/>
                  </a:lnTo>
                  <a:lnTo>
                    <a:pt x="1210" y="3385"/>
                  </a:lnTo>
                  <a:lnTo>
                    <a:pt x="1219" y="3232"/>
                  </a:lnTo>
                  <a:lnTo>
                    <a:pt x="1258" y="3052"/>
                  </a:lnTo>
                  <a:lnTo>
                    <a:pt x="1298" y="2938"/>
                  </a:lnTo>
                  <a:lnTo>
                    <a:pt x="1329" y="2881"/>
                  </a:lnTo>
                  <a:lnTo>
                    <a:pt x="1329" y="2868"/>
                  </a:lnTo>
                  <a:lnTo>
                    <a:pt x="1320" y="2872"/>
                  </a:lnTo>
                  <a:lnTo>
                    <a:pt x="1250" y="2934"/>
                  </a:lnTo>
                  <a:lnTo>
                    <a:pt x="1162" y="3026"/>
                  </a:lnTo>
                  <a:lnTo>
                    <a:pt x="956" y="3254"/>
                  </a:lnTo>
                  <a:lnTo>
                    <a:pt x="837" y="3368"/>
                  </a:lnTo>
                  <a:lnTo>
                    <a:pt x="719" y="3464"/>
                  </a:lnTo>
                  <a:lnTo>
                    <a:pt x="653" y="3504"/>
                  </a:lnTo>
                  <a:lnTo>
                    <a:pt x="592" y="3530"/>
                  </a:lnTo>
                  <a:lnTo>
                    <a:pt x="526" y="3556"/>
                  </a:lnTo>
                  <a:lnTo>
                    <a:pt x="460" y="3561"/>
                  </a:lnTo>
                  <a:lnTo>
                    <a:pt x="350" y="3561"/>
                  </a:lnTo>
                  <a:lnTo>
                    <a:pt x="302" y="3548"/>
                  </a:lnTo>
                  <a:lnTo>
                    <a:pt x="254" y="3535"/>
                  </a:lnTo>
                  <a:lnTo>
                    <a:pt x="214" y="3517"/>
                  </a:lnTo>
                  <a:lnTo>
                    <a:pt x="175" y="3495"/>
                  </a:lnTo>
                  <a:lnTo>
                    <a:pt x="144" y="3469"/>
                  </a:lnTo>
                  <a:lnTo>
                    <a:pt x="118" y="3438"/>
                  </a:lnTo>
                  <a:lnTo>
                    <a:pt x="70" y="3372"/>
                  </a:lnTo>
                  <a:lnTo>
                    <a:pt x="35" y="3293"/>
                  </a:lnTo>
                  <a:lnTo>
                    <a:pt x="17" y="3210"/>
                  </a:lnTo>
                  <a:lnTo>
                    <a:pt x="4" y="3118"/>
                  </a:lnTo>
                  <a:lnTo>
                    <a:pt x="0" y="3026"/>
                  </a:lnTo>
                  <a:lnTo>
                    <a:pt x="4" y="2929"/>
                  </a:lnTo>
                  <a:lnTo>
                    <a:pt x="26" y="2750"/>
                  </a:lnTo>
                  <a:lnTo>
                    <a:pt x="61" y="2592"/>
                  </a:lnTo>
                  <a:lnTo>
                    <a:pt x="92" y="2478"/>
                  </a:lnTo>
                  <a:lnTo>
                    <a:pt x="153" y="2266"/>
                  </a:lnTo>
                  <a:lnTo>
                    <a:pt x="184" y="2144"/>
                  </a:lnTo>
                  <a:lnTo>
                    <a:pt x="232" y="1990"/>
                  </a:lnTo>
                  <a:lnTo>
                    <a:pt x="302" y="1793"/>
                  </a:lnTo>
                  <a:lnTo>
                    <a:pt x="399" y="1534"/>
                  </a:lnTo>
                  <a:lnTo>
                    <a:pt x="719" y="784"/>
                  </a:lnTo>
                  <a:lnTo>
                    <a:pt x="793" y="635"/>
                  </a:lnTo>
                  <a:lnTo>
                    <a:pt x="846" y="543"/>
                  </a:lnTo>
                  <a:lnTo>
                    <a:pt x="907" y="407"/>
                  </a:lnTo>
                  <a:lnTo>
                    <a:pt x="969" y="280"/>
                  </a:lnTo>
                  <a:lnTo>
                    <a:pt x="1026" y="188"/>
                  </a:lnTo>
                  <a:lnTo>
                    <a:pt x="1074" y="135"/>
                  </a:lnTo>
                  <a:lnTo>
                    <a:pt x="1122" y="96"/>
                  </a:lnTo>
                  <a:lnTo>
                    <a:pt x="1157" y="74"/>
                  </a:lnTo>
                  <a:lnTo>
                    <a:pt x="1193" y="65"/>
                  </a:lnTo>
                  <a:lnTo>
                    <a:pt x="1245" y="65"/>
                  </a:lnTo>
                  <a:lnTo>
                    <a:pt x="1276" y="70"/>
                  </a:lnTo>
                  <a:lnTo>
                    <a:pt x="1298" y="52"/>
                  </a:lnTo>
                  <a:lnTo>
                    <a:pt x="1320" y="21"/>
                  </a:lnTo>
                  <a:lnTo>
                    <a:pt x="1350" y="0"/>
                  </a:lnTo>
                  <a:lnTo>
                    <a:pt x="1394" y="4"/>
                  </a:lnTo>
                  <a:lnTo>
                    <a:pt x="1416" y="17"/>
                  </a:lnTo>
                  <a:lnTo>
                    <a:pt x="1429" y="35"/>
                  </a:lnTo>
                  <a:lnTo>
                    <a:pt x="1438" y="70"/>
                  </a:lnTo>
                  <a:lnTo>
                    <a:pt x="1447" y="153"/>
                  </a:lnTo>
                  <a:lnTo>
                    <a:pt x="1469" y="175"/>
                  </a:lnTo>
                  <a:lnTo>
                    <a:pt x="1491" y="197"/>
                  </a:lnTo>
                  <a:lnTo>
                    <a:pt x="1500" y="236"/>
                  </a:lnTo>
                  <a:lnTo>
                    <a:pt x="1486" y="306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84760" y="2357280"/>
              <a:ext cx="2065680" cy="1913400"/>
            </a:xfrm>
            <a:custGeom>
              <a:avLst/>
              <a:gdLst/>
              <a:ahLst/>
              <a:rect l="0" t="0" r="r" b="b"/>
              <a:pathLst>
                <a:path w="5738" h="5315">
                  <a:moveTo>
                    <a:pt x="5470" y="4710"/>
                  </a:moveTo>
                  <a:lnTo>
                    <a:pt x="5435" y="4732"/>
                  </a:lnTo>
                  <a:lnTo>
                    <a:pt x="5404" y="4745"/>
                  </a:lnTo>
                  <a:lnTo>
                    <a:pt x="5378" y="4740"/>
                  </a:lnTo>
                  <a:lnTo>
                    <a:pt x="5347" y="4727"/>
                  </a:lnTo>
                  <a:lnTo>
                    <a:pt x="5268" y="4653"/>
                  </a:lnTo>
                  <a:lnTo>
                    <a:pt x="5119" y="4525"/>
                  </a:lnTo>
                  <a:lnTo>
                    <a:pt x="4289" y="3857"/>
                  </a:lnTo>
                  <a:lnTo>
                    <a:pt x="4061" y="3682"/>
                  </a:lnTo>
                  <a:lnTo>
                    <a:pt x="3837" y="3520"/>
                  </a:lnTo>
                  <a:lnTo>
                    <a:pt x="3727" y="3441"/>
                  </a:lnTo>
                  <a:lnTo>
                    <a:pt x="3644" y="3366"/>
                  </a:lnTo>
                  <a:lnTo>
                    <a:pt x="3574" y="3300"/>
                  </a:lnTo>
                  <a:lnTo>
                    <a:pt x="3521" y="3243"/>
                  </a:lnTo>
                  <a:lnTo>
                    <a:pt x="3442" y="3147"/>
                  </a:lnTo>
                  <a:lnTo>
                    <a:pt x="3416" y="3116"/>
                  </a:lnTo>
                  <a:lnTo>
                    <a:pt x="3385" y="3085"/>
                  </a:lnTo>
                  <a:lnTo>
                    <a:pt x="3271" y="3041"/>
                  </a:lnTo>
                  <a:lnTo>
                    <a:pt x="2950" y="2673"/>
                  </a:lnTo>
                  <a:lnTo>
                    <a:pt x="2866" y="2581"/>
                  </a:lnTo>
                  <a:lnTo>
                    <a:pt x="2822" y="2537"/>
                  </a:lnTo>
                  <a:lnTo>
                    <a:pt x="2787" y="2515"/>
                  </a:lnTo>
                  <a:lnTo>
                    <a:pt x="2743" y="2545"/>
                  </a:lnTo>
                  <a:lnTo>
                    <a:pt x="2278" y="2208"/>
                  </a:lnTo>
                  <a:lnTo>
                    <a:pt x="2124" y="2107"/>
                  </a:lnTo>
                  <a:lnTo>
                    <a:pt x="2128" y="2111"/>
                  </a:lnTo>
                  <a:lnTo>
                    <a:pt x="2159" y="2142"/>
                  </a:lnTo>
                  <a:lnTo>
                    <a:pt x="2247" y="2230"/>
                  </a:lnTo>
                  <a:lnTo>
                    <a:pt x="2282" y="2278"/>
                  </a:lnTo>
                  <a:lnTo>
                    <a:pt x="2286" y="2295"/>
                  </a:lnTo>
                  <a:lnTo>
                    <a:pt x="2282" y="2300"/>
                  </a:lnTo>
                  <a:lnTo>
                    <a:pt x="2291" y="2313"/>
                  </a:lnTo>
                  <a:lnTo>
                    <a:pt x="2409" y="2431"/>
                  </a:lnTo>
                  <a:lnTo>
                    <a:pt x="2800" y="2782"/>
                  </a:lnTo>
                  <a:lnTo>
                    <a:pt x="2990" y="2945"/>
                  </a:lnTo>
                  <a:lnTo>
                    <a:pt x="3073" y="3011"/>
                  </a:lnTo>
                  <a:lnTo>
                    <a:pt x="3091" y="3028"/>
                  </a:lnTo>
                  <a:lnTo>
                    <a:pt x="3069" y="3041"/>
                  </a:lnTo>
                  <a:lnTo>
                    <a:pt x="3051" y="3050"/>
                  </a:lnTo>
                  <a:lnTo>
                    <a:pt x="3034" y="3054"/>
                  </a:lnTo>
                  <a:lnTo>
                    <a:pt x="3029" y="3050"/>
                  </a:lnTo>
                  <a:lnTo>
                    <a:pt x="3082" y="3081"/>
                  </a:lnTo>
                  <a:lnTo>
                    <a:pt x="3222" y="3186"/>
                  </a:lnTo>
                  <a:lnTo>
                    <a:pt x="3995" y="3814"/>
                  </a:lnTo>
                  <a:lnTo>
                    <a:pt x="4140" y="3941"/>
                  </a:lnTo>
                  <a:lnTo>
                    <a:pt x="4201" y="3999"/>
                  </a:lnTo>
                  <a:lnTo>
                    <a:pt x="4276" y="4082"/>
                  </a:lnTo>
                  <a:lnTo>
                    <a:pt x="4399" y="4192"/>
                  </a:lnTo>
                  <a:lnTo>
                    <a:pt x="4649" y="4411"/>
                  </a:lnTo>
                  <a:lnTo>
                    <a:pt x="5395" y="5074"/>
                  </a:lnTo>
                  <a:lnTo>
                    <a:pt x="5738" y="5293"/>
                  </a:lnTo>
                  <a:lnTo>
                    <a:pt x="5733" y="5311"/>
                  </a:lnTo>
                  <a:lnTo>
                    <a:pt x="5724" y="5315"/>
                  </a:lnTo>
                  <a:lnTo>
                    <a:pt x="5689" y="5315"/>
                  </a:lnTo>
                  <a:lnTo>
                    <a:pt x="5637" y="5293"/>
                  </a:lnTo>
                  <a:lnTo>
                    <a:pt x="5566" y="5254"/>
                  </a:lnTo>
                  <a:lnTo>
                    <a:pt x="5479" y="5201"/>
                  </a:lnTo>
                  <a:lnTo>
                    <a:pt x="5382" y="5131"/>
                  </a:lnTo>
                  <a:lnTo>
                    <a:pt x="5154" y="4964"/>
                  </a:lnTo>
                  <a:lnTo>
                    <a:pt x="4680" y="4596"/>
                  </a:lnTo>
                  <a:lnTo>
                    <a:pt x="4465" y="4433"/>
                  </a:lnTo>
                  <a:lnTo>
                    <a:pt x="4298" y="4310"/>
                  </a:lnTo>
                  <a:lnTo>
                    <a:pt x="4026" y="4117"/>
                  </a:lnTo>
                  <a:lnTo>
                    <a:pt x="3841" y="3967"/>
                  </a:lnTo>
                  <a:lnTo>
                    <a:pt x="3705" y="3840"/>
                  </a:lnTo>
                  <a:lnTo>
                    <a:pt x="3595" y="3721"/>
                  </a:lnTo>
                  <a:lnTo>
                    <a:pt x="3477" y="3599"/>
                  </a:lnTo>
                  <a:lnTo>
                    <a:pt x="3319" y="3449"/>
                  </a:lnTo>
                  <a:lnTo>
                    <a:pt x="3218" y="3362"/>
                  </a:lnTo>
                  <a:lnTo>
                    <a:pt x="3091" y="3265"/>
                  </a:lnTo>
                  <a:lnTo>
                    <a:pt x="2760" y="3024"/>
                  </a:lnTo>
                  <a:lnTo>
                    <a:pt x="2651" y="2984"/>
                  </a:lnTo>
                  <a:lnTo>
                    <a:pt x="2484" y="2791"/>
                  </a:lnTo>
                  <a:lnTo>
                    <a:pt x="2466" y="2708"/>
                  </a:lnTo>
                  <a:lnTo>
                    <a:pt x="2387" y="2651"/>
                  </a:lnTo>
                  <a:lnTo>
                    <a:pt x="2317" y="2594"/>
                  </a:lnTo>
                  <a:lnTo>
                    <a:pt x="2212" y="2488"/>
                  </a:lnTo>
                  <a:lnTo>
                    <a:pt x="2124" y="2409"/>
                  </a:lnTo>
                  <a:lnTo>
                    <a:pt x="2080" y="2379"/>
                  </a:lnTo>
                  <a:lnTo>
                    <a:pt x="2041" y="2361"/>
                  </a:lnTo>
                  <a:lnTo>
                    <a:pt x="1931" y="2348"/>
                  </a:lnTo>
                  <a:lnTo>
                    <a:pt x="1861" y="2265"/>
                  </a:lnTo>
                  <a:lnTo>
                    <a:pt x="1808" y="2212"/>
                  </a:lnTo>
                  <a:lnTo>
                    <a:pt x="1729" y="2168"/>
                  </a:lnTo>
                  <a:lnTo>
                    <a:pt x="1711" y="2159"/>
                  </a:lnTo>
                  <a:lnTo>
                    <a:pt x="1711" y="2146"/>
                  </a:lnTo>
                  <a:lnTo>
                    <a:pt x="1764" y="2076"/>
                  </a:lnTo>
                  <a:lnTo>
                    <a:pt x="1782" y="2054"/>
                  </a:lnTo>
                  <a:lnTo>
                    <a:pt x="1795" y="2032"/>
                  </a:lnTo>
                  <a:lnTo>
                    <a:pt x="1804" y="2001"/>
                  </a:lnTo>
                  <a:lnTo>
                    <a:pt x="1812" y="1993"/>
                  </a:lnTo>
                  <a:lnTo>
                    <a:pt x="1826" y="1984"/>
                  </a:lnTo>
                  <a:lnTo>
                    <a:pt x="1878" y="1984"/>
                  </a:lnTo>
                  <a:lnTo>
                    <a:pt x="1931" y="2010"/>
                  </a:lnTo>
                  <a:lnTo>
                    <a:pt x="1997" y="2001"/>
                  </a:lnTo>
                  <a:lnTo>
                    <a:pt x="2045" y="1984"/>
                  </a:lnTo>
                  <a:lnTo>
                    <a:pt x="2067" y="1971"/>
                  </a:lnTo>
                  <a:lnTo>
                    <a:pt x="2080" y="1953"/>
                  </a:lnTo>
                  <a:lnTo>
                    <a:pt x="2076" y="1931"/>
                  </a:lnTo>
                  <a:lnTo>
                    <a:pt x="2063" y="1909"/>
                  </a:lnTo>
                  <a:lnTo>
                    <a:pt x="2010" y="1865"/>
                  </a:lnTo>
                  <a:lnTo>
                    <a:pt x="1953" y="1808"/>
                  </a:lnTo>
                  <a:lnTo>
                    <a:pt x="1909" y="1751"/>
                  </a:lnTo>
                  <a:lnTo>
                    <a:pt x="1896" y="1725"/>
                  </a:lnTo>
                  <a:lnTo>
                    <a:pt x="1896" y="1694"/>
                  </a:lnTo>
                  <a:lnTo>
                    <a:pt x="1909" y="1664"/>
                  </a:lnTo>
                  <a:lnTo>
                    <a:pt x="1940" y="1633"/>
                  </a:lnTo>
                  <a:lnTo>
                    <a:pt x="1970" y="1624"/>
                  </a:lnTo>
                  <a:lnTo>
                    <a:pt x="2001" y="1633"/>
                  </a:lnTo>
                  <a:lnTo>
                    <a:pt x="2036" y="1655"/>
                  </a:lnTo>
                  <a:lnTo>
                    <a:pt x="2067" y="1685"/>
                  </a:lnTo>
                  <a:lnTo>
                    <a:pt x="2142" y="1756"/>
                  </a:lnTo>
                  <a:lnTo>
                    <a:pt x="2168" y="1786"/>
                  </a:lnTo>
                  <a:lnTo>
                    <a:pt x="2199" y="1800"/>
                  </a:lnTo>
                  <a:lnTo>
                    <a:pt x="2317" y="1782"/>
                  </a:lnTo>
                  <a:lnTo>
                    <a:pt x="2383" y="1808"/>
                  </a:lnTo>
                  <a:lnTo>
                    <a:pt x="2664" y="1440"/>
                  </a:lnTo>
                  <a:lnTo>
                    <a:pt x="2752" y="1311"/>
                  </a:lnTo>
                  <a:lnTo>
                    <a:pt x="2800" y="1211"/>
                  </a:lnTo>
                  <a:lnTo>
                    <a:pt x="2813" y="1171"/>
                  </a:lnTo>
                  <a:lnTo>
                    <a:pt x="2813" y="1132"/>
                  </a:lnTo>
                  <a:lnTo>
                    <a:pt x="2809" y="1101"/>
                  </a:lnTo>
                  <a:lnTo>
                    <a:pt x="2796" y="1066"/>
                  </a:lnTo>
                  <a:lnTo>
                    <a:pt x="2769" y="1039"/>
                  </a:lnTo>
                  <a:lnTo>
                    <a:pt x="2743" y="1009"/>
                  </a:lnTo>
                  <a:lnTo>
                    <a:pt x="2651" y="952"/>
                  </a:lnTo>
                  <a:lnTo>
                    <a:pt x="2585" y="921"/>
                  </a:lnTo>
                  <a:lnTo>
                    <a:pt x="2519" y="899"/>
                  </a:lnTo>
                  <a:lnTo>
                    <a:pt x="2387" y="873"/>
                  </a:lnTo>
                  <a:lnTo>
                    <a:pt x="2256" y="868"/>
                  </a:lnTo>
                  <a:lnTo>
                    <a:pt x="2133" y="881"/>
                  </a:lnTo>
                  <a:lnTo>
                    <a:pt x="2027" y="903"/>
                  </a:lnTo>
                  <a:lnTo>
                    <a:pt x="1944" y="925"/>
                  </a:lnTo>
                  <a:lnTo>
                    <a:pt x="1891" y="947"/>
                  </a:lnTo>
                  <a:lnTo>
                    <a:pt x="1865" y="960"/>
                  </a:lnTo>
                  <a:lnTo>
                    <a:pt x="1808" y="1110"/>
                  </a:lnTo>
                  <a:lnTo>
                    <a:pt x="1764" y="1219"/>
                  </a:lnTo>
                  <a:lnTo>
                    <a:pt x="1747" y="1254"/>
                  </a:lnTo>
                  <a:lnTo>
                    <a:pt x="1729" y="1272"/>
                  </a:lnTo>
                  <a:lnTo>
                    <a:pt x="1711" y="1272"/>
                  </a:lnTo>
                  <a:lnTo>
                    <a:pt x="1689" y="1254"/>
                  </a:lnTo>
                  <a:lnTo>
                    <a:pt x="1689" y="1206"/>
                  </a:lnTo>
                  <a:lnTo>
                    <a:pt x="1672" y="1211"/>
                  </a:lnTo>
                  <a:lnTo>
                    <a:pt x="1654" y="1224"/>
                  </a:lnTo>
                  <a:lnTo>
                    <a:pt x="1619" y="1272"/>
                  </a:lnTo>
                  <a:lnTo>
                    <a:pt x="1562" y="1422"/>
                  </a:lnTo>
                  <a:lnTo>
                    <a:pt x="1514" y="1589"/>
                  </a:lnTo>
                  <a:lnTo>
                    <a:pt x="1488" y="1664"/>
                  </a:lnTo>
                  <a:lnTo>
                    <a:pt x="1461" y="1716"/>
                  </a:lnTo>
                  <a:lnTo>
                    <a:pt x="1426" y="1707"/>
                  </a:lnTo>
                  <a:lnTo>
                    <a:pt x="1409" y="1721"/>
                  </a:lnTo>
                  <a:lnTo>
                    <a:pt x="1387" y="1760"/>
                  </a:lnTo>
                  <a:lnTo>
                    <a:pt x="1268" y="2181"/>
                  </a:lnTo>
                  <a:lnTo>
                    <a:pt x="1176" y="2554"/>
                  </a:lnTo>
                  <a:lnTo>
                    <a:pt x="1044" y="3160"/>
                  </a:lnTo>
                  <a:lnTo>
                    <a:pt x="1000" y="3388"/>
                  </a:lnTo>
                  <a:lnTo>
                    <a:pt x="956" y="3559"/>
                  </a:lnTo>
                  <a:lnTo>
                    <a:pt x="934" y="3629"/>
                  </a:lnTo>
                  <a:lnTo>
                    <a:pt x="913" y="3678"/>
                  </a:lnTo>
                  <a:lnTo>
                    <a:pt x="886" y="3717"/>
                  </a:lnTo>
                  <a:lnTo>
                    <a:pt x="860" y="3739"/>
                  </a:lnTo>
                  <a:lnTo>
                    <a:pt x="825" y="3721"/>
                  </a:lnTo>
                  <a:lnTo>
                    <a:pt x="825" y="3528"/>
                  </a:lnTo>
                  <a:lnTo>
                    <a:pt x="408" y="4446"/>
                  </a:lnTo>
                  <a:lnTo>
                    <a:pt x="390" y="4249"/>
                  </a:lnTo>
                  <a:lnTo>
                    <a:pt x="316" y="4258"/>
                  </a:lnTo>
                  <a:lnTo>
                    <a:pt x="210" y="4574"/>
                  </a:lnTo>
                  <a:lnTo>
                    <a:pt x="184" y="4635"/>
                  </a:lnTo>
                  <a:lnTo>
                    <a:pt x="175" y="4648"/>
                  </a:lnTo>
                  <a:lnTo>
                    <a:pt x="166" y="4648"/>
                  </a:lnTo>
                  <a:lnTo>
                    <a:pt x="162" y="4604"/>
                  </a:lnTo>
                  <a:lnTo>
                    <a:pt x="158" y="4543"/>
                  </a:lnTo>
                  <a:lnTo>
                    <a:pt x="149" y="4547"/>
                  </a:lnTo>
                  <a:lnTo>
                    <a:pt x="131" y="4574"/>
                  </a:lnTo>
                  <a:lnTo>
                    <a:pt x="105" y="4609"/>
                  </a:lnTo>
                  <a:lnTo>
                    <a:pt x="79" y="4635"/>
                  </a:lnTo>
                  <a:lnTo>
                    <a:pt x="48" y="4635"/>
                  </a:lnTo>
                  <a:lnTo>
                    <a:pt x="35" y="4618"/>
                  </a:lnTo>
                  <a:lnTo>
                    <a:pt x="26" y="4587"/>
                  </a:lnTo>
                  <a:lnTo>
                    <a:pt x="8" y="4482"/>
                  </a:lnTo>
                  <a:lnTo>
                    <a:pt x="0" y="4293"/>
                  </a:lnTo>
                  <a:lnTo>
                    <a:pt x="8" y="4240"/>
                  </a:lnTo>
                  <a:lnTo>
                    <a:pt x="30" y="4170"/>
                  </a:lnTo>
                  <a:lnTo>
                    <a:pt x="96" y="4030"/>
                  </a:lnTo>
                  <a:lnTo>
                    <a:pt x="162" y="3906"/>
                  </a:lnTo>
                  <a:lnTo>
                    <a:pt x="197" y="3849"/>
                  </a:lnTo>
                  <a:lnTo>
                    <a:pt x="232" y="3831"/>
                  </a:lnTo>
                  <a:lnTo>
                    <a:pt x="232" y="3647"/>
                  </a:lnTo>
                  <a:lnTo>
                    <a:pt x="237" y="3638"/>
                  </a:lnTo>
                  <a:lnTo>
                    <a:pt x="250" y="3629"/>
                  </a:lnTo>
                  <a:lnTo>
                    <a:pt x="272" y="3620"/>
                  </a:lnTo>
                  <a:lnTo>
                    <a:pt x="298" y="3603"/>
                  </a:lnTo>
                  <a:lnTo>
                    <a:pt x="250" y="3537"/>
                  </a:lnTo>
                  <a:lnTo>
                    <a:pt x="386" y="3182"/>
                  </a:lnTo>
                  <a:lnTo>
                    <a:pt x="417" y="3094"/>
                  </a:lnTo>
                  <a:lnTo>
                    <a:pt x="417" y="3098"/>
                  </a:lnTo>
                  <a:lnTo>
                    <a:pt x="430" y="3107"/>
                  </a:lnTo>
                  <a:lnTo>
                    <a:pt x="452" y="3090"/>
                  </a:lnTo>
                  <a:lnTo>
                    <a:pt x="478" y="3068"/>
                  </a:lnTo>
                  <a:lnTo>
                    <a:pt x="509" y="3033"/>
                  </a:lnTo>
                  <a:lnTo>
                    <a:pt x="531" y="2997"/>
                  </a:lnTo>
                  <a:lnTo>
                    <a:pt x="535" y="2980"/>
                  </a:lnTo>
                  <a:lnTo>
                    <a:pt x="531" y="2971"/>
                  </a:lnTo>
                  <a:lnTo>
                    <a:pt x="517" y="2958"/>
                  </a:lnTo>
                  <a:lnTo>
                    <a:pt x="504" y="2932"/>
                  </a:lnTo>
                  <a:lnTo>
                    <a:pt x="500" y="2896"/>
                  </a:lnTo>
                  <a:lnTo>
                    <a:pt x="513" y="2835"/>
                  </a:lnTo>
                  <a:lnTo>
                    <a:pt x="535" y="2739"/>
                  </a:lnTo>
                  <a:lnTo>
                    <a:pt x="798" y="1957"/>
                  </a:lnTo>
                  <a:lnTo>
                    <a:pt x="926" y="1602"/>
                  </a:lnTo>
                  <a:lnTo>
                    <a:pt x="992" y="1444"/>
                  </a:lnTo>
                  <a:lnTo>
                    <a:pt x="1066" y="1237"/>
                  </a:lnTo>
                  <a:lnTo>
                    <a:pt x="943" y="1290"/>
                  </a:lnTo>
                  <a:lnTo>
                    <a:pt x="798" y="1356"/>
                  </a:lnTo>
                  <a:lnTo>
                    <a:pt x="724" y="1378"/>
                  </a:lnTo>
                  <a:lnTo>
                    <a:pt x="658" y="1396"/>
                  </a:lnTo>
                  <a:lnTo>
                    <a:pt x="632" y="1396"/>
                  </a:lnTo>
                  <a:lnTo>
                    <a:pt x="605" y="1387"/>
                  </a:lnTo>
                  <a:lnTo>
                    <a:pt x="583" y="1378"/>
                  </a:lnTo>
                  <a:lnTo>
                    <a:pt x="566" y="1356"/>
                  </a:lnTo>
                  <a:lnTo>
                    <a:pt x="548" y="1281"/>
                  </a:lnTo>
                  <a:lnTo>
                    <a:pt x="333" y="1263"/>
                  </a:lnTo>
                  <a:lnTo>
                    <a:pt x="316" y="1184"/>
                  </a:lnTo>
                  <a:lnTo>
                    <a:pt x="285" y="1149"/>
                  </a:lnTo>
                  <a:lnTo>
                    <a:pt x="250" y="1136"/>
                  </a:lnTo>
                  <a:lnTo>
                    <a:pt x="215" y="1136"/>
                  </a:lnTo>
                  <a:lnTo>
                    <a:pt x="184" y="1136"/>
                  </a:lnTo>
                  <a:lnTo>
                    <a:pt x="171" y="1132"/>
                  </a:lnTo>
                  <a:lnTo>
                    <a:pt x="162" y="1118"/>
                  </a:lnTo>
                  <a:lnTo>
                    <a:pt x="149" y="1079"/>
                  </a:lnTo>
                  <a:lnTo>
                    <a:pt x="149" y="996"/>
                  </a:lnTo>
                  <a:lnTo>
                    <a:pt x="162" y="903"/>
                  </a:lnTo>
                  <a:lnTo>
                    <a:pt x="171" y="877"/>
                  </a:lnTo>
                  <a:lnTo>
                    <a:pt x="210" y="877"/>
                  </a:lnTo>
                  <a:lnTo>
                    <a:pt x="289" y="860"/>
                  </a:lnTo>
                  <a:lnTo>
                    <a:pt x="333" y="838"/>
                  </a:lnTo>
                  <a:lnTo>
                    <a:pt x="346" y="824"/>
                  </a:lnTo>
                  <a:lnTo>
                    <a:pt x="359" y="807"/>
                  </a:lnTo>
                  <a:lnTo>
                    <a:pt x="381" y="776"/>
                  </a:lnTo>
                  <a:lnTo>
                    <a:pt x="395" y="737"/>
                  </a:lnTo>
                  <a:lnTo>
                    <a:pt x="421" y="662"/>
                  </a:lnTo>
                  <a:lnTo>
                    <a:pt x="447" y="627"/>
                  </a:lnTo>
                  <a:lnTo>
                    <a:pt x="482" y="601"/>
                  </a:lnTo>
                  <a:lnTo>
                    <a:pt x="776" y="469"/>
                  </a:lnTo>
                  <a:lnTo>
                    <a:pt x="1185" y="315"/>
                  </a:lnTo>
                  <a:lnTo>
                    <a:pt x="1571" y="184"/>
                  </a:lnTo>
                  <a:lnTo>
                    <a:pt x="1711" y="144"/>
                  </a:lnTo>
                  <a:lnTo>
                    <a:pt x="1804" y="122"/>
                  </a:lnTo>
                  <a:lnTo>
                    <a:pt x="1997" y="114"/>
                  </a:lnTo>
                  <a:lnTo>
                    <a:pt x="2115" y="105"/>
                  </a:lnTo>
                  <a:lnTo>
                    <a:pt x="2164" y="96"/>
                  </a:lnTo>
                  <a:lnTo>
                    <a:pt x="2199" y="83"/>
                  </a:lnTo>
                  <a:lnTo>
                    <a:pt x="2273" y="21"/>
                  </a:lnTo>
                  <a:lnTo>
                    <a:pt x="2405" y="8"/>
                  </a:lnTo>
                  <a:lnTo>
                    <a:pt x="2510" y="0"/>
                  </a:lnTo>
                  <a:lnTo>
                    <a:pt x="2633" y="0"/>
                  </a:lnTo>
                  <a:lnTo>
                    <a:pt x="2769" y="13"/>
                  </a:lnTo>
                  <a:lnTo>
                    <a:pt x="2920" y="43"/>
                  </a:lnTo>
                  <a:lnTo>
                    <a:pt x="3069" y="92"/>
                  </a:lnTo>
                  <a:lnTo>
                    <a:pt x="3143" y="127"/>
                  </a:lnTo>
                  <a:lnTo>
                    <a:pt x="3218" y="166"/>
                  </a:lnTo>
                  <a:lnTo>
                    <a:pt x="3358" y="272"/>
                  </a:lnTo>
                  <a:lnTo>
                    <a:pt x="3477" y="377"/>
                  </a:lnTo>
                  <a:lnTo>
                    <a:pt x="3574" y="491"/>
                  </a:lnTo>
                  <a:lnTo>
                    <a:pt x="3648" y="609"/>
                  </a:lnTo>
                  <a:lnTo>
                    <a:pt x="3701" y="732"/>
                  </a:lnTo>
                  <a:lnTo>
                    <a:pt x="3723" y="860"/>
                  </a:lnTo>
                  <a:lnTo>
                    <a:pt x="3727" y="925"/>
                  </a:lnTo>
                  <a:lnTo>
                    <a:pt x="3727" y="987"/>
                  </a:lnTo>
                  <a:lnTo>
                    <a:pt x="3723" y="1053"/>
                  </a:lnTo>
                  <a:lnTo>
                    <a:pt x="3705" y="1118"/>
                  </a:lnTo>
                  <a:lnTo>
                    <a:pt x="3666" y="1250"/>
                  </a:lnTo>
                  <a:lnTo>
                    <a:pt x="3600" y="1378"/>
                  </a:lnTo>
                  <a:lnTo>
                    <a:pt x="3516" y="1510"/>
                  </a:lnTo>
                  <a:lnTo>
                    <a:pt x="3459" y="1576"/>
                  </a:lnTo>
                  <a:lnTo>
                    <a:pt x="3402" y="1637"/>
                  </a:lnTo>
                  <a:lnTo>
                    <a:pt x="3341" y="1699"/>
                  </a:lnTo>
                  <a:lnTo>
                    <a:pt x="3271" y="1764"/>
                  </a:lnTo>
                  <a:lnTo>
                    <a:pt x="3117" y="1887"/>
                  </a:lnTo>
                  <a:lnTo>
                    <a:pt x="3029" y="1949"/>
                  </a:lnTo>
                  <a:lnTo>
                    <a:pt x="2937" y="2006"/>
                  </a:lnTo>
                  <a:lnTo>
                    <a:pt x="2734" y="2120"/>
                  </a:lnTo>
                  <a:lnTo>
                    <a:pt x="2999" y="2379"/>
                  </a:lnTo>
                  <a:lnTo>
                    <a:pt x="3038" y="2427"/>
                  </a:lnTo>
                  <a:lnTo>
                    <a:pt x="3069" y="2475"/>
                  </a:lnTo>
                  <a:lnTo>
                    <a:pt x="3301" y="2756"/>
                  </a:lnTo>
                  <a:lnTo>
                    <a:pt x="3394" y="2857"/>
                  </a:lnTo>
                  <a:lnTo>
                    <a:pt x="3464" y="2927"/>
                  </a:lnTo>
                  <a:lnTo>
                    <a:pt x="3521" y="2975"/>
                  </a:lnTo>
                  <a:lnTo>
                    <a:pt x="3565" y="3006"/>
                  </a:lnTo>
                  <a:lnTo>
                    <a:pt x="3639" y="3041"/>
                  </a:lnTo>
                  <a:lnTo>
                    <a:pt x="3674" y="3059"/>
                  </a:lnTo>
                  <a:lnTo>
                    <a:pt x="3714" y="3085"/>
                  </a:lnTo>
                  <a:lnTo>
                    <a:pt x="3925" y="3335"/>
                  </a:lnTo>
                  <a:lnTo>
                    <a:pt x="4289" y="3620"/>
                  </a:lnTo>
                  <a:lnTo>
                    <a:pt x="4517" y="3849"/>
                  </a:lnTo>
                  <a:lnTo>
                    <a:pt x="4684" y="4016"/>
                  </a:lnTo>
                  <a:lnTo>
                    <a:pt x="4825" y="4135"/>
                  </a:lnTo>
                  <a:lnTo>
                    <a:pt x="5149" y="4394"/>
                  </a:lnTo>
                  <a:lnTo>
                    <a:pt x="5334" y="4543"/>
                  </a:lnTo>
                  <a:lnTo>
                    <a:pt x="5386" y="4591"/>
                  </a:lnTo>
                  <a:lnTo>
                    <a:pt x="5426" y="4631"/>
                  </a:lnTo>
                  <a:lnTo>
                    <a:pt x="5452" y="4670"/>
                  </a:lnTo>
                  <a:lnTo>
                    <a:pt x="5470" y="471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000160" y="2379600"/>
              <a:ext cx="1060920" cy="1575000"/>
            </a:xfrm>
            <a:custGeom>
              <a:avLst/>
              <a:gdLst/>
              <a:ahLst/>
              <a:rect l="0" t="0" r="r" b="b"/>
              <a:pathLst>
                <a:path w="2947" h="4375">
                  <a:moveTo>
                    <a:pt x="2916" y="295"/>
                  </a:moveTo>
                  <a:lnTo>
                    <a:pt x="2934" y="339"/>
                  </a:lnTo>
                  <a:lnTo>
                    <a:pt x="2943" y="388"/>
                  </a:lnTo>
                  <a:lnTo>
                    <a:pt x="2947" y="498"/>
                  </a:lnTo>
                  <a:lnTo>
                    <a:pt x="2943" y="635"/>
                  </a:lnTo>
                  <a:lnTo>
                    <a:pt x="2930" y="789"/>
                  </a:lnTo>
                  <a:lnTo>
                    <a:pt x="2890" y="1177"/>
                  </a:lnTo>
                  <a:lnTo>
                    <a:pt x="2855" y="1680"/>
                  </a:lnTo>
                  <a:lnTo>
                    <a:pt x="2833" y="2708"/>
                  </a:lnTo>
                  <a:lnTo>
                    <a:pt x="2828" y="3370"/>
                  </a:lnTo>
                  <a:lnTo>
                    <a:pt x="2815" y="3550"/>
                  </a:lnTo>
                  <a:lnTo>
                    <a:pt x="2806" y="3603"/>
                  </a:lnTo>
                  <a:lnTo>
                    <a:pt x="2793" y="3616"/>
                  </a:lnTo>
                  <a:lnTo>
                    <a:pt x="2784" y="3625"/>
                  </a:lnTo>
                  <a:lnTo>
                    <a:pt x="2775" y="3625"/>
                  </a:lnTo>
                  <a:lnTo>
                    <a:pt x="2762" y="3621"/>
                  </a:lnTo>
                  <a:lnTo>
                    <a:pt x="2731" y="3586"/>
                  </a:lnTo>
                  <a:lnTo>
                    <a:pt x="2652" y="3436"/>
                  </a:lnTo>
                  <a:lnTo>
                    <a:pt x="2581" y="3824"/>
                  </a:lnTo>
                  <a:lnTo>
                    <a:pt x="2542" y="3797"/>
                  </a:lnTo>
                  <a:lnTo>
                    <a:pt x="2515" y="3775"/>
                  </a:lnTo>
                  <a:lnTo>
                    <a:pt x="2506" y="3744"/>
                  </a:lnTo>
                  <a:lnTo>
                    <a:pt x="2497" y="3713"/>
                  </a:lnTo>
                  <a:lnTo>
                    <a:pt x="2497" y="3643"/>
                  </a:lnTo>
                  <a:lnTo>
                    <a:pt x="2497" y="3555"/>
                  </a:lnTo>
                  <a:lnTo>
                    <a:pt x="2414" y="3405"/>
                  </a:lnTo>
                  <a:lnTo>
                    <a:pt x="2405" y="3458"/>
                  </a:lnTo>
                  <a:lnTo>
                    <a:pt x="2392" y="3493"/>
                  </a:lnTo>
                  <a:lnTo>
                    <a:pt x="2378" y="3511"/>
                  </a:lnTo>
                  <a:lnTo>
                    <a:pt x="2361" y="3524"/>
                  </a:lnTo>
                  <a:lnTo>
                    <a:pt x="2347" y="3519"/>
                  </a:lnTo>
                  <a:lnTo>
                    <a:pt x="2330" y="3506"/>
                  </a:lnTo>
                  <a:lnTo>
                    <a:pt x="2303" y="3462"/>
                  </a:lnTo>
                  <a:lnTo>
                    <a:pt x="2255" y="3330"/>
                  </a:lnTo>
                  <a:lnTo>
                    <a:pt x="2242" y="3273"/>
                  </a:lnTo>
                  <a:lnTo>
                    <a:pt x="2237" y="3224"/>
                  </a:lnTo>
                  <a:lnTo>
                    <a:pt x="2273" y="3180"/>
                  </a:lnTo>
                  <a:lnTo>
                    <a:pt x="2273" y="3070"/>
                  </a:lnTo>
                  <a:lnTo>
                    <a:pt x="2220" y="2929"/>
                  </a:lnTo>
                  <a:lnTo>
                    <a:pt x="2220" y="2156"/>
                  </a:lnTo>
                  <a:lnTo>
                    <a:pt x="2201" y="2028"/>
                  </a:lnTo>
                  <a:lnTo>
                    <a:pt x="1760" y="2192"/>
                  </a:lnTo>
                  <a:lnTo>
                    <a:pt x="1504" y="2280"/>
                  </a:lnTo>
                  <a:lnTo>
                    <a:pt x="1376" y="2329"/>
                  </a:lnTo>
                  <a:lnTo>
                    <a:pt x="1345" y="2346"/>
                  </a:lnTo>
                  <a:lnTo>
                    <a:pt x="1328" y="2364"/>
                  </a:lnTo>
                  <a:lnTo>
                    <a:pt x="736" y="3621"/>
                  </a:lnTo>
                  <a:lnTo>
                    <a:pt x="537" y="4088"/>
                  </a:lnTo>
                  <a:lnTo>
                    <a:pt x="502" y="4172"/>
                  </a:lnTo>
                  <a:lnTo>
                    <a:pt x="423" y="4278"/>
                  </a:lnTo>
                  <a:lnTo>
                    <a:pt x="463" y="4049"/>
                  </a:lnTo>
                  <a:lnTo>
                    <a:pt x="480" y="3868"/>
                  </a:lnTo>
                  <a:lnTo>
                    <a:pt x="489" y="3775"/>
                  </a:lnTo>
                  <a:lnTo>
                    <a:pt x="418" y="3868"/>
                  </a:lnTo>
                  <a:lnTo>
                    <a:pt x="238" y="4278"/>
                  </a:lnTo>
                  <a:lnTo>
                    <a:pt x="202" y="4265"/>
                  </a:lnTo>
                  <a:lnTo>
                    <a:pt x="189" y="4251"/>
                  </a:lnTo>
                  <a:lnTo>
                    <a:pt x="185" y="4234"/>
                  </a:lnTo>
                  <a:lnTo>
                    <a:pt x="189" y="4216"/>
                  </a:lnTo>
                  <a:lnTo>
                    <a:pt x="220" y="4172"/>
                  </a:lnTo>
                  <a:lnTo>
                    <a:pt x="238" y="4141"/>
                  </a:lnTo>
                  <a:lnTo>
                    <a:pt x="242" y="4106"/>
                  </a:lnTo>
                  <a:lnTo>
                    <a:pt x="233" y="4049"/>
                  </a:lnTo>
                  <a:lnTo>
                    <a:pt x="220" y="4035"/>
                  </a:lnTo>
                  <a:lnTo>
                    <a:pt x="207" y="4057"/>
                  </a:lnTo>
                  <a:lnTo>
                    <a:pt x="189" y="4102"/>
                  </a:lnTo>
                  <a:lnTo>
                    <a:pt x="163" y="4168"/>
                  </a:lnTo>
                  <a:lnTo>
                    <a:pt x="127" y="4238"/>
                  </a:lnTo>
                  <a:lnTo>
                    <a:pt x="79" y="4309"/>
                  </a:lnTo>
                  <a:lnTo>
                    <a:pt x="48" y="4344"/>
                  </a:lnTo>
                  <a:lnTo>
                    <a:pt x="13" y="4375"/>
                  </a:lnTo>
                  <a:lnTo>
                    <a:pt x="0" y="4124"/>
                  </a:lnTo>
                  <a:lnTo>
                    <a:pt x="0" y="4071"/>
                  </a:lnTo>
                  <a:lnTo>
                    <a:pt x="4" y="4049"/>
                  </a:lnTo>
                  <a:lnTo>
                    <a:pt x="35" y="4018"/>
                  </a:lnTo>
                  <a:lnTo>
                    <a:pt x="66" y="3982"/>
                  </a:lnTo>
                  <a:lnTo>
                    <a:pt x="97" y="3899"/>
                  </a:lnTo>
                  <a:lnTo>
                    <a:pt x="105" y="3802"/>
                  </a:lnTo>
                  <a:lnTo>
                    <a:pt x="167" y="3749"/>
                  </a:lnTo>
                  <a:lnTo>
                    <a:pt x="194" y="3718"/>
                  </a:lnTo>
                  <a:lnTo>
                    <a:pt x="207" y="3691"/>
                  </a:lnTo>
                  <a:lnTo>
                    <a:pt x="220" y="3656"/>
                  </a:lnTo>
                  <a:lnTo>
                    <a:pt x="238" y="3594"/>
                  </a:lnTo>
                  <a:lnTo>
                    <a:pt x="273" y="3493"/>
                  </a:lnTo>
                  <a:lnTo>
                    <a:pt x="352" y="3339"/>
                  </a:lnTo>
                  <a:lnTo>
                    <a:pt x="471" y="3114"/>
                  </a:lnTo>
                  <a:lnTo>
                    <a:pt x="635" y="2823"/>
                  </a:lnTo>
                  <a:lnTo>
                    <a:pt x="723" y="2642"/>
                  </a:lnTo>
                  <a:lnTo>
                    <a:pt x="763" y="2545"/>
                  </a:lnTo>
                  <a:lnTo>
                    <a:pt x="785" y="2483"/>
                  </a:lnTo>
                  <a:lnTo>
                    <a:pt x="821" y="2417"/>
                  </a:lnTo>
                  <a:lnTo>
                    <a:pt x="727" y="2399"/>
                  </a:lnTo>
                  <a:lnTo>
                    <a:pt x="709" y="2391"/>
                  </a:lnTo>
                  <a:lnTo>
                    <a:pt x="705" y="2386"/>
                  </a:lnTo>
                  <a:lnTo>
                    <a:pt x="705" y="2364"/>
                  </a:lnTo>
                  <a:lnTo>
                    <a:pt x="705" y="2346"/>
                  </a:lnTo>
                  <a:lnTo>
                    <a:pt x="687" y="2316"/>
                  </a:lnTo>
                  <a:lnTo>
                    <a:pt x="674" y="2280"/>
                  </a:lnTo>
                  <a:lnTo>
                    <a:pt x="679" y="2263"/>
                  </a:lnTo>
                  <a:lnTo>
                    <a:pt x="692" y="2249"/>
                  </a:lnTo>
                  <a:lnTo>
                    <a:pt x="727" y="2232"/>
                  </a:lnTo>
                  <a:lnTo>
                    <a:pt x="772" y="2214"/>
                  </a:lnTo>
                  <a:lnTo>
                    <a:pt x="891" y="2182"/>
                  </a:lnTo>
                  <a:lnTo>
                    <a:pt x="949" y="2165"/>
                  </a:lnTo>
                  <a:lnTo>
                    <a:pt x="988" y="2138"/>
                  </a:lnTo>
                  <a:lnTo>
                    <a:pt x="1099" y="1944"/>
                  </a:lnTo>
                  <a:lnTo>
                    <a:pt x="1099" y="1852"/>
                  </a:lnTo>
                  <a:lnTo>
                    <a:pt x="1191" y="1759"/>
                  </a:lnTo>
                  <a:lnTo>
                    <a:pt x="1209" y="1737"/>
                  </a:lnTo>
                  <a:lnTo>
                    <a:pt x="1209" y="1719"/>
                  </a:lnTo>
                  <a:lnTo>
                    <a:pt x="1209" y="1675"/>
                  </a:lnTo>
                  <a:lnTo>
                    <a:pt x="1218" y="1640"/>
                  </a:lnTo>
                  <a:lnTo>
                    <a:pt x="1235" y="1578"/>
                  </a:lnTo>
                  <a:lnTo>
                    <a:pt x="1385" y="1349"/>
                  </a:lnTo>
                  <a:lnTo>
                    <a:pt x="1438" y="1247"/>
                  </a:lnTo>
                  <a:lnTo>
                    <a:pt x="1473" y="1203"/>
                  </a:lnTo>
                  <a:lnTo>
                    <a:pt x="1522" y="1137"/>
                  </a:lnTo>
                  <a:lnTo>
                    <a:pt x="1597" y="1018"/>
                  </a:lnTo>
                  <a:lnTo>
                    <a:pt x="1606" y="961"/>
                  </a:lnTo>
                  <a:lnTo>
                    <a:pt x="1654" y="934"/>
                  </a:lnTo>
                  <a:lnTo>
                    <a:pt x="1786" y="630"/>
                  </a:lnTo>
                  <a:lnTo>
                    <a:pt x="1831" y="555"/>
                  </a:lnTo>
                  <a:lnTo>
                    <a:pt x="1857" y="511"/>
                  </a:lnTo>
                  <a:lnTo>
                    <a:pt x="1901" y="471"/>
                  </a:lnTo>
                  <a:lnTo>
                    <a:pt x="1923" y="445"/>
                  </a:lnTo>
                  <a:lnTo>
                    <a:pt x="1954" y="396"/>
                  </a:lnTo>
                  <a:lnTo>
                    <a:pt x="1989" y="330"/>
                  </a:lnTo>
                  <a:lnTo>
                    <a:pt x="2011" y="273"/>
                  </a:lnTo>
                  <a:lnTo>
                    <a:pt x="2029" y="189"/>
                  </a:lnTo>
                  <a:lnTo>
                    <a:pt x="2038" y="171"/>
                  </a:lnTo>
                  <a:lnTo>
                    <a:pt x="2055" y="154"/>
                  </a:lnTo>
                  <a:lnTo>
                    <a:pt x="2082" y="145"/>
                  </a:lnTo>
                  <a:lnTo>
                    <a:pt x="2130" y="145"/>
                  </a:lnTo>
                  <a:lnTo>
                    <a:pt x="2157" y="145"/>
                  </a:lnTo>
                  <a:lnTo>
                    <a:pt x="2174" y="158"/>
                  </a:lnTo>
                  <a:lnTo>
                    <a:pt x="2179" y="167"/>
                  </a:lnTo>
                  <a:lnTo>
                    <a:pt x="2183" y="180"/>
                  </a:lnTo>
                  <a:lnTo>
                    <a:pt x="2188" y="220"/>
                  </a:lnTo>
                  <a:lnTo>
                    <a:pt x="2201" y="255"/>
                  </a:lnTo>
                  <a:lnTo>
                    <a:pt x="2211" y="264"/>
                  </a:lnTo>
                  <a:lnTo>
                    <a:pt x="2224" y="255"/>
                  </a:lnTo>
                  <a:lnTo>
                    <a:pt x="2246" y="189"/>
                  </a:lnTo>
                  <a:lnTo>
                    <a:pt x="2259" y="154"/>
                  </a:lnTo>
                  <a:lnTo>
                    <a:pt x="2281" y="119"/>
                  </a:lnTo>
                  <a:lnTo>
                    <a:pt x="2308" y="88"/>
                  </a:lnTo>
                  <a:lnTo>
                    <a:pt x="2339" y="70"/>
                  </a:lnTo>
                  <a:lnTo>
                    <a:pt x="2418" y="74"/>
                  </a:lnTo>
                  <a:lnTo>
                    <a:pt x="2467" y="83"/>
                  </a:lnTo>
                  <a:lnTo>
                    <a:pt x="2493" y="83"/>
                  </a:lnTo>
                  <a:lnTo>
                    <a:pt x="2528" y="74"/>
                  </a:lnTo>
                  <a:lnTo>
                    <a:pt x="2647" y="17"/>
                  </a:lnTo>
                  <a:lnTo>
                    <a:pt x="2674" y="4"/>
                  </a:lnTo>
                  <a:lnTo>
                    <a:pt x="2722" y="0"/>
                  </a:lnTo>
                  <a:lnTo>
                    <a:pt x="2784" y="4"/>
                  </a:lnTo>
                  <a:lnTo>
                    <a:pt x="2810" y="17"/>
                  </a:lnTo>
                  <a:lnTo>
                    <a:pt x="2828" y="35"/>
                  </a:lnTo>
                  <a:lnTo>
                    <a:pt x="2841" y="70"/>
                  </a:lnTo>
                  <a:lnTo>
                    <a:pt x="2841" y="110"/>
                  </a:lnTo>
                  <a:lnTo>
                    <a:pt x="2833" y="189"/>
                  </a:lnTo>
                  <a:lnTo>
                    <a:pt x="2837" y="229"/>
                  </a:lnTo>
                  <a:lnTo>
                    <a:pt x="2850" y="260"/>
                  </a:lnTo>
                  <a:lnTo>
                    <a:pt x="2859" y="273"/>
                  </a:lnTo>
                  <a:lnTo>
                    <a:pt x="2877" y="282"/>
                  </a:lnTo>
                  <a:lnTo>
                    <a:pt x="2916" y="29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06800" y="2416320"/>
              <a:ext cx="852840" cy="1251360"/>
            </a:xfrm>
            <a:custGeom>
              <a:avLst/>
              <a:gdLst/>
              <a:ahLst/>
              <a:rect l="0" t="0" r="r" b="b"/>
              <a:pathLst>
                <a:path w="2369" h="3476">
                  <a:moveTo>
                    <a:pt x="2063" y="437"/>
                  </a:moveTo>
                  <a:lnTo>
                    <a:pt x="2081" y="494"/>
                  </a:lnTo>
                  <a:lnTo>
                    <a:pt x="2076" y="533"/>
                  </a:lnTo>
                  <a:lnTo>
                    <a:pt x="2063" y="564"/>
                  </a:lnTo>
                  <a:lnTo>
                    <a:pt x="2033" y="586"/>
                  </a:lnTo>
                  <a:lnTo>
                    <a:pt x="1937" y="621"/>
                  </a:lnTo>
                  <a:lnTo>
                    <a:pt x="1802" y="652"/>
                  </a:lnTo>
                  <a:lnTo>
                    <a:pt x="1623" y="704"/>
                  </a:lnTo>
                  <a:lnTo>
                    <a:pt x="1518" y="743"/>
                  </a:lnTo>
                  <a:lnTo>
                    <a:pt x="1405" y="796"/>
                  </a:lnTo>
                  <a:lnTo>
                    <a:pt x="1283" y="866"/>
                  </a:lnTo>
                  <a:lnTo>
                    <a:pt x="1151" y="950"/>
                  </a:lnTo>
                  <a:lnTo>
                    <a:pt x="1016" y="1055"/>
                  </a:lnTo>
                  <a:lnTo>
                    <a:pt x="872" y="1182"/>
                  </a:lnTo>
                  <a:lnTo>
                    <a:pt x="798" y="1265"/>
                  </a:lnTo>
                  <a:lnTo>
                    <a:pt x="728" y="1357"/>
                  </a:lnTo>
                  <a:lnTo>
                    <a:pt x="667" y="1453"/>
                  </a:lnTo>
                  <a:lnTo>
                    <a:pt x="614" y="1558"/>
                  </a:lnTo>
                  <a:lnTo>
                    <a:pt x="575" y="1668"/>
                  </a:lnTo>
                  <a:lnTo>
                    <a:pt x="536" y="1773"/>
                  </a:lnTo>
                  <a:lnTo>
                    <a:pt x="514" y="1887"/>
                  </a:lnTo>
                  <a:lnTo>
                    <a:pt x="497" y="1996"/>
                  </a:lnTo>
                  <a:lnTo>
                    <a:pt x="488" y="2215"/>
                  </a:lnTo>
                  <a:lnTo>
                    <a:pt x="497" y="2316"/>
                  </a:lnTo>
                  <a:lnTo>
                    <a:pt x="514" y="2416"/>
                  </a:lnTo>
                  <a:lnTo>
                    <a:pt x="536" y="2504"/>
                  </a:lnTo>
                  <a:lnTo>
                    <a:pt x="571" y="2587"/>
                  </a:lnTo>
                  <a:lnTo>
                    <a:pt x="614" y="2662"/>
                  </a:lnTo>
                  <a:lnTo>
                    <a:pt x="662" y="2724"/>
                  </a:lnTo>
                  <a:lnTo>
                    <a:pt x="780" y="2837"/>
                  </a:lnTo>
                  <a:lnTo>
                    <a:pt x="898" y="2929"/>
                  </a:lnTo>
                  <a:lnTo>
                    <a:pt x="1029" y="3008"/>
                  </a:lnTo>
                  <a:lnTo>
                    <a:pt x="1160" y="3056"/>
                  </a:lnTo>
                  <a:lnTo>
                    <a:pt x="1296" y="3078"/>
                  </a:lnTo>
                  <a:lnTo>
                    <a:pt x="1365" y="3078"/>
                  </a:lnTo>
                  <a:lnTo>
                    <a:pt x="1431" y="3065"/>
                  </a:lnTo>
                  <a:lnTo>
                    <a:pt x="1501" y="3047"/>
                  </a:lnTo>
                  <a:lnTo>
                    <a:pt x="1570" y="3017"/>
                  </a:lnTo>
                  <a:lnTo>
                    <a:pt x="1645" y="2977"/>
                  </a:lnTo>
                  <a:lnTo>
                    <a:pt x="1714" y="2925"/>
                  </a:lnTo>
                  <a:lnTo>
                    <a:pt x="1675" y="2855"/>
                  </a:lnTo>
                  <a:lnTo>
                    <a:pt x="1658" y="2802"/>
                  </a:lnTo>
                  <a:lnTo>
                    <a:pt x="1645" y="2724"/>
                  </a:lnTo>
                  <a:lnTo>
                    <a:pt x="1649" y="2610"/>
                  </a:lnTo>
                  <a:lnTo>
                    <a:pt x="1666" y="2451"/>
                  </a:lnTo>
                  <a:lnTo>
                    <a:pt x="1706" y="2246"/>
                  </a:lnTo>
                  <a:lnTo>
                    <a:pt x="1771" y="1979"/>
                  </a:lnTo>
                  <a:lnTo>
                    <a:pt x="1549" y="2018"/>
                  </a:lnTo>
                  <a:lnTo>
                    <a:pt x="1370" y="2062"/>
                  </a:lnTo>
                  <a:lnTo>
                    <a:pt x="1235" y="2110"/>
                  </a:lnTo>
                  <a:lnTo>
                    <a:pt x="1133" y="2154"/>
                  </a:lnTo>
                  <a:lnTo>
                    <a:pt x="1011" y="2215"/>
                  </a:lnTo>
                  <a:lnTo>
                    <a:pt x="972" y="2228"/>
                  </a:lnTo>
                  <a:lnTo>
                    <a:pt x="937" y="2219"/>
                  </a:lnTo>
                  <a:lnTo>
                    <a:pt x="920" y="2206"/>
                  </a:lnTo>
                  <a:lnTo>
                    <a:pt x="915" y="2193"/>
                  </a:lnTo>
                  <a:lnTo>
                    <a:pt x="924" y="2184"/>
                  </a:lnTo>
                  <a:lnTo>
                    <a:pt x="937" y="2171"/>
                  </a:lnTo>
                  <a:lnTo>
                    <a:pt x="981" y="2149"/>
                  </a:lnTo>
                  <a:lnTo>
                    <a:pt x="1020" y="2119"/>
                  </a:lnTo>
                  <a:lnTo>
                    <a:pt x="1138" y="1909"/>
                  </a:lnTo>
                  <a:lnTo>
                    <a:pt x="1217" y="1869"/>
                  </a:lnTo>
                  <a:lnTo>
                    <a:pt x="1248" y="1843"/>
                  </a:lnTo>
                  <a:lnTo>
                    <a:pt x="1261" y="1821"/>
                  </a:lnTo>
                  <a:lnTo>
                    <a:pt x="1296" y="1786"/>
                  </a:lnTo>
                  <a:lnTo>
                    <a:pt x="1496" y="1716"/>
                  </a:lnTo>
                  <a:lnTo>
                    <a:pt x="1509" y="1664"/>
                  </a:lnTo>
                  <a:lnTo>
                    <a:pt x="1514" y="1659"/>
                  </a:lnTo>
                  <a:lnTo>
                    <a:pt x="1562" y="1664"/>
                  </a:lnTo>
                  <a:lnTo>
                    <a:pt x="1614" y="1655"/>
                  </a:lnTo>
                  <a:lnTo>
                    <a:pt x="1688" y="1633"/>
                  </a:lnTo>
                  <a:lnTo>
                    <a:pt x="1793" y="1598"/>
                  </a:lnTo>
                  <a:lnTo>
                    <a:pt x="1876" y="1554"/>
                  </a:lnTo>
                  <a:lnTo>
                    <a:pt x="1941" y="1510"/>
                  </a:lnTo>
                  <a:lnTo>
                    <a:pt x="1993" y="1467"/>
                  </a:lnTo>
                  <a:lnTo>
                    <a:pt x="2076" y="1410"/>
                  </a:lnTo>
                  <a:lnTo>
                    <a:pt x="2107" y="1397"/>
                  </a:lnTo>
                  <a:lnTo>
                    <a:pt x="2137" y="1401"/>
                  </a:lnTo>
                  <a:lnTo>
                    <a:pt x="2168" y="1423"/>
                  </a:lnTo>
                  <a:lnTo>
                    <a:pt x="2185" y="1445"/>
                  </a:lnTo>
                  <a:lnTo>
                    <a:pt x="2198" y="1484"/>
                  </a:lnTo>
                  <a:lnTo>
                    <a:pt x="2207" y="1510"/>
                  </a:lnTo>
                  <a:lnTo>
                    <a:pt x="2220" y="1515"/>
                  </a:lnTo>
                  <a:lnTo>
                    <a:pt x="2238" y="1502"/>
                  </a:lnTo>
                  <a:lnTo>
                    <a:pt x="2303" y="1449"/>
                  </a:lnTo>
                  <a:lnTo>
                    <a:pt x="2369" y="1458"/>
                  </a:lnTo>
                  <a:lnTo>
                    <a:pt x="2347" y="1712"/>
                  </a:lnTo>
                  <a:lnTo>
                    <a:pt x="2312" y="1926"/>
                  </a:lnTo>
                  <a:lnTo>
                    <a:pt x="2220" y="2285"/>
                  </a:lnTo>
                  <a:lnTo>
                    <a:pt x="2181" y="2451"/>
                  </a:lnTo>
                  <a:lnTo>
                    <a:pt x="2150" y="2627"/>
                  </a:lnTo>
                  <a:lnTo>
                    <a:pt x="2133" y="2824"/>
                  </a:lnTo>
                  <a:lnTo>
                    <a:pt x="2137" y="3052"/>
                  </a:lnTo>
                  <a:lnTo>
                    <a:pt x="2164" y="3319"/>
                  </a:lnTo>
                  <a:lnTo>
                    <a:pt x="2177" y="3419"/>
                  </a:lnTo>
                  <a:lnTo>
                    <a:pt x="2172" y="3437"/>
                  </a:lnTo>
                  <a:lnTo>
                    <a:pt x="2164" y="3437"/>
                  </a:lnTo>
                  <a:lnTo>
                    <a:pt x="2120" y="3450"/>
                  </a:lnTo>
                  <a:lnTo>
                    <a:pt x="2098" y="3402"/>
                  </a:lnTo>
                  <a:lnTo>
                    <a:pt x="2076" y="3393"/>
                  </a:lnTo>
                  <a:lnTo>
                    <a:pt x="2050" y="3402"/>
                  </a:lnTo>
                  <a:lnTo>
                    <a:pt x="2037" y="3398"/>
                  </a:lnTo>
                  <a:lnTo>
                    <a:pt x="2020" y="3384"/>
                  </a:lnTo>
                  <a:lnTo>
                    <a:pt x="1980" y="3275"/>
                  </a:lnTo>
                  <a:lnTo>
                    <a:pt x="1954" y="3262"/>
                  </a:lnTo>
                  <a:lnTo>
                    <a:pt x="1924" y="3236"/>
                  </a:lnTo>
                  <a:lnTo>
                    <a:pt x="1863" y="3183"/>
                  </a:lnTo>
                  <a:lnTo>
                    <a:pt x="1806" y="3144"/>
                  </a:lnTo>
                  <a:lnTo>
                    <a:pt x="1784" y="3135"/>
                  </a:lnTo>
                  <a:lnTo>
                    <a:pt x="1762" y="3135"/>
                  </a:lnTo>
                  <a:lnTo>
                    <a:pt x="1723" y="3170"/>
                  </a:lnTo>
                  <a:lnTo>
                    <a:pt x="1693" y="3218"/>
                  </a:lnTo>
                  <a:lnTo>
                    <a:pt x="1658" y="3271"/>
                  </a:lnTo>
                  <a:lnTo>
                    <a:pt x="1614" y="3328"/>
                  </a:lnTo>
                  <a:lnTo>
                    <a:pt x="1592" y="3354"/>
                  </a:lnTo>
                  <a:lnTo>
                    <a:pt x="1557" y="3380"/>
                  </a:lnTo>
                  <a:lnTo>
                    <a:pt x="1479" y="3424"/>
                  </a:lnTo>
                  <a:lnTo>
                    <a:pt x="1374" y="3459"/>
                  </a:lnTo>
                  <a:lnTo>
                    <a:pt x="1304" y="3472"/>
                  </a:lnTo>
                  <a:lnTo>
                    <a:pt x="1230" y="3476"/>
                  </a:lnTo>
                  <a:lnTo>
                    <a:pt x="1129" y="3472"/>
                  </a:lnTo>
                  <a:lnTo>
                    <a:pt x="1020" y="3463"/>
                  </a:lnTo>
                  <a:lnTo>
                    <a:pt x="920" y="3441"/>
                  </a:lnTo>
                  <a:lnTo>
                    <a:pt x="815" y="3406"/>
                  </a:lnTo>
                  <a:lnTo>
                    <a:pt x="719" y="3367"/>
                  </a:lnTo>
                  <a:lnTo>
                    <a:pt x="619" y="3314"/>
                  </a:lnTo>
                  <a:lnTo>
                    <a:pt x="527" y="3249"/>
                  </a:lnTo>
                  <a:lnTo>
                    <a:pt x="440" y="3174"/>
                  </a:lnTo>
                  <a:lnTo>
                    <a:pt x="361" y="3096"/>
                  </a:lnTo>
                  <a:lnTo>
                    <a:pt x="283" y="2999"/>
                  </a:lnTo>
                  <a:lnTo>
                    <a:pt x="213" y="2899"/>
                  </a:lnTo>
                  <a:lnTo>
                    <a:pt x="152" y="2789"/>
                  </a:lnTo>
                  <a:lnTo>
                    <a:pt x="104" y="2667"/>
                  </a:lnTo>
                  <a:lnTo>
                    <a:pt x="61" y="2534"/>
                  </a:lnTo>
                  <a:lnTo>
                    <a:pt x="30" y="2394"/>
                  </a:lnTo>
                  <a:lnTo>
                    <a:pt x="8" y="2246"/>
                  </a:lnTo>
                  <a:lnTo>
                    <a:pt x="0" y="2049"/>
                  </a:lnTo>
                  <a:lnTo>
                    <a:pt x="8" y="1860"/>
                  </a:lnTo>
                  <a:lnTo>
                    <a:pt x="34" y="1685"/>
                  </a:lnTo>
                  <a:lnTo>
                    <a:pt x="69" y="1519"/>
                  </a:lnTo>
                  <a:lnTo>
                    <a:pt x="122" y="1366"/>
                  </a:lnTo>
                  <a:lnTo>
                    <a:pt x="178" y="1222"/>
                  </a:lnTo>
                  <a:lnTo>
                    <a:pt x="244" y="1090"/>
                  </a:lnTo>
                  <a:lnTo>
                    <a:pt x="313" y="968"/>
                  </a:lnTo>
                  <a:lnTo>
                    <a:pt x="453" y="752"/>
                  </a:lnTo>
                  <a:lnTo>
                    <a:pt x="593" y="582"/>
                  </a:lnTo>
                  <a:lnTo>
                    <a:pt x="702" y="459"/>
                  </a:lnTo>
                  <a:lnTo>
                    <a:pt x="771" y="380"/>
                  </a:lnTo>
                  <a:lnTo>
                    <a:pt x="850" y="301"/>
                  </a:lnTo>
                  <a:lnTo>
                    <a:pt x="915" y="249"/>
                  </a:lnTo>
                  <a:lnTo>
                    <a:pt x="1007" y="192"/>
                  </a:lnTo>
                  <a:lnTo>
                    <a:pt x="1120" y="135"/>
                  </a:lnTo>
                  <a:lnTo>
                    <a:pt x="1261" y="78"/>
                  </a:lnTo>
                  <a:lnTo>
                    <a:pt x="1427" y="35"/>
                  </a:lnTo>
                  <a:lnTo>
                    <a:pt x="1614" y="0"/>
                  </a:lnTo>
                  <a:lnTo>
                    <a:pt x="1662" y="0"/>
                  </a:lnTo>
                  <a:lnTo>
                    <a:pt x="1679" y="8"/>
                  </a:lnTo>
                  <a:lnTo>
                    <a:pt x="1693" y="26"/>
                  </a:lnTo>
                  <a:lnTo>
                    <a:pt x="1727" y="52"/>
                  </a:lnTo>
                  <a:lnTo>
                    <a:pt x="1845" y="78"/>
                  </a:lnTo>
                  <a:lnTo>
                    <a:pt x="1867" y="113"/>
                  </a:lnTo>
                  <a:lnTo>
                    <a:pt x="1871" y="131"/>
                  </a:lnTo>
                  <a:lnTo>
                    <a:pt x="1867" y="144"/>
                  </a:lnTo>
                  <a:lnTo>
                    <a:pt x="1867" y="157"/>
                  </a:lnTo>
                  <a:lnTo>
                    <a:pt x="1876" y="175"/>
                  </a:lnTo>
                  <a:lnTo>
                    <a:pt x="1946" y="253"/>
                  </a:lnTo>
                  <a:lnTo>
                    <a:pt x="1998" y="310"/>
                  </a:lnTo>
                  <a:lnTo>
                    <a:pt x="2020" y="323"/>
                  </a:lnTo>
                  <a:lnTo>
                    <a:pt x="2046" y="315"/>
                  </a:lnTo>
                  <a:lnTo>
                    <a:pt x="2102" y="319"/>
                  </a:lnTo>
                  <a:lnTo>
                    <a:pt x="2120" y="323"/>
                  </a:lnTo>
                  <a:lnTo>
                    <a:pt x="2129" y="332"/>
                  </a:lnTo>
                  <a:lnTo>
                    <a:pt x="2133" y="350"/>
                  </a:lnTo>
                  <a:lnTo>
                    <a:pt x="2133" y="363"/>
                  </a:lnTo>
                  <a:lnTo>
                    <a:pt x="2111" y="402"/>
                  </a:lnTo>
                  <a:lnTo>
                    <a:pt x="2094" y="420"/>
                  </a:lnTo>
                  <a:lnTo>
                    <a:pt x="2063" y="43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37280" y="2697120"/>
              <a:ext cx="208440" cy="251280"/>
            </a:xfrm>
            <a:custGeom>
              <a:avLst/>
              <a:gdLst/>
              <a:ahLst/>
              <a:rect l="0" t="0" r="r" b="b"/>
              <a:pathLst>
                <a:path w="579" h="698">
                  <a:moveTo>
                    <a:pt x="0" y="698"/>
                  </a:moveTo>
                  <a:lnTo>
                    <a:pt x="54" y="677"/>
                  </a:lnTo>
                  <a:lnTo>
                    <a:pt x="105" y="647"/>
                  </a:lnTo>
                  <a:lnTo>
                    <a:pt x="216" y="575"/>
                  </a:lnTo>
                  <a:lnTo>
                    <a:pt x="275" y="541"/>
                  </a:lnTo>
                  <a:lnTo>
                    <a:pt x="338" y="519"/>
                  </a:lnTo>
                  <a:lnTo>
                    <a:pt x="401" y="506"/>
                  </a:lnTo>
                  <a:lnTo>
                    <a:pt x="465" y="510"/>
                  </a:lnTo>
                  <a:lnTo>
                    <a:pt x="478" y="455"/>
                  </a:lnTo>
                  <a:lnTo>
                    <a:pt x="478" y="413"/>
                  </a:lnTo>
                  <a:lnTo>
                    <a:pt x="474" y="362"/>
                  </a:lnTo>
                  <a:lnTo>
                    <a:pt x="470" y="328"/>
                  </a:lnTo>
                  <a:lnTo>
                    <a:pt x="491" y="277"/>
                  </a:lnTo>
                  <a:lnTo>
                    <a:pt x="512" y="243"/>
                  </a:lnTo>
                  <a:lnTo>
                    <a:pt x="529" y="204"/>
                  </a:lnTo>
                  <a:lnTo>
                    <a:pt x="579" y="29"/>
                  </a:lnTo>
                  <a:lnTo>
                    <a:pt x="516" y="29"/>
                  </a:lnTo>
                  <a:lnTo>
                    <a:pt x="516" y="21"/>
                  </a:lnTo>
                  <a:lnTo>
                    <a:pt x="507" y="0"/>
                  </a:lnTo>
                  <a:lnTo>
                    <a:pt x="486" y="12"/>
                  </a:lnTo>
                  <a:lnTo>
                    <a:pt x="440" y="59"/>
                  </a:lnTo>
                  <a:lnTo>
                    <a:pt x="304" y="234"/>
                  </a:lnTo>
                  <a:lnTo>
                    <a:pt x="143" y="468"/>
                  </a:lnTo>
                  <a:lnTo>
                    <a:pt x="0" y="698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76520" y="2703600"/>
              <a:ext cx="217800" cy="375120"/>
            </a:xfrm>
            <a:custGeom>
              <a:avLst/>
              <a:gdLst/>
              <a:ahLst/>
              <a:rect l="0" t="0" r="r" b="b"/>
              <a:pathLst>
                <a:path w="605" h="1042">
                  <a:moveTo>
                    <a:pt x="0" y="1042"/>
                  </a:moveTo>
                  <a:lnTo>
                    <a:pt x="33" y="1038"/>
                  </a:lnTo>
                  <a:lnTo>
                    <a:pt x="46" y="1034"/>
                  </a:lnTo>
                  <a:lnTo>
                    <a:pt x="54" y="1025"/>
                  </a:lnTo>
                  <a:lnTo>
                    <a:pt x="63" y="1008"/>
                  </a:lnTo>
                  <a:lnTo>
                    <a:pt x="71" y="986"/>
                  </a:lnTo>
                  <a:lnTo>
                    <a:pt x="80" y="965"/>
                  </a:lnTo>
                  <a:lnTo>
                    <a:pt x="101" y="939"/>
                  </a:lnTo>
                  <a:lnTo>
                    <a:pt x="139" y="917"/>
                  </a:lnTo>
                  <a:lnTo>
                    <a:pt x="202" y="896"/>
                  </a:lnTo>
                  <a:lnTo>
                    <a:pt x="287" y="879"/>
                  </a:lnTo>
                  <a:lnTo>
                    <a:pt x="299" y="874"/>
                  </a:lnTo>
                  <a:lnTo>
                    <a:pt x="309" y="862"/>
                  </a:lnTo>
                  <a:lnTo>
                    <a:pt x="376" y="819"/>
                  </a:lnTo>
                  <a:lnTo>
                    <a:pt x="592" y="706"/>
                  </a:lnTo>
                  <a:lnTo>
                    <a:pt x="605" y="0"/>
                  </a:lnTo>
                  <a:lnTo>
                    <a:pt x="550" y="81"/>
                  </a:lnTo>
                  <a:lnTo>
                    <a:pt x="541" y="77"/>
                  </a:lnTo>
                  <a:lnTo>
                    <a:pt x="516" y="81"/>
                  </a:lnTo>
                  <a:lnTo>
                    <a:pt x="478" y="73"/>
                  </a:lnTo>
                  <a:lnTo>
                    <a:pt x="8" y="952"/>
                  </a:lnTo>
                  <a:lnTo>
                    <a:pt x="0" y="1042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99200" y="3139920"/>
              <a:ext cx="1626120" cy="1330560"/>
            </a:xfrm>
            <a:custGeom>
              <a:avLst/>
              <a:gdLst/>
              <a:ahLst/>
              <a:rect l="0" t="0" r="r" b="b"/>
              <a:pathLst>
                <a:path w="4517" h="3696">
                  <a:moveTo>
                    <a:pt x="96" y="0"/>
                  </a:moveTo>
                  <a:lnTo>
                    <a:pt x="162" y="17"/>
                  </a:lnTo>
                  <a:lnTo>
                    <a:pt x="271" y="56"/>
                  </a:lnTo>
                  <a:lnTo>
                    <a:pt x="381" y="100"/>
                  </a:lnTo>
                  <a:lnTo>
                    <a:pt x="434" y="131"/>
                  </a:lnTo>
                  <a:lnTo>
                    <a:pt x="797" y="472"/>
                  </a:lnTo>
                  <a:lnTo>
                    <a:pt x="977" y="647"/>
                  </a:lnTo>
                  <a:lnTo>
                    <a:pt x="1544" y="1234"/>
                  </a:lnTo>
                  <a:lnTo>
                    <a:pt x="1903" y="1519"/>
                  </a:lnTo>
                  <a:lnTo>
                    <a:pt x="1938" y="1558"/>
                  </a:lnTo>
                  <a:lnTo>
                    <a:pt x="1965" y="1598"/>
                  </a:lnTo>
                  <a:lnTo>
                    <a:pt x="2022" y="1676"/>
                  </a:lnTo>
                  <a:lnTo>
                    <a:pt x="2065" y="1716"/>
                  </a:lnTo>
                  <a:lnTo>
                    <a:pt x="2136" y="1764"/>
                  </a:lnTo>
                  <a:lnTo>
                    <a:pt x="2232" y="1817"/>
                  </a:lnTo>
                  <a:lnTo>
                    <a:pt x="2363" y="1879"/>
                  </a:lnTo>
                  <a:lnTo>
                    <a:pt x="2368" y="1879"/>
                  </a:lnTo>
                  <a:lnTo>
                    <a:pt x="2363" y="1866"/>
                  </a:lnTo>
                  <a:lnTo>
                    <a:pt x="2368" y="1866"/>
                  </a:lnTo>
                  <a:lnTo>
                    <a:pt x="2399" y="1888"/>
                  </a:lnTo>
                  <a:lnTo>
                    <a:pt x="2587" y="2054"/>
                  </a:lnTo>
                  <a:lnTo>
                    <a:pt x="3056" y="2483"/>
                  </a:lnTo>
                  <a:lnTo>
                    <a:pt x="3461" y="2868"/>
                  </a:lnTo>
                  <a:lnTo>
                    <a:pt x="3592" y="2956"/>
                  </a:lnTo>
                  <a:lnTo>
                    <a:pt x="3688" y="3008"/>
                  </a:lnTo>
                  <a:lnTo>
                    <a:pt x="3838" y="3078"/>
                  </a:lnTo>
                  <a:lnTo>
                    <a:pt x="3925" y="3131"/>
                  </a:lnTo>
                  <a:lnTo>
                    <a:pt x="4044" y="3219"/>
                  </a:lnTo>
                  <a:lnTo>
                    <a:pt x="4206" y="3359"/>
                  </a:lnTo>
                  <a:lnTo>
                    <a:pt x="4429" y="3564"/>
                  </a:lnTo>
                  <a:lnTo>
                    <a:pt x="4508" y="3648"/>
                  </a:lnTo>
                  <a:lnTo>
                    <a:pt x="4517" y="3674"/>
                  </a:lnTo>
                  <a:lnTo>
                    <a:pt x="4513" y="3683"/>
                  </a:lnTo>
                  <a:lnTo>
                    <a:pt x="4504" y="3683"/>
                  </a:lnTo>
                  <a:lnTo>
                    <a:pt x="4486" y="3696"/>
                  </a:lnTo>
                  <a:lnTo>
                    <a:pt x="4473" y="3696"/>
                  </a:lnTo>
                  <a:lnTo>
                    <a:pt x="4460" y="3691"/>
                  </a:lnTo>
                  <a:lnTo>
                    <a:pt x="4434" y="3670"/>
                  </a:lnTo>
                  <a:lnTo>
                    <a:pt x="4307" y="3564"/>
                  </a:lnTo>
                  <a:lnTo>
                    <a:pt x="4013" y="3337"/>
                  </a:lnTo>
                  <a:lnTo>
                    <a:pt x="3188" y="2724"/>
                  </a:lnTo>
                  <a:lnTo>
                    <a:pt x="3012" y="2601"/>
                  </a:lnTo>
                  <a:lnTo>
                    <a:pt x="2933" y="2549"/>
                  </a:lnTo>
                  <a:lnTo>
                    <a:pt x="2911" y="2540"/>
                  </a:lnTo>
                  <a:lnTo>
                    <a:pt x="2894" y="2540"/>
                  </a:lnTo>
                  <a:lnTo>
                    <a:pt x="2841" y="2505"/>
                  </a:lnTo>
                  <a:lnTo>
                    <a:pt x="2705" y="2409"/>
                  </a:lnTo>
                  <a:lnTo>
                    <a:pt x="2613" y="2339"/>
                  </a:lnTo>
                  <a:lnTo>
                    <a:pt x="2521" y="2255"/>
                  </a:lnTo>
                  <a:lnTo>
                    <a:pt x="2350" y="2093"/>
                  </a:lnTo>
                  <a:lnTo>
                    <a:pt x="2263" y="2015"/>
                  </a:lnTo>
                  <a:lnTo>
                    <a:pt x="2171" y="1944"/>
                  </a:lnTo>
                  <a:lnTo>
                    <a:pt x="2070" y="1879"/>
                  </a:lnTo>
                  <a:lnTo>
                    <a:pt x="1960" y="1821"/>
                  </a:lnTo>
                  <a:lnTo>
                    <a:pt x="1903" y="1799"/>
                  </a:lnTo>
                  <a:lnTo>
                    <a:pt x="1894" y="1795"/>
                  </a:lnTo>
                  <a:lnTo>
                    <a:pt x="1877" y="1764"/>
                  </a:lnTo>
                  <a:lnTo>
                    <a:pt x="1798" y="1663"/>
                  </a:lnTo>
                  <a:lnTo>
                    <a:pt x="1741" y="1598"/>
                  </a:lnTo>
                  <a:lnTo>
                    <a:pt x="1680" y="1549"/>
                  </a:lnTo>
                  <a:lnTo>
                    <a:pt x="1561" y="1479"/>
                  </a:lnTo>
                  <a:lnTo>
                    <a:pt x="1456" y="1422"/>
                  </a:lnTo>
                  <a:lnTo>
                    <a:pt x="1408" y="1396"/>
                  </a:lnTo>
                  <a:lnTo>
                    <a:pt x="1360" y="1361"/>
                  </a:lnTo>
                  <a:lnTo>
                    <a:pt x="1175" y="1133"/>
                  </a:lnTo>
                  <a:lnTo>
                    <a:pt x="995" y="1028"/>
                  </a:lnTo>
                  <a:lnTo>
                    <a:pt x="916" y="936"/>
                  </a:lnTo>
                  <a:lnTo>
                    <a:pt x="841" y="840"/>
                  </a:lnTo>
                  <a:lnTo>
                    <a:pt x="797" y="788"/>
                  </a:lnTo>
                  <a:lnTo>
                    <a:pt x="740" y="726"/>
                  </a:lnTo>
                  <a:lnTo>
                    <a:pt x="675" y="661"/>
                  </a:lnTo>
                  <a:lnTo>
                    <a:pt x="583" y="591"/>
                  </a:lnTo>
                  <a:lnTo>
                    <a:pt x="517" y="542"/>
                  </a:lnTo>
                  <a:lnTo>
                    <a:pt x="486" y="525"/>
                  </a:lnTo>
                  <a:lnTo>
                    <a:pt x="381" y="363"/>
                  </a:lnTo>
                  <a:lnTo>
                    <a:pt x="236" y="354"/>
                  </a:lnTo>
                  <a:lnTo>
                    <a:pt x="206" y="350"/>
                  </a:lnTo>
                  <a:lnTo>
                    <a:pt x="197" y="341"/>
                  </a:lnTo>
                  <a:lnTo>
                    <a:pt x="192" y="323"/>
                  </a:lnTo>
                  <a:lnTo>
                    <a:pt x="188" y="315"/>
                  </a:lnTo>
                  <a:lnTo>
                    <a:pt x="166" y="306"/>
                  </a:lnTo>
                  <a:lnTo>
                    <a:pt x="39" y="306"/>
                  </a:lnTo>
                  <a:lnTo>
                    <a:pt x="13" y="275"/>
                  </a:lnTo>
                  <a:lnTo>
                    <a:pt x="0" y="258"/>
                  </a:lnTo>
                  <a:lnTo>
                    <a:pt x="4" y="249"/>
                  </a:lnTo>
                  <a:lnTo>
                    <a:pt x="13" y="240"/>
                  </a:lnTo>
                  <a:lnTo>
                    <a:pt x="21" y="232"/>
                  </a:lnTo>
                  <a:lnTo>
                    <a:pt x="30" y="210"/>
                  </a:lnTo>
                  <a:lnTo>
                    <a:pt x="30" y="179"/>
                  </a:lnTo>
                  <a:lnTo>
                    <a:pt x="13" y="122"/>
                  </a:lnTo>
                  <a:lnTo>
                    <a:pt x="17" y="87"/>
                  </a:lnTo>
                  <a:lnTo>
                    <a:pt x="30" y="48"/>
                  </a:lnTo>
                  <a:lnTo>
                    <a:pt x="52" y="1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192720" y="3294000"/>
              <a:ext cx="1710000" cy="1389600"/>
            </a:xfrm>
            <a:custGeom>
              <a:avLst/>
              <a:gdLst/>
              <a:ahLst/>
              <a:rect l="0" t="0" r="r" b="b"/>
              <a:pathLst>
                <a:path w="4750" h="3860">
                  <a:moveTo>
                    <a:pt x="0" y="100"/>
                  </a:moveTo>
                  <a:lnTo>
                    <a:pt x="4" y="61"/>
                  </a:lnTo>
                  <a:lnTo>
                    <a:pt x="17" y="30"/>
                  </a:lnTo>
                  <a:lnTo>
                    <a:pt x="43" y="8"/>
                  </a:lnTo>
                  <a:lnTo>
                    <a:pt x="83" y="0"/>
                  </a:lnTo>
                  <a:lnTo>
                    <a:pt x="149" y="13"/>
                  </a:lnTo>
                  <a:lnTo>
                    <a:pt x="232" y="43"/>
                  </a:lnTo>
                  <a:lnTo>
                    <a:pt x="342" y="105"/>
                  </a:lnTo>
                  <a:lnTo>
                    <a:pt x="477" y="192"/>
                  </a:lnTo>
                  <a:lnTo>
                    <a:pt x="561" y="245"/>
                  </a:lnTo>
                  <a:lnTo>
                    <a:pt x="644" y="284"/>
                  </a:lnTo>
                  <a:lnTo>
                    <a:pt x="684" y="315"/>
                  </a:lnTo>
                  <a:lnTo>
                    <a:pt x="719" y="341"/>
                  </a:lnTo>
                  <a:lnTo>
                    <a:pt x="754" y="381"/>
                  </a:lnTo>
                  <a:lnTo>
                    <a:pt x="776" y="420"/>
                  </a:lnTo>
                  <a:lnTo>
                    <a:pt x="784" y="468"/>
                  </a:lnTo>
                  <a:lnTo>
                    <a:pt x="802" y="538"/>
                  </a:lnTo>
                  <a:lnTo>
                    <a:pt x="833" y="591"/>
                  </a:lnTo>
                  <a:lnTo>
                    <a:pt x="877" y="661"/>
                  </a:lnTo>
                  <a:lnTo>
                    <a:pt x="951" y="744"/>
                  </a:lnTo>
                  <a:lnTo>
                    <a:pt x="1052" y="845"/>
                  </a:lnTo>
                  <a:lnTo>
                    <a:pt x="1210" y="986"/>
                  </a:lnTo>
                  <a:lnTo>
                    <a:pt x="1302" y="1065"/>
                  </a:lnTo>
                  <a:lnTo>
                    <a:pt x="1346" y="1100"/>
                  </a:lnTo>
                  <a:lnTo>
                    <a:pt x="1368" y="1109"/>
                  </a:lnTo>
                  <a:lnTo>
                    <a:pt x="1390" y="1148"/>
                  </a:lnTo>
                  <a:lnTo>
                    <a:pt x="1504" y="1332"/>
                  </a:lnTo>
                  <a:lnTo>
                    <a:pt x="1543" y="1389"/>
                  </a:lnTo>
                  <a:lnTo>
                    <a:pt x="1574" y="1411"/>
                  </a:lnTo>
                  <a:lnTo>
                    <a:pt x="1596" y="1415"/>
                  </a:lnTo>
                  <a:lnTo>
                    <a:pt x="1613" y="1406"/>
                  </a:lnTo>
                  <a:lnTo>
                    <a:pt x="1635" y="1402"/>
                  </a:lnTo>
                  <a:lnTo>
                    <a:pt x="1666" y="1398"/>
                  </a:lnTo>
                  <a:lnTo>
                    <a:pt x="1710" y="1415"/>
                  </a:lnTo>
                  <a:lnTo>
                    <a:pt x="1771" y="1459"/>
                  </a:lnTo>
                  <a:lnTo>
                    <a:pt x="1859" y="1542"/>
                  </a:lnTo>
                  <a:lnTo>
                    <a:pt x="1911" y="1599"/>
                  </a:lnTo>
                  <a:lnTo>
                    <a:pt x="1933" y="1639"/>
                  </a:lnTo>
                  <a:lnTo>
                    <a:pt x="1942" y="1665"/>
                  </a:lnTo>
                  <a:lnTo>
                    <a:pt x="1942" y="1687"/>
                  </a:lnTo>
                  <a:lnTo>
                    <a:pt x="1951" y="1709"/>
                  </a:lnTo>
                  <a:lnTo>
                    <a:pt x="1982" y="1735"/>
                  </a:lnTo>
                  <a:lnTo>
                    <a:pt x="2039" y="1783"/>
                  </a:lnTo>
                  <a:lnTo>
                    <a:pt x="2131" y="1827"/>
                  </a:lnTo>
                  <a:lnTo>
                    <a:pt x="2161" y="1849"/>
                  </a:lnTo>
                  <a:lnTo>
                    <a:pt x="2205" y="1879"/>
                  </a:lnTo>
                  <a:lnTo>
                    <a:pt x="2315" y="1976"/>
                  </a:lnTo>
                  <a:lnTo>
                    <a:pt x="2469" y="2103"/>
                  </a:lnTo>
                  <a:lnTo>
                    <a:pt x="2566" y="2173"/>
                  </a:lnTo>
                  <a:lnTo>
                    <a:pt x="2667" y="2243"/>
                  </a:lnTo>
                  <a:lnTo>
                    <a:pt x="2776" y="2287"/>
                  </a:lnTo>
                  <a:lnTo>
                    <a:pt x="2820" y="2361"/>
                  </a:lnTo>
                  <a:lnTo>
                    <a:pt x="2842" y="2387"/>
                  </a:lnTo>
                  <a:lnTo>
                    <a:pt x="2868" y="2405"/>
                  </a:lnTo>
                  <a:lnTo>
                    <a:pt x="2982" y="2484"/>
                  </a:lnTo>
                  <a:lnTo>
                    <a:pt x="3211" y="2663"/>
                  </a:lnTo>
                  <a:lnTo>
                    <a:pt x="3276" y="2681"/>
                  </a:lnTo>
                  <a:lnTo>
                    <a:pt x="3316" y="2755"/>
                  </a:lnTo>
                  <a:lnTo>
                    <a:pt x="3368" y="2795"/>
                  </a:lnTo>
                  <a:lnTo>
                    <a:pt x="3478" y="2852"/>
                  </a:lnTo>
                  <a:lnTo>
                    <a:pt x="3684" y="2988"/>
                  </a:lnTo>
                  <a:lnTo>
                    <a:pt x="4750" y="3834"/>
                  </a:lnTo>
                  <a:lnTo>
                    <a:pt x="4732" y="3856"/>
                  </a:lnTo>
                  <a:lnTo>
                    <a:pt x="4706" y="3860"/>
                  </a:lnTo>
                  <a:lnTo>
                    <a:pt x="4666" y="3842"/>
                  </a:lnTo>
                  <a:lnTo>
                    <a:pt x="4596" y="3794"/>
                  </a:lnTo>
                  <a:lnTo>
                    <a:pt x="4338" y="3597"/>
                  </a:lnTo>
                  <a:lnTo>
                    <a:pt x="3838" y="3234"/>
                  </a:lnTo>
                  <a:lnTo>
                    <a:pt x="2640" y="2374"/>
                  </a:lnTo>
                  <a:lnTo>
                    <a:pt x="2297" y="2120"/>
                  </a:lnTo>
                  <a:lnTo>
                    <a:pt x="2280" y="2103"/>
                  </a:lnTo>
                  <a:lnTo>
                    <a:pt x="2275" y="2098"/>
                  </a:lnTo>
                  <a:lnTo>
                    <a:pt x="2047" y="1928"/>
                  </a:lnTo>
                  <a:lnTo>
                    <a:pt x="1797" y="1726"/>
                  </a:lnTo>
                  <a:lnTo>
                    <a:pt x="1776" y="1674"/>
                  </a:lnTo>
                  <a:lnTo>
                    <a:pt x="1749" y="1643"/>
                  </a:lnTo>
                  <a:lnTo>
                    <a:pt x="1719" y="1621"/>
                  </a:lnTo>
                  <a:lnTo>
                    <a:pt x="1679" y="1608"/>
                  </a:lnTo>
                  <a:lnTo>
                    <a:pt x="1574" y="1564"/>
                  </a:lnTo>
                  <a:lnTo>
                    <a:pt x="1499" y="1520"/>
                  </a:lnTo>
                  <a:lnTo>
                    <a:pt x="1412" y="1441"/>
                  </a:lnTo>
                  <a:lnTo>
                    <a:pt x="1096" y="1148"/>
                  </a:lnTo>
                  <a:lnTo>
                    <a:pt x="1021" y="1065"/>
                  </a:lnTo>
                  <a:lnTo>
                    <a:pt x="977" y="1012"/>
                  </a:lnTo>
                  <a:lnTo>
                    <a:pt x="951" y="968"/>
                  </a:lnTo>
                  <a:lnTo>
                    <a:pt x="942" y="950"/>
                  </a:lnTo>
                  <a:lnTo>
                    <a:pt x="920" y="928"/>
                  </a:lnTo>
                  <a:lnTo>
                    <a:pt x="771" y="797"/>
                  </a:lnTo>
                  <a:lnTo>
                    <a:pt x="666" y="713"/>
                  </a:lnTo>
                  <a:lnTo>
                    <a:pt x="627" y="683"/>
                  </a:lnTo>
                  <a:lnTo>
                    <a:pt x="592" y="648"/>
                  </a:lnTo>
                  <a:lnTo>
                    <a:pt x="565" y="604"/>
                  </a:lnTo>
                  <a:lnTo>
                    <a:pt x="535" y="551"/>
                  </a:lnTo>
                  <a:lnTo>
                    <a:pt x="521" y="508"/>
                  </a:lnTo>
                  <a:lnTo>
                    <a:pt x="517" y="481"/>
                  </a:lnTo>
                  <a:lnTo>
                    <a:pt x="517" y="459"/>
                  </a:lnTo>
                  <a:lnTo>
                    <a:pt x="469" y="433"/>
                  </a:lnTo>
                  <a:lnTo>
                    <a:pt x="302" y="359"/>
                  </a:lnTo>
                  <a:lnTo>
                    <a:pt x="249" y="324"/>
                  </a:lnTo>
                  <a:lnTo>
                    <a:pt x="232" y="293"/>
                  </a:lnTo>
                  <a:lnTo>
                    <a:pt x="214" y="249"/>
                  </a:lnTo>
                  <a:lnTo>
                    <a:pt x="192" y="218"/>
                  </a:lnTo>
                  <a:lnTo>
                    <a:pt x="157" y="175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07240" y="3719520"/>
              <a:ext cx="89280" cy="168480"/>
            </a:xfrm>
            <a:custGeom>
              <a:avLst/>
              <a:gdLst/>
              <a:ahLst/>
              <a:rect l="0" t="0" r="r" b="b"/>
              <a:pathLst>
                <a:path w="248" h="468">
                  <a:moveTo>
                    <a:pt x="248" y="37"/>
                  </a:moveTo>
                  <a:lnTo>
                    <a:pt x="236" y="112"/>
                  </a:lnTo>
                  <a:lnTo>
                    <a:pt x="217" y="196"/>
                  </a:lnTo>
                  <a:lnTo>
                    <a:pt x="168" y="305"/>
                  </a:lnTo>
                  <a:lnTo>
                    <a:pt x="132" y="380"/>
                  </a:lnTo>
                  <a:lnTo>
                    <a:pt x="80" y="468"/>
                  </a:lnTo>
                  <a:lnTo>
                    <a:pt x="31" y="426"/>
                  </a:lnTo>
                  <a:lnTo>
                    <a:pt x="7" y="393"/>
                  </a:lnTo>
                  <a:lnTo>
                    <a:pt x="0" y="368"/>
                  </a:lnTo>
                  <a:lnTo>
                    <a:pt x="7" y="351"/>
                  </a:lnTo>
                  <a:lnTo>
                    <a:pt x="43" y="330"/>
                  </a:lnTo>
                  <a:lnTo>
                    <a:pt x="64" y="322"/>
                  </a:lnTo>
                  <a:lnTo>
                    <a:pt x="72" y="309"/>
                  </a:lnTo>
                  <a:lnTo>
                    <a:pt x="92" y="268"/>
                  </a:lnTo>
                  <a:lnTo>
                    <a:pt x="100" y="221"/>
                  </a:lnTo>
                  <a:lnTo>
                    <a:pt x="104" y="141"/>
                  </a:lnTo>
                  <a:lnTo>
                    <a:pt x="120" y="70"/>
                  </a:lnTo>
                  <a:lnTo>
                    <a:pt x="144" y="33"/>
                  </a:lnTo>
                  <a:lnTo>
                    <a:pt x="180" y="0"/>
                  </a:lnTo>
                  <a:lnTo>
                    <a:pt x="197" y="0"/>
                  </a:lnTo>
                  <a:lnTo>
                    <a:pt x="248" y="3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77000" y="4068720"/>
              <a:ext cx="182880" cy="138600"/>
            </a:xfrm>
            <a:custGeom>
              <a:avLst/>
              <a:gdLst/>
              <a:ahLst/>
              <a:rect l="0" t="0" r="r" b="b"/>
              <a:pathLst>
                <a:path w="508" h="385">
                  <a:moveTo>
                    <a:pt x="25" y="0"/>
                  </a:moveTo>
                  <a:lnTo>
                    <a:pt x="67" y="4"/>
                  </a:lnTo>
                  <a:lnTo>
                    <a:pt x="79" y="12"/>
                  </a:lnTo>
                  <a:lnTo>
                    <a:pt x="88" y="20"/>
                  </a:lnTo>
                  <a:lnTo>
                    <a:pt x="108" y="53"/>
                  </a:lnTo>
                  <a:lnTo>
                    <a:pt x="129" y="74"/>
                  </a:lnTo>
                  <a:lnTo>
                    <a:pt x="163" y="100"/>
                  </a:lnTo>
                  <a:lnTo>
                    <a:pt x="201" y="120"/>
                  </a:lnTo>
                  <a:lnTo>
                    <a:pt x="226" y="128"/>
                  </a:lnTo>
                  <a:lnTo>
                    <a:pt x="260" y="133"/>
                  </a:lnTo>
                  <a:lnTo>
                    <a:pt x="285" y="145"/>
                  </a:lnTo>
                  <a:lnTo>
                    <a:pt x="332" y="178"/>
                  </a:lnTo>
                  <a:lnTo>
                    <a:pt x="499" y="340"/>
                  </a:lnTo>
                  <a:lnTo>
                    <a:pt x="508" y="356"/>
                  </a:lnTo>
                  <a:lnTo>
                    <a:pt x="508" y="369"/>
                  </a:lnTo>
                  <a:lnTo>
                    <a:pt x="495" y="381"/>
                  </a:lnTo>
                  <a:lnTo>
                    <a:pt x="474" y="385"/>
                  </a:lnTo>
                  <a:lnTo>
                    <a:pt x="436" y="377"/>
                  </a:lnTo>
                  <a:lnTo>
                    <a:pt x="386" y="352"/>
                  </a:lnTo>
                  <a:lnTo>
                    <a:pt x="315" y="307"/>
                  </a:lnTo>
                  <a:lnTo>
                    <a:pt x="226" y="236"/>
                  </a:lnTo>
                  <a:lnTo>
                    <a:pt x="129" y="166"/>
                  </a:lnTo>
                  <a:lnTo>
                    <a:pt x="50" y="116"/>
                  </a:lnTo>
                  <a:lnTo>
                    <a:pt x="20" y="90"/>
                  </a:lnTo>
                  <a:lnTo>
                    <a:pt x="4" y="66"/>
                  </a:lnTo>
                  <a:lnTo>
                    <a:pt x="0" y="41"/>
                  </a:lnTo>
                  <a:lnTo>
                    <a:pt x="8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85080" y="4213080"/>
              <a:ext cx="265320" cy="155880"/>
            </a:xfrm>
            <a:custGeom>
              <a:avLst/>
              <a:gdLst/>
              <a:ahLst/>
              <a:rect l="0" t="0" r="r" b="b"/>
              <a:pathLst>
                <a:path w="737" h="433">
                  <a:moveTo>
                    <a:pt x="21" y="0"/>
                  </a:moveTo>
                  <a:lnTo>
                    <a:pt x="51" y="8"/>
                  </a:lnTo>
                  <a:lnTo>
                    <a:pt x="136" y="58"/>
                  </a:lnTo>
                  <a:lnTo>
                    <a:pt x="340" y="182"/>
                  </a:lnTo>
                  <a:lnTo>
                    <a:pt x="711" y="399"/>
                  </a:lnTo>
                  <a:lnTo>
                    <a:pt x="737" y="416"/>
                  </a:lnTo>
                  <a:lnTo>
                    <a:pt x="737" y="424"/>
                  </a:lnTo>
                  <a:lnTo>
                    <a:pt x="724" y="428"/>
                  </a:lnTo>
                  <a:lnTo>
                    <a:pt x="699" y="433"/>
                  </a:lnTo>
                  <a:lnTo>
                    <a:pt x="648" y="420"/>
                  </a:lnTo>
                  <a:lnTo>
                    <a:pt x="562" y="391"/>
                  </a:lnTo>
                  <a:lnTo>
                    <a:pt x="439" y="333"/>
                  </a:lnTo>
                  <a:lnTo>
                    <a:pt x="268" y="250"/>
                  </a:lnTo>
                  <a:lnTo>
                    <a:pt x="38" y="120"/>
                  </a:lnTo>
                  <a:lnTo>
                    <a:pt x="21" y="99"/>
                  </a:lnTo>
                  <a:lnTo>
                    <a:pt x="4" y="62"/>
                  </a:lnTo>
                  <a:lnTo>
                    <a:pt x="0" y="20"/>
                  </a:lnTo>
                  <a:lnTo>
                    <a:pt x="4" y="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02640" y="4303800"/>
              <a:ext cx="171720" cy="108360"/>
            </a:xfrm>
            <a:custGeom>
              <a:avLst/>
              <a:gdLst/>
              <a:ahLst/>
              <a:rect l="0" t="0" r="r" b="b"/>
              <a:pathLst>
                <a:path w="477" h="301">
                  <a:moveTo>
                    <a:pt x="16" y="0"/>
                  </a:moveTo>
                  <a:lnTo>
                    <a:pt x="41" y="0"/>
                  </a:lnTo>
                  <a:lnTo>
                    <a:pt x="87" y="20"/>
                  </a:lnTo>
                  <a:lnTo>
                    <a:pt x="221" y="94"/>
                  </a:lnTo>
                  <a:lnTo>
                    <a:pt x="368" y="187"/>
                  </a:lnTo>
                  <a:lnTo>
                    <a:pt x="431" y="232"/>
                  </a:lnTo>
                  <a:lnTo>
                    <a:pt x="477" y="269"/>
                  </a:lnTo>
                  <a:lnTo>
                    <a:pt x="477" y="297"/>
                  </a:lnTo>
                  <a:lnTo>
                    <a:pt x="460" y="301"/>
                  </a:lnTo>
                  <a:lnTo>
                    <a:pt x="422" y="297"/>
                  </a:lnTo>
                  <a:lnTo>
                    <a:pt x="280" y="237"/>
                  </a:lnTo>
                  <a:lnTo>
                    <a:pt x="154" y="167"/>
                  </a:lnTo>
                  <a:lnTo>
                    <a:pt x="83" y="122"/>
                  </a:lnTo>
                  <a:lnTo>
                    <a:pt x="8" y="64"/>
                  </a:lnTo>
                  <a:lnTo>
                    <a:pt x="0" y="24"/>
                  </a:lnTo>
                  <a:lnTo>
                    <a:pt x="8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856640" y="4489560"/>
              <a:ext cx="59040" cy="39960"/>
            </a:xfrm>
            <a:custGeom>
              <a:avLst/>
              <a:gdLst/>
              <a:ahLst/>
              <a:rect l="0" t="0" r="r" b="b"/>
              <a:pathLst>
                <a:path w="164" h="111">
                  <a:moveTo>
                    <a:pt x="0" y="35"/>
                  </a:moveTo>
                  <a:lnTo>
                    <a:pt x="15" y="14"/>
                  </a:lnTo>
                  <a:lnTo>
                    <a:pt x="26" y="7"/>
                  </a:lnTo>
                  <a:lnTo>
                    <a:pt x="41" y="0"/>
                  </a:lnTo>
                  <a:lnTo>
                    <a:pt x="60" y="0"/>
                  </a:lnTo>
                  <a:lnTo>
                    <a:pt x="84" y="14"/>
                  </a:lnTo>
                  <a:lnTo>
                    <a:pt x="118" y="39"/>
                  </a:lnTo>
                  <a:lnTo>
                    <a:pt x="160" y="82"/>
                  </a:lnTo>
                  <a:lnTo>
                    <a:pt x="164" y="100"/>
                  </a:lnTo>
                  <a:lnTo>
                    <a:pt x="160" y="111"/>
                  </a:lnTo>
                  <a:lnTo>
                    <a:pt x="130" y="111"/>
                  </a:lnTo>
                  <a:lnTo>
                    <a:pt x="72" y="8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56440" y="2484360"/>
              <a:ext cx="59040" cy="70200"/>
            </a:xfrm>
            <a:custGeom>
              <a:avLst/>
              <a:gdLst/>
              <a:ahLst/>
              <a:rect l="0" t="0" r="r" b="b"/>
              <a:pathLst>
                <a:path w="164" h="195">
                  <a:moveTo>
                    <a:pt x="53" y="195"/>
                  </a:moveTo>
                  <a:lnTo>
                    <a:pt x="53" y="46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4" y="46"/>
                  </a:lnTo>
                  <a:lnTo>
                    <a:pt x="107" y="46"/>
                  </a:lnTo>
                  <a:lnTo>
                    <a:pt x="107" y="195"/>
                  </a:lnTo>
                  <a:lnTo>
                    <a:pt x="53" y="19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37440" y="2484360"/>
              <a:ext cx="95760" cy="79560"/>
            </a:xfrm>
            <a:custGeom>
              <a:avLst/>
              <a:gdLst/>
              <a:ahLst/>
              <a:rect l="0" t="0" r="r" b="b"/>
              <a:pathLst>
                <a:path w="266" h="221">
                  <a:moveTo>
                    <a:pt x="13" y="0"/>
                  </a:moveTo>
                  <a:lnTo>
                    <a:pt x="30" y="0"/>
                  </a:lnTo>
                  <a:lnTo>
                    <a:pt x="39" y="4"/>
                  </a:lnTo>
                  <a:lnTo>
                    <a:pt x="133" y="146"/>
                  </a:lnTo>
                  <a:lnTo>
                    <a:pt x="226" y="8"/>
                  </a:lnTo>
                  <a:lnTo>
                    <a:pt x="235" y="0"/>
                  </a:lnTo>
                  <a:lnTo>
                    <a:pt x="253" y="0"/>
                  </a:lnTo>
                  <a:lnTo>
                    <a:pt x="262" y="22"/>
                  </a:lnTo>
                  <a:lnTo>
                    <a:pt x="266" y="30"/>
                  </a:lnTo>
                  <a:lnTo>
                    <a:pt x="266" y="221"/>
                  </a:lnTo>
                  <a:lnTo>
                    <a:pt x="222" y="221"/>
                  </a:lnTo>
                  <a:lnTo>
                    <a:pt x="222" y="74"/>
                  </a:lnTo>
                  <a:lnTo>
                    <a:pt x="133" y="217"/>
                  </a:lnTo>
                  <a:lnTo>
                    <a:pt x="44" y="74"/>
                  </a:lnTo>
                  <a:lnTo>
                    <a:pt x="44" y="217"/>
                  </a:lnTo>
                  <a:lnTo>
                    <a:pt x="0" y="217"/>
                  </a:lnTo>
                  <a:lnTo>
                    <a:pt x="0" y="26"/>
                  </a:lnTo>
                  <a:lnTo>
                    <a:pt x="4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37440" y="2484360"/>
              <a:ext cx="95760" cy="79560"/>
            </a:xfrm>
            <a:custGeom>
              <a:avLst/>
              <a:gdLst/>
              <a:ahLst/>
              <a:rect l="0" t="0" r="r" b="b"/>
              <a:pathLst>
                <a:path w="266" h="221">
                  <a:moveTo>
                    <a:pt x="13" y="0"/>
                  </a:moveTo>
                  <a:lnTo>
                    <a:pt x="30" y="0"/>
                  </a:lnTo>
                  <a:lnTo>
                    <a:pt x="39" y="4"/>
                  </a:lnTo>
                  <a:lnTo>
                    <a:pt x="133" y="146"/>
                  </a:lnTo>
                  <a:lnTo>
                    <a:pt x="226" y="8"/>
                  </a:lnTo>
                  <a:lnTo>
                    <a:pt x="235" y="0"/>
                  </a:lnTo>
                  <a:lnTo>
                    <a:pt x="253" y="0"/>
                  </a:lnTo>
                  <a:lnTo>
                    <a:pt x="262" y="22"/>
                  </a:lnTo>
                  <a:lnTo>
                    <a:pt x="266" y="30"/>
                  </a:lnTo>
                  <a:lnTo>
                    <a:pt x="266" y="221"/>
                  </a:lnTo>
                  <a:lnTo>
                    <a:pt x="222" y="221"/>
                  </a:lnTo>
                  <a:lnTo>
                    <a:pt x="222" y="74"/>
                  </a:lnTo>
                  <a:lnTo>
                    <a:pt x="133" y="217"/>
                  </a:lnTo>
                  <a:lnTo>
                    <a:pt x="44" y="74"/>
                  </a:lnTo>
                  <a:lnTo>
                    <a:pt x="44" y="217"/>
                  </a:lnTo>
                  <a:lnTo>
                    <a:pt x="0" y="217"/>
                  </a:lnTo>
                  <a:lnTo>
                    <a:pt x="0" y="26"/>
                  </a:lnTo>
                  <a:lnTo>
                    <a:pt x="4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1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57200" y="2857680"/>
            <a:ext cx="8229600" cy="18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guar’s Competitive Posi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62120" y="30492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589720" y="5483160"/>
            <a:ext cx="3408480" cy="1200600"/>
            <a:chOff x="5589720" y="5483160"/>
            <a:chExt cx="3408480" cy="1200600"/>
          </a:xfrm>
        </p:grpSpPr>
        <p:sp>
          <p:nvSpPr>
            <p:cNvPr id="494" name=""/>
            <p:cNvSpPr/>
            <p:nvPr/>
          </p:nvSpPr>
          <p:spPr>
            <a:xfrm>
              <a:off x="5589720" y="5483160"/>
              <a:ext cx="973440" cy="868680"/>
            </a:xfrm>
            <a:custGeom>
              <a:avLst/>
              <a:gdLst/>
              <a:ahLst/>
              <a:rect l="0" t="0" r="r" b="b"/>
              <a:pathLst>
                <a:path w="2704" h="2413">
                  <a:moveTo>
                    <a:pt x="2704" y="45"/>
                  </a:moveTo>
                  <a:lnTo>
                    <a:pt x="2691" y="52"/>
                  </a:lnTo>
                  <a:lnTo>
                    <a:pt x="2674" y="56"/>
                  </a:lnTo>
                  <a:lnTo>
                    <a:pt x="2631" y="66"/>
                  </a:lnTo>
                  <a:lnTo>
                    <a:pt x="2518" y="83"/>
                  </a:lnTo>
                  <a:lnTo>
                    <a:pt x="2399" y="101"/>
                  </a:lnTo>
                  <a:lnTo>
                    <a:pt x="2308" y="118"/>
                  </a:lnTo>
                  <a:lnTo>
                    <a:pt x="2314" y="137"/>
                  </a:lnTo>
                  <a:lnTo>
                    <a:pt x="2314" y="141"/>
                  </a:lnTo>
                  <a:lnTo>
                    <a:pt x="2318" y="143"/>
                  </a:lnTo>
                  <a:lnTo>
                    <a:pt x="2341" y="147"/>
                  </a:lnTo>
                  <a:lnTo>
                    <a:pt x="2395" y="154"/>
                  </a:lnTo>
                  <a:lnTo>
                    <a:pt x="2393" y="178"/>
                  </a:lnTo>
                  <a:lnTo>
                    <a:pt x="2343" y="216"/>
                  </a:lnTo>
                  <a:lnTo>
                    <a:pt x="2331" y="226"/>
                  </a:lnTo>
                  <a:lnTo>
                    <a:pt x="2326" y="233"/>
                  </a:lnTo>
                  <a:lnTo>
                    <a:pt x="2329" y="241"/>
                  </a:lnTo>
                  <a:lnTo>
                    <a:pt x="2331" y="245"/>
                  </a:lnTo>
                  <a:lnTo>
                    <a:pt x="2326" y="249"/>
                  </a:lnTo>
                  <a:lnTo>
                    <a:pt x="2312" y="264"/>
                  </a:lnTo>
                  <a:lnTo>
                    <a:pt x="2291" y="272"/>
                  </a:lnTo>
                  <a:lnTo>
                    <a:pt x="2272" y="280"/>
                  </a:lnTo>
                  <a:lnTo>
                    <a:pt x="2251" y="283"/>
                  </a:lnTo>
                  <a:lnTo>
                    <a:pt x="2212" y="291"/>
                  </a:lnTo>
                  <a:lnTo>
                    <a:pt x="2183" y="301"/>
                  </a:lnTo>
                  <a:lnTo>
                    <a:pt x="2170" y="314"/>
                  </a:lnTo>
                  <a:lnTo>
                    <a:pt x="2168" y="320"/>
                  </a:lnTo>
                  <a:lnTo>
                    <a:pt x="2168" y="326"/>
                  </a:lnTo>
                  <a:lnTo>
                    <a:pt x="2164" y="332"/>
                  </a:lnTo>
                  <a:lnTo>
                    <a:pt x="2147" y="343"/>
                  </a:lnTo>
                  <a:lnTo>
                    <a:pt x="2112" y="355"/>
                  </a:lnTo>
                  <a:lnTo>
                    <a:pt x="1949" y="403"/>
                  </a:lnTo>
                  <a:lnTo>
                    <a:pt x="1941" y="407"/>
                  </a:lnTo>
                  <a:lnTo>
                    <a:pt x="1933" y="416"/>
                  </a:lnTo>
                  <a:lnTo>
                    <a:pt x="1918" y="437"/>
                  </a:lnTo>
                  <a:lnTo>
                    <a:pt x="1901" y="459"/>
                  </a:lnTo>
                  <a:lnTo>
                    <a:pt x="1893" y="472"/>
                  </a:lnTo>
                  <a:lnTo>
                    <a:pt x="1882" y="476"/>
                  </a:lnTo>
                  <a:lnTo>
                    <a:pt x="1868" y="480"/>
                  </a:lnTo>
                  <a:lnTo>
                    <a:pt x="1845" y="482"/>
                  </a:lnTo>
                  <a:lnTo>
                    <a:pt x="1803" y="493"/>
                  </a:lnTo>
                  <a:lnTo>
                    <a:pt x="1739" y="524"/>
                  </a:lnTo>
                  <a:lnTo>
                    <a:pt x="1714" y="653"/>
                  </a:lnTo>
                  <a:lnTo>
                    <a:pt x="1687" y="776"/>
                  </a:lnTo>
                  <a:lnTo>
                    <a:pt x="1657" y="896"/>
                  </a:lnTo>
                  <a:lnTo>
                    <a:pt x="1626" y="1013"/>
                  </a:lnTo>
                  <a:lnTo>
                    <a:pt x="1559" y="1233"/>
                  </a:lnTo>
                  <a:lnTo>
                    <a:pt x="1489" y="1428"/>
                  </a:lnTo>
                  <a:lnTo>
                    <a:pt x="1453" y="1520"/>
                  </a:lnTo>
                  <a:lnTo>
                    <a:pt x="1418" y="1605"/>
                  </a:lnTo>
                  <a:lnTo>
                    <a:pt x="1346" y="1757"/>
                  </a:lnTo>
                  <a:lnTo>
                    <a:pt x="1310" y="1822"/>
                  </a:lnTo>
                  <a:lnTo>
                    <a:pt x="1277" y="1880"/>
                  </a:lnTo>
                  <a:lnTo>
                    <a:pt x="1244" y="1932"/>
                  </a:lnTo>
                  <a:lnTo>
                    <a:pt x="1212" y="1976"/>
                  </a:lnTo>
                  <a:lnTo>
                    <a:pt x="1125" y="2084"/>
                  </a:lnTo>
                  <a:lnTo>
                    <a:pt x="1085" y="2132"/>
                  </a:lnTo>
                  <a:lnTo>
                    <a:pt x="1044" y="2173"/>
                  </a:lnTo>
                  <a:lnTo>
                    <a:pt x="1006" y="2213"/>
                  </a:lnTo>
                  <a:lnTo>
                    <a:pt x="969" y="2246"/>
                  </a:lnTo>
                  <a:lnTo>
                    <a:pt x="933" y="2277"/>
                  </a:lnTo>
                  <a:lnTo>
                    <a:pt x="896" y="2306"/>
                  </a:lnTo>
                  <a:lnTo>
                    <a:pt x="862" y="2331"/>
                  </a:lnTo>
                  <a:lnTo>
                    <a:pt x="829" y="2350"/>
                  </a:lnTo>
                  <a:lnTo>
                    <a:pt x="762" y="2381"/>
                  </a:lnTo>
                  <a:lnTo>
                    <a:pt x="698" y="2402"/>
                  </a:lnTo>
                  <a:lnTo>
                    <a:pt x="633" y="2411"/>
                  </a:lnTo>
                  <a:lnTo>
                    <a:pt x="585" y="2413"/>
                  </a:lnTo>
                  <a:lnTo>
                    <a:pt x="535" y="2406"/>
                  </a:lnTo>
                  <a:lnTo>
                    <a:pt x="487" y="2396"/>
                  </a:lnTo>
                  <a:lnTo>
                    <a:pt x="437" y="2383"/>
                  </a:lnTo>
                  <a:lnTo>
                    <a:pt x="391" y="2367"/>
                  </a:lnTo>
                  <a:lnTo>
                    <a:pt x="343" y="2346"/>
                  </a:lnTo>
                  <a:lnTo>
                    <a:pt x="256" y="2302"/>
                  </a:lnTo>
                  <a:lnTo>
                    <a:pt x="181" y="2259"/>
                  </a:lnTo>
                  <a:lnTo>
                    <a:pt x="120" y="2217"/>
                  </a:lnTo>
                  <a:lnTo>
                    <a:pt x="81" y="2186"/>
                  </a:lnTo>
                  <a:lnTo>
                    <a:pt x="64" y="2171"/>
                  </a:lnTo>
                  <a:lnTo>
                    <a:pt x="33" y="2127"/>
                  </a:lnTo>
                  <a:lnTo>
                    <a:pt x="12" y="2092"/>
                  </a:lnTo>
                  <a:lnTo>
                    <a:pt x="2" y="2065"/>
                  </a:lnTo>
                  <a:lnTo>
                    <a:pt x="0" y="2044"/>
                  </a:lnTo>
                  <a:lnTo>
                    <a:pt x="0" y="2032"/>
                  </a:lnTo>
                  <a:lnTo>
                    <a:pt x="4" y="2023"/>
                  </a:lnTo>
                  <a:lnTo>
                    <a:pt x="16" y="2015"/>
                  </a:lnTo>
                  <a:lnTo>
                    <a:pt x="31" y="2015"/>
                  </a:lnTo>
                  <a:lnTo>
                    <a:pt x="39" y="2019"/>
                  </a:lnTo>
                  <a:lnTo>
                    <a:pt x="47" y="2026"/>
                  </a:lnTo>
                  <a:lnTo>
                    <a:pt x="72" y="2053"/>
                  </a:lnTo>
                  <a:lnTo>
                    <a:pt x="120" y="2096"/>
                  </a:lnTo>
                  <a:lnTo>
                    <a:pt x="177" y="2140"/>
                  </a:lnTo>
                  <a:lnTo>
                    <a:pt x="233" y="2173"/>
                  </a:lnTo>
                  <a:lnTo>
                    <a:pt x="289" y="2198"/>
                  </a:lnTo>
                  <a:lnTo>
                    <a:pt x="341" y="2215"/>
                  </a:lnTo>
                  <a:lnTo>
                    <a:pt x="393" y="2225"/>
                  </a:lnTo>
                  <a:lnTo>
                    <a:pt x="446" y="2227"/>
                  </a:lnTo>
                  <a:lnTo>
                    <a:pt x="493" y="2221"/>
                  </a:lnTo>
                  <a:lnTo>
                    <a:pt x="541" y="2211"/>
                  </a:lnTo>
                  <a:lnTo>
                    <a:pt x="589" y="2194"/>
                  </a:lnTo>
                  <a:lnTo>
                    <a:pt x="633" y="2169"/>
                  </a:lnTo>
                  <a:lnTo>
                    <a:pt x="679" y="2140"/>
                  </a:lnTo>
                  <a:lnTo>
                    <a:pt x="723" y="2105"/>
                  </a:lnTo>
                  <a:lnTo>
                    <a:pt x="766" y="2065"/>
                  </a:lnTo>
                  <a:lnTo>
                    <a:pt x="806" y="2019"/>
                  </a:lnTo>
                  <a:lnTo>
                    <a:pt x="848" y="1971"/>
                  </a:lnTo>
                  <a:lnTo>
                    <a:pt x="887" y="1919"/>
                  </a:lnTo>
                  <a:lnTo>
                    <a:pt x="944" y="1834"/>
                  </a:lnTo>
                  <a:lnTo>
                    <a:pt x="998" y="1740"/>
                  </a:lnTo>
                  <a:lnTo>
                    <a:pt x="1052" y="1636"/>
                  </a:lnTo>
                  <a:lnTo>
                    <a:pt x="1102" y="1524"/>
                  </a:lnTo>
                  <a:lnTo>
                    <a:pt x="1150" y="1403"/>
                  </a:lnTo>
                  <a:lnTo>
                    <a:pt x="1198" y="1268"/>
                  </a:lnTo>
                  <a:lnTo>
                    <a:pt x="1244" y="1123"/>
                  </a:lnTo>
                  <a:lnTo>
                    <a:pt x="1285" y="965"/>
                  </a:lnTo>
                  <a:lnTo>
                    <a:pt x="1374" y="595"/>
                  </a:lnTo>
                  <a:lnTo>
                    <a:pt x="1372" y="568"/>
                  </a:lnTo>
                  <a:lnTo>
                    <a:pt x="796" y="634"/>
                  </a:lnTo>
                  <a:lnTo>
                    <a:pt x="719" y="641"/>
                  </a:lnTo>
                  <a:lnTo>
                    <a:pt x="704" y="638"/>
                  </a:lnTo>
                  <a:lnTo>
                    <a:pt x="677" y="580"/>
                  </a:lnTo>
                  <a:lnTo>
                    <a:pt x="621" y="584"/>
                  </a:lnTo>
                  <a:lnTo>
                    <a:pt x="612" y="580"/>
                  </a:lnTo>
                  <a:lnTo>
                    <a:pt x="606" y="568"/>
                  </a:lnTo>
                  <a:lnTo>
                    <a:pt x="608" y="555"/>
                  </a:lnTo>
                  <a:lnTo>
                    <a:pt x="610" y="549"/>
                  </a:lnTo>
                  <a:lnTo>
                    <a:pt x="623" y="547"/>
                  </a:lnTo>
                  <a:lnTo>
                    <a:pt x="641" y="541"/>
                  </a:lnTo>
                  <a:lnTo>
                    <a:pt x="654" y="534"/>
                  </a:lnTo>
                  <a:lnTo>
                    <a:pt x="664" y="520"/>
                  </a:lnTo>
                  <a:lnTo>
                    <a:pt x="666" y="509"/>
                  </a:lnTo>
                  <a:lnTo>
                    <a:pt x="660" y="499"/>
                  </a:lnTo>
                  <a:lnTo>
                    <a:pt x="633" y="482"/>
                  </a:lnTo>
                  <a:lnTo>
                    <a:pt x="602" y="464"/>
                  </a:lnTo>
                  <a:lnTo>
                    <a:pt x="591" y="455"/>
                  </a:lnTo>
                  <a:lnTo>
                    <a:pt x="585" y="445"/>
                  </a:lnTo>
                  <a:lnTo>
                    <a:pt x="583" y="422"/>
                  </a:lnTo>
                  <a:lnTo>
                    <a:pt x="587" y="405"/>
                  </a:lnTo>
                  <a:lnTo>
                    <a:pt x="596" y="397"/>
                  </a:lnTo>
                  <a:lnTo>
                    <a:pt x="608" y="393"/>
                  </a:lnTo>
                  <a:lnTo>
                    <a:pt x="641" y="391"/>
                  </a:lnTo>
                  <a:lnTo>
                    <a:pt x="664" y="391"/>
                  </a:lnTo>
                  <a:lnTo>
                    <a:pt x="685" y="385"/>
                  </a:lnTo>
                  <a:lnTo>
                    <a:pt x="685" y="368"/>
                  </a:lnTo>
                  <a:lnTo>
                    <a:pt x="654" y="366"/>
                  </a:lnTo>
                  <a:lnTo>
                    <a:pt x="633" y="360"/>
                  </a:lnTo>
                  <a:lnTo>
                    <a:pt x="629" y="353"/>
                  </a:lnTo>
                  <a:lnTo>
                    <a:pt x="627" y="343"/>
                  </a:lnTo>
                  <a:lnTo>
                    <a:pt x="633" y="301"/>
                  </a:lnTo>
                  <a:lnTo>
                    <a:pt x="635" y="297"/>
                  </a:lnTo>
                  <a:lnTo>
                    <a:pt x="641" y="293"/>
                  </a:lnTo>
                  <a:lnTo>
                    <a:pt x="664" y="289"/>
                  </a:lnTo>
                  <a:lnTo>
                    <a:pt x="781" y="289"/>
                  </a:lnTo>
                  <a:lnTo>
                    <a:pt x="889" y="283"/>
                  </a:lnTo>
                  <a:lnTo>
                    <a:pt x="1039" y="270"/>
                  </a:lnTo>
                  <a:lnTo>
                    <a:pt x="1237" y="245"/>
                  </a:lnTo>
                  <a:lnTo>
                    <a:pt x="1493" y="206"/>
                  </a:lnTo>
                  <a:lnTo>
                    <a:pt x="2295" y="49"/>
                  </a:lnTo>
                  <a:lnTo>
                    <a:pt x="2539" y="8"/>
                  </a:lnTo>
                  <a:lnTo>
                    <a:pt x="2612" y="0"/>
                  </a:lnTo>
                  <a:lnTo>
                    <a:pt x="2658" y="0"/>
                  </a:lnTo>
                  <a:lnTo>
                    <a:pt x="2687" y="6"/>
                  </a:lnTo>
                  <a:lnTo>
                    <a:pt x="2699" y="16"/>
                  </a:lnTo>
                  <a:lnTo>
                    <a:pt x="2704" y="31"/>
                  </a:lnTo>
                  <a:lnTo>
                    <a:pt x="2704" y="4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99120" y="5564160"/>
              <a:ext cx="849600" cy="790920"/>
            </a:xfrm>
            <a:custGeom>
              <a:avLst/>
              <a:gdLst/>
              <a:ahLst/>
              <a:rect l="0" t="0" r="r" b="b"/>
              <a:pathLst>
                <a:path w="2360" h="2197">
                  <a:moveTo>
                    <a:pt x="706" y="145"/>
                  </a:moveTo>
                  <a:lnTo>
                    <a:pt x="739" y="162"/>
                  </a:lnTo>
                  <a:lnTo>
                    <a:pt x="762" y="176"/>
                  </a:lnTo>
                  <a:lnTo>
                    <a:pt x="769" y="185"/>
                  </a:lnTo>
                  <a:lnTo>
                    <a:pt x="773" y="195"/>
                  </a:lnTo>
                  <a:lnTo>
                    <a:pt x="773" y="220"/>
                  </a:lnTo>
                  <a:lnTo>
                    <a:pt x="758" y="255"/>
                  </a:lnTo>
                  <a:lnTo>
                    <a:pt x="729" y="305"/>
                  </a:lnTo>
                  <a:lnTo>
                    <a:pt x="635" y="459"/>
                  </a:lnTo>
                  <a:lnTo>
                    <a:pt x="614" y="480"/>
                  </a:lnTo>
                  <a:lnTo>
                    <a:pt x="591" y="580"/>
                  </a:lnTo>
                  <a:lnTo>
                    <a:pt x="581" y="607"/>
                  </a:lnTo>
                  <a:lnTo>
                    <a:pt x="568" y="625"/>
                  </a:lnTo>
                  <a:lnTo>
                    <a:pt x="535" y="673"/>
                  </a:lnTo>
                  <a:lnTo>
                    <a:pt x="506" y="717"/>
                  </a:lnTo>
                  <a:lnTo>
                    <a:pt x="468" y="781"/>
                  </a:lnTo>
                  <a:lnTo>
                    <a:pt x="420" y="917"/>
                  </a:lnTo>
                  <a:lnTo>
                    <a:pt x="406" y="935"/>
                  </a:lnTo>
                  <a:lnTo>
                    <a:pt x="373" y="983"/>
                  </a:lnTo>
                  <a:lnTo>
                    <a:pt x="350" y="1021"/>
                  </a:lnTo>
                  <a:lnTo>
                    <a:pt x="323" y="1068"/>
                  </a:lnTo>
                  <a:lnTo>
                    <a:pt x="266" y="1203"/>
                  </a:lnTo>
                  <a:lnTo>
                    <a:pt x="233" y="1302"/>
                  </a:lnTo>
                  <a:lnTo>
                    <a:pt x="208" y="1381"/>
                  </a:lnTo>
                  <a:lnTo>
                    <a:pt x="195" y="1442"/>
                  </a:lnTo>
                  <a:lnTo>
                    <a:pt x="191" y="1483"/>
                  </a:lnTo>
                  <a:lnTo>
                    <a:pt x="200" y="1510"/>
                  </a:lnTo>
                  <a:lnTo>
                    <a:pt x="206" y="1519"/>
                  </a:lnTo>
                  <a:lnTo>
                    <a:pt x="214" y="1521"/>
                  </a:lnTo>
                  <a:lnTo>
                    <a:pt x="222" y="1523"/>
                  </a:lnTo>
                  <a:lnTo>
                    <a:pt x="235" y="1521"/>
                  </a:lnTo>
                  <a:lnTo>
                    <a:pt x="264" y="1506"/>
                  </a:lnTo>
                  <a:lnTo>
                    <a:pt x="298" y="1485"/>
                  </a:lnTo>
                  <a:lnTo>
                    <a:pt x="337" y="1456"/>
                  </a:lnTo>
                  <a:lnTo>
                    <a:pt x="423" y="1379"/>
                  </a:lnTo>
                  <a:lnTo>
                    <a:pt x="614" y="1203"/>
                  </a:lnTo>
                  <a:lnTo>
                    <a:pt x="646" y="1173"/>
                  </a:lnTo>
                  <a:lnTo>
                    <a:pt x="664" y="1153"/>
                  </a:lnTo>
                  <a:lnTo>
                    <a:pt x="685" y="1126"/>
                  </a:lnTo>
                  <a:lnTo>
                    <a:pt x="704" y="1093"/>
                  </a:lnTo>
                  <a:lnTo>
                    <a:pt x="725" y="1056"/>
                  </a:lnTo>
                  <a:lnTo>
                    <a:pt x="744" y="1010"/>
                  </a:lnTo>
                  <a:lnTo>
                    <a:pt x="758" y="956"/>
                  </a:lnTo>
                  <a:lnTo>
                    <a:pt x="787" y="838"/>
                  </a:lnTo>
                  <a:lnTo>
                    <a:pt x="798" y="786"/>
                  </a:lnTo>
                  <a:lnTo>
                    <a:pt x="806" y="771"/>
                  </a:lnTo>
                  <a:lnTo>
                    <a:pt x="825" y="750"/>
                  </a:lnTo>
                  <a:lnTo>
                    <a:pt x="833" y="746"/>
                  </a:lnTo>
                  <a:lnTo>
                    <a:pt x="831" y="702"/>
                  </a:lnTo>
                  <a:lnTo>
                    <a:pt x="831" y="669"/>
                  </a:lnTo>
                  <a:lnTo>
                    <a:pt x="837" y="642"/>
                  </a:lnTo>
                  <a:lnTo>
                    <a:pt x="846" y="623"/>
                  </a:lnTo>
                  <a:lnTo>
                    <a:pt x="856" y="613"/>
                  </a:lnTo>
                  <a:lnTo>
                    <a:pt x="864" y="605"/>
                  </a:lnTo>
                  <a:lnTo>
                    <a:pt x="881" y="598"/>
                  </a:lnTo>
                  <a:lnTo>
                    <a:pt x="902" y="582"/>
                  </a:lnTo>
                  <a:lnTo>
                    <a:pt x="887" y="546"/>
                  </a:lnTo>
                  <a:lnTo>
                    <a:pt x="885" y="534"/>
                  </a:lnTo>
                  <a:lnTo>
                    <a:pt x="885" y="519"/>
                  </a:lnTo>
                  <a:lnTo>
                    <a:pt x="908" y="476"/>
                  </a:lnTo>
                  <a:lnTo>
                    <a:pt x="964" y="388"/>
                  </a:lnTo>
                  <a:lnTo>
                    <a:pt x="998" y="338"/>
                  </a:lnTo>
                  <a:lnTo>
                    <a:pt x="1025" y="291"/>
                  </a:lnTo>
                  <a:lnTo>
                    <a:pt x="1069" y="214"/>
                  </a:lnTo>
                  <a:lnTo>
                    <a:pt x="1094" y="187"/>
                  </a:lnTo>
                  <a:lnTo>
                    <a:pt x="1119" y="172"/>
                  </a:lnTo>
                  <a:lnTo>
                    <a:pt x="1150" y="168"/>
                  </a:lnTo>
                  <a:lnTo>
                    <a:pt x="1169" y="170"/>
                  </a:lnTo>
                  <a:lnTo>
                    <a:pt x="1188" y="176"/>
                  </a:lnTo>
                  <a:lnTo>
                    <a:pt x="1197" y="189"/>
                  </a:lnTo>
                  <a:lnTo>
                    <a:pt x="1268" y="180"/>
                  </a:lnTo>
                  <a:lnTo>
                    <a:pt x="1293" y="185"/>
                  </a:lnTo>
                  <a:lnTo>
                    <a:pt x="1311" y="197"/>
                  </a:lnTo>
                  <a:lnTo>
                    <a:pt x="1324" y="232"/>
                  </a:lnTo>
                  <a:lnTo>
                    <a:pt x="1326" y="255"/>
                  </a:lnTo>
                  <a:lnTo>
                    <a:pt x="1326" y="274"/>
                  </a:lnTo>
                  <a:lnTo>
                    <a:pt x="1322" y="284"/>
                  </a:lnTo>
                  <a:lnTo>
                    <a:pt x="1316" y="301"/>
                  </a:lnTo>
                  <a:lnTo>
                    <a:pt x="1316" y="307"/>
                  </a:lnTo>
                  <a:lnTo>
                    <a:pt x="1322" y="311"/>
                  </a:lnTo>
                  <a:lnTo>
                    <a:pt x="1332" y="318"/>
                  </a:lnTo>
                  <a:lnTo>
                    <a:pt x="1347" y="322"/>
                  </a:lnTo>
                  <a:lnTo>
                    <a:pt x="1361" y="330"/>
                  </a:lnTo>
                  <a:lnTo>
                    <a:pt x="1366" y="338"/>
                  </a:lnTo>
                  <a:lnTo>
                    <a:pt x="1370" y="349"/>
                  </a:lnTo>
                  <a:lnTo>
                    <a:pt x="1370" y="366"/>
                  </a:lnTo>
                  <a:lnTo>
                    <a:pt x="1366" y="382"/>
                  </a:lnTo>
                  <a:lnTo>
                    <a:pt x="1349" y="428"/>
                  </a:lnTo>
                  <a:lnTo>
                    <a:pt x="1282" y="559"/>
                  </a:lnTo>
                  <a:lnTo>
                    <a:pt x="1177" y="763"/>
                  </a:lnTo>
                  <a:lnTo>
                    <a:pt x="1117" y="898"/>
                  </a:lnTo>
                  <a:lnTo>
                    <a:pt x="1052" y="1056"/>
                  </a:lnTo>
                  <a:lnTo>
                    <a:pt x="992" y="1223"/>
                  </a:lnTo>
                  <a:lnTo>
                    <a:pt x="948" y="1348"/>
                  </a:lnTo>
                  <a:lnTo>
                    <a:pt x="923" y="1433"/>
                  </a:lnTo>
                  <a:lnTo>
                    <a:pt x="912" y="1494"/>
                  </a:lnTo>
                  <a:lnTo>
                    <a:pt x="917" y="1531"/>
                  </a:lnTo>
                  <a:lnTo>
                    <a:pt x="923" y="1544"/>
                  </a:lnTo>
                  <a:lnTo>
                    <a:pt x="931" y="1554"/>
                  </a:lnTo>
                  <a:lnTo>
                    <a:pt x="956" y="1569"/>
                  </a:lnTo>
                  <a:lnTo>
                    <a:pt x="987" y="1585"/>
                  </a:lnTo>
                  <a:lnTo>
                    <a:pt x="1085" y="1446"/>
                  </a:lnTo>
                  <a:lnTo>
                    <a:pt x="1135" y="1381"/>
                  </a:lnTo>
                  <a:lnTo>
                    <a:pt x="1162" y="1346"/>
                  </a:lnTo>
                  <a:lnTo>
                    <a:pt x="1188" y="1296"/>
                  </a:lnTo>
                  <a:lnTo>
                    <a:pt x="1079" y="1327"/>
                  </a:lnTo>
                  <a:lnTo>
                    <a:pt x="1085" y="1296"/>
                  </a:lnTo>
                  <a:lnTo>
                    <a:pt x="1092" y="1288"/>
                  </a:lnTo>
                  <a:lnTo>
                    <a:pt x="1100" y="1279"/>
                  </a:lnTo>
                  <a:lnTo>
                    <a:pt x="1114" y="1254"/>
                  </a:lnTo>
                  <a:lnTo>
                    <a:pt x="1108" y="1240"/>
                  </a:lnTo>
                  <a:lnTo>
                    <a:pt x="1100" y="1223"/>
                  </a:lnTo>
                  <a:lnTo>
                    <a:pt x="1096" y="1209"/>
                  </a:lnTo>
                  <a:lnTo>
                    <a:pt x="1098" y="1203"/>
                  </a:lnTo>
                  <a:lnTo>
                    <a:pt x="1100" y="1196"/>
                  </a:lnTo>
                  <a:lnTo>
                    <a:pt x="1299" y="1068"/>
                  </a:lnTo>
                  <a:lnTo>
                    <a:pt x="1349" y="1035"/>
                  </a:lnTo>
                  <a:lnTo>
                    <a:pt x="1378" y="1010"/>
                  </a:lnTo>
                  <a:lnTo>
                    <a:pt x="1389" y="998"/>
                  </a:lnTo>
                  <a:lnTo>
                    <a:pt x="1397" y="985"/>
                  </a:lnTo>
                  <a:lnTo>
                    <a:pt x="1414" y="952"/>
                  </a:lnTo>
                  <a:lnTo>
                    <a:pt x="1441" y="902"/>
                  </a:lnTo>
                  <a:lnTo>
                    <a:pt x="1482" y="825"/>
                  </a:lnTo>
                  <a:lnTo>
                    <a:pt x="1561" y="738"/>
                  </a:lnTo>
                  <a:lnTo>
                    <a:pt x="1584" y="725"/>
                  </a:lnTo>
                  <a:lnTo>
                    <a:pt x="1589" y="694"/>
                  </a:lnTo>
                  <a:lnTo>
                    <a:pt x="1603" y="682"/>
                  </a:lnTo>
                  <a:lnTo>
                    <a:pt x="1641" y="646"/>
                  </a:lnTo>
                  <a:lnTo>
                    <a:pt x="1672" y="611"/>
                  </a:lnTo>
                  <a:lnTo>
                    <a:pt x="1716" y="555"/>
                  </a:lnTo>
                  <a:lnTo>
                    <a:pt x="1841" y="395"/>
                  </a:lnTo>
                  <a:lnTo>
                    <a:pt x="1895" y="338"/>
                  </a:lnTo>
                  <a:lnTo>
                    <a:pt x="1928" y="314"/>
                  </a:lnTo>
                  <a:lnTo>
                    <a:pt x="1957" y="293"/>
                  </a:lnTo>
                  <a:lnTo>
                    <a:pt x="2001" y="253"/>
                  </a:lnTo>
                  <a:lnTo>
                    <a:pt x="2016" y="237"/>
                  </a:lnTo>
                  <a:lnTo>
                    <a:pt x="2028" y="218"/>
                  </a:lnTo>
                  <a:lnTo>
                    <a:pt x="2041" y="180"/>
                  </a:lnTo>
                  <a:lnTo>
                    <a:pt x="2049" y="116"/>
                  </a:lnTo>
                  <a:lnTo>
                    <a:pt x="2055" y="91"/>
                  </a:lnTo>
                  <a:lnTo>
                    <a:pt x="2060" y="83"/>
                  </a:lnTo>
                  <a:lnTo>
                    <a:pt x="2070" y="76"/>
                  </a:lnTo>
                  <a:lnTo>
                    <a:pt x="2099" y="74"/>
                  </a:lnTo>
                  <a:lnTo>
                    <a:pt x="2149" y="85"/>
                  </a:lnTo>
                  <a:lnTo>
                    <a:pt x="2170" y="101"/>
                  </a:lnTo>
                  <a:lnTo>
                    <a:pt x="2170" y="126"/>
                  </a:lnTo>
                  <a:lnTo>
                    <a:pt x="2174" y="131"/>
                  </a:lnTo>
                  <a:lnTo>
                    <a:pt x="2180" y="133"/>
                  </a:lnTo>
                  <a:lnTo>
                    <a:pt x="2224" y="135"/>
                  </a:lnTo>
                  <a:lnTo>
                    <a:pt x="2324" y="149"/>
                  </a:lnTo>
                  <a:lnTo>
                    <a:pt x="2341" y="153"/>
                  </a:lnTo>
                  <a:lnTo>
                    <a:pt x="2351" y="162"/>
                  </a:lnTo>
                  <a:lnTo>
                    <a:pt x="2358" y="172"/>
                  </a:lnTo>
                  <a:lnTo>
                    <a:pt x="2360" y="187"/>
                  </a:lnTo>
                  <a:lnTo>
                    <a:pt x="2358" y="234"/>
                  </a:lnTo>
                  <a:lnTo>
                    <a:pt x="2343" y="309"/>
                  </a:lnTo>
                  <a:lnTo>
                    <a:pt x="2322" y="420"/>
                  </a:lnTo>
                  <a:lnTo>
                    <a:pt x="2299" y="569"/>
                  </a:lnTo>
                  <a:lnTo>
                    <a:pt x="2274" y="767"/>
                  </a:lnTo>
                  <a:lnTo>
                    <a:pt x="2255" y="1016"/>
                  </a:lnTo>
                  <a:lnTo>
                    <a:pt x="2222" y="1502"/>
                  </a:lnTo>
                  <a:lnTo>
                    <a:pt x="2185" y="1872"/>
                  </a:lnTo>
                  <a:lnTo>
                    <a:pt x="2178" y="1957"/>
                  </a:lnTo>
                  <a:lnTo>
                    <a:pt x="2174" y="2034"/>
                  </a:lnTo>
                  <a:lnTo>
                    <a:pt x="2170" y="2061"/>
                  </a:lnTo>
                  <a:lnTo>
                    <a:pt x="2164" y="2080"/>
                  </a:lnTo>
                  <a:lnTo>
                    <a:pt x="2160" y="2084"/>
                  </a:lnTo>
                  <a:lnTo>
                    <a:pt x="2153" y="2086"/>
                  </a:lnTo>
                  <a:lnTo>
                    <a:pt x="2137" y="2078"/>
                  </a:lnTo>
                  <a:lnTo>
                    <a:pt x="2137" y="2066"/>
                  </a:lnTo>
                  <a:lnTo>
                    <a:pt x="2128" y="2059"/>
                  </a:lnTo>
                  <a:lnTo>
                    <a:pt x="2122" y="1982"/>
                  </a:lnTo>
                  <a:lnTo>
                    <a:pt x="2089" y="1968"/>
                  </a:lnTo>
                  <a:lnTo>
                    <a:pt x="2074" y="1953"/>
                  </a:lnTo>
                  <a:lnTo>
                    <a:pt x="2070" y="1945"/>
                  </a:lnTo>
                  <a:lnTo>
                    <a:pt x="2070" y="1932"/>
                  </a:lnTo>
                  <a:lnTo>
                    <a:pt x="2080" y="1926"/>
                  </a:lnTo>
                  <a:lnTo>
                    <a:pt x="2089" y="1916"/>
                  </a:lnTo>
                  <a:lnTo>
                    <a:pt x="2097" y="1895"/>
                  </a:lnTo>
                  <a:lnTo>
                    <a:pt x="2099" y="1872"/>
                  </a:lnTo>
                  <a:lnTo>
                    <a:pt x="2097" y="1855"/>
                  </a:lnTo>
                  <a:lnTo>
                    <a:pt x="2074" y="1843"/>
                  </a:lnTo>
                  <a:lnTo>
                    <a:pt x="2064" y="1808"/>
                  </a:lnTo>
                  <a:lnTo>
                    <a:pt x="2062" y="1799"/>
                  </a:lnTo>
                  <a:lnTo>
                    <a:pt x="2072" y="1797"/>
                  </a:lnTo>
                  <a:lnTo>
                    <a:pt x="2080" y="1793"/>
                  </a:lnTo>
                  <a:lnTo>
                    <a:pt x="2091" y="1781"/>
                  </a:lnTo>
                  <a:lnTo>
                    <a:pt x="2093" y="1768"/>
                  </a:lnTo>
                  <a:lnTo>
                    <a:pt x="2091" y="1764"/>
                  </a:lnTo>
                  <a:lnTo>
                    <a:pt x="2053" y="1764"/>
                  </a:lnTo>
                  <a:lnTo>
                    <a:pt x="2030" y="1631"/>
                  </a:lnTo>
                  <a:lnTo>
                    <a:pt x="2018" y="1554"/>
                  </a:lnTo>
                  <a:lnTo>
                    <a:pt x="2014" y="1539"/>
                  </a:lnTo>
                  <a:lnTo>
                    <a:pt x="2010" y="1537"/>
                  </a:lnTo>
                  <a:lnTo>
                    <a:pt x="1987" y="1581"/>
                  </a:lnTo>
                  <a:lnTo>
                    <a:pt x="1970" y="1435"/>
                  </a:lnTo>
                  <a:lnTo>
                    <a:pt x="1970" y="1388"/>
                  </a:lnTo>
                  <a:lnTo>
                    <a:pt x="1978" y="1377"/>
                  </a:lnTo>
                  <a:lnTo>
                    <a:pt x="1980" y="1369"/>
                  </a:lnTo>
                  <a:lnTo>
                    <a:pt x="1982" y="1350"/>
                  </a:lnTo>
                  <a:lnTo>
                    <a:pt x="1970" y="1279"/>
                  </a:lnTo>
                  <a:lnTo>
                    <a:pt x="1964" y="1267"/>
                  </a:lnTo>
                  <a:lnTo>
                    <a:pt x="1960" y="1244"/>
                  </a:lnTo>
                  <a:lnTo>
                    <a:pt x="1960" y="1186"/>
                  </a:lnTo>
                  <a:lnTo>
                    <a:pt x="1970" y="1064"/>
                  </a:lnTo>
                  <a:lnTo>
                    <a:pt x="1976" y="1012"/>
                  </a:lnTo>
                  <a:lnTo>
                    <a:pt x="1974" y="960"/>
                  </a:lnTo>
                  <a:lnTo>
                    <a:pt x="1891" y="985"/>
                  </a:lnTo>
                  <a:lnTo>
                    <a:pt x="1828" y="1008"/>
                  </a:lnTo>
                  <a:lnTo>
                    <a:pt x="1784" y="1029"/>
                  </a:lnTo>
                  <a:lnTo>
                    <a:pt x="1755" y="1048"/>
                  </a:lnTo>
                  <a:lnTo>
                    <a:pt x="1714" y="1083"/>
                  </a:lnTo>
                  <a:lnTo>
                    <a:pt x="1695" y="1101"/>
                  </a:lnTo>
                  <a:lnTo>
                    <a:pt x="1668" y="1115"/>
                  </a:lnTo>
                  <a:lnTo>
                    <a:pt x="1612" y="1134"/>
                  </a:lnTo>
                  <a:lnTo>
                    <a:pt x="1578" y="1140"/>
                  </a:lnTo>
                  <a:lnTo>
                    <a:pt x="1559" y="1138"/>
                  </a:lnTo>
                  <a:lnTo>
                    <a:pt x="1541" y="1144"/>
                  </a:lnTo>
                  <a:lnTo>
                    <a:pt x="1534" y="1171"/>
                  </a:lnTo>
                  <a:lnTo>
                    <a:pt x="1501" y="1192"/>
                  </a:lnTo>
                  <a:lnTo>
                    <a:pt x="1493" y="1203"/>
                  </a:lnTo>
                  <a:lnTo>
                    <a:pt x="1482" y="1223"/>
                  </a:lnTo>
                  <a:lnTo>
                    <a:pt x="1459" y="1269"/>
                  </a:lnTo>
                  <a:lnTo>
                    <a:pt x="1420" y="1348"/>
                  </a:lnTo>
                  <a:lnTo>
                    <a:pt x="1355" y="1469"/>
                  </a:lnTo>
                  <a:lnTo>
                    <a:pt x="1255" y="1641"/>
                  </a:lnTo>
                  <a:lnTo>
                    <a:pt x="1154" y="1820"/>
                  </a:lnTo>
                  <a:lnTo>
                    <a:pt x="1144" y="1837"/>
                  </a:lnTo>
                  <a:lnTo>
                    <a:pt x="1137" y="1843"/>
                  </a:lnTo>
                  <a:lnTo>
                    <a:pt x="1129" y="1845"/>
                  </a:lnTo>
                  <a:lnTo>
                    <a:pt x="1119" y="1843"/>
                  </a:lnTo>
                  <a:lnTo>
                    <a:pt x="1106" y="1837"/>
                  </a:lnTo>
                  <a:lnTo>
                    <a:pt x="1100" y="1833"/>
                  </a:lnTo>
                  <a:lnTo>
                    <a:pt x="1098" y="1835"/>
                  </a:lnTo>
                  <a:lnTo>
                    <a:pt x="1092" y="1843"/>
                  </a:lnTo>
                  <a:lnTo>
                    <a:pt x="1062" y="1901"/>
                  </a:lnTo>
                  <a:lnTo>
                    <a:pt x="1033" y="1955"/>
                  </a:lnTo>
                  <a:lnTo>
                    <a:pt x="987" y="2034"/>
                  </a:lnTo>
                  <a:lnTo>
                    <a:pt x="960" y="2068"/>
                  </a:lnTo>
                  <a:lnTo>
                    <a:pt x="948" y="2080"/>
                  </a:lnTo>
                  <a:lnTo>
                    <a:pt x="933" y="2090"/>
                  </a:lnTo>
                  <a:lnTo>
                    <a:pt x="914" y="2101"/>
                  </a:lnTo>
                  <a:lnTo>
                    <a:pt x="902" y="2099"/>
                  </a:lnTo>
                  <a:lnTo>
                    <a:pt x="887" y="2076"/>
                  </a:lnTo>
                  <a:lnTo>
                    <a:pt x="885" y="2076"/>
                  </a:lnTo>
                  <a:lnTo>
                    <a:pt x="879" y="2082"/>
                  </a:lnTo>
                  <a:lnTo>
                    <a:pt x="869" y="2103"/>
                  </a:lnTo>
                  <a:lnTo>
                    <a:pt x="856" y="2120"/>
                  </a:lnTo>
                  <a:lnTo>
                    <a:pt x="841" y="2134"/>
                  </a:lnTo>
                  <a:lnTo>
                    <a:pt x="821" y="2130"/>
                  </a:lnTo>
                  <a:lnTo>
                    <a:pt x="819" y="2101"/>
                  </a:lnTo>
                  <a:lnTo>
                    <a:pt x="814" y="2088"/>
                  </a:lnTo>
                  <a:lnTo>
                    <a:pt x="808" y="2093"/>
                  </a:lnTo>
                  <a:lnTo>
                    <a:pt x="798" y="2109"/>
                  </a:lnTo>
                  <a:lnTo>
                    <a:pt x="769" y="2157"/>
                  </a:lnTo>
                  <a:lnTo>
                    <a:pt x="748" y="2180"/>
                  </a:lnTo>
                  <a:lnTo>
                    <a:pt x="723" y="2197"/>
                  </a:lnTo>
                  <a:lnTo>
                    <a:pt x="694" y="2197"/>
                  </a:lnTo>
                  <a:lnTo>
                    <a:pt x="698" y="2130"/>
                  </a:lnTo>
                  <a:lnTo>
                    <a:pt x="658" y="2126"/>
                  </a:lnTo>
                  <a:lnTo>
                    <a:pt x="668" y="2101"/>
                  </a:lnTo>
                  <a:lnTo>
                    <a:pt x="679" y="2074"/>
                  </a:lnTo>
                  <a:lnTo>
                    <a:pt x="714" y="2022"/>
                  </a:lnTo>
                  <a:lnTo>
                    <a:pt x="752" y="1970"/>
                  </a:lnTo>
                  <a:lnTo>
                    <a:pt x="785" y="1920"/>
                  </a:lnTo>
                  <a:lnTo>
                    <a:pt x="831" y="1833"/>
                  </a:lnTo>
                  <a:lnTo>
                    <a:pt x="852" y="1779"/>
                  </a:lnTo>
                  <a:lnTo>
                    <a:pt x="856" y="1762"/>
                  </a:lnTo>
                  <a:lnTo>
                    <a:pt x="856" y="1752"/>
                  </a:lnTo>
                  <a:lnTo>
                    <a:pt x="852" y="1745"/>
                  </a:lnTo>
                  <a:lnTo>
                    <a:pt x="844" y="1743"/>
                  </a:lnTo>
                  <a:lnTo>
                    <a:pt x="816" y="1747"/>
                  </a:lnTo>
                  <a:lnTo>
                    <a:pt x="783" y="1760"/>
                  </a:lnTo>
                  <a:lnTo>
                    <a:pt x="744" y="1772"/>
                  </a:lnTo>
                  <a:lnTo>
                    <a:pt x="702" y="1776"/>
                  </a:lnTo>
                  <a:lnTo>
                    <a:pt x="664" y="1772"/>
                  </a:lnTo>
                  <a:lnTo>
                    <a:pt x="635" y="1760"/>
                  </a:lnTo>
                  <a:lnTo>
                    <a:pt x="612" y="1739"/>
                  </a:lnTo>
                  <a:lnTo>
                    <a:pt x="596" y="1716"/>
                  </a:lnTo>
                  <a:lnTo>
                    <a:pt x="596" y="1672"/>
                  </a:lnTo>
                  <a:lnTo>
                    <a:pt x="593" y="1664"/>
                  </a:lnTo>
                  <a:lnTo>
                    <a:pt x="589" y="1658"/>
                  </a:lnTo>
                  <a:lnTo>
                    <a:pt x="579" y="1641"/>
                  </a:lnTo>
                  <a:lnTo>
                    <a:pt x="575" y="1606"/>
                  </a:lnTo>
                  <a:lnTo>
                    <a:pt x="579" y="1533"/>
                  </a:lnTo>
                  <a:lnTo>
                    <a:pt x="598" y="1448"/>
                  </a:lnTo>
                  <a:lnTo>
                    <a:pt x="616" y="1394"/>
                  </a:lnTo>
                  <a:lnTo>
                    <a:pt x="631" y="1367"/>
                  </a:lnTo>
                  <a:lnTo>
                    <a:pt x="631" y="1361"/>
                  </a:lnTo>
                  <a:lnTo>
                    <a:pt x="627" y="1363"/>
                  </a:lnTo>
                  <a:lnTo>
                    <a:pt x="593" y="1392"/>
                  </a:lnTo>
                  <a:lnTo>
                    <a:pt x="552" y="1435"/>
                  </a:lnTo>
                  <a:lnTo>
                    <a:pt x="454" y="1544"/>
                  </a:lnTo>
                  <a:lnTo>
                    <a:pt x="398" y="1598"/>
                  </a:lnTo>
                  <a:lnTo>
                    <a:pt x="341" y="1643"/>
                  </a:lnTo>
                  <a:lnTo>
                    <a:pt x="310" y="1662"/>
                  </a:lnTo>
                  <a:lnTo>
                    <a:pt x="281" y="1675"/>
                  </a:lnTo>
                  <a:lnTo>
                    <a:pt x="250" y="1687"/>
                  </a:lnTo>
                  <a:lnTo>
                    <a:pt x="218" y="1689"/>
                  </a:lnTo>
                  <a:lnTo>
                    <a:pt x="166" y="1689"/>
                  </a:lnTo>
                  <a:lnTo>
                    <a:pt x="143" y="1683"/>
                  </a:lnTo>
                  <a:lnTo>
                    <a:pt x="120" y="1677"/>
                  </a:lnTo>
                  <a:lnTo>
                    <a:pt x="102" y="1668"/>
                  </a:lnTo>
                  <a:lnTo>
                    <a:pt x="83" y="1658"/>
                  </a:lnTo>
                  <a:lnTo>
                    <a:pt x="68" y="1645"/>
                  </a:lnTo>
                  <a:lnTo>
                    <a:pt x="56" y="1631"/>
                  </a:lnTo>
                  <a:lnTo>
                    <a:pt x="33" y="1600"/>
                  </a:lnTo>
                  <a:lnTo>
                    <a:pt x="16" y="1562"/>
                  </a:lnTo>
                  <a:lnTo>
                    <a:pt x="8" y="1523"/>
                  </a:lnTo>
                  <a:lnTo>
                    <a:pt x="2" y="1479"/>
                  </a:lnTo>
                  <a:lnTo>
                    <a:pt x="0" y="1435"/>
                  </a:lnTo>
                  <a:lnTo>
                    <a:pt x="2" y="1390"/>
                  </a:lnTo>
                  <a:lnTo>
                    <a:pt x="12" y="1304"/>
                  </a:lnTo>
                  <a:lnTo>
                    <a:pt x="29" y="1230"/>
                  </a:lnTo>
                  <a:lnTo>
                    <a:pt x="43" y="1175"/>
                  </a:lnTo>
                  <a:lnTo>
                    <a:pt x="72" y="1075"/>
                  </a:lnTo>
                  <a:lnTo>
                    <a:pt x="87" y="1016"/>
                  </a:lnTo>
                  <a:lnTo>
                    <a:pt x="110" y="944"/>
                  </a:lnTo>
                  <a:lnTo>
                    <a:pt x="143" y="850"/>
                  </a:lnTo>
                  <a:lnTo>
                    <a:pt x="189" y="727"/>
                  </a:lnTo>
                  <a:lnTo>
                    <a:pt x="341" y="372"/>
                  </a:lnTo>
                  <a:lnTo>
                    <a:pt x="377" y="301"/>
                  </a:lnTo>
                  <a:lnTo>
                    <a:pt x="402" y="257"/>
                  </a:lnTo>
                  <a:lnTo>
                    <a:pt x="431" y="193"/>
                  </a:lnTo>
                  <a:lnTo>
                    <a:pt x="460" y="133"/>
                  </a:lnTo>
                  <a:lnTo>
                    <a:pt x="487" y="89"/>
                  </a:lnTo>
                  <a:lnTo>
                    <a:pt x="510" y="64"/>
                  </a:lnTo>
                  <a:lnTo>
                    <a:pt x="533" y="45"/>
                  </a:lnTo>
                  <a:lnTo>
                    <a:pt x="550" y="35"/>
                  </a:lnTo>
                  <a:lnTo>
                    <a:pt x="566" y="31"/>
                  </a:lnTo>
                  <a:lnTo>
                    <a:pt x="591" y="31"/>
                  </a:lnTo>
                  <a:lnTo>
                    <a:pt x="606" y="33"/>
                  </a:lnTo>
                  <a:lnTo>
                    <a:pt x="616" y="24"/>
                  </a:lnTo>
                  <a:lnTo>
                    <a:pt x="627" y="10"/>
                  </a:lnTo>
                  <a:lnTo>
                    <a:pt x="641" y="0"/>
                  </a:lnTo>
                  <a:lnTo>
                    <a:pt x="662" y="2"/>
                  </a:lnTo>
                  <a:lnTo>
                    <a:pt x="673" y="8"/>
                  </a:lnTo>
                  <a:lnTo>
                    <a:pt x="679" y="16"/>
                  </a:lnTo>
                  <a:lnTo>
                    <a:pt x="683" y="33"/>
                  </a:lnTo>
                  <a:lnTo>
                    <a:pt x="687" y="72"/>
                  </a:lnTo>
                  <a:lnTo>
                    <a:pt x="698" y="83"/>
                  </a:lnTo>
                  <a:lnTo>
                    <a:pt x="708" y="93"/>
                  </a:lnTo>
                  <a:lnTo>
                    <a:pt x="712" y="112"/>
                  </a:lnTo>
                  <a:lnTo>
                    <a:pt x="706" y="14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826400" y="5580000"/>
              <a:ext cx="981360" cy="908280"/>
            </a:xfrm>
            <a:custGeom>
              <a:avLst/>
              <a:gdLst/>
              <a:ahLst/>
              <a:rect l="0" t="0" r="r" b="b"/>
              <a:pathLst>
                <a:path w="2726" h="2523">
                  <a:moveTo>
                    <a:pt x="2599" y="2235"/>
                  </a:moveTo>
                  <a:lnTo>
                    <a:pt x="2582" y="2246"/>
                  </a:lnTo>
                  <a:lnTo>
                    <a:pt x="2567" y="2252"/>
                  </a:lnTo>
                  <a:lnTo>
                    <a:pt x="2555" y="2250"/>
                  </a:lnTo>
                  <a:lnTo>
                    <a:pt x="2540" y="2244"/>
                  </a:lnTo>
                  <a:lnTo>
                    <a:pt x="2503" y="2208"/>
                  </a:lnTo>
                  <a:lnTo>
                    <a:pt x="2432" y="2148"/>
                  </a:lnTo>
                  <a:lnTo>
                    <a:pt x="2038" y="1831"/>
                  </a:lnTo>
                  <a:lnTo>
                    <a:pt x="1929" y="1748"/>
                  </a:lnTo>
                  <a:lnTo>
                    <a:pt x="1823" y="1671"/>
                  </a:lnTo>
                  <a:lnTo>
                    <a:pt x="1771" y="1633"/>
                  </a:lnTo>
                  <a:lnTo>
                    <a:pt x="1731" y="1598"/>
                  </a:lnTo>
                  <a:lnTo>
                    <a:pt x="1698" y="1567"/>
                  </a:lnTo>
                  <a:lnTo>
                    <a:pt x="1673" y="1540"/>
                  </a:lnTo>
                  <a:lnTo>
                    <a:pt x="1635" y="1494"/>
                  </a:lnTo>
                  <a:lnTo>
                    <a:pt x="1623" y="1479"/>
                  </a:lnTo>
                  <a:lnTo>
                    <a:pt x="1608" y="1465"/>
                  </a:lnTo>
                  <a:lnTo>
                    <a:pt x="1554" y="1444"/>
                  </a:lnTo>
                  <a:lnTo>
                    <a:pt x="1402" y="1269"/>
                  </a:lnTo>
                  <a:lnTo>
                    <a:pt x="1361" y="1224"/>
                  </a:lnTo>
                  <a:lnTo>
                    <a:pt x="1340" y="1203"/>
                  </a:lnTo>
                  <a:lnTo>
                    <a:pt x="1324" y="1193"/>
                  </a:lnTo>
                  <a:lnTo>
                    <a:pt x="1303" y="1208"/>
                  </a:lnTo>
                  <a:lnTo>
                    <a:pt x="1082" y="1047"/>
                  </a:lnTo>
                  <a:lnTo>
                    <a:pt x="1009" y="999"/>
                  </a:lnTo>
                  <a:lnTo>
                    <a:pt x="1011" y="1001"/>
                  </a:lnTo>
                  <a:lnTo>
                    <a:pt x="1025" y="1016"/>
                  </a:lnTo>
                  <a:lnTo>
                    <a:pt x="1067" y="1058"/>
                  </a:lnTo>
                  <a:lnTo>
                    <a:pt x="1084" y="1081"/>
                  </a:lnTo>
                  <a:lnTo>
                    <a:pt x="1086" y="1089"/>
                  </a:lnTo>
                  <a:lnTo>
                    <a:pt x="1084" y="1091"/>
                  </a:lnTo>
                  <a:lnTo>
                    <a:pt x="1088" y="1097"/>
                  </a:lnTo>
                  <a:lnTo>
                    <a:pt x="1144" y="1153"/>
                  </a:lnTo>
                  <a:lnTo>
                    <a:pt x="1330" y="1321"/>
                  </a:lnTo>
                  <a:lnTo>
                    <a:pt x="1420" y="1398"/>
                  </a:lnTo>
                  <a:lnTo>
                    <a:pt x="1460" y="1429"/>
                  </a:lnTo>
                  <a:lnTo>
                    <a:pt x="1468" y="1438"/>
                  </a:lnTo>
                  <a:lnTo>
                    <a:pt x="1458" y="1444"/>
                  </a:lnTo>
                  <a:lnTo>
                    <a:pt x="1450" y="1448"/>
                  </a:lnTo>
                  <a:lnTo>
                    <a:pt x="1441" y="1450"/>
                  </a:lnTo>
                  <a:lnTo>
                    <a:pt x="1439" y="1448"/>
                  </a:lnTo>
                  <a:lnTo>
                    <a:pt x="1464" y="1463"/>
                  </a:lnTo>
                  <a:lnTo>
                    <a:pt x="1531" y="1513"/>
                  </a:lnTo>
                  <a:lnTo>
                    <a:pt x="1898" y="1811"/>
                  </a:lnTo>
                  <a:lnTo>
                    <a:pt x="1967" y="1871"/>
                  </a:lnTo>
                  <a:lnTo>
                    <a:pt x="1996" y="1898"/>
                  </a:lnTo>
                  <a:lnTo>
                    <a:pt x="2031" y="1938"/>
                  </a:lnTo>
                  <a:lnTo>
                    <a:pt x="2090" y="1990"/>
                  </a:lnTo>
                  <a:lnTo>
                    <a:pt x="2209" y="2094"/>
                  </a:lnTo>
                  <a:lnTo>
                    <a:pt x="2563" y="2408"/>
                  </a:lnTo>
                  <a:lnTo>
                    <a:pt x="2726" y="2512"/>
                  </a:lnTo>
                  <a:lnTo>
                    <a:pt x="2724" y="2521"/>
                  </a:lnTo>
                  <a:lnTo>
                    <a:pt x="2719" y="2523"/>
                  </a:lnTo>
                  <a:lnTo>
                    <a:pt x="2703" y="2523"/>
                  </a:lnTo>
                  <a:lnTo>
                    <a:pt x="2678" y="2512"/>
                  </a:lnTo>
                  <a:lnTo>
                    <a:pt x="2644" y="2494"/>
                  </a:lnTo>
                  <a:lnTo>
                    <a:pt x="2603" y="2469"/>
                  </a:lnTo>
                  <a:lnTo>
                    <a:pt x="2557" y="2435"/>
                  </a:lnTo>
                  <a:lnTo>
                    <a:pt x="2448" y="2356"/>
                  </a:lnTo>
                  <a:lnTo>
                    <a:pt x="2223" y="2181"/>
                  </a:lnTo>
                  <a:lnTo>
                    <a:pt x="2121" y="2104"/>
                  </a:lnTo>
                  <a:lnTo>
                    <a:pt x="2042" y="2046"/>
                  </a:lnTo>
                  <a:lnTo>
                    <a:pt x="1913" y="1954"/>
                  </a:lnTo>
                  <a:lnTo>
                    <a:pt x="1825" y="1883"/>
                  </a:lnTo>
                  <a:lnTo>
                    <a:pt x="1760" y="1823"/>
                  </a:lnTo>
                  <a:lnTo>
                    <a:pt x="1708" y="1767"/>
                  </a:lnTo>
                  <a:lnTo>
                    <a:pt x="1652" y="1708"/>
                  </a:lnTo>
                  <a:lnTo>
                    <a:pt x="1577" y="1638"/>
                  </a:lnTo>
                  <a:lnTo>
                    <a:pt x="1529" y="1596"/>
                  </a:lnTo>
                  <a:lnTo>
                    <a:pt x="1468" y="1550"/>
                  </a:lnTo>
                  <a:lnTo>
                    <a:pt x="1311" y="1436"/>
                  </a:lnTo>
                  <a:lnTo>
                    <a:pt x="1259" y="1417"/>
                  </a:lnTo>
                  <a:lnTo>
                    <a:pt x="1180" y="1325"/>
                  </a:lnTo>
                  <a:lnTo>
                    <a:pt x="1171" y="1286"/>
                  </a:lnTo>
                  <a:lnTo>
                    <a:pt x="1134" y="1258"/>
                  </a:lnTo>
                  <a:lnTo>
                    <a:pt x="1100" y="1230"/>
                  </a:lnTo>
                  <a:lnTo>
                    <a:pt x="1050" y="1180"/>
                  </a:lnTo>
                  <a:lnTo>
                    <a:pt x="1009" y="1143"/>
                  </a:lnTo>
                  <a:lnTo>
                    <a:pt x="988" y="1128"/>
                  </a:lnTo>
                  <a:lnTo>
                    <a:pt x="969" y="1120"/>
                  </a:lnTo>
                  <a:lnTo>
                    <a:pt x="917" y="1114"/>
                  </a:lnTo>
                  <a:lnTo>
                    <a:pt x="884" y="1074"/>
                  </a:lnTo>
                  <a:lnTo>
                    <a:pt x="859" y="1049"/>
                  </a:lnTo>
                  <a:lnTo>
                    <a:pt x="821" y="1028"/>
                  </a:lnTo>
                  <a:lnTo>
                    <a:pt x="813" y="1024"/>
                  </a:lnTo>
                  <a:lnTo>
                    <a:pt x="813" y="1018"/>
                  </a:lnTo>
                  <a:lnTo>
                    <a:pt x="838" y="985"/>
                  </a:lnTo>
                  <a:lnTo>
                    <a:pt x="846" y="974"/>
                  </a:lnTo>
                  <a:lnTo>
                    <a:pt x="852" y="964"/>
                  </a:lnTo>
                  <a:lnTo>
                    <a:pt x="856" y="949"/>
                  </a:lnTo>
                  <a:lnTo>
                    <a:pt x="861" y="945"/>
                  </a:lnTo>
                  <a:lnTo>
                    <a:pt x="867" y="941"/>
                  </a:lnTo>
                  <a:lnTo>
                    <a:pt x="892" y="941"/>
                  </a:lnTo>
                  <a:lnTo>
                    <a:pt x="917" y="953"/>
                  </a:lnTo>
                  <a:lnTo>
                    <a:pt x="948" y="949"/>
                  </a:lnTo>
                  <a:lnTo>
                    <a:pt x="971" y="941"/>
                  </a:lnTo>
                  <a:lnTo>
                    <a:pt x="982" y="935"/>
                  </a:lnTo>
                  <a:lnTo>
                    <a:pt x="988" y="926"/>
                  </a:lnTo>
                  <a:lnTo>
                    <a:pt x="986" y="916"/>
                  </a:lnTo>
                  <a:lnTo>
                    <a:pt x="979" y="906"/>
                  </a:lnTo>
                  <a:lnTo>
                    <a:pt x="954" y="885"/>
                  </a:lnTo>
                  <a:lnTo>
                    <a:pt x="927" y="858"/>
                  </a:lnTo>
                  <a:lnTo>
                    <a:pt x="907" y="831"/>
                  </a:lnTo>
                  <a:lnTo>
                    <a:pt x="900" y="818"/>
                  </a:lnTo>
                  <a:lnTo>
                    <a:pt x="900" y="803"/>
                  </a:lnTo>
                  <a:lnTo>
                    <a:pt x="907" y="789"/>
                  </a:lnTo>
                  <a:lnTo>
                    <a:pt x="921" y="774"/>
                  </a:lnTo>
                  <a:lnTo>
                    <a:pt x="936" y="770"/>
                  </a:lnTo>
                  <a:lnTo>
                    <a:pt x="950" y="774"/>
                  </a:lnTo>
                  <a:lnTo>
                    <a:pt x="967" y="785"/>
                  </a:lnTo>
                  <a:lnTo>
                    <a:pt x="982" y="799"/>
                  </a:lnTo>
                  <a:lnTo>
                    <a:pt x="1017" y="833"/>
                  </a:lnTo>
                  <a:lnTo>
                    <a:pt x="1030" y="847"/>
                  </a:lnTo>
                  <a:lnTo>
                    <a:pt x="1044" y="853"/>
                  </a:lnTo>
                  <a:lnTo>
                    <a:pt x="1100" y="845"/>
                  </a:lnTo>
                  <a:lnTo>
                    <a:pt x="1132" y="858"/>
                  </a:lnTo>
                  <a:lnTo>
                    <a:pt x="1265" y="683"/>
                  </a:lnTo>
                  <a:lnTo>
                    <a:pt x="1307" y="622"/>
                  </a:lnTo>
                  <a:lnTo>
                    <a:pt x="1330" y="574"/>
                  </a:lnTo>
                  <a:lnTo>
                    <a:pt x="1336" y="556"/>
                  </a:lnTo>
                  <a:lnTo>
                    <a:pt x="1336" y="537"/>
                  </a:lnTo>
                  <a:lnTo>
                    <a:pt x="1334" y="522"/>
                  </a:lnTo>
                  <a:lnTo>
                    <a:pt x="1328" y="506"/>
                  </a:lnTo>
                  <a:lnTo>
                    <a:pt x="1315" y="493"/>
                  </a:lnTo>
                  <a:lnTo>
                    <a:pt x="1303" y="479"/>
                  </a:lnTo>
                  <a:lnTo>
                    <a:pt x="1259" y="451"/>
                  </a:lnTo>
                  <a:lnTo>
                    <a:pt x="1228" y="437"/>
                  </a:lnTo>
                  <a:lnTo>
                    <a:pt x="1196" y="426"/>
                  </a:lnTo>
                  <a:lnTo>
                    <a:pt x="1134" y="414"/>
                  </a:lnTo>
                  <a:lnTo>
                    <a:pt x="1071" y="412"/>
                  </a:lnTo>
                  <a:lnTo>
                    <a:pt x="1013" y="418"/>
                  </a:lnTo>
                  <a:lnTo>
                    <a:pt x="963" y="429"/>
                  </a:lnTo>
                  <a:lnTo>
                    <a:pt x="923" y="439"/>
                  </a:lnTo>
                  <a:lnTo>
                    <a:pt x="898" y="449"/>
                  </a:lnTo>
                  <a:lnTo>
                    <a:pt x="886" y="456"/>
                  </a:lnTo>
                  <a:lnTo>
                    <a:pt x="859" y="526"/>
                  </a:lnTo>
                  <a:lnTo>
                    <a:pt x="838" y="579"/>
                  </a:lnTo>
                  <a:lnTo>
                    <a:pt x="829" y="595"/>
                  </a:lnTo>
                  <a:lnTo>
                    <a:pt x="821" y="604"/>
                  </a:lnTo>
                  <a:lnTo>
                    <a:pt x="813" y="604"/>
                  </a:lnTo>
                  <a:lnTo>
                    <a:pt x="802" y="595"/>
                  </a:lnTo>
                  <a:lnTo>
                    <a:pt x="802" y="572"/>
                  </a:lnTo>
                  <a:lnTo>
                    <a:pt x="794" y="574"/>
                  </a:lnTo>
                  <a:lnTo>
                    <a:pt x="786" y="581"/>
                  </a:lnTo>
                  <a:lnTo>
                    <a:pt x="769" y="604"/>
                  </a:lnTo>
                  <a:lnTo>
                    <a:pt x="742" y="674"/>
                  </a:lnTo>
                  <a:lnTo>
                    <a:pt x="719" y="754"/>
                  </a:lnTo>
                  <a:lnTo>
                    <a:pt x="706" y="789"/>
                  </a:lnTo>
                  <a:lnTo>
                    <a:pt x="694" y="814"/>
                  </a:lnTo>
                  <a:lnTo>
                    <a:pt x="677" y="810"/>
                  </a:lnTo>
                  <a:lnTo>
                    <a:pt x="669" y="816"/>
                  </a:lnTo>
                  <a:lnTo>
                    <a:pt x="658" y="835"/>
                  </a:lnTo>
                  <a:lnTo>
                    <a:pt x="602" y="1035"/>
                  </a:lnTo>
                  <a:lnTo>
                    <a:pt x="558" y="1212"/>
                  </a:lnTo>
                  <a:lnTo>
                    <a:pt x="496" y="1500"/>
                  </a:lnTo>
                  <a:lnTo>
                    <a:pt x="475" y="1608"/>
                  </a:lnTo>
                  <a:lnTo>
                    <a:pt x="454" y="1690"/>
                  </a:lnTo>
                  <a:lnTo>
                    <a:pt x="444" y="1723"/>
                  </a:lnTo>
                  <a:lnTo>
                    <a:pt x="433" y="1746"/>
                  </a:lnTo>
                  <a:lnTo>
                    <a:pt x="421" y="1765"/>
                  </a:lnTo>
                  <a:lnTo>
                    <a:pt x="408" y="1775"/>
                  </a:lnTo>
                  <a:lnTo>
                    <a:pt x="391" y="1767"/>
                  </a:lnTo>
                  <a:lnTo>
                    <a:pt x="391" y="1675"/>
                  </a:lnTo>
                  <a:lnTo>
                    <a:pt x="193" y="2110"/>
                  </a:lnTo>
                  <a:lnTo>
                    <a:pt x="185" y="2017"/>
                  </a:lnTo>
                  <a:lnTo>
                    <a:pt x="150" y="2021"/>
                  </a:lnTo>
                  <a:lnTo>
                    <a:pt x="100" y="2171"/>
                  </a:lnTo>
                  <a:lnTo>
                    <a:pt x="87" y="2200"/>
                  </a:lnTo>
                  <a:lnTo>
                    <a:pt x="83" y="2206"/>
                  </a:lnTo>
                  <a:lnTo>
                    <a:pt x="79" y="2206"/>
                  </a:lnTo>
                  <a:lnTo>
                    <a:pt x="77" y="2185"/>
                  </a:lnTo>
                  <a:lnTo>
                    <a:pt x="75" y="2156"/>
                  </a:lnTo>
                  <a:lnTo>
                    <a:pt x="70" y="2158"/>
                  </a:lnTo>
                  <a:lnTo>
                    <a:pt x="62" y="2171"/>
                  </a:lnTo>
                  <a:lnTo>
                    <a:pt x="50" y="2188"/>
                  </a:lnTo>
                  <a:lnTo>
                    <a:pt x="37" y="2200"/>
                  </a:lnTo>
                  <a:lnTo>
                    <a:pt x="22" y="2200"/>
                  </a:lnTo>
                  <a:lnTo>
                    <a:pt x="16" y="2192"/>
                  </a:lnTo>
                  <a:lnTo>
                    <a:pt x="12" y="2177"/>
                  </a:lnTo>
                  <a:lnTo>
                    <a:pt x="4" y="2127"/>
                  </a:lnTo>
                  <a:lnTo>
                    <a:pt x="0" y="2038"/>
                  </a:lnTo>
                  <a:lnTo>
                    <a:pt x="4" y="2013"/>
                  </a:lnTo>
                  <a:lnTo>
                    <a:pt x="14" y="1979"/>
                  </a:lnTo>
                  <a:lnTo>
                    <a:pt x="45" y="1913"/>
                  </a:lnTo>
                  <a:lnTo>
                    <a:pt x="77" y="1854"/>
                  </a:lnTo>
                  <a:lnTo>
                    <a:pt x="93" y="1827"/>
                  </a:lnTo>
                  <a:lnTo>
                    <a:pt x="110" y="1819"/>
                  </a:lnTo>
                  <a:lnTo>
                    <a:pt x="110" y="1731"/>
                  </a:lnTo>
                  <a:lnTo>
                    <a:pt x="112" y="1727"/>
                  </a:lnTo>
                  <a:lnTo>
                    <a:pt x="118" y="1723"/>
                  </a:lnTo>
                  <a:lnTo>
                    <a:pt x="129" y="1719"/>
                  </a:lnTo>
                  <a:lnTo>
                    <a:pt x="141" y="1711"/>
                  </a:lnTo>
                  <a:lnTo>
                    <a:pt x="118" y="1679"/>
                  </a:lnTo>
                  <a:lnTo>
                    <a:pt x="183" y="1511"/>
                  </a:lnTo>
                  <a:lnTo>
                    <a:pt x="198" y="1469"/>
                  </a:lnTo>
                  <a:lnTo>
                    <a:pt x="198" y="1471"/>
                  </a:lnTo>
                  <a:lnTo>
                    <a:pt x="204" y="1475"/>
                  </a:lnTo>
                  <a:lnTo>
                    <a:pt x="214" y="1467"/>
                  </a:lnTo>
                  <a:lnTo>
                    <a:pt x="227" y="1456"/>
                  </a:lnTo>
                  <a:lnTo>
                    <a:pt x="241" y="1440"/>
                  </a:lnTo>
                  <a:lnTo>
                    <a:pt x="252" y="1423"/>
                  </a:lnTo>
                  <a:lnTo>
                    <a:pt x="254" y="1415"/>
                  </a:lnTo>
                  <a:lnTo>
                    <a:pt x="252" y="1411"/>
                  </a:lnTo>
                  <a:lnTo>
                    <a:pt x="246" y="1404"/>
                  </a:lnTo>
                  <a:lnTo>
                    <a:pt x="239" y="1392"/>
                  </a:lnTo>
                  <a:lnTo>
                    <a:pt x="237" y="1375"/>
                  </a:lnTo>
                  <a:lnTo>
                    <a:pt x="243" y="1346"/>
                  </a:lnTo>
                  <a:lnTo>
                    <a:pt x="254" y="1300"/>
                  </a:lnTo>
                  <a:lnTo>
                    <a:pt x="379" y="928"/>
                  </a:lnTo>
                  <a:lnTo>
                    <a:pt x="439" y="760"/>
                  </a:lnTo>
                  <a:lnTo>
                    <a:pt x="471" y="685"/>
                  </a:lnTo>
                  <a:lnTo>
                    <a:pt x="506" y="587"/>
                  </a:lnTo>
                  <a:lnTo>
                    <a:pt x="448" y="612"/>
                  </a:lnTo>
                  <a:lnTo>
                    <a:pt x="379" y="643"/>
                  </a:lnTo>
                  <a:lnTo>
                    <a:pt x="344" y="654"/>
                  </a:lnTo>
                  <a:lnTo>
                    <a:pt x="312" y="662"/>
                  </a:lnTo>
                  <a:lnTo>
                    <a:pt x="300" y="662"/>
                  </a:lnTo>
                  <a:lnTo>
                    <a:pt x="287" y="658"/>
                  </a:lnTo>
                  <a:lnTo>
                    <a:pt x="277" y="654"/>
                  </a:lnTo>
                  <a:lnTo>
                    <a:pt x="268" y="643"/>
                  </a:lnTo>
                  <a:lnTo>
                    <a:pt x="260" y="608"/>
                  </a:lnTo>
                  <a:lnTo>
                    <a:pt x="158" y="599"/>
                  </a:lnTo>
                  <a:lnTo>
                    <a:pt x="150" y="562"/>
                  </a:lnTo>
                  <a:lnTo>
                    <a:pt x="135" y="545"/>
                  </a:lnTo>
                  <a:lnTo>
                    <a:pt x="118" y="539"/>
                  </a:lnTo>
                  <a:lnTo>
                    <a:pt x="102" y="539"/>
                  </a:lnTo>
                  <a:lnTo>
                    <a:pt x="87" y="539"/>
                  </a:lnTo>
                  <a:lnTo>
                    <a:pt x="81" y="537"/>
                  </a:lnTo>
                  <a:lnTo>
                    <a:pt x="77" y="531"/>
                  </a:lnTo>
                  <a:lnTo>
                    <a:pt x="70" y="512"/>
                  </a:lnTo>
                  <a:lnTo>
                    <a:pt x="70" y="472"/>
                  </a:lnTo>
                  <a:lnTo>
                    <a:pt x="77" y="429"/>
                  </a:lnTo>
                  <a:lnTo>
                    <a:pt x="81" y="416"/>
                  </a:lnTo>
                  <a:lnTo>
                    <a:pt x="100" y="416"/>
                  </a:lnTo>
                  <a:lnTo>
                    <a:pt x="137" y="408"/>
                  </a:lnTo>
                  <a:lnTo>
                    <a:pt x="158" y="397"/>
                  </a:lnTo>
                  <a:lnTo>
                    <a:pt x="164" y="391"/>
                  </a:lnTo>
                  <a:lnTo>
                    <a:pt x="170" y="383"/>
                  </a:lnTo>
                  <a:lnTo>
                    <a:pt x="181" y="368"/>
                  </a:lnTo>
                  <a:lnTo>
                    <a:pt x="187" y="349"/>
                  </a:lnTo>
                  <a:lnTo>
                    <a:pt x="200" y="314"/>
                  </a:lnTo>
                  <a:lnTo>
                    <a:pt x="212" y="297"/>
                  </a:lnTo>
                  <a:lnTo>
                    <a:pt x="229" y="285"/>
                  </a:lnTo>
                  <a:lnTo>
                    <a:pt x="369" y="222"/>
                  </a:lnTo>
                  <a:lnTo>
                    <a:pt x="562" y="149"/>
                  </a:lnTo>
                  <a:lnTo>
                    <a:pt x="746" y="87"/>
                  </a:lnTo>
                  <a:lnTo>
                    <a:pt x="813" y="68"/>
                  </a:lnTo>
                  <a:lnTo>
                    <a:pt x="856" y="58"/>
                  </a:lnTo>
                  <a:lnTo>
                    <a:pt x="948" y="54"/>
                  </a:lnTo>
                  <a:lnTo>
                    <a:pt x="1005" y="49"/>
                  </a:lnTo>
                  <a:lnTo>
                    <a:pt x="1027" y="45"/>
                  </a:lnTo>
                  <a:lnTo>
                    <a:pt x="1044" y="39"/>
                  </a:lnTo>
                  <a:lnTo>
                    <a:pt x="1080" y="10"/>
                  </a:lnTo>
                  <a:lnTo>
                    <a:pt x="1142" y="4"/>
                  </a:lnTo>
                  <a:lnTo>
                    <a:pt x="1192" y="0"/>
                  </a:lnTo>
                  <a:lnTo>
                    <a:pt x="1251" y="0"/>
                  </a:lnTo>
                  <a:lnTo>
                    <a:pt x="1315" y="6"/>
                  </a:lnTo>
                  <a:lnTo>
                    <a:pt x="1387" y="20"/>
                  </a:lnTo>
                  <a:lnTo>
                    <a:pt x="1458" y="43"/>
                  </a:lnTo>
                  <a:lnTo>
                    <a:pt x="1493" y="60"/>
                  </a:lnTo>
                  <a:lnTo>
                    <a:pt x="1529" y="79"/>
                  </a:lnTo>
                  <a:lnTo>
                    <a:pt x="1596" y="129"/>
                  </a:lnTo>
                  <a:lnTo>
                    <a:pt x="1652" y="179"/>
                  </a:lnTo>
                  <a:lnTo>
                    <a:pt x="1698" y="233"/>
                  </a:lnTo>
                  <a:lnTo>
                    <a:pt x="1733" y="289"/>
                  </a:lnTo>
                  <a:lnTo>
                    <a:pt x="1758" y="347"/>
                  </a:lnTo>
                  <a:lnTo>
                    <a:pt x="1769" y="408"/>
                  </a:lnTo>
                  <a:lnTo>
                    <a:pt x="1771" y="439"/>
                  </a:lnTo>
                  <a:lnTo>
                    <a:pt x="1771" y="468"/>
                  </a:lnTo>
                  <a:lnTo>
                    <a:pt x="1769" y="499"/>
                  </a:lnTo>
                  <a:lnTo>
                    <a:pt x="1760" y="531"/>
                  </a:lnTo>
                  <a:lnTo>
                    <a:pt x="1742" y="593"/>
                  </a:lnTo>
                  <a:lnTo>
                    <a:pt x="1710" y="654"/>
                  </a:lnTo>
                  <a:lnTo>
                    <a:pt x="1671" y="716"/>
                  </a:lnTo>
                  <a:lnTo>
                    <a:pt x="1644" y="747"/>
                  </a:lnTo>
                  <a:lnTo>
                    <a:pt x="1616" y="776"/>
                  </a:lnTo>
                  <a:lnTo>
                    <a:pt x="1587" y="806"/>
                  </a:lnTo>
                  <a:lnTo>
                    <a:pt x="1554" y="837"/>
                  </a:lnTo>
                  <a:lnTo>
                    <a:pt x="1481" y="895"/>
                  </a:lnTo>
                  <a:lnTo>
                    <a:pt x="1439" y="924"/>
                  </a:lnTo>
                  <a:lnTo>
                    <a:pt x="1395" y="951"/>
                  </a:lnTo>
                  <a:lnTo>
                    <a:pt x="1299" y="1006"/>
                  </a:lnTo>
                  <a:lnTo>
                    <a:pt x="1425" y="1128"/>
                  </a:lnTo>
                  <a:lnTo>
                    <a:pt x="1443" y="1151"/>
                  </a:lnTo>
                  <a:lnTo>
                    <a:pt x="1458" y="1174"/>
                  </a:lnTo>
                  <a:lnTo>
                    <a:pt x="1568" y="1309"/>
                  </a:lnTo>
                  <a:lnTo>
                    <a:pt x="1612" y="1356"/>
                  </a:lnTo>
                  <a:lnTo>
                    <a:pt x="1646" y="1390"/>
                  </a:lnTo>
                  <a:lnTo>
                    <a:pt x="1673" y="1413"/>
                  </a:lnTo>
                  <a:lnTo>
                    <a:pt x="1694" y="1427"/>
                  </a:lnTo>
                  <a:lnTo>
                    <a:pt x="1729" y="1444"/>
                  </a:lnTo>
                  <a:lnTo>
                    <a:pt x="1746" y="1452"/>
                  </a:lnTo>
                  <a:lnTo>
                    <a:pt x="1764" y="1465"/>
                  </a:lnTo>
                  <a:lnTo>
                    <a:pt x="1865" y="1583"/>
                  </a:lnTo>
                  <a:lnTo>
                    <a:pt x="2038" y="1719"/>
                  </a:lnTo>
                  <a:lnTo>
                    <a:pt x="2146" y="1827"/>
                  </a:lnTo>
                  <a:lnTo>
                    <a:pt x="2225" y="1906"/>
                  </a:lnTo>
                  <a:lnTo>
                    <a:pt x="2292" y="1963"/>
                  </a:lnTo>
                  <a:lnTo>
                    <a:pt x="2446" y="2085"/>
                  </a:lnTo>
                  <a:lnTo>
                    <a:pt x="2534" y="2156"/>
                  </a:lnTo>
                  <a:lnTo>
                    <a:pt x="2559" y="2179"/>
                  </a:lnTo>
                  <a:lnTo>
                    <a:pt x="2578" y="2198"/>
                  </a:lnTo>
                  <a:lnTo>
                    <a:pt x="2590" y="2217"/>
                  </a:lnTo>
                  <a:lnTo>
                    <a:pt x="2599" y="223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76800" y="5589720"/>
              <a:ext cx="503640" cy="748080"/>
            </a:xfrm>
            <a:custGeom>
              <a:avLst/>
              <a:gdLst/>
              <a:ahLst/>
              <a:rect l="0" t="0" r="r" b="b"/>
              <a:pathLst>
                <a:path w="1399" h="2078">
                  <a:moveTo>
                    <a:pt x="1385" y="140"/>
                  </a:moveTo>
                  <a:lnTo>
                    <a:pt x="1393" y="161"/>
                  </a:lnTo>
                  <a:lnTo>
                    <a:pt x="1397" y="184"/>
                  </a:lnTo>
                  <a:lnTo>
                    <a:pt x="1399" y="236"/>
                  </a:lnTo>
                  <a:lnTo>
                    <a:pt x="1397" y="301"/>
                  </a:lnTo>
                  <a:lnTo>
                    <a:pt x="1391" y="374"/>
                  </a:lnTo>
                  <a:lnTo>
                    <a:pt x="1372" y="560"/>
                  </a:lnTo>
                  <a:lnTo>
                    <a:pt x="1355" y="798"/>
                  </a:lnTo>
                  <a:lnTo>
                    <a:pt x="1345" y="1286"/>
                  </a:lnTo>
                  <a:lnTo>
                    <a:pt x="1343" y="1601"/>
                  </a:lnTo>
                  <a:lnTo>
                    <a:pt x="1337" y="1687"/>
                  </a:lnTo>
                  <a:lnTo>
                    <a:pt x="1332" y="1712"/>
                  </a:lnTo>
                  <a:lnTo>
                    <a:pt x="1326" y="1718"/>
                  </a:lnTo>
                  <a:lnTo>
                    <a:pt x="1322" y="1723"/>
                  </a:lnTo>
                  <a:lnTo>
                    <a:pt x="1318" y="1723"/>
                  </a:lnTo>
                  <a:lnTo>
                    <a:pt x="1311" y="1720"/>
                  </a:lnTo>
                  <a:lnTo>
                    <a:pt x="1297" y="1704"/>
                  </a:lnTo>
                  <a:lnTo>
                    <a:pt x="1259" y="1633"/>
                  </a:lnTo>
                  <a:lnTo>
                    <a:pt x="1226" y="1817"/>
                  </a:lnTo>
                  <a:lnTo>
                    <a:pt x="1207" y="1804"/>
                  </a:lnTo>
                  <a:lnTo>
                    <a:pt x="1194" y="1794"/>
                  </a:lnTo>
                  <a:lnTo>
                    <a:pt x="1190" y="1779"/>
                  </a:lnTo>
                  <a:lnTo>
                    <a:pt x="1186" y="1764"/>
                  </a:lnTo>
                  <a:lnTo>
                    <a:pt x="1186" y="1731"/>
                  </a:lnTo>
                  <a:lnTo>
                    <a:pt x="1186" y="1689"/>
                  </a:lnTo>
                  <a:lnTo>
                    <a:pt x="1146" y="1618"/>
                  </a:lnTo>
                  <a:lnTo>
                    <a:pt x="1142" y="1643"/>
                  </a:lnTo>
                  <a:lnTo>
                    <a:pt x="1136" y="1660"/>
                  </a:lnTo>
                  <a:lnTo>
                    <a:pt x="1129" y="1668"/>
                  </a:lnTo>
                  <a:lnTo>
                    <a:pt x="1121" y="1674"/>
                  </a:lnTo>
                  <a:lnTo>
                    <a:pt x="1115" y="1672"/>
                  </a:lnTo>
                  <a:lnTo>
                    <a:pt x="1106" y="1666"/>
                  </a:lnTo>
                  <a:lnTo>
                    <a:pt x="1094" y="1645"/>
                  </a:lnTo>
                  <a:lnTo>
                    <a:pt x="1071" y="1582"/>
                  </a:lnTo>
                  <a:lnTo>
                    <a:pt x="1065" y="1554"/>
                  </a:lnTo>
                  <a:lnTo>
                    <a:pt x="1062" y="1531"/>
                  </a:lnTo>
                  <a:lnTo>
                    <a:pt x="1079" y="1510"/>
                  </a:lnTo>
                  <a:lnTo>
                    <a:pt x="1079" y="1458"/>
                  </a:lnTo>
                  <a:lnTo>
                    <a:pt x="1054" y="1391"/>
                  </a:lnTo>
                  <a:lnTo>
                    <a:pt x="1054" y="1024"/>
                  </a:lnTo>
                  <a:lnTo>
                    <a:pt x="1045" y="964"/>
                  </a:lnTo>
                  <a:lnTo>
                    <a:pt x="835" y="1041"/>
                  </a:lnTo>
                  <a:lnTo>
                    <a:pt x="714" y="1083"/>
                  </a:lnTo>
                  <a:lnTo>
                    <a:pt x="653" y="1106"/>
                  </a:lnTo>
                  <a:lnTo>
                    <a:pt x="639" y="1114"/>
                  </a:lnTo>
                  <a:lnTo>
                    <a:pt x="630" y="1123"/>
                  </a:lnTo>
                  <a:lnTo>
                    <a:pt x="349" y="1720"/>
                  </a:lnTo>
                  <a:lnTo>
                    <a:pt x="255" y="1942"/>
                  </a:lnTo>
                  <a:lnTo>
                    <a:pt x="238" y="1982"/>
                  </a:lnTo>
                  <a:lnTo>
                    <a:pt x="200" y="2032"/>
                  </a:lnTo>
                  <a:lnTo>
                    <a:pt x="219" y="1924"/>
                  </a:lnTo>
                  <a:lnTo>
                    <a:pt x="228" y="1838"/>
                  </a:lnTo>
                  <a:lnTo>
                    <a:pt x="232" y="1794"/>
                  </a:lnTo>
                  <a:lnTo>
                    <a:pt x="198" y="1838"/>
                  </a:lnTo>
                  <a:lnTo>
                    <a:pt x="113" y="2032"/>
                  </a:lnTo>
                  <a:lnTo>
                    <a:pt x="96" y="2026"/>
                  </a:lnTo>
                  <a:lnTo>
                    <a:pt x="89" y="2020"/>
                  </a:lnTo>
                  <a:lnTo>
                    <a:pt x="87" y="2011"/>
                  </a:lnTo>
                  <a:lnTo>
                    <a:pt x="89" y="2003"/>
                  </a:lnTo>
                  <a:lnTo>
                    <a:pt x="104" y="1982"/>
                  </a:lnTo>
                  <a:lnTo>
                    <a:pt x="113" y="1968"/>
                  </a:lnTo>
                  <a:lnTo>
                    <a:pt x="115" y="1951"/>
                  </a:lnTo>
                  <a:lnTo>
                    <a:pt x="110" y="1924"/>
                  </a:lnTo>
                  <a:lnTo>
                    <a:pt x="104" y="1917"/>
                  </a:lnTo>
                  <a:lnTo>
                    <a:pt x="98" y="1928"/>
                  </a:lnTo>
                  <a:lnTo>
                    <a:pt x="89" y="1949"/>
                  </a:lnTo>
                  <a:lnTo>
                    <a:pt x="77" y="1980"/>
                  </a:lnTo>
                  <a:lnTo>
                    <a:pt x="60" y="2014"/>
                  </a:lnTo>
                  <a:lnTo>
                    <a:pt x="37" y="2047"/>
                  </a:lnTo>
                  <a:lnTo>
                    <a:pt x="23" y="2064"/>
                  </a:lnTo>
                  <a:lnTo>
                    <a:pt x="6" y="2078"/>
                  </a:lnTo>
                  <a:lnTo>
                    <a:pt x="0" y="1959"/>
                  </a:lnTo>
                  <a:lnTo>
                    <a:pt x="0" y="1934"/>
                  </a:lnTo>
                  <a:lnTo>
                    <a:pt x="2" y="1924"/>
                  </a:lnTo>
                  <a:lnTo>
                    <a:pt x="16" y="1909"/>
                  </a:lnTo>
                  <a:lnTo>
                    <a:pt x="31" y="1892"/>
                  </a:lnTo>
                  <a:lnTo>
                    <a:pt x="46" y="1852"/>
                  </a:lnTo>
                  <a:lnTo>
                    <a:pt x="50" y="1806"/>
                  </a:lnTo>
                  <a:lnTo>
                    <a:pt x="79" y="1781"/>
                  </a:lnTo>
                  <a:lnTo>
                    <a:pt x="92" y="1767"/>
                  </a:lnTo>
                  <a:lnTo>
                    <a:pt x="98" y="1754"/>
                  </a:lnTo>
                  <a:lnTo>
                    <a:pt x="104" y="1737"/>
                  </a:lnTo>
                  <a:lnTo>
                    <a:pt x="113" y="1708"/>
                  </a:lnTo>
                  <a:lnTo>
                    <a:pt x="129" y="1660"/>
                  </a:lnTo>
                  <a:lnTo>
                    <a:pt x="167" y="1586"/>
                  </a:lnTo>
                  <a:lnTo>
                    <a:pt x="223" y="1479"/>
                  </a:lnTo>
                  <a:lnTo>
                    <a:pt x="301" y="1340"/>
                  </a:lnTo>
                  <a:lnTo>
                    <a:pt x="343" y="1255"/>
                  </a:lnTo>
                  <a:lnTo>
                    <a:pt x="363" y="1209"/>
                  </a:lnTo>
                  <a:lnTo>
                    <a:pt x="373" y="1179"/>
                  </a:lnTo>
                  <a:lnTo>
                    <a:pt x="390" y="1148"/>
                  </a:lnTo>
                  <a:lnTo>
                    <a:pt x="345" y="1139"/>
                  </a:lnTo>
                  <a:lnTo>
                    <a:pt x="336" y="1135"/>
                  </a:lnTo>
                  <a:lnTo>
                    <a:pt x="334" y="1133"/>
                  </a:lnTo>
                  <a:lnTo>
                    <a:pt x="334" y="1123"/>
                  </a:lnTo>
                  <a:lnTo>
                    <a:pt x="334" y="1114"/>
                  </a:lnTo>
                  <a:lnTo>
                    <a:pt x="326" y="1100"/>
                  </a:lnTo>
                  <a:lnTo>
                    <a:pt x="320" y="1083"/>
                  </a:lnTo>
                  <a:lnTo>
                    <a:pt x="322" y="1075"/>
                  </a:lnTo>
                  <a:lnTo>
                    <a:pt x="328" y="1068"/>
                  </a:lnTo>
                  <a:lnTo>
                    <a:pt x="345" y="1060"/>
                  </a:lnTo>
                  <a:lnTo>
                    <a:pt x="367" y="1052"/>
                  </a:lnTo>
                  <a:lnTo>
                    <a:pt x="423" y="1037"/>
                  </a:lnTo>
                  <a:lnTo>
                    <a:pt x="450" y="1029"/>
                  </a:lnTo>
                  <a:lnTo>
                    <a:pt x="469" y="1016"/>
                  </a:lnTo>
                  <a:lnTo>
                    <a:pt x="522" y="924"/>
                  </a:lnTo>
                  <a:lnTo>
                    <a:pt x="522" y="880"/>
                  </a:lnTo>
                  <a:lnTo>
                    <a:pt x="566" y="836"/>
                  </a:lnTo>
                  <a:lnTo>
                    <a:pt x="574" y="825"/>
                  </a:lnTo>
                  <a:lnTo>
                    <a:pt x="574" y="817"/>
                  </a:lnTo>
                  <a:lnTo>
                    <a:pt x="574" y="796"/>
                  </a:lnTo>
                  <a:lnTo>
                    <a:pt x="578" y="779"/>
                  </a:lnTo>
                  <a:lnTo>
                    <a:pt x="586" y="750"/>
                  </a:lnTo>
                  <a:lnTo>
                    <a:pt x="658" y="641"/>
                  </a:lnTo>
                  <a:lnTo>
                    <a:pt x="683" y="593"/>
                  </a:lnTo>
                  <a:lnTo>
                    <a:pt x="699" y="572"/>
                  </a:lnTo>
                  <a:lnTo>
                    <a:pt x="722" y="541"/>
                  </a:lnTo>
                  <a:lnTo>
                    <a:pt x="758" y="483"/>
                  </a:lnTo>
                  <a:lnTo>
                    <a:pt x="762" y="456"/>
                  </a:lnTo>
                  <a:lnTo>
                    <a:pt x="785" y="443"/>
                  </a:lnTo>
                  <a:lnTo>
                    <a:pt x="848" y="299"/>
                  </a:lnTo>
                  <a:lnTo>
                    <a:pt x="869" y="263"/>
                  </a:lnTo>
                  <a:lnTo>
                    <a:pt x="882" y="242"/>
                  </a:lnTo>
                  <a:lnTo>
                    <a:pt x="902" y="224"/>
                  </a:lnTo>
                  <a:lnTo>
                    <a:pt x="913" y="211"/>
                  </a:lnTo>
                  <a:lnTo>
                    <a:pt x="928" y="188"/>
                  </a:lnTo>
                  <a:lnTo>
                    <a:pt x="944" y="157"/>
                  </a:lnTo>
                  <a:lnTo>
                    <a:pt x="955" y="129"/>
                  </a:lnTo>
                  <a:lnTo>
                    <a:pt x="963" y="90"/>
                  </a:lnTo>
                  <a:lnTo>
                    <a:pt x="967" y="81"/>
                  </a:lnTo>
                  <a:lnTo>
                    <a:pt x="976" y="73"/>
                  </a:lnTo>
                  <a:lnTo>
                    <a:pt x="988" y="69"/>
                  </a:lnTo>
                  <a:lnTo>
                    <a:pt x="1011" y="69"/>
                  </a:lnTo>
                  <a:lnTo>
                    <a:pt x="1024" y="69"/>
                  </a:lnTo>
                  <a:lnTo>
                    <a:pt x="1032" y="75"/>
                  </a:lnTo>
                  <a:lnTo>
                    <a:pt x="1034" y="79"/>
                  </a:lnTo>
                  <a:lnTo>
                    <a:pt x="1036" y="85"/>
                  </a:lnTo>
                  <a:lnTo>
                    <a:pt x="1038" y="104"/>
                  </a:lnTo>
                  <a:lnTo>
                    <a:pt x="1045" y="121"/>
                  </a:lnTo>
                  <a:lnTo>
                    <a:pt x="1050" y="125"/>
                  </a:lnTo>
                  <a:lnTo>
                    <a:pt x="1056" y="121"/>
                  </a:lnTo>
                  <a:lnTo>
                    <a:pt x="1067" y="90"/>
                  </a:lnTo>
                  <a:lnTo>
                    <a:pt x="1073" y="73"/>
                  </a:lnTo>
                  <a:lnTo>
                    <a:pt x="1083" y="56"/>
                  </a:lnTo>
                  <a:lnTo>
                    <a:pt x="1096" y="41"/>
                  </a:lnTo>
                  <a:lnTo>
                    <a:pt x="1111" y="33"/>
                  </a:lnTo>
                  <a:lnTo>
                    <a:pt x="1148" y="35"/>
                  </a:lnTo>
                  <a:lnTo>
                    <a:pt x="1171" y="39"/>
                  </a:lnTo>
                  <a:lnTo>
                    <a:pt x="1184" y="39"/>
                  </a:lnTo>
                  <a:lnTo>
                    <a:pt x="1201" y="35"/>
                  </a:lnTo>
                  <a:lnTo>
                    <a:pt x="1257" y="8"/>
                  </a:lnTo>
                  <a:lnTo>
                    <a:pt x="1270" y="2"/>
                  </a:lnTo>
                  <a:lnTo>
                    <a:pt x="1293" y="0"/>
                  </a:lnTo>
                  <a:lnTo>
                    <a:pt x="1322" y="2"/>
                  </a:lnTo>
                  <a:lnTo>
                    <a:pt x="1335" y="8"/>
                  </a:lnTo>
                  <a:lnTo>
                    <a:pt x="1343" y="16"/>
                  </a:lnTo>
                  <a:lnTo>
                    <a:pt x="1349" y="33"/>
                  </a:lnTo>
                  <a:lnTo>
                    <a:pt x="1349" y="52"/>
                  </a:lnTo>
                  <a:lnTo>
                    <a:pt x="1345" y="90"/>
                  </a:lnTo>
                  <a:lnTo>
                    <a:pt x="1347" y="108"/>
                  </a:lnTo>
                  <a:lnTo>
                    <a:pt x="1353" y="123"/>
                  </a:lnTo>
                  <a:lnTo>
                    <a:pt x="1358" y="129"/>
                  </a:lnTo>
                  <a:lnTo>
                    <a:pt x="1366" y="133"/>
                  </a:lnTo>
                  <a:lnTo>
                    <a:pt x="1385" y="14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602400" y="5607000"/>
              <a:ext cx="405000" cy="594000"/>
            </a:xfrm>
            <a:custGeom>
              <a:avLst/>
              <a:gdLst/>
              <a:ahLst/>
              <a:rect l="0" t="0" r="r" b="b"/>
              <a:pathLst>
                <a:path w="1125" h="1650">
                  <a:moveTo>
                    <a:pt x="980" y="207"/>
                  </a:moveTo>
                  <a:lnTo>
                    <a:pt x="988" y="234"/>
                  </a:lnTo>
                  <a:lnTo>
                    <a:pt x="986" y="253"/>
                  </a:lnTo>
                  <a:lnTo>
                    <a:pt x="980" y="267"/>
                  </a:lnTo>
                  <a:lnTo>
                    <a:pt x="966" y="278"/>
                  </a:lnTo>
                  <a:lnTo>
                    <a:pt x="920" y="294"/>
                  </a:lnTo>
                  <a:lnTo>
                    <a:pt x="856" y="309"/>
                  </a:lnTo>
                  <a:lnTo>
                    <a:pt x="771" y="334"/>
                  </a:lnTo>
                  <a:lnTo>
                    <a:pt x="721" y="353"/>
                  </a:lnTo>
                  <a:lnTo>
                    <a:pt x="667" y="378"/>
                  </a:lnTo>
                  <a:lnTo>
                    <a:pt x="609" y="411"/>
                  </a:lnTo>
                  <a:lnTo>
                    <a:pt x="546" y="450"/>
                  </a:lnTo>
                  <a:lnTo>
                    <a:pt x="482" y="500"/>
                  </a:lnTo>
                  <a:lnTo>
                    <a:pt x="414" y="560"/>
                  </a:lnTo>
                  <a:lnTo>
                    <a:pt x="378" y="600"/>
                  </a:lnTo>
                  <a:lnTo>
                    <a:pt x="345" y="643"/>
                  </a:lnTo>
                  <a:lnTo>
                    <a:pt x="316" y="689"/>
                  </a:lnTo>
                  <a:lnTo>
                    <a:pt x="291" y="739"/>
                  </a:lnTo>
                  <a:lnTo>
                    <a:pt x="273" y="791"/>
                  </a:lnTo>
                  <a:lnTo>
                    <a:pt x="254" y="842"/>
                  </a:lnTo>
                  <a:lnTo>
                    <a:pt x="244" y="896"/>
                  </a:lnTo>
                  <a:lnTo>
                    <a:pt x="236" y="948"/>
                  </a:lnTo>
                  <a:lnTo>
                    <a:pt x="231" y="1052"/>
                  </a:lnTo>
                  <a:lnTo>
                    <a:pt x="236" y="1099"/>
                  </a:lnTo>
                  <a:lnTo>
                    <a:pt x="244" y="1147"/>
                  </a:lnTo>
                  <a:lnTo>
                    <a:pt x="254" y="1189"/>
                  </a:lnTo>
                  <a:lnTo>
                    <a:pt x="271" y="1228"/>
                  </a:lnTo>
                  <a:lnTo>
                    <a:pt x="291" y="1263"/>
                  </a:lnTo>
                  <a:lnTo>
                    <a:pt x="314" y="1292"/>
                  </a:lnTo>
                  <a:lnTo>
                    <a:pt x="370" y="1346"/>
                  </a:lnTo>
                  <a:lnTo>
                    <a:pt x="426" y="1390"/>
                  </a:lnTo>
                  <a:lnTo>
                    <a:pt x="488" y="1427"/>
                  </a:lnTo>
                  <a:lnTo>
                    <a:pt x="550" y="1450"/>
                  </a:lnTo>
                  <a:lnTo>
                    <a:pt x="616" y="1461"/>
                  </a:lnTo>
                  <a:lnTo>
                    <a:pt x="649" y="1461"/>
                  </a:lnTo>
                  <a:lnTo>
                    <a:pt x="680" y="1454"/>
                  </a:lnTo>
                  <a:lnTo>
                    <a:pt x="713" y="1446"/>
                  </a:lnTo>
                  <a:lnTo>
                    <a:pt x="746" y="1432"/>
                  </a:lnTo>
                  <a:lnTo>
                    <a:pt x="781" y="1413"/>
                  </a:lnTo>
                  <a:lnTo>
                    <a:pt x="814" y="1388"/>
                  </a:lnTo>
                  <a:lnTo>
                    <a:pt x="796" y="1355"/>
                  </a:lnTo>
                  <a:lnTo>
                    <a:pt x="787" y="1330"/>
                  </a:lnTo>
                  <a:lnTo>
                    <a:pt x="781" y="1292"/>
                  </a:lnTo>
                  <a:lnTo>
                    <a:pt x="783" y="1238"/>
                  </a:lnTo>
                  <a:lnTo>
                    <a:pt x="792" y="1164"/>
                  </a:lnTo>
                  <a:lnTo>
                    <a:pt x="810" y="1066"/>
                  </a:lnTo>
                  <a:lnTo>
                    <a:pt x="841" y="939"/>
                  </a:lnTo>
                  <a:lnTo>
                    <a:pt x="736" y="958"/>
                  </a:lnTo>
                  <a:lnTo>
                    <a:pt x="651" y="979"/>
                  </a:lnTo>
                  <a:lnTo>
                    <a:pt x="587" y="1002"/>
                  </a:lnTo>
                  <a:lnTo>
                    <a:pt x="538" y="1022"/>
                  </a:lnTo>
                  <a:lnTo>
                    <a:pt x="480" y="1052"/>
                  </a:lnTo>
                  <a:lnTo>
                    <a:pt x="461" y="1058"/>
                  </a:lnTo>
                  <a:lnTo>
                    <a:pt x="445" y="1054"/>
                  </a:lnTo>
                  <a:lnTo>
                    <a:pt x="436" y="1047"/>
                  </a:lnTo>
                  <a:lnTo>
                    <a:pt x="434" y="1041"/>
                  </a:lnTo>
                  <a:lnTo>
                    <a:pt x="439" y="1037"/>
                  </a:lnTo>
                  <a:lnTo>
                    <a:pt x="445" y="1031"/>
                  </a:lnTo>
                  <a:lnTo>
                    <a:pt x="465" y="1020"/>
                  </a:lnTo>
                  <a:lnTo>
                    <a:pt x="484" y="1006"/>
                  </a:lnTo>
                  <a:lnTo>
                    <a:pt x="540" y="906"/>
                  </a:lnTo>
                  <a:lnTo>
                    <a:pt x="578" y="887"/>
                  </a:lnTo>
                  <a:lnTo>
                    <a:pt x="593" y="875"/>
                  </a:lnTo>
                  <a:lnTo>
                    <a:pt x="599" y="865"/>
                  </a:lnTo>
                  <a:lnTo>
                    <a:pt x="616" y="848"/>
                  </a:lnTo>
                  <a:lnTo>
                    <a:pt x="711" y="814"/>
                  </a:lnTo>
                  <a:lnTo>
                    <a:pt x="717" y="789"/>
                  </a:lnTo>
                  <a:lnTo>
                    <a:pt x="719" y="787"/>
                  </a:lnTo>
                  <a:lnTo>
                    <a:pt x="742" y="789"/>
                  </a:lnTo>
                  <a:lnTo>
                    <a:pt x="767" y="785"/>
                  </a:lnTo>
                  <a:lnTo>
                    <a:pt x="802" y="774"/>
                  </a:lnTo>
                  <a:lnTo>
                    <a:pt x="852" y="758"/>
                  </a:lnTo>
                  <a:lnTo>
                    <a:pt x="891" y="737"/>
                  </a:lnTo>
                  <a:lnTo>
                    <a:pt x="922" y="716"/>
                  </a:lnTo>
                  <a:lnTo>
                    <a:pt x="947" y="695"/>
                  </a:lnTo>
                  <a:lnTo>
                    <a:pt x="986" y="668"/>
                  </a:lnTo>
                  <a:lnTo>
                    <a:pt x="1001" y="662"/>
                  </a:lnTo>
                  <a:lnTo>
                    <a:pt x="1015" y="664"/>
                  </a:lnTo>
                  <a:lnTo>
                    <a:pt x="1030" y="675"/>
                  </a:lnTo>
                  <a:lnTo>
                    <a:pt x="1038" y="685"/>
                  </a:lnTo>
                  <a:lnTo>
                    <a:pt x="1044" y="704"/>
                  </a:lnTo>
                  <a:lnTo>
                    <a:pt x="1048" y="716"/>
                  </a:lnTo>
                  <a:lnTo>
                    <a:pt x="1055" y="718"/>
                  </a:lnTo>
                  <a:lnTo>
                    <a:pt x="1063" y="712"/>
                  </a:lnTo>
                  <a:lnTo>
                    <a:pt x="1094" y="687"/>
                  </a:lnTo>
                  <a:lnTo>
                    <a:pt x="1125" y="691"/>
                  </a:lnTo>
                  <a:lnTo>
                    <a:pt x="1115" y="812"/>
                  </a:lnTo>
                  <a:lnTo>
                    <a:pt x="1098" y="914"/>
                  </a:lnTo>
                  <a:lnTo>
                    <a:pt x="1055" y="1085"/>
                  </a:lnTo>
                  <a:lnTo>
                    <a:pt x="1036" y="1164"/>
                  </a:lnTo>
                  <a:lnTo>
                    <a:pt x="1021" y="1247"/>
                  </a:lnTo>
                  <a:lnTo>
                    <a:pt x="1013" y="1340"/>
                  </a:lnTo>
                  <a:lnTo>
                    <a:pt x="1015" y="1448"/>
                  </a:lnTo>
                  <a:lnTo>
                    <a:pt x="1028" y="1575"/>
                  </a:lnTo>
                  <a:lnTo>
                    <a:pt x="1034" y="1623"/>
                  </a:lnTo>
                  <a:lnTo>
                    <a:pt x="1032" y="1631"/>
                  </a:lnTo>
                  <a:lnTo>
                    <a:pt x="1028" y="1631"/>
                  </a:lnTo>
                  <a:lnTo>
                    <a:pt x="1007" y="1637"/>
                  </a:lnTo>
                  <a:lnTo>
                    <a:pt x="997" y="1614"/>
                  </a:lnTo>
                  <a:lnTo>
                    <a:pt x="986" y="1610"/>
                  </a:lnTo>
                  <a:lnTo>
                    <a:pt x="974" y="1614"/>
                  </a:lnTo>
                  <a:lnTo>
                    <a:pt x="968" y="1612"/>
                  </a:lnTo>
                  <a:lnTo>
                    <a:pt x="959" y="1606"/>
                  </a:lnTo>
                  <a:lnTo>
                    <a:pt x="941" y="1554"/>
                  </a:lnTo>
                  <a:lnTo>
                    <a:pt x="928" y="1548"/>
                  </a:lnTo>
                  <a:lnTo>
                    <a:pt x="914" y="1535"/>
                  </a:lnTo>
                  <a:lnTo>
                    <a:pt x="885" y="1511"/>
                  </a:lnTo>
                  <a:lnTo>
                    <a:pt x="858" y="1492"/>
                  </a:lnTo>
                  <a:lnTo>
                    <a:pt x="847" y="1488"/>
                  </a:lnTo>
                  <a:lnTo>
                    <a:pt x="837" y="1488"/>
                  </a:lnTo>
                  <a:lnTo>
                    <a:pt x="818" y="1504"/>
                  </a:lnTo>
                  <a:lnTo>
                    <a:pt x="804" y="1527"/>
                  </a:lnTo>
                  <a:lnTo>
                    <a:pt x="787" y="1552"/>
                  </a:lnTo>
                  <a:lnTo>
                    <a:pt x="767" y="1579"/>
                  </a:lnTo>
                  <a:lnTo>
                    <a:pt x="756" y="1592"/>
                  </a:lnTo>
                  <a:lnTo>
                    <a:pt x="740" y="1604"/>
                  </a:lnTo>
                  <a:lnTo>
                    <a:pt x="703" y="1625"/>
                  </a:lnTo>
                  <a:lnTo>
                    <a:pt x="653" y="1641"/>
                  </a:lnTo>
                  <a:lnTo>
                    <a:pt x="620" y="1648"/>
                  </a:lnTo>
                  <a:lnTo>
                    <a:pt x="584" y="1650"/>
                  </a:lnTo>
                  <a:lnTo>
                    <a:pt x="536" y="1648"/>
                  </a:lnTo>
                  <a:lnTo>
                    <a:pt x="484" y="1644"/>
                  </a:lnTo>
                  <a:lnTo>
                    <a:pt x="436" y="1633"/>
                  </a:lnTo>
                  <a:lnTo>
                    <a:pt x="387" y="1617"/>
                  </a:lnTo>
                  <a:lnTo>
                    <a:pt x="341" y="1598"/>
                  </a:lnTo>
                  <a:lnTo>
                    <a:pt x="294" y="1573"/>
                  </a:lnTo>
                  <a:lnTo>
                    <a:pt x="250" y="1542"/>
                  </a:lnTo>
                  <a:lnTo>
                    <a:pt x="209" y="1506"/>
                  </a:lnTo>
                  <a:lnTo>
                    <a:pt x="171" y="1469"/>
                  </a:lnTo>
                  <a:lnTo>
                    <a:pt x="134" y="1423"/>
                  </a:lnTo>
                  <a:lnTo>
                    <a:pt x="101" y="1376"/>
                  </a:lnTo>
                  <a:lnTo>
                    <a:pt x="72" y="1324"/>
                  </a:lnTo>
                  <a:lnTo>
                    <a:pt x="49" y="1265"/>
                  </a:lnTo>
                  <a:lnTo>
                    <a:pt x="28" y="1203"/>
                  </a:lnTo>
                  <a:lnTo>
                    <a:pt x="14" y="1137"/>
                  </a:lnTo>
                  <a:lnTo>
                    <a:pt x="4" y="1066"/>
                  </a:lnTo>
                  <a:lnTo>
                    <a:pt x="0" y="973"/>
                  </a:lnTo>
                  <a:lnTo>
                    <a:pt x="4" y="883"/>
                  </a:lnTo>
                  <a:lnTo>
                    <a:pt x="16" y="799"/>
                  </a:lnTo>
                  <a:lnTo>
                    <a:pt x="33" y="720"/>
                  </a:lnTo>
                  <a:lnTo>
                    <a:pt x="57" y="648"/>
                  </a:lnTo>
                  <a:lnTo>
                    <a:pt x="84" y="579"/>
                  </a:lnTo>
                  <a:lnTo>
                    <a:pt x="115" y="517"/>
                  </a:lnTo>
                  <a:lnTo>
                    <a:pt x="149" y="459"/>
                  </a:lnTo>
                  <a:lnTo>
                    <a:pt x="215" y="357"/>
                  </a:lnTo>
                  <a:lnTo>
                    <a:pt x="281" y="276"/>
                  </a:lnTo>
                  <a:lnTo>
                    <a:pt x="333" y="218"/>
                  </a:lnTo>
                  <a:lnTo>
                    <a:pt x="366" y="180"/>
                  </a:lnTo>
                  <a:lnTo>
                    <a:pt x="403" y="143"/>
                  </a:lnTo>
                  <a:lnTo>
                    <a:pt x="434" y="118"/>
                  </a:lnTo>
                  <a:lnTo>
                    <a:pt x="478" y="91"/>
                  </a:lnTo>
                  <a:lnTo>
                    <a:pt x="532" y="64"/>
                  </a:lnTo>
                  <a:lnTo>
                    <a:pt x="599" y="37"/>
                  </a:lnTo>
                  <a:lnTo>
                    <a:pt x="678" y="16"/>
                  </a:lnTo>
                  <a:lnTo>
                    <a:pt x="767" y="0"/>
                  </a:lnTo>
                  <a:lnTo>
                    <a:pt x="790" y="0"/>
                  </a:lnTo>
                  <a:lnTo>
                    <a:pt x="798" y="4"/>
                  </a:lnTo>
                  <a:lnTo>
                    <a:pt x="804" y="12"/>
                  </a:lnTo>
                  <a:lnTo>
                    <a:pt x="821" y="24"/>
                  </a:lnTo>
                  <a:lnTo>
                    <a:pt x="876" y="37"/>
                  </a:lnTo>
                  <a:lnTo>
                    <a:pt x="887" y="54"/>
                  </a:lnTo>
                  <a:lnTo>
                    <a:pt x="889" y="62"/>
                  </a:lnTo>
                  <a:lnTo>
                    <a:pt x="887" y="68"/>
                  </a:lnTo>
                  <a:lnTo>
                    <a:pt x="887" y="74"/>
                  </a:lnTo>
                  <a:lnTo>
                    <a:pt x="891" y="83"/>
                  </a:lnTo>
                  <a:lnTo>
                    <a:pt x="924" y="120"/>
                  </a:lnTo>
                  <a:lnTo>
                    <a:pt x="949" y="147"/>
                  </a:lnTo>
                  <a:lnTo>
                    <a:pt x="959" y="153"/>
                  </a:lnTo>
                  <a:lnTo>
                    <a:pt x="972" y="149"/>
                  </a:lnTo>
                  <a:lnTo>
                    <a:pt x="999" y="151"/>
                  </a:lnTo>
                  <a:lnTo>
                    <a:pt x="1007" y="153"/>
                  </a:lnTo>
                  <a:lnTo>
                    <a:pt x="1011" y="157"/>
                  </a:lnTo>
                  <a:lnTo>
                    <a:pt x="1013" y="166"/>
                  </a:lnTo>
                  <a:lnTo>
                    <a:pt x="1013" y="172"/>
                  </a:lnTo>
                  <a:lnTo>
                    <a:pt x="1003" y="191"/>
                  </a:lnTo>
                  <a:lnTo>
                    <a:pt x="995" y="199"/>
                  </a:lnTo>
                  <a:lnTo>
                    <a:pt x="980" y="20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613640" y="5740560"/>
              <a:ext cx="100440" cy="119520"/>
            </a:xfrm>
            <a:custGeom>
              <a:avLst/>
              <a:gdLst/>
              <a:ahLst/>
              <a:rect l="0" t="0" r="r" b="b"/>
              <a:pathLst>
                <a:path w="279" h="332">
                  <a:moveTo>
                    <a:pt x="0" y="332"/>
                  </a:moveTo>
                  <a:lnTo>
                    <a:pt x="26" y="322"/>
                  </a:lnTo>
                  <a:lnTo>
                    <a:pt x="50" y="308"/>
                  </a:lnTo>
                  <a:lnTo>
                    <a:pt x="104" y="274"/>
                  </a:lnTo>
                  <a:lnTo>
                    <a:pt x="132" y="258"/>
                  </a:lnTo>
                  <a:lnTo>
                    <a:pt x="163" y="247"/>
                  </a:lnTo>
                  <a:lnTo>
                    <a:pt x="193" y="240"/>
                  </a:lnTo>
                  <a:lnTo>
                    <a:pt x="225" y="242"/>
                  </a:lnTo>
                  <a:lnTo>
                    <a:pt x="231" y="216"/>
                  </a:lnTo>
                  <a:lnTo>
                    <a:pt x="231" y="196"/>
                  </a:lnTo>
                  <a:lnTo>
                    <a:pt x="229" y="172"/>
                  </a:lnTo>
                  <a:lnTo>
                    <a:pt x="227" y="156"/>
                  </a:lnTo>
                  <a:lnTo>
                    <a:pt x="237" y="132"/>
                  </a:lnTo>
                  <a:lnTo>
                    <a:pt x="247" y="115"/>
                  </a:lnTo>
                  <a:lnTo>
                    <a:pt x="255" y="97"/>
                  </a:lnTo>
                  <a:lnTo>
                    <a:pt x="279" y="14"/>
                  </a:lnTo>
                  <a:lnTo>
                    <a:pt x="249" y="14"/>
                  </a:lnTo>
                  <a:lnTo>
                    <a:pt x="249" y="10"/>
                  </a:lnTo>
                  <a:lnTo>
                    <a:pt x="245" y="0"/>
                  </a:lnTo>
                  <a:lnTo>
                    <a:pt x="235" y="6"/>
                  </a:lnTo>
                  <a:lnTo>
                    <a:pt x="212" y="28"/>
                  </a:lnTo>
                  <a:lnTo>
                    <a:pt x="147" y="111"/>
                  </a:lnTo>
                  <a:lnTo>
                    <a:pt x="68" y="222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50040" y="5743440"/>
              <a:ext cx="103680" cy="178200"/>
            </a:xfrm>
            <a:custGeom>
              <a:avLst/>
              <a:gdLst/>
              <a:ahLst/>
              <a:rect l="0" t="0" r="r" b="b"/>
              <a:pathLst>
                <a:path w="288" h="495">
                  <a:moveTo>
                    <a:pt x="0" y="495"/>
                  </a:moveTo>
                  <a:lnTo>
                    <a:pt x="16" y="493"/>
                  </a:lnTo>
                  <a:lnTo>
                    <a:pt x="22" y="491"/>
                  </a:lnTo>
                  <a:lnTo>
                    <a:pt x="26" y="487"/>
                  </a:lnTo>
                  <a:lnTo>
                    <a:pt x="30" y="479"/>
                  </a:lnTo>
                  <a:lnTo>
                    <a:pt x="34" y="469"/>
                  </a:lnTo>
                  <a:lnTo>
                    <a:pt x="38" y="459"/>
                  </a:lnTo>
                  <a:lnTo>
                    <a:pt x="48" y="446"/>
                  </a:lnTo>
                  <a:lnTo>
                    <a:pt x="66" y="436"/>
                  </a:lnTo>
                  <a:lnTo>
                    <a:pt x="97" y="426"/>
                  </a:lnTo>
                  <a:lnTo>
                    <a:pt x="137" y="418"/>
                  </a:lnTo>
                  <a:lnTo>
                    <a:pt x="143" y="416"/>
                  </a:lnTo>
                  <a:lnTo>
                    <a:pt x="147" y="410"/>
                  </a:lnTo>
                  <a:lnTo>
                    <a:pt x="179" y="389"/>
                  </a:lnTo>
                  <a:lnTo>
                    <a:pt x="282" y="335"/>
                  </a:lnTo>
                  <a:lnTo>
                    <a:pt x="288" y="0"/>
                  </a:lnTo>
                  <a:lnTo>
                    <a:pt x="262" y="38"/>
                  </a:lnTo>
                  <a:lnTo>
                    <a:pt x="258" y="36"/>
                  </a:lnTo>
                  <a:lnTo>
                    <a:pt x="246" y="38"/>
                  </a:lnTo>
                  <a:lnTo>
                    <a:pt x="228" y="34"/>
                  </a:lnTo>
                  <a:lnTo>
                    <a:pt x="4" y="453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070840" y="5951520"/>
              <a:ext cx="773640" cy="630720"/>
            </a:xfrm>
            <a:custGeom>
              <a:avLst/>
              <a:gdLst/>
              <a:ahLst/>
              <a:rect l="0" t="0" r="r" b="b"/>
              <a:pathLst>
                <a:path w="2149" h="1752">
                  <a:moveTo>
                    <a:pt x="45" y="0"/>
                  </a:moveTo>
                  <a:lnTo>
                    <a:pt x="77" y="8"/>
                  </a:lnTo>
                  <a:lnTo>
                    <a:pt x="129" y="26"/>
                  </a:lnTo>
                  <a:lnTo>
                    <a:pt x="181" y="47"/>
                  </a:lnTo>
                  <a:lnTo>
                    <a:pt x="206" y="62"/>
                  </a:lnTo>
                  <a:lnTo>
                    <a:pt x="379" y="224"/>
                  </a:lnTo>
                  <a:lnTo>
                    <a:pt x="464" y="306"/>
                  </a:lnTo>
                  <a:lnTo>
                    <a:pt x="734" y="585"/>
                  </a:lnTo>
                  <a:lnTo>
                    <a:pt x="905" y="720"/>
                  </a:lnTo>
                  <a:lnTo>
                    <a:pt x="922" y="739"/>
                  </a:lnTo>
                  <a:lnTo>
                    <a:pt x="935" y="758"/>
                  </a:lnTo>
                  <a:lnTo>
                    <a:pt x="962" y="795"/>
                  </a:lnTo>
                  <a:lnTo>
                    <a:pt x="983" y="814"/>
                  </a:lnTo>
                  <a:lnTo>
                    <a:pt x="1016" y="836"/>
                  </a:lnTo>
                  <a:lnTo>
                    <a:pt x="1062" y="861"/>
                  </a:lnTo>
                  <a:lnTo>
                    <a:pt x="1124" y="890"/>
                  </a:lnTo>
                  <a:lnTo>
                    <a:pt x="1126" y="890"/>
                  </a:lnTo>
                  <a:lnTo>
                    <a:pt x="1124" y="884"/>
                  </a:lnTo>
                  <a:lnTo>
                    <a:pt x="1126" y="884"/>
                  </a:lnTo>
                  <a:lnTo>
                    <a:pt x="1141" y="894"/>
                  </a:lnTo>
                  <a:lnTo>
                    <a:pt x="1231" y="973"/>
                  </a:lnTo>
                  <a:lnTo>
                    <a:pt x="1454" y="1177"/>
                  </a:lnTo>
                  <a:lnTo>
                    <a:pt x="1647" y="1360"/>
                  </a:lnTo>
                  <a:lnTo>
                    <a:pt x="1709" y="1402"/>
                  </a:lnTo>
                  <a:lnTo>
                    <a:pt x="1755" y="1427"/>
                  </a:lnTo>
                  <a:lnTo>
                    <a:pt x="1826" y="1460"/>
                  </a:lnTo>
                  <a:lnTo>
                    <a:pt x="1868" y="1485"/>
                  </a:lnTo>
                  <a:lnTo>
                    <a:pt x="1924" y="1526"/>
                  </a:lnTo>
                  <a:lnTo>
                    <a:pt x="2001" y="1592"/>
                  </a:lnTo>
                  <a:lnTo>
                    <a:pt x="2107" y="1690"/>
                  </a:lnTo>
                  <a:lnTo>
                    <a:pt x="2145" y="1729"/>
                  </a:lnTo>
                  <a:lnTo>
                    <a:pt x="2149" y="1742"/>
                  </a:lnTo>
                  <a:lnTo>
                    <a:pt x="2147" y="1746"/>
                  </a:lnTo>
                  <a:lnTo>
                    <a:pt x="2143" y="1746"/>
                  </a:lnTo>
                  <a:lnTo>
                    <a:pt x="2134" y="1752"/>
                  </a:lnTo>
                  <a:lnTo>
                    <a:pt x="2128" y="1752"/>
                  </a:lnTo>
                  <a:lnTo>
                    <a:pt x="2122" y="1750"/>
                  </a:lnTo>
                  <a:lnTo>
                    <a:pt x="2109" y="1740"/>
                  </a:lnTo>
                  <a:lnTo>
                    <a:pt x="2049" y="1690"/>
                  </a:lnTo>
                  <a:lnTo>
                    <a:pt x="1909" y="1582"/>
                  </a:lnTo>
                  <a:lnTo>
                    <a:pt x="1516" y="1291"/>
                  </a:lnTo>
                  <a:lnTo>
                    <a:pt x="1433" y="1233"/>
                  </a:lnTo>
                  <a:lnTo>
                    <a:pt x="1395" y="1208"/>
                  </a:lnTo>
                  <a:lnTo>
                    <a:pt x="1385" y="1204"/>
                  </a:lnTo>
                  <a:lnTo>
                    <a:pt x="1377" y="1204"/>
                  </a:lnTo>
                  <a:lnTo>
                    <a:pt x="1352" y="1187"/>
                  </a:lnTo>
                  <a:lnTo>
                    <a:pt x="1287" y="1141"/>
                  </a:lnTo>
                  <a:lnTo>
                    <a:pt x="1243" y="1108"/>
                  </a:lnTo>
                  <a:lnTo>
                    <a:pt x="1199" y="1069"/>
                  </a:lnTo>
                  <a:lnTo>
                    <a:pt x="1118" y="992"/>
                  </a:lnTo>
                  <a:lnTo>
                    <a:pt x="1076" y="955"/>
                  </a:lnTo>
                  <a:lnTo>
                    <a:pt x="1033" y="921"/>
                  </a:lnTo>
                  <a:lnTo>
                    <a:pt x="985" y="890"/>
                  </a:lnTo>
                  <a:lnTo>
                    <a:pt x="932" y="863"/>
                  </a:lnTo>
                  <a:lnTo>
                    <a:pt x="905" y="853"/>
                  </a:lnTo>
                  <a:lnTo>
                    <a:pt x="901" y="851"/>
                  </a:lnTo>
                  <a:lnTo>
                    <a:pt x="893" y="836"/>
                  </a:lnTo>
                  <a:lnTo>
                    <a:pt x="855" y="789"/>
                  </a:lnTo>
                  <a:lnTo>
                    <a:pt x="828" y="758"/>
                  </a:lnTo>
                  <a:lnTo>
                    <a:pt x="799" y="735"/>
                  </a:lnTo>
                  <a:lnTo>
                    <a:pt x="743" y="702"/>
                  </a:lnTo>
                  <a:lnTo>
                    <a:pt x="693" y="675"/>
                  </a:lnTo>
                  <a:lnTo>
                    <a:pt x="670" y="662"/>
                  </a:lnTo>
                  <a:lnTo>
                    <a:pt x="647" y="646"/>
                  </a:lnTo>
                  <a:lnTo>
                    <a:pt x="559" y="538"/>
                  </a:lnTo>
                  <a:lnTo>
                    <a:pt x="473" y="488"/>
                  </a:lnTo>
                  <a:lnTo>
                    <a:pt x="435" y="444"/>
                  </a:lnTo>
                  <a:lnTo>
                    <a:pt x="400" y="398"/>
                  </a:lnTo>
                  <a:lnTo>
                    <a:pt x="379" y="373"/>
                  </a:lnTo>
                  <a:lnTo>
                    <a:pt x="352" y="344"/>
                  </a:lnTo>
                  <a:lnTo>
                    <a:pt x="321" y="313"/>
                  </a:lnTo>
                  <a:lnTo>
                    <a:pt x="277" y="280"/>
                  </a:lnTo>
                  <a:lnTo>
                    <a:pt x="246" y="257"/>
                  </a:lnTo>
                  <a:lnTo>
                    <a:pt x="231" y="248"/>
                  </a:lnTo>
                  <a:lnTo>
                    <a:pt x="181" y="172"/>
                  </a:lnTo>
                  <a:lnTo>
                    <a:pt x="112" y="168"/>
                  </a:lnTo>
                  <a:lnTo>
                    <a:pt x="97" y="165"/>
                  </a:lnTo>
                  <a:lnTo>
                    <a:pt x="93" y="161"/>
                  </a:lnTo>
                  <a:lnTo>
                    <a:pt x="91" y="153"/>
                  </a:lnTo>
                  <a:lnTo>
                    <a:pt x="89" y="149"/>
                  </a:lnTo>
                  <a:lnTo>
                    <a:pt x="79" y="145"/>
                  </a:lnTo>
                  <a:lnTo>
                    <a:pt x="18" y="145"/>
                  </a:lnTo>
                  <a:lnTo>
                    <a:pt x="6" y="130"/>
                  </a:lnTo>
                  <a:lnTo>
                    <a:pt x="0" y="122"/>
                  </a:lnTo>
                  <a:lnTo>
                    <a:pt x="2" y="118"/>
                  </a:lnTo>
                  <a:lnTo>
                    <a:pt x="6" y="114"/>
                  </a:lnTo>
                  <a:lnTo>
                    <a:pt x="10" y="109"/>
                  </a:lnTo>
                  <a:lnTo>
                    <a:pt x="14" y="99"/>
                  </a:lnTo>
                  <a:lnTo>
                    <a:pt x="14" y="85"/>
                  </a:lnTo>
                  <a:lnTo>
                    <a:pt x="6" y="58"/>
                  </a:lnTo>
                  <a:lnTo>
                    <a:pt x="8" y="41"/>
                  </a:lnTo>
                  <a:lnTo>
                    <a:pt x="14" y="22"/>
                  </a:lnTo>
                  <a:lnTo>
                    <a:pt x="25" y="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067600" y="6024600"/>
              <a:ext cx="813240" cy="659160"/>
            </a:xfrm>
            <a:custGeom>
              <a:avLst/>
              <a:gdLst/>
              <a:ahLst/>
              <a:rect l="0" t="0" r="r" b="b"/>
              <a:pathLst>
                <a:path w="2259" h="1831">
                  <a:moveTo>
                    <a:pt x="0" y="47"/>
                  </a:moveTo>
                  <a:lnTo>
                    <a:pt x="2" y="29"/>
                  </a:lnTo>
                  <a:lnTo>
                    <a:pt x="8" y="14"/>
                  </a:lnTo>
                  <a:lnTo>
                    <a:pt x="20" y="4"/>
                  </a:lnTo>
                  <a:lnTo>
                    <a:pt x="39" y="0"/>
                  </a:lnTo>
                  <a:lnTo>
                    <a:pt x="70" y="6"/>
                  </a:lnTo>
                  <a:lnTo>
                    <a:pt x="110" y="20"/>
                  </a:lnTo>
                  <a:lnTo>
                    <a:pt x="162" y="49"/>
                  </a:lnTo>
                  <a:lnTo>
                    <a:pt x="227" y="91"/>
                  </a:lnTo>
                  <a:lnTo>
                    <a:pt x="266" y="116"/>
                  </a:lnTo>
                  <a:lnTo>
                    <a:pt x="306" y="135"/>
                  </a:lnTo>
                  <a:lnTo>
                    <a:pt x="325" y="149"/>
                  </a:lnTo>
                  <a:lnTo>
                    <a:pt x="341" y="162"/>
                  </a:lnTo>
                  <a:lnTo>
                    <a:pt x="358" y="180"/>
                  </a:lnTo>
                  <a:lnTo>
                    <a:pt x="368" y="199"/>
                  </a:lnTo>
                  <a:lnTo>
                    <a:pt x="373" y="222"/>
                  </a:lnTo>
                  <a:lnTo>
                    <a:pt x="381" y="255"/>
                  </a:lnTo>
                  <a:lnTo>
                    <a:pt x="396" y="280"/>
                  </a:lnTo>
                  <a:lnTo>
                    <a:pt x="416" y="313"/>
                  </a:lnTo>
                  <a:lnTo>
                    <a:pt x="452" y="353"/>
                  </a:lnTo>
                  <a:lnTo>
                    <a:pt x="500" y="400"/>
                  </a:lnTo>
                  <a:lnTo>
                    <a:pt x="576" y="467"/>
                  </a:lnTo>
                  <a:lnTo>
                    <a:pt x="620" y="504"/>
                  </a:lnTo>
                  <a:lnTo>
                    <a:pt x="641" y="521"/>
                  </a:lnTo>
                  <a:lnTo>
                    <a:pt x="651" y="525"/>
                  </a:lnTo>
                  <a:lnTo>
                    <a:pt x="661" y="544"/>
                  </a:lnTo>
                  <a:lnTo>
                    <a:pt x="716" y="631"/>
                  </a:lnTo>
                  <a:lnTo>
                    <a:pt x="734" y="658"/>
                  </a:lnTo>
                  <a:lnTo>
                    <a:pt x="749" y="668"/>
                  </a:lnTo>
                  <a:lnTo>
                    <a:pt x="759" y="670"/>
                  </a:lnTo>
                  <a:lnTo>
                    <a:pt x="768" y="666"/>
                  </a:lnTo>
                  <a:lnTo>
                    <a:pt x="778" y="664"/>
                  </a:lnTo>
                  <a:lnTo>
                    <a:pt x="793" y="662"/>
                  </a:lnTo>
                  <a:lnTo>
                    <a:pt x="814" y="670"/>
                  </a:lnTo>
                  <a:lnTo>
                    <a:pt x="843" y="691"/>
                  </a:lnTo>
                  <a:lnTo>
                    <a:pt x="884" y="731"/>
                  </a:lnTo>
                  <a:lnTo>
                    <a:pt x="909" y="758"/>
                  </a:lnTo>
                  <a:lnTo>
                    <a:pt x="920" y="776"/>
                  </a:lnTo>
                  <a:lnTo>
                    <a:pt x="924" y="789"/>
                  </a:lnTo>
                  <a:lnTo>
                    <a:pt x="924" y="799"/>
                  </a:lnTo>
                  <a:lnTo>
                    <a:pt x="928" y="810"/>
                  </a:lnTo>
                  <a:lnTo>
                    <a:pt x="943" y="822"/>
                  </a:lnTo>
                  <a:lnTo>
                    <a:pt x="970" y="845"/>
                  </a:lnTo>
                  <a:lnTo>
                    <a:pt x="1014" y="866"/>
                  </a:lnTo>
                  <a:lnTo>
                    <a:pt x="1028" y="876"/>
                  </a:lnTo>
                  <a:lnTo>
                    <a:pt x="1049" y="891"/>
                  </a:lnTo>
                  <a:lnTo>
                    <a:pt x="1101" y="937"/>
                  </a:lnTo>
                  <a:lnTo>
                    <a:pt x="1174" y="998"/>
                  </a:lnTo>
                  <a:lnTo>
                    <a:pt x="1220" y="1031"/>
                  </a:lnTo>
                  <a:lnTo>
                    <a:pt x="1268" y="1064"/>
                  </a:lnTo>
                  <a:lnTo>
                    <a:pt x="1320" y="1085"/>
                  </a:lnTo>
                  <a:lnTo>
                    <a:pt x="1341" y="1120"/>
                  </a:lnTo>
                  <a:lnTo>
                    <a:pt x="1351" y="1133"/>
                  </a:lnTo>
                  <a:lnTo>
                    <a:pt x="1364" y="1141"/>
                  </a:lnTo>
                  <a:lnTo>
                    <a:pt x="1418" y="1178"/>
                  </a:lnTo>
                  <a:lnTo>
                    <a:pt x="1527" y="1263"/>
                  </a:lnTo>
                  <a:lnTo>
                    <a:pt x="1558" y="1272"/>
                  </a:lnTo>
                  <a:lnTo>
                    <a:pt x="1577" y="1307"/>
                  </a:lnTo>
                  <a:lnTo>
                    <a:pt x="1602" y="1326"/>
                  </a:lnTo>
                  <a:lnTo>
                    <a:pt x="1654" y="1353"/>
                  </a:lnTo>
                  <a:lnTo>
                    <a:pt x="1753" y="1417"/>
                  </a:lnTo>
                  <a:lnTo>
                    <a:pt x="2259" y="1818"/>
                  </a:lnTo>
                  <a:lnTo>
                    <a:pt x="2251" y="1828"/>
                  </a:lnTo>
                  <a:lnTo>
                    <a:pt x="2238" y="1831"/>
                  </a:lnTo>
                  <a:lnTo>
                    <a:pt x="2220" y="1822"/>
                  </a:lnTo>
                  <a:lnTo>
                    <a:pt x="2186" y="1799"/>
                  </a:lnTo>
                  <a:lnTo>
                    <a:pt x="2063" y="1706"/>
                  </a:lnTo>
                  <a:lnTo>
                    <a:pt x="1826" y="1533"/>
                  </a:lnTo>
                  <a:lnTo>
                    <a:pt x="1256" y="1126"/>
                  </a:lnTo>
                  <a:lnTo>
                    <a:pt x="1093" y="1006"/>
                  </a:lnTo>
                  <a:lnTo>
                    <a:pt x="1085" y="998"/>
                  </a:lnTo>
                  <a:lnTo>
                    <a:pt x="1082" y="995"/>
                  </a:lnTo>
                  <a:lnTo>
                    <a:pt x="974" y="913"/>
                  </a:lnTo>
                  <a:lnTo>
                    <a:pt x="855" y="818"/>
                  </a:lnTo>
                  <a:lnTo>
                    <a:pt x="845" y="793"/>
                  </a:lnTo>
                  <a:lnTo>
                    <a:pt x="832" y="778"/>
                  </a:lnTo>
                  <a:lnTo>
                    <a:pt x="818" y="768"/>
                  </a:lnTo>
                  <a:lnTo>
                    <a:pt x="799" y="762"/>
                  </a:lnTo>
                  <a:lnTo>
                    <a:pt x="749" y="741"/>
                  </a:lnTo>
                  <a:lnTo>
                    <a:pt x="713" y="720"/>
                  </a:lnTo>
                  <a:lnTo>
                    <a:pt x="672" y="683"/>
                  </a:lnTo>
                  <a:lnTo>
                    <a:pt x="521" y="544"/>
                  </a:lnTo>
                  <a:lnTo>
                    <a:pt x="485" y="504"/>
                  </a:lnTo>
                  <a:lnTo>
                    <a:pt x="464" y="479"/>
                  </a:lnTo>
                  <a:lnTo>
                    <a:pt x="452" y="459"/>
                  </a:lnTo>
                  <a:lnTo>
                    <a:pt x="448" y="450"/>
                  </a:lnTo>
                  <a:lnTo>
                    <a:pt x="437" y="440"/>
                  </a:lnTo>
                  <a:lnTo>
                    <a:pt x="366" y="378"/>
                  </a:lnTo>
                  <a:lnTo>
                    <a:pt x="316" y="338"/>
                  </a:lnTo>
                  <a:lnTo>
                    <a:pt x="298" y="324"/>
                  </a:lnTo>
                  <a:lnTo>
                    <a:pt x="281" y="307"/>
                  </a:lnTo>
                  <a:lnTo>
                    <a:pt x="268" y="286"/>
                  </a:lnTo>
                  <a:lnTo>
                    <a:pt x="254" y="261"/>
                  </a:lnTo>
                  <a:lnTo>
                    <a:pt x="248" y="240"/>
                  </a:lnTo>
                  <a:lnTo>
                    <a:pt x="245" y="228"/>
                  </a:lnTo>
                  <a:lnTo>
                    <a:pt x="245" y="218"/>
                  </a:lnTo>
                  <a:lnTo>
                    <a:pt x="223" y="205"/>
                  </a:lnTo>
                  <a:lnTo>
                    <a:pt x="143" y="170"/>
                  </a:lnTo>
                  <a:lnTo>
                    <a:pt x="118" y="153"/>
                  </a:lnTo>
                  <a:lnTo>
                    <a:pt x="110" y="139"/>
                  </a:lnTo>
                  <a:lnTo>
                    <a:pt x="102" y="118"/>
                  </a:lnTo>
                  <a:lnTo>
                    <a:pt x="91" y="103"/>
                  </a:lnTo>
                  <a:lnTo>
                    <a:pt x="75" y="83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932600" y="6226200"/>
              <a:ext cx="41760" cy="79560"/>
            </a:xfrm>
            <a:custGeom>
              <a:avLst/>
              <a:gdLst/>
              <a:ahLst/>
              <a:rect l="0" t="0" r="r" b="b"/>
              <a:pathLst>
                <a:path w="116" h="221">
                  <a:moveTo>
                    <a:pt x="116" y="17"/>
                  </a:moveTo>
                  <a:lnTo>
                    <a:pt x="111" y="53"/>
                  </a:lnTo>
                  <a:lnTo>
                    <a:pt x="101" y="92"/>
                  </a:lnTo>
                  <a:lnTo>
                    <a:pt x="78" y="144"/>
                  </a:lnTo>
                  <a:lnTo>
                    <a:pt x="62" y="180"/>
                  </a:lnTo>
                  <a:lnTo>
                    <a:pt x="37" y="221"/>
                  </a:lnTo>
                  <a:lnTo>
                    <a:pt x="14" y="201"/>
                  </a:lnTo>
                  <a:lnTo>
                    <a:pt x="3" y="186"/>
                  </a:lnTo>
                  <a:lnTo>
                    <a:pt x="0" y="174"/>
                  </a:lnTo>
                  <a:lnTo>
                    <a:pt x="3" y="166"/>
                  </a:lnTo>
                  <a:lnTo>
                    <a:pt x="20" y="156"/>
                  </a:lnTo>
                  <a:lnTo>
                    <a:pt x="30" y="152"/>
                  </a:lnTo>
                  <a:lnTo>
                    <a:pt x="34" y="146"/>
                  </a:lnTo>
                  <a:lnTo>
                    <a:pt x="43" y="126"/>
                  </a:lnTo>
                  <a:lnTo>
                    <a:pt x="47" y="104"/>
                  </a:lnTo>
                  <a:lnTo>
                    <a:pt x="49" y="66"/>
                  </a:lnTo>
                  <a:lnTo>
                    <a:pt x="56" y="33"/>
                  </a:lnTo>
                  <a:lnTo>
                    <a:pt x="67" y="15"/>
                  </a:lnTo>
                  <a:lnTo>
                    <a:pt x="84" y="0"/>
                  </a:lnTo>
                  <a:lnTo>
                    <a:pt x="92" y="0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772480" y="6391440"/>
              <a:ext cx="87840" cy="66960"/>
            </a:xfrm>
            <a:custGeom>
              <a:avLst/>
              <a:gdLst/>
              <a:ahLst/>
              <a:rect l="0" t="0" r="r" b="b"/>
              <a:pathLst>
                <a:path w="244" h="186">
                  <a:moveTo>
                    <a:pt x="12" y="0"/>
                  </a:moveTo>
                  <a:lnTo>
                    <a:pt x="32" y="1"/>
                  </a:lnTo>
                  <a:lnTo>
                    <a:pt x="38" y="5"/>
                  </a:lnTo>
                  <a:lnTo>
                    <a:pt x="42" y="9"/>
                  </a:lnTo>
                  <a:lnTo>
                    <a:pt x="52" y="25"/>
                  </a:lnTo>
                  <a:lnTo>
                    <a:pt x="63" y="35"/>
                  </a:lnTo>
                  <a:lnTo>
                    <a:pt x="79" y="47"/>
                  </a:lnTo>
                  <a:lnTo>
                    <a:pt x="97" y="57"/>
                  </a:lnTo>
                  <a:lnTo>
                    <a:pt x="109" y="61"/>
                  </a:lnTo>
                  <a:lnTo>
                    <a:pt x="125" y="63"/>
                  </a:lnTo>
                  <a:lnTo>
                    <a:pt x="137" y="69"/>
                  </a:lnTo>
                  <a:lnTo>
                    <a:pt x="159" y="85"/>
                  </a:lnTo>
                  <a:lnTo>
                    <a:pt x="240" y="164"/>
                  </a:lnTo>
                  <a:lnTo>
                    <a:pt x="244" y="172"/>
                  </a:lnTo>
                  <a:lnTo>
                    <a:pt x="244" y="178"/>
                  </a:lnTo>
                  <a:lnTo>
                    <a:pt x="238" y="184"/>
                  </a:lnTo>
                  <a:lnTo>
                    <a:pt x="228" y="186"/>
                  </a:lnTo>
                  <a:lnTo>
                    <a:pt x="210" y="182"/>
                  </a:lnTo>
                  <a:lnTo>
                    <a:pt x="186" y="170"/>
                  </a:lnTo>
                  <a:lnTo>
                    <a:pt x="151" y="148"/>
                  </a:lnTo>
                  <a:lnTo>
                    <a:pt x="109" y="114"/>
                  </a:lnTo>
                  <a:lnTo>
                    <a:pt x="63" y="79"/>
                  </a:lnTo>
                  <a:lnTo>
                    <a:pt x="24" y="55"/>
                  </a:lnTo>
                  <a:lnTo>
                    <a:pt x="10" y="43"/>
                  </a:lnTo>
                  <a:lnTo>
                    <a:pt x="2" y="31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872560" y="6461280"/>
              <a:ext cx="125640" cy="73440"/>
            </a:xfrm>
            <a:custGeom>
              <a:avLst/>
              <a:gdLst/>
              <a:ahLst/>
              <a:rect l="0" t="0" r="r" b="b"/>
              <a:pathLst>
                <a:path w="349" h="204">
                  <a:moveTo>
                    <a:pt x="10" y="0"/>
                  </a:moveTo>
                  <a:lnTo>
                    <a:pt x="24" y="3"/>
                  </a:lnTo>
                  <a:lnTo>
                    <a:pt x="64" y="27"/>
                  </a:lnTo>
                  <a:lnTo>
                    <a:pt x="161" y="86"/>
                  </a:lnTo>
                  <a:lnTo>
                    <a:pt x="337" y="189"/>
                  </a:lnTo>
                  <a:lnTo>
                    <a:pt x="349" y="197"/>
                  </a:lnTo>
                  <a:lnTo>
                    <a:pt x="349" y="200"/>
                  </a:lnTo>
                  <a:lnTo>
                    <a:pt x="343" y="202"/>
                  </a:lnTo>
                  <a:lnTo>
                    <a:pt x="331" y="204"/>
                  </a:lnTo>
                  <a:lnTo>
                    <a:pt x="307" y="198"/>
                  </a:lnTo>
                  <a:lnTo>
                    <a:pt x="266" y="185"/>
                  </a:lnTo>
                  <a:lnTo>
                    <a:pt x="208" y="158"/>
                  </a:lnTo>
                  <a:lnTo>
                    <a:pt x="126" y="118"/>
                  </a:lnTo>
                  <a:lnTo>
                    <a:pt x="18" y="57"/>
                  </a:lnTo>
                  <a:lnTo>
                    <a:pt x="10" y="46"/>
                  </a:lnTo>
                  <a:lnTo>
                    <a:pt x="2" y="29"/>
                  </a:lnTo>
                  <a:lnTo>
                    <a:pt x="0" y="9"/>
                  </a:lnTo>
                  <a:lnTo>
                    <a:pt x="2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832960" y="6504120"/>
              <a:ext cx="81360" cy="51120"/>
            </a:xfrm>
            <a:custGeom>
              <a:avLst/>
              <a:gdLst/>
              <a:ahLst/>
              <a:rect l="0" t="0" r="r" b="b"/>
              <a:pathLst>
                <a:path w="226" h="142">
                  <a:moveTo>
                    <a:pt x="7" y="0"/>
                  </a:moveTo>
                  <a:lnTo>
                    <a:pt x="19" y="0"/>
                  </a:lnTo>
                  <a:lnTo>
                    <a:pt x="41" y="9"/>
                  </a:lnTo>
                  <a:lnTo>
                    <a:pt x="105" y="43"/>
                  </a:lnTo>
                  <a:lnTo>
                    <a:pt x="175" y="88"/>
                  </a:lnTo>
                  <a:lnTo>
                    <a:pt x="205" y="109"/>
                  </a:lnTo>
                  <a:lnTo>
                    <a:pt x="226" y="126"/>
                  </a:lnTo>
                  <a:lnTo>
                    <a:pt x="226" y="140"/>
                  </a:lnTo>
                  <a:lnTo>
                    <a:pt x="219" y="142"/>
                  </a:lnTo>
                  <a:lnTo>
                    <a:pt x="201" y="140"/>
                  </a:lnTo>
                  <a:lnTo>
                    <a:pt x="133" y="111"/>
                  </a:lnTo>
                  <a:lnTo>
                    <a:pt x="73" y="79"/>
                  </a:lnTo>
                  <a:lnTo>
                    <a:pt x="39" y="57"/>
                  </a:lnTo>
                  <a:lnTo>
                    <a:pt x="3" y="30"/>
                  </a:lnTo>
                  <a:lnTo>
                    <a:pt x="0" y="11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858160" y="6591240"/>
              <a:ext cx="28800" cy="19440"/>
            </a:xfrm>
            <a:custGeom>
              <a:avLst/>
              <a:gdLst/>
              <a:ahLst/>
              <a:rect l="0" t="0" r="r" b="b"/>
              <a:pathLst>
                <a:path w="80" h="54">
                  <a:moveTo>
                    <a:pt x="0" y="18"/>
                  </a:moveTo>
                  <a:lnTo>
                    <a:pt x="7" y="6"/>
                  </a:lnTo>
                  <a:lnTo>
                    <a:pt x="12" y="3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41" y="6"/>
                  </a:lnTo>
                  <a:lnTo>
                    <a:pt x="58" y="19"/>
                  </a:lnTo>
                  <a:lnTo>
                    <a:pt x="78" y="41"/>
                  </a:lnTo>
                  <a:lnTo>
                    <a:pt x="80" y="49"/>
                  </a:lnTo>
                  <a:lnTo>
                    <a:pt x="78" y="54"/>
                  </a:lnTo>
                  <a:lnTo>
                    <a:pt x="63" y="54"/>
                  </a:lnTo>
                  <a:lnTo>
                    <a:pt x="35" y="4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526600" y="5640480"/>
              <a:ext cx="27360" cy="33840"/>
            </a:xfrm>
            <a:custGeom>
              <a:avLst/>
              <a:gdLst/>
              <a:ahLst/>
              <a:rect l="0" t="0" r="r" b="b"/>
              <a:pathLst>
                <a:path w="76" h="94">
                  <a:moveTo>
                    <a:pt x="25" y="94"/>
                  </a:moveTo>
                  <a:lnTo>
                    <a:pt x="25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6" y="0"/>
                  </a:lnTo>
                  <a:lnTo>
                    <a:pt x="76" y="22"/>
                  </a:lnTo>
                  <a:lnTo>
                    <a:pt x="49" y="22"/>
                  </a:lnTo>
                  <a:lnTo>
                    <a:pt x="49" y="94"/>
                  </a:lnTo>
                  <a:lnTo>
                    <a:pt x="25" y="94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564400" y="5640480"/>
              <a:ext cx="44640" cy="36720"/>
            </a:xfrm>
            <a:custGeom>
              <a:avLst/>
              <a:gdLst/>
              <a:ahLst/>
              <a:rect l="0" t="0" r="r" b="b"/>
              <a:pathLst>
                <a:path w="124" h="102">
                  <a:moveTo>
                    <a:pt x="6" y="0"/>
                  </a:moveTo>
                  <a:lnTo>
                    <a:pt x="14" y="0"/>
                  </a:lnTo>
                  <a:lnTo>
                    <a:pt x="18" y="2"/>
                  </a:lnTo>
                  <a:lnTo>
                    <a:pt x="61" y="67"/>
                  </a:lnTo>
                  <a:lnTo>
                    <a:pt x="105" y="4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2" y="10"/>
                  </a:lnTo>
                  <a:lnTo>
                    <a:pt x="124" y="14"/>
                  </a:lnTo>
                  <a:lnTo>
                    <a:pt x="124" y="102"/>
                  </a:lnTo>
                  <a:lnTo>
                    <a:pt x="103" y="102"/>
                  </a:lnTo>
                  <a:lnTo>
                    <a:pt x="103" y="34"/>
                  </a:lnTo>
                  <a:lnTo>
                    <a:pt x="61" y="100"/>
                  </a:lnTo>
                  <a:lnTo>
                    <a:pt x="20" y="34"/>
                  </a:lnTo>
                  <a:lnTo>
                    <a:pt x="20" y="100"/>
                  </a:lnTo>
                  <a:lnTo>
                    <a:pt x="0" y="10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564400" y="5640480"/>
              <a:ext cx="44640" cy="36720"/>
            </a:xfrm>
            <a:custGeom>
              <a:avLst/>
              <a:gdLst/>
              <a:ahLst/>
              <a:rect l="0" t="0" r="r" b="b"/>
              <a:pathLst>
                <a:path w="124" h="102">
                  <a:moveTo>
                    <a:pt x="6" y="0"/>
                  </a:moveTo>
                  <a:lnTo>
                    <a:pt x="14" y="0"/>
                  </a:lnTo>
                  <a:lnTo>
                    <a:pt x="18" y="2"/>
                  </a:lnTo>
                  <a:lnTo>
                    <a:pt x="61" y="67"/>
                  </a:lnTo>
                  <a:lnTo>
                    <a:pt x="105" y="4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2" y="10"/>
                  </a:lnTo>
                  <a:lnTo>
                    <a:pt x="124" y="14"/>
                  </a:lnTo>
                  <a:lnTo>
                    <a:pt x="124" y="102"/>
                  </a:lnTo>
                  <a:lnTo>
                    <a:pt x="103" y="102"/>
                  </a:lnTo>
                  <a:lnTo>
                    <a:pt x="103" y="34"/>
                  </a:lnTo>
                  <a:lnTo>
                    <a:pt x="61" y="100"/>
                  </a:lnTo>
                  <a:lnTo>
                    <a:pt x="20" y="34"/>
                  </a:lnTo>
                  <a:lnTo>
                    <a:pt x="20" y="100"/>
                  </a:lnTo>
                  <a:lnTo>
                    <a:pt x="0" y="10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1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2857680"/>
            <a:ext cx="8229600" cy="28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62120" y="30492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ailers won’t back their produc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can’t possibly win, the competition’s too tough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don’t have any third-party suppor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589720" y="5483160"/>
            <a:ext cx="3408480" cy="1200600"/>
            <a:chOff x="5589720" y="5483160"/>
            <a:chExt cx="3408480" cy="1200600"/>
          </a:xfrm>
        </p:grpSpPr>
        <p:sp>
          <p:nvSpPr>
            <p:cNvPr id="514" name=""/>
            <p:cNvSpPr/>
            <p:nvPr/>
          </p:nvSpPr>
          <p:spPr>
            <a:xfrm>
              <a:off x="5589720" y="5483160"/>
              <a:ext cx="973440" cy="868680"/>
            </a:xfrm>
            <a:custGeom>
              <a:avLst/>
              <a:gdLst/>
              <a:ahLst/>
              <a:rect l="0" t="0" r="r" b="b"/>
              <a:pathLst>
                <a:path w="2704" h="2413">
                  <a:moveTo>
                    <a:pt x="2704" y="45"/>
                  </a:moveTo>
                  <a:lnTo>
                    <a:pt x="2691" y="52"/>
                  </a:lnTo>
                  <a:lnTo>
                    <a:pt x="2674" y="56"/>
                  </a:lnTo>
                  <a:lnTo>
                    <a:pt x="2631" y="66"/>
                  </a:lnTo>
                  <a:lnTo>
                    <a:pt x="2518" y="83"/>
                  </a:lnTo>
                  <a:lnTo>
                    <a:pt x="2399" y="101"/>
                  </a:lnTo>
                  <a:lnTo>
                    <a:pt x="2308" y="118"/>
                  </a:lnTo>
                  <a:lnTo>
                    <a:pt x="2314" y="137"/>
                  </a:lnTo>
                  <a:lnTo>
                    <a:pt x="2314" y="141"/>
                  </a:lnTo>
                  <a:lnTo>
                    <a:pt x="2318" y="143"/>
                  </a:lnTo>
                  <a:lnTo>
                    <a:pt x="2341" y="147"/>
                  </a:lnTo>
                  <a:lnTo>
                    <a:pt x="2395" y="154"/>
                  </a:lnTo>
                  <a:lnTo>
                    <a:pt x="2393" y="178"/>
                  </a:lnTo>
                  <a:lnTo>
                    <a:pt x="2343" y="216"/>
                  </a:lnTo>
                  <a:lnTo>
                    <a:pt x="2331" y="226"/>
                  </a:lnTo>
                  <a:lnTo>
                    <a:pt x="2326" y="233"/>
                  </a:lnTo>
                  <a:lnTo>
                    <a:pt x="2329" y="241"/>
                  </a:lnTo>
                  <a:lnTo>
                    <a:pt x="2331" y="245"/>
                  </a:lnTo>
                  <a:lnTo>
                    <a:pt x="2326" y="249"/>
                  </a:lnTo>
                  <a:lnTo>
                    <a:pt x="2312" y="264"/>
                  </a:lnTo>
                  <a:lnTo>
                    <a:pt x="2291" y="272"/>
                  </a:lnTo>
                  <a:lnTo>
                    <a:pt x="2272" y="280"/>
                  </a:lnTo>
                  <a:lnTo>
                    <a:pt x="2251" y="283"/>
                  </a:lnTo>
                  <a:lnTo>
                    <a:pt x="2212" y="291"/>
                  </a:lnTo>
                  <a:lnTo>
                    <a:pt x="2183" y="301"/>
                  </a:lnTo>
                  <a:lnTo>
                    <a:pt x="2170" y="314"/>
                  </a:lnTo>
                  <a:lnTo>
                    <a:pt x="2168" y="320"/>
                  </a:lnTo>
                  <a:lnTo>
                    <a:pt x="2168" y="326"/>
                  </a:lnTo>
                  <a:lnTo>
                    <a:pt x="2164" y="332"/>
                  </a:lnTo>
                  <a:lnTo>
                    <a:pt x="2147" y="343"/>
                  </a:lnTo>
                  <a:lnTo>
                    <a:pt x="2112" y="355"/>
                  </a:lnTo>
                  <a:lnTo>
                    <a:pt x="1949" y="403"/>
                  </a:lnTo>
                  <a:lnTo>
                    <a:pt x="1941" y="407"/>
                  </a:lnTo>
                  <a:lnTo>
                    <a:pt x="1933" y="416"/>
                  </a:lnTo>
                  <a:lnTo>
                    <a:pt x="1918" y="437"/>
                  </a:lnTo>
                  <a:lnTo>
                    <a:pt x="1901" y="459"/>
                  </a:lnTo>
                  <a:lnTo>
                    <a:pt x="1893" y="472"/>
                  </a:lnTo>
                  <a:lnTo>
                    <a:pt x="1882" y="476"/>
                  </a:lnTo>
                  <a:lnTo>
                    <a:pt x="1868" y="480"/>
                  </a:lnTo>
                  <a:lnTo>
                    <a:pt x="1845" y="482"/>
                  </a:lnTo>
                  <a:lnTo>
                    <a:pt x="1803" y="493"/>
                  </a:lnTo>
                  <a:lnTo>
                    <a:pt x="1739" y="524"/>
                  </a:lnTo>
                  <a:lnTo>
                    <a:pt x="1714" y="653"/>
                  </a:lnTo>
                  <a:lnTo>
                    <a:pt x="1687" y="776"/>
                  </a:lnTo>
                  <a:lnTo>
                    <a:pt x="1657" y="896"/>
                  </a:lnTo>
                  <a:lnTo>
                    <a:pt x="1626" y="1013"/>
                  </a:lnTo>
                  <a:lnTo>
                    <a:pt x="1559" y="1233"/>
                  </a:lnTo>
                  <a:lnTo>
                    <a:pt x="1489" y="1428"/>
                  </a:lnTo>
                  <a:lnTo>
                    <a:pt x="1453" y="1520"/>
                  </a:lnTo>
                  <a:lnTo>
                    <a:pt x="1418" y="1605"/>
                  </a:lnTo>
                  <a:lnTo>
                    <a:pt x="1346" y="1757"/>
                  </a:lnTo>
                  <a:lnTo>
                    <a:pt x="1310" y="1822"/>
                  </a:lnTo>
                  <a:lnTo>
                    <a:pt x="1277" y="1880"/>
                  </a:lnTo>
                  <a:lnTo>
                    <a:pt x="1244" y="1932"/>
                  </a:lnTo>
                  <a:lnTo>
                    <a:pt x="1212" y="1976"/>
                  </a:lnTo>
                  <a:lnTo>
                    <a:pt x="1125" y="2084"/>
                  </a:lnTo>
                  <a:lnTo>
                    <a:pt x="1085" y="2132"/>
                  </a:lnTo>
                  <a:lnTo>
                    <a:pt x="1044" y="2173"/>
                  </a:lnTo>
                  <a:lnTo>
                    <a:pt x="1006" y="2213"/>
                  </a:lnTo>
                  <a:lnTo>
                    <a:pt x="969" y="2246"/>
                  </a:lnTo>
                  <a:lnTo>
                    <a:pt x="933" y="2277"/>
                  </a:lnTo>
                  <a:lnTo>
                    <a:pt x="896" y="2306"/>
                  </a:lnTo>
                  <a:lnTo>
                    <a:pt x="862" y="2331"/>
                  </a:lnTo>
                  <a:lnTo>
                    <a:pt x="829" y="2350"/>
                  </a:lnTo>
                  <a:lnTo>
                    <a:pt x="762" y="2381"/>
                  </a:lnTo>
                  <a:lnTo>
                    <a:pt x="698" y="2402"/>
                  </a:lnTo>
                  <a:lnTo>
                    <a:pt x="633" y="2411"/>
                  </a:lnTo>
                  <a:lnTo>
                    <a:pt x="585" y="2413"/>
                  </a:lnTo>
                  <a:lnTo>
                    <a:pt x="535" y="2406"/>
                  </a:lnTo>
                  <a:lnTo>
                    <a:pt x="487" y="2396"/>
                  </a:lnTo>
                  <a:lnTo>
                    <a:pt x="437" y="2383"/>
                  </a:lnTo>
                  <a:lnTo>
                    <a:pt x="391" y="2367"/>
                  </a:lnTo>
                  <a:lnTo>
                    <a:pt x="343" y="2346"/>
                  </a:lnTo>
                  <a:lnTo>
                    <a:pt x="256" y="2302"/>
                  </a:lnTo>
                  <a:lnTo>
                    <a:pt x="181" y="2259"/>
                  </a:lnTo>
                  <a:lnTo>
                    <a:pt x="120" y="2217"/>
                  </a:lnTo>
                  <a:lnTo>
                    <a:pt x="81" y="2186"/>
                  </a:lnTo>
                  <a:lnTo>
                    <a:pt x="64" y="2171"/>
                  </a:lnTo>
                  <a:lnTo>
                    <a:pt x="33" y="2127"/>
                  </a:lnTo>
                  <a:lnTo>
                    <a:pt x="12" y="2092"/>
                  </a:lnTo>
                  <a:lnTo>
                    <a:pt x="2" y="2065"/>
                  </a:lnTo>
                  <a:lnTo>
                    <a:pt x="0" y="2044"/>
                  </a:lnTo>
                  <a:lnTo>
                    <a:pt x="0" y="2032"/>
                  </a:lnTo>
                  <a:lnTo>
                    <a:pt x="4" y="2023"/>
                  </a:lnTo>
                  <a:lnTo>
                    <a:pt x="16" y="2015"/>
                  </a:lnTo>
                  <a:lnTo>
                    <a:pt x="31" y="2015"/>
                  </a:lnTo>
                  <a:lnTo>
                    <a:pt x="39" y="2019"/>
                  </a:lnTo>
                  <a:lnTo>
                    <a:pt x="47" y="2026"/>
                  </a:lnTo>
                  <a:lnTo>
                    <a:pt x="72" y="2053"/>
                  </a:lnTo>
                  <a:lnTo>
                    <a:pt x="120" y="2096"/>
                  </a:lnTo>
                  <a:lnTo>
                    <a:pt x="177" y="2140"/>
                  </a:lnTo>
                  <a:lnTo>
                    <a:pt x="233" y="2173"/>
                  </a:lnTo>
                  <a:lnTo>
                    <a:pt x="289" y="2198"/>
                  </a:lnTo>
                  <a:lnTo>
                    <a:pt x="341" y="2215"/>
                  </a:lnTo>
                  <a:lnTo>
                    <a:pt x="393" y="2225"/>
                  </a:lnTo>
                  <a:lnTo>
                    <a:pt x="446" y="2227"/>
                  </a:lnTo>
                  <a:lnTo>
                    <a:pt x="493" y="2221"/>
                  </a:lnTo>
                  <a:lnTo>
                    <a:pt x="541" y="2211"/>
                  </a:lnTo>
                  <a:lnTo>
                    <a:pt x="589" y="2194"/>
                  </a:lnTo>
                  <a:lnTo>
                    <a:pt x="633" y="2169"/>
                  </a:lnTo>
                  <a:lnTo>
                    <a:pt x="679" y="2140"/>
                  </a:lnTo>
                  <a:lnTo>
                    <a:pt x="723" y="2105"/>
                  </a:lnTo>
                  <a:lnTo>
                    <a:pt x="766" y="2065"/>
                  </a:lnTo>
                  <a:lnTo>
                    <a:pt x="806" y="2019"/>
                  </a:lnTo>
                  <a:lnTo>
                    <a:pt x="848" y="1971"/>
                  </a:lnTo>
                  <a:lnTo>
                    <a:pt x="887" y="1919"/>
                  </a:lnTo>
                  <a:lnTo>
                    <a:pt x="944" y="1834"/>
                  </a:lnTo>
                  <a:lnTo>
                    <a:pt x="998" y="1740"/>
                  </a:lnTo>
                  <a:lnTo>
                    <a:pt x="1052" y="1636"/>
                  </a:lnTo>
                  <a:lnTo>
                    <a:pt x="1102" y="1524"/>
                  </a:lnTo>
                  <a:lnTo>
                    <a:pt x="1150" y="1403"/>
                  </a:lnTo>
                  <a:lnTo>
                    <a:pt x="1198" y="1268"/>
                  </a:lnTo>
                  <a:lnTo>
                    <a:pt x="1244" y="1123"/>
                  </a:lnTo>
                  <a:lnTo>
                    <a:pt x="1285" y="965"/>
                  </a:lnTo>
                  <a:lnTo>
                    <a:pt x="1374" y="595"/>
                  </a:lnTo>
                  <a:lnTo>
                    <a:pt x="1372" y="568"/>
                  </a:lnTo>
                  <a:lnTo>
                    <a:pt x="796" y="634"/>
                  </a:lnTo>
                  <a:lnTo>
                    <a:pt x="719" y="641"/>
                  </a:lnTo>
                  <a:lnTo>
                    <a:pt x="704" y="638"/>
                  </a:lnTo>
                  <a:lnTo>
                    <a:pt x="677" y="580"/>
                  </a:lnTo>
                  <a:lnTo>
                    <a:pt x="621" y="584"/>
                  </a:lnTo>
                  <a:lnTo>
                    <a:pt x="612" y="580"/>
                  </a:lnTo>
                  <a:lnTo>
                    <a:pt x="606" y="568"/>
                  </a:lnTo>
                  <a:lnTo>
                    <a:pt x="608" y="555"/>
                  </a:lnTo>
                  <a:lnTo>
                    <a:pt x="610" y="549"/>
                  </a:lnTo>
                  <a:lnTo>
                    <a:pt x="623" y="547"/>
                  </a:lnTo>
                  <a:lnTo>
                    <a:pt x="641" y="541"/>
                  </a:lnTo>
                  <a:lnTo>
                    <a:pt x="654" y="534"/>
                  </a:lnTo>
                  <a:lnTo>
                    <a:pt x="664" y="520"/>
                  </a:lnTo>
                  <a:lnTo>
                    <a:pt x="666" y="509"/>
                  </a:lnTo>
                  <a:lnTo>
                    <a:pt x="660" y="499"/>
                  </a:lnTo>
                  <a:lnTo>
                    <a:pt x="633" y="482"/>
                  </a:lnTo>
                  <a:lnTo>
                    <a:pt x="602" y="464"/>
                  </a:lnTo>
                  <a:lnTo>
                    <a:pt x="591" y="455"/>
                  </a:lnTo>
                  <a:lnTo>
                    <a:pt x="585" y="445"/>
                  </a:lnTo>
                  <a:lnTo>
                    <a:pt x="583" y="422"/>
                  </a:lnTo>
                  <a:lnTo>
                    <a:pt x="587" y="405"/>
                  </a:lnTo>
                  <a:lnTo>
                    <a:pt x="596" y="397"/>
                  </a:lnTo>
                  <a:lnTo>
                    <a:pt x="608" y="393"/>
                  </a:lnTo>
                  <a:lnTo>
                    <a:pt x="641" y="391"/>
                  </a:lnTo>
                  <a:lnTo>
                    <a:pt x="664" y="391"/>
                  </a:lnTo>
                  <a:lnTo>
                    <a:pt x="685" y="385"/>
                  </a:lnTo>
                  <a:lnTo>
                    <a:pt x="685" y="368"/>
                  </a:lnTo>
                  <a:lnTo>
                    <a:pt x="654" y="366"/>
                  </a:lnTo>
                  <a:lnTo>
                    <a:pt x="633" y="360"/>
                  </a:lnTo>
                  <a:lnTo>
                    <a:pt x="629" y="353"/>
                  </a:lnTo>
                  <a:lnTo>
                    <a:pt x="627" y="343"/>
                  </a:lnTo>
                  <a:lnTo>
                    <a:pt x="633" y="301"/>
                  </a:lnTo>
                  <a:lnTo>
                    <a:pt x="635" y="297"/>
                  </a:lnTo>
                  <a:lnTo>
                    <a:pt x="641" y="293"/>
                  </a:lnTo>
                  <a:lnTo>
                    <a:pt x="664" y="289"/>
                  </a:lnTo>
                  <a:lnTo>
                    <a:pt x="781" y="289"/>
                  </a:lnTo>
                  <a:lnTo>
                    <a:pt x="889" y="283"/>
                  </a:lnTo>
                  <a:lnTo>
                    <a:pt x="1039" y="270"/>
                  </a:lnTo>
                  <a:lnTo>
                    <a:pt x="1237" y="245"/>
                  </a:lnTo>
                  <a:lnTo>
                    <a:pt x="1493" y="206"/>
                  </a:lnTo>
                  <a:lnTo>
                    <a:pt x="2295" y="49"/>
                  </a:lnTo>
                  <a:lnTo>
                    <a:pt x="2539" y="8"/>
                  </a:lnTo>
                  <a:lnTo>
                    <a:pt x="2612" y="0"/>
                  </a:lnTo>
                  <a:lnTo>
                    <a:pt x="2658" y="0"/>
                  </a:lnTo>
                  <a:lnTo>
                    <a:pt x="2687" y="6"/>
                  </a:lnTo>
                  <a:lnTo>
                    <a:pt x="2699" y="16"/>
                  </a:lnTo>
                  <a:lnTo>
                    <a:pt x="2704" y="31"/>
                  </a:lnTo>
                  <a:lnTo>
                    <a:pt x="2704" y="4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99120" y="5564160"/>
              <a:ext cx="849600" cy="790920"/>
            </a:xfrm>
            <a:custGeom>
              <a:avLst/>
              <a:gdLst/>
              <a:ahLst/>
              <a:rect l="0" t="0" r="r" b="b"/>
              <a:pathLst>
                <a:path w="2360" h="2197">
                  <a:moveTo>
                    <a:pt x="706" y="145"/>
                  </a:moveTo>
                  <a:lnTo>
                    <a:pt x="739" y="162"/>
                  </a:lnTo>
                  <a:lnTo>
                    <a:pt x="762" y="176"/>
                  </a:lnTo>
                  <a:lnTo>
                    <a:pt x="769" y="185"/>
                  </a:lnTo>
                  <a:lnTo>
                    <a:pt x="773" y="195"/>
                  </a:lnTo>
                  <a:lnTo>
                    <a:pt x="773" y="220"/>
                  </a:lnTo>
                  <a:lnTo>
                    <a:pt x="758" y="255"/>
                  </a:lnTo>
                  <a:lnTo>
                    <a:pt x="729" y="305"/>
                  </a:lnTo>
                  <a:lnTo>
                    <a:pt x="635" y="459"/>
                  </a:lnTo>
                  <a:lnTo>
                    <a:pt x="614" y="480"/>
                  </a:lnTo>
                  <a:lnTo>
                    <a:pt x="591" y="580"/>
                  </a:lnTo>
                  <a:lnTo>
                    <a:pt x="581" y="607"/>
                  </a:lnTo>
                  <a:lnTo>
                    <a:pt x="568" y="625"/>
                  </a:lnTo>
                  <a:lnTo>
                    <a:pt x="535" y="673"/>
                  </a:lnTo>
                  <a:lnTo>
                    <a:pt x="506" y="717"/>
                  </a:lnTo>
                  <a:lnTo>
                    <a:pt x="468" y="781"/>
                  </a:lnTo>
                  <a:lnTo>
                    <a:pt x="420" y="917"/>
                  </a:lnTo>
                  <a:lnTo>
                    <a:pt x="406" y="935"/>
                  </a:lnTo>
                  <a:lnTo>
                    <a:pt x="373" y="983"/>
                  </a:lnTo>
                  <a:lnTo>
                    <a:pt x="350" y="1021"/>
                  </a:lnTo>
                  <a:lnTo>
                    <a:pt x="323" y="1068"/>
                  </a:lnTo>
                  <a:lnTo>
                    <a:pt x="266" y="1203"/>
                  </a:lnTo>
                  <a:lnTo>
                    <a:pt x="233" y="1302"/>
                  </a:lnTo>
                  <a:lnTo>
                    <a:pt x="208" y="1381"/>
                  </a:lnTo>
                  <a:lnTo>
                    <a:pt x="195" y="1442"/>
                  </a:lnTo>
                  <a:lnTo>
                    <a:pt x="191" y="1483"/>
                  </a:lnTo>
                  <a:lnTo>
                    <a:pt x="200" y="1510"/>
                  </a:lnTo>
                  <a:lnTo>
                    <a:pt x="206" y="1519"/>
                  </a:lnTo>
                  <a:lnTo>
                    <a:pt x="214" y="1521"/>
                  </a:lnTo>
                  <a:lnTo>
                    <a:pt x="222" y="1523"/>
                  </a:lnTo>
                  <a:lnTo>
                    <a:pt x="235" y="1521"/>
                  </a:lnTo>
                  <a:lnTo>
                    <a:pt x="264" y="1506"/>
                  </a:lnTo>
                  <a:lnTo>
                    <a:pt x="298" y="1485"/>
                  </a:lnTo>
                  <a:lnTo>
                    <a:pt x="337" y="1456"/>
                  </a:lnTo>
                  <a:lnTo>
                    <a:pt x="423" y="1379"/>
                  </a:lnTo>
                  <a:lnTo>
                    <a:pt x="614" y="1203"/>
                  </a:lnTo>
                  <a:lnTo>
                    <a:pt x="646" y="1173"/>
                  </a:lnTo>
                  <a:lnTo>
                    <a:pt x="664" y="1153"/>
                  </a:lnTo>
                  <a:lnTo>
                    <a:pt x="685" y="1126"/>
                  </a:lnTo>
                  <a:lnTo>
                    <a:pt x="704" y="1093"/>
                  </a:lnTo>
                  <a:lnTo>
                    <a:pt x="725" y="1056"/>
                  </a:lnTo>
                  <a:lnTo>
                    <a:pt x="744" y="1010"/>
                  </a:lnTo>
                  <a:lnTo>
                    <a:pt x="758" y="956"/>
                  </a:lnTo>
                  <a:lnTo>
                    <a:pt x="787" y="838"/>
                  </a:lnTo>
                  <a:lnTo>
                    <a:pt x="798" y="786"/>
                  </a:lnTo>
                  <a:lnTo>
                    <a:pt x="806" y="771"/>
                  </a:lnTo>
                  <a:lnTo>
                    <a:pt x="825" y="750"/>
                  </a:lnTo>
                  <a:lnTo>
                    <a:pt x="833" y="746"/>
                  </a:lnTo>
                  <a:lnTo>
                    <a:pt x="831" y="702"/>
                  </a:lnTo>
                  <a:lnTo>
                    <a:pt x="831" y="669"/>
                  </a:lnTo>
                  <a:lnTo>
                    <a:pt x="837" y="642"/>
                  </a:lnTo>
                  <a:lnTo>
                    <a:pt x="846" y="623"/>
                  </a:lnTo>
                  <a:lnTo>
                    <a:pt x="856" y="613"/>
                  </a:lnTo>
                  <a:lnTo>
                    <a:pt x="864" y="605"/>
                  </a:lnTo>
                  <a:lnTo>
                    <a:pt x="881" y="598"/>
                  </a:lnTo>
                  <a:lnTo>
                    <a:pt x="902" y="582"/>
                  </a:lnTo>
                  <a:lnTo>
                    <a:pt x="887" y="546"/>
                  </a:lnTo>
                  <a:lnTo>
                    <a:pt x="885" y="534"/>
                  </a:lnTo>
                  <a:lnTo>
                    <a:pt x="885" y="519"/>
                  </a:lnTo>
                  <a:lnTo>
                    <a:pt x="908" y="476"/>
                  </a:lnTo>
                  <a:lnTo>
                    <a:pt x="964" y="388"/>
                  </a:lnTo>
                  <a:lnTo>
                    <a:pt x="998" y="338"/>
                  </a:lnTo>
                  <a:lnTo>
                    <a:pt x="1025" y="291"/>
                  </a:lnTo>
                  <a:lnTo>
                    <a:pt x="1069" y="214"/>
                  </a:lnTo>
                  <a:lnTo>
                    <a:pt x="1094" y="187"/>
                  </a:lnTo>
                  <a:lnTo>
                    <a:pt x="1119" y="172"/>
                  </a:lnTo>
                  <a:lnTo>
                    <a:pt x="1150" y="168"/>
                  </a:lnTo>
                  <a:lnTo>
                    <a:pt x="1169" y="170"/>
                  </a:lnTo>
                  <a:lnTo>
                    <a:pt x="1188" y="176"/>
                  </a:lnTo>
                  <a:lnTo>
                    <a:pt x="1197" y="189"/>
                  </a:lnTo>
                  <a:lnTo>
                    <a:pt x="1268" y="180"/>
                  </a:lnTo>
                  <a:lnTo>
                    <a:pt x="1293" y="185"/>
                  </a:lnTo>
                  <a:lnTo>
                    <a:pt x="1311" y="197"/>
                  </a:lnTo>
                  <a:lnTo>
                    <a:pt x="1324" y="232"/>
                  </a:lnTo>
                  <a:lnTo>
                    <a:pt x="1326" y="255"/>
                  </a:lnTo>
                  <a:lnTo>
                    <a:pt x="1326" y="274"/>
                  </a:lnTo>
                  <a:lnTo>
                    <a:pt x="1322" y="284"/>
                  </a:lnTo>
                  <a:lnTo>
                    <a:pt x="1316" y="301"/>
                  </a:lnTo>
                  <a:lnTo>
                    <a:pt x="1316" y="307"/>
                  </a:lnTo>
                  <a:lnTo>
                    <a:pt x="1322" y="311"/>
                  </a:lnTo>
                  <a:lnTo>
                    <a:pt x="1332" y="318"/>
                  </a:lnTo>
                  <a:lnTo>
                    <a:pt x="1347" y="322"/>
                  </a:lnTo>
                  <a:lnTo>
                    <a:pt x="1361" y="330"/>
                  </a:lnTo>
                  <a:lnTo>
                    <a:pt x="1366" y="338"/>
                  </a:lnTo>
                  <a:lnTo>
                    <a:pt x="1370" y="349"/>
                  </a:lnTo>
                  <a:lnTo>
                    <a:pt x="1370" y="366"/>
                  </a:lnTo>
                  <a:lnTo>
                    <a:pt x="1366" y="382"/>
                  </a:lnTo>
                  <a:lnTo>
                    <a:pt x="1349" y="428"/>
                  </a:lnTo>
                  <a:lnTo>
                    <a:pt x="1282" y="559"/>
                  </a:lnTo>
                  <a:lnTo>
                    <a:pt x="1177" y="763"/>
                  </a:lnTo>
                  <a:lnTo>
                    <a:pt x="1117" y="898"/>
                  </a:lnTo>
                  <a:lnTo>
                    <a:pt x="1052" y="1056"/>
                  </a:lnTo>
                  <a:lnTo>
                    <a:pt x="992" y="1223"/>
                  </a:lnTo>
                  <a:lnTo>
                    <a:pt x="948" y="1348"/>
                  </a:lnTo>
                  <a:lnTo>
                    <a:pt x="923" y="1433"/>
                  </a:lnTo>
                  <a:lnTo>
                    <a:pt x="912" y="1494"/>
                  </a:lnTo>
                  <a:lnTo>
                    <a:pt x="917" y="1531"/>
                  </a:lnTo>
                  <a:lnTo>
                    <a:pt x="923" y="1544"/>
                  </a:lnTo>
                  <a:lnTo>
                    <a:pt x="931" y="1554"/>
                  </a:lnTo>
                  <a:lnTo>
                    <a:pt x="956" y="1569"/>
                  </a:lnTo>
                  <a:lnTo>
                    <a:pt x="987" y="1585"/>
                  </a:lnTo>
                  <a:lnTo>
                    <a:pt x="1085" y="1446"/>
                  </a:lnTo>
                  <a:lnTo>
                    <a:pt x="1135" y="1381"/>
                  </a:lnTo>
                  <a:lnTo>
                    <a:pt x="1162" y="1346"/>
                  </a:lnTo>
                  <a:lnTo>
                    <a:pt x="1188" y="1296"/>
                  </a:lnTo>
                  <a:lnTo>
                    <a:pt x="1079" y="1327"/>
                  </a:lnTo>
                  <a:lnTo>
                    <a:pt x="1085" y="1296"/>
                  </a:lnTo>
                  <a:lnTo>
                    <a:pt x="1092" y="1288"/>
                  </a:lnTo>
                  <a:lnTo>
                    <a:pt x="1100" y="1279"/>
                  </a:lnTo>
                  <a:lnTo>
                    <a:pt x="1114" y="1254"/>
                  </a:lnTo>
                  <a:lnTo>
                    <a:pt x="1108" y="1240"/>
                  </a:lnTo>
                  <a:lnTo>
                    <a:pt x="1100" y="1223"/>
                  </a:lnTo>
                  <a:lnTo>
                    <a:pt x="1096" y="1209"/>
                  </a:lnTo>
                  <a:lnTo>
                    <a:pt x="1098" y="1203"/>
                  </a:lnTo>
                  <a:lnTo>
                    <a:pt x="1100" y="1196"/>
                  </a:lnTo>
                  <a:lnTo>
                    <a:pt x="1299" y="1068"/>
                  </a:lnTo>
                  <a:lnTo>
                    <a:pt x="1349" y="1035"/>
                  </a:lnTo>
                  <a:lnTo>
                    <a:pt x="1378" y="1010"/>
                  </a:lnTo>
                  <a:lnTo>
                    <a:pt x="1389" y="998"/>
                  </a:lnTo>
                  <a:lnTo>
                    <a:pt x="1397" y="985"/>
                  </a:lnTo>
                  <a:lnTo>
                    <a:pt x="1414" y="952"/>
                  </a:lnTo>
                  <a:lnTo>
                    <a:pt x="1441" y="902"/>
                  </a:lnTo>
                  <a:lnTo>
                    <a:pt x="1482" y="825"/>
                  </a:lnTo>
                  <a:lnTo>
                    <a:pt x="1561" y="738"/>
                  </a:lnTo>
                  <a:lnTo>
                    <a:pt x="1584" y="725"/>
                  </a:lnTo>
                  <a:lnTo>
                    <a:pt x="1589" y="694"/>
                  </a:lnTo>
                  <a:lnTo>
                    <a:pt x="1603" y="682"/>
                  </a:lnTo>
                  <a:lnTo>
                    <a:pt x="1641" y="646"/>
                  </a:lnTo>
                  <a:lnTo>
                    <a:pt x="1672" y="611"/>
                  </a:lnTo>
                  <a:lnTo>
                    <a:pt x="1716" y="555"/>
                  </a:lnTo>
                  <a:lnTo>
                    <a:pt x="1841" y="395"/>
                  </a:lnTo>
                  <a:lnTo>
                    <a:pt x="1895" y="338"/>
                  </a:lnTo>
                  <a:lnTo>
                    <a:pt x="1928" y="314"/>
                  </a:lnTo>
                  <a:lnTo>
                    <a:pt x="1957" y="293"/>
                  </a:lnTo>
                  <a:lnTo>
                    <a:pt x="2001" y="253"/>
                  </a:lnTo>
                  <a:lnTo>
                    <a:pt x="2016" y="237"/>
                  </a:lnTo>
                  <a:lnTo>
                    <a:pt x="2028" y="218"/>
                  </a:lnTo>
                  <a:lnTo>
                    <a:pt x="2041" y="180"/>
                  </a:lnTo>
                  <a:lnTo>
                    <a:pt x="2049" y="116"/>
                  </a:lnTo>
                  <a:lnTo>
                    <a:pt x="2055" y="91"/>
                  </a:lnTo>
                  <a:lnTo>
                    <a:pt x="2060" y="83"/>
                  </a:lnTo>
                  <a:lnTo>
                    <a:pt x="2070" y="76"/>
                  </a:lnTo>
                  <a:lnTo>
                    <a:pt x="2099" y="74"/>
                  </a:lnTo>
                  <a:lnTo>
                    <a:pt x="2149" y="85"/>
                  </a:lnTo>
                  <a:lnTo>
                    <a:pt x="2170" y="101"/>
                  </a:lnTo>
                  <a:lnTo>
                    <a:pt x="2170" y="126"/>
                  </a:lnTo>
                  <a:lnTo>
                    <a:pt x="2174" y="131"/>
                  </a:lnTo>
                  <a:lnTo>
                    <a:pt x="2180" y="133"/>
                  </a:lnTo>
                  <a:lnTo>
                    <a:pt x="2224" y="135"/>
                  </a:lnTo>
                  <a:lnTo>
                    <a:pt x="2324" y="149"/>
                  </a:lnTo>
                  <a:lnTo>
                    <a:pt x="2341" y="153"/>
                  </a:lnTo>
                  <a:lnTo>
                    <a:pt x="2351" y="162"/>
                  </a:lnTo>
                  <a:lnTo>
                    <a:pt x="2358" y="172"/>
                  </a:lnTo>
                  <a:lnTo>
                    <a:pt x="2360" y="187"/>
                  </a:lnTo>
                  <a:lnTo>
                    <a:pt x="2358" y="234"/>
                  </a:lnTo>
                  <a:lnTo>
                    <a:pt x="2343" y="309"/>
                  </a:lnTo>
                  <a:lnTo>
                    <a:pt x="2322" y="420"/>
                  </a:lnTo>
                  <a:lnTo>
                    <a:pt x="2299" y="569"/>
                  </a:lnTo>
                  <a:lnTo>
                    <a:pt x="2274" y="767"/>
                  </a:lnTo>
                  <a:lnTo>
                    <a:pt x="2255" y="1016"/>
                  </a:lnTo>
                  <a:lnTo>
                    <a:pt x="2222" y="1502"/>
                  </a:lnTo>
                  <a:lnTo>
                    <a:pt x="2185" y="1872"/>
                  </a:lnTo>
                  <a:lnTo>
                    <a:pt x="2178" y="1957"/>
                  </a:lnTo>
                  <a:lnTo>
                    <a:pt x="2174" y="2034"/>
                  </a:lnTo>
                  <a:lnTo>
                    <a:pt x="2170" y="2061"/>
                  </a:lnTo>
                  <a:lnTo>
                    <a:pt x="2164" y="2080"/>
                  </a:lnTo>
                  <a:lnTo>
                    <a:pt x="2160" y="2084"/>
                  </a:lnTo>
                  <a:lnTo>
                    <a:pt x="2153" y="2086"/>
                  </a:lnTo>
                  <a:lnTo>
                    <a:pt x="2137" y="2078"/>
                  </a:lnTo>
                  <a:lnTo>
                    <a:pt x="2137" y="2066"/>
                  </a:lnTo>
                  <a:lnTo>
                    <a:pt x="2128" y="2059"/>
                  </a:lnTo>
                  <a:lnTo>
                    <a:pt x="2122" y="1982"/>
                  </a:lnTo>
                  <a:lnTo>
                    <a:pt x="2089" y="1968"/>
                  </a:lnTo>
                  <a:lnTo>
                    <a:pt x="2074" y="1953"/>
                  </a:lnTo>
                  <a:lnTo>
                    <a:pt x="2070" y="1945"/>
                  </a:lnTo>
                  <a:lnTo>
                    <a:pt x="2070" y="1932"/>
                  </a:lnTo>
                  <a:lnTo>
                    <a:pt x="2080" y="1926"/>
                  </a:lnTo>
                  <a:lnTo>
                    <a:pt x="2089" y="1916"/>
                  </a:lnTo>
                  <a:lnTo>
                    <a:pt x="2097" y="1895"/>
                  </a:lnTo>
                  <a:lnTo>
                    <a:pt x="2099" y="1872"/>
                  </a:lnTo>
                  <a:lnTo>
                    <a:pt x="2097" y="1855"/>
                  </a:lnTo>
                  <a:lnTo>
                    <a:pt x="2074" y="1843"/>
                  </a:lnTo>
                  <a:lnTo>
                    <a:pt x="2064" y="1808"/>
                  </a:lnTo>
                  <a:lnTo>
                    <a:pt x="2062" y="1799"/>
                  </a:lnTo>
                  <a:lnTo>
                    <a:pt x="2072" y="1797"/>
                  </a:lnTo>
                  <a:lnTo>
                    <a:pt x="2080" y="1793"/>
                  </a:lnTo>
                  <a:lnTo>
                    <a:pt x="2091" y="1781"/>
                  </a:lnTo>
                  <a:lnTo>
                    <a:pt x="2093" y="1768"/>
                  </a:lnTo>
                  <a:lnTo>
                    <a:pt x="2091" y="1764"/>
                  </a:lnTo>
                  <a:lnTo>
                    <a:pt x="2053" y="1764"/>
                  </a:lnTo>
                  <a:lnTo>
                    <a:pt x="2030" y="1631"/>
                  </a:lnTo>
                  <a:lnTo>
                    <a:pt x="2018" y="1554"/>
                  </a:lnTo>
                  <a:lnTo>
                    <a:pt x="2014" y="1539"/>
                  </a:lnTo>
                  <a:lnTo>
                    <a:pt x="2010" y="1537"/>
                  </a:lnTo>
                  <a:lnTo>
                    <a:pt x="1987" y="1581"/>
                  </a:lnTo>
                  <a:lnTo>
                    <a:pt x="1970" y="1435"/>
                  </a:lnTo>
                  <a:lnTo>
                    <a:pt x="1970" y="1388"/>
                  </a:lnTo>
                  <a:lnTo>
                    <a:pt x="1978" y="1377"/>
                  </a:lnTo>
                  <a:lnTo>
                    <a:pt x="1980" y="1369"/>
                  </a:lnTo>
                  <a:lnTo>
                    <a:pt x="1982" y="1350"/>
                  </a:lnTo>
                  <a:lnTo>
                    <a:pt x="1970" y="1279"/>
                  </a:lnTo>
                  <a:lnTo>
                    <a:pt x="1964" y="1267"/>
                  </a:lnTo>
                  <a:lnTo>
                    <a:pt x="1960" y="1244"/>
                  </a:lnTo>
                  <a:lnTo>
                    <a:pt x="1960" y="1186"/>
                  </a:lnTo>
                  <a:lnTo>
                    <a:pt x="1970" y="1064"/>
                  </a:lnTo>
                  <a:lnTo>
                    <a:pt x="1976" y="1012"/>
                  </a:lnTo>
                  <a:lnTo>
                    <a:pt x="1974" y="960"/>
                  </a:lnTo>
                  <a:lnTo>
                    <a:pt x="1891" y="985"/>
                  </a:lnTo>
                  <a:lnTo>
                    <a:pt x="1828" y="1008"/>
                  </a:lnTo>
                  <a:lnTo>
                    <a:pt x="1784" y="1029"/>
                  </a:lnTo>
                  <a:lnTo>
                    <a:pt x="1755" y="1048"/>
                  </a:lnTo>
                  <a:lnTo>
                    <a:pt x="1714" y="1083"/>
                  </a:lnTo>
                  <a:lnTo>
                    <a:pt x="1695" y="1101"/>
                  </a:lnTo>
                  <a:lnTo>
                    <a:pt x="1668" y="1115"/>
                  </a:lnTo>
                  <a:lnTo>
                    <a:pt x="1612" y="1134"/>
                  </a:lnTo>
                  <a:lnTo>
                    <a:pt x="1578" y="1140"/>
                  </a:lnTo>
                  <a:lnTo>
                    <a:pt x="1559" y="1138"/>
                  </a:lnTo>
                  <a:lnTo>
                    <a:pt x="1541" y="1144"/>
                  </a:lnTo>
                  <a:lnTo>
                    <a:pt x="1534" y="1171"/>
                  </a:lnTo>
                  <a:lnTo>
                    <a:pt x="1501" y="1192"/>
                  </a:lnTo>
                  <a:lnTo>
                    <a:pt x="1493" y="1203"/>
                  </a:lnTo>
                  <a:lnTo>
                    <a:pt x="1482" y="1223"/>
                  </a:lnTo>
                  <a:lnTo>
                    <a:pt x="1459" y="1269"/>
                  </a:lnTo>
                  <a:lnTo>
                    <a:pt x="1420" y="1348"/>
                  </a:lnTo>
                  <a:lnTo>
                    <a:pt x="1355" y="1469"/>
                  </a:lnTo>
                  <a:lnTo>
                    <a:pt x="1255" y="1641"/>
                  </a:lnTo>
                  <a:lnTo>
                    <a:pt x="1154" y="1820"/>
                  </a:lnTo>
                  <a:lnTo>
                    <a:pt x="1144" y="1837"/>
                  </a:lnTo>
                  <a:lnTo>
                    <a:pt x="1137" y="1843"/>
                  </a:lnTo>
                  <a:lnTo>
                    <a:pt x="1129" y="1845"/>
                  </a:lnTo>
                  <a:lnTo>
                    <a:pt x="1119" y="1843"/>
                  </a:lnTo>
                  <a:lnTo>
                    <a:pt x="1106" y="1837"/>
                  </a:lnTo>
                  <a:lnTo>
                    <a:pt x="1100" y="1833"/>
                  </a:lnTo>
                  <a:lnTo>
                    <a:pt x="1098" y="1835"/>
                  </a:lnTo>
                  <a:lnTo>
                    <a:pt x="1092" y="1843"/>
                  </a:lnTo>
                  <a:lnTo>
                    <a:pt x="1062" y="1901"/>
                  </a:lnTo>
                  <a:lnTo>
                    <a:pt x="1033" y="1955"/>
                  </a:lnTo>
                  <a:lnTo>
                    <a:pt x="987" y="2034"/>
                  </a:lnTo>
                  <a:lnTo>
                    <a:pt x="960" y="2068"/>
                  </a:lnTo>
                  <a:lnTo>
                    <a:pt x="948" y="2080"/>
                  </a:lnTo>
                  <a:lnTo>
                    <a:pt x="933" y="2090"/>
                  </a:lnTo>
                  <a:lnTo>
                    <a:pt x="914" y="2101"/>
                  </a:lnTo>
                  <a:lnTo>
                    <a:pt x="902" y="2099"/>
                  </a:lnTo>
                  <a:lnTo>
                    <a:pt x="887" y="2076"/>
                  </a:lnTo>
                  <a:lnTo>
                    <a:pt x="885" y="2076"/>
                  </a:lnTo>
                  <a:lnTo>
                    <a:pt x="879" y="2082"/>
                  </a:lnTo>
                  <a:lnTo>
                    <a:pt x="869" y="2103"/>
                  </a:lnTo>
                  <a:lnTo>
                    <a:pt x="856" y="2120"/>
                  </a:lnTo>
                  <a:lnTo>
                    <a:pt x="841" y="2134"/>
                  </a:lnTo>
                  <a:lnTo>
                    <a:pt x="821" y="2130"/>
                  </a:lnTo>
                  <a:lnTo>
                    <a:pt x="819" y="2101"/>
                  </a:lnTo>
                  <a:lnTo>
                    <a:pt x="814" y="2088"/>
                  </a:lnTo>
                  <a:lnTo>
                    <a:pt x="808" y="2093"/>
                  </a:lnTo>
                  <a:lnTo>
                    <a:pt x="798" y="2109"/>
                  </a:lnTo>
                  <a:lnTo>
                    <a:pt x="769" y="2157"/>
                  </a:lnTo>
                  <a:lnTo>
                    <a:pt x="748" y="2180"/>
                  </a:lnTo>
                  <a:lnTo>
                    <a:pt x="723" y="2197"/>
                  </a:lnTo>
                  <a:lnTo>
                    <a:pt x="694" y="2197"/>
                  </a:lnTo>
                  <a:lnTo>
                    <a:pt x="698" y="2130"/>
                  </a:lnTo>
                  <a:lnTo>
                    <a:pt x="658" y="2126"/>
                  </a:lnTo>
                  <a:lnTo>
                    <a:pt x="668" y="2101"/>
                  </a:lnTo>
                  <a:lnTo>
                    <a:pt x="679" y="2074"/>
                  </a:lnTo>
                  <a:lnTo>
                    <a:pt x="714" y="2022"/>
                  </a:lnTo>
                  <a:lnTo>
                    <a:pt x="752" y="1970"/>
                  </a:lnTo>
                  <a:lnTo>
                    <a:pt x="785" y="1920"/>
                  </a:lnTo>
                  <a:lnTo>
                    <a:pt x="831" y="1833"/>
                  </a:lnTo>
                  <a:lnTo>
                    <a:pt x="852" y="1779"/>
                  </a:lnTo>
                  <a:lnTo>
                    <a:pt x="856" y="1762"/>
                  </a:lnTo>
                  <a:lnTo>
                    <a:pt x="856" y="1752"/>
                  </a:lnTo>
                  <a:lnTo>
                    <a:pt x="852" y="1745"/>
                  </a:lnTo>
                  <a:lnTo>
                    <a:pt x="844" y="1743"/>
                  </a:lnTo>
                  <a:lnTo>
                    <a:pt x="816" y="1747"/>
                  </a:lnTo>
                  <a:lnTo>
                    <a:pt x="783" y="1760"/>
                  </a:lnTo>
                  <a:lnTo>
                    <a:pt x="744" y="1772"/>
                  </a:lnTo>
                  <a:lnTo>
                    <a:pt x="702" y="1776"/>
                  </a:lnTo>
                  <a:lnTo>
                    <a:pt x="664" y="1772"/>
                  </a:lnTo>
                  <a:lnTo>
                    <a:pt x="635" y="1760"/>
                  </a:lnTo>
                  <a:lnTo>
                    <a:pt x="612" y="1739"/>
                  </a:lnTo>
                  <a:lnTo>
                    <a:pt x="596" y="1716"/>
                  </a:lnTo>
                  <a:lnTo>
                    <a:pt x="596" y="1672"/>
                  </a:lnTo>
                  <a:lnTo>
                    <a:pt x="593" y="1664"/>
                  </a:lnTo>
                  <a:lnTo>
                    <a:pt x="589" y="1658"/>
                  </a:lnTo>
                  <a:lnTo>
                    <a:pt x="579" y="1641"/>
                  </a:lnTo>
                  <a:lnTo>
                    <a:pt x="575" y="1606"/>
                  </a:lnTo>
                  <a:lnTo>
                    <a:pt x="579" y="1533"/>
                  </a:lnTo>
                  <a:lnTo>
                    <a:pt x="598" y="1448"/>
                  </a:lnTo>
                  <a:lnTo>
                    <a:pt x="616" y="1394"/>
                  </a:lnTo>
                  <a:lnTo>
                    <a:pt x="631" y="1367"/>
                  </a:lnTo>
                  <a:lnTo>
                    <a:pt x="631" y="1361"/>
                  </a:lnTo>
                  <a:lnTo>
                    <a:pt x="627" y="1363"/>
                  </a:lnTo>
                  <a:lnTo>
                    <a:pt x="593" y="1392"/>
                  </a:lnTo>
                  <a:lnTo>
                    <a:pt x="552" y="1435"/>
                  </a:lnTo>
                  <a:lnTo>
                    <a:pt x="454" y="1544"/>
                  </a:lnTo>
                  <a:lnTo>
                    <a:pt x="398" y="1598"/>
                  </a:lnTo>
                  <a:lnTo>
                    <a:pt x="341" y="1643"/>
                  </a:lnTo>
                  <a:lnTo>
                    <a:pt x="310" y="1662"/>
                  </a:lnTo>
                  <a:lnTo>
                    <a:pt x="281" y="1675"/>
                  </a:lnTo>
                  <a:lnTo>
                    <a:pt x="250" y="1687"/>
                  </a:lnTo>
                  <a:lnTo>
                    <a:pt x="218" y="1689"/>
                  </a:lnTo>
                  <a:lnTo>
                    <a:pt x="166" y="1689"/>
                  </a:lnTo>
                  <a:lnTo>
                    <a:pt x="143" y="1683"/>
                  </a:lnTo>
                  <a:lnTo>
                    <a:pt x="120" y="1677"/>
                  </a:lnTo>
                  <a:lnTo>
                    <a:pt x="102" y="1668"/>
                  </a:lnTo>
                  <a:lnTo>
                    <a:pt x="83" y="1658"/>
                  </a:lnTo>
                  <a:lnTo>
                    <a:pt x="68" y="1645"/>
                  </a:lnTo>
                  <a:lnTo>
                    <a:pt x="56" y="1631"/>
                  </a:lnTo>
                  <a:lnTo>
                    <a:pt x="33" y="1600"/>
                  </a:lnTo>
                  <a:lnTo>
                    <a:pt x="16" y="1562"/>
                  </a:lnTo>
                  <a:lnTo>
                    <a:pt x="8" y="1523"/>
                  </a:lnTo>
                  <a:lnTo>
                    <a:pt x="2" y="1479"/>
                  </a:lnTo>
                  <a:lnTo>
                    <a:pt x="0" y="1435"/>
                  </a:lnTo>
                  <a:lnTo>
                    <a:pt x="2" y="1390"/>
                  </a:lnTo>
                  <a:lnTo>
                    <a:pt x="12" y="1304"/>
                  </a:lnTo>
                  <a:lnTo>
                    <a:pt x="29" y="1230"/>
                  </a:lnTo>
                  <a:lnTo>
                    <a:pt x="43" y="1175"/>
                  </a:lnTo>
                  <a:lnTo>
                    <a:pt x="72" y="1075"/>
                  </a:lnTo>
                  <a:lnTo>
                    <a:pt x="87" y="1016"/>
                  </a:lnTo>
                  <a:lnTo>
                    <a:pt x="110" y="944"/>
                  </a:lnTo>
                  <a:lnTo>
                    <a:pt x="143" y="850"/>
                  </a:lnTo>
                  <a:lnTo>
                    <a:pt x="189" y="727"/>
                  </a:lnTo>
                  <a:lnTo>
                    <a:pt x="341" y="372"/>
                  </a:lnTo>
                  <a:lnTo>
                    <a:pt x="377" y="301"/>
                  </a:lnTo>
                  <a:lnTo>
                    <a:pt x="402" y="257"/>
                  </a:lnTo>
                  <a:lnTo>
                    <a:pt x="431" y="193"/>
                  </a:lnTo>
                  <a:lnTo>
                    <a:pt x="460" y="133"/>
                  </a:lnTo>
                  <a:lnTo>
                    <a:pt x="487" y="89"/>
                  </a:lnTo>
                  <a:lnTo>
                    <a:pt x="510" y="64"/>
                  </a:lnTo>
                  <a:lnTo>
                    <a:pt x="533" y="45"/>
                  </a:lnTo>
                  <a:lnTo>
                    <a:pt x="550" y="35"/>
                  </a:lnTo>
                  <a:lnTo>
                    <a:pt x="566" y="31"/>
                  </a:lnTo>
                  <a:lnTo>
                    <a:pt x="591" y="31"/>
                  </a:lnTo>
                  <a:lnTo>
                    <a:pt x="606" y="33"/>
                  </a:lnTo>
                  <a:lnTo>
                    <a:pt x="616" y="24"/>
                  </a:lnTo>
                  <a:lnTo>
                    <a:pt x="627" y="10"/>
                  </a:lnTo>
                  <a:lnTo>
                    <a:pt x="641" y="0"/>
                  </a:lnTo>
                  <a:lnTo>
                    <a:pt x="662" y="2"/>
                  </a:lnTo>
                  <a:lnTo>
                    <a:pt x="673" y="8"/>
                  </a:lnTo>
                  <a:lnTo>
                    <a:pt x="679" y="16"/>
                  </a:lnTo>
                  <a:lnTo>
                    <a:pt x="683" y="33"/>
                  </a:lnTo>
                  <a:lnTo>
                    <a:pt x="687" y="72"/>
                  </a:lnTo>
                  <a:lnTo>
                    <a:pt x="698" y="83"/>
                  </a:lnTo>
                  <a:lnTo>
                    <a:pt x="708" y="93"/>
                  </a:lnTo>
                  <a:lnTo>
                    <a:pt x="712" y="112"/>
                  </a:lnTo>
                  <a:lnTo>
                    <a:pt x="706" y="14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826400" y="5580000"/>
              <a:ext cx="981360" cy="908280"/>
            </a:xfrm>
            <a:custGeom>
              <a:avLst/>
              <a:gdLst/>
              <a:ahLst/>
              <a:rect l="0" t="0" r="r" b="b"/>
              <a:pathLst>
                <a:path w="2726" h="2523">
                  <a:moveTo>
                    <a:pt x="2599" y="2235"/>
                  </a:moveTo>
                  <a:lnTo>
                    <a:pt x="2582" y="2246"/>
                  </a:lnTo>
                  <a:lnTo>
                    <a:pt x="2567" y="2252"/>
                  </a:lnTo>
                  <a:lnTo>
                    <a:pt x="2555" y="2250"/>
                  </a:lnTo>
                  <a:lnTo>
                    <a:pt x="2540" y="2244"/>
                  </a:lnTo>
                  <a:lnTo>
                    <a:pt x="2503" y="2208"/>
                  </a:lnTo>
                  <a:lnTo>
                    <a:pt x="2432" y="2148"/>
                  </a:lnTo>
                  <a:lnTo>
                    <a:pt x="2038" y="1831"/>
                  </a:lnTo>
                  <a:lnTo>
                    <a:pt x="1929" y="1748"/>
                  </a:lnTo>
                  <a:lnTo>
                    <a:pt x="1823" y="1671"/>
                  </a:lnTo>
                  <a:lnTo>
                    <a:pt x="1771" y="1633"/>
                  </a:lnTo>
                  <a:lnTo>
                    <a:pt x="1731" y="1598"/>
                  </a:lnTo>
                  <a:lnTo>
                    <a:pt x="1698" y="1567"/>
                  </a:lnTo>
                  <a:lnTo>
                    <a:pt x="1673" y="1540"/>
                  </a:lnTo>
                  <a:lnTo>
                    <a:pt x="1635" y="1494"/>
                  </a:lnTo>
                  <a:lnTo>
                    <a:pt x="1623" y="1479"/>
                  </a:lnTo>
                  <a:lnTo>
                    <a:pt x="1608" y="1465"/>
                  </a:lnTo>
                  <a:lnTo>
                    <a:pt x="1554" y="1444"/>
                  </a:lnTo>
                  <a:lnTo>
                    <a:pt x="1402" y="1269"/>
                  </a:lnTo>
                  <a:lnTo>
                    <a:pt x="1361" y="1224"/>
                  </a:lnTo>
                  <a:lnTo>
                    <a:pt x="1340" y="1203"/>
                  </a:lnTo>
                  <a:lnTo>
                    <a:pt x="1324" y="1193"/>
                  </a:lnTo>
                  <a:lnTo>
                    <a:pt x="1303" y="1208"/>
                  </a:lnTo>
                  <a:lnTo>
                    <a:pt x="1082" y="1047"/>
                  </a:lnTo>
                  <a:lnTo>
                    <a:pt x="1009" y="999"/>
                  </a:lnTo>
                  <a:lnTo>
                    <a:pt x="1011" y="1001"/>
                  </a:lnTo>
                  <a:lnTo>
                    <a:pt x="1025" y="1016"/>
                  </a:lnTo>
                  <a:lnTo>
                    <a:pt x="1067" y="1058"/>
                  </a:lnTo>
                  <a:lnTo>
                    <a:pt x="1084" y="1081"/>
                  </a:lnTo>
                  <a:lnTo>
                    <a:pt x="1086" y="1089"/>
                  </a:lnTo>
                  <a:lnTo>
                    <a:pt x="1084" y="1091"/>
                  </a:lnTo>
                  <a:lnTo>
                    <a:pt x="1088" y="1097"/>
                  </a:lnTo>
                  <a:lnTo>
                    <a:pt x="1144" y="1153"/>
                  </a:lnTo>
                  <a:lnTo>
                    <a:pt x="1330" y="1321"/>
                  </a:lnTo>
                  <a:lnTo>
                    <a:pt x="1420" y="1398"/>
                  </a:lnTo>
                  <a:lnTo>
                    <a:pt x="1460" y="1429"/>
                  </a:lnTo>
                  <a:lnTo>
                    <a:pt x="1468" y="1438"/>
                  </a:lnTo>
                  <a:lnTo>
                    <a:pt x="1458" y="1444"/>
                  </a:lnTo>
                  <a:lnTo>
                    <a:pt x="1450" y="1448"/>
                  </a:lnTo>
                  <a:lnTo>
                    <a:pt x="1441" y="1450"/>
                  </a:lnTo>
                  <a:lnTo>
                    <a:pt x="1439" y="1448"/>
                  </a:lnTo>
                  <a:lnTo>
                    <a:pt x="1464" y="1463"/>
                  </a:lnTo>
                  <a:lnTo>
                    <a:pt x="1531" y="1513"/>
                  </a:lnTo>
                  <a:lnTo>
                    <a:pt x="1898" y="1811"/>
                  </a:lnTo>
                  <a:lnTo>
                    <a:pt x="1967" y="1871"/>
                  </a:lnTo>
                  <a:lnTo>
                    <a:pt x="1996" y="1898"/>
                  </a:lnTo>
                  <a:lnTo>
                    <a:pt x="2031" y="1938"/>
                  </a:lnTo>
                  <a:lnTo>
                    <a:pt x="2090" y="1990"/>
                  </a:lnTo>
                  <a:lnTo>
                    <a:pt x="2209" y="2094"/>
                  </a:lnTo>
                  <a:lnTo>
                    <a:pt x="2563" y="2408"/>
                  </a:lnTo>
                  <a:lnTo>
                    <a:pt x="2726" y="2512"/>
                  </a:lnTo>
                  <a:lnTo>
                    <a:pt x="2724" y="2521"/>
                  </a:lnTo>
                  <a:lnTo>
                    <a:pt x="2719" y="2523"/>
                  </a:lnTo>
                  <a:lnTo>
                    <a:pt x="2703" y="2523"/>
                  </a:lnTo>
                  <a:lnTo>
                    <a:pt x="2678" y="2512"/>
                  </a:lnTo>
                  <a:lnTo>
                    <a:pt x="2644" y="2494"/>
                  </a:lnTo>
                  <a:lnTo>
                    <a:pt x="2603" y="2469"/>
                  </a:lnTo>
                  <a:lnTo>
                    <a:pt x="2557" y="2435"/>
                  </a:lnTo>
                  <a:lnTo>
                    <a:pt x="2448" y="2356"/>
                  </a:lnTo>
                  <a:lnTo>
                    <a:pt x="2223" y="2181"/>
                  </a:lnTo>
                  <a:lnTo>
                    <a:pt x="2121" y="2104"/>
                  </a:lnTo>
                  <a:lnTo>
                    <a:pt x="2042" y="2046"/>
                  </a:lnTo>
                  <a:lnTo>
                    <a:pt x="1913" y="1954"/>
                  </a:lnTo>
                  <a:lnTo>
                    <a:pt x="1825" y="1883"/>
                  </a:lnTo>
                  <a:lnTo>
                    <a:pt x="1760" y="1823"/>
                  </a:lnTo>
                  <a:lnTo>
                    <a:pt x="1708" y="1767"/>
                  </a:lnTo>
                  <a:lnTo>
                    <a:pt x="1652" y="1708"/>
                  </a:lnTo>
                  <a:lnTo>
                    <a:pt x="1577" y="1638"/>
                  </a:lnTo>
                  <a:lnTo>
                    <a:pt x="1529" y="1596"/>
                  </a:lnTo>
                  <a:lnTo>
                    <a:pt x="1468" y="1550"/>
                  </a:lnTo>
                  <a:lnTo>
                    <a:pt x="1311" y="1436"/>
                  </a:lnTo>
                  <a:lnTo>
                    <a:pt x="1259" y="1417"/>
                  </a:lnTo>
                  <a:lnTo>
                    <a:pt x="1180" y="1325"/>
                  </a:lnTo>
                  <a:lnTo>
                    <a:pt x="1171" y="1286"/>
                  </a:lnTo>
                  <a:lnTo>
                    <a:pt x="1134" y="1258"/>
                  </a:lnTo>
                  <a:lnTo>
                    <a:pt x="1100" y="1230"/>
                  </a:lnTo>
                  <a:lnTo>
                    <a:pt x="1050" y="1180"/>
                  </a:lnTo>
                  <a:lnTo>
                    <a:pt x="1009" y="1143"/>
                  </a:lnTo>
                  <a:lnTo>
                    <a:pt x="988" y="1128"/>
                  </a:lnTo>
                  <a:lnTo>
                    <a:pt x="969" y="1120"/>
                  </a:lnTo>
                  <a:lnTo>
                    <a:pt x="917" y="1114"/>
                  </a:lnTo>
                  <a:lnTo>
                    <a:pt x="884" y="1074"/>
                  </a:lnTo>
                  <a:lnTo>
                    <a:pt x="859" y="1049"/>
                  </a:lnTo>
                  <a:lnTo>
                    <a:pt x="821" y="1028"/>
                  </a:lnTo>
                  <a:lnTo>
                    <a:pt x="813" y="1024"/>
                  </a:lnTo>
                  <a:lnTo>
                    <a:pt x="813" y="1018"/>
                  </a:lnTo>
                  <a:lnTo>
                    <a:pt x="838" y="985"/>
                  </a:lnTo>
                  <a:lnTo>
                    <a:pt x="846" y="974"/>
                  </a:lnTo>
                  <a:lnTo>
                    <a:pt x="852" y="964"/>
                  </a:lnTo>
                  <a:lnTo>
                    <a:pt x="856" y="949"/>
                  </a:lnTo>
                  <a:lnTo>
                    <a:pt x="861" y="945"/>
                  </a:lnTo>
                  <a:lnTo>
                    <a:pt x="867" y="941"/>
                  </a:lnTo>
                  <a:lnTo>
                    <a:pt x="892" y="941"/>
                  </a:lnTo>
                  <a:lnTo>
                    <a:pt x="917" y="953"/>
                  </a:lnTo>
                  <a:lnTo>
                    <a:pt x="948" y="949"/>
                  </a:lnTo>
                  <a:lnTo>
                    <a:pt x="971" y="941"/>
                  </a:lnTo>
                  <a:lnTo>
                    <a:pt x="982" y="935"/>
                  </a:lnTo>
                  <a:lnTo>
                    <a:pt x="988" y="926"/>
                  </a:lnTo>
                  <a:lnTo>
                    <a:pt x="986" y="916"/>
                  </a:lnTo>
                  <a:lnTo>
                    <a:pt x="979" y="906"/>
                  </a:lnTo>
                  <a:lnTo>
                    <a:pt x="954" y="885"/>
                  </a:lnTo>
                  <a:lnTo>
                    <a:pt x="927" y="858"/>
                  </a:lnTo>
                  <a:lnTo>
                    <a:pt x="907" y="831"/>
                  </a:lnTo>
                  <a:lnTo>
                    <a:pt x="900" y="818"/>
                  </a:lnTo>
                  <a:lnTo>
                    <a:pt x="900" y="803"/>
                  </a:lnTo>
                  <a:lnTo>
                    <a:pt x="907" y="789"/>
                  </a:lnTo>
                  <a:lnTo>
                    <a:pt x="921" y="774"/>
                  </a:lnTo>
                  <a:lnTo>
                    <a:pt x="936" y="770"/>
                  </a:lnTo>
                  <a:lnTo>
                    <a:pt x="950" y="774"/>
                  </a:lnTo>
                  <a:lnTo>
                    <a:pt x="967" y="785"/>
                  </a:lnTo>
                  <a:lnTo>
                    <a:pt x="982" y="799"/>
                  </a:lnTo>
                  <a:lnTo>
                    <a:pt x="1017" y="833"/>
                  </a:lnTo>
                  <a:lnTo>
                    <a:pt x="1030" y="847"/>
                  </a:lnTo>
                  <a:lnTo>
                    <a:pt x="1044" y="853"/>
                  </a:lnTo>
                  <a:lnTo>
                    <a:pt x="1100" y="845"/>
                  </a:lnTo>
                  <a:lnTo>
                    <a:pt x="1132" y="858"/>
                  </a:lnTo>
                  <a:lnTo>
                    <a:pt x="1265" y="683"/>
                  </a:lnTo>
                  <a:lnTo>
                    <a:pt x="1307" y="622"/>
                  </a:lnTo>
                  <a:lnTo>
                    <a:pt x="1330" y="574"/>
                  </a:lnTo>
                  <a:lnTo>
                    <a:pt x="1336" y="556"/>
                  </a:lnTo>
                  <a:lnTo>
                    <a:pt x="1336" y="537"/>
                  </a:lnTo>
                  <a:lnTo>
                    <a:pt x="1334" y="522"/>
                  </a:lnTo>
                  <a:lnTo>
                    <a:pt x="1328" y="506"/>
                  </a:lnTo>
                  <a:lnTo>
                    <a:pt x="1315" y="493"/>
                  </a:lnTo>
                  <a:lnTo>
                    <a:pt x="1303" y="479"/>
                  </a:lnTo>
                  <a:lnTo>
                    <a:pt x="1259" y="451"/>
                  </a:lnTo>
                  <a:lnTo>
                    <a:pt x="1228" y="437"/>
                  </a:lnTo>
                  <a:lnTo>
                    <a:pt x="1196" y="426"/>
                  </a:lnTo>
                  <a:lnTo>
                    <a:pt x="1134" y="414"/>
                  </a:lnTo>
                  <a:lnTo>
                    <a:pt x="1071" y="412"/>
                  </a:lnTo>
                  <a:lnTo>
                    <a:pt x="1013" y="418"/>
                  </a:lnTo>
                  <a:lnTo>
                    <a:pt x="963" y="429"/>
                  </a:lnTo>
                  <a:lnTo>
                    <a:pt x="923" y="439"/>
                  </a:lnTo>
                  <a:lnTo>
                    <a:pt x="898" y="449"/>
                  </a:lnTo>
                  <a:lnTo>
                    <a:pt x="886" y="456"/>
                  </a:lnTo>
                  <a:lnTo>
                    <a:pt x="859" y="526"/>
                  </a:lnTo>
                  <a:lnTo>
                    <a:pt x="838" y="579"/>
                  </a:lnTo>
                  <a:lnTo>
                    <a:pt x="829" y="595"/>
                  </a:lnTo>
                  <a:lnTo>
                    <a:pt x="821" y="604"/>
                  </a:lnTo>
                  <a:lnTo>
                    <a:pt x="813" y="604"/>
                  </a:lnTo>
                  <a:lnTo>
                    <a:pt x="802" y="595"/>
                  </a:lnTo>
                  <a:lnTo>
                    <a:pt x="802" y="572"/>
                  </a:lnTo>
                  <a:lnTo>
                    <a:pt x="794" y="574"/>
                  </a:lnTo>
                  <a:lnTo>
                    <a:pt x="786" y="581"/>
                  </a:lnTo>
                  <a:lnTo>
                    <a:pt x="769" y="604"/>
                  </a:lnTo>
                  <a:lnTo>
                    <a:pt x="742" y="674"/>
                  </a:lnTo>
                  <a:lnTo>
                    <a:pt x="719" y="754"/>
                  </a:lnTo>
                  <a:lnTo>
                    <a:pt x="706" y="789"/>
                  </a:lnTo>
                  <a:lnTo>
                    <a:pt x="694" y="814"/>
                  </a:lnTo>
                  <a:lnTo>
                    <a:pt x="677" y="810"/>
                  </a:lnTo>
                  <a:lnTo>
                    <a:pt x="669" y="816"/>
                  </a:lnTo>
                  <a:lnTo>
                    <a:pt x="658" y="835"/>
                  </a:lnTo>
                  <a:lnTo>
                    <a:pt x="602" y="1035"/>
                  </a:lnTo>
                  <a:lnTo>
                    <a:pt x="558" y="1212"/>
                  </a:lnTo>
                  <a:lnTo>
                    <a:pt x="496" y="1500"/>
                  </a:lnTo>
                  <a:lnTo>
                    <a:pt x="475" y="1608"/>
                  </a:lnTo>
                  <a:lnTo>
                    <a:pt x="454" y="1690"/>
                  </a:lnTo>
                  <a:lnTo>
                    <a:pt x="444" y="1723"/>
                  </a:lnTo>
                  <a:lnTo>
                    <a:pt x="433" y="1746"/>
                  </a:lnTo>
                  <a:lnTo>
                    <a:pt x="421" y="1765"/>
                  </a:lnTo>
                  <a:lnTo>
                    <a:pt x="408" y="1775"/>
                  </a:lnTo>
                  <a:lnTo>
                    <a:pt x="391" y="1767"/>
                  </a:lnTo>
                  <a:lnTo>
                    <a:pt x="391" y="1675"/>
                  </a:lnTo>
                  <a:lnTo>
                    <a:pt x="193" y="2110"/>
                  </a:lnTo>
                  <a:lnTo>
                    <a:pt x="185" y="2017"/>
                  </a:lnTo>
                  <a:lnTo>
                    <a:pt x="150" y="2021"/>
                  </a:lnTo>
                  <a:lnTo>
                    <a:pt x="100" y="2171"/>
                  </a:lnTo>
                  <a:lnTo>
                    <a:pt x="87" y="2200"/>
                  </a:lnTo>
                  <a:lnTo>
                    <a:pt x="83" y="2206"/>
                  </a:lnTo>
                  <a:lnTo>
                    <a:pt x="79" y="2206"/>
                  </a:lnTo>
                  <a:lnTo>
                    <a:pt x="77" y="2185"/>
                  </a:lnTo>
                  <a:lnTo>
                    <a:pt x="75" y="2156"/>
                  </a:lnTo>
                  <a:lnTo>
                    <a:pt x="70" y="2158"/>
                  </a:lnTo>
                  <a:lnTo>
                    <a:pt x="62" y="2171"/>
                  </a:lnTo>
                  <a:lnTo>
                    <a:pt x="50" y="2188"/>
                  </a:lnTo>
                  <a:lnTo>
                    <a:pt x="37" y="2200"/>
                  </a:lnTo>
                  <a:lnTo>
                    <a:pt x="22" y="2200"/>
                  </a:lnTo>
                  <a:lnTo>
                    <a:pt x="16" y="2192"/>
                  </a:lnTo>
                  <a:lnTo>
                    <a:pt x="12" y="2177"/>
                  </a:lnTo>
                  <a:lnTo>
                    <a:pt x="4" y="2127"/>
                  </a:lnTo>
                  <a:lnTo>
                    <a:pt x="0" y="2038"/>
                  </a:lnTo>
                  <a:lnTo>
                    <a:pt x="4" y="2013"/>
                  </a:lnTo>
                  <a:lnTo>
                    <a:pt x="14" y="1979"/>
                  </a:lnTo>
                  <a:lnTo>
                    <a:pt x="45" y="1913"/>
                  </a:lnTo>
                  <a:lnTo>
                    <a:pt x="77" y="1854"/>
                  </a:lnTo>
                  <a:lnTo>
                    <a:pt x="93" y="1827"/>
                  </a:lnTo>
                  <a:lnTo>
                    <a:pt x="110" y="1819"/>
                  </a:lnTo>
                  <a:lnTo>
                    <a:pt x="110" y="1731"/>
                  </a:lnTo>
                  <a:lnTo>
                    <a:pt x="112" y="1727"/>
                  </a:lnTo>
                  <a:lnTo>
                    <a:pt x="118" y="1723"/>
                  </a:lnTo>
                  <a:lnTo>
                    <a:pt x="129" y="1719"/>
                  </a:lnTo>
                  <a:lnTo>
                    <a:pt x="141" y="1711"/>
                  </a:lnTo>
                  <a:lnTo>
                    <a:pt x="118" y="1679"/>
                  </a:lnTo>
                  <a:lnTo>
                    <a:pt x="183" y="1511"/>
                  </a:lnTo>
                  <a:lnTo>
                    <a:pt x="198" y="1469"/>
                  </a:lnTo>
                  <a:lnTo>
                    <a:pt x="198" y="1471"/>
                  </a:lnTo>
                  <a:lnTo>
                    <a:pt x="204" y="1475"/>
                  </a:lnTo>
                  <a:lnTo>
                    <a:pt x="214" y="1467"/>
                  </a:lnTo>
                  <a:lnTo>
                    <a:pt x="227" y="1456"/>
                  </a:lnTo>
                  <a:lnTo>
                    <a:pt x="241" y="1440"/>
                  </a:lnTo>
                  <a:lnTo>
                    <a:pt x="252" y="1423"/>
                  </a:lnTo>
                  <a:lnTo>
                    <a:pt x="254" y="1415"/>
                  </a:lnTo>
                  <a:lnTo>
                    <a:pt x="252" y="1411"/>
                  </a:lnTo>
                  <a:lnTo>
                    <a:pt x="246" y="1404"/>
                  </a:lnTo>
                  <a:lnTo>
                    <a:pt x="239" y="1392"/>
                  </a:lnTo>
                  <a:lnTo>
                    <a:pt x="237" y="1375"/>
                  </a:lnTo>
                  <a:lnTo>
                    <a:pt x="243" y="1346"/>
                  </a:lnTo>
                  <a:lnTo>
                    <a:pt x="254" y="1300"/>
                  </a:lnTo>
                  <a:lnTo>
                    <a:pt x="379" y="928"/>
                  </a:lnTo>
                  <a:lnTo>
                    <a:pt x="439" y="760"/>
                  </a:lnTo>
                  <a:lnTo>
                    <a:pt x="471" y="685"/>
                  </a:lnTo>
                  <a:lnTo>
                    <a:pt x="506" y="587"/>
                  </a:lnTo>
                  <a:lnTo>
                    <a:pt x="448" y="612"/>
                  </a:lnTo>
                  <a:lnTo>
                    <a:pt x="379" y="643"/>
                  </a:lnTo>
                  <a:lnTo>
                    <a:pt x="344" y="654"/>
                  </a:lnTo>
                  <a:lnTo>
                    <a:pt x="312" y="662"/>
                  </a:lnTo>
                  <a:lnTo>
                    <a:pt x="300" y="662"/>
                  </a:lnTo>
                  <a:lnTo>
                    <a:pt x="287" y="658"/>
                  </a:lnTo>
                  <a:lnTo>
                    <a:pt x="277" y="654"/>
                  </a:lnTo>
                  <a:lnTo>
                    <a:pt x="268" y="643"/>
                  </a:lnTo>
                  <a:lnTo>
                    <a:pt x="260" y="608"/>
                  </a:lnTo>
                  <a:lnTo>
                    <a:pt x="158" y="599"/>
                  </a:lnTo>
                  <a:lnTo>
                    <a:pt x="150" y="562"/>
                  </a:lnTo>
                  <a:lnTo>
                    <a:pt x="135" y="545"/>
                  </a:lnTo>
                  <a:lnTo>
                    <a:pt x="118" y="539"/>
                  </a:lnTo>
                  <a:lnTo>
                    <a:pt x="102" y="539"/>
                  </a:lnTo>
                  <a:lnTo>
                    <a:pt x="87" y="539"/>
                  </a:lnTo>
                  <a:lnTo>
                    <a:pt x="81" y="537"/>
                  </a:lnTo>
                  <a:lnTo>
                    <a:pt x="77" y="531"/>
                  </a:lnTo>
                  <a:lnTo>
                    <a:pt x="70" y="512"/>
                  </a:lnTo>
                  <a:lnTo>
                    <a:pt x="70" y="472"/>
                  </a:lnTo>
                  <a:lnTo>
                    <a:pt x="77" y="429"/>
                  </a:lnTo>
                  <a:lnTo>
                    <a:pt x="81" y="416"/>
                  </a:lnTo>
                  <a:lnTo>
                    <a:pt x="100" y="416"/>
                  </a:lnTo>
                  <a:lnTo>
                    <a:pt x="137" y="408"/>
                  </a:lnTo>
                  <a:lnTo>
                    <a:pt x="158" y="397"/>
                  </a:lnTo>
                  <a:lnTo>
                    <a:pt x="164" y="391"/>
                  </a:lnTo>
                  <a:lnTo>
                    <a:pt x="170" y="383"/>
                  </a:lnTo>
                  <a:lnTo>
                    <a:pt x="181" y="368"/>
                  </a:lnTo>
                  <a:lnTo>
                    <a:pt x="187" y="349"/>
                  </a:lnTo>
                  <a:lnTo>
                    <a:pt x="200" y="314"/>
                  </a:lnTo>
                  <a:lnTo>
                    <a:pt x="212" y="297"/>
                  </a:lnTo>
                  <a:lnTo>
                    <a:pt x="229" y="285"/>
                  </a:lnTo>
                  <a:lnTo>
                    <a:pt x="369" y="222"/>
                  </a:lnTo>
                  <a:lnTo>
                    <a:pt x="562" y="149"/>
                  </a:lnTo>
                  <a:lnTo>
                    <a:pt x="746" y="87"/>
                  </a:lnTo>
                  <a:lnTo>
                    <a:pt x="813" y="68"/>
                  </a:lnTo>
                  <a:lnTo>
                    <a:pt x="856" y="58"/>
                  </a:lnTo>
                  <a:lnTo>
                    <a:pt x="948" y="54"/>
                  </a:lnTo>
                  <a:lnTo>
                    <a:pt x="1005" y="49"/>
                  </a:lnTo>
                  <a:lnTo>
                    <a:pt x="1027" y="45"/>
                  </a:lnTo>
                  <a:lnTo>
                    <a:pt x="1044" y="39"/>
                  </a:lnTo>
                  <a:lnTo>
                    <a:pt x="1080" y="10"/>
                  </a:lnTo>
                  <a:lnTo>
                    <a:pt x="1142" y="4"/>
                  </a:lnTo>
                  <a:lnTo>
                    <a:pt x="1192" y="0"/>
                  </a:lnTo>
                  <a:lnTo>
                    <a:pt x="1251" y="0"/>
                  </a:lnTo>
                  <a:lnTo>
                    <a:pt x="1315" y="6"/>
                  </a:lnTo>
                  <a:lnTo>
                    <a:pt x="1387" y="20"/>
                  </a:lnTo>
                  <a:lnTo>
                    <a:pt x="1458" y="43"/>
                  </a:lnTo>
                  <a:lnTo>
                    <a:pt x="1493" y="60"/>
                  </a:lnTo>
                  <a:lnTo>
                    <a:pt x="1529" y="79"/>
                  </a:lnTo>
                  <a:lnTo>
                    <a:pt x="1596" y="129"/>
                  </a:lnTo>
                  <a:lnTo>
                    <a:pt x="1652" y="179"/>
                  </a:lnTo>
                  <a:lnTo>
                    <a:pt x="1698" y="233"/>
                  </a:lnTo>
                  <a:lnTo>
                    <a:pt x="1733" y="289"/>
                  </a:lnTo>
                  <a:lnTo>
                    <a:pt x="1758" y="347"/>
                  </a:lnTo>
                  <a:lnTo>
                    <a:pt x="1769" y="408"/>
                  </a:lnTo>
                  <a:lnTo>
                    <a:pt x="1771" y="439"/>
                  </a:lnTo>
                  <a:lnTo>
                    <a:pt x="1771" y="468"/>
                  </a:lnTo>
                  <a:lnTo>
                    <a:pt x="1769" y="499"/>
                  </a:lnTo>
                  <a:lnTo>
                    <a:pt x="1760" y="531"/>
                  </a:lnTo>
                  <a:lnTo>
                    <a:pt x="1742" y="593"/>
                  </a:lnTo>
                  <a:lnTo>
                    <a:pt x="1710" y="654"/>
                  </a:lnTo>
                  <a:lnTo>
                    <a:pt x="1671" y="716"/>
                  </a:lnTo>
                  <a:lnTo>
                    <a:pt x="1644" y="747"/>
                  </a:lnTo>
                  <a:lnTo>
                    <a:pt x="1616" y="776"/>
                  </a:lnTo>
                  <a:lnTo>
                    <a:pt x="1587" y="806"/>
                  </a:lnTo>
                  <a:lnTo>
                    <a:pt x="1554" y="837"/>
                  </a:lnTo>
                  <a:lnTo>
                    <a:pt x="1481" y="895"/>
                  </a:lnTo>
                  <a:lnTo>
                    <a:pt x="1439" y="924"/>
                  </a:lnTo>
                  <a:lnTo>
                    <a:pt x="1395" y="951"/>
                  </a:lnTo>
                  <a:lnTo>
                    <a:pt x="1299" y="1006"/>
                  </a:lnTo>
                  <a:lnTo>
                    <a:pt x="1425" y="1128"/>
                  </a:lnTo>
                  <a:lnTo>
                    <a:pt x="1443" y="1151"/>
                  </a:lnTo>
                  <a:lnTo>
                    <a:pt x="1458" y="1174"/>
                  </a:lnTo>
                  <a:lnTo>
                    <a:pt x="1568" y="1309"/>
                  </a:lnTo>
                  <a:lnTo>
                    <a:pt x="1612" y="1356"/>
                  </a:lnTo>
                  <a:lnTo>
                    <a:pt x="1646" y="1390"/>
                  </a:lnTo>
                  <a:lnTo>
                    <a:pt x="1673" y="1413"/>
                  </a:lnTo>
                  <a:lnTo>
                    <a:pt x="1694" y="1427"/>
                  </a:lnTo>
                  <a:lnTo>
                    <a:pt x="1729" y="1444"/>
                  </a:lnTo>
                  <a:lnTo>
                    <a:pt x="1746" y="1452"/>
                  </a:lnTo>
                  <a:lnTo>
                    <a:pt x="1764" y="1465"/>
                  </a:lnTo>
                  <a:lnTo>
                    <a:pt x="1865" y="1583"/>
                  </a:lnTo>
                  <a:lnTo>
                    <a:pt x="2038" y="1719"/>
                  </a:lnTo>
                  <a:lnTo>
                    <a:pt x="2146" y="1827"/>
                  </a:lnTo>
                  <a:lnTo>
                    <a:pt x="2225" y="1906"/>
                  </a:lnTo>
                  <a:lnTo>
                    <a:pt x="2292" y="1963"/>
                  </a:lnTo>
                  <a:lnTo>
                    <a:pt x="2446" y="2085"/>
                  </a:lnTo>
                  <a:lnTo>
                    <a:pt x="2534" y="2156"/>
                  </a:lnTo>
                  <a:lnTo>
                    <a:pt x="2559" y="2179"/>
                  </a:lnTo>
                  <a:lnTo>
                    <a:pt x="2578" y="2198"/>
                  </a:lnTo>
                  <a:lnTo>
                    <a:pt x="2590" y="2217"/>
                  </a:lnTo>
                  <a:lnTo>
                    <a:pt x="2599" y="223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76800" y="5589720"/>
              <a:ext cx="503640" cy="748080"/>
            </a:xfrm>
            <a:custGeom>
              <a:avLst/>
              <a:gdLst/>
              <a:ahLst/>
              <a:rect l="0" t="0" r="r" b="b"/>
              <a:pathLst>
                <a:path w="1399" h="2078">
                  <a:moveTo>
                    <a:pt x="1385" y="140"/>
                  </a:moveTo>
                  <a:lnTo>
                    <a:pt x="1393" y="161"/>
                  </a:lnTo>
                  <a:lnTo>
                    <a:pt x="1397" y="184"/>
                  </a:lnTo>
                  <a:lnTo>
                    <a:pt x="1399" y="236"/>
                  </a:lnTo>
                  <a:lnTo>
                    <a:pt x="1397" y="301"/>
                  </a:lnTo>
                  <a:lnTo>
                    <a:pt x="1391" y="374"/>
                  </a:lnTo>
                  <a:lnTo>
                    <a:pt x="1372" y="560"/>
                  </a:lnTo>
                  <a:lnTo>
                    <a:pt x="1355" y="798"/>
                  </a:lnTo>
                  <a:lnTo>
                    <a:pt x="1345" y="1286"/>
                  </a:lnTo>
                  <a:lnTo>
                    <a:pt x="1343" y="1601"/>
                  </a:lnTo>
                  <a:lnTo>
                    <a:pt x="1337" y="1687"/>
                  </a:lnTo>
                  <a:lnTo>
                    <a:pt x="1332" y="1712"/>
                  </a:lnTo>
                  <a:lnTo>
                    <a:pt x="1326" y="1718"/>
                  </a:lnTo>
                  <a:lnTo>
                    <a:pt x="1322" y="1723"/>
                  </a:lnTo>
                  <a:lnTo>
                    <a:pt x="1318" y="1723"/>
                  </a:lnTo>
                  <a:lnTo>
                    <a:pt x="1311" y="1720"/>
                  </a:lnTo>
                  <a:lnTo>
                    <a:pt x="1297" y="1704"/>
                  </a:lnTo>
                  <a:lnTo>
                    <a:pt x="1259" y="1633"/>
                  </a:lnTo>
                  <a:lnTo>
                    <a:pt x="1226" y="1817"/>
                  </a:lnTo>
                  <a:lnTo>
                    <a:pt x="1207" y="1804"/>
                  </a:lnTo>
                  <a:lnTo>
                    <a:pt x="1194" y="1794"/>
                  </a:lnTo>
                  <a:lnTo>
                    <a:pt x="1190" y="1779"/>
                  </a:lnTo>
                  <a:lnTo>
                    <a:pt x="1186" y="1764"/>
                  </a:lnTo>
                  <a:lnTo>
                    <a:pt x="1186" y="1731"/>
                  </a:lnTo>
                  <a:lnTo>
                    <a:pt x="1186" y="1689"/>
                  </a:lnTo>
                  <a:lnTo>
                    <a:pt x="1146" y="1618"/>
                  </a:lnTo>
                  <a:lnTo>
                    <a:pt x="1142" y="1643"/>
                  </a:lnTo>
                  <a:lnTo>
                    <a:pt x="1136" y="1660"/>
                  </a:lnTo>
                  <a:lnTo>
                    <a:pt x="1129" y="1668"/>
                  </a:lnTo>
                  <a:lnTo>
                    <a:pt x="1121" y="1674"/>
                  </a:lnTo>
                  <a:lnTo>
                    <a:pt x="1115" y="1672"/>
                  </a:lnTo>
                  <a:lnTo>
                    <a:pt x="1106" y="1666"/>
                  </a:lnTo>
                  <a:lnTo>
                    <a:pt x="1094" y="1645"/>
                  </a:lnTo>
                  <a:lnTo>
                    <a:pt x="1071" y="1582"/>
                  </a:lnTo>
                  <a:lnTo>
                    <a:pt x="1065" y="1554"/>
                  </a:lnTo>
                  <a:lnTo>
                    <a:pt x="1062" y="1531"/>
                  </a:lnTo>
                  <a:lnTo>
                    <a:pt x="1079" y="1510"/>
                  </a:lnTo>
                  <a:lnTo>
                    <a:pt x="1079" y="1458"/>
                  </a:lnTo>
                  <a:lnTo>
                    <a:pt x="1054" y="1391"/>
                  </a:lnTo>
                  <a:lnTo>
                    <a:pt x="1054" y="1024"/>
                  </a:lnTo>
                  <a:lnTo>
                    <a:pt x="1045" y="964"/>
                  </a:lnTo>
                  <a:lnTo>
                    <a:pt x="835" y="1041"/>
                  </a:lnTo>
                  <a:lnTo>
                    <a:pt x="714" y="1083"/>
                  </a:lnTo>
                  <a:lnTo>
                    <a:pt x="653" y="1106"/>
                  </a:lnTo>
                  <a:lnTo>
                    <a:pt x="639" y="1114"/>
                  </a:lnTo>
                  <a:lnTo>
                    <a:pt x="630" y="1123"/>
                  </a:lnTo>
                  <a:lnTo>
                    <a:pt x="349" y="1720"/>
                  </a:lnTo>
                  <a:lnTo>
                    <a:pt x="255" y="1942"/>
                  </a:lnTo>
                  <a:lnTo>
                    <a:pt x="238" y="1982"/>
                  </a:lnTo>
                  <a:lnTo>
                    <a:pt x="200" y="2032"/>
                  </a:lnTo>
                  <a:lnTo>
                    <a:pt x="219" y="1924"/>
                  </a:lnTo>
                  <a:lnTo>
                    <a:pt x="228" y="1838"/>
                  </a:lnTo>
                  <a:lnTo>
                    <a:pt x="232" y="1794"/>
                  </a:lnTo>
                  <a:lnTo>
                    <a:pt x="198" y="1838"/>
                  </a:lnTo>
                  <a:lnTo>
                    <a:pt x="113" y="2032"/>
                  </a:lnTo>
                  <a:lnTo>
                    <a:pt x="96" y="2026"/>
                  </a:lnTo>
                  <a:lnTo>
                    <a:pt x="89" y="2020"/>
                  </a:lnTo>
                  <a:lnTo>
                    <a:pt x="87" y="2011"/>
                  </a:lnTo>
                  <a:lnTo>
                    <a:pt x="89" y="2003"/>
                  </a:lnTo>
                  <a:lnTo>
                    <a:pt x="104" y="1982"/>
                  </a:lnTo>
                  <a:lnTo>
                    <a:pt x="113" y="1968"/>
                  </a:lnTo>
                  <a:lnTo>
                    <a:pt x="115" y="1951"/>
                  </a:lnTo>
                  <a:lnTo>
                    <a:pt x="110" y="1924"/>
                  </a:lnTo>
                  <a:lnTo>
                    <a:pt x="104" y="1917"/>
                  </a:lnTo>
                  <a:lnTo>
                    <a:pt x="98" y="1928"/>
                  </a:lnTo>
                  <a:lnTo>
                    <a:pt x="89" y="1949"/>
                  </a:lnTo>
                  <a:lnTo>
                    <a:pt x="77" y="1980"/>
                  </a:lnTo>
                  <a:lnTo>
                    <a:pt x="60" y="2014"/>
                  </a:lnTo>
                  <a:lnTo>
                    <a:pt x="37" y="2047"/>
                  </a:lnTo>
                  <a:lnTo>
                    <a:pt x="23" y="2064"/>
                  </a:lnTo>
                  <a:lnTo>
                    <a:pt x="6" y="2078"/>
                  </a:lnTo>
                  <a:lnTo>
                    <a:pt x="0" y="1959"/>
                  </a:lnTo>
                  <a:lnTo>
                    <a:pt x="0" y="1934"/>
                  </a:lnTo>
                  <a:lnTo>
                    <a:pt x="2" y="1924"/>
                  </a:lnTo>
                  <a:lnTo>
                    <a:pt x="16" y="1909"/>
                  </a:lnTo>
                  <a:lnTo>
                    <a:pt x="31" y="1892"/>
                  </a:lnTo>
                  <a:lnTo>
                    <a:pt x="46" y="1852"/>
                  </a:lnTo>
                  <a:lnTo>
                    <a:pt x="50" y="1806"/>
                  </a:lnTo>
                  <a:lnTo>
                    <a:pt x="79" y="1781"/>
                  </a:lnTo>
                  <a:lnTo>
                    <a:pt x="92" y="1767"/>
                  </a:lnTo>
                  <a:lnTo>
                    <a:pt x="98" y="1754"/>
                  </a:lnTo>
                  <a:lnTo>
                    <a:pt x="104" y="1737"/>
                  </a:lnTo>
                  <a:lnTo>
                    <a:pt x="113" y="1708"/>
                  </a:lnTo>
                  <a:lnTo>
                    <a:pt x="129" y="1660"/>
                  </a:lnTo>
                  <a:lnTo>
                    <a:pt x="167" y="1586"/>
                  </a:lnTo>
                  <a:lnTo>
                    <a:pt x="223" y="1479"/>
                  </a:lnTo>
                  <a:lnTo>
                    <a:pt x="301" y="1340"/>
                  </a:lnTo>
                  <a:lnTo>
                    <a:pt x="343" y="1255"/>
                  </a:lnTo>
                  <a:lnTo>
                    <a:pt x="363" y="1209"/>
                  </a:lnTo>
                  <a:lnTo>
                    <a:pt x="373" y="1179"/>
                  </a:lnTo>
                  <a:lnTo>
                    <a:pt x="390" y="1148"/>
                  </a:lnTo>
                  <a:lnTo>
                    <a:pt x="345" y="1139"/>
                  </a:lnTo>
                  <a:lnTo>
                    <a:pt x="336" y="1135"/>
                  </a:lnTo>
                  <a:lnTo>
                    <a:pt x="334" y="1133"/>
                  </a:lnTo>
                  <a:lnTo>
                    <a:pt x="334" y="1123"/>
                  </a:lnTo>
                  <a:lnTo>
                    <a:pt x="334" y="1114"/>
                  </a:lnTo>
                  <a:lnTo>
                    <a:pt x="326" y="1100"/>
                  </a:lnTo>
                  <a:lnTo>
                    <a:pt x="320" y="1083"/>
                  </a:lnTo>
                  <a:lnTo>
                    <a:pt x="322" y="1075"/>
                  </a:lnTo>
                  <a:lnTo>
                    <a:pt x="328" y="1068"/>
                  </a:lnTo>
                  <a:lnTo>
                    <a:pt x="345" y="1060"/>
                  </a:lnTo>
                  <a:lnTo>
                    <a:pt x="367" y="1052"/>
                  </a:lnTo>
                  <a:lnTo>
                    <a:pt x="423" y="1037"/>
                  </a:lnTo>
                  <a:lnTo>
                    <a:pt x="450" y="1029"/>
                  </a:lnTo>
                  <a:lnTo>
                    <a:pt x="469" y="1016"/>
                  </a:lnTo>
                  <a:lnTo>
                    <a:pt x="522" y="924"/>
                  </a:lnTo>
                  <a:lnTo>
                    <a:pt x="522" y="880"/>
                  </a:lnTo>
                  <a:lnTo>
                    <a:pt x="566" y="836"/>
                  </a:lnTo>
                  <a:lnTo>
                    <a:pt x="574" y="825"/>
                  </a:lnTo>
                  <a:lnTo>
                    <a:pt x="574" y="817"/>
                  </a:lnTo>
                  <a:lnTo>
                    <a:pt x="574" y="796"/>
                  </a:lnTo>
                  <a:lnTo>
                    <a:pt x="578" y="779"/>
                  </a:lnTo>
                  <a:lnTo>
                    <a:pt x="586" y="750"/>
                  </a:lnTo>
                  <a:lnTo>
                    <a:pt x="658" y="641"/>
                  </a:lnTo>
                  <a:lnTo>
                    <a:pt x="683" y="593"/>
                  </a:lnTo>
                  <a:lnTo>
                    <a:pt x="699" y="572"/>
                  </a:lnTo>
                  <a:lnTo>
                    <a:pt x="722" y="541"/>
                  </a:lnTo>
                  <a:lnTo>
                    <a:pt x="758" y="483"/>
                  </a:lnTo>
                  <a:lnTo>
                    <a:pt x="762" y="456"/>
                  </a:lnTo>
                  <a:lnTo>
                    <a:pt x="785" y="443"/>
                  </a:lnTo>
                  <a:lnTo>
                    <a:pt x="848" y="299"/>
                  </a:lnTo>
                  <a:lnTo>
                    <a:pt x="869" y="263"/>
                  </a:lnTo>
                  <a:lnTo>
                    <a:pt x="882" y="242"/>
                  </a:lnTo>
                  <a:lnTo>
                    <a:pt x="902" y="224"/>
                  </a:lnTo>
                  <a:lnTo>
                    <a:pt x="913" y="211"/>
                  </a:lnTo>
                  <a:lnTo>
                    <a:pt x="928" y="188"/>
                  </a:lnTo>
                  <a:lnTo>
                    <a:pt x="944" y="157"/>
                  </a:lnTo>
                  <a:lnTo>
                    <a:pt x="955" y="129"/>
                  </a:lnTo>
                  <a:lnTo>
                    <a:pt x="963" y="90"/>
                  </a:lnTo>
                  <a:lnTo>
                    <a:pt x="967" y="81"/>
                  </a:lnTo>
                  <a:lnTo>
                    <a:pt x="976" y="73"/>
                  </a:lnTo>
                  <a:lnTo>
                    <a:pt x="988" y="69"/>
                  </a:lnTo>
                  <a:lnTo>
                    <a:pt x="1011" y="69"/>
                  </a:lnTo>
                  <a:lnTo>
                    <a:pt x="1024" y="69"/>
                  </a:lnTo>
                  <a:lnTo>
                    <a:pt x="1032" y="75"/>
                  </a:lnTo>
                  <a:lnTo>
                    <a:pt x="1034" y="79"/>
                  </a:lnTo>
                  <a:lnTo>
                    <a:pt x="1036" y="85"/>
                  </a:lnTo>
                  <a:lnTo>
                    <a:pt x="1038" y="104"/>
                  </a:lnTo>
                  <a:lnTo>
                    <a:pt x="1045" y="121"/>
                  </a:lnTo>
                  <a:lnTo>
                    <a:pt x="1050" y="125"/>
                  </a:lnTo>
                  <a:lnTo>
                    <a:pt x="1056" y="121"/>
                  </a:lnTo>
                  <a:lnTo>
                    <a:pt x="1067" y="90"/>
                  </a:lnTo>
                  <a:lnTo>
                    <a:pt x="1073" y="73"/>
                  </a:lnTo>
                  <a:lnTo>
                    <a:pt x="1083" y="56"/>
                  </a:lnTo>
                  <a:lnTo>
                    <a:pt x="1096" y="41"/>
                  </a:lnTo>
                  <a:lnTo>
                    <a:pt x="1111" y="33"/>
                  </a:lnTo>
                  <a:lnTo>
                    <a:pt x="1148" y="35"/>
                  </a:lnTo>
                  <a:lnTo>
                    <a:pt x="1171" y="39"/>
                  </a:lnTo>
                  <a:lnTo>
                    <a:pt x="1184" y="39"/>
                  </a:lnTo>
                  <a:lnTo>
                    <a:pt x="1201" y="35"/>
                  </a:lnTo>
                  <a:lnTo>
                    <a:pt x="1257" y="8"/>
                  </a:lnTo>
                  <a:lnTo>
                    <a:pt x="1270" y="2"/>
                  </a:lnTo>
                  <a:lnTo>
                    <a:pt x="1293" y="0"/>
                  </a:lnTo>
                  <a:lnTo>
                    <a:pt x="1322" y="2"/>
                  </a:lnTo>
                  <a:lnTo>
                    <a:pt x="1335" y="8"/>
                  </a:lnTo>
                  <a:lnTo>
                    <a:pt x="1343" y="16"/>
                  </a:lnTo>
                  <a:lnTo>
                    <a:pt x="1349" y="33"/>
                  </a:lnTo>
                  <a:lnTo>
                    <a:pt x="1349" y="52"/>
                  </a:lnTo>
                  <a:lnTo>
                    <a:pt x="1345" y="90"/>
                  </a:lnTo>
                  <a:lnTo>
                    <a:pt x="1347" y="108"/>
                  </a:lnTo>
                  <a:lnTo>
                    <a:pt x="1353" y="123"/>
                  </a:lnTo>
                  <a:lnTo>
                    <a:pt x="1358" y="129"/>
                  </a:lnTo>
                  <a:lnTo>
                    <a:pt x="1366" y="133"/>
                  </a:lnTo>
                  <a:lnTo>
                    <a:pt x="1385" y="14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602400" y="5607000"/>
              <a:ext cx="405000" cy="594000"/>
            </a:xfrm>
            <a:custGeom>
              <a:avLst/>
              <a:gdLst/>
              <a:ahLst/>
              <a:rect l="0" t="0" r="r" b="b"/>
              <a:pathLst>
                <a:path w="1125" h="1650">
                  <a:moveTo>
                    <a:pt x="980" y="207"/>
                  </a:moveTo>
                  <a:lnTo>
                    <a:pt x="988" y="234"/>
                  </a:lnTo>
                  <a:lnTo>
                    <a:pt x="986" y="253"/>
                  </a:lnTo>
                  <a:lnTo>
                    <a:pt x="980" y="267"/>
                  </a:lnTo>
                  <a:lnTo>
                    <a:pt x="966" y="278"/>
                  </a:lnTo>
                  <a:lnTo>
                    <a:pt x="920" y="294"/>
                  </a:lnTo>
                  <a:lnTo>
                    <a:pt x="856" y="309"/>
                  </a:lnTo>
                  <a:lnTo>
                    <a:pt x="771" y="334"/>
                  </a:lnTo>
                  <a:lnTo>
                    <a:pt x="721" y="353"/>
                  </a:lnTo>
                  <a:lnTo>
                    <a:pt x="667" y="378"/>
                  </a:lnTo>
                  <a:lnTo>
                    <a:pt x="609" y="411"/>
                  </a:lnTo>
                  <a:lnTo>
                    <a:pt x="546" y="450"/>
                  </a:lnTo>
                  <a:lnTo>
                    <a:pt x="482" y="500"/>
                  </a:lnTo>
                  <a:lnTo>
                    <a:pt x="414" y="560"/>
                  </a:lnTo>
                  <a:lnTo>
                    <a:pt x="378" y="600"/>
                  </a:lnTo>
                  <a:lnTo>
                    <a:pt x="345" y="643"/>
                  </a:lnTo>
                  <a:lnTo>
                    <a:pt x="316" y="689"/>
                  </a:lnTo>
                  <a:lnTo>
                    <a:pt x="291" y="739"/>
                  </a:lnTo>
                  <a:lnTo>
                    <a:pt x="273" y="791"/>
                  </a:lnTo>
                  <a:lnTo>
                    <a:pt x="254" y="842"/>
                  </a:lnTo>
                  <a:lnTo>
                    <a:pt x="244" y="896"/>
                  </a:lnTo>
                  <a:lnTo>
                    <a:pt x="236" y="948"/>
                  </a:lnTo>
                  <a:lnTo>
                    <a:pt x="231" y="1052"/>
                  </a:lnTo>
                  <a:lnTo>
                    <a:pt x="236" y="1099"/>
                  </a:lnTo>
                  <a:lnTo>
                    <a:pt x="244" y="1147"/>
                  </a:lnTo>
                  <a:lnTo>
                    <a:pt x="254" y="1189"/>
                  </a:lnTo>
                  <a:lnTo>
                    <a:pt x="271" y="1228"/>
                  </a:lnTo>
                  <a:lnTo>
                    <a:pt x="291" y="1263"/>
                  </a:lnTo>
                  <a:lnTo>
                    <a:pt x="314" y="1292"/>
                  </a:lnTo>
                  <a:lnTo>
                    <a:pt x="370" y="1346"/>
                  </a:lnTo>
                  <a:lnTo>
                    <a:pt x="426" y="1390"/>
                  </a:lnTo>
                  <a:lnTo>
                    <a:pt x="488" y="1427"/>
                  </a:lnTo>
                  <a:lnTo>
                    <a:pt x="550" y="1450"/>
                  </a:lnTo>
                  <a:lnTo>
                    <a:pt x="616" y="1461"/>
                  </a:lnTo>
                  <a:lnTo>
                    <a:pt x="649" y="1461"/>
                  </a:lnTo>
                  <a:lnTo>
                    <a:pt x="680" y="1454"/>
                  </a:lnTo>
                  <a:lnTo>
                    <a:pt x="713" y="1446"/>
                  </a:lnTo>
                  <a:lnTo>
                    <a:pt x="746" y="1432"/>
                  </a:lnTo>
                  <a:lnTo>
                    <a:pt x="781" y="1413"/>
                  </a:lnTo>
                  <a:lnTo>
                    <a:pt x="814" y="1388"/>
                  </a:lnTo>
                  <a:lnTo>
                    <a:pt x="796" y="1355"/>
                  </a:lnTo>
                  <a:lnTo>
                    <a:pt x="787" y="1330"/>
                  </a:lnTo>
                  <a:lnTo>
                    <a:pt x="781" y="1292"/>
                  </a:lnTo>
                  <a:lnTo>
                    <a:pt x="783" y="1238"/>
                  </a:lnTo>
                  <a:lnTo>
                    <a:pt x="792" y="1164"/>
                  </a:lnTo>
                  <a:lnTo>
                    <a:pt x="810" y="1066"/>
                  </a:lnTo>
                  <a:lnTo>
                    <a:pt x="841" y="939"/>
                  </a:lnTo>
                  <a:lnTo>
                    <a:pt x="736" y="958"/>
                  </a:lnTo>
                  <a:lnTo>
                    <a:pt x="651" y="979"/>
                  </a:lnTo>
                  <a:lnTo>
                    <a:pt x="587" y="1002"/>
                  </a:lnTo>
                  <a:lnTo>
                    <a:pt x="538" y="1022"/>
                  </a:lnTo>
                  <a:lnTo>
                    <a:pt x="480" y="1052"/>
                  </a:lnTo>
                  <a:lnTo>
                    <a:pt x="461" y="1058"/>
                  </a:lnTo>
                  <a:lnTo>
                    <a:pt x="445" y="1054"/>
                  </a:lnTo>
                  <a:lnTo>
                    <a:pt x="436" y="1047"/>
                  </a:lnTo>
                  <a:lnTo>
                    <a:pt x="434" y="1041"/>
                  </a:lnTo>
                  <a:lnTo>
                    <a:pt x="439" y="1037"/>
                  </a:lnTo>
                  <a:lnTo>
                    <a:pt x="445" y="1031"/>
                  </a:lnTo>
                  <a:lnTo>
                    <a:pt x="465" y="1020"/>
                  </a:lnTo>
                  <a:lnTo>
                    <a:pt x="484" y="1006"/>
                  </a:lnTo>
                  <a:lnTo>
                    <a:pt x="540" y="906"/>
                  </a:lnTo>
                  <a:lnTo>
                    <a:pt x="578" y="887"/>
                  </a:lnTo>
                  <a:lnTo>
                    <a:pt x="593" y="875"/>
                  </a:lnTo>
                  <a:lnTo>
                    <a:pt x="599" y="865"/>
                  </a:lnTo>
                  <a:lnTo>
                    <a:pt x="616" y="848"/>
                  </a:lnTo>
                  <a:lnTo>
                    <a:pt x="711" y="814"/>
                  </a:lnTo>
                  <a:lnTo>
                    <a:pt x="717" y="789"/>
                  </a:lnTo>
                  <a:lnTo>
                    <a:pt x="719" y="787"/>
                  </a:lnTo>
                  <a:lnTo>
                    <a:pt x="742" y="789"/>
                  </a:lnTo>
                  <a:lnTo>
                    <a:pt x="767" y="785"/>
                  </a:lnTo>
                  <a:lnTo>
                    <a:pt x="802" y="774"/>
                  </a:lnTo>
                  <a:lnTo>
                    <a:pt x="852" y="758"/>
                  </a:lnTo>
                  <a:lnTo>
                    <a:pt x="891" y="737"/>
                  </a:lnTo>
                  <a:lnTo>
                    <a:pt x="922" y="716"/>
                  </a:lnTo>
                  <a:lnTo>
                    <a:pt x="947" y="695"/>
                  </a:lnTo>
                  <a:lnTo>
                    <a:pt x="986" y="668"/>
                  </a:lnTo>
                  <a:lnTo>
                    <a:pt x="1001" y="662"/>
                  </a:lnTo>
                  <a:lnTo>
                    <a:pt x="1015" y="664"/>
                  </a:lnTo>
                  <a:lnTo>
                    <a:pt x="1030" y="675"/>
                  </a:lnTo>
                  <a:lnTo>
                    <a:pt x="1038" y="685"/>
                  </a:lnTo>
                  <a:lnTo>
                    <a:pt x="1044" y="704"/>
                  </a:lnTo>
                  <a:lnTo>
                    <a:pt x="1048" y="716"/>
                  </a:lnTo>
                  <a:lnTo>
                    <a:pt x="1055" y="718"/>
                  </a:lnTo>
                  <a:lnTo>
                    <a:pt x="1063" y="712"/>
                  </a:lnTo>
                  <a:lnTo>
                    <a:pt x="1094" y="687"/>
                  </a:lnTo>
                  <a:lnTo>
                    <a:pt x="1125" y="691"/>
                  </a:lnTo>
                  <a:lnTo>
                    <a:pt x="1115" y="812"/>
                  </a:lnTo>
                  <a:lnTo>
                    <a:pt x="1098" y="914"/>
                  </a:lnTo>
                  <a:lnTo>
                    <a:pt x="1055" y="1085"/>
                  </a:lnTo>
                  <a:lnTo>
                    <a:pt x="1036" y="1164"/>
                  </a:lnTo>
                  <a:lnTo>
                    <a:pt x="1021" y="1247"/>
                  </a:lnTo>
                  <a:lnTo>
                    <a:pt x="1013" y="1340"/>
                  </a:lnTo>
                  <a:lnTo>
                    <a:pt x="1015" y="1448"/>
                  </a:lnTo>
                  <a:lnTo>
                    <a:pt x="1028" y="1575"/>
                  </a:lnTo>
                  <a:lnTo>
                    <a:pt x="1034" y="1623"/>
                  </a:lnTo>
                  <a:lnTo>
                    <a:pt x="1032" y="1631"/>
                  </a:lnTo>
                  <a:lnTo>
                    <a:pt x="1028" y="1631"/>
                  </a:lnTo>
                  <a:lnTo>
                    <a:pt x="1007" y="1637"/>
                  </a:lnTo>
                  <a:lnTo>
                    <a:pt x="997" y="1614"/>
                  </a:lnTo>
                  <a:lnTo>
                    <a:pt x="986" y="1610"/>
                  </a:lnTo>
                  <a:lnTo>
                    <a:pt x="974" y="1614"/>
                  </a:lnTo>
                  <a:lnTo>
                    <a:pt x="968" y="1612"/>
                  </a:lnTo>
                  <a:lnTo>
                    <a:pt x="959" y="1606"/>
                  </a:lnTo>
                  <a:lnTo>
                    <a:pt x="941" y="1554"/>
                  </a:lnTo>
                  <a:lnTo>
                    <a:pt x="928" y="1548"/>
                  </a:lnTo>
                  <a:lnTo>
                    <a:pt x="914" y="1535"/>
                  </a:lnTo>
                  <a:lnTo>
                    <a:pt x="885" y="1511"/>
                  </a:lnTo>
                  <a:lnTo>
                    <a:pt x="858" y="1492"/>
                  </a:lnTo>
                  <a:lnTo>
                    <a:pt x="847" y="1488"/>
                  </a:lnTo>
                  <a:lnTo>
                    <a:pt x="837" y="1488"/>
                  </a:lnTo>
                  <a:lnTo>
                    <a:pt x="818" y="1504"/>
                  </a:lnTo>
                  <a:lnTo>
                    <a:pt x="804" y="1527"/>
                  </a:lnTo>
                  <a:lnTo>
                    <a:pt x="787" y="1552"/>
                  </a:lnTo>
                  <a:lnTo>
                    <a:pt x="767" y="1579"/>
                  </a:lnTo>
                  <a:lnTo>
                    <a:pt x="756" y="1592"/>
                  </a:lnTo>
                  <a:lnTo>
                    <a:pt x="740" y="1604"/>
                  </a:lnTo>
                  <a:lnTo>
                    <a:pt x="703" y="1625"/>
                  </a:lnTo>
                  <a:lnTo>
                    <a:pt x="653" y="1641"/>
                  </a:lnTo>
                  <a:lnTo>
                    <a:pt x="620" y="1648"/>
                  </a:lnTo>
                  <a:lnTo>
                    <a:pt x="584" y="1650"/>
                  </a:lnTo>
                  <a:lnTo>
                    <a:pt x="536" y="1648"/>
                  </a:lnTo>
                  <a:lnTo>
                    <a:pt x="484" y="1644"/>
                  </a:lnTo>
                  <a:lnTo>
                    <a:pt x="436" y="1633"/>
                  </a:lnTo>
                  <a:lnTo>
                    <a:pt x="387" y="1617"/>
                  </a:lnTo>
                  <a:lnTo>
                    <a:pt x="341" y="1598"/>
                  </a:lnTo>
                  <a:lnTo>
                    <a:pt x="294" y="1573"/>
                  </a:lnTo>
                  <a:lnTo>
                    <a:pt x="250" y="1542"/>
                  </a:lnTo>
                  <a:lnTo>
                    <a:pt x="209" y="1506"/>
                  </a:lnTo>
                  <a:lnTo>
                    <a:pt x="171" y="1469"/>
                  </a:lnTo>
                  <a:lnTo>
                    <a:pt x="134" y="1423"/>
                  </a:lnTo>
                  <a:lnTo>
                    <a:pt x="101" y="1376"/>
                  </a:lnTo>
                  <a:lnTo>
                    <a:pt x="72" y="1324"/>
                  </a:lnTo>
                  <a:lnTo>
                    <a:pt x="49" y="1265"/>
                  </a:lnTo>
                  <a:lnTo>
                    <a:pt x="28" y="1203"/>
                  </a:lnTo>
                  <a:lnTo>
                    <a:pt x="14" y="1137"/>
                  </a:lnTo>
                  <a:lnTo>
                    <a:pt x="4" y="1066"/>
                  </a:lnTo>
                  <a:lnTo>
                    <a:pt x="0" y="973"/>
                  </a:lnTo>
                  <a:lnTo>
                    <a:pt x="4" y="883"/>
                  </a:lnTo>
                  <a:lnTo>
                    <a:pt x="16" y="799"/>
                  </a:lnTo>
                  <a:lnTo>
                    <a:pt x="33" y="720"/>
                  </a:lnTo>
                  <a:lnTo>
                    <a:pt x="57" y="648"/>
                  </a:lnTo>
                  <a:lnTo>
                    <a:pt x="84" y="579"/>
                  </a:lnTo>
                  <a:lnTo>
                    <a:pt x="115" y="517"/>
                  </a:lnTo>
                  <a:lnTo>
                    <a:pt x="149" y="459"/>
                  </a:lnTo>
                  <a:lnTo>
                    <a:pt x="215" y="357"/>
                  </a:lnTo>
                  <a:lnTo>
                    <a:pt x="281" y="276"/>
                  </a:lnTo>
                  <a:lnTo>
                    <a:pt x="333" y="218"/>
                  </a:lnTo>
                  <a:lnTo>
                    <a:pt x="366" y="180"/>
                  </a:lnTo>
                  <a:lnTo>
                    <a:pt x="403" y="143"/>
                  </a:lnTo>
                  <a:lnTo>
                    <a:pt x="434" y="118"/>
                  </a:lnTo>
                  <a:lnTo>
                    <a:pt x="478" y="91"/>
                  </a:lnTo>
                  <a:lnTo>
                    <a:pt x="532" y="64"/>
                  </a:lnTo>
                  <a:lnTo>
                    <a:pt x="599" y="37"/>
                  </a:lnTo>
                  <a:lnTo>
                    <a:pt x="678" y="16"/>
                  </a:lnTo>
                  <a:lnTo>
                    <a:pt x="767" y="0"/>
                  </a:lnTo>
                  <a:lnTo>
                    <a:pt x="790" y="0"/>
                  </a:lnTo>
                  <a:lnTo>
                    <a:pt x="798" y="4"/>
                  </a:lnTo>
                  <a:lnTo>
                    <a:pt x="804" y="12"/>
                  </a:lnTo>
                  <a:lnTo>
                    <a:pt x="821" y="24"/>
                  </a:lnTo>
                  <a:lnTo>
                    <a:pt x="876" y="37"/>
                  </a:lnTo>
                  <a:lnTo>
                    <a:pt x="887" y="54"/>
                  </a:lnTo>
                  <a:lnTo>
                    <a:pt x="889" y="62"/>
                  </a:lnTo>
                  <a:lnTo>
                    <a:pt x="887" y="68"/>
                  </a:lnTo>
                  <a:lnTo>
                    <a:pt x="887" y="74"/>
                  </a:lnTo>
                  <a:lnTo>
                    <a:pt x="891" y="83"/>
                  </a:lnTo>
                  <a:lnTo>
                    <a:pt x="924" y="120"/>
                  </a:lnTo>
                  <a:lnTo>
                    <a:pt x="949" y="147"/>
                  </a:lnTo>
                  <a:lnTo>
                    <a:pt x="959" y="153"/>
                  </a:lnTo>
                  <a:lnTo>
                    <a:pt x="972" y="149"/>
                  </a:lnTo>
                  <a:lnTo>
                    <a:pt x="999" y="151"/>
                  </a:lnTo>
                  <a:lnTo>
                    <a:pt x="1007" y="153"/>
                  </a:lnTo>
                  <a:lnTo>
                    <a:pt x="1011" y="157"/>
                  </a:lnTo>
                  <a:lnTo>
                    <a:pt x="1013" y="166"/>
                  </a:lnTo>
                  <a:lnTo>
                    <a:pt x="1013" y="172"/>
                  </a:lnTo>
                  <a:lnTo>
                    <a:pt x="1003" y="191"/>
                  </a:lnTo>
                  <a:lnTo>
                    <a:pt x="995" y="199"/>
                  </a:lnTo>
                  <a:lnTo>
                    <a:pt x="980" y="20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613640" y="5740560"/>
              <a:ext cx="100440" cy="119520"/>
            </a:xfrm>
            <a:custGeom>
              <a:avLst/>
              <a:gdLst/>
              <a:ahLst/>
              <a:rect l="0" t="0" r="r" b="b"/>
              <a:pathLst>
                <a:path w="279" h="332">
                  <a:moveTo>
                    <a:pt x="0" y="332"/>
                  </a:moveTo>
                  <a:lnTo>
                    <a:pt x="26" y="322"/>
                  </a:lnTo>
                  <a:lnTo>
                    <a:pt x="50" y="308"/>
                  </a:lnTo>
                  <a:lnTo>
                    <a:pt x="104" y="274"/>
                  </a:lnTo>
                  <a:lnTo>
                    <a:pt x="132" y="258"/>
                  </a:lnTo>
                  <a:lnTo>
                    <a:pt x="163" y="247"/>
                  </a:lnTo>
                  <a:lnTo>
                    <a:pt x="193" y="240"/>
                  </a:lnTo>
                  <a:lnTo>
                    <a:pt x="225" y="242"/>
                  </a:lnTo>
                  <a:lnTo>
                    <a:pt x="231" y="216"/>
                  </a:lnTo>
                  <a:lnTo>
                    <a:pt x="231" y="196"/>
                  </a:lnTo>
                  <a:lnTo>
                    <a:pt x="229" y="172"/>
                  </a:lnTo>
                  <a:lnTo>
                    <a:pt x="227" y="156"/>
                  </a:lnTo>
                  <a:lnTo>
                    <a:pt x="237" y="132"/>
                  </a:lnTo>
                  <a:lnTo>
                    <a:pt x="247" y="115"/>
                  </a:lnTo>
                  <a:lnTo>
                    <a:pt x="255" y="97"/>
                  </a:lnTo>
                  <a:lnTo>
                    <a:pt x="279" y="14"/>
                  </a:lnTo>
                  <a:lnTo>
                    <a:pt x="249" y="14"/>
                  </a:lnTo>
                  <a:lnTo>
                    <a:pt x="249" y="10"/>
                  </a:lnTo>
                  <a:lnTo>
                    <a:pt x="245" y="0"/>
                  </a:lnTo>
                  <a:lnTo>
                    <a:pt x="235" y="6"/>
                  </a:lnTo>
                  <a:lnTo>
                    <a:pt x="212" y="28"/>
                  </a:lnTo>
                  <a:lnTo>
                    <a:pt x="147" y="111"/>
                  </a:lnTo>
                  <a:lnTo>
                    <a:pt x="68" y="222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50040" y="5743440"/>
              <a:ext cx="103680" cy="178200"/>
            </a:xfrm>
            <a:custGeom>
              <a:avLst/>
              <a:gdLst/>
              <a:ahLst/>
              <a:rect l="0" t="0" r="r" b="b"/>
              <a:pathLst>
                <a:path w="288" h="495">
                  <a:moveTo>
                    <a:pt x="0" y="495"/>
                  </a:moveTo>
                  <a:lnTo>
                    <a:pt x="16" y="493"/>
                  </a:lnTo>
                  <a:lnTo>
                    <a:pt x="22" y="491"/>
                  </a:lnTo>
                  <a:lnTo>
                    <a:pt x="26" y="487"/>
                  </a:lnTo>
                  <a:lnTo>
                    <a:pt x="30" y="479"/>
                  </a:lnTo>
                  <a:lnTo>
                    <a:pt x="34" y="469"/>
                  </a:lnTo>
                  <a:lnTo>
                    <a:pt x="38" y="459"/>
                  </a:lnTo>
                  <a:lnTo>
                    <a:pt x="48" y="446"/>
                  </a:lnTo>
                  <a:lnTo>
                    <a:pt x="66" y="436"/>
                  </a:lnTo>
                  <a:lnTo>
                    <a:pt x="97" y="426"/>
                  </a:lnTo>
                  <a:lnTo>
                    <a:pt x="137" y="418"/>
                  </a:lnTo>
                  <a:lnTo>
                    <a:pt x="143" y="416"/>
                  </a:lnTo>
                  <a:lnTo>
                    <a:pt x="147" y="410"/>
                  </a:lnTo>
                  <a:lnTo>
                    <a:pt x="179" y="389"/>
                  </a:lnTo>
                  <a:lnTo>
                    <a:pt x="282" y="335"/>
                  </a:lnTo>
                  <a:lnTo>
                    <a:pt x="288" y="0"/>
                  </a:lnTo>
                  <a:lnTo>
                    <a:pt x="262" y="38"/>
                  </a:lnTo>
                  <a:lnTo>
                    <a:pt x="258" y="36"/>
                  </a:lnTo>
                  <a:lnTo>
                    <a:pt x="246" y="38"/>
                  </a:lnTo>
                  <a:lnTo>
                    <a:pt x="228" y="34"/>
                  </a:lnTo>
                  <a:lnTo>
                    <a:pt x="4" y="453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070840" y="5951520"/>
              <a:ext cx="773640" cy="630720"/>
            </a:xfrm>
            <a:custGeom>
              <a:avLst/>
              <a:gdLst/>
              <a:ahLst/>
              <a:rect l="0" t="0" r="r" b="b"/>
              <a:pathLst>
                <a:path w="2149" h="1752">
                  <a:moveTo>
                    <a:pt x="45" y="0"/>
                  </a:moveTo>
                  <a:lnTo>
                    <a:pt x="77" y="8"/>
                  </a:lnTo>
                  <a:lnTo>
                    <a:pt x="129" y="26"/>
                  </a:lnTo>
                  <a:lnTo>
                    <a:pt x="181" y="47"/>
                  </a:lnTo>
                  <a:lnTo>
                    <a:pt x="206" y="62"/>
                  </a:lnTo>
                  <a:lnTo>
                    <a:pt x="379" y="224"/>
                  </a:lnTo>
                  <a:lnTo>
                    <a:pt x="464" y="306"/>
                  </a:lnTo>
                  <a:lnTo>
                    <a:pt x="734" y="585"/>
                  </a:lnTo>
                  <a:lnTo>
                    <a:pt x="905" y="720"/>
                  </a:lnTo>
                  <a:lnTo>
                    <a:pt x="922" y="739"/>
                  </a:lnTo>
                  <a:lnTo>
                    <a:pt x="935" y="758"/>
                  </a:lnTo>
                  <a:lnTo>
                    <a:pt x="962" y="795"/>
                  </a:lnTo>
                  <a:lnTo>
                    <a:pt x="983" y="814"/>
                  </a:lnTo>
                  <a:lnTo>
                    <a:pt x="1016" y="836"/>
                  </a:lnTo>
                  <a:lnTo>
                    <a:pt x="1062" y="861"/>
                  </a:lnTo>
                  <a:lnTo>
                    <a:pt x="1124" y="890"/>
                  </a:lnTo>
                  <a:lnTo>
                    <a:pt x="1126" y="890"/>
                  </a:lnTo>
                  <a:lnTo>
                    <a:pt x="1124" y="884"/>
                  </a:lnTo>
                  <a:lnTo>
                    <a:pt x="1126" y="884"/>
                  </a:lnTo>
                  <a:lnTo>
                    <a:pt x="1141" y="894"/>
                  </a:lnTo>
                  <a:lnTo>
                    <a:pt x="1231" y="973"/>
                  </a:lnTo>
                  <a:lnTo>
                    <a:pt x="1454" y="1177"/>
                  </a:lnTo>
                  <a:lnTo>
                    <a:pt x="1647" y="1360"/>
                  </a:lnTo>
                  <a:lnTo>
                    <a:pt x="1709" y="1402"/>
                  </a:lnTo>
                  <a:lnTo>
                    <a:pt x="1755" y="1427"/>
                  </a:lnTo>
                  <a:lnTo>
                    <a:pt x="1826" y="1460"/>
                  </a:lnTo>
                  <a:lnTo>
                    <a:pt x="1868" y="1485"/>
                  </a:lnTo>
                  <a:lnTo>
                    <a:pt x="1924" y="1526"/>
                  </a:lnTo>
                  <a:lnTo>
                    <a:pt x="2001" y="1592"/>
                  </a:lnTo>
                  <a:lnTo>
                    <a:pt x="2107" y="1690"/>
                  </a:lnTo>
                  <a:lnTo>
                    <a:pt x="2145" y="1729"/>
                  </a:lnTo>
                  <a:lnTo>
                    <a:pt x="2149" y="1742"/>
                  </a:lnTo>
                  <a:lnTo>
                    <a:pt x="2147" y="1746"/>
                  </a:lnTo>
                  <a:lnTo>
                    <a:pt x="2143" y="1746"/>
                  </a:lnTo>
                  <a:lnTo>
                    <a:pt x="2134" y="1752"/>
                  </a:lnTo>
                  <a:lnTo>
                    <a:pt x="2128" y="1752"/>
                  </a:lnTo>
                  <a:lnTo>
                    <a:pt x="2122" y="1750"/>
                  </a:lnTo>
                  <a:lnTo>
                    <a:pt x="2109" y="1740"/>
                  </a:lnTo>
                  <a:lnTo>
                    <a:pt x="2049" y="1690"/>
                  </a:lnTo>
                  <a:lnTo>
                    <a:pt x="1909" y="1582"/>
                  </a:lnTo>
                  <a:lnTo>
                    <a:pt x="1516" y="1291"/>
                  </a:lnTo>
                  <a:lnTo>
                    <a:pt x="1433" y="1233"/>
                  </a:lnTo>
                  <a:lnTo>
                    <a:pt x="1395" y="1208"/>
                  </a:lnTo>
                  <a:lnTo>
                    <a:pt x="1385" y="1204"/>
                  </a:lnTo>
                  <a:lnTo>
                    <a:pt x="1377" y="1204"/>
                  </a:lnTo>
                  <a:lnTo>
                    <a:pt x="1352" y="1187"/>
                  </a:lnTo>
                  <a:lnTo>
                    <a:pt x="1287" y="1141"/>
                  </a:lnTo>
                  <a:lnTo>
                    <a:pt x="1243" y="1108"/>
                  </a:lnTo>
                  <a:lnTo>
                    <a:pt x="1199" y="1069"/>
                  </a:lnTo>
                  <a:lnTo>
                    <a:pt x="1118" y="992"/>
                  </a:lnTo>
                  <a:lnTo>
                    <a:pt x="1076" y="955"/>
                  </a:lnTo>
                  <a:lnTo>
                    <a:pt x="1033" y="921"/>
                  </a:lnTo>
                  <a:lnTo>
                    <a:pt x="985" y="890"/>
                  </a:lnTo>
                  <a:lnTo>
                    <a:pt x="932" y="863"/>
                  </a:lnTo>
                  <a:lnTo>
                    <a:pt x="905" y="853"/>
                  </a:lnTo>
                  <a:lnTo>
                    <a:pt x="901" y="851"/>
                  </a:lnTo>
                  <a:lnTo>
                    <a:pt x="893" y="836"/>
                  </a:lnTo>
                  <a:lnTo>
                    <a:pt x="855" y="789"/>
                  </a:lnTo>
                  <a:lnTo>
                    <a:pt x="828" y="758"/>
                  </a:lnTo>
                  <a:lnTo>
                    <a:pt x="799" y="735"/>
                  </a:lnTo>
                  <a:lnTo>
                    <a:pt x="743" y="702"/>
                  </a:lnTo>
                  <a:lnTo>
                    <a:pt x="693" y="675"/>
                  </a:lnTo>
                  <a:lnTo>
                    <a:pt x="670" y="662"/>
                  </a:lnTo>
                  <a:lnTo>
                    <a:pt x="647" y="646"/>
                  </a:lnTo>
                  <a:lnTo>
                    <a:pt x="559" y="538"/>
                  </a:lnTo>
                  <a:lnTo>
                    <a:pt x="473" y="488"/>
                  </a:lnTo>
                  <a:lnTo>
                    <a:pt x="435" y="444"/>
                  </a:lnTo>
                  <a:lnTo>
                    <a:pt x="400" y="398"/>
                  </a:lnTo>
                  <a:lnTo>
                    <a:pt x="379" y="373"/>
                  </a:lnTo>
                  <a:lnTo>
                    <a:pt x="352" y="344"/>
                  </a:lnTo>
                  <a:lnTo>
                    <a:pt x="321" y="313"/>
                  </a:lnTo>
                  <a:lnTo>
                    <a:pt x="277" y="280"/>
                  </a:lnTo>
                  <a:lnTo>
                    <a:pt x="246" y="257"/>
                  </a:lnTo>
                  <a:lnTo>
                    <a:pt x="231" y="248"/>
                  </a:lnTo>
                  <a:lnTo>
                    <a:pt x="181" y="172"/>
                  </a:lnTo>
                  <a:lnTo>
                    <a:pt x="112" y="168"/>
                  </a:lnTo>
                  <a:lnTo>
                    <a:pt x="97" y="165"/>
                  </a:lnTo>
                  <a:lnTo>
                    <a:pt x="93" y="161"/>
                  </a:lnTo>
                  <a:lnTo>
                    <a:pt x="91" y="153"/>
                  </a:lnTo>
                  <a:lnTo>
                    <a:pt x="89" y="149"/>
                  </a:lnTo>
                  <a:lnTo>
                    <a:pt x="79" y="145"/>
                  </a:lnTo>
                  <a:lnTo>
                    <a:pt x="18" y="145"/>
                  </a:lnTo>
                  <a:lnTo>
                    <a:pt x="6" y="130"/>
                  </a:lnTo>
                  <a:lnTo>
                    <a:pt x="0" y="122"/>
                  </a:lnTo>
                  <a:lnTo>
                    <a:pt x="2" y="118"/>
                  </a:lnTo>
                  <a:lnTo>
                    <a:pt x="6" y="114"/>
                  </a:lnTo>
                  <a:lnTo>
                    <a:pt x="10" y="109"/>
                  </a:lnTo>
                  <a:lnTo>
                    <a:pt x="14" y="99"/>
                  </a:lnTo>
                  <a:lnTo>
                    <a:pt x="14" y="85"/>
                  </a:lnTo>
                  <a:lnTo>
                    <a:pt x="6" y="58"/>
                  </a:lnTo>
                  <a:lnTo>
                    <a:pt x="8" y="41"/>
                  </a:lnTo>
                  <a:lnTo>
                    <a:pt x="14" y="22"/>
                  </a:lnTo>
                  <a:lnTo>
                    <a:pt x="25" y="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067600" y="6024600"/>
              <a:ext cx="813240" cy="659160"/>
            </a:xfrm>
            <a:custGeom>
              <a:avLst/>
              <a:gdLst/>
              <a:ahLst/>
              <a:rect l="0" t="0" r="r" b="b"/>
              <a:pathLst>
                <a:path w="2259" h="1831">
                  <a:moveTo>
                    <a:pt x="0" y="47"/>
                  </a:moveTo>
                  <a:lnTo>
                    <a:pt x="2" y="29"/>
                  </a:lnTo>
                  <a:lnTo>
                    <a:pt x="8" y="14"/>
                  </a:lnTo>
                  <a:lnTo>
                    <a:pt x="20" y="4"/>
                  </a:lnTo>
                  <a:lnTo>
                    <a:pt x="39" y="0"/>
                  </a:lnTo>
                  <a:lnTo>
                    <a:pt x="70" y="6"/>
                  </a:lnTo>
                  <a:lnTo>
                    <a:pt x="110" y="20"/>
                  </a:lnTo>
                  <a:lnTo>
                    <a:pt x="162" y="49"/>
                  </a:lnTo>
                  <a:lnTo>
                    <a:pt x="227" y="91"/>
                  </a:lnTo>
                  <a:lnTo>
                    <a:pt x="266" y="116"/>
                  </a:lnTo>
                  <a:lnTo>
                    <a:pt x="306" y="135"/>
                  </a:lnTo>
                  <a:lnTo>
                    <a:pt x="325" y="149"/>
                  </a:lnTo>
                  <a:lnTo>
                    <a:pt x="341" y="162"/>
                  </a:lnTo>
                  <a:lnTo>
                    <a:pt x="358" y="180"/>
                  </a:lnTo>
                  <a:lnTo>
                    <a:pt x="368" y="199"/>
                  </a:lnTo>
                  <a:lnTo>
                    <a:pt x="373" y="222"/>
                  </a:lnTo>
                  <a:lnTo>
                    <a:pt x="381" y="255"/>
                  </a:lnTo>
                  <a:lnTo>
                    <a:pt x="396" y="280"/>
                  </a:lnTo>
                  <a:lnTo>
                    <a:pt x="416" y="313"/>
                  </a:lnTo>
                  <a:lnTo>
                    <a:pt x="452" y="353"/>
                  </a:lnTo>
                  <a:lnTo>
                    <a:pt x="500" y="400"/>
                  </a:lnTo>
                  <a:lnTo>
                    <a:pt x="576" y="467"/>
                  </a:lnTo>
                  <a:lnTo>
                    <a:pt x="620" y="504"/>
                  </a:lnTo>
                  <a:lnTo>
                    <a:pt x="641" y="521"/>
                  </a:lnTo>
                  <a:lnTo>
                    <a:pt x="651" y="525"/>
                  </a:lnTo>
                  <a:lnTo>
                    <a:pt x="661" y="544"/>
                  </a:lnTo>
                  <a:lnTo>
                    <a:pt x="716" y="631"/>
                  </a:lnTo>
                  <a:lnTo>
                    <a:pt x="734" y="658"/>
                  </a:lnTo>
                  <a:lnTo>
                    <a:pt x="749" y="668"/>
                  </a:lnTo>
                  <a:lnTo>
                    <a:pt x="759" y="670"/>
                  </a:lnTo>
                  <a:lnTo>
                    <a:pt x="768" y="666"/>
                  </a:lnTo>
                  <a:lnTo>
                    <a:pt x="778" y="664"/>
                  </a:lnTo>
                  <a:lnTo>
                    <a:pt x="793" y="662"/>
                  </a:lnTo>
                  <a:lnTo>
                    <a:pt x="814" y="670"/>
                  </a:lnTo>
                  <a:lnTo>
                    <a:pt x="843" y="691"/>
                  </a:lnTo>
                  <a:lnTo>
                    <a:pt x="884" y="731"/>
                  </a:lnTo>
                  <a:lnTo>
                    <a:pt x="909" y="758"/>
                  </a:lnTo>
                  <a:lnTo>
                    <a:pt x="920" y="776"/>
                  </a:lnTo>
                  <a:lnTo>
                    <a:pt x="924" y="789"/>
                  </a:lnTo>
                  <a:lnTo>
                    <a:pt x="924" y="799"/>
                  </a:lnTo>
                  <a:lnTo>
                    <a:pt x="928" y="810"/>
                  </a:lnTo>
                  <a:lnTo>
                    <a:pt x="943" y="822"/>
                  </a:lnTo>
                  <a:lnTo>
                    <a:pt x="970" y="845"/>
                  </a:lnTo>
                  <a:lnTo>
                    <a:pt x="1014" y="866"/>
                  </a:lnTo>
                  <a:lnTo>
                    <a:pt x="1028" y="876"/>
                  </a:lnTo>
                  <a:lnTo>
                    <a:pt x="1049" y="891"/>
                  </a:lnTo>
                  <a:lnTo>
                    <a:pt x="1101" y="937"/>
                  </a:lnTo>
                  <a:lnTo>
                    <a:pt x="1174" y="998"/>
                  </a:lnTo>
                  <a:lnTo>
                    <a:pt x="1220" y="1031"/>
                  </a:lnTo>
                  <a:lnTo>
                    <a:pt x="1268" y="1064"/>
                  </a:lnTo>
                  <a:lnTo>
                    <a:pt x="1320" y="1085"/>
                  </a:lnTo>
                  <a:lnTo>
                    <a:pt x="1341" y="1120"/>
                  </a:lnTo>
                  <a:lnTo>
                    <a:pt x="1351" y="1133"/>
                  </a:lnTo>
                  <a:lnTo>
                    <a:pt x="1364" y="1141"/>
                  </a:lnTo>
                  <a:lnTo>
                    <a:pt x="1418" y="1178"/>
                  </a:lnTo>
                  <a:lnTo>
                    <a:pt x="1527" y="1263"/>
                  </a:lnTo>
                  <a:lnTo>
                    <a:pt x="1558" y="1272"/>
                  </a:lnTo>
                  <a:lnTo>
                    <a:pt x="1577" y="1307"/>
                  </a:lnTo>
                  <a:lnTo>
                    <a:pt x="1602" y="1326"/>
                  </a:lnTo>
                  <a:lnTo>
                    <a:pt x="1654" y="1353"/>
                  </a:lnTo>
                  <a:lnTo>
                    <a:pt x="1753" y="1417"/>
                  </a:lnTo>
                  <a:lnTo>
                    <a:pt x="2259" y="1818"/>
                  </a:lnTo>
                  <a:lnTo>
                    <a:pt x="2251" y="1828"/>
                  </a:lnTo>
                  <a:lnTo>
                    <a:pt x="2238" y="1831"/>
                  </a:lnTo>
                  <a:lnTo>
                    <a:pt x="2220" y="1822"/>
                  </a:lnTo>
                  <a:lnTo>
                    <a:pt x="2186" y="1799"/>
                  </a:lnTo>
                  <a:lnTo>
                    <a:pt x="2063" y="1706"/>
                  </a:lnTo>
                  <a:lnTo>
                    <a:pt x="1826" y="1533"/>
                  </a:lnTo>
                  <a:lnTo>
                    <a:pt x="1256" y="1126"/>
                  </a:lnTo>
                  <a:lnTo>
                    <a:pt x="1093" y="1006"/>
                  </a:lnTo>
                  <a:lnTo>
                    <a:pt x="1085" y="998"/>
                  </a:lnTo>
                  <a:lnTo>
                    <a:pt x="1082" y="995"/>
                  </a:lnTo>
                  <a:lnTo>
                    <a:pt x="974" y="913"/>
                  </a:lnTo>
                  <a:lnTo>
                    <a:pt x="855" y="818"/>
                  </a:lnTo>
                  <a:lnTo>
                    <a:pt x="845" y="793"/>
                  </a:lnTo>
                  <a:lnTo>
                    <a:pt x="832" y="778"/>
                  </a:lnTo>
                  <a:lnTo>
                    <a:pt x="818" y="768"/>
                  </a:lnTo>
                  <a:lnTo>
                    <a:pt x="799" y="762"/>
                  </a:lnTo>
                  <a:lnTo>
                    <a:pt x="749" y="741"/>
                  </a:lnTo>
                  <a:lnTo>
                    <a:pt x="713" y="720"/>
                  </a:lnTo>
                  <a:lnTo>
                    <a:pt x="672" y="683"/>
                  </a:lnTo>
                  <a:lnTo>
                    <a:pt x="521" y="544"/>
                  </a:lnTo>
                  <a:lnTo>
                    <a:pt x="485" y="504"/>
                  </a:lnTo>
                  <a:lnTo>
                    <a:pt x="464" y="479"/>
                  </a:lnTo>
                  <a:lnTo>
                    <a:pt x="452" y="459"/>
                  </a:lnTo>
                  <a:lnTo>
                    <a:pt x="448" y="450"/>
                  </a:lnTo>
                  <a:lnTo>
                    <a:pt x="437" y="440"/>
                  </a:lnTo>
                  <a:lnTo>
                    <a:pt x="366" y="378"/>
                  </a:lnTo>
                  <a:lnTo>
                    <a:pt x="316" y="338"/>
                  </a:lnTo>
                  <a:lnTo>
                    <a:pt x="298" y="324"/>
                  </a:lnTo>
                  <a:lnTo>
                    <a:pt x="281" y="307"/>
                  </a:lnTo>
                  <a:lnTo>
                    <a:pt x="268" y="286"/>
                  </a:lnTo>
                  <a:lnTo>
                    <a:pt x="254" y="261"/>
                  </a:lnTo>
                  <a:lnTo>
                    <a:pt x="248" y="240"/>
                  </a:lnTo>
                  <a:lnTo>
                    <a:pt x="245" y="228"/>
                  </a:lnTo>
                  <a:lnTo>
                    <a:pt x="245" y="218"/>
                  </a:lnTo>
                  <a:lnTo>
                    <a:pt x="223" y="205"/>
                  </a:lnTo>
                  <a:lnTo>
                    <a:pt x="143" y="170"/>
                  </a:lnTo>
                  <a:lnTo>
                    <a:pt x="118" y="153"/>
                  </a:lnTo>
                  <a:lnTo>
                    <a:pt x="110" y="139"/>
                  </a:lnTo>
                  <a:lnTo>
                    <a:pt x="102" y="118"/>
                  </a:lnTo>
                  <a:lnTo>
                    <a:pt x="91" y="103"/>
                  </a:lnTo>
                  <a:lnTo>
                    <a:pt x="75" y="83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932600" y="6226200"/>
              <a:ext cx="41760" cy="79560"/>
            </a:xfrm>
            <a:custGeom>
              <a:avLst/>
              <a:gdLst/>
              <a:ahLst/>
              <a:rect l="0" t="0" r="r" b="b"/>
              <a:pathLst>
                <a:path w="116" h="221">
                  <a:moveTo>
                    <a:pt x="116" y="17"/>
                  </a:moveTo>
                  <a:lnTo>
                    <a:pt x="111" y="53"/>
                  </a:lnTo>
                  <a:lnTo>
                    <a:pt x="101" y="92"/>
                  </a:lnTo>
                  <a:lnTo>
                    <a:pt x="78" y="144"/>
                  </a:lnTo>
                  <a:lnTo>
                    <a:pt x="62" y="180"/>
                  </a:lnTo>
                  <a:lnTo>
                    <a:pt x="37" y="221"/>
                  </a:lnTo>
                  <a:lnTo>
                    <a:pt x="14" y="201"/>
                  </a:lnTo>
                  <a:lnTo>
                    <a:pt x="3" y="186"/>
                  </a:lnTo>
                  <a:lnTo>
                    <a:pt x="0" y="174"/>
                  </a:lnTo>
                  <a:lnTo>
                    <a:pt x="3" y="166"/>
                  </a:lnTo>
                  <a:lnTo>
                    <a:pt x="20" y="156"/>
                  </a:lnTo>
                  <a:lnTo>
                    <a:pt x="30" y="152"/>
                  </a:lnTo>
                  <a:lnTo>
                    <a:pt x="34" y="146"/>
                  </a:lnTo>
                  <a:lnTo>
                    <a:pt x="43" y="126"/>
                  </a:lnTo>
                  <a:lnTo>
                    <a:pt x="47" y="104"/>
                  </a:lnTo>
                  <a:lnTo>
                    <a:pt x="49" y="66"/>
                  </a:lnTo>
                  <a:lnTo>
                    <a:pt x="56" y="33"/>
                  </a:lnTo>
                  <a:lnTo>
                    <a:pt x="67" y="15"/>
                  </a:lnTo>
                  <a:lnTo>
                    <a:pt x="84" y="0"/>
                  </a:lnTo>
                  <a:lnTo>
                    <a:pt x="92" y="0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772480" y="6391440"/>
              <a:ext cx="87840" cy="66960"/>
            </a:xfrm>
            <a:custGeom>
              <a:avLst/>
              <a:gdLst/>
              <a:ahLst/>
              <a:rect l="0" t="0" r="r" b="b"/>
              <a:pathLst>
                <a:path w="244" h="186">
                  <a:moveTo>
                    <a:pt x="12" y="0"/>
                  </a:moveTo>
                  <a:lnTo>
                    <a:pt x="32" y="1"/>
                  </a:lnTo>
                  <a:lnTo>
                    <a:pt x="38" y="5"/>
                  </a:lnTo>
                  <a:lnTo>
                    <a:pt x="42" y="9"/>
                  </a:lnTo>
                  <a:lnTo>
                    <a:pt x="52" y="25"/>
                  </a:lnTo>
                  <a:lnTo>
                    <a:pt x="63" y="35"/>
                  </a:lnTo>
                  <a:lnTo>
                    <a:pt x="79" y="47"/>
                  </a:lnTo>
                  <a:lnTo>
                    <a:pt x="97" y="57"/>
                  </a:lnTo>
                  <a:lnTo>
                    <a:pt x="109" y="61"/>
                  </a:lnTo>
                  <a:lnTo>
                    <a:pt x="125" y="63"/>
                  </a:lnTo>
                  <a:lnTo>
                    <a:pt x="137" y="69"/>
                  </a:lnTo>
                  <a:lnTo>
                    <a:pt x="159" y="85"/>
                  </a:lnTo>
                  <a:lnTo>
                    <a:pt x="240" y="164"/>
                  </a:lnTo>
                  <a:lnTo>
                    <a:pt x="244" y="172"/>
                  </a:lnTo>
                  <a:lnTo>
                    <a:pt x="244" y="178"/>
                  </a:lnTo>
                  <a:lnTo>
                    <a:pt x="238" y="184"/>
                  </a:lnTo>
                  <a:lnTo>
                    <a:pt x="228" y="186"/>
                  </a:lnTo>
                  <a:lnTo>
                    <a:pt x="210" y="182"/>
                  </a:lnTo>
                  <a:lnTo>
                    <a:pt x="186" y="170"/>
                  </a:lnTo>
                  <a:lnTo>
                    <a:pt x="151" y="148"/>
                  </a:lnTo>
                  <a:lnTo>
                    <a:pt x="109" y="114"/>
                  </a:lnTo>
                  <a:lnTo>
                    <a:pt x="63" y="79"/>
                  </a:lnTo>
                  <a:lnTo>
                    <a:pt x="24" y="55"/>
                  </a:lnTo>
                  <a:lnTo>
                    <a:pt x="10" y="43"/>
                  </a:lnTo>
                  <a:lnTo>
                    <a:pt x="2" y="31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872560" y="6461280"/>
              <a:ext cx="125640" cy="73440"/>
            </a:xfrm>
            <a:custGeom>
              <a:avLst/>
              <a:gdLst/>
              <a:ahLst/>
              <a:rect l="0" t="0" r="r" b="b"/>
              <a:pathLst>
                <a:path w="349" h="204">
                  <a:moveTo>
                    <a:pt x="10" y="0"/>
                  </a:moveTo>
                  <a:lnTo>
                    <a:pt x="24" y="3"/>
                  </a:lnTo>
                  <a:lnTo>
                    <a:pt x="64" y="27"/>
                  </a:lnTo>
                  <a:lnTo>
                    <a:pt x="161" y="86"/>
                  </a:lnTo>
                  <a:lnTo>
                    <a:pt x="337" y="189"/>
                  </a:lnTo>
                  <a:lnTo>
                    <a:pt x="349" y="197"/>
                  </a:lnTo>
                  <a:lnTo>
                    <a:pt x="349" y="200"/>
                  </a:lnTo>
                  <a:lnTo>
                    <a:pt x="343" y="202"/>
                  </a:lnTo>
                  <a:lnTo>
                    <a:pt x="331" y="204"/>
                  </a:lnTo>
                  <a:lnTo>
                    <a:pt x="307" y="198"/>
                  </a:lnTo>
                  <a:lnTo>
                    <a:pt x="266" y="185"/>
                  </a:lnTo>
                  <a:lnTo>
                    <a:pt x="208" y="158"/>
                  </a:lnTo>
                  <a:lnTo>
                    <a:pt x="126" y="118"/>
                  </a:lnTo>
                  <a:lnTo>
                    <a:pt x="18" y="57"/>
                  </a:lnTo>
                  <a:lnTo>
                    <a:pt x="10" y="46"/>
                  </a:lnTo>
                  <a:lnTo>
                    <a:pt x="2" y="29"/>
                  </a:lnTo>
                  <a:lnTo>
                    <a:pt x="0" y="9"/>
                  </a:lnTo>
                  <a:lnTo>
                    <a:pt x="2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832960" y="6504120"/>
              <a:ext cx="81360" cy="51120"/>
            </a:xfrm>
            <a:custGeom>
              <a:avLst/>
              <a:gdLst/>
              <a:ahLst/>
              <a:rect l="0" t="0" r="r" b="b"/>
              <a:pathLst>
                <a:path w="226" h="142">
                  <a:moveTo>
                    <a:pt x="7" y="0"/>
                  </a:moveTo>
                  <a:lnTo>
                    <a:pt x="19" y="0"/>
                  </a:lnTo>
                  <a:lnTo>
                    <a:pt x="41" y="9"/>
                  </a:lnTo>
                  <a:lnTo>
                    <a:pt x="105" y="43"/>
                  </a:lnTo>
                  <a:lnTo>
                    <a:pt x="175" y="88"/>
                  </a:lnTo>
                  <a:lnTo>
                    <a:pt x="205" y="109"/>
                  </a:lnTo>
                  <a:lnTo>
                    <a:pt x="226" y="126"/>
                  </a:lnTo>
                  <a:lnTo>
                    <a:pt x="226" y="140"/>
                  </a:lnTo>
                  <a:lnTo>
                    <a:pt x="219" y="142"/>
                  </a:lnTo>
                  <a:lnTo>
                    <a:pt x="201" y="140"/>
                  </a:lnTo>
                  <a:lnTo>
                    <a:pt x="133" y="111"/>
                  </a:lnTo>
                  <a:lnTo>
                    <a:pt x="73" y="79"/>
                  </a:lnTo>
                  <a:lnTo>
                    <a:pt x="39" y="57"/>
                  </a:lnTo>
                  <a:lnTo>
                    <a:pt x="3" y="30"/>
                  </a:lnTo>
                  <a:lnTo>
                    <a:pt x="0" y="11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858160" y="6591240"/>
              <a:ext cx="28800" cy="19440"/>
            </a:xfrm>
            <a:custGeom>
              <a:avLst/>
              <a:gdLst/>
              <a:ahLst/>
              <a:rect l="0" t="0" r="r" b="b"/>
              <a:pathLst>
                <a:path w="80" h="54">
                  <a:moveTo>
                    <a:pt x="0" y="18"/>
                  </a:moveTo>
                  <a:lnTo>
                    <a:pt x="7" y="6"/>
                  </a:lnTo>
                  <a:lnTo>
                    <a:pt x="12" y="3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41" y="6"/>
                  </a:lnTo>
                  <a:lnTo>
                    <a:pt x="58" y="19"/>
                  </a:lnTo>
                  <a:lnTo>
                    <a:pt x="78" y="41"/>
                  </a:lnTo>
                  <a:lnTo>
                    <a:pt x="80" y="49"/>
                  </a:lnTo>
                  <a:lnTo>
                    <a:pt x="78" y="54"/>
                  </a:lnTo>
                  <a:lnTo>
                    <a:pt x="63" y="54"/>
                  </a:lnTo>
                  <a:lnTo>
                    <a:pt x="35" y="4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526600" y="5640480"/>
              <a:ext cx="27360" cy="33840"/>
            </a:xfrm>
            <a:custGeom>
              <a:avLst/>
              <a:gdLst/>
              <a:ahLst/>
              <a:rect l="0" t="0" r="r" b="b"/>
              <a:pathLst>
                <a:path w="76" h="94">
                  <a:moveTo>
                    <a:pt x="25" y="94"/>
                  </a:moveTo>
                  <a:lnTo>
                    <a:pt x="25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6" y="0"/>
                  </a:lnTo>
                  <a:lnTo>
                    <a:pt x="76" y="22"/>
                  </a:lnTo>
                  <a:lnTo>
                    <a:pt x="49" y="22"/>
                  </a:lnTo>
                  <a:lnTo>
                    <a:pt x="49" y="94"/>
                  </a:lnTo>
                  <a:lnTo>
                    <a:pt x="25" y="94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564400" y="5640480"/>
              <a:ext cx="44640" cy="36720"/>
            </a:xfrm>
            <a:custGeom>
              <a:avLst/>
              <a:gdLst/>
              <a:ahLst/>
              <a:rect l="0" t="0" r="r" b="b"/>
              <a:pathLst>
                <a:path w="124" h="102">
                  <a:moveTo>
                    <a:pt x="6" y="0"/>
                  </a:moveTo>
                  <a:lnTo>
                    <a:pt x="14" y="0"/>
                  </a:lnTo>
                  <a:lnTo>
                    <a:pt x="18" y="2"/>
                  </a:lnTo>
                  <a:lnTo>
                    <a:pt x="61" y="67"/>
                  </a:lnTo>
                  <a:lnTo>
                    <a:pt x="105" y="4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2" y="10"/>
                  </a:lnTo>
                  <a:lnTo>
                    <a:pt x="124" y="14"/>
                  </a:lnTo>
                  <a:lnTo>
                    <a:pt x="124" y="102"/>
                  </a:lnTo>
                  <a:lnTo>
                    <a:pt x="103" y="102"/>
                  </a:lnTo>
                  <a:lnTo>
                    <a:pt x="103" y="34"/>
                  </a:lnTo>
                  <a:lnTo>
                    <a:pt x="61" y="100"/>
                  </a:lnTo>
                  <a:lnTo>
                    <a:pt x="20" y="34"/>
                  </a:lnTo>
                  <a:lnTo>
                    <a:pt x="20" y="100"/>
                  </a:lnTo>
                  <a:lnTo>
                    <a:pt x="0" y="10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564400" y="5640480"/>
              <a:ext cx="44640" cy="36720"/>
            </a:xfrm>
            <a:custGeom>
              <a:avLst/>
              <a:gdLst/>
              <a:ahLst/>
              <a:rect l="0" t="0" r="r" b="b"/>
              <a:pathLst>
                <a:path w="124" h="102">
                  <a:moveTo>
                    <a:pt x="6" y="0"/>
                  </a:moveTo>
                  <a:lnTo>
                    <a:pt x="14" y="0"/>
                  </a:lnTo>
                  <a:lnTo>
                    <a:pt x="18" y="2"/>
                  </a:lnTo>
                  <a:lnTo>
                    <a:pt x="61" y="67"/>
                  </a:lnTo>
                  <a:lnTo>
                    <a:pt x="105" y="4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2" y="10"/>
                  </a:lnTo>
                  <a:lnTo>
                    <a:pt x="124" y="14"/>
                  </a:lnTo>
                  <a:lnTo>
                    <a:pt x="124" y="102"/>
                  </a:lnTo>
                  <a:lnTo>
                    <a:pt x="103" y="102"/>
                  </a:lnTo>
                  <a:lnTo>
                    <a:pt x="103" y="34"/>
                  </a:lnTo>
                  <a:lnTo>
                    <a:pt x="61" y="100"/>
                  </a:lnTo>
                  <a:lnTo>
                    <a:pt x="20" y="34"/>
                  </a:lnTo>
                  <a:lnTo>
                    <a:pt x="20" y="100"/>
                  </a:lnTo>
                  <a:lnTo>
                    <a:pt x="0" y="10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1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457200" y="2857680"/>
            <a:ext cx="8229600" cy="28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762120" y="30492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ailers won’t back their produc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can’t possibly win, the competition’s too tough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don’t have any third-party suppor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89080" y="3808440"/>
            <a:ext cx="4984920" cy="228924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0" dir="0" blurRad="0" rotWithShape="0">
              <a:srgbClr val="fafd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dustry Response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ga’s Launch of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ga Genesi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all 19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589720" y="5483160"/>
            <a:ext cx="3408480" cy="1200600"/>
            <a:chOff x="5589720" y="5483160"/>
            <a:chExt cx="3408480" cy="1200600"/>
          </a:xfrm>
        </p:grpSpPr>
        <p:sp>
          <p:nvSpPr>
            <p:cNvPr id="535" name=""/>
            <p:cNvSpPr/>
            <p:nvPr/>
          </p:nvSpPr>
          <p:spPr>
            <a:xfrm>
              <a:off x="5589720" y="5483160"/>
              <a:ext cx="973440" cy="868680"/>
            </a:xfrm>
            <a:custGeom>
              <a:avLst/>
              <a:gdLst/>
              <a:ahLst/>
              <a:rect l="0" t="0" r="r" b="b"/>
              <a:pathLst>
                <a:path w="2704" h="2413">
                  <a:moveTo>
                    <a:pt x="2704" y="45"/>
                  </a:moveTo>
                  <a:lnTo>
                    <a:pt x="2691" y="52"/>
                  </a:lnTo>
                  <a:lnTo>
                    <a:pt x="2674" y="56"/>
                  </a:lnTo>
                  <a:lnTo>
                    <a:pt x="2631" y="66"/>
                  </a:lnTo>
                  <a:lnTo>
                    <a:pt x="2518" y="83"/>
                  </a:lnTo>
                  <a:lnTo>
                    <a:pt x="2399" y="101"/>
                  </a:lnTo>
                  <a:lnTo>
                    <a:pt x="2308" y="118"/>
                  </a:lnTo>
                  <a:lnTo>
                    <a:pt x="2314" y="137"/>
                  </a:lnTo>
                  <a:lnTo>
                    <a:pt x="2314" y="141"/>
                  </a:lnTo>
                  <a:lnTo>
                    <a:pt x="2318" y="143"/>
                  </a:lnTo>
                  <a:lnTo>
                    <a:pt x="2341" y="147"/>
                  </a:lnTo>
                  <a:lnTo>
                    <a:pt x="2395" y="154"/>
                  </a:lnTo>
                  <a:lnTo>
                    <a:pt x="2393" y="178"/>
                  </a:lnTo>
                  <a:lnTo>
                    <a:pt x="2343" y="216"/>
                  </a:lnTo>
                  <a:lnTo>
                    <a:pt x="2331" y="226"/>
                  </a:lnTo>
                  <a:lnTo>
                    <a:pt x="2326" y="233"/>
                  </a:lnTo>
                  <a:lnTo>
                    <a:pt x="2329" y="241"/>
                  </a:lnTo>
                  <a:lnTo>
                    <a:pt x="2331" y="245"/>
                  </a:lnTo>
                  <a:lnTo>
                    <a:pt x="2326" y="249"/>
                  </a:lnTo>
                  <a:lnTo>
                    <a:pt x="2312" y="264"/>
                  </a:lnTo>
                  <a:lnTo>
                    <a:pt x="2291" y="272"/>
                  </a:lnTo>
                  <a:lnTo>
                    <a:pt x="2272" y="280"/>
                  </a:lnTo>
                  <a:lnTo>
                    <a:pt x="2251" y="283"/>
                  </a:lnTo>
                  <a:lnTo>
                    <a:pt x="2212" y="291"/>
                  </a:lnTo>
                  <a:lnTo>
                    <a:pt x="2183" y="301"/>
                  </a:lnTo>
                  <a:lnTo>
                    <a:pt x="2170" y="314"/>
                  </a:lnTo>
                  <a:lnTo>
                    <a:pt x="2168" y="320"/>
                  </a:lnTo>
                  <a:lnTo>
                    <a:pt x="2168" y="326"/>
                  </a:lnTo>
                  <a:lnTo>
                    <a:pt x="2164" y="332"/>
                  </a:lnTo>
                  <a:lnTo>
                    <a:pt x="2147" y="343"/>
                  </a:lnTo>
                  <a:lnTo>
                    <a:pt x="2112" y="355"/>
                  </a:lnTo>
                  <a:lnTo>
                    <a:pt x="1949" y="403"/>
                  </a:lnTo>
                  <a:lnTo>
                    <a:pt x="1941" y="407"/>
                  </a:lnTo>
                  <a:lnTo>
                    <a:pt x="1933" y="416"/>
                  </a:lnTo>
                  <a:lnTo>
                    <a:pt x="1918" y="437"/>
                  </a:lnTo>
                  <a:lnTo>
                    <a:pt x="1901" y="459"/>
                  </a:lnTo>
                  <a:lnTo>
                    <a:pt x="1893" y="472"/>
                  </a:lnTo>
                  <a:lnTo>
                    <a:pt x="1882" y="476"/>
                  </a:lnTo>
                  <a:lnTo>
                    <a:pt x="1868" y="480"/>
                  </a:lnTo>
                  <a:lnTo>
                    <a:pt x="1845" y="482"/>
                  </a:lnTo>
                  <a:lnTo>
                    <a:pt x="1803" y="493"/>
                  </a:lnTo>
                  <a:lnTo>
                    <a:pt x="1739" y="524"/>
                  </a:lnTo>
                  <a:lnTo>
                    <a:pt x="1714" y="653"/>
                  </a:lnTo>
                  <a:lnTo>
                    <a:pt x="1687" y="776"/>
                  </a:lnTo>
                  <a:lnTo>
                    <a:pt x="1657" y="896"/>
                  </a:lnTo>
                  <a:lnTo>
                    <a:pt x="1626" y="1013"/>
                  </a:lnTo>
                  <a:lnTo>
                    <a:pt x="1559" y="1233"/>
                  </a:lnTo>
                  <a:lnTo>
                    <a:pt x="1489" y="1428"/>
                  </a:lnTo>
                  <a:lnTo>
                    <a:pt x="1453" y="1520"/>
                  </a:lnTo>
                  <a:lnTo>
                    <a:pt x="1418" y="1605"/>
                  </a:lnTo>
                  <a:lnTo>
                    <a:pt x="1346" y="1757"/>
                  </a:lnTo>
                  <a:lnTo>
                    <a:pt x="1310" y="1822"/>
                  </a:lnTo>
                  <a:lnTo>
                    <a:pt x="1277" y="1880"/>
                  </a:lnTo>
                  <a:lnTo>
                    <a:pt x="1244" y="1932"/>
                  </a:lnTo>
                  <a:lnTo>
                    <a:pt x="1212" y="1976"/>
                  </a:lnTo>
                  <a:lnTo>
                    <a:pt x="1125" y="2084"/>
                  </a:lnTo>
                  <a:lnTo>
                    <a:pt x="1085" y="2132"/>
                  </a:lnTo>
                  <a:lnTo>
                    <a:pt x="1044" y="2173"/>
                  </a:lnTo>
                  <a:lnTo>
                    <a:pt x="1006" y="2213"/>
                  </a:lnTo>
                  <a:lnTo>
                    <a:pt x="969" y="2246"/>
                  </a:lnTo>
                  <a:lnTo>
                    <a:pt x="933" y="2277"/>
                  </a:lnTo>
                  <a:lnTo>
                    <a:pt x="896" y="2306"/>
                  </a:lnTo>
                  <a:lnTo>
                    <a:pt x="862" y="2331"/>
                  </a:lnTo>
                  <a:lnTo>
                    <a:pt x="829" y="2350"/>
                  </a:lnTo>
                  <a:lnTo>
                    <a:pt x="762" y="2381"/>
                  </a:lnTo>
                  <a:lnTo>
                    <a:pt x="698" y="2402"/>
                  </a:lnTo>
                  <a:lnTo>
                    <a:pt x="633" y="2411"/>
                  </a:lnTo>
                  <a:lnTo>
                    <a:pt x="585" y="2413"/>
                  </a:lnTo>
                  <a:lnTo>
                    <a:pt x="535" y="2406"/>
                  </a:lnTo>
                  <a:lnTo>
                    <a:pt x="487" y="2396"/>
                  </a:lnTo>
                  <a:lnTo>
                    <a:pt x="437" y="2383"/>
                  </a:lnTo>
                  <a:lnTo>
                    <a:pt x="391" y="2367"/>
                  </a:lnTo>
                  <a:lnTo>
                    <a:pt x="343" y="2346"/>
                  </a:lnTo>
                  <a:lnTo>
                    <a:pt x="256" y="2302"/>
                  </a:lnTo>
                  <a:lnTo>
                    <a:pt x="181" y="2259"/>
                  </a:lnTo>
                  <a:lnTo>
                    <a:pt x="120" y="2217"/>
                  </a:lnTo>
                  <a:lnTo>
                    <a:pt x="81" y="2186"/>
                  </a:lnTo>
                  <a:lnTo>
                    <a:pt x="64" y="2171"/>
                  </a:lnTo>
                  <a:lnTo>
                    <a:pt x="33" y="2127"/>
                  </a:lnTo>
                  <a:lnTo>
                    <a:pt x="12" y="2092"/>
                  </a:lnTo>
                  <a:lnTo>
                    <a:pt x="2" y="2065"/>
                  </a:lnTo>
                  <a:lnTo>
                    <a:pt x="0" y="2044"/>
                  </a:lnTo>
                  <a:lnTo>
                    <a:pt x="0" y="2032"/>
                  </a:lnTo>
                  <a:lnTo>
                    <a:pt x="4" y="2023"/>
                  </a:lnTo>
                  <a:lnTo>
                    <a:pt x="16" y="2015"/>
                  </a:lnTo>
                  <a:lnTo>
                    <a:pt x="31" y="2015"/>
                  </a:lnTo>
                  <a:lnTo>
                    <a:pt x="39" y="2019"/>
                  </a:lnTo>
                  <a:lnTo>
                    <a:pt x="47" y="2026"/>
                  </a:lnTo>
                  <a:lnTo>
                    <a:pt x="72" y="2053"/>
                  </a:lnTo>
                  <a:lnTo>
                    <a:pt x="120" y="2096"/>
                  </a:lnTo>
                  <a:lnTo>
                    <a:pt x="177" y="2140"/>
                  </a:lnTo>
                  <a:lnTo>
                    <a:pt x="233" y="2173"/>
                  </a:lnTo>
                  <a:lnTo>
                    <a:pt x="289" y="2198"/>
                  </a:lnTo>
                  <a:lnTo>
                    <a:pt x="341" y="2215"/>
                  </a:lnTo>
                  <a:lnTo>
                    <a:pt x="393" y="2225"/>
                  </a:lnTo>
                  <a:lnTo>
                    <a:pt x="446" y="2227"/>
                  </a:lnTo>
                  <a:lnTo>
                    <a:pt x="493" y="2221"/>
                  </a:lnTo>
                  <a:lnTo>
                    <a:pt x="541" y="2211"/>
                  </a:lnTo>
                  <a:lnTo>
                    <a:pt x="589" y="2194"/>
                  </a:lnTo>
                  <a:lnTo>
                    <a:pt x="633" y="2169"/>
                  </a:lnTo>
                  <a:lnTo>
                    <a:pt x="679" y="2140"/>
                  </a:lnTo>
                  <a:lnTo>
                    <a:pt x="723" y="2105"/>
                  </a:lnTo>
                  <a:lnTo>
                    <a:pt x="766" y="2065"/>
                  </a:lnTo>
                  <a:lnTo>
                    <a:pt x="806" y="2019"/>
                  </a:lnTo>
                  <a:lnTo>
                    <a:pt x="848" y="1971"/>
                  </a:lnTo>
                  <a:lnTo>
                    <a:pt x="887" y="1919"/>
                  </a:lnTo>
                  <a:lnTo>
                    <a:pt x="944" y="1834"/>
                  </a:lnTo>
                  <a:lnTo>
                    <a:pt x="998" y="1740"/>
                  </a:lnTo>
                  <a:lnTo>
                    <a:pt x="1052" y="1636"/>
                  </a:lnTo>
                  <a:lnTo>
                    <a:pt x="1102" y="1524"/>
                  </a:lnTo>
                  <a:lnTo>
                    <a:pt x="1150" y="1403"/>
                  </a:lnTo>
                  <a:lnTo>
                    <a:pt x="1198" y="1268"/>
                  </a:lnTo>
                  <a:lnTo>
                    <a:pt x="1244" y="1123"/>
                  </a:lnTo>
                  <a:lnTo>
                    <a:pt x="1285" y="965"/>
                  </a:lnTo>
                  <a:lnTo>
                    <a:pt x="1374" y="595"/>
                  </a:lnTo>
                  <a:lnTo>
                    <a:pt x="1372" y="568"/>
                  </a:lnTo>
                  <a:lnTo>
                    <a:pt x="796" y="634"/>
                  </a:lnTo>
                  <a:lnTo>
                    <a:pt x="719" y="641"/>
                  </a:lnTo>
                  <a:lnTo>
                    <a:pt x="704" y="638"/>
                  </a:lnTo>
                  <a:lnTo>
                    <a:pt x="677" y="580"/>
                  </a:lnTo>
                  <a:lnTo>
                    <a:pt x="621" y="584"/>
                  </a:lnTo>
                  <a:lnTo>
                    <a:pt x="612" y="580"/>
                  </a:lnTo>
                  <a:lnTo>
                    <a:pt x="606" y="568"/>
                  </a:lnTo>
                  <a:lnTo>
                    <a:pt x="608" y="555"/>
                  </a:lnTo>
                  <a:lnTo>
                    <a:pt x="610" y="549"/>
                  </a:lnTo>
                  <a:lnTo>
                    <a:pt x="623" y="547"/>
                  </a:lnTo>
                  <a:lnTo>
                    <a:pt x="641" y="541"/>
                  </a:lnTo>
                  <a:lnTo>
                    <a:pt x="654" y="534"/>
                  </a:lnTo>
                  <a:lnTo>
                    <a:pt x="664" y="520"/>
                  </a:lnTo>
                  <a:lnTo>
                    <a:pt x="666" y="509"/>
                  </a:lnTo>
                  <a:lnTo>
                    <a:pt x="660" y="499"/>
                  </a:lnTo>
                  <a:lnTo>
                    <a:pt x="633" y="482"/>
                  </a:lnTo>
                  <a:lnTo>
                    <a:pt x="602" y="464"/>
                  </a:lnTo>
                  <a:lnTo>
                    <a:pt x="591" y="455"/>
                  </a:lnTo>
                  <a:lnTo>
                    <a:pt x="585" y="445"/>
                  </a:lnTo>
                  <a:lnTo>
                    <a:pt x="583" y="422"/>
                  </a:lnTo>
                  <a:lnTo>
                    <a:pt x="587" y="405"/>
                  </a:lnTo>
                  <a:lnTo>
                    <a:pt x="596" y="397"/>
                  </a:lnTo>
                  <a:lnTo>
                    <a:pt x="608" y="393"/>
                  </a:lnTo>
                  <a:lnTo>
                    <a:pt x="641" y="391"/>
                  </a:lnTo>
                  <a:lnTo>
                    <a:pt x="664" y="391"/>
                  </a:lnTo>
                  <a:lnTo>
                    <a:pt x="685" y="385"/>
                  </a:lnTo>
                  <a:lnTo>
                    <a:pt x="685" y="368"/>
                  </a:lnTo>
                  <a:lnTo>
                    <a:pt x="654" y="366"/>
                  </a:lnTo>
                  <a:lnTo>
                    <a:pt x="633" y="360"/>
                  </a:lnTo>
                  <a:lnTo>
                    <a:pt x="629" y="353"/>
                  </a:lnTo>
                  <a:lnTo>
                    <a:pt x="627" y="343"/>
                  </a:lnTo>
                  <a:lnTo>
                    <a:pt x="633" y="301"/>
                  </a:lnTo>
                  <a:lnTo>
                    <a:pt x="635" y="297"/>
                  </a:lnTo>
                  <a:lnTo>
                    <a:pt x="641" y="293"/>
                  </a:lnTo>
                  <a:lnTo>
                    <a:pt x="664" y="289"/>
                  </a:lnTo>
                  <a:lnTo>
                    <a:pt x="781" y="289"/>
                  </a:lnTo>
                  <a:lnTo>
                    <a:pt x="889" y="283"/>
                  </a:lnTo>
                  <a:lnTo>
                    <a:pt x="1039" y="270"/>
                  </a:lnTo>
                  <a:lnTo>
                    <a:pt x="1237" y="245"/>
                  </a:lnTo>
                  <a:lnTo>
                    <a:pt x="1493" y="206"/>
                  </a:lnTo>
                  <a:lnTo>
                    <a:pt x="2295" y="49"/>
                  </a:lnTo>
                  <a:lnTo>
                    <a:pt x="2539" y="8"/>
                  </a:lnTo>
                  <a:lnTo>
                    <a:pt x="2612" y="0"/>
                  </a:lnTo>
                  <a:lnTo>
                    <a:pt x="2658" y="0"/>
                  </a:lnTo>
                  <a:lnTo>
                    <a:pt x="2687" y="6"/>
                  </a:lnTo>
                  <a:lnTo>
                    <a:pt x="2699" y="16"/>
                  </a:lnTo>
                  <a:lnTo>
                    <a:pt x="2704" y="31"/>
                  </a:lnTo>
                  <a:lnTo>
                    <a:pt x="2704" y="4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999120" y="5564160"/>
              <a:ext cx="849600" cy="790920"/>
            </a:xfrm>
            <a:custGeom>
              <a:avLst/>
              <a:gdLst/>
              <a:ahLst/>
              <a:rect l="0" t="0" r="r" b="b"/>
              <a:pathLst>
                <a:path w="2360" h="2197">
                  <a:moveTo>
                    <a:pt x="706" y="145"/>
                  </a:moveTo>
                  <a:lnTo>
                    <a:pt x="739" y="162"/>
                  </a:lnTo>
                  <a:lnTo>
                    <a:pt x="762" y="176"/>
                  </a:lnTo>
                  <a:lnTo>
                    <a:pt x="769" y="185"/>
                  </a:lnTo>
                  <a:lnTo>
                    <a:pt x="773" y="195"/>
                  </a:lnTo>
                  <a:lnTo>
                    <a:pt x="773" y="220"/>
                  </a:lnTo>
                  <a:lnTo>
                    <a:pt x="758" y="255"/>
                  </a:lnTo>
                  <a:lnTo>
                    <a:pt x="729" y="305"/>
                  </a:lnTo>
                  <a:lnTo>
                    <a:pt x="635" y="459"/>
                  </a:lnTo>
                  <a:lnTo>
                    <a:pt x="614" y="480"/>
                  </a:lnTo>
                  <a:lnTo>
                    <a:pt x="591" y="580"/>
                  </a:lnTo>
                  <a:lnTo>
                    <a:pt x="581" y="607"/>
                  </a:lnTo>
                  <a:lnTo>
                    <a:pt x="568" y="625"/>
                  </a:lnTo>
                  <a:lnTo>
                    <a:pt x="535" y="673"/>
                  </a:lnTo>
                  <a:lnTo>
                    <a:pt x="506" y="717"/>
                  </a:lnTo>
                  <a:lnTo>
                    <a:pt x="468" y="781"/>
                  </a:lnTo>
                  <a:lnTo>
                    <a:pt x="420" y="917"/>
                  </a:lnTo>
                  <a:lnTo>
                    <a:pt x="406" y="935"/>
                  </a:lnTo>
                  <a:lnTo>
                    <a:pt x="373" y="983"/>
                  </a:lnTo>
                  <a:lnTo>
                    <a:pt x="350" y="1021"/>
                  </a:lnTo>
                  <a:lnTo>
                    <a:pt x="323" y="1068"/>
                  </a:lnTo>
                  <a:lnTo>
                    <a:pt x="266" y="1203"/>
                  </a:lnTo>
                  <a:lnTo>
                    <a:pt x="233" y="1302"/>
                  </a:lnTo>
                  <a:lnTo>
                    <a:pt x="208" y="1381"/>
                  </a:lnTo>
                  <a:lnTo>
                    <a:pt x="195" y="1442"/>
                  </a:lnTo>
                  <a:lnTo>
                    <a:pt x="191" y="1483"/>
                  </a:lnTo>
                  <a:lnTo>
                    <a:pt x="200" y="1510"/>
                  </a:lnTo>
                  <a:lnTo>
                    <a:pt x="206" y="1519"/>
                  </a:lnTo>
                  <a:lnTo>
                    <a:pt x="214" y="1521"/>
                  </a:lnTo>
                  <a:lnTo>
                    <a:pt x="222" y="1523"/>
                  </a:lnTo>
                  <a:lnTo>
                    <a:pt x="235" y="1521"/>
                  </a:lnTo>
                  <a:lnTo>
                    <a:pt x="264" y="1506"/>
                  </a:lnTo>
                  <a:lnTo>
                    <a:pt x="298" y="1485"/>
                  </a:lnTo>
                  <a:lnTo>
                    <a:pt x="337" y="1456"/>
                  </a:lnTo>
                  <a:lnTo>
                    <a:pt x="423" y="1379"/>
                  </a:lnTo>
                  <a:lnTo>
                    <a:pt x="614" y="1203"/>
                  </a:lnTo>
                  <a:lnTo>
                    <a:pt x="646" y="1173"/>
                  </a:lnTo>
                  <a:lnTo>
                    <a:pt x="664" y="1153"/>
                  </a:lnTo>
                  <a:lnTo>
                    <a:pt x="685" y="1126"/>
                  </a:lnTo>
                  <a:lnTo>
                    <a:pt x="704" y="1093"/>
                  </a:lnTo>
                  <a:lnTo>
                    <a:pt x="725" y="1056"/>
                  </a:lnTo>
                  <a:lnTo>
                    <a:pt x="744" y="1010"/>
                  </a:lnTo>
                  <a:lnTo>
                    <a:pt x="758" y="956"/>
                  </a:lnTo>
                  <a:lnTo>
                    <a:pt x="787" y="838"/>
                  </a:lnTo>
                  <a:lnTo>
                    <a:pt x="798" y="786"/>
                  </a:lnTo>
                  <a:lnTo>
                    <a:pt x="806" y="771"/>
                  </a:lnTo>
                  <a:lnTo>
                    <a:pt x="825" y="750"/>
                  </a:lnTo>
                  <a:lnTo>
                    <a:pt x="833" y="746"/>
                  </a:lnTo>
                  <a:lnTo>
                    <a:pt x="831" y="702"/>
                  </a:lnTo>
                  <a:lnTo>
                    <a:pt x="831" y="669"/>
                  </a:lnTo>
                  <a:lnTo>
                    <a:pt x="837" y="642"/>
                  </a:lnTo>
                  <a:lnTo>
                    <a:pt x="846" y="623"/>
                  </a:lnTo>
                  <a:lnTo>
                    <a:pt x="856" y="613"/>
                  </a:lnTo>
                  <a:lnTo>
                    <a:pt x="864" y="605"/>
                  </a:lnTo>
                  <a:lnTo>
                    <a:pt x="881" y="598"/>
                  </a:lnTo>
                  <a:lnTo>
                    <a:pt x="902" y="582"/>
                  </a:lnTo>
                  <a:lnTo>
                    <a:pt x="887" y="546"/>
                  </a:lnTo>
                  <a:lnTo>
                    <a:pt x="885" y="534"/>
                  </a:lnTo>
                  <a:lnTo>
                    <a:pt x="885" y="519"/>
                  </a:lnTo>
                  <a:lnTo>
                    <a:pt x="908" y="476"/>
                  </a:lnTo>
                  <a:lnTo>
                    <a:pt x="964" y="388"/>
                  </a:lnTo>
                  <a:lnTo>
                    <a:pt x="998" y="338"/>
                  </a:lnTo>
                  <a:lnTo>
                    <a:pt x="1025" y="291"/>
                  </a:lnTo>
                  <a:lnTo>
                    <a:pt x="1069" y="214"/>
                  </a:lnTo>
                  <a:lnTo>
                    <a:pt x="1094" y="187"/>
                  </a:lnTo>
                  <a:lnTo>
                    <a:pt x="1119" y="172"/>
                  </a:lnTo>
                  <a:lnTo>
                    <a:pt x="1150" y="168"/>
                  </a:lnTo>
                  <a:lnTo>
                    <a:pt x="1169" y="170"/>
                  </a:lnTo>
                  <a:lnTo>
                    <a:pt x="1188" y="176"/>
                  </a:lnTo>
                  <a:lnTo>
                    <a:pt x="1197" y="189"/>
                  </a:lnTo>
                  <a:lnTo>
                    <a:pt x="1268" y="180"/>
                  </a:lnTo>
                  <a:lnTo>
                    <a:pt x="1293" y="185"/>
                  </a:lnTo>
                  <a:lnTo>
                    <a:pt x="1311" y="197"/>
                  </a:lnTo>
                  <a:lnTo>
                    <a:pt x="1324" y="232"/>
                  </a:lnTo>
                  <a:lnTo>
                    <a:pt x="1326" y="255"/>
                  </a:lnTo>
                  <a:lnTo>
                    <a:pt x="1326" y="274"/>
                  </a:lnTo>
                  <a:lnTo>
                    <a:pt x="1322" y="284"/>
                  </a:lnTo>
                  <a:lnTo>
                    <a:pt x="1316" y="301"/>
                  </a:lnTo>
                  <a:lnTo>
                    <a:pt x="1316" y="307"/>
                  </a:lnTo>
                  <a:lnTo>
                    <a:pt x="1322" y="311"/>
                  </a:lnTo>
                  <a:lnTo>
                    <a:pt x="1332" y="318"/>
                  </a:lnTo>
                  <a:lnTo>
                    <a:pt x="1347" y="322"/>
                  </a:lnTo>
                  <a:lnTo>
                    <a:pt x="1361" y="330"/>
                  </a:lnTo>
                  <a:lnTo>
                    <a:pt x="1366" y="338"/>
                  </a:lnTo>
                  <a:lnTo>
                    <a:pt x="1370" y="349"/>
                  </a:lnTo>
                  <a:lnTo>
                    <a:pt x="1370" y="366"/>
                  </a:lnTo>
                  <a:lnTo>
                    <a:pt x="1366" y="382"/>
                  </a:lnTo>
                  <a:lnTo>
                    <a:pt x="1349" y="428"/>
                  </a:lnTo>
                  <a:lnTo>
                    <a:pt x="1282" y="559"/>
                  </a:lnTo>
                  <a:lnTo>
                    <a:pt x="1177" y="763"/>
                  </a:lnTo>
                  <a:lnTo>
                    <a:pt x="1117" y="898"/>
                  </a:lnTo>
                  <a:lnTo>
                    <a:pt x="1052" y="1056"/>
                  </a:lnTo>
                  <a:lnTo>
                    <a:pt x="992" y="1223"/>
                  </a:lnTo>
                  <a:lnTo>
                    <a:pt x="948" y="1348"/>
                  </a:lnTo>
                  <a:lnTo>
                    <a:pt x="923" y="1433"/>
                  </a:lnTo>
                  <a:lnTo>
                    <a:pt x="912" y="1494"/>
                  </a:lnTo>
                  <a:lnTo>
                    <a:pt x="917" y="1531"/>
                  </a:lnTo>
                  <a:lnTo>
                    <a:pt x="923" y="1544"/>
                  </a:lnTo>
                  <a:lnTo>
                    <a:pt x="931" y="1554"/>
                  </a:lnTo>
                  <a:lnTo>
                    <a:pt x="956" y="1569"/>
                  </a:lnTo>
                  <a:lnTo>
                    <a:pt x="987" y="1585"/>
                  </a:lnTo>
                  <a:lnTo>
                    <a:pt x="1085" y="1446"/>
                  </a:lnTo>
                  <a:lnTo>
                    <a:pt x="1135" y="1381"/>
                  </a:lnTo>
                  <a:lnTo>
                    <a:pt x="1162" y="1346"/>
                  </a:lnTo>
                  <a:lnTo>
                    <a:pt x="1188" y="1296"/>
                  </a:lnTo>
                  <a:lnTo>
                    <a:pt x="1079" y="1327"/>
                  </a:lnTo>
                  <a:lnTo>
                    <a:pt x="1085" y="1296"/>
                  </a:lnTo>
                  <a:lnTo>
                    <a:pt x="1092" y="1288"/>
                  </a:lnTo>
                  <a:lnTo>
                    <a:pt x="1100" y="1279"/>
                  </a:lnTo>
                  <a:lnTo>
                    <a:pt x="1114" y="1254"/>
                  </a:lnTo>
                  <a:lnTo>
                    <a:pt x="1108" y="1240"/>
                  </a:lnTo>
                  <a:lnTo>
                    <a:pt x="1100" y="1223"/>
                  </a:lnTo>
                  <a:lnTo>
                    <a:pt x="1096" y="1209"/>
                  </a:lnTo>
                  <a:lnTo>
                    <a:pt x="1098" y="1203"/>
                  </a:lnTo>
                  <a:lnTo>
                    <a:pt x="1100" y="1196"/>
                  </a:lnTo>
                  <a:lnTo>
                    <a:pt x="1299" y="1068"/>
                  </a:lnTo>
                  <a:lnTo>
                    <a:pt x="1349" y="1035"/>
                  </a:lnTo>
                  <a:lnTo>
                    <a:pt x="1378" y="1010"/>
                  </a:lnTo>
                  <a:lnTo>
                    <a:pt x="1389" y="998"/>
                  </a:lnTo>
                  <a:lnTo>
                    <a:pt x="1397" y="985"/>
                  </a:lnTo>
                  <a:lnTo>
                    <a:pt x="1414" y="952"/>
                  </a:lnTo>
                  <a:lnTo>
                    <a:pt x="1441" y="902"/>
                  </a:lnTo>
                  <a:lnTo>
                    <a:pt x="1482" y="825"/>
                  </a:lnTo>
                  <a:lnTo>
                    <a:pt x="1561" y="738"/>
                  </a:lnTo>
                  <a:lnTo>
                    <a:pt x="1584" y="725"/>
                  </a:lnTo>
                  <a:lnTo>
                    <a:pt x="1589" y="694"/>
                  </a:lnTo>
                  <a:lnTo>
                    <a:pt x="1603" y="682"/>
                  </a:lnTo>
                  <a:lnTo>
                    <a:pt x="1641" y="646"/>
                  </a:lnTo>
                  <a:lnTo>
                    <a:pt x="1672" y="611"/>
                  </a:lnTo>
                  <a:lnTo>
                    <a:pt x="1716" y="555"/>
                  </a:lnTo>
                  <a:lnTo>
                    <a:pt x="1841" y="395"/>
                  </a:lnTo>
                  <a:lnTo>
                    <a:pt x="1895" y="338"/>
                  </a:lnTo>
                  <a:lnTo>
                    <a:pt x="1928" y="314"/>
                  </a:lnTo>
                  <a:lnTo>
                    <a:pt x="1957" y="293"/>
                  </a:lnTo>
                  <a:lnTo>
                    <a:pt x="2001" y="253"/>
                  </a:lnTo>
                  <a:lnTo>
                    <a:pt x="2016" y="237"/>
                  </a:lnTo>
                  <a:lnTo>
                    <a:pt x="2028" y="218"/>
                  </a:lnTo>
                  <a:lnTo>
                    <a:pt x="2041" y="180"/>
                  </a:lnTo>
                  <a:lnTo>
                    <a:pt x="2049" y="116"/>
                  </a:lnTo>
                  <a:lnTo>
                    <a:pt x="2055" y="91"/>
                  </a:lnTo>
                  <a:lnTo>
                    <a:pt x="2060" y="83"/>
                  </a:lnTo>
                  <a:lnTo>
                    <a:pt x="2070" y="76"/>
                  </a:lnTo>
                  <a:lnTo>
                    <a:pt x="2099" y="74"/>
                  </a:lnTo>
                  <a:lnTo>
                    <a:pt x="2149" y="85"/>
                  </a:lnTo>
                  <a:lnTo>
                    <a:pt x="2170" y="101"/>
                  </a:lnTo>
                  <a:lnTo>
                    <a:pt x="2170" y="126"/>
                  </a:lnTo>
                  <a:lnTo>
                    <a:pt x="2174" y="131"/>
                  </a:lnTo>
                  <a:lnTo>
                    <a:pt x="2180" y="133"/>
                  </a:lnTo>
                  <a:lnTo>
                    <a:pt x="2224" y="135"/>
                  </a:lnTo>
                  <a:lnTo>
                    <a:pt x="2324" y="149"/>
                  </a:lnTo>
                  <a:lnTo>
                    <a:pt x="2341" y="153"/>
                  </a:lnTo>
                  <a:lnTo>
                    <a:pt x="2351" y="162"/>
                  </a:lnTo>
                  <a:lnTo>
                    <a:pt x="2358" y="172"/>
                  </a:lnTo>
                  <a:lnTo>
                    <a:pt x="2360" y="187"/>
                  </a:lnTo>
                  <a:lnTo>
                    <a:pt x="2358" y="234"/>
                  </a:lnTo>
                  <a:lnTo>
                    <a:pt x="2343" y="309"/>
                  </a:lnTo>
                  <a:lnTo>
                    <a:pt x="2322" y="420"/>
                  </a:lnTo>
                  <a:lnTo>
                    <a:pt x="2299" y="569"/>
                  </a:lnTo>
                  <a:lnTo>
                    <a:pt x="2274" y="767"/>
                  </a:lnTo>
                  <a:lnTo>
                    <a:pt x="2255" y="1016"/>
                  </a:lnTo>
                  <a:lnTo>
                    <a:pt x="2222" y="1502"/>
                  </a:lnTo>
                  <a:lnTo>
                    <a:pt x="2185" y="1872"/>
                  </a:lnTo>
                  <a:lnTo>
                    <a:pt x="2178" y="1957"/>
                  </a:lnTo>
                  <a:lnTo>
                    <a:pt x="2174" y="2034"/>
                  </a:lnTo>
                  <a:lnTo>
                    <a:pt x="2170" y="2061"/>
                  </a:lnTo>
                  <a:lnTo>
                    <a:pt x="2164" y="2080"/>
                  </a:lnTo>
                  <a:lnTo>
                    <a:pt x="2160" y="2084"/>
                  </a:lnTo>
                  <a:lnTo>
                    <a:pt x="2153" y="2086"/>
                  </a:lnTo>
                  <a:lnTo>
                    <a:pt x="2137" y="2078"/>
                  </a:lnTo>
                  <a:lnTo>
                    <a:pt x="2137" y="2066"/>
                  </a:lnTo>
                  <a:lnTo>
                    <a:pt x="2128" y="2059"/>
                  </a:lnTo>
                  <a:lnTo>
                    <a:pt x="2122" y="1982"/>
                  </a:lnTo>
                  <a:lnTo>
                    <a:pt x="2089" y="1968"/>
                  </a:lnTo>
                  <a:lnTo>
                    <a:pt x="2074" y="1953"/>
                  </a:lnTo>
                  <a:lnTo>
                    <a:pt x="2070" y="1945"/>
                  </a:lnTo>
                  <a:lnTo>
                    <a:pt x="2070" y="1932"/>
                  </a:lnTo>
                  <a:lnTo>
                    <a:pt x="2080" y="1926"/>
                  </a:lnTo>
                  <a:lnTo>
                    <a:pt x="2089" y="1916"/>
                  </a:lnTo>
                  <a:lnTo>
                    <a:pt x="2097" y="1895"/>
                  </a:lnTo>
                  <a:lnTo>
                    <a:pt x="2099" y="1872"/>
                  </a:lnTo>
                  <a:lnTo>
                    <a:pt x="2097" y="1855"/>
                  </a:lnTo>
                  <a:lnTo>
                    <a:pt x="2074" y="1843"/>
                  </a:lnTo>
                  <a:lnTo>
                    <a:pt x="2064" y="1808"/>
                  </a:lnTo>
                  <a:lnTo>
                    <a:pt x="2062" y="1799"/>
                  </a:lnTo>
                  <a:lnTo>
                    <a:pt x="2072" y="1797"/>
                  </a:lnTo>
                  <a:lnTo>
                    <a:pt x="2080" y="1793"/>
                  </a:lnTo>
                  <a:lnTo>
                    <a:pt x="2091" y="1781"/>
                  </a:lnTo>
                  <a:lnTo>
                    <a:pt x="2093" y="1768"/>
                  </a:lnTo>
                  <a:lnTo>
                    <a:pt x="2091" y="1764"/>
                  </a:lnTo>
                  <a:lnTo>
                    <a:pt x="2053" y="1764"/>
                  </a:lnTo>
                  <a:lnTo>
                    <a:pt x="2030" y="1631"/>
                  </a:lnTo>
                  <a:lnTo>
                    <a:pt x="2018" y="1554"/>
                  </a:lnTo>
                  <a:lnTo>
                    <a:pt x="2014" y="1539"/>
                  </a:lnTo>
                  <a:lnTo>
                    <a:pt x="2010" y="1537"/>
                  </a:lnTo>
                  <a:lnTo>
                    <a:pt x="1987" y="1581"/>
                  </a:lnTo>
                  <a:lnTo>
                    <a:pt x="1970" y="1435"/>
                  </a:lnTo>
                  <a:lnTo>
                    <a:pt x="1970" y="1388"/>
                  </a:lnTo>
                  <a:lnTo>
                    <a:pt x="1978" y="1377"/>
                  </a:lnTo>
                  <a:lnTo>
                    <a:pt x="1980" y="1369"/>
                  </a:lnTo>
                  <a:lnTo>
                    <a:pt x="1982" y="1350"/>
                  </a:lnTo>
                  <a:lnTo>
                    <a:pt x="1970" y="1279"/>
                  </a:lnTo>
                  <a:lnTo>
                    <a:pt x="1964" y="1267"/>
                  </a:lnTo>
                  <a:lnTo>
                    <a:pt x="1960" y="1244"/>
                  </a:lnTo>
                  <a:lnTo>
                    <a:pt x="1960" y="1186"/>
                  </a:lnTo>
                  <a:lnTo>
                    <a:pt x="1970" y="1064"/>
                  </a:lnTo>
                  <a:lnTo>
                    <a:pt x="1976" y="1012"/>
                  </a:lnTo>
                  <a:lnTo>
                    <a:pt x="1974" y="960"/>
                  </a:lnTo>
                  <a:lnTo>
                    <a:pt x="1891" y="985"/>
                  </a:lnTo>
                  <a:lnTo>
                    <a:pt x="1828" y="1008"/>
                  </a:lnTo>
                  <a:lnTo>
                    <a:pt x="1784" y="1029"/>
                  </a:lnTo>
                  <a:lnTo>
                    <a:pt x="1755" y="1048"/>
                  </a:lnTo>
                  <a:lnTo>
                    <a:pt x="1714" y="1083"/>
                  </a:lnTo>
                  <a:lnTo>
                    <a:pt x="1695" y="1101"/>
                  </a:lnTo>
                  <a:lnTo>
                    <a:pt x="1668" y="1115"/>
                  </a:lnTo>
                  <a:lnTo>
                    <a:pt x="1612" y="1134"/>
                  </a:lnTo>
                  <a:lnTo>
                    <a:pt x="1578" y="1140"/>
                  </a:lnTo>
                  <a:lnTo>
                    <a:pt x="1559" y="1138"/>
                  </a:lnTo>
                  <a:lnTo>
                    <a:pt x="1541" y="1144"/>
                  </a:lnTo>
                  <a:lnTo>
                    <a:pt x="1534" y="1171"/>
                  </a:lnTo>
                  <a:lnTo>
                    <a:pt x="1501" y="1192"/>
                  </a:lnTo>
                  <a:lnTo>
                    <a:pt x="1493" y="1203"/>
                  </a:lnTo>
                  <a:lnTo>
                    <a:pt x="1482" y="1223"/>
                  </a:lnTo>
                  <a:lnTo>
                    <a:pt x="1459" y="1269"/>
                  </a:lnTo>
                  <a:lnTo>
                    <a:pt x="1420" y="1348"/>
                  </a:lnTo>
                  <a:lnTo>
                    <a:pt x="1355" y="1469"/>
                  </a:lnTo>
                  <a:lnTo>
                    <a:pt x="1255" y="1641"/>
                  </a:lnTo>
                  <a:lnTo>
                    <a:pt x="1154" y="1820"/>
                  </a:lnTo>
                  <a:lnTo>
                    <a:pt x="1144" y="1837"/>
                  </a:lnTo>
                  <a:lnTo>
                    <a:pt x="1137" y="1843"/>
                  </a:lnTo>
                  <a:lnTo>
                    <a:pt x="1129" y="1845"/>
                  </a:lnTo>
                  <a:lnTo>
                    <a:pt x="1119" y="1843"/>
                  </a:lnTo>
                  <a:lnTo>
                    <a:pt x="1106" y="1837"/>
                  </a:lnTo>
                  <a:lnTo>
                    <a:pt x="1100" y="1833"/>
                  </a:lnTo>
                  <a:lnTo>
                    <a:pt x="1098" y="1835"/>
                  </a:lnTo>
                  <a:lnTo>
                    <a:pt x="1092" y="1843"/>
                  </a:lnTo>
                  <a:lnTo>
                    <a:pt x="1062" y="1901"/>
                  </a:lnTo>
                  <a:lnTo>
                    <a:pt x="1033" y="1955"/>
                  </a:lnTo>
                  <a:lnTo>
                    <a:pt x="987" y="2034"/>
                  </a:lnTo>
                  <a:lnTo>
                    <a:pt x="960" y="2068"/>
                  </a:lnTo>
                  <a:lnTo>
                    <a:pt x="948" y="2080"/>
                  </a:lnTo>
                  <a:lnTo>
                    <a:pt x="933" y="2090"/>
                  </a:lnTo>
                  <a:lnTo>
                    <a:pt x="914" y="2101"/>
                  </a:lnTo>
                  <a:lnTo>
                    <a:pt x="902" y="2099"/>
                  </a:lnTo>
                  <a:lnTo>
                    <a:pt x="887" y="2076"/>
                  </a:lnTo>
                  <a:lnTo>
                    <a:pt x="885" y="2076"/>
                  </a:lnTo>
                  <a:lnTo>
                    <a:pt x="879" y="2082"/>
                  </a:lnTo>
                  <a:lnTo>
                    <a:pt x="869" y="2103"/>
                  </a:lnTo>
                  <a:lnTo>
                    <a:pt x="856" y="2120"/>
                  </a:lnTo>
                  <a:lnTo>
                    <a:pt x="841" y="2134"/>
                  </a:lnTo>
                  <a:lnTo>
                    <a:pt x="821" y="2130"/>
                  </a:lnTo>
                  <a:lnTo>
                    <a:pt x="819" y="2101"/>
                  </a:lnTo>
                  <a:lnTo>
                    <a:pt x="814" y="2088"/>
                  </a:lnTo>
                  <a:lnTo>
                    <a:pt x="808" y="2093"/>
                  </a:lnTo>
                  <a:lnTo>
                    <a:pt x="798" y="2109"/>
                  </a:lnTo>
                  <a:lnTo>
                    <a:pt x="769" y="2157"/>
                  </a:lnTo>
                  <a:lnTo>
                    <a:pt x="748" y="2180"/>
                  </a:lnTo>
                  <a:lnTo>
                    <a:pt x="723" y="2197"/>
                  </a:lnTo>
                  <a:lnTo>
                    <a:pt x="694" y="2197"/>
                  </a:lnTo>
                  <a:lnTo>
                    <a:pt x="698" y="2130"/>
                  </a:lnTo>
                  <a:lnTo>
                    <a:pt x="658" y="2126"/>
                  </a:lnTo>
                  <a:lnTo>
                    <a:pt x="668" y="2101"/>
                  </a:lnTo>
                  <a:lnTo>
                    <a:pt x="679" y="2074"/>
                  </a:lnTo>
                  <a:lnTo>
                    <a:pt x="714" y="2022"/>
                  </a:lnTo>
                  <a:lnTo>
                    <a:pt x="752" y="1970"/>
                  </a:lnTo>
                  <a:lnTo>
                    <a:pt x="785" y="1920"/>
                  </a:lnTo>
                  <a:lnTo>
                    <a:pt x="831" y="1833"/>
                  </a:lnTo>
                  <a:lnTo>
                    <a:pt x="852" y="1779"/>
                  </a:lnTo>
                  <a:lnTo>
                    <a:pt x="856" y="1762"/>
                  </a:lnTo>
                  <a:lnTo>
                    <a:pt x="856" y="1752"/>
                  </a:lnTo>
                  <a:lnTo>
                    <a:pt x="852" y="1745"/>
                  </a:lnTo>
                  <a:lnTo>
                    <a:pt x="844" y="1743"/>
                  </a:lnTo>
                  <a:lnTo>
                    <a:pt x="816" y="1747"/>
                  </a:lnTo>
                  <a:lnTo>
                    <a:pt x="783" y="1760"/>
                  </a:lnTo>
                  <a:lnTo>
                    <a:pt x="744" y="1772"/>
                  </a:lnTo>
                  <a:lnTo>
                    <a:pt x="702" y="1776"/>
                  </a:lnTo>
                  <a:lnTo>
                    <a:pt x="664" y="1772"/>
                  </a:lnTo>
                  <a:lnTo>
                    <a:pt x="635" y="1760"/>
                  </a:lnTo>
                  <a:lnTo>
                    <a:pt x="612" y="1739"/>
                  </a:lnTo>
                  <a:lnTo>
                    <a:pt x="596" y="1716"/>
                  </a:lnTo>
                  <a:lnTo>
                    <a:pt x="596" y="1672"/>
                  </a:lnTo>
                  <a:lnTo>
                    <a:pt x="593" y="1664"/>
                  </a:lnTo>
                  <a:lnTo>
                    <a:pt x="589" y="1658"/>
                  </a:lnTo>
                  <a:lnTo>
                    <a:pt x="579" y="1641"/>
                  </a:lnTo>
                  <a:lnTo>
                    <a:pt x="575" y="1606"/>
                  </a:lnTo>
                  <a:lnTo>
                    <a:pt x="579" y="1533"/>
                  </a:lnTo>
                  <a:lnTo>
                    <a:pt x="598" y="1448"/>
                  </a:lnTo>
                  <a:lnTo>
                    <a:pt x="616" y="1394"/>
                  </a:lnTo>
                  <a:lnTo>
                    <a:pt x="631" y="1367"/>
                  </a:lnTo>
                  <a:lnTo>
                    <a:pt x="631" y="1361"/>
                  </a:lnTo>
                  <a:lnTo>
                    <a:pt x="627" y="1363"/>
                  </a:lnTo>
                  <a:lnTo>
                    <a:pt x="593" y="1392"/>
                  </a:lnTo>
                  <a:lnTo>
                    <a:pt x="552" y="1435"/>
                  </a:lnTo>
                  <a:lnTo>
                    <a:pt x="454" y="1544"/>
                  </a:lnTo>
                  <a:lnTo>
                    <a:pt x="398" y="1598"/>
                  </a:lnTo>
                  <a:lnTo>
                    <a:pt x="341" y="1643"/>
                  </a:lnTo>
                  <a:lnTo>
                    <a:pt x="310" y="1662"/>
                  </a:lnTo>
                  <a:lnTo>
                    <a:pt x="281" y="1675"/>
                  </a:lnTo>
                  <a:lnTo>
                    <a:pt x="250" y="1687"/>
                  </a:lnTo>
                  <a:lnTo>
                    <a:pt x="218" y="1689"/>
                  </a:lnTo>
                  <a:lnTo>
                    <a:pt x="166" y="1689"/>
                  </a:lnTo>
                  <a:lnTo>
                    <a:pt x="143" y="1683"/>
                  </a:lnTo>
                  <a:lnTo>
                    <a:pt x="120" y="1677"/>
                  </a:lnTo>
                  <a:lnTo>
                    <a:pt x="102" y="1668"/>
                  </a:lnTo>
                  <a:lnTo>
                    <a:pt x="83" y="1658"/>
                  </a:lnTo>
                  <a:lnTo>
                    <a:pt x="68" y="1645"/>
                  </a:lnTo>
                  <a:lnTo>
                    <a:pt x="56" y="1631"/>
                  </a:lnTo>
                  <a:lnTo>
                    <a:pt x="33" y="1600"/>
                  </a:lnTo>
                  <a:lnTo>
                    <a:pt x="16" y="1562"/>
                  </a:lnTo>
                  <a:lnTo>
                    <a:pt x="8" y="1523"/>
                  </a:lnTo>
                  <a:lnTo>
                    <a:pt x="2" y="1479"/>
                  </a:lnTo>
                  <a:lnTo>
                    <a:pt x="0" y="1435"/>
                  </a:lnTo>
                  <a:lnTo>
                    <a:pt x="2" y="1390"/>
                  </a:lnTo>
                  <a:lnTo>
                    <a:pt x="12" y="1304"/>
                  </a:lnTo>
                  <a:lnTo>
                    <a:pt x="29" y="1230"/>
                  </a:lnTo>
                  <a:lnTo>
                    <a:pt x="43" y="1175"/>
                  </a:lnTo>
                  <a:lnTo>
                    <a:pt x="72" y="1075"/>
                  </a:lnTo>
                  <a:lnTo>
                    <a:pt x="87" y="1016"/>
                  </a:lnTo>
                  <a:lnTo>
                    <a:pt x="110" y="944"/>
                  </a:lnTo>
                  <a:lnTo>
                    <a:pt x="143" y="850"/>
                  </a:lnTo>
                  <a:lnTo>
                    <a:pt x="189" y="727"/>
                  </a:lnTo>
                  <a:lnTo>
                    <a:pt x="341" y="372"/>
                  </a:lnTo>
                  <a:lnTo>
                    <a:pt x="377" y="301"/>
                  </a:lnTo>
                  <a:lnTo>
                    <a:pt x="402" y="257"/>
                  </a:lnTo>
                  <a:lnTo>
                    <a:pt x="431" y="193"/>
                  </a:lnTo>
                  <a:lnTo>
                    <a:pt x="460" y="133"/>
                  </a:lnTo>
                  <a:lnTo>
                    <a:pt x="487" y="89"/>
                  </a:lnTo>
                  <a:lnTo>
                    <a:pt x="510" y="64"/>
                  </a:lnTo>
                  <a:lnTo>
                    <a:pt x="533" y="45"/>
                  </a:lnTo>
                  <a:lnTo>
                    <a:pt x="550" y="35"/>
                  </a:lnTo>
                  <a:lnTo>
                    <a:pt x="566" y="31"/>
                  </a:lnTo>
                  <a:lnTo>
                    <a:pt x="591" y="31"/>
                  </a:lnTo>
                  <a:lnTo>
                    <a:pt x="606" y="33"/>
                  </a:lnTo>
                  <a:lnTo>
                    <a:pt x="616" y="24"/>
                  </a:lnTo>
                  <a:lnTo>
                    <a:pt x="627" y="10"/>
                  </a:lnTo>
                  <a:lnTo>
                    <a:pt x="641" y="0"/>
                  </a:lnTo>
                  <a:lnTo>
                    <a:pt x="662" y="2"/>
                  </a:lnTo>
                  <a:lnTo>
                    <a:pt x="673" y="8"/>
                  </a:lnTo>
                  <a:lnTo>
                    <a:pt x="679" y="16"/>
                  </a:lnTo>
                  <a:lnTo>
                    <a:pt x="683" y="33"/>
                  </a:lnTo>
                  <a:lnTo>
                    <a:pt x="687" y="72"/>
                  </a:lnTo>
                  <a:lnTo>
                    <a:pt x="698" y="83"/>
                  </a:lnTo>
                  <a:lnTo>
                    <a:pt x="708" y="93"/>
                  </a:lnTo>
                  <a:lnTo>
                    <a:pt x="712" y="112"/>
                  </a:lnTo>
                  <a:lnTo>
                    <a:pt x="706" y="14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26400" y="5580000"/>
              <a:ext cx="981360" cy="908280"/>
            </a:xfrm>
            <a:custGeom>
              <a:avLst/>
              <a:gdLst/>
              <a:ahLst/>
              <a:rect l="0" t="0" r="r" b="b"/>
              <a:pathLst>
                <a:path w="2726" h="2523">
                  <a:moveTo>
                    <a:pt x="2599" y="2235"/>
                  </a:moveTo>
                  <a:lnTo>
                    <a:pt x="2582" y="2246"/>
                  </a:lnTo>
                  <a:lnTo>
                    <a:pt x="2567" y="2252"/>
                  </a:lnTo>
                  <a:lnTo>
                    <a:pt x="2555" y="2250"/>
                  </a:lnTo>
                  <a:lnTo>
                    <a:pt x="2540" y="2244"/>
                  </a:lnTo>
                  <a:lnTo>
                    <a:pt x="2503" y="2208"/>
                  </a:lnTo>
                  <a:lnTo>
                    <a:pt x="2432" y="2148"/>
                  </a:lnTo>
                  <a:lnTo>
                    <a:pt x="2038" y="1831"/>
                  </a:lnTo>
                  <a:lnTo>
                    <a:pt x="1929" y="1748"/>
                  </a:lnTo>
                  <a:lnTo>
                    <a:pt x="1823" y="1671"/>
                  </a:lnTo>
                  <a:lnTo>
                    <a:pt x="1771" y="1633"/>
                  </a:lnTo>
                  <a:lnTo>
                    <a:pt x="1731" y="1598"/>
                  </a:lnTo>
                  <a:lnTo>
                    <a:pt x="1698" y="1567"/>
                  </a:lnTo>
                  <a:lnTo>
                    <a:pt x="1673" y="1540"/>
                  </a:lnTo>
                  <a:lnTo>
                    <a:pt x="1635" y="1494"/>
                  </a:lnTo>
                  <a:lnTo>
                    <a:pt x="1623" y="1479"/>
                  </a:lnTo>
                  <a:lnTo>
                    <a:pt x="1608" y="1465"/>
                  </a:lnTo>
                  <a:lnTo>
                    <a:pt x="1554" y="1444"/>
                  </a:lnTo>
                  <a:lnTo>
                    <a:pt x="1402" y="1269"/>
                  </a:lnTo>
                  <a:lnTo>
                    <a:pt x="1361" y="1224"/>
                  </a:lnTo>
                  <a:lnTo>
                    <a:pt x="1340" y="1203"/>
                  </a:lnTo>
                  <a:lnTo>
                    <a:pt x="1324" y="1193"/>
                  </a:lnTo>
                  <a:lnTo>
                    <a:pt x="1303" y="1208"/>
                  </a:lnTo>
                  <a:lnTo>
                    <a:pt x="1082" y="1047"/>
                  </a:lnTo>
                  <a:lnTo>
                    <a:pt x="1009" y="999"/>
                  </a:lnTo>
                  <a:lnTo>
                    <a:pt x="1011" y="1001"/>
                  </a:lnTo>
                  <a:lnTo>
                    <a:pt x="1025" y="1016"/>
                  </a:lnTo>
                  <a:lnTo>
                    <a:pt x="1067" y="1058"/>
                  </a:lnTo>
                  <a:lnTo>
                    <a:pt x="1084" y="1081"/>
                  </a:lnTo>
                  <a:lnTo>
                    <a:pt x="1086" y="1089"/>
                  </a:lnTo>
                  <a:lnTo>
                    <a:pt x="1084" y="1091"/>
                  </a:lnTo>
                  <a:lnTo>
                    <a:pt x="1088" y="1097"/>
                  </a:lnTo>
                  <a:lnTo>
                    <a:pt x="1144" y="1153"/>
                  </a:lnTo>
                  <a:lnTo>
                    <a:pt x="1330" y="1321"/>
                  </a:lnTo>
                  <a:lnTo>
                    <a:pt x="1420" y="1398"/>
                  </a:lnTo>
                  <a:lnTo>
                    <a:pt x="1460" y="1429"/>
                  </a:lnTo>
                  <a:lnTo>
                    <a:pt x="1468" y="1438"/>
                  </a:lnTo>
                  <a:lnTo>
                    <a:pt x="1458" y="1444"/>
                  </a:lnTo>
                  <a:lnTo>
                    <a:pt x="1450" y="1448"/>
                  </a:lnTo>
                  <a:lnTo>
                    <a:pt x="1441" y="1450"/>
                  </a:lnTo>
                  <a:lnTo>
                    <a:pt x="1439" y="1448"/>
                  </a:lnTo>
                  <a:lnTo>
                    <a:pt x="1464" y="1463"/>
                  </a:lnTo>
                  <a:lnTo>
                    <a:pt x="1531" y="1513"/>
                  </a:lnTo>
                  <a:lnTo>
                    <a:pt x="1898" y="1811"/>
                  </a:lnTo>
                  <a:lnTo>
                    <a:pt x="1967" y="1871"/>
                  </a:lnTo>
                  <a:lnTo>
                    <a:pt x="1996" y="1898"/>
                  </a:lnTo>
                  <a:lnTo>
                    <a:pt x="2031" y="1938"/>
                  </a:lnTo>
                  <a:lnTo>
                    <a:pt x="2090" y="1990"/>
                  </a:lnTo>
                  <a:lnTo>
                    <a:pt x="2209" y="2094"/>
                  </a:lnTo>
                  <a:lnTo>
                    <a:pt x="2563" y="2408"/>
                  </a:lnTo>
                  <a:lnTo>
                    <a:pt x="2726" y="2512"/>
                  </a:lnTo>
                  <a:lnTo>
                    <a:pt x="2724" y="2521"/>
                  </a:lnTo>
                  <a:lnTo>
                    <a:pt x="2719" y="2523"/>
                  </a:lnTo>
                  <a:lnTo>
                    <a:pt x="2703" y="2523"/>
                  </a:lnTo>
                  <a:lnTo>
                    <a:pt x="2678" y="2512"/>
                  </a:lnTo>
                  <a:lnTo>
                    <a:pt x="2644" y="2494"/>
                  </a:lnTo>
                  <a:lnTo>
                    <a:pt x="2603" y="2469"/>
                  </a:lnTo>
                  <a:lnTo>
                    <a:pt x="2557" y="2435"/>
                  </a:lnTo>
                  <a:lnTo>
                    <a:pt x="2448" y="2356"/>
                  </a:lnTo>
                  <a:lnTo>
                    <a:pt x="2223" y="2181"/>
                  </a:lnTo>
                  <a:lnTo>
                    <a:pt x="2121" y="2104"/>
                  </a:lnTo>
                  <a:lnTo>
                    <a:pt x="2042" y="2046"/>
                  </a:lnTo>
                  <a:lnTo>
                    <a:pt x="1913" y="1954"/>
                  </a:lnTo>
                  <a:lnTo>
                    <a:pt x="1825" y="1883"/>
                  </a:lnTo>
                  <a:lnTo>
                    <a:pt x="1760" y="1823"/>
                  </a:lnTo>
                  <a:lnTo>
                    <a:pt x="1708" y="1767"/>
                  </a:lnTo>
                  <a:lnTo>
                    <a:pt x="1652" y="1708"/>
                  </a:lnTo>
                  <a:lnTo>
                    <a:pt x="1577" y="1638"/>
                  </a:lnTo>
                  <a:lnTo>
                    <a:pt x="1529" y="1596"/>
                  </a:lnTo>
                  <a:lnTo>
                    <a:pt x="1468" y="1550"/>
                  </a:lnTo>
                  <a:lnTo>
                    <a:pt x="1311" y="1436"/>
                  </a:lnTo>
                  <a:lnTo>
                    <a:pt x="1259" y="1417"/>
                  </a:lnTo>
                  <a:lnTo>
                    <a:pt x="1180" y="1325"/>
                  </a:lnTo>
                  <a:lnTo>
                    <a:pt x="1171" y="1286"/>
                  </a:lnTo>
                  <a:lnTo>
                    <a:pt x="1134" y="1258"/>
                  </a:lnTo>
                  <a:lnTo>
                    <a:pt x="1100" y="1230"/>
                  </a:lnTo>
                  <a:lnTo>
                    <a:pt x="1050" y="1180"/>
                  </a:lnTo>
                  <a:lnTo>
                    <a:pt x="1009" y="1143"/>
                  </a:lnTo>
                  <a:lnTo>
                    <a:pt x="988" y="1128"/>
                  </a:lnTo>
                  <a:lnTo>
                    <a:pt x="969" y="1120"/>
                  </a:lnTo>
                  <a:lnTo>
                    <a:pt x="917" y="1114"/>
                  </a:lnTo>
                  <a:lnTo>
                    <a:pt x="884" y="1074"/>
                  </a:lnTo>
                  <a:lnTo>
                    <a:pt x="859" y="1049"/>
                  </a:lnTo>
                  <a:lnTo>
                    <a:pt x="821" y="1028"/>
                  </a:lnTo>
                  <a:lnTo>
                    <a:pt x="813" y="1024"/>
                  </a:lnTo>
                  <a:lnTo>
                    <a:pt x="813" y="1018"/>
                  </a:lnTo>
                  <a:lnTo>
                    <a:pt x="838" y="985"/>
                  </a:lnTo>
                  <a:lnTo>
                    <a:pt x="846" y="974"/>
                  </a:lnTo>
                  <a:lnTo>
                    <a:pt x="852" y="964"/>
                  </a:lnTo>
                  <a:lnTo>
                    <a:pt x="856" y="949"/>
                  </a:lnTo>
                  <a:lnTo>
                    <a:pt x="861" y="945"/>
                  </a:lnTo>
                  <a:lnTo>
                    <a:pt x="867" y="941"/>
                  </a:lnTo>
                  <a:lnTo>
                    <a:pt x="892" y="941"/>
                  </a:lnTo>
                  <a:lnTo>
                    <a:pt x="917" y="953"/>
                  </a:lnTo>
                  <a:lnTo>
                    <a:pt x="948" y="949"/>
                  </a:lnTo>
                  <a:lnTo>
                    <a:pt x="971" y="941"/>
                  </a:lnTo>
                  <a:lnTo>
                    <a:pt x="982" y="935"/>
                  </a:lnTo>
                  <a:lnTo>
                    <a:pt x="988" y="926"/>
                  </a:lnTo>
                  <a:lnTo>
                    <a:pt x="986" y="916"/>
                  </a:lnTo>
                  <a:lnTo>
                    <a:pt x="979" y="906"/>
                  </a:lnTo>
                  <a:lnTo>
                    <a:pt x="954" y="885"/>
                  </a:lnTo>
                  <a:lnTo>
                    <a:pt x="927" y="858"/>
                  </a:lnTo>
                  <a:lnTo>
                    <a:pt x="907" y="831"/>
                  </a:lnTo>
                  <a:lnTo>
                    <a:pt x="900" y="818"/>
                  </a:lnTo>
                  <a:lnTo>
                    <a:pt x="900" y="803"/>
                  </a:lnTo>
                  <a:lnTo>
                    <a:pt x="907" y="789"/>
                  </a:lnTo>
                  <a:lnTo>
                    <a:pt x="921" y="774"/>
                  </a:lnTo>
                  <a:lnTo>
                    <a:pt x="936" y="770"/>
                  </a:lnTo>
                  <a:lnTo>
                    <a:pt x="950" y="774"/>
                  </a:lnTo>
                  <a:lnTo>
                    <a:pt x="967" y="785"/>
                  </a:lnTo>
                  <a:lnTo>
                    <a:pt x="982" y="799"/>
                  </a:lnTo>
                  <a:lnTo>
                    <a:pt x="1017" y="833"/>
                  </a:lnTo>
                  <a:lnTo>
                    <a:pt x="1030" y="847"/>
                  </a:lnTo>
                  <a:lnTo>
                    <a:pt x="1044" y="853"/>
                  </a:lnTo>
                  <a:lnTo>
                    <a:pt x="1100" y="845"/>
                  </a:lnTo>
                  <a:lnTo>
                    <a:pt x="1132" y="858"/>
                  </a:lnTo>
                  <a:lnTo>
                    <a:pt x="1265" y="683"/>
                  </a:lnTo>
                  <a:lnTo>
                    <a:pt x="1307" y="622"/>
                  </a:lnTo>
                  <a:lnTo>
                    <a:pt x="1330" y="574"/>
                  </a:lnTo>
                  <a:lnTo>
                    <a:pt x="1336" y="556"/>
                  </a:lnTo>
                  <a:lnTo>
                    <a:pt x="1336" y="537"/>
                  </a:lnTo>
                  <a:lnTo>
                    <a:pt x="1334" y="522"/>
                  </a:lnTo>
                  <a:lnTo>
                    <a:pt x="1328" y="506"/>
                  </a:lnTo>
                  <a:lnTo>
                    <a:pt x="1315" y="493"/>
                  </a:lnTo>
                  <a:lnTo>
                    <a:pt x="1303" y="479"/>
                  </a:lnTo>
                  <a:lnTo>
                    <a:pt x="1259" y="451"/>
                  </a:lnTo>
                  <a:lnTo>
                    <a:pt x="1228" y="437"/>
                  </a:lnTo>
                  <a:lnTo>
                    <a:pt x="1196" y="426"/>
                  </a:lnTo>
                  <a:lnTo>
                    <a:pt x="1134" y="414"/>
                  </a:lnTo>
                  <a:lnTo>
                    <a:pt x="1071" y="412"/>
                  </a:lnTo>
                  <a:lnTo>
                    <a:pt x="1013" y="418"/>
                  </a:lnTo>
                  <a:lnTo>
                    <a:pt x="963" y="429"/>
                  </a:lnTo>
                  <a:lnTo>
                    <a:pt x="923" y="439"/>
                  </a:lnTo>
                  <a:lnTo>
                    <a:pt x="898" y="449"/>
                  </a:lnTo>
                  <a:lnTo>
                    <a:pt x="886" y="456"/>
                  </a:lnTo>
                  <a:lnTo>
                    <a:pt x="859" y="526"/>
                  </a:lnTo>
                  <a:lnTo>
                    <a:pt x="838" y="579"/>
                  </a:lnTo>
                  <a:lnTo>
                    <a:pt x="829" y="595"/>
                  </a:lnTo>
                  <a:lnTo>
                    <a:pt x="821" y="604"/>
                  </a:lnTo>
                  <a:lnTo>
                    <a:pt x="813" y="604"/>
                  </a:lnTo>
                  <a:lnTo>
                    <a:pt x="802" y="595"/>
                  </a:lnTo>
                  <a:lnTo>
                    <a:pt x="802" y="572"/>
                  </a:lnTo>
                  <a:lnTo>
                    <a:pt x="794" y="574"/>
                  </a:lnTo>
                  <a:lnTo>
                    <a:pt x="786" y="581"/>
                  </a:lnTo>
                  <a:lnTo>
                    <a:pt x="769" y="604"/>
                  </a:lnTo>
                  <a:lnTo>
                    <a:pt x="742" y="674"/>
                  </a:lnTo>
                  <a:lnTo>
                    <a:pt x="719" y="754"/>
                  </a:lnTo>
                  <a:lnTo>
                    <a:pt x="706" y="789"/>
                  </a:lnTo>
                  <a:lnTo>
                    <a:pt x="694" y="814"/>
                  </a:lnTo>
                  <a:lnTo>
                    <a:pt x="677" y="810"/>
                  </a:lnTo>
                  <a:lnTo>
                    <a:pt x="669" y="816"/>
                  </a:lnTo>
                  <a:lnTo>
                    <a:pt x="658" y="835"/>
                  </a:lnTo>
                  <a:lnTo>
                    <a:pt x="602" y="1035"/>
                  </a:lnTo>
                  <a:lnTo>
                    <a:pt x="558" y="1212"/>
                  </a:lnTo>
                  <a:lnTo>
                    <a:pt x="496" y="1500"/>
                  </a:lnTo>
                  <a:lnTo>
                    <a:pt x="475" y="1608"/>
                  </a:lnTo>
                  <a:lnTo>
                    <a:pt x="454" y="1690"/>
                  </a:lnTo>
                  <a:lnTo>
                    <a:pt x="444" y="1723"/>
                  </a:lnTo>
                  <a:lnTo>
                    <a:pt x="433" y="1746"/>
                  </a:lnTo>
                  <a:lnTo>
                    <a:pt x="421" y="1765"/>
                  </a:lnTo>
                  <a:lnTo>
                    <a:pt x="408" y="1775"/>
                  </a:lnTo>
                  <a:lnTo>
                    <a:pt x="391" y="1767"/>
                  </a:lnTo>
                  <a:lnTo>
                    <a:pt x="391" y="1675"/>
                  </a:lnTo>
                  <a:lnTo>
                    <a:pt x="193" y="2110"/>
                  </a:lnTo>
                  <a:lnTo>
                    <a:pt x="185" y="2017"/>
                  </a:lnTo>
                  <a:lnTo>
                    <a:pt x="150" y="2021"/>
                  </a:lnTo>
                  <a:lnTo>
                    <a:pt x="100" y="2171"/>
                  </a:lnTo>
                  <a:lnTo>
                    <a:pt x="87" y="2200"/>
                  </a:lnTo>
                  <a:lnTo>
                    <a:pt x="83" y="2206"/>
                  </a:lnTo>
                  <a:lnTo>
                    <a:pt x="79" y="2206"/>
                  </a:lnTo>
                  <a:lnTo>
                    <a:pt x="77" y="2185"/>
                  </a:lnTo>
                  <a:lnTo>
                    <a:pt x="75" y="2156"/>
                  </a:lnTo>
                  <a:lnTo>
                    <a:pt x="70" y="2158"/>
                  </a:lnTo>
                  <a:lnTo>
                    <a:pt x="62" y="2171"/>
                  </a:lnTo>
                  <a:lnTo>
                    <a:pt x="50" y="2188"/>
                  </a:lnTo>
                  <a:lnTo>
                    <a:pt x="37" y="2200"/>
                  </a:lnTo>
                  <a:lnTo>
                    <a:pt x="22" y="2200"/>
                  </a:lnTo>
                  <a:lnTo>
                    <a:pt x="16" y="2192"/>
                  </a:lnTo>
                  <a:lnTo>
                    <a:pt x="12" y="2177"/>
                  </a:lnTo>
                  <a:lnTo>
                    <a:pt x="4" y="2127"/>
                  </a:lnTo>
                  <a:lnTo>
                    <a:pt x="0" y="2038"/>
                  </a:lnTo>
                  <a:lnTo>
                    <a:pt x="4" y="2013"/>
                  </a:lnTo>
                  <a:lnTo>
                    <a:pt x="14" y="1979"/>
                  </a:lnTo>
                  <a:lnTo>
                    <a:pt x="45" y="1913"/>
                  </a:lnTo>
                  <a:lnTo>
                    <a:pt x="77" y="1854"/>
                  </a:lnTo>
                  <a:lnTo>
                    <a:pt x="93" y="1827"/>
                  </a:lnTo>
                  <a:lnTo>
                    <a:pt x="110" y="1819"/>
                  </a:lnTo>
                  <a:lnTo>
                    <a:pt x="110" y="1731"/>
                  </a:lnTo>
                  <a:lnTo>
                    <a:pt x="112" y="1727"/>
                  </a:lnTo>
                  <a:lnTo>
                    <a:pt x="118" y="1723"/>
                  </a:lnTo>
                  <a:lnTo>
                    <a:pt x="129" y="1719"/>
                  </a:lnTo>
                  <a:lnTo>
                    <a:pt x="141" y="1711"/>
                  </a:lnTo>
                  <a:lnTo>
                    <a:pt x="118" y="1679"/>
                  </a:lnTo>
                  <a:lnTo>
                    <a:pt x="183" y="1511"/>
                  </a:lnTo>
                  <a:lnTo>
                    <a:pt x="198" y="1469"/>
                  </a:lnTo>
                  <a:lnTo>
                    <a:pt x="198" y="1471"/>
                  </a:lnTo>
                  <a:lnTo>
                    <a:pt x="204" y="1475"/>
                  </a:lnTo>
                  <a:lnTo>
                    <a:pt x="214" y="1467"/>
                  </a:lnTo>
                  <a:lnTo>
                    <a:pt x="227" y="1456"/>
                  </a:lnTo>
                  <a:lnTo>
                    <a:pt x="241" y="1440"/>
                  </a:lnTo>
                  <a:lnTo>
                    <a:pt x="252" y="1423"/>
                  </a:lnTo>
                  <a:lnTo>
                    <a:pt x="254" y="1415"/>
                  </a:lnTo>
                  <a:lnTo>
                    <a:pt x="252" y="1411"/>
                  </a:lnTo>
                  <a:lnTo>
                    <a:pt x="246" y="1404"/>
                  </a:lnTo>
                  <a:lnTo>
                    <a:pt x="239" y="1392"/>
                  </a:lnTo>
                  <a:lnTo>
                    <a:pt x="237" y="1375"/>
                  </a:lnTo>
                  <a:lnTo>
                    <a:pt x="243" y="1346"/>
                  </a:lnTo>
                  <a:lnTo>
                    <a:pt x="254" y="1300"/>
                  </a:lnTo>
                  <a:lnTo>
                    <a:pt x="379" y="928"/>
                  </a:lnTo>
                  <a:lnTo>
                    <a:pt x="439" y="760"/>
                  </a:lnTo>
                  <a:lnTo>
                    <a:pt x="471" y="685"/>
                  </a:lnTo>
                  <a:lnTo>
                    <a:pt x="506" y="587"/>
                  </a:lnTo>
                  <a:lnTo>
                    <a:pt x="448" y="612"/>
                  </a:lnTo>
                  <a:lnTo>
                    <a:pt x="379" y="643"/>
                  </a:lnTo>
                  <a:lnTo>
                    <a:pt x="344" y="654"/>
                  </a:lnTo>
                  <a:lnTo>
                    <a:pt x="312" y="662"/>
                  </a:lnTo>
                  <a:lnTo>
                    <a:pt x="300" y="662"/>
                  </a:lnTo>
                  <a:lnTo>
                    <a:pt x="287" y="658"/>
                  </a:lnTo>
                  <a:lnTo>
                    <a:pt x="277" y="654"/>
                  </a:lnTo>
                  <a:lnTo>
                    <a:pt x="268" y="643"/>
                  </a:lnTo>
                  <a:lnTo>
                    <a:pt x="260" y="608"/>
                  </a:lnTo>
                  <a:lnTo>
                    <a:pt x="158" y="599"/>
                  </a:lnTo>
                  <a:lnTo>
                    <a:pt x="150" y="562"/>
                  </a:lnTo>
                  <a:lnTo>
                    <a:pt x="135" y="545"/>
                  </a:lnTo>
                  <a:lnTo>
                    <a:pt x="118" y="539"/>
                  </a:lnTo>
                  <a:lnTo>
                    <a:pt x="102" y="539"/>
                  </a:lnTo>
                  <a:lnTo>
                    <a:pt x="87" y="539"/>
                  </a:lnTo>
                  <a:lnTo>
                    <a:pt x="81" y="537"/>
                  </a:lnTo>
                  <a:lnTo>
                    <a:pt x="77" y="531"/>
                  </a:lnTo>
                  <a:lnTo>
                    <a:pt x="70" y="512"/>
                  </a:lnTo>
                  <a:lnTo>
                    <a:pt x="70" y="472"/>
                  </a:lnTo>
                  <a:lnTo>
                    <a:pt x="77" y="429"/>
                  </a:lnTo>
                  <a:lnTo>
                    <a:pt x="81" y="416"/>
                  </a:lnTo>
                  <a:lnTo>
                    <a:pt x="100" y="416"/>
                  </a:lnTo>
                  <a:lnTo>
                    <a:pt x="137" y="408"/>
                  </a:lnTo>
                  <a:lnTo>
                    <a:pt x="158" y="397"/>
                  </a:lnTo>
                  <a:lnTo>
                    <a:pt x="164" y="391"/>
                  </a:lnTo>
                  <a:lnTo>
                    <a:pt x="170" y="383"/>
                  </a:lnTo>
                  <a:lnTo>
                    <a:pt x="181" y="368"/>
                  </a:lnTo>
                  <a:lnTo>
                    <a:pt x="187" y="349"/>
                  </a:lnTo>
                  <a:lnTo>
                    <a:pt x="200" y="314"/>
                  </a:lnTo>
                  <a:lnTo>
                    <a:pt x="212" y="297"/>
                  </a:lnTo>
                  <a:lnTo>
                    <a:pt x="229" y="285"/>
                  </a:lnTo>
                  <a:lnTo>
                    <a:pt x="369" y="222"/>
                  </a:lnTo>
                  <a:lnTo>
                    <a:pt x="562" y="149"/>
                  </a:lnTo>
                  <a:lnTo>
                    <a:pt x="746" y="87"/>
                  </a:lnTo>
                  <a:lnTo>
                    <a:pt x="813" y="68"/>
                  </a:lnTo>
                  <a:lnTo>
                    <a:pt x="856" y="58"/>
                  </a:lnTo>
                  <a:lnTo>
                    <a:pt x="948" y="54"/>
                  </a:lnTo>
                  <a:lnTo>
                    <a:pt x="1005" y="49"/>
                  </a:lnTo>
                  <a:lnTo>
                    <a:pt x="1027" y="45"/>
                  </a:lnTo>
                  <a:lnTo>
                    <a:pt x="1044" y="39"/>
                  </a:lnTo>
                  <a:lnTo>
                    <a:pt x="1080" y="10"/>
                  </a:lnTo>
                  <a:lnTo>
                    <a:pt x="1142" y="4"/>
                  </a:lnTo>
                  <a:lnTo>
                    <a:pt x="1192" y="0"/>
                  </a:lnTo>
                  <a:lnTo>
                    <a:pt x="1251" y="0"/>
                  </a:lnTo>
                  <a:lnTo>
                    <a:pt x="1315" y="6"/>
                  </a:lnTo>
                  <a:lnTo>
                    <a:pt x="1387" y="20"/>
                  </a:lnTo>
                  <a:lnTo>
                    <a:pt x="1458" y="43"/>
                  </a:lnTo>
                  <a:lnTo>
                    <a:pt x="1493" y="60"/>
                  </a:lnTo>
                  <a:lnTo>
                    <a:pt x="1529" y="79"/>
                  </a:lnTo>
                  <a:lnTo>
                    <a:pt x="1596" y="129"/>
                  </a:lnTo>
                  <a:lnTo>
                    <a:pt x="1652" y="179"/>
                  </a:lnTo>
                  <a:lnTo>
                    <a:pt x="1698" y="233"/>
                  </a:lnTo>
                  <a:lnTo>
                    <a:pt x="1733" y="289"/>
                  </a:lnTo>
                  <a:lnTo>
                    <a:pt x="1758" y="347"/>
                  </a:lnTo>
                  <a:lnTo>
                    <a:pt x="1769" y="408"/>
                  </a:lnTo>
                  <a:lnTo>
                    <a:pt x="1771" y="439"/>
                  </a:lnTo>
                  <a:lnTo>
                    <a:pt x="1771" y="468"/>
                  </a:lnTo>
                  <a:lnTo>
                    <a:pt x="1769" y="499"/>
                  </a:lnTo>
                  <a:lnTo>
                    <a:pt x="1760" y="531"/>
                  </a:lnTo>
                  <a:lnTo>
                    <a:pt x="1742" y="593"/>
                  </a:lnTo>
                  <a:lnTo>
                    <a:pt x="1710" y="654"/>
                  </a:lnTo>
                  <a:lnTo>
                    <a:pt x="1671" y="716"/>
                  </a:lnTo>
                  <a:lnTo>
                    <a:pt x="1644" y="747"/>
                  </a:lnTo>
                  <a:lnTo>
                    <a:pt x="1616" y="776"/>
                  </a:lnTo>
                  <a:lnTo>
                    <a:pt x="1587" y="806"/>
                  </a:lnTo>
                  <a:lnTo>
                    <a:pt x="1554" y="837"/>
                  </a:lnTo>
                  <a:lnTo>
                    <a:pt x="1481" y="895"/>
                  </a:lnTo>
                  <a:lnTo>
                    <a:pt x="1439" y="924"/>
                  </a:lnTo>
                  <a:lnTo>
                    <a:pt x="1395" y="951"/>
                  </a:lnTo>
                  <a:lnTo>
                    <a:pt x="1299" y="1006"/>
                  </a:lnTo>
                  <a:lnTo>
                    <a:pt x="1425" y="1128"/>
                  </a:lnTo>
                  <a:lnTo>
                    <a:pt x="1443" y="1151"/>
                  </a:lnTo>
                  <a:lnTo>
                    <a:pt x="1458" y="1174"/>
                  </a:lnTo>
                  <a:lnTo>
                    <a:pt x="1568" y="1309"/>
                  </a:lnTo>
                  <a:lnTo>
                    <a:pt x="1612" y="1356"/>
                  </a:lnTo>
                  <a:lnTo>
                    <a:pt x="1646" y="1390"/>
                  </a:lnTo>
                  <a:lnTo>
                    <a:pt x="1673" y="1413"/>
                  </a:lnTo>
                  <a:lnTo>
                    <a:pt x="1694" y="1427"/>
                  </a:lnTo>
                  <a:lnTo>
                    <a:pt x="1729" y="1444"/>
                  </a:lnTo>
                  <a:lnTo>
                    <a:pt x="1746" y="1452"/>
                  </a:lnTo>
                  <a:lnTo>
                    <a:pt x="1764" y="1465"/>
                  </a:lnTo>
                  <a:lnTo>
                    <a:pt x="1865" y="1583"/>
                  </a:lnTo>
                  <a:lnTo>
                    <a:pt x="2038" y="1719"/>
                  </a:lnTo>
                  <a:lnTo>
                    <a:pt x="2146" y="1827"/>
                  </a:lnTo>
                  <a:lnTo>
                    <a:pt x="2225" y="1906"/>
                  </a:lnTo>
                  <a:lnTo>
                    <a:pt x="2292" y="1963"/>
                  </a:lnTo>
                  <a:lnTo>
                    <a:pt x="2446" y="2085"/>
                  </a:lnTo>
                  <a:lnTo>
                    <a:pt x="2534" y="2156"/>
                  </a:lnTo>
                  <a:lnTo>
                    <a:pt x="2559" y="2179"/>
                  </a:lnTo>
                  <a:lnTo>
                    <a:pt x="2578" y="2198"/>
                  </a:lnTo>
                  <a:lnTo>
                    <a:pt x="2590" y="2217"/>
                  </a:lnTo>
                  <a:lnTo>
                    <a:pt x="2599" y="223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76800" y="5589720"/>
              <a:ext cx="503640" cy="748080"/>
            </a:xfrm>
            <a:custGeom>
              <a:avLst/>
              <a:gdLst/>
              <a:ahLst/>
              <a:rect l="0" t="0" r="r" b="b"/>
              <a:pathLst>
                <a:path w="1399" h="2078">
                  <a:moveTo>
                    <a:pt x="1385" y="140"/>
                  </a:moveTo>
                  <a:lnTo>
                    <a:pt x="1393" y="161"/>
                  </a:lnTo>
                  <a:lnTo>
                    <a:pt x="1397" y="184"/>
                  </a:lnTo>
                  <a:lnTo>
                    <a:pt x="1399" y="236"/>
                  </a:lnTo>
                  <a:lnTo>
                    <a:pt x="1397" y="301"/>
                  </a:lnTo>
                  <a:lnTo>
                    <a:pt x="1391" y="374"/>
                  </a:lnTo>
                  <a:lnTo>
                    <a:pt x="1372" y="560"/>
                  </a:lnTo>
                  <a:lnTo>
                    <a:pt x="1355" y="798"/>
                  </a:lnTo>
                  <a:lnTo>
                    <a:pt x="1345" y="1286"/>
                  </a:lnTo>
                  <a:lnTo>
                    <a:pt x="1343" y="1601"/>
                  </a:lnTo>
                  <a:lnTo>
                    <a:pt x="1337" y="1687"/>
                  </a:lnTo>
                  <a:lnTo>
                    <a:pt x="1332" y="1712"/>
                  </a:lnTo>
                  <a:lnTo>
                    <a:pt x="1326" y="1718"/>
                  </a:lnTo>
                  <a:lnTo>
                    <a:pt x="1322" y="1723"/>
                  </a:lnTo>
                  <a:lnTo>
                    <a:pt x="1318" y="1723"/>
                  </a:lnTo>
                  <a:lnTo>
                    <a:pt x="1311" y="1720"/>
                  </a:lnTo>
                  <a:lnTo>
                    <a:pt x="1297" y="1704"/>
                  </a:lnTo>
                  <a:lnTo>
                    <a:pt x="1259" y="1633"/>
                  </a:lnTo>
                  <a:lnTo>
                    <a:pt x="1226" y="1817"/>
                  </a:lnTo>
                  <a:lnTo>
                    <a:pt x="1207" y="1804"/>
                  </a:lnTo>
                  <a:lnTo>
                    <a:pt x="1194" y="1794"/>
                  </a:lnTo>
                  <a:lnTo>
                    <a:pt x="1190" y="1779"/>
                  </a:lnTo>
                  <a:lnTo>
                    <a:pt x="1186" y="1764"/>
                  </a:lnTo>
                  <a:lnTo>
                    <a:pt x="1186" y="1731"/>
                  </a:lnTo>
                  <a:lnTo>
                    <a:pt x="1186" y="1689"/>
                  </a:lnTo>
                  <a:lnTo>
                    <a:pt x="1146" y="1618"/>
                  </a:lnTo>
                  <a:lnTo>
                    <a:pt x="1142" y="1643"/>
                  </a:lnTo>
                  <a:lnTo>
                    <a:pt x="1136" y="1660"/>
                  </a:lnTo>
                  <a:lnTo>
                    <a:pt x="1129" y="1668"/>
                  </a:lnTo>
                  <a:lnTo>
                    <a:pt x="1121" y="1674"/>
                  </a:lnTo>
                  <a:lnTo>
                    <a:pt x="1115" y="1672"/>
                  </a:lnTo>
                  <a:lnTo>
                    <a:pt x="1106" y="1666"/>
                  </a:lnTo>
                  <a:lnTo>
                    <a:pt x="1094" y="1645"/>
                  </a:lnTo>
                  <a:lnTo>
                    <a:pt x="1071" y="1582"/>
                  </a:lnTo>
                  <a:lnTo>
                    <a:pt x="1065" y="1554"/>
                  </a:lnTo>
                  <a:lnTo>
                    <a:pt x="1062" y="1531"/>
                  </a:lnTo>
                  <a:lnTo>
                    <a:pt x="1079" y="1510"/>
                  </a:lnTo>
                  <a:lnTo>
                    <a:pt x="1079" y="1458"/>
                  </a:lnTo>
                  <a:lnTo>
                    <a:pt x="1054" y="1391"/>
                  </a:lnTo>
                  <a:lnTo>
                    <a:pt x="1054" y="1024"/>
                  </a:lnTo>
                  <a:lnTo>
                    <a:pt x="1045" y="964"/>
                  </a:lnTo>
                  <a:lnTo>
                    <a:pt x="835" y="1041"/>
                  </a:lnTo>
                  <a:lnTo>
                    <a:pt x="714" y="1083"/>
                  </a:lnTo>
                  <a:lnTo>
                    <a:pt x="653" y="1106"/>
                  </a:lnTo>
                  <a:lnTo>
                    <a:pt x="639" y="1114"/>
                  </a:lnTo>
                  <a:lnTo>
                    <a:pt x="630" y="1123"/>
                  </a:lnTo>
                  <a:lnTo>
                    <a:pt x="349" y="1720"/>
                  </a:lnTo>
                  <a:lnTo>
                    <a:pt x="255" y="1942"/>
                  </a:lnTo>
                  <a:lnTo>
                    <a:pt x="238" y="1982"/>
                  </a:lnTo>
                  <a:lnTo>
                    <a:pt x="200" y="2032"/>
                  </a:lnTo>
                  <a:lnTo>
                    <a:pt x="219" y="1924"/>
                  </a:lnTo>
                  <a:lnTo>
                    <a:pt x="228" y="1838"/>
                  </a:lnTo>
                  <a:lnTo>
                    <a:pt x="232" y="1794"/>
                  </a:lnTo>
                  <a:lnTo>
                    <a:pt x="198" y="1838"/>
                  </a:lnTo>
                  <a:lnTo>
                    <a:pt x="113" y="2032"/>
                  </a:lnTo>
                  <a:lnTo>
                    <a:pt x="96" y="2026"/>
                  </a:lnTo>
                  <a:lnTo>
                    <a:pt x="89" y="2020"/>
                  </a:lnTo>
                  <a:lnTo>
                    <a:pt x="87" y="2011"/>
                  </a:lnTo>
                  <a:lnTo>
                    <a:pt x="89" y="2003"/>
                  </a:lnTo>
                  <a:lnTo>
                    <a:pt x="104" y="1982"/>
                  </a:lnTo>
                  <a:lnTo>
                    <a:pt x="113" y="1968"/>
                  </a:lnTo>
                  <a:lnTo>
                    <a:pt x="115" y="1951"/>
                  </a:lnTo>
                  <a:lnTo>
                    <a:pt x="110" y="1924"/>
                  </a:lnTo>
                  <a:lnTo>
                    <a:pt x="104" y="1917"/>
                  </a:lnTo>
                  <a:lnTo>
                    <a:pt x="98" y="1928"/>
                  </a:lnTo>
                  <a:lnTo>
                    <a:pt x="89" y="1949"/>
                  </a:lnTo>
                  <a:lnTo>
                    <a:pt x="77" y="1980"/>
                  </a:lnTo>
                  <a:lnTo>
                    <a:pt x="60" y="2014"/>
                  </a:lnTo>
                  <a:lnTo>
                    <a:pt x="37" y="2047"/>
                  </a:lnTo>
                  <a:lnTo>
                    <a:pt x="23" y="2064"/>
                  </a:lnTo>
                  <a:lnTo>
                    <a:pt x="6" y="2078"/>
                  </a:lnTo>
                  <a:lnTo>
                    <a:pt x="0" y="1959"/>
                  </a:lnTo>
                  <a:lnTo>
                    <a:pt x="0" y="1934"/>
                  </a:lnTo>
                  <a:lnTo>
                    <a:pt x="2" y="1924"/>
                  </a:lnTo>
                  <a:lnTo>
                    <a:pt x="16" y="1909"/>
                  </a:lnTo>
                  <a:lnTo>
                    <a:pt x="31" y="1892"/>
                  </a:lnTo>
                  <a:lnTo>
                    <a:pt x="46" y="1852"/>
                  </a:lnTo>
                  <a:lnTo>
                    <a:pt x="50" y="1806"/>
                  </a:lnTo>
                  <a:lnTo>
                    <a:pt x="79" y="1781"/>
                  </a:lnTo>
                  <a:lnTo>
                    <a:pt x="92" y="1767"/>
                  </a:lnTo>
                  <a:lnTo>
                    <a:pt x="98" y="1754"/>
                  </a:lnTo>
                  <a:lnTo>
                    <a:pt x="104" y="1737"/>
                  </a:lnTo>
                  <a:lnTo>
                    <a:pt x="113" y="1708"/>
                  </a:lnTo>
                  <a:lnTo>
                    <a:pt x="129" y="1660"/>
                  </a:lnTo>
                  <a:lnTo>
                    <a:pt x="167" y="1586"/>
                  </a:lnTo>
                  <a:lnTo>
                    <a:pt x="223" y="1479"/>
                  </a:lnTo>
                  <a:lnTo>
                    <a:pt x="301" y="1340"/>
                  </a:lnTo>
                  <a:lnTo>
                    <a:pt x="343" y="1255"/>
                  </a:lnTo>
                  <a:lnTo>
                    <a:pt x="363" y="1209"/>
                  </a:lnTo>
                  <a:lnTo>
                    <a:pt x="373" y="1179"/>
                  </a:lnTo>
                  <a:lnTo>
                    <a:pt x="390" y="1148"/>
                  </a:lnTo>
                  <a:lnTo>
                    <a:pt x="345" y="1139"/>
                  </a:lnTo>
                  <a:lnTo>
                    <a:pt x="336" y="1135"/>
                  </a:lnTo>
                  <a:lnTo>
                    <a:pt x="334" y="1133"/>
                  </a:lnTo>
                  <a:lnTo>
                    <a:pt x="334" y="1123"/>
                  </a:lnTo>
                  <a:lnTo>
                    <a:pt x="334" y="1114"/>
                  </a:lnTo>
                  <a:lnTo>
                    <a:pt x="326" y="1100"/>
                  </a:lnTo>
                  <a:lnTo>
                    <a:pt x="320" y="1083"/>
                  </a:lnTo>
                  <a:lnTo>
                    <a:pt x="322" y="1075"/>
                  </a:lnTo>
                  <a:lnTo>
                    <a:pt x="328" y="1068"/>
                  </a:lnTo>
                  <a:lnTo>
                    <a:pt x="345" y="1060"/>
                  </a:lnTo>
                  <a:lnTo>
                    <a:pt x="367" y="1052"/>
                  </a:lnTo>
                  <a:lnTo>
                    <a:pt x="423" y="1037"/>
                  </a:lnTo>
                  <a:lnTo>
                    <a:pt x="450" y="1029"/>
                  </a:lnTo>
                  <a:lnTo>
                    <a:pt x="469" y="1016"/>
                  </a:lnTo>
                  <a:lnTo>
                    <a:pt x="522" y="924"/>
                  </a:lnTo>
                  <a:lnTo>
                    <a:pt x="522" y="880"/>
                  </a:lnTo>
                  <a:lnTo>
                    <a:pt x="566" y="836"/>
                  </a:lnTo>
                  <a:lnTo>
                    <a:pt x="574" y="825"/>
                  </a:lnTo>
                  <a:lnTo>
                    <a:pt x="574" y="817"/>
                  </a:lnTo>
                  <a:lnTo>
                    <a:pt x="574" y="796"/>
                  </a:lnTo>
                  <a:lnTo>
                    <a:pt x="578" y="779"/>
                  </a:lnTo>
                  <a:lnTo>
                    <a:pt x="586" y="750"/>
                  </a:lnTo>
                  <a:lnTo>
                    <a:pt x="658" y="641"/>
                  </a:lnTo>
                  <a:lnTo>
                    <a:pt x="683" y="593"/>
                  </a:lnTo>
                  <a:lnTo>
                    <a:pt x="699" y="572"/>
                  </a:lnTo>
                  <a:lnTo>
                    <a:pt x="722" y="541"/>
                  </a:lnTo>
                  <a:lnTo>
                    <a:pt x="758" y="483"/>
                  </a:lnTo>
                  <a:lnTo>
                    <a:pt x="762" y="456"/>
                  </a:lnTo>
                  <a:lnTo>
                    <a:pt x="785" y="443"/>
                  </a:lnTo>
                  <a:lnTo>
                    <a:pt x="848" y="299"/>
                  </a:lnTo>
                  <a:lnTo>
                    <a:pt x="869" y="263"/>
                  </a:lnTo>
                  <a:lnTo>
                    <a:pt x="882" y="242"/>
                  </a:lnTo>
                  <a:lnTo>
                    <a:pt x="902" y="224"/>
                  </a:lnTo>
                  <a:lnTo>
                    <a:pt x="913" y="211"/>
                  </a:lnTo>
                  <a:lnTo>
                    <a:pt x="928" y="188"/>
                  </a:lnTo>
                  <a:lnTo>
                    <a:pt x="944" y="157"/>
                  </a:lnTo>
                  <a:lnTo>
                    <a:pt x="955" y="129"/>
                  </a:lnTo>
                  <a:lnTo>
                    <a:pt x="963" y="90"/>
                  </a:lnTo>
                  <a:lnTo>
                    <a:pt x="967" y="81"/>
                  </a:lnTo>
                  <a:lnTo>
                    <a:pt x="976" y="73"/>
                  </a:lnTo>
                  <a:lnTo>
                    <a:pt x="988" y="69"/>
                  </a:lnTo>
                  <a:lnTo>
                    <a:pt x="1011" y="69"/>
                  </a:lnTo>
                  <a:lnTo>
                    <a:pt x="1024" y="69"/>
                  </a:lnTo>
                  <a:lnTo>
                    <a:pt x="1032" y="75"/>
                  </a:lnTo>
                  <a:lnTo>
                    <a:pt x="1034" y="79"/>
                  </a:lnTo>
                  <a:lnTo>
                    <a:pt x="1036" y="85"/>
                  </a:lnTo>
                  <a:lnTo>
                    <a:pt x="1038" y="104"/>
                  </a:lnTo>
                  <a:lnTo>
                    <a:pt x="1045" y="121"/>
                  </a:lnTo>
                  <a:lnTo>
                    <a:pt x="1050" y="125"/>
                  </a:lnTo>
                  <a:lnTo>
                    <a:pt x="1056" y="121"/>
                  </a:lnTo>
                  <a:lnTo>
                    <a:pt x="1067" y="90"/>
                  </a:lnTo>
                  <a:lnTo>
                    <a:pt x="1073" y="73"/>
                  </a:lnTo>
                  <a:lnTo>
                    <a:pt x="1083" y="56"/>
                  </a:lnTo>
                  <a:lnTo>
                    <a:pt x="1096" y="41"/>
                  </a:lnTo>
                  <a:lnTo>
                    <a:pt x="1111" y="33"/>
                  </a:lnTo>
                  <a:lnTo>
                    <a:pt x="1148" y="35"/>
                  </a:lnTo>
                  <a:lnTo>
                    <a:pt x="1171" y="39"/>
                  </a:lnTo>
                  <a:lnTo>
                    <a:pt x="1184" y="39"/>
                  </a:lnTo>
                  <a:lnTo>
                    <a:pt x="1201" y="35"/>
                  </a:lnTo>
                  <a:lnTo>
                    <a:pt x="1257" y="8"/>
                  </a:lnTo>
                  <a:lnTo>
                    <a:pt x="1270" y="2"/>
                  </a:lnTo>
                  <a:lnTo>
                    <a:pt x="1293" y="0"/>
                  </a:lnTo>
                  <a:lnTo>
                    <a:pt x="1322" y="2"/>
                  </a:lnTo>
                  <a:lnTo>
                    <a:pt x="1335" y="8"/>
                  </a:lnTo>
                  <a:lnTo>
                    <a:pt x="1343" y="16"/>
                  </a:lnTo>
                  <a:lnTo>
                    <a:pt x="1349" y="33"/>
                  </a:lnTo>
                  <a:lnTo>
                    <a:pt x="1349" y="52"/>
                  </a:lnTo>
                  <a:lnTo>
                    <a:pt x="1345" y="90"/>
                  </a:lnTo>
                  <a:lnTo>
                    <a:pt x="1347" y="108"/>
                  </a:lnTo>
                  <a:lnTo>
                    <a:pt x="1353" y="123"/>
                  </a:lnTo>
                  <a:lnTo>
                    <a:pt x="1358" y="129"/>
                  </a:lnTo>
                  <a:lnTo>
                    <a:pt x="1366" y="133"/>
                  </a:lnTo>
                  <a:lnTo>
                    <a:pt x="1385" y="14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602400" y="5607000"/>
              <a:ext cx="405000" cy="594000"/>
            </a:xfrm>
            <a:custGeom>
              <a:avLst/>
              <a:gdLst/>
              <a:ahLst/>
              <a:rect l="0" t="0" r="r" b="b"/>
              <a:pathLst>
                <a:path w="1125" h="1650">
                  <a:moveTo>
                    <a:pt x="980" y="207"/>
                  </a:moveTo>
                  <a:lnTo>
                    <a:pt x="988" y="234"/>
                  </a:lnTo>
                  <a:lnTo>
                    <a:pt x="986" y="253"/>
                  </a:lnTo>
                  <a:lnTo>
                    <a:pt x="980" y="267"/>
                  </a:lnTo>
                  <a:lnTo>
                    <a:pt x="966" y="278"/>
                  </a:lnTo>
                  <a:lnTo>
                    <a:pt x="920" y="294"/>
                  </a:lnTo>
                  <a:lnTo>
                    <a:pt x="856" y="309"/>
                  </a:lnTo>
                  <a:lnTo>
                    <a:pt x="771" y="334"/>
                  </a:lnTo>
                  <a:lnTo>
                    <a:pt x="721" y="353"/>
                  </a:lnTo>
                  <a:lnTo>
                    <a:pt x="667" y="378"/>
                  </a:lnTo>
                  <a:lnTo>
                    <a:pt x="609" y="411"/>
                  </a:lnTo>
                  <a:lnTo>
                    <a:pt x="546" y="450"/>
                  </a:lnTo>
                  <a:lnTo>
                    <a:pt x="482" y="500"/>
                  </a:lnTo>
                  <a:lnTo>
                    <a:pt x="414" y="560"/>
                  </a:lnTo>
                  <a:lnTo>
                    <a:pt x="378" y="600"/>
                  </a:lnTo>
                  <a:lnTo>
                    <a:pt x="345" y="643"/>
                  </a:lnTo>
                  <a:lnTo>
                    <a:pt x="316" y="689"/>
                  </a:lnTo>
                  <a:lnTo>
                    <a:pt x="291" y="739"/>
                  </a:lnTo>
                  <a:lnTo>
                    <a:pt x="273" y="791"/>
                  </a:lnTo>
                  <a:lnTo>
                    <a:pt x="254" y="842"/>
                  </a:lnTo>
                  <a:lnTo>
                    <a:pt x="244" y="896"/>
                  </a:lnTo>
                  <a:lnTo>
                    <a:pt x="236" y="948"/>
                  </a:lnTo>
                  <a:lnTo>
                    <a:pt x="231" y="1052"/>
                  </a:lnTo>
                  <a:lnTo>
                    <a:pt x="236" y="1099"/>
                  </a:lnTo>
                  <a:lnTo>
                    <a:pt x="244" y="1147"/>
                  </a:lnTo>
                  <a:lnTo>
                    <a:pt x="254" y="1189"/>
                  </a:lnTo>
                  <a:lnTo>
                    <a:pt x="271" y="1228"/>
                  </a:lnTo>
                  <a:lnTo>
                    <a:pt x="291" y="1263"/>
                  </a:lnTo>
                  <a:lnTo>
                    <a:pt x="314" y="1292"/>
                  </a:lnTo>
                  <a:lnTo>
                    <a:pt x="370" y="1346"/>
                  </a:lnTo>
                  <a:lnTo>
                    <a:pt x="426" y="1390"/>
                  </a:lnTo>
                  <a:lnTo>
                    <a:pt x="488" y="1427"/>
                  </a:lnTo>
                  <a:lnTo>
                    <a:pt x="550" y="1450"/>
                  </a:lnTo>
                  <a:lnTo>
                    <a:pt x="616" y="1461"/>
                  </a:lnTo>
                  <a:lnTo>
                    <a:pt x="649" y="1461"/>
                  </a:lnTo>
                  <a:lnTo>
                    <a:pt x="680" y="1454"/>
                  </a:lnTo>
                  <a:lnTo>
                    <a:pt x="713" y="1446"/>
                  </a:lnTo>
                  <a:lnTo>
                    <a:pt x="746" y="1432"/>
                  </a:lnTo>
                  <a:lnTo>
                    <a:pt x="781" y="1413"/>
                  </a:lnTo>
                  <a:lnTo>
                    <a:pt x="814" y="1388"/>
                  </a:lnTo>
                  <a:lnTo>
                    <a:pt x="796" y="1355"/>
                  </a:lnTo>
                  <a:lnTo>
                    <a:pt x="787" y="1330"/>
                  </a:lnTo>
                  <a:lnTo>
                    <a:pt x="781" y="1292"/>
                  </a:lnTo>
                  <a:lnTo>
                    <a:pt x="783" y="1238"/>
                  </a:lnTo>
                  <a:lnTo>
                    <a:pt x="792" y="1164"/>
                  </a:lnTo>
                  <a:lnTo>
                    <a:pt x="810" y="1066"/>
                  </a:lnTo>
                  <a:lnTo>
                    <a:pt x="841" y="939"/>
                  </a:lnTo>
                  <a:lnTo>
                    <a:pt x="736" y="958"/>
                  </a:lnTo>
                  <a:lnTo>
                    <a:pt x="651" y="979"/>
                  </a:lnTo>
                  <a:lnTo>
                    <a:pt x="587" y="1002"/>
                  </a:lnTo>
                  <a:lnTo>
                    <a:pt x="538" y="1022"/>
                  </a:lnTo>
                  <a:lnTo>
                    <a:pt x="480" y="1052"/>
                  </a:lnTo>
                  <a:lnTo>
                    <a:pt x="461" y="1058"/>
                  </a:lnTo>
                  <a:lnTo>
                    <a:pt x="445" y="1054"/>
                  </a:lnTo>
                  <a:lnTo>
                    <a:pt x="436" y="1047"/>
                  </a:lnTo>
                  <a:lnTo>
                    <a:pt x="434" y="1041"/>
                  </a:lnTo>
                  <a:lnTo>
                    <a:pt x="439" y="1037"/>
                  </a:lnTo>
                  <a:lnTo>
                    <a:pt x="445" y="1031"/>
                  </a:lnTo>
                  <a:lnTo>
                    <a:pt x="465" y="1020"/>
                  </a:lnTo>
                  <a:lnTo>
                    <a:pt x="484" y="1006"/>
                  </a:lnTo>
                  <a:lnTo>
                    <a:pt x="540" y="906"/>
                  </a:lnTo>
                  <a:lnTo>
                    <a:pt x="578" y="887"/>
                  </a:lnTo>
                  <a:lnTo>
                    <a:pt x="593" y="875"/>
                  </a:lnTo>
                  <a:lnTo>
                    <a:pt x="599" y="865"/>
                  </a:lnTo>
                  <a:lnTo>
                    <a:pt x="616" y="848"/>
                  </a:lnTo>
                  <a:lnTo>
                    <a:pt x="711" y="814"/>
                  </a:lnTo>
                  <a:lnTo>
                    <a:pt x="717" y="789"/>
                  </a:lnTo>
                  <a:lnTo>
                    <a:pt x="719" y="787"/>
                  </a:lnTo>
                  <a:lnTo>
                    <a:pt x="742" y="789"/>
                  </a:lnTo>
                  <a:lnTo>
                    <a:pt x="767" y="785"/>
                  </a:lnTo>
                  <a:lnTo>
                    <a:pt x="802" y="774"/>
                  </a:lnTo>
                  <a:lnTo>
                    <a:pt x="852" y="758"/>
                  </a:lnTo>
                  <a:lnTo>
                    <a:pt x="891" y="737"/>
                  </a:lnTo>
                  <a:lnTo>
                    <a:pt x="922" y="716"/>
                  </a:lnTo>
                  <a:lnTo>
                    <a:pt x="947" y="695"/>
                  </a:lnTo>
                  <a:lnTo>
                    <a:pt x="986" y="668"/>
                  </a:lnTo>
                  <a:lnTo>
                    <a:pt x="1001" y="662"/>
                  </a:lnTo>
                  <a:lnTo>
                    <a:pt x="1015" y="664"/>
                  </a:lnTo>
                  <a:lnTo>
                    <a:pt x="1030" y="675"/>
                  </a:lnTo>
                  <a:lnTo>
                    <a:pt x="1038" y="685"/>
                  </a:lnTo>
                  <a:lnTo>
                    <a:pt x="1044" y="704"/>
                  </a:lnTo>
                  <a:lnTo>
                    <a:pt x="1048" y="716"/>
                  </a:lnTo>
                  <a:lnTo>
                    <a:pt x="1055" y="718"/>
                  </a:lnTo>
                  <a:lnTo>
                    <a:pt x="1063" y="712"/>
                  </a:lnTo>
                  <a:lnTo>
                    <a:pt x="1094" y="687"/>
                  </a:lnTo>
                  <a:lnTo>
                    <a:pt x="1125" y="691"/>
                  </a:lnTo>
                  <a:lnTo>
                    <a:pt x="1115" y="812"/>
                  </a:lnTo>
                  <a:lnTo>
                    <a:pt x="1098" y="914"/>
                  </a:lnTo>
                  <a:lnTo>
                    <a:pt x="1055" y="1085"/>
                  </a:lnTo>
                  <a:lnTo>
                    <a:pt x="1036" y="1164"/>
                  </a:lnTo>
                  <a:lnTo>
                    <a:pt x="1021" y="1247"/>
                  </a:lnTo>
                  <a:lnTo>
                    <a:pt x="1013" y="1340"/>
                  </a:lnTo>
                  <a:lnTo>
                    <a:pt x="1015" y="1448"/>
                  </a:lnTo>
                  <a:lnTo>
                    <a:pt x="1028" y="1575"/>
                  </a:lnTo>
                  <a:lnTo>
                    <a:pt x="1034" y="1623"/>
                  </a:lnTo>
                  <a:lnTo>
                    <a:pt x="1032" y="1631"/>
                  </a:lnTo>
                  <a:lnTo>
                    <a:pt x="1028" y="1631"/>
                  </a:lnTo>
                  <a:lnTo>
                    <a:pt x="1007" y="1637"/>
                  </a:lnTo>
                  <a:lnTo>
                    <a:pt x="997" y="1614"/>
                  </a:lnTo>
                  <a:lnTo>
                    <a:pt x="986" y="1610"/>
                  </a:lnTo>
                  <a:lnTo>
                    <a:pt x="974" y="1614"/>
                  </a:lnTo>
                  <a:lnTo>
                    <a:pt x="968" y="1612"/>
                  </a:lnTo>
                  <a:lnTo>
                    <a:pt x="959" y="1606"/>
                  </a:lnTo>
                  <a:lnTo>
                    <a:pt x="941" y="1554"/>
                  </a:lnTo>
                  <a:lnTo>
                    <a:pt x="928" y="1548"/>
                  </a:lnTo>
                  <a:lnTo>
                    <a:pt x="914" y="1535"/>
                  </a:lnTo>
                  <a:lnTo>
                    <a:pt x="885" y="1511"/>
                  </a:lnTo>
                  <a:lnTo>
                    <a:pt x="858" y="1492"/>
                  </a:lnTo>
                  <a:lnTo>
                    <a:pt x="847" y="1488"/>
                  </a:lnTo>
                  <a:lnTo>
                    <a:pt x="837" y="1488"/>
                  </a:lnTo>
                  <a:lnTo>
                    <a:pt x="818" y="1504"/>
                  </a:lnTo>
                  <a:lnTo>
                    <a:pt x="804" y="1527"/>
                  </a:lnTo>
                  <a:lnTo>
                    <a:pt x="787" y="1552"/>
                  </a:lnTo>
                  <a:lnTo>
                    <a:pt x="767" y="1579"/>
                  </a:lnTo>
                  <a:lnTo>
                    <a:pt x="756" y="1592"/>
                  </a:lnTo>
                  <a:lnTo>
                    <a:pt x="740" y="1604"/>
                  </a:lnTo>
                  <a:lnTo>
                    <a:pt x="703" y="1625"/>
                  </a:lnTo>
                  <a:lnTo>
                    <a:pt x="653" y="1641"/>
                  </a:lnTo>
                  <a:lnTo>
                    <a:pt x="620" y="1648"/>
                  </a:lnTo>
                  <a:lnTo>
                    <a:pt x="584" y="1650"/>
                  </a:lnTo>
                  <a:lnTo>
                    <a:pt x="536" y="1648"/>
                  </a:lnTo>
                  <a:lnTo>
                    <a:pt x="484" y="1644"/>
                  </a:lnTo>
                  <a:lnTo>
                    <a:pt x="436" y="1633"/>
                  </a:lnTo>
                  <a:lnTo>
                    <a:pt x="387" y="1617"/>
                  </a:lnTo>
                  <a:lnTo>
                    <a:pt x="341" y="1598"/>
                  </a:lnTo>
                  <a:lnTo>
                    <a:pt x="294" y="1573"/>
                  </a:lnTo>
                  <a:lnTo>
                    <a:pt x="250" y="1542"/>
                  </a:lnTo>
                  <a:lnTo>
                    <a:pt x="209" y="1506"/>
                  </a:lnTo>
                  <a:lnTo>
                    <a:pt x="171" y="1469"/>
                  </a:lnTo>
                  <a:lnTo>
                    <a:pt x="134" y="1423"/>
                  </a:lnTo>
                  <a:lnTo>
                    <a:pt x="101" y="1376"/>
                  </a:lnTo>
                  <a:lnTo>
                    <a:pt x="72" y="1324"/>
                  </a:lnTo>
                  <a:lnTo>
                    <a:pt x="49" y="1265"/>
                  </a:lnTo>
                  <a:lnTo>
                    <a:pt x="28" y="1203"/>
                  </a:lnTo>
                  <a:lnTo>
                    <a:pt x="14" y="1137"/>
                  </a:lnTo>
                  <a:lnTo>
                    <a:pt x="4" y="1066"/>
                  </a:lnTo>
                  <a:lnTo>
                    <a:pt x="0" y="973"/>
                  </a:lnTo>
                  <a:lnTo>
                    <a:pt x="4" y="883"/>
                  </a:lnTo>
                  <a:lnTo>
                    <a:pt x="16" y="799"/>
                  </a:lnTo>
                  <a:lnTo>
                    <a:pt x="33" y="720"/>
                  </a:lnTo>
                  <a:lnTo>
                    <a:pt x="57" y="648"/>
                  </a:lnTo>
                  <a:lnTo>
                    <a:pt x="84" y="579"/>
                  </a:lnTo>
                  <a:lnTo>
                    <a:pt x="115" y="517"/>
                  </a:lnTo>
                  <a:lnTo>
                    <a:pt x="149" y="459"/>
                  </a:lnTo>
                  <a:lnTo>
                    <a:pt x="215" y="357"/>
                  </a:lnTo>
                  <a:lnTo>
                    <a:pt x="281" y="276"/>
                  </a:lnTo>
                  <a:lnTo>
                    <a:pt x="333" y="218"/>
                  </a:lnTo>
                  <a:lnTo>
                    <a:pt x="366" y="180"/>
                  </a:lnTo>
                  <a:lnTo>
                    <a:pt x="403" y="143"/>
                  </a:lnTo>
                  <a:lnTo>
                    <a:pt x="434" y="118"/>
                  </a:lnTo>
                  <a:lnTo>
                    <a:pt x="478" y="91"/>
                  </a:lnTo>
                  <a:lnTo>
                    <a:pt x="532" y="64"/>
                  </a:lnTo>
                  <a:lnTo>
                    <a:pt x="599" y="37"/>
                  </a:lnTo>
                  <a:lnTo>
                    <a:pt x="678" y="16"/>
                  </a:lnTo>
                  <a:lnTo>
                    <a:pt x="767" y="0"/>
                  </a:lnTo>
                  <a:lnTo>
                    <a:pt x="790" y="0"/>
                  </a:lnTo>
                  <a:lnTo>
                    <a:pt x="798" y="4"/>
                  </a:lnTo>
                  <a:lnTo>
                    <a:pt x="804" y="12"/>
                  </a:lnTo>
                  <a:lnTo>
                    <a:pt x="821" y="24"/>
                  </a:lnTo>
                  <a:lnTo>
                    <a:pt x="876" y="37"/>
                  </a:lnTo>
                  <a:lnTo>
                    <a:pt x="887" y="54"/>
                  </a:lnTo>
                  <a:lnTo>
                    <a:pt x="889" y="62"/>
                  </a:lnTo>
                  <a:lnTo>
                    <a:pt x="887" y="68"/>
                  </a:lnTo>
                  <a:lnTo>
                    <a:pt x="887" y="74"/>
                  </a:lnTo>
                  <a:lnTo>
                    <a:pt x="891" y="83"/>
                  </a:lnTo>
                  <a:lnTo>
                    <a:pt x="924" y="120"/>
                  </a:lnTo>
                  <a:lnTo>
                    <a:pt x="949" y="147"/>
                  </a:lnTo>
                  <a:lnTo>
                    <a:pt x="959" y="153"/>
                  </a:lnTo>
                  <a:lnTo>
                    <a:pt x="972" y="149"/>
                  </a:lnTo>
                  <a:lnTo>
                    <a:pt x="999" y="151"/>
                  </a:lnTo>
                  <a:lnTo>
                    <a:pt x="1007" y="153"/>
                  </a:lnTo>
                  <a:lnTo>
                    <a:pt x="1011" y="157"/>
                  </a:lnTo>
                  <a:lnTo>
                    <a:pt x="1013" y="166"/>
                  </a:lnTo>
                  <a:lnTo>
                    <a:pt x="1013" y="172"/>
                  </a:lnTo>
                  <a:lnTo>
                    <a:pt x="1003" y="191"/>
                  </a:lnTo>
                  <a:lnTo>
                    <a:pt x="995" y="199"/>
                  </a:lnTo>
                  <a:lnTo>
                    <a:pt x="980" y="20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613640" y="5740560"/>
              <a:ext cx="100440" cy="119520"/>
            </a:xfrm>
            <a:custGeom>
              <a:avLst/>
              <a:gdLst/>
              <a:ahLst/>
              <a:rect l="0" t="0" r="r" b="b"/>
              <a:pathLst>
                <a:path w="279" h="332">
                  <a:moveTo>
                    <a:pt x="0" y="332"/>
                  </a:moveTo>
                  <a:lnTo>
                    <a:pt x="26" y="322"/>
                  </a:lnTo>
                  <a:lnTo>
                    <a:pt x="50" y="308"/>
                  </a:lnTo>
                  <a:lnTo>
                    <a:pt x="104" y="274"/>
                  </a:lnTo>
                  <a:lnTo>
                    <a:pt x="132" y="258"/>
                  </a:lnTo>
                  <a:lnTo>
                    <a:pt x="163" y="247"/>
                  </a:lnTo>
                  <a:lnTo>
                    <a:pt x="193" y="240"/>
                  </a:lnTo>
                  <a:lnTo>
                    <a:pt x="225" y="242"/>
                  </a:lnTo>
                  <a:lnTo>
                    <a:pt x="231" y="216"/>
                  </a:lnTo>
                  <a:lnTo>
                    <a:pt x="231" y="196"/>
                  </a:lnTo>
                  <a:lnTo>
                    <a:pt x="229" y="172"/>
                  </a:lnTo>
                  <a:lnTo>
                    <a:pt x="227" y="156"/>
                  </a:lnTo>
                  <a:lnTo>
                    <a:pt x="237" y="132"/>
                  </a:lnTo>
                  <a:lnTo>
                    <a:pt x="247" y="115"/>
                  </a:lnTo>
                  <a:lnTo>
                    <a:pt x="255" y="97"/>
                  </a:lnTo>
                  <a:lnTo>
                    <a:pt x="279" y="14"/>
                  </a:lnTo>
                  <a:lnTo>
                    <a:pt x="249" y="14"/>
                  </a:lnTo>
                  <a:lnTo>
                    <a:pt x="249" y="10"/>
                  </a:lnTo>
                  <a:lnTo>
                    <a:pt x="245" y="0"/>
                  </a:lnTo>
                  <a:lnTo>
                    <a:pt x="235" y="6"/>
                  </a:lnTo>
                  <a:lnTo>
                    <a:pt x="212" y="28"/>
                  </a:lnTo>
                  <a:lnTo>
                    <a:pt x="147" y="111"/>
                  </a:lnTo>
                  <a:lnTo>
                    <a:pt x="68" y="222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350040" y="5743440"/>
              <a:ext cx="103680" cy="178200"/>
            </a:xfrm>
            <a:custGeom>
              <a:avLst/>
              <a:gdLst/>
              <a:ahLst/>
              <a:rect l="0" t="0" r="r" b="b"/>
              <a:pathLst>
                <a:path w="288" h="495">
                  <a:moveTo>
                    <a:pt x="0" y="495"/>
                  </a:moveTo>
                  <a:lnTo>
                    <a:pt x="16" y="493"/>
                  </a:lnTo>
                  <a:lnTo>
                    <a:pt x="22" y="491"/>
                  </a:lnTo>
                  <a:lnTo>
                    <a:pt x="26" y="487"/>
                  </a:lnTo>
                  <a:lnTo>
                    <a:pt x="30" y="479"/>
                  </a:lnTo>
                  <a:lnTo>
                    <a:pt x="34" y="469"/>
                  </a:lnTo>
                  <a:lnTo>
                    <a:pt x="38" y="459"/>
                  </a:lnTo>
                  <a:lnTo>
                    <a:pt x="48" y="446"/>
                  </a:lnTo>
                  <a:lnTo>
                    <a:pt x="66" y="436"/>
                  </a:lnTo>
                  <a:lnTo>
                    <a:pt x="97" y="426"/>
                  </a:lnTo>
                  <a:lnTo>
                    <a:pt x="137" y="418"/>
                  </a:lnTo>
                  <a:lnTo>
                    <a:pt x="143" y="416"/>
                  </a:lnTo>
                  <a:lnTo>
                    <a:pt x="147" y="410"/>
                  </a:lnTo>
                  <a:lnTo>
                    <a:pt x="179" y="389"/>
                  </a:lnTo>
                  <a:lnTo>
                    <a:pt x="282" y="335"/>
                  </a:lnTo>
                  <a:lnTo>
                    <a:pt x="288" y="0"/>
                  </a:lnTo>
                  <a:lnTo>
                    <a:pt x="262" y="38"/>
                  </a:lnTo>
                  <a:lnTo>
                    <a:pt x="258" y="36"/>
                  </a:lnTo>
                  <a:lnTo>
                    <a:pt x="246" y="38"/>
                  </a:lnTo>
                  <a:lnTo>
                    <a:pt x="228" y="34"/>
                  </a:lnTo>
                  <a:lnTo>
                    <a:pt x="4" y="453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070840" y="5951520"/>
              <a:ext cx="773640" cy="630720"/>
            </a:xfrm>
            <a:custGeom>
              <a:avLst/>
              <a:gdLst/>
              <a:ahLst/>
              <a:rect l="0" t="0" r="r" b="b"/>
              <a:pathLst>
                <a:path w="2149" h="1752">
                  <a:moveTo>
                    <a:pt x="45" y="0"/>
                  </a:moveTo>
                  <a:lnTo>
                    <a:pt x="77" y="8"/>
                  </a:lnTo>
                  <a:lnTo>
                    <a:pt x="129" y="26"/>
                  </a:lnTo>
                  <a:lnTo>
                    <a:pt x="181" y="47"/>
                  </a:lnTo>
                  <a:lnTo>
                    <a:pt x="206" y="62"/>
                  </a:lnTo>
                  <a:lnTo>
                    <a:pt x="379" y="224"/>
                  </a:lnTo>
                  <a:lnTo>
                    <a:pt x="464" y="306"/>
                  </a:lnTo>
                  <a:lnTo>
                    <a:pt x="734" y="585"/>
                  </a:lnTo>
                  <a:lnTo>
                    <a:pt x="905" y="720"/>
                  </a:lnTo>
                  <a:lnTo>
                    <a:pt x="922" y="739"/>
                  </a:lnTo>
                  <a:lnTo>
                    <a:pt x="935" y="758"/>
                  </a:lnTo>
                  <a:lnTo>
                    <a:pt x="962" y="795"/>
                  </a:lnTo>
                  <a:lnTo>
                    <a:pt x="983" y="814"/>
                  </a:lnTo>
                  <a:lnTo>
                    <a:pt x="1016" y="836"/>
                  </a:lnTo>
                  <a:lnTo>
                    <a:pt x="1062" y="861"/>
                  </a:lnTo>
                  <a:lnTo>
                    <a:pt x="1124" y="890"/>
                  </a:lnTo>
                  <a:lnTo>
                    <a:pt x="1126" y="890"/>
                  </a:lnTo>
                  <a:lnTo>
                    <a:pt x="1124" y="884"/>
                  </a:lnTo>
                  <a:lnTo>
                    <a:pt x="1126" y="884"/>
                  </a:lnTo>
                  <a:lnTo>
                    <a:pt x="1141" y="894"/>
                  </a:lnTo>
                  <a:lnTo>
                    <a:pt x="1231" y="973"/>
                  </a:lnTo>
                  <a:lnTo>
                    <a:pt x="1454" y="1177"/>
                  </a:lnTo>
                  <a:lnTo>
                    <a:pt x="1647" y="1360"/>
                  </a:lnTo>
                  <a:lnTo>
                    <a:pt x="1709" y="1402"/>
                  </a:lnTo>
                  <a:lnTo>
                    <a:pt x="1755" y="1427"/>
                  </a:lnTo>
                  <a:lnTo>
                    <a:pt x="1826" y="1460"/>
                  </a:lnTo>
                  <a:lnTo>
                    <a:pt x="1868" y="1485"/>
                  </a:lnTo>
                  <a:lnTo>
                    <a:pt x="1924" y="1526"/>
                  </a:lnTo>
                  <a:lnTo>
                    <a:pt x="2001" y="1592"/>
                  </a:lnTo>
                  <a:lnTo>
                    <a:pt x="2107" y="1690"/>
                  </a:lnTo>
                  <a:lnTo>
                    <a:pt x="2145" y="1729"/>
                  </a:lnTo>
                  <a:lnTo>
                    <a:pt x="2149" y="1742"/>
                  </a:lnTo>
                  <a:lnTo>
                    <a:pt x="2147" y="1746"/>
                  </a:lnTo>
                  <a:lnTo>
                    <a:pt x="2143" y="1746"/>
                  </a:lnTo>
                  <a:lnTo>
                    <a:pt x="2134" y="1752"/>
                  </a:lnTo>
                  <a:lnTo>
                    <a:pt x="2128" y="1752"/>
                  </a:lnTo>
                  <a:lnTo>
                    <a:pt x="2122" y="1750"/>
                  </a:lnTo>
                  <a:lnTo>
                    <a:pt x="2109" y="1740"/>
                  </a:lnTo>
                  <a:lnTo>
                    <a:pt x="2049" y="1690"/>
                  </a:lnTo>
                  <a:lnTo>
                    <a:pt x="1909" y="1582"/>
                  </a:lnTo>
                  <a:lnTo>
                    <a:pt x="1516" y="1291"/>
                  </a:lnTo>
                  <a:lnTo>
                    <a:pt x="1433" y="1233"/>
                  </a:lnTo>
                  <a:lnTo>
                    <a:pt x="1395" y="1208"/>
                  </a:lnTo>
                  <a:lnTo>
                    <a:pt x="1385" y="1204"/>
                  </a:lnTo>
                  <a:lnTo>
                    <a:pt x="1377" y="1204"/>
                  </a:lnTo>
                  <a:lnTo>
                    <a:pt x="1352" y="1187"/>
                  </a:lnTo>
                  <a:lnTo>
                    <a:pt x="1287" y="1141"/>
                  </a:lnTo>
                  <a:lnTo>
                    <a:pt x="1243" y="1108"/>
                  </a:lnTo>
                  <a:lnTo>
                    <a:pt x="1199" y="1069"/>
                  </a:lnTo>
                  <a:lnTo>
                    <a:pt x="1118" y="992"/>
                  </a:lnTo>
                  <a:lnTo>
                    <a:pt x="1076" y="955"/>
                  </a:lnTo>
                  <a:lnTo>
                    <a:pt x="1033" y="921"/>
                  </a:lnTo>
                  <a:lnTo>
                    <a:pt x="985" y="890"/>
                  </a:lnTo>
                  <a:lnTo>
                    <a:pt x="932" y="863"/>
                  </a:lnTo>
                  <a:lnTo>
                    <a:pt x="905" y="853"/>
                  </a:lnTo>
                  <a:lnTo>
                    <a:pt x="901" y="851"/>
                  </a:lnTo>
                  <a:lnTo>
                    <a:pt x="893" y="836"/>
                  </a:lnTo>
                  <a:lnTo>
                    <a:pt x="855" y="789"/>
                  </a:lnTo>
                  <a:lnTo>
                    <a:pt x="828" y="758"/>
                  </a:lnTo>
                  <a:lnTo>
                    <a:pt x="799" y="735"/>
                  </a:lnTo>
                  <a:lnTo>
                    <a:pt x="743" y="702"/>
                  </a:lnTo>
                  <a:lnTo>
                    <a:pt x="693" y="675"/>
                  </a:lnTo>
                  <a:lnTo>
                    <a:pt x="670" y="662"/>
                  </a:lnTo>
                  <a:lnTo>
                    <a:pt x="647" y="646"/>
                  </a:lnTo>
                  <a:lnTo>
                    <a:pt x="559" y="538"/>
                  </a:lnTo>
                  <a:lnTo>
                    <a:pt x="473" y="488"/>
                  </a:lnTo>
                  <a:lnTo>
                    <a:pt x="435" y="444"/>
                  </a:lnTo>
                  <a:lnTo>
                    <a:pt x="400" y="398"/>
                  </a:lnTo>
                  <a:lnTo>
                    <a:pt x="379" y="373"/>
                  </a:lnTo>
                  <a:lnTo>
                    <a:pt x="352" y="344"/>
                  </a:lnTo>
                  <a:lnTo>
                    <a:pt x="321" y="313"/>
                  </a:lnTo>
                  <a:lnTo>
                    <a:pt x="277" y="280"/>
                  </a:lnTo>
                  <a:lnTo>
                    <a:pt x="246" y="257"/>
                  </a:lnTo>
                  <a:lnTo>
                    <a:pt x="231" y="248"/>
                  </a:lnTo>
                  <a:lnTo>
                    <a:pt x="181" y="172"/>
                  </a:lnTo>
                  <a:lnTo>
                    <a:pt x="112" y="168"/>
                  </a:lnTo>
                  <a:lnTo>
                    <a:pt x="97" y="165"/>
                  </a:lnTo>
                  <a:lnTo>
                    <a:pt x="93" y="161"/>
                  </a:lnTo>
                  <a:lnTo>
                    <a:pt x="91" y="153"/>
                  </a:lnTo>
                  <a:lnTo>
                    <a:pt x="89" y="149"/>
                  </a:lnTo>
                  <a:lnTo>
                    <a:pt x="79" y="145"/>
                  </a:lnTo>
                  <a:lnTo>
                    <a:pt x="18" y="145"/>
                  </a:lnTo>
                  <a:lnTo>
                    <a:pt x="6" y="130"/>
                  </a:lnTo>
                  <a:lnTo>
                    <a:pt x="0" y="122"/>
                  </a:lnTo>
                  <a:lnTo>
                    <a:pt x="2" y="118"/>
                  </a:lnTo>
                  <a:lnTo>
                    <a:pt x="6" y="114"/>
                  </a:lnTo>
                  <a:lnTo>
                    <a:pt x="10" y="109"/>
                  </a:lnTo>
                  <a:lnTo>
                    <a:pt x="14" y="99"/>
                  </a:lnTo>
                  <a:lnTo>
                    <a:pt x="14" y="85"/>
                  </a:lnTo>
                  <a:lnTo>
                    <a:pt x="6" y="58"/>
                  </a:lnTo>
                  <a:lnTo>
                    <a:pt x="8" y="41"/>
                  </a:lnTo>
                  <a:lnTo>
                    <a:pt x="14" y="22"/>
                  </a:lnTo>
                  <a:lnTo>
                    <a:pt x="25" y="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067600" y="6024600"/>
              <a:ext cx="813240" cy="659160"/>
            </a:xfrm>
            <a:custGeom>
              <a:avLst/>
              <a:gdLst/>
              <a:ahLst/>
              <a:rect l="0" t="0" r="r" b="b"/>
              <a:pathLst>
                <a:path w="2259" h="1831">
                  <a:moveTo>
                    <a:pt x="0" y="47"/>
                  </a:moveTo>
                  <a:lnTo>
                    <a:pt x="2" y="29"/>
                  </a:lnTo>
                  <a:lnTo>
                    <a:pt x="8" y="14"/>
                  </a:lnTo>
                  <a:lnTo>
                    <a:pt x="20" y="4"/>
                  </a:lnTo>
                  <a:lnTo>
                    <a:pt x="39" y="0"/>
                  </a:lnTo>
                  <a:lnTo>
                    <a:pt x="70" y="6"/>
                  </a:lnTo>
                  <a:lnTo>
                    <a:pt x="110" y="20"/>
                  </a:lnTo>
                  <a:lnTo>
                    <a:pt x="162" y="49"/>
                  </a:lnTo>
                  <a:lnTo>
                    <a:pt x="227" y="91"/>
                  </a:lnTo>
                  <a:lnTo>
                    <a:pt x="266" y="116"/>
                  </a:lnTo>
                  <a:lnTo>
                    <a:pt x="306" y="135"/>
                  </a:lnTo>
                  <a:lnTo>
                    <a:pt x="325" y="149"/>
                  </a:lnTo>
                  <a:lnTo>
                    <a:pt x="341" y="162"/>
                  </a:lnTo>
                  <a:lnTo>
                    <a:pt x="358" y="180"/>
                  </a:lnTo>
                  <a:lnTo>
                    <a:pt x="368" y="199"/>
                  </a:lnTo>
                  <a:lnTo>
                    <a:pt x="373" y="222"/>
                  </a:lnTo>
                  <a:lnTo>
                    <a:pt x="381" y="255"/>
                  </a:lnTo>
                  <a:lnTo>
                    <a:pt x="396" y="280"/>
                  </a:lnTo>
                  <a:lnTo>
                    <a:pt x="416" y="313"/>
                  </a:lnTo>
                  <a:lnTo>
                    <a:pt x="452" y="353"/>
                  </a:lnTo>
                  <a:lnTo>
                    <a:pt x="500" y="400"/>
                  </a:lnTo>
                  <a:lnTo>
                    <a:pt x="576" y="467"/>
                  </a:lnTo>
                  <a:lnTo>
                    <a:pt x="620" y="504"/>
                  </a:lnTo>
                  <a:lnTo>
                    <a:pt x="641" y="521"/>
                  </a:lnTo>
                  <a:lnTo>
                    <a:pt x="651" y="525"/>
                  </a:lnTo>
                  <a:lnTo>
                    <a:pt x="661" y="544"/>
                  </a:lnTo>
                  <a:lnTo>
                    <a:pt x="716" y="631"/>
                  </a:lnTo>
                  <a:lnTo>
                    <a:pt x="734" y="658"/>
                  </a:lnTo>
                  <a:lnTo>
                    <a:pt x="749" y="668"/>
                  </a:lnTo>
                  <a:lnTo>
                    <a:pt x="759" y="670"/>
                  </a:lnTo>
                  <a:lnTo>
                    <a:pt x="768" y="666"/>
                  </a:lnTo>
                  <a:lnTo>
                    <a:pt x="778" y="664"/>
                  </a:lnTo>
                  <a:lnTo>
                    <a:pt x="793" y="662"/>
                  </a:lnTo>
                  <a:lnTo>
                    <a:pt x="814" y="670"/>
                  </a:lnTo>
                  <a:lnTo>
                    <a:pt x="843" y="691"/>
                  </a:lnTo>
                  <a:lnTo>
                    <a:pt x="884" y="731"/>
                  </a:lnTo>
                  <a:lnTo>
                    <a:pt x="909" y="758"/>
                  </a:lnTo>
                  <a:lnTo>
                    <a:pt x="920" y="776"/>
                  </a:lnTo>
                  <a:lnTo>
                    <a:pt x="924" y="789"/>
                  </a:lnTo>
                  <a:lnTo>
                    <a:pt x="924" y="799"/>
                  </a:lnTo>
                  <a:lnTo>
                    <a:pt x="928" y="810"/>
                  </a:lnTo>
                  <a:lnTo>
                    <a:pt x="943" y="822"/>
                  </a:lnTo>
                  <a:lnTo>
                    <a:pt x="970" y="845"/>
                  </a:lnTo>
                  <a:lnTo>
                    <a:pt x="1014" y="866"/>
                  </a:lnTo>
                  <a:lnTo>
                    <a:pt x="1028" y="876"/>
                  </a:lnTo>
                  <a:lnTo>
                    <a:pt x="1049" y="891"/>
                  </a:lnTo>
                  <a:lnTo>
                    <a:pt x="1101" y="937"/>
                  </a:lnTo>
                  <a:lnTo>
                    <a:pt x="1174" y="998"/>
                  </a:lnTo>
                  <a:lnTo>
                    <a:pt x="1220" y="1031"/>
                  </a:lnTo>
                  <a:lnTo>
                    <a:pt x="1268" y="1064"/>
                  </a:lnTo>
                  <a:lnTo>
                    <a:pt x="1320" y="1085"/>
                  </a:lnTo>
                  <a:lnTo>
                    <a:pt x="1341" y="1120"/>
                  </a:lnTo>
                  <a:lnTo>
                    <a:pt x="1351" y="1133"/>
                  </a:lnTo>
                  <a:lnTo>
                    <a:pt x="1364" y="1141"/>
                  </a:lnTo>
                  <a:lnTo>
                    <a:pt x="1418" y="1178"/>
                  </a:lnTo>
                  <a:lnTo>
                    <a:pt x="1527" y="1263"/>
                  </a:lnTo>
                  <a:lnTo>
                    <a:pt x="1558" y="1272"/>
                  </a:lnTo>
                  <a:lnTo>
                    <a:pt x="1577" y="1307"/>
                  </a:lnTo>
                  <a:lnTo>
                    <a:pt x="1602" y="1326"/>
                  </a:lnTo>
                  <a:lnTo>
                    <a:pt x="1654" y="1353"/>
                  </a:lnTo>
                  <a:lnTo>
                    <a:pt x="1753" y="1417"/>
                  </a:lnTo>
                  <a:lnTo>
                    <a:pt x="2259" y="1818"/>
                  </a:lnTo>
                  <a:lnTo>
                    <a:pt x="2251" y="1828"/>
                  </a:lnTo>
                  <a:lnTo>
                    <a:pt x="2238" y="1831"/>
                  </a:lnTo>
                  <a:lnTo>
                    <a:pt x="2220" y="1822"/>
                  </a:lnTo>
                  <a:lnTo>
                    <a:pt x="2186" y="1799"/>
                  </a:lnTo>
                  <a:lnTo>
                    <a:pt x="2063" y="1706"/>
                  </a:lnTo>
                  <a:lnTo>
                    <a:pt x="1826" y="1533"/>
                  </a:lnTo>
                  <a:lnTo>
                    <a:pt x="1256" y="1126"/>
                  </a:lnTo>
                  <a:lnTo>
                    <a:pt x="1093" y="1006"/>
                  </a:lnTo>
                  <a:lnTo>
                    <a:pt x="1085" y="998"/>
                  </a:lnTo>
                  <a:lnTo>
                    <a:pt x="1082" y="995"/>
                  </a:lnTo>
                  <a:lnTo>
                    <a:pt x="974" y="913"/>
                  </a:lnTo>
                  <a:lnTo>
                    <a:pt x="855" y="818"/>
                  </a:lnTo>
                  <a:lnTo>
                    <a:pt x="845" y="793"/>
                  </a:lnTo>
                  <a:lnTo>
                    <a:pt x="832" y="778"/>
                  </a:lnTo>
                  <a:lnTo>
                    <a:pt x="818" y="768"/>
                  </a:lnTo>
                  <a:lnTo>
                    <a:pt x="799" y="762"/>
                  </a:lnTo>
                  <a:lnTo>
                    <a:pt x="749" y="741"/>
                  </a:lnTo>
                  <a:lnTo>
                    <a:pt x="713" y="720"/>
                  </a:lnTo>
                  <a:lnTo>
                    <a:pt x="672" y="683"/>
                  </a:lnTo>
                  <a:lnTo>
                    <a:pt x="521" y="544"/>
                  </a:lnTo>
                  <a:lnTo>
                    <a:pt x="485" y="504"/>
                  </a:lnTo>
                  <a:lnTo>
                    <a:pt x="464" y="479"/>
                  </a:lnTo>
                  <a:lnTo>
                    <a:pt x="452" y="459"/>
                  </a:lnTo>
                  <a:lnTo>
                    <a:pt x="448" y="450"/>
                  </a:lnTo>
                  <a:lnTo>
                    <a:pt x="437" y="440"/>
                  </a:lnTo>
                  <a:lnTo>
                    <a:pt x="366" y="378"/>
                  </a:lnTo>
                  <a:lnTo>
                    <a:pt x="316" y="338"/>
                  </a:lnTo>
                  <a:lnTo>
                    <a:pt x="298" y="324"/>
                  </a:lnTo>
                  <a:lnTo>
                    <a:pt x="281" y="307"/>
                  </a:lnTo>
                  <a:lnTo>
                    <a:pt x="268" y="286"/>
                  </a:lnTo>
                  <a:lnTo>
                    <a:pt x="254" y="261"/>
                  </a:lnTo>
                  <a:lnTo>
                    <a:pt x="248" y="240"/>
                  </a:lnTo>
                  <a:lnTo>
                    <a:pt x="245" y="228"/>
                  </a:lnTo>
                  <a:lnTo>
                    <a:pt x="245" y="218"/>
                  </a:lnTo>
                  <a:lnTo>
                    <a:pt x="223" y="205"/>
                  </a:lnTo>
                  <a:lnTo>
                    <a:pt x="143" y="170"/>
                  </a:lnTo>
                  <a:lnTo>
                    <a:pt x="118" y="153"/>
                  </a:lnTo>
                  <a:lnTo>
                    <a:pt x="110" y="139"/>
                  </a:lnTo>
                  <a:lnTo>
                    <a:pt x="102" y="118"/>
                  </a:lnTo>
                  <a:lnTo>
                    <a:pt x="91" y="103"/>
                  </a:lnTo>
                  <a:lnTo>
                    <a:pt x="75" y="83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932600" y="6226200"/>
              <a:ext cx="41760" cy="79560"/>
            </a:xfrm>
            <a:custGeom>
              <a:avLst/>
              <a:gdLst/>
              <a:ahLst/>
              <a:rect l="0" t="0" r="r" b="b"/>
              <a:pathLst>
                <a:path w="116" h="221">
                  <a:moveTo>
                    <a:pt x="116" y="17"/>
                  </a:moveTo>
                  <a:lnTo>
                    <a:pt x="111" y="53"/>
                  </a:lnTo>
                  <a:lnTo>
                    <a:pt x="101" y="92"/>
                  </a:lnTo>
                  <a:lnTo>
                    <a:pt x="78" y="144"/>
                  </a:lnTo>
                  <a:lnTo>
                    <a:pt x="62" y="180"/>
                  </a:lnTo>
                  <a:lnTo>
                    <a:pt x="37" y="221"/>
                  </a:lnTo>
                  <a:lnTo>
                    <a:pt x="14" y="201"/>
                  </a:lnTo>
                  <a:lnTo>
                    <a:pt x="3" y="186"/>
                  </a:lnTo>
                  <a:lnTo>
                    <a:pt x="0" y="174"/>
                  </a:lnTo>
                  <a:lnTo>
                    <a:pt x="3" y="166"/>
                  </a:lnTo>
                  <a:lnTo>
                    <a:pt x="20" y="156"/>
                  </a:lnTo>
                  <a:lnTo>
                    <a:pt x="30" y="152"/>
                  </a:lnTo>
                  <a:lnTo>
                    <a:pt x="34" y="146"/>
                  </a:lnTo>
                  <a:lnTo>
                    <a:pt x="43" y="126"/>
                  </a:lnTo>
                  <a:lnTo>
                    <a:pt x="47" y="104"/>
                  </a:lnTo>
                  <a:lnTo>
                    <a:pt x="49" y="66"/>
                  </a:lnTo>
                  <a:lnTo>
                    <a:pt x="56" y="33"/>
                  </a:lnTo>
                  <a:lnTo>
                    <a:pt x="67" y="15"/>
                  </a:lnTo>
                  <a:lnTo>
                    <a:pt x="84" y="0"/>
                  </a:lnTo>
                  <a:lnTo>
                    <a:pt x="92" y="0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772480" y="6391440"/>
              <a:ext cx="87840" cy="66960"/>
            </a:xfrm>
            <a:custGeom>
              <a:avLst/>
              <a:gdLst/>
              <a:ahLst/>
              <a:rect l="0" t="0" r="r" b="b"/>
              <a:pathLst>
                <a:path w="244" h="186">
                  <a:moveTo>
                    <a:pt x="12" y="0"/>
                  </a:moveTo>
                  <a:lnTo>
                    <a:pt x="32" y="1"/>
                  </a:lnTo>
                  <a:lnTo>
                    <a:pt x="38" y="5"/>
                  </a:lnTo>
                  <a:lnTo>
                    <a:pt x="42" y="9"/>
                  </a:lnTo>
                  <a:lnTo>
                    <a:pt x="52" y="25"/>
                  </a:lnTo>
                  <a:lnTo>
                    <a:pt x="63" y="35"/>
                  </a:lnTo>
                  <a:lnTo>
                    <a:pt x="79" y="47"/>
                  </a:lnTo>
                  <a:lnTo>
                    <a:pt x="97" y="57"/>
                  </a:lnTo>
                  <a:lnTo>
                    <a:pt x="109" y="61"/>
                  </a:lnTo>
                  <a:lnTo>
                    <a:pt x="125" y="63"/>
                  </a:lnTo>
                  <a:lnTo>
                    <a:pt x="137" y="69"/>
                  </a:lnTo>
                  <a:lnTo>
                    <a:pt x="159" y="85"/>
                  </a:lnTo>
                  <a:lnTo>
                    <a:pt x="240" y="164"/>
                  </a:lnTo>
                  <a:lnTo>
                    <a:pt x="244" y="172"/>
                  </a:lnTo>
                  <a:lnTo>
                    <a:pt x="244" y="178"/>
                  </a:lnTo>
                  <a:lnTo>
                    <a:pt x="238" y="184"/>
                  </a:lnTo>
                  <a:lnTo>
                    <a:pt x="228" y="186"/>
                  </a:lnTo>
                  <a:lnTo>
                    <a:pt x="210" y="182"/>
                  </a:lnTo>
                  <a:lnTo>
                    <a:pt x="186" y="170"/>
                  </a:lnTo>
                  <a:lnTo>
                    <a:pt x="151" y="148"/>
                  </a:lnTo>
                  <a:lnTo>
                    <a:pt x="109" y="114"/>
                  </a:lnTo>
                  <a:lnTo>
                    <a:pt x="63" y="79"/>
                  </a:lnTo>
                  <a:lnTo>
                    <a:pt x="24" y="55"/>
                  </a:lnTo>
                  <a:lnTo>
                    <a:pt x="10" y="43"/>
                  </a:lnTo>
                  <a:lnTo>
                    <a:pt x="2" y="31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872560" y="6461280"/>
              <a:ext cx="125640" cy="73440"/>
            </a:xfrm>
            <a:custGeom>
              <a:avLst/>
              <a:gdLst/>
              <a:ahLst/>
              <a:rect l="0" t="0" r="r" b="b"/>
              <a:pathLst>
                <a:path w="349" h="204">
                  <a:moveTo>
                    <a:pt x="10" y="0"/>
                  </a:moveTo>
                  <a:lnTo>
                    <a:pt x="24" y="3"/>
                  </a:lnTo>
                  <a:lnTo>
                    <a:pt x="64" y="27"/>
                  </a:lnTo>
                  <a:lnTo>
                    <a:pt x="161" y="86"/>
                  </a:lnTo>
                  <a:lnTo>
                    <a:pt x="337" y="189"/>
                  </a:lnTo>
                  <a:lnTo>
                    <a:pt x="349" y="197"/>
                  </a:lnTo>
                  <a:lnTo>
                    <a:pt x="349" y="200"/>
                  </a:lnTo>
                  <a:lnTo>
                    <a:pt x="343" y="202"/>
                  </a:lnTo>
                  <a:lnTo>
                    <a:pt x="331" y="204"/>
                  </a:lnTo>
                  <a:lnTo>
                    <a:pt x="307" y="198"/>
                  </a:lnTo>
                  <a:lnTo>
                    <a:pt x="266" y="185"/>
                  </a:lnTo>
                  <a:lnTo>
                    <a:pt x="208" y="158"/>
                  </a:lnTo>
                  <a:lnTo>
                    <a:pt x="126" y="118"/>
                  </a:lnTo>
                  <a:lnTo>
                    <a:pt x="18" y="57"/>
                  </a:lnTo>
                  <a:lnTo>
                    <a:pt x="10" y="46"/>
                  </a:lnTo>
                  <a:lnTo>
                    <a:pt x="2" y="29"/>
                  </a:lnTo>
                  <a:lnTo>
                    <a:pt x="0" y="9"/>
                  </a:lnTo>
                  <a:lnTo>
                    <a:pt x="2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832960" y="6504120"/>
              <a:ext cx="81360" cy="51120"/>
            </a:xfrm>
            <a:custGeom>
              <a:avLst/>
              <a:gdLst/>
              <a:ahLst/>
              <a:rect l="0" t="0" r="r" b="b"/>
              <a:pathLst>
                <a:path w="226" h="142">
                  <a:moveTo>
                    <a:pt x="7" y="0"/>
                  </a:moveTo>
                  <a:lnTo>
                    <a:pt x="19" y="0"/>
                  </a:lnTo>
                  <a:lnTo>
                    <a:pt x="41" y="9"/>
                  </a:lnTo>
                  <a:lnTo>
                    <a:pt x="105" y="43"/>
                  </a:lnTo>
                  <a:lnTo>
                    <a:pt x="175" y="88"/>
                  </a:lnTo>
                  <a:lnTo>
                    <a:pt x="205" y="109"/>
                  </a:lnTo>
                  <a:lnTo>
                    <a:pt x="226" y="126"/>
                  </a:lnTo>
                  <a:lnTo>
                    <a:pt x="226" y="140"/>
                  </a:lnTo>
                  <a:lnTo>
                    <a:pt x="219" y="142"/>
                  </a:lnTo>
                  <a:lnTo>
                    <a:pt x="201" y="140"/>
                  </a:lnTo>
                  <a:lnTo>
                    <a:pt x="133" y="111"/>
                  </a:lnTo>
                  <a:lnTo>
                    <a:pt x="73" y="79"/>
                  </a:lnTo>
                  <a:lnTo>
                    <a:pt x="39" y="57"/>
                  </a:lnTo>
                  <a:lnTo>
                    <a:pt x="3" y="30"/>
                  </a:lnTo>
                  <a:lnTo>
                    <a:pt x="0" y="11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858160" y="6591240"/>
              <a:ext cx="28800" cy="19440"/>
            </a:xfrm>
            <a:custGeom>
              <a:avLst/>
              <a:gdLst/>
              <a:ahLst/>
              <a:rect l="0" t="0" r="r" b="b"/>
              <a:pathLst>
                <a:path w="80" h="54">
                  <a:moveTo>
                    <a:pt x="0" y="18"/>
                  </a:moveTo>
                  <a:lnTo>
                    <a:pt x="7" y="6"/>
                  </a:lnTo>
                  <a:lnTo>
                    <a:pt x="12" y="3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41" y="6"/>
                  </a:lnTo>
                  <a:lnTo>
                    <a:pt x="58" y="19"/>
                  </a:lnTo>
                  <a:lnTo>
                    <a:pt x="78" y="41"/>
                  </a:lnTo>
                  <a:lnTo>
                    <a:pt x="80" y="49"/>
                  </a:lnTo>
                  <a:lnTo>
                    <a:pt x="78" y="54"/>
                  </a:lnTo>
                  <a:lnTo>
                    <a:pt x="63" y="54"/>
                  </a:lnTo>
                  <a:lnTo>
                    <a:pt x="35" y="4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526600" y="5640480"/>
              <a:ext cx="27360" cy="33840"/>
            </a:xfrm>
            <a:custGeom>
              <a:avLst/>
              <a:gdLst/>
              <a:ahLst/>
              <a:rect l="0" t="0" r="r" b="b"/>
              <a:pathLst>
                <a:path w="76" h="94">
                  <a:moveTo>
                    <a:pt x="25" y="94"/>
                  </a:moveTo>
                  <a:lnTo>
                    <a:pt x="25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6" y="0"/>
                  </a:lnTo>
                  <a:lnTo>
                    <a:pt x="76" y="22"/>
                  </a:lnTo>
                  <a:lnTo>
                    <a:pt x="49" y="22"/>
                  </a:lnTo>
                  <a:lnTo>
                    <a:pt x="49" y="94"/>
                  </a:lnTo>
                  <a:lnTo>
                    <a:pt x="25" y="94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564400" y="5640480"/>
              <a:ext cx="44640" cy="36720"/>
            </a:xfrm>
            <a:custGeom>
              <a:avLst/>
              <a:gdLst/>
              <a:ahLst/>
              <a:rect l="0" t="0" r="r" b="b"/>
              <a:pathLst>
                <a:path w="124" h="102">
                  <a:moveTo>
                    <a:pt x="6" y="0"/>
                  </a:moveTo>
                  <a:lnTo>
                    <a:pt x="14" y="0"/>
                  </a:lnTo>
                  <a:lnTo>
                    <a:pt x="18" y="2"/>
                  </a:lnTo>
                  <a:lnTo>
                    <a:pt x="61" y="67"/>
                  </a:lnTo>
                  <a:lnTo>
                    <a:pt x="105" y="4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2" y="10"/>
                  </a:lnTo>
                  <a:lnTo>
                    <a:pt x="124" y="14"/>
                  </a:lnTo>
                  <a:lnTo>
                    <a:pt x="124" y="102"/>
                  </a:lnTo>
                  <a:lnTo>
                    <a:pt x="103" y="102"/>
                  </a:lnTo>
                  <a:lnTo>
                    <a:pt x="103" y="34"/>
                  </a:lnTo>
                  <a:lnTo>
                    <a:pt x="61" y="100"/>
                  </a:lnTo>
                  <a:lnTo>
                    <a:pt x="20" y="34"/>
                  </a:lnTo>
                  <a:lnTo>
                    <a:pt x="20" y="100"/>
                  </a:lnTo>
                  <a:lnTo>
                    <a:pt x="0" y="10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564400" y="5640480"/>
              <a:ext cx="44640" cy="36720"/>
            </a:xfrm>
            <a:custGeom>
              <a:avLst/>
              <a:gdLst/>
              <a:ahLst/>
              <a:rect l="0" t="0" r="r" b="b"/>
              <a:pathLst>
                <a:path w="124" h="102">
                  <a:moveTo>
                    <a:pt x="6" y="0"/>
                  </a:moveTo>
                  <a:lnTo>
                    <a:pt x="14" y="0"/>
                  </a:lnTo>
                  <a:lnTo>
                    <a:pt x="18" y="2"/>
                  </a:lnTo>
                  <a:lnTo>
                    <a:pt x="61" y="67"/>
                  </a:lnTo>
                  <a:lnTo>
                    <a:pt x="105" y="4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2" y="10"/>
                  </a:lnTo>
                  <a:lnTo>
                    <a:pt x="124" y="14"/>
                  </a:lnTo>
                  <a:lnTo>
                    <a:pt x="124" y="102"/>
                  </a:lnTo>
                  <a:lnTo>
                    <a:pt x="103" y="102"/>
                  </a:lnTo>
                  <a:lnTo>
                    <a:pt x="103" y="34"/>
                  </a:lnTo>
                  <a:lnTo>
                    <a:pt x="61" y="100"/>
                  </a:lnTo>
                  <a:lnTo>
                    <a:pt x="20" y="34"/>
                  </a:lnTo>
                  <a:lnTo>
                    <a:pt x="20" y="100"/>
                  </a:lnTo>
                  <a:lnTo>
                    <a:pt x="0" y="10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1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57200" y="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ctr" pos="5257800"/>
                <a:tab algn="ctr" pos="7201080"/>
                <a:tab algn="r" pos="794376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Good Compan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90000"/>
              </a:lnSpc>
              <a:spcBef>
                <a:spcPts val="720"/>
              </a:spcBef>
              <a:tabLst>
                <a:tab algn="ctr" pos="5143320"/>
                <a:tab algn="ctr" pos="7086600"/>
                <a:tab algn="r" pos="78296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-Year Hardware System S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 "/>
              <a:tabLst>
                <a:tab algn="ctr" pos="4800600"/>
                <a:tab algn="ctr" pos="6743880"/>
                <a:tab algn="r" pos="7486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ens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  <a:tabLst>
                <a:tab algn="ctr" pos="4800600"/>
                <a:tab algn="ctr" pos="6743880"/>
                <a:tab algn="r" pos="7486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ari 2600 VCS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,00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  <a:tabLst>
                <a:tab algn="ctr" pos="4800600"/>
                <a:tab algn="ctr" pos="6743880"/>
                <a:tab algn="r" pos="7486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-Bit Nintendo NES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,00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  <a:tabLst>
                <a:tab algn="ctr" pos="4800600"/>
                <a:tab algn="ctr" pos="6743880"/>
                <a:tab algn="r" pos="7486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Sega Genesis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,00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lnSpc>
                <a:spcPct val="90000"/>
              </a:lnSpc>
              <a:spcBef>
                <a:spcPts val="720"/>
              </a:spcBef>
              <a:tabLst>
                <a:tab algn="ctr" pos="4800600"/>
                <a:tab algn="ctr" pos="6743880"/>
                <a:tab algn="r" pos="7486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  <a:tabLst>
                <a:tab algn="ctr" pos="4800600"/>
                <a:tab algn="ctr" pos="6743880"/>
                <a:tab algn="r" pos="7486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-Bit Atari Jaguar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,000+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589720" y="5483160"/>
            <a:ext cx="3408480" cy="1200600"/>
            <a:chOff x="5589720" y="5483160"/>
            <a:chExt cx="3408480" cy="1200600"/>
          </a:xfrm>
        </p:grpSpPr>
        <p:sp>
          <p:nvSpPr>
            <p:cNvPr id="554" name=""/>
            <p:cNvSpPr/>
            <p:nvPr/>
          </p:nvSpPr>
          <p:spPr>
            <a:xfrm>
              <a:off x="5589720" y="5483160"/>
              <a:ext cx="973440" cy="868680"/>
            </a:xfrm>
            <a:custGeom>
              <a:avLst/>
              <a:gdLst/>
              <a:ahLst/>
              <a:rect l="0" t="0" r="r" b="b"/>
              <a:pathLst>
                <a:path w="2704" h="2413">
                  <a:moveTo>
                    <a:pt x="2704" y="45"/>
                  </a:moveTo>
                  <a:lnTo>
                    <a:pt x="2691" y="52"/>
                  </a:lnTo>
                  <a:lnTo>
                    <a:pt x="2674" y="56"/>
                  </a:lnTo>
                  <a:lnTo>
                    <a:pt x="2631" y="66"/>
                  </a:lnTo>
                  <a:lnTo>
                    <a:pt x="2518" y="83"/>
                  </a:lnTo>
                  <a:lnTo>
                    <a:pt x="2399" y="101"/>
                  </a:lnTo>
                  <a:lnTo>
                    <a:pt x="2308" y="118"/>
                  </a:lnTo>
                  <a:lnTo>
                    <a:pt x="2314" y="137"/>
                  </a:lnTo>
                  <a:lnTo>
                    <a:pt x="2314" y="141"/>
                  </a:lnTo>
                  <a:lnTo>
                    <a:pt x="2318" y="143"/>
                  </a:lnTo>
                  <a:lnTo>
                    <a:pt x="2341" y="147"/>
                  </a:lnTo>
                  <a:lnTo>
                    <a:pt x="2395" y="154"/>
                  </a:lnTo>
                  <a:lnTo>
                    <a:pt x="2393" y="178"/>
                  </a:lnTo>
                  <a:lnTo>
                    <a:pt x="2343" y="216"/>
                  </a:lnTo>
                  <a:lnTo>
                    <a:pt x="2331" y="226"/>
                  </a:lnTo>
                  <a:lnTo>
                    <a:pt x="2326" y="233"/>
                  </a:lnTo>
                  <a:lnTo>
                    <a:pt x="2329" y="241"/>
                  </a:lnTo>
                  <a:lnTo>
                    <a:pt x="2331" y="245"/>
                  </a:lnTo>
                  <a:lnTo>
                    <a:pt x="2326" y="249"/>
                  </a:lnTo>
                  <a:lnTo>
                    <a:pt x="2312" y="264"/>
                  </a:lnTo>
                  <a:lnTo>
                    <a:pt x="2291" y="272"/>
                  </a:lnTo>
                  <a:lnTo>
                    <a:pt x="2272" y="280"/>
                  </a:lnTo>
                  <a:lnTo>
                    <a:pt x="2251" y="283"/>
                  </a:lnTo>
                  <a:lnTo>
                    <a:pt x="2212" y="291"/>
                  </a:lnTo>
                  <a:lnTo>
                    <a:pt x="2183" y="301"/>
                  </a:lnTo>
                  <a:lnTo>
                    <a:pt x="2170" y="314"/>
                  </a:lnTo>
                  <a:lnTo>
                    <a:pt x="2168" y="320"/>
                  </a:lnTo>
                  <a:lnTo>
                    <a:pt x="2168" y="326"/>
                  </a:lnTo>
                  <a:lnTo>
                    <a:pt x="2164" y="332"/>
                  </a:lnTo>
                  <a:lnTo>
                    <a:pt x="2147" y="343"/>
                  </a:lnTo>
                  <a:lnTo>
                    <a:pt x="2112" y="355"/>
                  </a:lnTo>
                  <a:lnTo>
                    <a:pt x="1949" y="403"/>
                  </a:lnTo>
                  <a:lnTo>
                    <a:pt x="1941" y="407"/>
                  </a:lnTo>
                  <a:lnTo>
                    <a:pt x="1933" y="416"/>
                  </a:lnTo>
                  <a:lnTo>
                    <a:pt x="1918" y="437"/>
                  </a:lnTo>
                  <a:lnTo>
                    <a:pt x="1901" y="459"/>
                  </a:lnTo>
                  <a:lnTo>
                    <a:pt x="1893" y="472"/>
                  </a:lnTo>
                  <a:lnTo>
                    <a:pt x="1882" y="476"/>
                  </a:lnTo>
                  <a:lnTo>
                    <a:pt x="1868" y="480"/>
                  </a:lnTo>
                  <a:lnTo>
                    <a:pt x="1845" y="482"/>
                  </a:lnTo>
                  <a:lnTo>
                    <a:pt x="1803" y="493"/>
                  </a:lnTo>
                  <a:lnTo>
                    <a:pt x="1739" y="524"/>
                  </a:lnTo>
                  <a:lnTo>
                    <a:pt x="1714" y="653"/>
                  </a:lnTo>
                  <a:lnTo>
                    <a:pt x="1687" y="776"/>
                  </a:lnTo>
                  <a:lnTo>
                    <a:pt x="1657" y="896"/>
                  </a:lnTo>
                  <a:lnTo>
                    <a:pt x="1626" y="1013"/>
                  </a:lnTo>
                  <a:lnTo>
                    <a:pt x="1559" y="1233"/>
                  </a:lnTo>
                  <a:lnTo>
                    <a:pt x="1489" y="1428"/>
                  </a:lnTo>
                  <a:lnTo>
                    <a:pt x="1453" y="1520"/>
                  </a:lnTo>
                  <a:lnTo>
                    <a:pt x="1418" y="1605"/>
                  </a:lnTo>
                  <a:lnTo>
                    <a:pt x="1346" y="1757"/>
                  </a:lnTo>
                  <a:lnTo>
                    <a:pt x="1310" y="1822"/>
                  </a:lnTo>
                  <a:lnTo>
                    <a:pt x="1277" y="1880"/>
                  </a:lnTo>
                  <a:lnTo>
                    <a:pt x="1244" y="1932"/>
                  </a:lnTo>
                  <a:lnTo>
                    <a:pt x="1212" y="1976"/>
                  </a:lnTo>
                  <a:lnTo>
                    <a:pt x="1125" y="2084"/>
                  </a:lnTo>
                  <a:lnTo>
                    <a:pt x="1085" y="2132"/>
                  </a:lnTo>
                  <a:lnTo>
                    <a:pt x="1044" y="2173"/>
                  </a:lnTo>
                  <a:lnTo>
                    <a:pt x="1006" y="2213"/>
                  </a:lnTo>
                  <a:lnTo>
                    <a:pt x="969" y="2246"/>
                  </a:lnTo>
                  <a:lnTo>
                    <a:pt x="933" y="2277"/>
                  </a:lnTo>
                  <a:lnTo>
                    <a:pt x="896" y="2306"/>
                  </a:lnTo>
                  <a:lnTo>
                    <a:pt x="862" y="2331"/>
                  </a:lnTo>
                  <a:lnTo>
                    <a:pt x="829" y="2350"/>
                  </a:lnTo>
                  <a:lnTo>
                    <a:pt x="762" y="2381"/>
                  </a:lnTo>
                  <a:lnTo>
                    <a:pt x="698" y="2402"/>
                  </a:lnTo>
                  <a:lnTo>
                    <a:pt x="633" y="2411"/>
                  </a:lnTo>
                  <a:lnTo>
                    <a:pt x="585" y="2413"/>
                  </a:lnTo>
                  <a:lnTo>
                    <a:pt x="535" y="2406"/>
                  </a:lnTo>
                  <a:lnTo>
                    <a:pt x="487" y="2396"/>
                  </a:lnTo>
                  <a:lnTo>
                    <a:pt x="437" y="2383"/>
                  </a:lnTo>
                  <a:lnTo>
                    <a:pt x="391" y="2367"/>
                  </a:lnTo>
                  <a:lnTo>
                    <a:pt x="343" y="2346"/>
                  </a:lnTo>
                  <a:lnTo>
                    <a:pt x="256" y="2302"/>
                  </a:lnTo>
                  <a:lnTo>
                    <a:pt x="181" y="2259"/>
                  </a:lnTo>
                  <a:lnTo>
                    <a:pt x="120" y="2217"/>
                  </a:lnTo>
                  <a:lnTo>
                    <a:pt x="81" y="2186"/>
                  </a:lnTo>
                  <a:lnTo>
                    <a:pt x="64" y="2171"/>
                  </a:lnTo>
                  <a:lnTo>
                    <a:pt x="33" y="2127"/>
                  </a:lnTo>
                  <a:lnTo>
                    <a:pt x="12" y="2092"/>
                  </a:lnTo>
                  <a:lnTo>
                    <a:pt x="2" y="2065"/>
                  </a:lnTo>
                  <a:lnTo>
                    <a:pt x="0" y="2044"/>
                  </a:lnTo>
                  <a:lnTo>
                    <a:pt x="0" y="2032"/>
                  </a:lnTo>
                  <a:lnTo>
                    <a:pt x="4" y="2023"/>
                  </a:lnTo>
                  <a:lnTo>
                    <a:pt x="16" y="2015"/>
                  </a:lnTo>
                  <a:lnTo>
                    <a:pt x="31" y="2015"/>
                  </a:lnTo>
                  <a:lnTo>
                    <a:pt x="39" y="2019"/>
                  </a:lnTo>
                  <a:lnTo>
                    <a:pt x="47" y="2026"/>
                  </a:lnTo>
                  <a:lnTo>
                    <a:pt x="72" y="2053"/>
                  </a:lnTo>
                  <a:lnTo>
                    <a:pt x="120" y="2096"/>
                  </a:lnTo>
                  <a:lnTo>
                    <a:pt x="177" y="2140"/>
                  </a:lnTo>
                  <a:lnTo>
                    <a:pt x="233" y="2173"/>
                  </a:lnTo>
                  <a:lnTo>
                    <a:pt x="289" y="2198"/>
                  </a:lnTo>
                  <a:lnTo>
                    <a:pt x="341" y="2215"/>
                  </a:lnTo>
                  <a:lnTo>
                    <a:pt x="393" y="2225"/>
                  </a:lnTo>
                  <a:lnTo>
                    <a:pt x="446" y="2227"/>
                  </a:lnTo>
                  <a:lnTo>
                    <a:pt x="493" y="2221"/>
                  </a:lnTo>
                  <a:lnTo>
                    <a:pt x="541" y="2211"/>
                  </a:lnTo>
                  <a:lnTo>
                    <a:pt x="589" y="2194"/>
                  </a:lnTo>
                  <a:lnTo>
                    <a:pt x="633" y="2169"/>
                  </a:lnTo>
                  <a:lnTo>
                    <a:pt x="679" y="2140"/>
                  </a:lnTo>
                  <a:lnTo>
                    <a:pt x="723" y="2105"/>
                  </a:lnTo>
                  <a:lnTo>
                    <a:pt x="766" y="2065"/>
                  </a:lnTo>
                  <a:lnTo>
                    <a:pt x="806" y="2019"/>
                  </a:lnTo>
                  <a:lnTo>
                    <a:pt x="848" y="1971"/>
                  </a:lnTo>
                  <a:lnTo>
                    <a:pt x="887" y="1919"/>
                  </a:lnTo>
                  <a:lnTo>
                    <a:pt x="944" y="1834"/>
                  </a:lnTo>
                  <a:lnTo>
                    <a:pt x="998" y="1740"/>
                  </a:lnTo>
                  <a:lnTo>
                    <a:pt x="1052" y="1636"/>
                  </a:lnTo>
                  <a:lnTo>
                    <a:pt x="1102" y="1524"/>
                  </a:lnTo>
                  <a:lnTo>
                    <a:pt x="1150" y="1403"/>
                  </a:lnTo>
                  <a:lnTo>
                    <a:pt x="1198" y="1268"/>
                  </a:lnTo>
                  <a:lnTo>
                    <a:pt x="1244" y="1123"/>
                  </a:lnTo>
                  <a:lnTo>
                    <a:pt x="1285" y="965"/>
                  </a:lnTo>
                  <a:lnTo>
                    <a:pt x="1374" y="595"/>
                  </a:lnTo>
                  <a:lnTo>
                    <a:pt x="1372" y="568"/>
                  </a:lnTo>
                  <a:lnTo>
                    <a:pt x="796" y="634"/>
                  </a:lnTo>
                  <a:lnTo>
                    <a:pt x="719" y="641"/>
                  </a:lnTo>
                  <a:lnTo>
                    <a:pt x="704" y="638"/>
                  </a:lnTo>
                  <a:lnTo>
                    <a:pt x="677" y="580"/>
                  </a:lnTo>
                  <a:lnTo>
                    <a:pt x="621" y="584"/>
                  </a:lnTo>
                  <a:lnTo>
                    <a:pt x="612" y="580"/>
                  </a:lnTo>
                  <a:lnTo>
                    <a:pt x="606" y="568"/>
                  </a:lnTo>
                  <a:lnTo>
                    <a:pt x="608" y="555"/>
                  </a:lnTo>
                  <a:lnTo>
                    <a:pt x="610" y="549"/>
                  </a:lnTo>
                  <a:lnTo>
                    <a:pt x="623" y="547"/>
                  </a:lnTo>
                  <a:lnTo>
                    <a:pt x="641" y="541"/>
                  </a:lnTo>
                  <a:lnTo>
                    <a:pt x="654" y="534"/>
                  </a:lnTo>
                  <a:lnTo>
                    <a:pt x="664" y="520"/>
                  </a:lnTo>
                  <a:lnTo>
                    <a:pt x="666" y="509"/>
                  </a:lnTo>
                  <a:lnTo>
                    <a:pt x="660" y="499"/>
                  </a:lnTo>
                  <a:lnTo>
                    <a:pt x="633" y="482"/>
                  </a:lnTo>
                  <a:lnTo>
                    <a:pt x="602" y="464"/>
                  </a:lnTo>
                  <a:lnTo>
                    <a:pt x="591" y="455"/>
                  </a:lnTo>
                  <a:lnTo>
                    <a:pt x="585" y="445"/>
                  </a:lnTo>
                  <a:lnTo>
                    <a:pt x="583" y="422"/>
                  </a:lnTo>
                  <a:lnTo>
                    <a:pt x="587" y="405"/>
                  </a:lnTo>
                  <a:lnTo>
                    <a:pt x="596" y="397"/>
                  </a:lnTo>
                  <a:lnTo>
                    <a:pt x="608" y="393"/>
                  </a:lnTo>
                  <a:lnTo>
                    <a:pt x="641" y="391"/>
                  </a:lnTo>
                  <a:lnTo>
                    <a:pt x="664" y="391"/>
                  </a:lnTo>
                  <a:lnTo>
                    <a:pt x="685" y="385"/>
                  </a:lnTo>
                  <a:lnTo>
                    <a:pt x="685" y="368"/>
                  </a:lnTo>
                  <a:lnTo>
                    <a:pt x="654" y="366"/>
                  </a:lnTo>
                  <a:lnTo>
                    <a:pt x="633" y="360"/>
                  </a:lnTo>
                  <a:lnTo>
                    <a:pt x="629" y="353"/>
                  </a:lnTo>
                  <a:lnTo>
                    <a:pt x="627" y="343"/>
                  </a:lnTo>
                  <a:lnTo>
                    <a:pt x="633" y="301"/>
                  </a:lnTo>
                  <a:lnTo>
                    <a:pt x="635" y="297"/>
                  </a:lnTo>
                  <a:lnTo>
                    <a:pt x="641" y="293"/>
                  </a:lnTo>
                  <a:lnTo>
                    <a:pt x="664" y="289"/>
                  </a:lnTo>
                  <a:lnTo>
                    <a:pt x="781" y="289"/>
                  </a:lnTo>
                  <a:lnTo>
                    <a:pt x="889" y="283"/>
                  </a:lnTo>
                  <a:lnTo>
                    <a:pt x="1039" y="270"/>
                  </a:lnTo>
                  <a:lnTo>
                    <a:pt x="1237" y="245"/>
                  </a:lnTo>
                  <a:lnTo>
                    <a:pt x="1493" y="206"/>
                  </a:lnTo>
                  <a:lnTo>
                    <a:pt x="2295" y="49"/>
                  </a:lnTo>
                  <a:lnTo>
                    <a:pt x="2539" y="8"/>
                  </a:lnTo>
                  <a:lnTo>
                    <a:pt x="2612" y="0"/>
                  </a:lnTo>
                  <a:lnTo>
                    <a:pt x="2658" y="0"/>
                  </a:lnTo>
                  <a:lnTo>
                    <a:pt x="2687" y="6"/>
                  </a:lnTo>
                  <a:lnTo>
                    <a:pt x="2699" y="16"/>
                  </a:lnTo>
                  <a:lnTo>
                    <a:pt x="2704" y="31"/>
                  </a:lnTo>
                  <a:lnTo>
                    <a:pt x="2704" y="4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99120" y="5564160"/>
              <a:ext cx="849600" cy="790920"/>
            </a:xfrm>
            <a:custGeom>
              <a:avLst/>
              <a:gdLst/>
              <a:ahLst/>
              <a:rect l="0" t="0" r="r" b="b"/>
              <a:pathLst>
                <a:path w="2360" h="2197">
                  <a:moveTo>
                    <a:pt x="706" y="145"/>
                  </a:moveTo>
                  <a:lnTo>
                    <a:pt x="739" y="162"/>
                  </a:lnTo>
                  <a:lnTo>
                    <a:pt x="762" y="176"/>
                  </a:lnTo>
                  <a:lnTo>
                    <a:pt x="769" y="185"/>
                  </a:lnTo>
                  <a:lnTo>
                    <a:pt x="773" y="195"/>
                  </a:lnTo>
                  <a:lnTo>
                    <a:pt x="773" y="220"/>
                  </a:lnTo>
                  <a:lnTo>
                    <a:pt x="758" y="255"/>
                  </a:lnTo>
                  <a:lnTo>
                    <a:pt x="729" y="305"/>
                  </a:lnTo>
                  <a:lnTo>
                    <a:pt x="635" y="459"/>
                  </a:lnTo>
                  <a:lnTo>
                    <a:pt x="614" y="480"/>
                  </a:lnTo>
                  <a:lnTo>
                    <a:pt x="591" y="580"/>
                  </a:lnTo>
                  <a:lnTo>
                    <a:pt x="581" y="607"/>
                  </a:lnTo>
                  <a:lnTo>
                    <a:pt x="568" y="625"/>
                  </a:lnTo>
                  <a:lnTo>
                    <a:pt x="535" y="673"/>
                  </a:lnTo>
                  <a:lnTo>
                    <a:pt x="506" y="717"/>
                  </a:lnTo>
                  <a:lnTo>
                    <a:pt x="468" y="781"/>
                  </a:lnTo>
                  <a:lnTo>
                    <a:pt x="420" y="917"/>
                  </a:lnTo>
                  <a:lnTo>
                    <a:pt x="406" y="935"/>
                  </a:lnTo>
                  <a:lnTo>
                    <a:pt x="373" y="983"/>
                  </a:lnTo>
                  <a:lnTo>
                    <a:pt x="350" y="1021"/>
                  </a:lnTo>
                  <a:lnTo>
                    <a:pt x="323" y="1068"/>
                  </a:lnTo>
                  <a:lnTo>
                    <a:pt x="266" y="1203"/>
                  </a:lnTo>
                  <a:lnTo>
                    <a:pt x="233" y="1302"/>
                  </a:lnTo>
                  <a:lnTo>
                    <a:pt x="208" y="1381"/>
                  </a:lnTo>
                  <a:lnTo>
                    <a:pt x="195" y="1442"/>
                  </a:lnTo>
                  <a:lnTo>
                    <a:pt x="191" y="1483"/>
                  </a:lnTo>
                  <a:lnTo>
                    <a:pt x="200" y="1510"/>
                  </a:lnTo>
                  <a:lnTo>
                    <a:pt x="206" y="1519"/>
                  </a:lnTo>
                  <a:lnTo>
                    <a:pt x="214" y="1521"/>
                  </a:lnTo>
                  <a:lnTo>
                    <a:pt x="222" y="1523"/>
                  </a:lnTo>
                  <a:lnTo>
                    <a:pt x="235" y="1521"/>
                  </a:lnTo>
                  <a:lnTo>
                    <a:pt x="264" y="1506"/>
                  </a:lnTo>
                  <a:lnTo>
                    <a:pt x="298" y="1485"/>
                  </a:lnTo>
                  <a:lnTo>
                    <a:pt x="337" y="1456"/>
                  </a:lnTo>
                  <a:lnTo>
                    <a:pt x="423" y="1379"/>
                  </a:lnTo>
                  <a:lnTo>
                    <a:pt x="614" y="1203"/>
                  </a:lnTo>
                  <a:lnTo>
                    <a:pt x="646" y="1173"/>
                  </a:lnTo>
                  <a:lnTo>
                    <a:pt x="664" y="1153"/>
                  </a:lnTo>
                  <a:lnTo>
                    <a:pt x="685" y="1126"/>
                  </a:lnTo>
                  <a:lnTo>
                    <a:pt x="704" y="1093"/>
                  </a:lnTo>
                  <a:lnTo>
                    <a:pt x="725" y="1056"/>
                  </a:lnTo>
                  <a:lnTo>
                    <a:pt x="744" y="1010"/>
                  </a:lnTo>
                  <a:lnTo>
                    <a:pt x="758" y="956"/>
                  </a:lnTo>
                  <a:lnTo>
                    <a:pt x="787" y="838"/>
                  </a:lnTo>
                  <a:lnTo>
                    <a:pt x="798" y="786"/>
                  </a:lnTo>
                  <a:lnTo>
                    <a:pt x="806" y="771"/>
                  </a:lnTo>
                  <a:lnTo>
                    <a:pt x="825" y="750"/>
                  </a:lnTo>
                  <a:lnTo>
                    <a:pt x="833" y="746"/>
                  </a:lnTo>
                  <a:lnTo>
                    <a:pt x="831" y="702"/>
                  </a:lnTo>
                  <a:lnTo>
                    <a:pt x="831" y="669"/>
                  </a:lnTo>
                  <a:lnTo>
                    <a:pt x="837" y="642"/>
                  </a:lnTo>
                  <a:lnTo>
                    <a:pt x="846" y="623"/>
                  </a:lnTo>
                  <a:lnTo>
                    <a:pt x="856" y="613"/>
                  </a:lnTo>
                  <a:lnTo>
                    <a:pt x="864" y="605"/>
                  </a:lnTo>
                  <a:lnTo>
                    <a:pt x="881" y="598"/>
                  </a:lnTo>
                  <a:lnTo>
                    <a:pt x="902" y="582"/>
                  </a:lnTo>
                  <a:lnTo>
                    <a:pt x="887" y="546"/>
                  </a:lnTo>
                  <a:lnTo>
                    <a:pt x="885" y="534"/>
                  </a:lnTo>
                  <a:lnTo>
                    <a:pt x="885" y="519"/>
                  </a:lnTo>
                  <a:lnTo>
                    <a:pt x="908" y="476"/>
                  </a:lnTo>
                  <a:lnTo>
                    <a:pt x="964" y="388"/>
                  </a:lnTo>
                  <a:lnTo>
                    <a:pt x="998" y="338"/>
                  </a:lnTo>
                  <a:lnTo>
                    <a:pt x="1025" y="291"/>
                  </a:lnTo>
                  <a:lnTo>
                    <a:pt x="1069" y="214"/>
                  </a:lnTo>
                  <a:lnTo>
                    <a:pt x="1094" y="187"/>
                  </a:lnTo>
                  <a:lnTo>
                    <a:pt x="1119" y="172"/>
                  </a:lnTo>
                  <a:lnTo>
                    <a:pt x="1150" y="168"/>
                  </a:lnTo>
                  <a:lnTo>
                    <a:pt x="1169" y="170"/>
                  </a:lnTo>
                  <a:lnTo>
                    <a:pt x="1188" y="176"/>
                  </a:lnTo>
                  <a:lnTo>
                    <a:pt x="1197" y="189"/>
                  </a:lnTo>
                  <a:lnTo>
                    <a:pt x="1268" y="180"/>
                  </a:lnTo>
                  <a:lnTo>
                    <a:pt x="1293" y="185"/>
                  </a:lnTo>
                  <a:lnTo>
                    <a:pt x="1311" y="197"/>
                  </a:lnTo>
                  <a:lnTo>
                    <a:pt x="1324" y="232"/>
                  </a:lnTo>
                  <a:lnTo>
                    <a:pt x="1326" y="255"/>
                  </a:lnTo>
                  <a:lnTo>
                    <a:pt x="1326" y="274"/>
                  </a:lnTo>
                  <a:lnTo>
                    <a:pt x="1322" y="284"/>
                  </a:lnTo>
                  <a:lnTo>
                    <a:pt x="1316" y="301"/>
                  </a:lnTo>
                  <a:lnTo>
                    <a:pt x="1316" y="307"/>
                  </a:lnTo>
                  <a:lnTo>
                    <a:pt x="1322" y="311"/>
                  </a:lnTo>
                  <a:lnTo>
                    <a:pt x="1332" y="318"/>
                  </a:lnTo>
                  <a:lnTo>
                    <a:pt x="1347" y="322"/>
                  </a:lnTo>
                  <a:lnTo>
                    <a:pt x="1361" y="330"/>
                  </a:lnTo>
                  <a:lnTo>
                    <a:pt x="1366" y="338"/>
                  </a:lnTo>
                  <a:lnTo>
                    <a:pt x="1370" y="349"/>
                  </a:lnTo>
                  <a:lnTo>
                    <a:pt x="1370" y="366"/>
                  </a:lnTo>
                  <a:lnTo>
                    <a:pt x="1366" y="382"/>
                  </a:lnTo>
                  <a:lnTo>
                    <a:pt x="1349" y="428"/>
                  </a:lnTo>
                  <a:lnTo>
                    <a:pt x="1282" y="559"/>
                  </a:lnTo>
                  <a:lnTo>
                    <a:pt x="1177" y="763"/>
                  </a:lnTo>
                  <a:lnTo>
                    <a:pt x="1117" y="898"/>
                  </a:lnTo>
                  <a:lnTo>
                    <a:pt x="1052" y="1056"/>
                  </a:lnTo>
                  <a:lnTo>
                    <a:pt x="992" y="1223"/>
                  </a:lnTo>
                  <a:lnTo>
                    <a:pt x="948" y="1348"/>
                  </a:lnTo>
                  <a:lnTo>
                    <a:pt x="923" y="1433"/>
                  </a:lnTo>
                  <a:lnTo>
                    <a:pt x="912" y="1494"/>
                  </a:lnTo>
                  <a:lnTo>
                    <a:pt x="917" y="1531"/>
                  </a:lnTo>
                  <a:lnTo>
                    <a:pt x="923" y="1544"/>
                  </a:lnTo>
                  <a:lnTo>
                    <a:pt x="931" y="1554"/>
                  </a:lnTo>
                  <a:lnTo>
                    <a:pt x="956" y="1569"/>
                  </a:lnTo>
                  <a:lnTo>
                    <a:pt x="987" y="1585"/>
                  </a:lnTo>
                  <a:lnTo>
                    <a:pt x="1085" y="1446"/>
                  </a:lnTo>
                  <a:lnTo>
                    <a:pt x="1135" y="1381"/>
                  </a:lnTo>
                  <a:lnTo>
                    <a:pt x="1162" y="1346"/>
                  </a:lnTo>
                  <a:lnTo>
                    <a:pt x="1188" y="1296"/>
                  </a:lnTo>
                  <a:lnTo>
                    <a:pt x="1079" y="1327"/>
                  </a:lnTo>
                  <a:lnTo>
                    <a:pt x="1085" y="1296"/>
                  </a:lnTo>
                  <a:lnTo>
                    <a:pt x="1092" y="1288"/>
                  </a:lnTo>
                  <a:lnTo>
                    <a:pt x="1100" y="1279"/>
                  </a:lnTo>
                  <a:lnTo>
                    <a:pt x="1114" y="1254"/>
                  </a:lnTo>
                  <a:lnTo>
                    <a:pt x="1108" y="1240"/>
                  </a:lnTo>
                  <a:lnTo>
                    <a:pt x="1100" y="1223"/>
                  </a:lnTo>
                  <a:lnTo>
                    <a:pt x="1096" y="1209"/>
                  </a:lnTo>
                  <a:lnTo>
                    <a:pt x="1098" y="1203"/>
                  </a:lnTo>
                  <a:lnTo>
                    <a:pt x="1100" y="1196"/>
                  </a:lnTo>
                  <a:lnTo>
                    <a:pt x="1299" y="1068"/>
                  </a:lnTo>
                  <a:lnTo>
                    <a:pt x="1349" y="1035"/>
                  </a:lnTo>
                  <a:lnTo>
                    <a:pt x="1378" y="1010"/>
                  </a:lnTo>
                  <a:lnTo>
                    <a:pt x="1389" y="998"/>
                  </a:lnTo>
                  <a:lnTo>
                    <a:pt x="1397" y="985"/>
                  </a:lnTo>
                  <a:lnTo>
                    <a:pt x="1414" y="952"/>
                  </a:lnTo>
                  <a:lnTo>
                    <a:pt x="1441" y="902"/>
                  </a:lnTo>
                  <a:lnTo>
                    <a:pt x="1482" y="825"/>
                  </a:lnTo>
                  <a:lnTo>
                    <a:pt x="1561" y="738"/>
                  </a:lnTo>
                  <a:lnTo>
                    <a:pt x="1584" y="725"/>
                  </a:lnTo>
                  <a:lnTo>
                    <a:pt x="1589" y="694"/>
                  </a:lnTo>
                  <a:lnTo>
                    <a:pt x="1603" y="682"/>
                  </a:lnTo>
                  <a:lnTo>
                    <a:pt x="1641" y="646"/>
                  </a:lnTo>
                  <a:lnTo>
                    <a:pt x="1672" y="611"/>
                  </a:lnTo>
                  <a:lnTo>
                    <a:pt x="1716" y="555"/>
                  </a:lnTo>
                  <a:lnTo>
                    <a:pt x="1841" y="395"/>
                  </a:lnTo>
                  <a:lnTo>
                    <a:pt x="1895" y="338"/>
                  </a:lnTo>
                  <a:lnTo>
                    <a:pt x="1928" y="314"/>
                  </a:lnTo>
                  <a:lnTo>
                    <a:pt x="1957" y="293"/>
                  </a:lnTo>
                  <a:lnTo>
                    <a:pt x="2001" y="253"/>
                  </a:lnTo>
                  <a:lnTo>
                    <a:pt x="2016" y="237"/>
                  </a:lnTo>
                  <a:lnTo>
                    <a:pt x="2028" y="218"/>
                  </a:lnTo>
                  <a:lnTo>
                    <a:pt x="2041" y="180"/>
                  </a:lnTo>
                  <a:lnTo>
                    <a:pt x="2049" y="116"/>
                  </a:lnTo>
                  <a:lnTo>
                    <a:pt x="2055" y="91"/>
                  </a:lnTo>
                  <a:lnTo>
                    <a:pt x="2060" y="83"/>
                  </a:lnTo>
                  <a:lnTo>
                    <a:pt x="2070" y="76"/>
                  </a:lnTo>
                  <a:lnTo>
                    <a:pt x="2099" y="74"/>
                  </a:lnTo>
                  <a:lnTo>
                    <a:pt x="2149" y="85"/>
                  </a:lnTo>
                  <a:lnTo>
                    <a:pt x="2170" y="101"/>
                  </a:lnTo>
                  <a:lnTo>
                    <a:pt x="2170" y="126"/>
                  </a:lnTo>
                  <a:lnTo>
                    <a:pt x="2174" y="131"/>
                  </a:lnTo>
                  <a:lnTo>
                    <a:pt x="2180" y="133"/>
                  </a:lnTo>
                  <a:lnTo>
                    <a:pt x="2224" y="135"/>
                  </a:lnTo>
                  <a:lnTo>
                    <a:pt x="2324" y="149"/>
                  </a:lnTo>
                  <a:lnTo>
                    <a:pt x="2341" y="153"/>
                  </a:lnTo>
                  <a:lnTo>
                    <a:pt x="2351" y="162"/>
                  </a:lnTo>
                  <a:lnTo>
                    <a:pt x="2358" y="172"/>
                  </a:lnTo>
                  <a:lnTo>
                    <a:pt x="2360" y="187"/>
                  </a:lnTo>
                  <a:lnTo>
                    <a:pt x="2358" y="234"/>
                  </a:lnTo>
                  <a:lnTo>
                    <a:pt x="2343" y="309"/>
                  </a:lnTo>
                  <a:lnTo>
                    <a:pt x="2322" y="420"/>
                  </a:lnTo>
                  <a:lnTo>
                    <a:pt x="2299" y="569"/>
                  </a:lnTo>
                  <a:lnTo>
                    <a:pt x="2274" y="767"/>
                  </a:lnTo>
                  <a:lnTo>
                    <a:pt x="2255" y="1016"/>
                  </a:lnTo>
                  <a:lnTo>
                    <a:pt x="2222" y="1502"/>
                  </a:lnTo>
                  <a:lnTo>
                    <a:pt x="2185" y="1872"/>
                  </a:lnTo>
                  <a:lnTo>
                    <a:pt x="2178" y="1957"/>
                  </a:lnTo>
                  <a:lnTo>
                    <a:pt x="2174" y="2034"/>
                  </a:lnTo>
                  <a:lnTo>
                    <a:pt x="2170" y="2061"/>
                  </a:lnTo>
                  <a:lnTo>
                    <a:pt x="2164" y="2080"/>
                  </a:lnTo>
                  <a:lnTo>
                    <a:pt x="2160" y="2084"/>
                  </a:lnTo>
                  <a:lnTo>
                    <a:pt x="2153" y="2086"/>
                  </a:lnTo>
                  <a:lnTo>
                    <a:pt x="2137" y="2078"/>
                  </a:lnTo>
                  <a:lnTo>
                    <a:pt x="2137" y="2066"/>
                  </a:lnTo>
                  <a:lnTo>
                    <a:pt x="2128" y="2059"/>
                  </a:lnTo>
                  <a:lnTo>
                    <a:pt x="2122" y="1982"/>
                  </a:lnTo>
                  <a:lnTo>
                    <a:pt x="2089" y="1968"/>
                  </a:lnTo>
                  <a:lnTo>
                    <a:pt x="2074" y="1953"/>
                  </a:lnTo>
                  <a:lnTo>
                    <a:pt x="2070" y="1945"/>
                  </a:lnTo>
                  <a:lnTo>
                    <a:pt x="2070" y="1932"/>
                  </a:lnTo>
                  <a:lnTo>
                    <a:pt x="2080" y="1926"/>
                  </a:lnTo>
                  <a:lnTo>
                    <a:pt x="2089" y="1916"/>
                  </a:lnTo>
                  <a:lnTo>
                    <a:pt x="2097" y="1895"/>
                  </a:lnTo>
                  <a:lnTo>
                    <a:pt x="2099" y="1872"/>
                  </a:lnTo>
                  <a:lnTo>
                    <a:pt x="2097" y="1855"/>
                  </a:lnTo>
                  <a:lnTo>
                    <a:pt x="2074" y="1843"/>
                  </a:lnTo>
                  <a:lnTo>
                    <a:pt x="2064" y="1808"/>
                  </a:lnTo>
                  <a:lnTo>
                    <a:pt x="2062" y="1799"/>
                  </a:lnTo>
                  <a:lnTo>
                    <a:pt x="2072" y="1797"/>
                  </a:lnTo>
                  <a:lnTo>
                    <a:pt x="2080" y="1793"/>
                  </a:lnTo>
                  <a:lnTo>
                    <a:pt x="2091" y="1781"/>
                  </a:lnTo>
                  <a:lnTo>
                    <a:pt x="2093" y="1768"/>
                  </a:lnTo>
                  <a:lnTo>
                    <a:pt x="2091" y="1764"/>
                  </a:lnTo>
                  <a:lnTo>
                    <a:pt x="2053" y="1764"/>
                  </a:lnTo>
                  <a:lnTo>
                    <a:pt x="2030" y="1631"/>
                  </a:lnTo>
                  <a:lnTo>
                    <a:pt x="2018" y="1554"/>
                  </a:lnTo>
                  <a:lnTo>
                    <a:pt x="2014" y="1539"/>
                  </a:lnTo>
                  <a:lnTo>
                    <a:pt x="2010" y="1537"/>
                  </a:lnTo>
                  <a:lnTo>
                    <a:pt x="1987" y="1581"/>
                  </a:lnTo>
                  <a:lnTo>
                    <a:pt x="1970" y="1435"/>
                  </a:lnTo>
                  <a:lnTo>
                    <a:pt x="1970" y="1388"/>
                  </a:lnTo>
                  <a:lnTo>
                    <a:pt x="1978" y="1377"/>
                  </a:lnTo>
                  <a:lnTo>
                    <a:pt x="1980" y="1369"/>
                  </a:lnTo>
                  <a:lnTo>
                    <a:pt x="1982" y="1350"/>
                  </a:lnTo>
                  <a:lnTo>
                    <a:pt x="1970" y="1279"/>
                  </a:lnTo>
                  <a:lnTo>
                    <a:pt x="1964" y="1267"/>
                  </a:lnTo>
                  <a:lnTo>
                    <a:pt x="1960" y="1244"/>
                  </a:lnTo>
                  <a:lnTo>
                    <a:pt x="1960" y="1186"/>
                  </a:lnTo>
                  <a:lnTo>
                    <a:pt x="1970" y="1064"/>
                  </a:lnTo>
                  <a:lnTo>
                    <a:pt x="1976" y="1012"/>
                  </a:lnTo>
                  <a:lnTo>
                    <a:pt x="1974" y="960"/>
                  </a:lnTo>
                  <a:lnTo>
                    <a:pt x="1891" y="985"/>
                  </a:lnTo>
                  <a:lnTo>
                    <a:pt x="1828" y="1008"/>
                  </a:lnTo>
                  <a:lnTo>
                    <a:pt x="1784" y="1029"/>
                  </a:lnTo>
                  <a:lnTo>
                    <a:pt x="1755" y="1048"/>
                  </a:lnTo>
                  <a:lnTo>
                    <a:pt x="1714" y="1083"/>
                  </a:lnTo>
                  <a:lnTo>
                    <a:pt x="1695" y="1101"/>
                  </a:lnTo>
                  <a:lnTo>
                    <a:pt x="1668" y="1115"/>
                  </a:lnTo>
                  <a:lnTo>
                    <a:pt x="1612" y="1134"/>
                  </a:lnTo>
                  <a:lnTo>
                    <a:pt x="1578" y="1140"/>
                  </a:lnTo>
                  <a:lnTo>
                    <a:pt x="1559" y="1138"/>
                  </a:lnTo>
                  <a:lnTo>
                    <a:pt x="1541" y="1144"/>
                  </a:lnTo>
                  <a:lnTo>
                    <a:pt x="1534" y="1171"/>
                  </a:lnTo>
                  <a:lnTo>
                    <a:pt x="1501" y="1192"/>
                  </a:lnTo>
                  <a:lnTo>
                    <a:pt x="1493" y="1203"/>
                  </a:lnTo>
                  <a:lnTo>
                    <a:pt x="1482" y="1223"/>
                  </a:lnTo>
                  <a:lnTo>
                    <a:pt x="1459" y="1269"/>
                  </a:lnTo>
                  <a:lnTo>
                    <a:pt x="1420" y="1348"/>
                  </a:lnTo>
                  <a:lnTo>
                    <a:pt x="1355" y="1469"/>
                  </a:lnTo>
                  <a:lnTo>
                    <a:pt x="1255" y="1641"/>
                  </a:lnTo>
                  <a:lnTo>
                    <a:pt x="1154" y="1820"/>
                  </a:lnTo>
                  <a:lnTo>
                    <a:pt x="1144" y="1837"/>
                  </a:lnTo>
                  <a:lnTo>
                    <a:pt x="1137" y="1843"/>
                  </a:lnTo>
                  <a:lnTo>
                    <a:pt x="1129" y="1845"/>
                  </a:lnTo>
                  <a:lnTo>
                    <a:pt x="1119" y="1843"/>
                  </a:lnTo>
                  <a:lnTo>
                    <a:pt x="1106" y="1837"/>
                  </a:lnTo>
                  <a:lnTo>
                    <a:pt x="1100" y="1833"/>
                  </a:lnTo>
                  <a:lnTo>
                    <a:pt x="1098" y="1835"/>
                  </a:lnTo>
                  <a:lnTo>
                    <a:pt x="1092" y="1843"/>
                  </a:lnTo>
                  <a:lnTo>
                    <a:pt x="1062" y="1901"/>
                  </a:lnTo>
                  <a:lnTo>
                    <a:pt x="1033" y="1955"/>
                  </a:lnTo>
                  <a:lnTo>
                    <a:pt x="987" y="2034"/>
                  </a:lnTo>
                  <a:lnTo>
                    <a:pt x="960" y="2068"/>
                  </a:lnTo>
                  <a:lnTo>
                    <a:pt x="948" y="2080"/>
                  </a:lnTo>
                  <a:lnTo>
                    <a:pt x="933" y="2090"/>
                  </a:lnTo>
                  <a:lnTo>
                    <a:pt x="914" y="2101"/>
                  </a:lnTo>
                  <a:lnTo>
                    <a:pt x="902" y="2099"/>
                  </a:lnTo>
                  <a:lnTo>
                    <a:pt x="887" y="2076"/>
                  </a:lnTo>
                  <a:lnTo>
                    <a:pt x="885" y="2076"/>
                  </a:lnTo>
                  <a:lnTo>
                    <a:pt x="879" y="2082"/>
                  </a:lnTo>
                  <a:lnTo>
                    <a:pt x="869" y="2103"/>
                  </a:lnTo>
                  <a:lnTo>
                    <a:pt x="856" y="2120"/>
                  </a:lnTo>
                  <a:lnTo>
                    <a:pt x="841" y="2134"/>
                  </a:lnTo>
                  <a:lnTo>
                    <a:pt x="821" y="2130"/>
                  </a:lnTo>
                  <a:lnTo>
                    <a:pt x="819" y="2101"/>
                  </a:lnTo>
                  <a:lnTo>
                    <a:pt x="814" y="2088"/>
                  </a:lnTo>
                  <a:lnTo>
                    <a:pt x="808" y="2093"/>
                  </a:lnTo>
                  <a:lnTo>
                    <a:pt x="798" y="2109"/>
                  </a:lnTo>
                  <a:lnTo>
                    <a:pt x="769" y="2157"/>
                  </a:lnTo>
                  <a:lnTo>
                    <a:pt x="748" y="2180"/>
                  </a:lnTo>
                  <a:lnTo>
                    <a:pt x="723" y="2197"/>
                  </a:lnTo>
                  <a:lnTo>
                    <a:pt x="694" y="2197"/>
                  </a:lnTo>
                  <a:lnTo>
                    <a:pt x="698" y="2130"/>
                  </a:lnTo>
                  <a:lnTo>
                    <a:pt x="658" y="2126"/>
                  </a:lnTo>
                  <a:lnTo>
                    <a:pt x="668" y="2101"/>
                  </a:lnTo>
                  <a:lnTo>
                    <a:pt x="679" y="2074"/>
                  </a:lnTo>
                  <a:lnTo>
                    <a:pt x="714" y="2022"/>
                  </a:lnTo>
                  <a:lnTo>
                    <a:pt x="752" y="1970"/>
                  </a:lnTo>
                  <a:lnTo>
                    <a:pt x="785" y="1920"/>
                  </a:lnTo>
                  <a:lnTo>
                    <a:pt x="831" y="1833"/>
                  </a:lnTo>
                  <a:lnTo>
                    <a:pt x="852" y="1779"/>
                  </a:lnTo>
                  <a:lnTo>
                    <a:pt x="856" y="1762"/>
                  </a:lnTo>
                  <a:lnTo>
                    <a:pt x="856" y="1752"/>
                  </a:lnTo>
                  <a:lnTo>
                    <a:pt x="852" y="1745"/>
                  </a:lnTo>
                  <a:lnTo>
                    <a:pt x="844" y="1743"/>
                  </a:lnTo>
                  <a:lnTo>
                    <a:pt x="816" y="1747"/>
                  </a:lnTo>
                  <a:lnTo>
                    <a:pt x="783" y="1760"/>
                  </a:lnTo>
                  <a:lnTo>
                    <a:pt x="744" y="1772"/>
                  </a:lnTo>
                  <a:lnTo>
                    <a:pt x="702" y="1776"/>
                  </a:lnTo>
                  <a:lnTo>
                    <a:pt x="664" y="1772"/>
                  </a:lnTo>
                  <a:lnTo>
                    <a:pt x="635" y="1760"/>
                  </a:lnTo>
                  <a:lnTo>
                    <a:pt x="612" y="1739"/>
                  </a:lnTo>
                  <a:lnTo>
                    <a:pt x="596" y="1716"/>
                  </a:lnTo>
                  <a:lnTo>
                    <a:pt x="596" y="1672"/>
                  </a:lnTo>
                  <a:lnTo>
                    <a:pt x="593" y="1664"/>
                  </a:lnTo>
                  <a:lnTo>
                    <a:pt x="589" y="1658"/>
                  </a:lnTo>
                  <a:lnTo>
                    <a:pt x="579" y="1641"/>
                  </a:lnTo>
                  <a:lnTo>
                    <a:pt x="575" y="1606"/>
                  </a:lnTo>
                  <a:lnTo>
                    <a:pt x="579" y="1533"/>
                  </a:lnTo>
                  <a:lnTo>
                    <a:pt x="598" y="1448"/>
                  </a:lnTo>
                  <a:lnTo>
                    <a:pt x="616" y="1394"/>
                  </a:lnTo>
                  <a:lnTo>
                    <a:pt x="631" y="1367"/>
                  </a:lnTo>
                  <a:lnTo>
                    <a:pt x="631" y="1361"/>
                  </a:lnTo>
                  <a:lnTo>
                    <a:pt x="627" y="1363"/>
                  </a:lnTo>
                  <a:lnTo>
                    <a:pt x="593" y="1392"/>
                  </a:lnTo>
                  <a:lnTo>
                    <a:pt x="552" y="1435"/>
                  </a:lnTo>
                  <a:lnTo>
                    <a:pt x="454" y="1544"/>
                  </a:lnTo>
                  <a:lnTo>
                    <a:pt x="398" y="1598"/>
                  </a:lnTo>
                  <a:lnTo>
                    <a:pt x="341" y="1643"/>
                  </a:lnTo>
                  <a:lnTo>
                    <a:pt x="310" y="1662"/>
                  </a:lnTo>
                  <a:lnTo>
                    <a:pt x="281" y="1675"/>
                  </a:lnTo>
                  <a:lnTo>
                    <a:pt x="250" y="1687"/>
                  </a:lnTo>
                  <a:lnTo>
                    <a:pt x="218" y="1689"/>
                  </a:lnTo>
                  <a:lnTo>
                    <a:pt x="166" y="1689"/>
                  </a:lnTo>
                  <a:lnTo>
                    <a:pt x="143" y="1683"/>
                  </a:lnTo>
                  <a:lnTo>
                    <a:pt x="120" y="1677"/>
                  </a:lnTo>
                  <a:lnTo>
                    <a:pt x="102" y="1668"/>
                  </a:lnTo>
                  <a:lnTo>
                    <a:pt x="83" y="1658"/>
                  </a:lnTo>
                  <a:lnTo>
                    <a:pt x="68" y="1645"/>
                  </a:lnTo>
                  <a:lnTo>
                    <a:pt x="56" y="1631"/>
                  </a:lnTo>
                  <a:lnTo>
                    <a:pt x="33" y="1600"/>
                  </a:lnTo>
                  <a:lnTo>
                    <a:pt x="16" y="1562"/>
                  </a:lnTo>
                  <a:lnTo>
                    <a:pt x="8" y="1523"/>
                  </a:lnTo>
                  <a:lnTo>
                    <a:pt x="2" y="1479"/>
                  </a:lnTo>
                  <a:lnTo>
                    <a:pt x="0" y="1435"/>
                  </a:lnTo>
                  <a:lnTo>
                    <a:pt x="2" y="1390"/>
                  </a:lnTo>
                  <a:lnTo>
                    <a:pt x="12" y="1304"/>
                  </a:lnTo>
                  <a:lnTo>
                    <a:pt x="29" y="1230"/>
                  </a:lnTo>
                  <a:lnTo>
                    <a:pt x="43" y="1175"/>
                  </a:lnTo>
                  <a:lnTo>
                    <a:pt x="72" y="1075"/>
                  </a:lnTo>
                  <a:lnTo>
                    <a:pt x="87" y="1016"/>
                  </a:lnTo>
                  <a:lnTo>
                    <a:pt x="110" y="944"/>
                  </a:lnTo>
                  <a:lnTo>
                    <a:pt x="143" y="850"/>
                  </a:lnTo>
                  <a:lnTo>
                    <a:pt x="189" y="727"/>
                  </a:lnTo>
                  <a:lnTo>
                    <a:pt x="341" y="372"/>
                  </a:lnTo>
                  <a:lnTo>
                    <a:pt x="377" y="301"/>
                  </a:lnTo>
                  <a:lnTo>
                    <a:pt x="402" y="257"/>
                  </a:lnTo>
                  <a:lnTo>
                    <a:pt x="431" y="193"/>
                  </a:lnTo>
                  <a:lnTo>
                    <a:pt x="460" y="133"/>
                  </a:lnTo>
                  <a:lnTo>
                    <a:pt x="487" y="89"/>
                  </a:lnTo>
                  <a:lnTo>
                    <a:pt x="510" y="64"/>
                  </a:lnTo>
                  <a:lnTo>
                    <a:pt x="533" y="45"/>
                  </a:lnTo>
                  <a:lnTo>
                    <a:pt x="550" y="35"/>
                  </a:lnTo>
                  <a:lnTo>
                    <a:pt x="566" y="31"/>
                  </a:lnTo>
                  <a:lnTo>
                    <a:pt x="591" y="31"/>
                  </a:lnTo>
                  <a:lnTo>
                    <a:pt x="606" y="33"/>
                  </a:lnTo>
                  <a:lnTo>
                    <a:pt x="616" y="24"/>
                  </a:lnTo>
                  <a:lnTo>
                    <a:pt x="627" y="10"/>
                  </a:lnTo>
                  <a:lnTo>
                    <a:pt x="641" y="0"/>
                  </a:lnTo>
                  <a:lnTo>
                    <a:pt x="662" y="2"/>
                  </a:lnTo>
                  <a:lnTo>
                    <a:pt x="673" y="8"/>
                  </a:lnTo>
                  <a:lnTo>
                    <a:pt x="679" y="16"/>
                  </a:lnTo>
                  <a:lnTo>
                    <a:pt x="683" y="33"/>
                  </a:lnTo>
                  <a:lnTo>
                    <a:pt x="687" y="72"/>
                  </a:lnTo>
                  <a:lnTo>
                    <a:pt x="698" y="83"/>
                  </a:lnTo>
                  <a:lnTo>
                    <a:pt x="708" y="93"/>
                  </a:lnTo>
                  <a:lnTo>
                    <a:pt x="712" y="112"/>
                  </a:lnTo>
                  <a:lnTo>
                    <a:pt x="706" y="14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826400" y="5580000"/>
              <a:ext cx="981360" cy="908280"/>
            </a:xfrm>
            <a:custGeom>
              <a:avLst/>
              <a:gdLst/>
              <a:ahLst/>
              <a:rect l="0" t="0" r="r" b="b"/>
              <a:pathLst>
                <a:path w="2726" h="2523">
                  <a:moveTo>
                    <a:pt x="2599" y="2235"/>
                  </a:moveTo>
                  <a:lnTo>
                    <a:pt x="2582" y="2246"/>
                  </a:lnTo>
                  <a:lnTo>
                    <a:pt x="2567" y="2252"/>
                  </a:lnTo>
                  <a:lnTo>
                    <a:pt x="2555" y="2250"/>
                  </a:lnTo>
                  <a:lnTo>
                    <a:pt x="2540" y="2244"/>
                  </a:lnTo>
                  <a:lnTo>
                    <a:pt x="2503" y="2208"/>
                  </a:lnTo>
                  <a:lnTo>
                    <a:pt x="2432" y="2148"/>
                  </a:lnTo>
                  <a:lnTo>
                    <a:pt x="2038" y="1831"/>
                  </a:lnTo>
                  <a:lnTo>
                    <a:pt x="1929" y="1748"/>
                  </a:lnTo>
                  <a:lnTo>
                    <a:pt x="1823" y="1671"/>
                  </a:lnTo>
                  <a:lnTo>
                    <a:pt x="1771" y="1633"/>
                  </a:lnTo>
                  <a:lnTo>
                    <a:pt x="1731" y="1598"/>
                  </a:lnTo>
                  <a:lnTo>
                    <a:pt x="1698" y="1567"/>
                  </a:lnTo>
                  <a:lnTo>
                    <a:pt x="1673" y="1540"/>
                  </a:lnTo>
                  <a:lnTo>
                    <a:pt x="1635" y="1494"/>
                  </a:lnTo>
                  <a:lnTo>
                    <a:pt x="1623" y="1479"/>
                  </a:lnTo>
                  <a:lnTo>
                    <a:pt x="1608" y="1465"/>
                  </a:lnTo>
                  <a:lnTo>
                    <a:pt x="1554" y="1444"/>
                  </a:lnTo>
                  <a:lnTo>
                    <a:pt x="1402" y="1269"/>
                  </a:lnTo>
                  <a:lnTo>
                    <a:pt x="1361" y="1224"/>
                  </a:lnTo>
                  <a:lnTo>
                    <a:pt x="1340" y="1203"/>
                  </a:lnTo>
                  <a:lnTo>
                    <a:pt x="1324" y="1193"/>
                  </a:lnTo>
                  <a:lnTo>
                    <a:pt x="1303" y="1208"/>
                  </a:lnTo>
                  <a:lnTo>
                    <a:pt x="1082" y="1047"/>
                  </a:lnTo>
                  <a:lnTo>
                    <a:pt x="1009" y="999"/>
                  </a:lnTo>
                  <a:lnTo>
                    <a:pt x="1011" y="1001"/>
                  </a:lnTo>
                  <a:lnTo>
                    <a:pt x="1025" y="1016"/>
                  </a:lnTo>
                  <a:lnTo>
                    <a:pt x="1067" y="1058"/>
                  </a:lnTo>
                  <a:lnTo>
                    <a:pt x="1084" y="1081"/>
                  </a:lnTo>
                  <a:lnTo>
                    <a:pt x="1086" y="1089"/>
                  </a:lnTo>
                  <a:lnTo>
                    <a:pt x="1084" y="1091"/>
                  </a:lnTo>
                  <a:lnTo>
                    <a:pt x="1088" y="1097"/>
                  </a:lnTo>
                  <a:lnTo>
                    <a:pt x="1144" y="1153"/>
                  </a:lnTo>
                  <a:lnTo>
                    <a:pt x="1330" y="1321"/>
                  </a:lnTo>
                  <a:lnTo>
                    <a:pt x="1420" y="1398"/>
                  </a:lnTo>
                  <a:lnTo>
                    <a:pt x="1460" y="1429"/>
                  </a:lnTo>
                  <a:lnTo>
                    <a:pt x="1468" y="1438"/>
                  </a:lnTo>
                  <a:lnTo>
                    <a:pt x="1458" y="1444"/>
                  </a:lnTo>
                  <a:lnTo>
                    <a:pt x="1450" y="1448"/>
                  </a:lnTo>
                  <a:lnTo>
                    <a:pt x="1441" y="1450"/>
                  </a:lnTo>
                  <a:lnTo>
                    <a:pt x="1439" y="1448"/>
                  </a:lnTo>
                  <a:lnTo>
                    <a:pt x="1464" y="1463"/>
                  </a:lnTo>
                  <a:lnTo>
                    <a:pt x="1531" y="1513"/>
                  </a:lnTo>
                  <a:lnTo>
                    <a:pt x="1898" y="1811"/>
                  </a:lnTo>
                  <a:lnTo>
                    <a:pt x="1967" y="1871"/>
                  </a:lnTo>
                  <a:lnTo>
                    <a:pt x="1996" y="1898"/>
                  </a:lnTo>
                  <a:lnTo>
                    <a:pt x="2031" y="1938"/>
                  </a:lnTo>
                  <a:lnTo>
                    <a:pt x="2090" y="1990"/>
                  </a:lnTo>
                  <a:lnTo>
                    <a:pt x="2209" y="2094"/>
                  </a:lnTo>
                  <a:lnTo>
                    <a:pt x="2563" y="2408"/>
                  </a:lnTo>
                  <a:lnTo>
                    <a:pt x="2726" y="2512"/>
                  </a:lnTo>
                  <a:lnTo>
                    <a:pt x="2724" y="2521"/>
                  </a:lnTo>
                  <a:lnTo>
                    <a:pt x="2719" y="2523"/>
                  </a:lnTo>
                  <a:lnTo>
                    <a:pt x="2703" y="2523"/>
                  </a:lnTo>
                  <a:lnTo>
                    <a:pt x="2678" y="2512"/>
                  </a:lnTo>
                  <a:lnTo>
                    <a:pt x="2644" y="2494"/>
                  </a:lnTo>
                  <a:lnTo>
                    <a:pt x="2603" y="2469"/>
                  </a:lnTo>
                  <a:lnTo>
                    <a:pt x="2557" y="2435"/>
                  </a:lnTo>
                  <a:lnTo>
                    <a:pt x="2448" y="2356"/>
                  </a:lnTo>
                  <a:lnTo>
                    <a:pt x="2223" y="2181"/>
                  </a:lnTo>
                  <a:lnTo>
                    <a:pt x="2121" y="2104"/>
                  </a:lnTo>
                  <a:lnTo>
                    <a:pt x="2042" y="2046"/>
                  </a:lnTo>
                  <a:lnTo>
                    <a:pt x="1913" y="1954"/>
                  </a:lnTo>
                  <a:lnTo>
                    <a:pt x="1825" y="1883"/>
                  </a:lnTo>
                  <a:lnTo>
                    <a:pt x="1760" y="1823"/>
                  </a:lnTo>
                  <a:lnTo>
                    <a:pt x="1708" y="1767"/>
                  </a:lnTo>
                  <a:lnTo>
                    <a:pt x="1652" y="1708"/>
                  </a:lnTo>
                  <a:lnTo>
                    <a:pt x="1577" y="1638"/>
                  </a:lnTo>
                  <a:lnTo>
                    <a:pt x="1529" y="1596"/>
                  </a:lnTo>
                  <a:lnTo>
                    <a:pt x="1468" y="1550"/>
                  </a:lnTo>
                  <a:lnTo>
                    <a:pt x="1311" y="1436"/>
                  </a:lnTo>
                  <a:lnTo>
                    <a:pt x="1259" y="1417"/>
                  </a:lnTo>
                  <a:lnTo>
                    <a:pt x="1180" y="1325"/>
                  </a:lnTo>
                  <a:lnTo>
                    <a:pt x="1171" y="1286"/>
                  </a:lnTo>
                  <a:lnTo>
                    <a:pt x="1134" y="1258"/>
                  </a:lnTo>
                  <a:lnTo>
                    <a:pt x="1100" y="1230"/>
                  </a:lnTo>
                  <a:lnTo>
                    <a:pt x="1050" y="1180"/>
                  </a:lnTo>
                  <a:lnTo>
                    <a:pt x="1009" y="1143"/>
                  </a:lnTo>
                  <a:lnTo>
                    <a:pt x="988" y="1128"/>
                  </a:lnTo>
                  <a:lnTo>
                    <a:pt x="969" y="1120"/>
                  </a:lnTo>
                  <a:lnTo>
                    <a:pt x="917" y="1114"/>
                  </a:lnTo>
                  <a:lnTo>
                    <a:pt x="884" y="1074"/>
                  </a:lnTo>
                  <a:lnTo>
                    <a:pt x="859" y="1049"/>
                  </a:lnTo>
                  <a:lnTo>
                    <a:pt x="821" y="1028"/>
                  </a:lnTo>
                  <a:lnTo>
                    <a:pt x="813" y="1024"/>
                  </a:lnTo>
                  <a:lnTo>
                    <a:pt x="813" y="1018"/>
                  </a:lnTo>
                  <a:lnTo>
                    <a:pt x="838" y="985"/>
                  </a:lnTo>
                  <a:lnTo>
                    <a:pt x="846" y="974"/>
                  </a:lnTo>
                  <a:lnTo>
                    <a:pt x="852" y="964"/>
                  </a:lnTo>
                  <a:lnTo>
                    <a:pt x="856" y="949"/>
                  </a:lnTo>
                  <a:lnTo>
                    <a:pt x="861" y="945"/>
                  </a:lnTo>
                  <a:lnTo>
                    <a:pt x="867" y="941"/>
                  </a:lnTo>
                  <a:lnTo>
                    <a:pt x="892" y="941"/>
                  </a:lnTo>
                  <a:lnTo>
                    <a:pt x="917" y="953"/>
                  </a:lnTo>
                  <a:lnTo>
                    <a:pt x="948" y="949"/>
                  </a:lnTo>
                  <a:lnTo>
                    <a:pt x="971" y="941"/>
                  </a:lnTo>
                  <a:lnTo>
                    <a:pt x="982" y="935"/>
                  </a:lnTo>
                  <a:lnTo>
                    <a:pt x="988" y="926"/>
                  </a:lnTo>
                  <a:lnTo>
                    <a:pt x="986" y="916"/>
                  </a:lnTo>
                  <a:lnTo>
                    <a:pt x="979" y="906"/>
                  </a:lnTo>
                  <a:lnTo>
                    <a:pt x="954" y="885"/>
                  </a:lnTo>
                  <a:lnTo>
                    <a:pt x="927" y="858"/>
                  </a:lnTo>
                  <a:lnTo>
                    <a:pt x="907" y="831"/>
                  </a:lnTo>
                  <a:lnTo>
                    <a:pt x="900" y="818"/>
                  </a:lnTo>
                  <a:lnTo>
                    <a:pt x="900" y="803"/>
                  </a:lnTo>
                  <a:lnTo>
                    <a:pt x="907" y="789"/>
                  </a:lnTo>
                  <a:lnTo>
                    <a:pt x="921" y="774"/>
                  </a:lnTo>
                  <a:lnTo>
                    <a:pt x="936" y="770"/>
                  </a:lnTo>
                  <a:lnTo>
                    <a:pt x="950" y="774"/>
                  </a:lnTo>
                  <a:lnTo>
                    <a:pt x="967" y="785"/>
                  </a:lnTo>
                  <a:lnTo>
                    <a:pt x="982" y="799"/>
                  </a:lnTo>
                  <a:lnTo>
                    <a:pt x="1017" y="833"/>
                  </a:lnTo>
                  <a:lnTo>
                    <a:pt x="1030" y="847"/>
                  </a:lnTo>
                  <a:lnTo>
                    <a:pt x="1044" y="853"/>
                  </a:lnTo>
                  <a:lnTo>
                    <a:pt x="1100" y="845"/>
                  </a:lnTo>
                  <a:lnTo>
                    <a:pt x="1132" y="858"/>
                  </a:lnTo>
                  <a:lnTo>
                    <a:pt x="1265" y="683"/>
                  </a:lnTo>
                  <a:lnTo>
                    <a:pt x="1307" y="622"/>
                  </a:lnTo>
                  <a:lnTo>
                    <a:pt x="1330" y="574"/>
                  </a:lnTo>
                  <a:lnTo>
                    <a:pt x="1336" y="556"/>
                  </a:lnTo>
                  <a:lnTo>
                    <a:pt x="1336" y="537"/>
                  </a:lnTo>
                  <a:lnTo>
                    <a:pt x="1334" y="522"/>
                  </a:lnTo>
                  <a:lnTo>
                    <a:pt x="1328" y="506"/>
                  </a:lnTo>
                  <a:lnTo>
                    <a:pt x="1315" y="493"/>
                  </a:lnTo>
                  <a:lnTo>
                    <a:pt x="1303" y="479"/>
                  </a:lnTo>
                  <a:lnTo>
                    <a:pt x="1259" y="451"/>
                  </a:lnTo>
                  <a:lnTo>
                    <a:pt x="1228" y="437"/>
                  </a:lnTo>
                  <a:lnTo>
                    <a:pt x="1196" y="426"/>
                  </a:lnTo>
                  <a:lnTo>
                    <a:pt x="1134" y="414"/>
                  </a:lnTo>
                  <a:lnTo>
                    <a:pt x="1071" y="412"/>
                  </a:lnTo>
                  <a:lnTo>
                    <a:pt x="1013" y="418"/>
                  </a:lnTo>
                  <a:lnTo>
                    <a:pt x="963" y="429"/>
                  </a:lnTo>
                  <a:lnTo>
                    <a:pt x="923" y="439"/>
                  </a:lnTo>
                  <a:lnTo>
                    <a:pt x="898" y="449"/>
                  </a:lnTo>
                  <a:lnTo>
                    <a:pt x="886" y="456"/>
                  </a:lnTo>
                  <a:lnTo>
                    <a:pt x="859" y="526"/>
                  </a:lnTo>
                  <a:lnTo>
                    <a:pt x="838" y="579"/>
                  </a:lnTo>
                  <a:lnTo>
                    <a:pt x="829" y="595"/>
                  </a:lnTo>
                  <a:lnTo>
                    <a:pt x="821" y="604"/>
                  </a:lnTo>
                  <a:lnTo>
                    <a:pt x="813" y="604"/>
                  </a:lnTo>
                  <a:lnTo>
                    <a:pt x="802" y="595"/>
                  </a:lnTo>
                  <a:lnTo>
                    <a:pt x="802" y="572"/>
                  </a:lnTo>
                  <a:lnTo>
                    <a:pt x="794" y="574"/>
                  </a:lnTo>
                  <a:lnTo>
                    <a:pt x="786" y="581"/>
                  </a:lnTo>
                  <a:lnTo>
                    <a:pt x="769" y="604"/>
                  </a:lnTo>
                  <a:lnTo>
                    <a:pt x="742" y="674"/>
                  </a:lnTo>
                  <a:lnTo>
                    <a:pt x="719" y="754"/>
                  </a:lnTo>
                  <a:lnTo>
                    <a:pt x="706" y="789"/>
                  </a:lnTo>
                  <a:lnTo>
                    <a:pt x="694" y="814"/>
                  </a:lnTo>
                  <a:lnTo>
                    <a:pt x="677" y="810"/>
                  </a:lnTo>
                  <a:lnTo>
                    <a:pt x="669" y="816"/>
                  </a:lnTo>
                  <a:lnTo>
                    <a:pt x="658" y="835"/>
                  </a:lnTo>
                  <a:lnTo>
                    <a:pt x="602" y="1035"/>
                  </a:lnTo>
                  <a:lnTo>
                    <a:pt x="558" y="1212"/>
                  </a:lnTo>
                  <a:lnTo>
                    <a:pt x="496" y="1500"/>
                  </a:lnTo>
                  <a:lnTo>
                    <a:pt x="475" y="1608"/>
                  </a:lnTo>
                  <a:lnTo>
                    <a:pt x="454" y="1690"/>
                  </a:lnTo>
                  <a:lnTo>
                    <a:pt x="444" y="1723"/>
                  </a:lnTo>
                  <a:lnTo>
                    <a:pt x="433" y="1746"/>
                  </a:lnTo>
                  <a:lnTo>
                    <a:pt x="421" y="1765"/>
                  </a:lnTo>
                  <a:lnTo>
                    <a:pt x="408" y="1775"/>
                  </a:lnTo>
                  <a:lnTo>
                    <a:pt x="391" y="1767"/>
                  </a:lnTo>
                  <a:lnTo>
                    <a:pt x="391" y="1675"/>
                  </a:lnTo>
                  <a:lnTo>
                    <a:pt x="193" y="2110"/>
                  </a:lnTo>
                  <a:lnTo>
                    <a:pt x="185" y="2017"/>
                  </a:lnTo>
                  <a:lnTo>
                    <a:pt x="150" y="2021"/>
                  </a:lnTo>
                  <a:lnTo>
                    <a:pt x="100" y="2171"/>
                  </a:lnTo>
                  <a:lnTo>
                    <a:pt x="87" y="2200"/>
                  </a:lnTo>
                  <a:lnTo>
                    <a:pt x="83" y="2206"/>
                  </a:lnTo>
                  <a:lnTo>
                    <a:pt x="79" y="2206"/>
                  </a:lnTo>
                  <a:lnTo>
                    <a:pt x="77" y="2185"/>
                  </a:lnTo>
                  <a:lnTo>
                    <a:pt x="75" y="2156"/>
                  </a:lnTo>
                  <a:lnTo>
                    <a:pt x="70" y="2158"/>
                  </a:lnTo>
                  <a:lnTo>
                    <a:pt x="62" y="2171"/>
                  </a:lnTo>
                  <a:lnTo>
                    <a:pt x="50" y="2188"/>
                  </a:lnTo>
                  <a:lnTo>
                    <a:pt x="37" y="2200"/>
                  </a:lnTo>
                  <a:lnTo>
                    <a:pt x="22" y="2200"/>
                  </a:lnTo>
                  <a:lnTo>
                    <a:pt x="16" y="2192"/>
                  </a:lnTo>
                  <a:lnTo>
                    <a:pt x="12" y="2177"/>
                  </a:lnTo>
                  <a:lnTo>
                    <a:pt x="4" y="2127"/>
                  </a:lnTo>
                  <a:lnTo>
                    <a:pt x="0" y="2038"/>
                  </a:lnTo>
                  <a:lnTo>
                    <a:pt x="4" y="2013"/>
                  </a:lnTo>
                  <a:lnTo>
                    <a:pt x="14" y="1979"/>
                  </a:lnTo>
                  <a:lnTo>
                    <a:pt x="45" y="1913"/>
                  </a:lnTo>
                  <a:lnTo>
                    <a:pt x="77" y="1854"/>
                  </a:lnTo>
                  <a:lnTo>
                    <a:pt x="93" y="1827"/>
                  </a:lnTo>
                  <a:lnTo>
                    <a:pt x="110" y="1819"/>
                  </a:lnTo>
                  <a:lnTo>
                    <a:pt x="110" y="1731"/>
                  </a:lnTo>
                  <a:lnTo>
                    <a:pt x="112" y="1727"/>
                  </a:lnTo>
                  <a:lnTo>
                    <a:pt x="118" y="1723"/>
                  </a:lnTo>
                  <a:lnTo>
                    <a:pt x="129" y="1719"/>
                  </a:lnTo>
                  <a:lnTo>
                    <a:pt x="141" y="1711"/>
                  </a:lnTo>
                  <a:lnTo>
                    <a:pt x="118" y="1679"/>
                  </a:lnTo>
                  <a:lnTo>
                    <a:pt x="183" y="1511"/>
                  </a:lnTo>
                  <a:lnTo>
                    <a:pt x="198" y="1469"/>
                  </a:lnTo>
                  <a:lnTo>
                    <a:pt x="198" y="1471"/>
                  </a:lnTo>
                  <a:lnTo>
                    <a:pt x="204" y="1475"/>
                  </a:lnTo>
                  <a:lnTo>
                    <a:pt x="214" y="1467"/>
                  </a:lnTo>
                  <a:lnTo>
                    <a:pt x="227" y="1456"/>
                  </a:lnTo>
                  <a:lnTo>
                    <a:pt x="241" y="1440"/>
                  </a:lnTo>
                  <a:lnTo>
                    <a:pt x="252" y="1423"/>
                  </a:lnTo>
                  <a:lnTo>
                    <a:pt x="254" y="1415"/>
                  </a:lnTo>
                  <a:lnTo>
                    <a:pt x="252" y="1411"/>
                  </a:lnTo>
                  <a:lnTo>
                    <a:pt x="246" y="1404"/>
                  </a:lnTo>
                  <a:lnTo>
                    <a:pt x="239" y="1392"/>
                  </a:lnTo>
                  <a:lnTo>
                    <a:pt x="237" y="1375"/>
                  </a:lnTo>
                  <a:lnTo>
                    <a:pt x="243" y="1346"/>
                  </a:lnTo>
                  <a:lnTo>
                    <a:pt x="254" y="1300"/>
                  </a:lnTo>
                  <a:lnTo>
                    <a:pt x="379" y="928"/>
                  </a:lnTo>
                  <a:lnTo>
                    <a:pt x="439" y="760"/>
                  </a:lnTo>
                  <a:lnTo>
                    <a:pt x="471" y="685"/>
                  </a:lnTo>
                  <a:lnTo>
                    <a:pt x="506" y="587"/>
                  </a:lnTo>
                  <a:lnTo>
                    <a:pt x="448" y="612"/>
                  </a:lnTo>
                  <a:lnTo>
                    <a:pt x="379" y="643"/>
                  </a:lnTo>
                  <a:lnTo>
                    <a:pt x="344" y="654"/>
                  </a:lnTo>
                  <a:lnTo>
                    <a:pt x="312" y="662"/>
                  </a:lnTo>
                  <a:lnTo>
                    <a:pt x="300" y="662"/>
                  </a:lnTo>
                  <a:lnTo>
                    <a:pt x="287" y="658"/>
                  </a:lnTo>
                  <a:lnTo>
                    <a:pt x="277" y="654"/>
                  </a:lnTo>
                  <a:lnTo>
                    <a:pt x="268" y="643"/>
                  </a:lnTo>
                  <a:lnTo>
                    <a:pt x="260" y="608"/>
                  </a:lnTo>
                  <a:lnTo>
                    <a:pt x="158" y="599"/>
                  </a:lnTo>
                  <a:lnTo>
                    <a:pt x="150" y="562"/>
                  </a:lnTo>
                  <a:lnTo>
                    <a:pt x="135" y="545"/>
                  </a:lnTo>
                  <a:lnTo>
                    <a:pt x="118" y="539"/>
                  </a:lnTo>
                  <a:lnTo>
                    <a:pt x="102" y="539"/>
                  </a:lnTo>
                  <a:lnTo>
                    <a:pt x="87" y="539"/>
                  </a:lnTo>
                  <a:lnTo>
                    <a:pt x="81" y="537"/>
                  </a:lnTo>
                  <a:lnTo>
                    <a:pt x="77" y="531"/>
                  </a:lnTo>
                  <a:lnTo>
                    <a:pt x="70" y="512"/>
                  </a:lnTo>
                  <a:lnTo>
                    <a:pt x="70" y="472"/>
                  </a:lnTo>
                  <a:lnTo>
                    <a:pt x="77" y="429"/>
                  </a:lnTo>
                  <a:lnTo>
                    <a:pt x="81" y="416"/>
                  </a:lnTo>
                  <a:lnTo>
                    <a:pt x="100" y="416"/>
                  </a:lnTo>
                  <a:lnTo>
                    <a:pt x="137" y="408"/>
                  </a:lnTo>
                  <a:lnTo>
                    <a:pt x="158" y="397"/>
                  </a:lnTo>
                  <a:lnTo>
                    <a:pt x="164" y="391"/>
                  </a:lnTo>
                  <a:lnTo>
                    <a:pt x="170" y="383"/>
                  </a:lnTo>
                  <a:lnTo>
                    <a:pt x="181" y="368"/>
                  </a:lnTo>
                  <a:lnTo>
                    <a:pt x="187" y="349"/>
                  </a:lnTo>
                  <a:lnTo>
                    <a:pt x="200" y="314"/>
                  </a:lnTo>
                  <a:lnTo>
                    <a:pt x="212" y="297"/>
                  </a:lnTo>
                  <a:lnTo>
                    <a:pt x="229" y="285"/>
                  </a:lnTo>
                  <a:lnTo>
                    <a:pt x="369" y="222"/>
                  </a:lnTo>
                  <a:lnTo>
                    <a:pt x="562" y="149"/>
                  </a:lnTo>
                  <a:lnTo>
                    <a:pt x="746" y="87"/>
                  </a:lnTo>
                  <a:lnTo>
                    <a:pt x="813" y="68"/>
                  </a:lnTo>
                  <a:lnTo>
                    <a:pt x="856" y="58"/>
                  </a:lnTo>
                  <a:lnTo>
                    <a:pt x="948" y="54"/>
                  </a:lnTo>
                  <a:lnTo>
                    <a:pt x="1005" y="49"/>
                  </a:lnTo>
                  <a:lnTo>
                    <a:pt x="1027" y="45"/>
                  </a:lnTo>
                  <a:lnTo>
                    <a:pt x="1044" y="39"/>
                  </a:lnTo>
                  <a:lnTo>
                    <a:pt x="1080" y="10"/>
                  </a:lnTo>
                  <a:lnTo>
                    <a:pt x="1142" y="4"/>
                  </a:lnTo>
                  <a:lnTo>
                    <a:pt x="1192" y="0"/>
                  </a:lnTo>
                  <a:lnTo>
                    <a:pt x="1251" y="0"/>
                  </a:lnTo>
                  <a:lnTo>
                    <a:pt x="1315" y="6"/>
                  </a:lnTo>
                  <a:lnTo>
                    <a:pt x="1387" y="20"/>
                  </a:lnTo>
                  <a:lnTo>
                    <a:pt x="1458" y="43"/>
                  </a:lnTo>
                  <a:lnTo>
                    <a:pt x="1493" y="60"/>
                  </a:lnTo>
                  <a:lnTo>
                    <a:pt x="1529" y="79"/>
                  </a:lnTo>
                  <a:lnTo>
                    <a:pt x="1596" y="129"/>
                  </a:lnTo>
                  <a:lnTo>
                    <a:pt x="1652" y="179"/>
                  </a:lnTo>
                  <a:lnTo>
                    <a:pt x="1698" y="233"/>
                  </a:lnTo>
                  <a:lnTo>
                    <a:pt x="1733" y="289"/>
                  </a:lnTo>
                  <a:lnTo>
                    <a:pt x="1758" y="347"/>
                  </a:lnTo>
                  <a:lnTo>
                    <a:pt x="1769" y="408"/>
                  </a:lnTo>
                  <a:lnTo>
                    <a:pt x="1771" y="439"/>
                  </a:lnTo>
                  <a:lnTo>
                    <a:pt x="1771" y="468"/>
                  </a:lnTo>
                  <a:lnTo>
                    <a:pt x="1769" y="499"/>
                  </a:lnTo>
                  <a:lnTo>
                    <a:pt x="1760" y="531"/>
                  </a:lnTo>
                  <a:lnTo>
                    <a:pt x="1742" y="593"/>
                  </a:lnTo>
                  <a:lnTo>
                    <a:pt x="1710" y="654"/>
                  </a:lnTo>
                  <a:lnTo>
                    <a:pt x="1671" y="716"/>
                  </a:lnTo>
                  <a:lnTo>
                    <a:pt x="1644" y="747"/>
                  </a:lnTo>
                  <a:lnTo>
                    <a:pt x="1616" y="776"/>
                  </a:lnTo>
                  <a:lnTo>
                    <a:pt x="1587" y="806"/>
                  </a:lnTo>
                  <a:lnTo>
                    <a:pt x="1554" y="837"/>
                  </a:lnTo>
                  <a:lnTo>
                    <a:pt x="1481" y="895"/>
                  </a:lnTo>
                  <a:lnTo>
                    <a:pt x="1439" y="924"/>
                  </a:lnTo>
                  <a:lnTo>
                    <a:pt x="1395" y="951"/>
                  </a:lnTo>
                  <a:lnTo>
                    <a:pt x="1299" y="1006"/>
                  </a:lnTo>
                  <a:lnTo>
                    <a:pt x="1425" y="1128"/>
                  </a:lnTo>
                  <a:lnTo>
                    <a:pt x="1443" y="1151"/>
                  </a:lnTo>
                  <a:lnTo>
                    <a:pt x="1458" y="1174"/>
                  </a:lnTo>
                  <a:lnTo>
                    <a:pt x="1568" y="1309"/>
                  </a:lnTo>
                  <a:lnTo>
                    <a:pt x="1612" y="1356"/>
                  </a:lnTo>
                  <a:lnTo>
                    <a:pt x="1646" y="1390"/>
                  </a:lnTo>
                  <a:lnTo>
                    <a:pt x="1673" y="1413"/>
                  </a:lnTo>
                  <a:lnTo>
                    <a:pt x="1694" y="1427"/>
                  </a:lnTo>
                  <a:lnTo>
                    <a:pt x="1729" y="1444"/>
                  </a:lnTo>
                  <a:lnTo>
                    <a:pt x="1746" y="1452"/>
                  </a:lnTo>
                  <a:lnTo>
                    <a:pt x="1764" y="1465"/>
                  </a:lnTo>
                  <a:lnTo>
                    <a:pt x="1865" y="1583"/>
                  </a:lnTo>
                  <a:lnTo>
                    <a:pt x="2038" y="1719"/>
                  </a:lnTo>
                  <a:lnTo>
                    <a:pt x="2146" y="1827"/>
                  </a:lnTo>
                  <a:lnTo>
                    <a:pt x="2225" y="1906"/>
                  </a:lnTo>
                  <a:lnTo>
                    <a:pt x="2292" y="1963"/>
                  </a:lnTo>
                  <a:lnTo>
                    <a:pt x="2446" y="2085"/>
                  </a:lnTo>
                  <a:lnTo>
                    <a:pt x="2534" y="2156"/>
                  </a:lnTo>
                  <a:lnTo>
                    <a:pt x="2559" y="2179"/>
                  </a:lnTo>
                  <a:lnTo>
                    <a:pt x="2578" y="2198"/>
                  </a:lnTo>
                  <a:lnTo>
                    <a:pt x="2590" y="2217"/>
                  </a:lnTo>
                  <a:lnTo>
                    <a:pt x="2599" y="223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76800" y="5589720"/>
              <a:ext cx="503640" cy="748080"/>
            </a:xfrm>
            <a:custGeom>
              <a:avLst/>
              <a:gdLst/>
              <a:ahLst/>
              <a:rect l="0" t="0" r="r" b="b"/>
              <a:pathLst>
                <a:path w="1399" h="2078">
                  <a:moveTo>
                    <a:pt x="1385" y="140"/>
                  </a:moveTo>
                  <a:lnTo>
                    <a:pt x="1393" y="161"/>
                  </a:lnTo>
                  <a:lnTo>
                    <a:pt x="1397" y="184"/>
                  </a:lnTo>
                  <a:lnTo>
                    <a:pt x="1399" y="236"/>
                  </a:lnTo>
                  <a:lnTo>
                    <a:pt x="1397" y="301"/>
                  </a:lnTo>
                  <a:lnTo>
                    <a:pt x="1391" y="374"/>
                  </a:lnTo>
                  <a:lnTo>
                    <a:pt x="1372" y="560"/>
                  </a:lnTo>
                  <a:lnTo>
                    <a:pt x="1355" y="798"/>
                  </a:lnTo>
                  <a:lnTo>
                    <a:pt x="1345" y="1286"/>
                  </a:lnTo>
                  <a:lnTo>
                    <a:pt x="1343" y="1601"/>
                  </a:lnTo>
                  <a:lnTo>
                    <a:pt x="1337" y="1687"/>
                  </a:lnTo>
                  <a:lnTo>
                    <a:pt x="1332" y="1712"/>
                  </a:lnTo>
                  <a:lnTo>
                    <a:pt x="1326" y="1718"/>
                  </a:lnTo>
                  <a:lnTo>
                    <a:pt x="1322" y="1723"/>
                  </a:lnTo>
                  <a:lnTo>
                    <a:pt x="1318" y="1723"/>
                  </a:lnTo>
                  <a:lnTo>
                    <a:pt x="1311" y="1720"/>
                  </a:lnTo>
                  <a:lnTo>
                    <a:pt x="1297" y="1704"/>
                  </a:lnTo>
                  <a:lnTo>
                    <a:pt x="1259" y="1633"/>
                  </a:lnTo>
                  <a:lnTo>
                    <a:pt x="1226" y="1817"/>
                  </a:lnTo>
                  <a:lnTo>
                    <a:pt x="1207" y="1804"/>
                  </a:lnTo>
                  <a:lnTo>
                    <a:pt x="1194" y="1794"/>
                  </a:lnTo>
                  <a:lnTo>
                    <a:pt x="1190" y="1779"/>
                  </a:lnTo>
                  <a:lnTo>
                    <a:pt x="1186" y="1764"/>
                  </a:lnTo>
                  <a:lnTo>
                    <a:pt x="1186" y="1731"/>
                  </a:lnTo>
                  <a:lnTo>
                    <a:pt x="1186" y="1689"/>
                  </a:lnTo>
                  <a:lnTo>
                    <a:pt x="1146" y="1618"/>
                  </a:lnTo>
                  <a:lnTo>
                    <a:pt x="1142" y="1643"/>
                  </a:lnTo>
                  <a:lnTo>
                    <a:pt x="1136" y="1660"/>
                  </a:lnTo>
                  <a:lnTo>
                    <a:pt x="1129" y="1668"/>
                  </a:lnTo>
                  <a:lnTo>
                    <a:pt x="1121" y="1674"/>
                  </a:lnTo>
                  <a:lnTo>
                    <a:pt x="1115" y="1672"/>
                  </a:lnTo>
                  <a:lnTo>
                    <a:pt x="1106" y="1666"/>
                  </a:lnTo>
                  <a:lnTo>
                    <a:pt x="1094" y="1645"/>
                  </a:lnTo>
                  <a:lnTo>
                    <a:pt x="1071" y="1582"/>
                  </a:lnTo>
                  <a:lnTo>
                    <a:pt x="1065" y="1554"/>
                  </a:lnTo>
                  <a:lnTo>
                    <a:pt x="1062" y="1531"/>
                  </a:lnTo>
                  <a:lnTo>
                    <a:pt x="1079" y="1510"/>
                  </a:lnTo>
                  <a:lnTo>
                    <a:pt x="1079" y="1458"/>
                  </a:lnTo>
                  <a:lnTo>
                    <a:pt x="1054" y="1391"/>
                  </a:lnTo>
                  <a:lnTo>
                    <a:pt x="1054" y="1024"/>
                  </a:lnTo>
                  <a:lnTo>
                    <a:pt x="1045" y="964"/>
                  </a:lnTo>
                  <a:lnTo>
                    <a:pt x="835" y="1041"/>
                  </a:lnTo>
                  <a:lnTo>
                    <a:pt x="714" y="1083"/>
                  </a:lnTo>
                  <a:lnTo>
                    <a:pt x="653" y="1106"/>
                  </a:lnTo>
                  <a:lnTo>
                    <a:pt x="639" y="1114"/>
                  </a:lnTo>
                  <a:lnTo>
                    <a:pt x="630" y="1123"/>
                  </a:lnTo>
                  <a:lnTo>
                    <a:pt x="349" y="1720"/>
                  </a:lnTo>
                  <a:lnTo>
                    <a:pt x="255" y="1942"/>
                  </a:lnTo>
                  <a:lnTo>
                    <a:pt x="238" y="1982"/>
                  </a:lnTo>
                  <a:lnTo>
                    <a:pt x="200" y="2032"/>
                  </a:lnTo>
                  <a:lnTo>
                    <a:pt x="219" y="1924"/>
                  </a:lnTo>
                  <a:lnTo>
                    <a:pt x="228" y="1838"/>
                  </a:lnTo>
                  <a:lnTo>
                    <a:pt x="232" y="1794"/>
                  </a:lnTo>
                  <a:lnTo>
                    <a:pt x="198" y="1838"/>
                  </a:lnTo>
                  <a:lnTo>
                    <a:pt x="113" y="2032"/>
                  </a:lnTo>
                  <a:lnTo>
                    <a:pt x="96" y="2026"/>
                  </a:lnTo>
                  <a:lnTo>
                    <a:pt x="89" y="2020"/>
                  </a:lnTo>
                  <a:lnTo>
                    <a:pt x="87" y="2011"/>
                  </a:lnTo>
                  <a:lnTo>
                    <a:pt x="89" y="2003"/>
                  </a:lnTo>
                  <a:lnTo>
                    <a:pt x="104" y="1982"/>
                  </a:lnTo>
                  <a:lnTo>
                    <a:pt x="113" y="1968"/>
                  </a:lnTo>
                  <a:lnTo>
                    <a:pt x="115" y="1951"/>
                  </a:lnTo>
                  <a:lnTo>
                    <a:pt x="110" y="1924"/>
                  </a:lnTo>
                  <a:lnTo>
                    <a:pt x="104" y="1917"/>
                  </a:lnTo>
                  <a:lnTo>
                    <a:pt x="98" y="1928"/>
                  </a:lnTo>
                  <a:lnTo>
                    <a:pt x="89" y="1949"/>
                  </a:lnTo>
                  <a:lnTo>
                    <a:pt x="77" y="1980"/>
                  </a:lnTo>
                  <a:lnTo>
                    <a:pt x="60" y="2014"/>
                  </a:lnTo>
                  <a:lnTo>
                    <a:pt x="37" y="2047"/>
                  </a:lnTo>
                  <a:lnTo>
                    <a:pt x="23" y="2064"/>
                  </a:lnTo>
                  <a:lnTo>
                    <a:pt x="6" y="2078"/>
                  </a:lnTo>
                  <a:lnTo>
                    <a:pt x="0" y="1959"/>
                  </a:lnTo>
                  <a:lnTo>
                    <a:pt x="0" y="1934"/>
                  </a:lnTo>
                  <a:lnTo>
                    <a:pt x="2" y="1924"/>
                  </a:lnTo>
                  <a:lnTo>
                    <a:pt x="16" y="1909"/>
                  </a:lnTo>
                  <a:lnTo>
                    <a:pt x="31" y="1892"/>
                  </a:lnTo>
                  <a:lnTo>
                    <a:pt x="46" y="1852"/>
                  </a:lnTo>
                  <a:lnTo>
                    <a:pt x="50" y="1806"/>
                  </a:lnTo>
                  <a:lnTo>
                    <a:pt x="79" y="1781"/>
                  </a:lnTo>
                  <a:lnTo>
                    <a:pt x="92" y="1767"/>
                  </a:lnTo>
                  <a:lnTo>
                    <a:pt x="98" y="1754"/>
                  </a:lnTo>
                  <a:lnTo>
                    <a:pt x="104" y="1737"/>
                  </a:lnTo>
                  <a:lnTo>
                    <a:pt x="113" y="1708"/>
                  </a:lnTo>
                  <a:lnTo>
                    <a:pt x="129" y="1660"/>
                  </a:lnTo>
                  <a:lnTo>
                    <a:pt x="167" y="1586"/>
                  </a:lnTo>
                  <a:lnTo>
                    <a:pt x="223" y="1479"/>
                  </a:lnTo>
                  <a:lnTo>
                    <a:pt x="301" y="1340"/>
                  </a:lnTo>
                  <a:lnTo>
                    <a:pt x="343" y="1255"/>
                  </a:lnTo>
                  <a:lnTo>
                    <a:pt x="363" y="1209"/>
                  </a:lnTo>
                  <a:lnTo>
                    <a:pt x="373" y="1179"/>
                  </a:lnTo>
                  <a:lnTo>
                    <a:pt x="390" y="1148"/>
                  </a:lnTo>
                  <a:lnTo>
                    <a:pt x="345" y="1139"/>
                  </a:lnTo>
                  <a:lnTo>
                    <a:pt x="336" y="1135"/>
                  </a:lnTo>
                  <a:lnTo>
                    <a:pt x="334" y="1133"/>
                  </a:lnTo>
                  <a:lnTo>
                    <a:pt x="334" y="1123"/>
                  </a:lnTo>
                  <a:lnTo>
                    <a:pt x="334" y="1114"/>
                  </a:lnTo>
                  <a:lnTo>
                    <a:pt x="326" y="1100"/>
                  </a:lnTo>
                  <a:lnTo>
                    <a:pt x="320" y="1083"/>
                  </a:lnTo>
                  <a:lnTo>
                    <a:pt x="322" y="1075"/>
                  </a:lnTo>
                  <a:lnTo>
                    <a:pt x="328" y="1068"/>
                  </a:lnTo>
                  <a:lnTo>
                    <a:pt x="345" y="1060"/>
                  </a:lnTo>
                  <a:lnTo>
                    <a:pt x="367" y="1052"/>
                  </a:lnTo>
                  <a:lnTo>
                    <a:pt x="423" y="1037"/>
                  </a:lnTo>
                  <a:lnTo>
                    <a:pt x="450" y="1029"/>
                  </a:lnTo>
                  <a:lnTo>
                    <a:pt x="469" y="1016"/>
                  </a:lnTo>
                  <a:lnTo>
                    <a:pt x="522" y="924"/>
                  </a:lnTo>
                  <a:lnTo>
                    <a:pt x="522" y="880"/>
                  </a:lnTo>
                  <a:lnTo>
                    <a:pt x="566" y="836"/>
                  </a:lnTo>
                  <a:lnTo>
                    <a:pt x="574" y="825"/>
                  </a:lnTo>
                  <a:lnTo>
                    <a:pt x="574" y="817"/>
                  </a:lnTo>
                  <a:lnTo>
                    <a:pt x="574" y="796"/>
                  </a:lnTo>
                  <a:lnTo>
                    <a:pt x="578" y="779"/>
                  </a:lnTo>
                  <a:lnTo>
                    <a:pt x="586" y="750"/>
                  </a:lnTo>
                  <a:lnTo>
                    <a:pt x="658" y="641"/>
                  </a:lnTo>
                  <a:lnTo>
                    <a:pt x="683" y="593"/>
                  </a:lnTo>
                  <a:lnTo>
                    <a:pt x="699" y="572"/>
                  </a:lnTo>
                  <a:lnTo>
                    <a:pt x="722" y="541"/>
                  </a:lnTo>
                  <a:lnTo>
                    <a:pt x="758" y="483"/>
                  </a:lnTo>
                  <a:lnTo>
                    <a:pt x="762" y="456"/>
                  </a:lnTo>
                  <a:lnTo>
                    <a:pt x="785" y="443"/>
                  </a:lnTo>
                  <a:lnTo>
                    <a:pt x="848" y="299"/>
                  </a:lnTo>
                  <a:lnTo>
                    <a:pt x="869" y="263"/>
                  </a:lnTo>
                  <a:lnTo>
                    <a:pt x="882" y="242"/>
                  </a:lnTo>
                  <a:lnTo>
                    <a:pt x="902" y="224"/>
                  </a:lnTo>
                  <a:lnTo>
                    <a:pt x="913" y="211"/>
                  </a:lnTo>
                  <a:lnTo>
                    <a:pt x="928" y="188"/>
                  </a:lnTo>
                  <a:lnTo>
                    <a:pt x="944" y="157"/>
                  </a:lnTo>
                  <a:lnTo>
                    <a:pt x="955" y="129"/>
                  </a:lnTo>
                  <a:lnTo>
                    <a:pt x="963" y="90"/>
                  </a:lnTo>
                  <a:lnTo>
                    <a:pt x="967" y="81"/>
                  </a:lnTo>
                  <a:lnTo>
                    <a:pt x="976" y="73"/>
                  </a:lnTo>
                  <a:lnTo>
                    <a:pt x="988" y="69"/>
                  </a:lnTo>
                  <a:lnTo>
                    <a:pt x="1011" y="69"/>
                  </a:lnTo>
                  <a:lnTo>
                    <a:pt x="1024" y="69"/>
                  </a:lnTo>
                  <a:lnTo>
                    <a:pt x="1032" y="75"/>
                  </a:lnTo>
                  <a:lnTo>
                    <a:pt x="1034" y="79"/>
                  </a:lnTo>
                  <a:lnTo>
                    <a:pt x="1036" y="85"/>
                  </a:lnTo>
                  <a:lnTo>
                    <a:pt x="1038" y="104"/>
                  </a:lnTo>
                  <a:lnTo>
                    <a:pt x="1045" y="121"/>
                  </a:lnTo>
                  <a:lnTo>
                    <a:pt x="1050" y="125"/>
                  </a:lnTo>
                  <a:lnTo>
                    <a:pt x="1056" y="121"/>
                  </a:lnTo>
                  <a:lnTo>
                    <a:pt x="1067" y="90"/>
                  </a:lnTo>
                  <a:lnTo>
                    <a:pt x="1073" y="73"/>
                  </a:lnTo>
                  <a:lnTo>
                    <a:pt x="1083" y="56"/>
                  </a:lnTo>
                  <a:lnTo>
                    <a:pt x="1096" y="41"/>
                  </a:lnTo>
                  <a:lnTo>
                    <a:pt x="1111" y="33"/>
                  </a:lnTo>
                  <a:lnTo>
                    <a:pt x="1148" y="35"/>
                  </a:lnTo>
                  <a:lnTo>
                    <a:pt x="1171" y="39"/>
                  </a:lnTo>
                  <a:lnTo>
                    <a:pt x="1184" y="39"/>
                  </a:lnTo>
                  <a:lnTo>
                    <a:pt x="1201" y="35"/>
                  </a:lnTo>
                  <a:lnTo>
                    <a:pt x="1257" y="8"/>
                  </a:lnTo>
                  <a:lnTo>
                    <a:pt x="1270" y="2"/>
                  </a:lnTo>
                  <a:lnTo>
                    <a:pt x="1293" y="0"/>
                  </a:lnTo>
                  <a:lnTo>
                    <a:pt x="1322" y="2"/>
                  </a:lnTo>
                  <a:lnTo>
                    <a:pt x="1335" y="8"/>
                  </a:lnTo>
                  <a:lnTo>
                    <a:pt x="1343" y="16"/>
                  </a:lnTo>
                  <a:lnTo>
                    <a:pt x="1349" y="33"/>
                  </a:lnTo>
                  <a:lnTo>
                    <a:pt x="1349" y="52"/>
                  </a:lnTo>
                  <a:lnTo>
                    <a:pt x="1345" y="90"/>
                  </a:lnTo>
                  <a:lnTo>
                    <a:pt x="1347" y="108"/>
                  </a:lnTo>
                  <a:lnTo>
                    <a:pt x="1353" y="123"/>
                  </a:lnTo>
                  <a:lnTo>
                    <a:pt x="1358" y="129"/>
                  </a:lnTo>
                  <a:lnTo>
                    <a:pt x="1366" y="133"/>
                  </a:lnTo>
                  <a:lnTo>
                    <a:pt x="1385" y="14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602400" y="5607000"/>
              <a:ext cx="405000" cy="594000"/>
            </a:xfrm>
            <a:custGeom>
              <a:avLst/>
              <a:gdLst/>
              <a:ahLst/>
              <a:rect l="0" t="0" r="r" b="b"/>
              <a:pathLst>
                <a:path w="1125" h="1650">
                  <a:moveTo>
                    <a:pt x="980" y="207"/>
                  </a:moveTo>
                  <a:lnTo>
                    <a:pt x="988" y="234"/>
                  </a:lnTo>
                  <a:lnTo>
                    <a:pt x="986" y="253"/>
                  </a:lnTo>
                  <a:lnTo>
                    <a:pt x="980" y="267"/>
                  </a:lnTo>
                  <a:lnTo>
                    <a:pt x="966" y="278"/>
                  </a:lnTo>
                  <a:lnTo>
                    <a:pt x="920" y="294"/>
                  </a:lnTo>
                  <a:lnTo>
                    <a:pt x="856" y="309"/>
                  </a:lnTo>
                  <a:lnTo>
                    <a:pt x="771" y="334"/>
                  </a:lnTo>
                  <a:lnTo>
                    <a:pt x="721" y="353"/>
                  </a:lnTo>
                  <a:lnTo>
                    <a:pt x="667" y="378"/>
                  </a:lnTo>
                  <a:lnTo>
                    <a:pt x="609" y="411"/>
                  </a:lnTo>
                  <a:lnTo>
                    <a:pt x="546" y="450"/>
                  </a:lnTo>
                  <a:lnTo>
                    <a:pt x="482" y="500"/>
                  </a:lnTo>
                  <a:lnTo>
                    <a:pt x="414" y="560"/>
                  </a:lnTo>
                  <a:lnTo>
                    <a:pt x="378" y="600"/>
                  </a:lnTo>
                  <a:lnTo>
                    <a:pt x="345" y="643"/>
                  </a:lnTo>
                  <a:lnTo>
                    <a:pt x="316" y="689"/>
                  </a:lnTo>
                  <a:lnTo>
                    <a:pt x="291" y="739"/>
                  </a:lnTo>
                  <a:lnTo>
                    <a:pt x="273" y="791"/>
                  </a:lnTo>
                  <a:lnTo>
                    <a:pt x="254" y="842"/>
                  </a:lnTo>
                  <a:lnTo>
                    <a:pt x="244" y="896"/>
                  </a:lnTo>
                  <a:lnTo>
                    <a:pt x="236" y="948"/>
                  </a:lnTo>
                  <a:lnTo>
                    <a:pt x="231" y="1052"/>
                  </a:lnTo>
                  <a:lnTo>
                    <a:pt x="236" y="1099"/>
                  </a:lnTo>
                  <a:lnTo>
                    <a:pt x="244" y="1147"/>
                  </a:lnTo>
                  <a:lnTo>
                    <a:pt x="254" y="1189"/>
                  </a:lnTo>
                  <a:lnTo>
                    <a:pt x="271" y="1228"/>
                  </a:lnTo>
                  <a:lnTo>
                    <a:pt x="291" y="1263"/>
                  </a:lnTo>
                  <a:lnTo>
                    <a:pt x="314" y="1292"/>
                  </a:lnTo>
                  <a:lnTo>
                    <a:pt x="370" y="1346"/>
                  </a:lnTo>
                  <a:lnTo>
                    <a:pt x="426" y="1390"/>
                  </a:lnTo>
                  <a:lnTo>
                    <a:pt x="488" y="1427"/>
                  </a:lnTo>
                  <a:lnTo>
                    <a:pt x="550" y="1450"/>
                  </a:lnTo>
                  <a:lnTo>
                    <a:pt x="616" y="1461"/>
                  </a:lnTo>
                  <a:lnTo>
                    <a:pt x="649" y="1461"/>
                  </a:lnTo>
                  <a:lnTo>
                    <a:pt x="680" y="1454"/>
                  </a:lnTo>
                  <a:lnTo>
                    <a:pt x="713" y="1446"/>
                  </a:lnTo>
                  <a:lnTo>
                    <a:pt x="746" y="1432"/>
                  </a:lnTo>
                  <a:lnTo>
                    <a:pt x="781" y="1413"/>
                  </a:lnTo>
                  <a:lnTo>
                    <a:pt x="814" y="1388"/>
                  </a:lnTo>
                  <a:lnTo>
                    <a:pt x="796" y="1355"/>
                  </a:lnTo>
                  <a:lnTo>
                    <a:pt x="787" y="1330"/>
                  </a:lnTo>
                  <a:lnTo>
                    <a:pt x="781" y="1292"/>
                  </a:lnTo>
                  <a:lnTo>
                    <a:pt x="783" y="1238"/>
                  </a:lnTo>
                  <a:lnTo>
                    <a:pt x="792" y="1164"/>
                  </a:lnTo>
                  <a:lnTo>
                    <a:pt x="810" y="1066"/>
                  </a:lnTo>
                  <a:lnTo>
                    <a:pt x="841" y="939"/>
                  </a:lnTo>
                  <a:lnTo>
                    <a:pt x="736" y="958"/>
                  </a:lnTo>
                  <a:lnTo>
                    <a:pt x="651" y="979"/>
                  </a:lnTo>
                  <a:lnTo>
                    <a:pt x="587" y="1002"/>
                  </a:lnTo>
                  <a:lnTo>
                    <a:pt x="538" y="1022"/>
                  </a:lnTo>
                  <a:lnTo>
                    <a:pt x="480" y="1052"/>
                  </a:lnTo>
                  <a:lnTo>
                    <a:pt x="461" y="1058"/>
                  </a:lnTo>
                  <a:lnTo>
                    <a:pt x="445" y="1054"/>
                  </a:lnTo>
                  <a:lnTo>
                    <a:pt x="436" y="1047"/>
                  </a:lnTo>
                  <a:lnTo>
                    <a:pt x="434" y="1041"/>
                  </a:lnTo>
                  <a:lnTo>
                    <a:pt x="439" y="1037"/>
                  </a:lnTo>
                  <a:lnTo>
                    <a:pt x="445" y="1031"/>
                  </a:lnTo>
                  <a:lnTo>
                    <a:pt x="465" y="1020"/>
                  </a:lnTo>
                  <a:lnTo>
                    <a:pt x="484" y="1006"/>
                  </a:lnTo>
                  <a:lnTo>
                    <a:pt x="540" y="906"/>
                  </a:lnTo>
                  <a:lnTo>
                    <a:pt x="578" y="887"/>
                  </a:lnTo>
                  <a:lnTo>
                    <a:pt x="593" y="875"/>
                  </a:lnTo>
                  <a:lnTo>
                    <a:pt x="599" y="865"/>
                  </a:lnTo>
                  <a:lnTo>
                    <a:pt x="616" y="848"/>
                  </a:lnTo>
                  <a:lnTo>
                    <a:pt x="711" y="814"/>
                  </a:lnTo>
                  <a:lnTo>
                    <a:pt x="717" y="789"/>
                  </a:lnTo>
                  <a:lnTo>
                    <a:pt x="719" y="787"/>
                  </a:lnTo>
                  <a:lnTo>
                    <a:pt x="742" y="789"/>
                  </a:lnTo>
                  <a:lnTo>
                    <a:pt x="767" y="785"/>
                  </a:lnTo>
                  <a:lnTo>
                    <a:pt x="802" y="774"/>
                  </a:lnTo>
                  <a:lnTo>
                    <a:pt x="852" y="758"/>
                  </a:lnTo>
                  <a:lnTo>
                    <a:pt x="891" y="737"/>
                  </a:lnTo>
                  <a:lnTo>
                    <a:pt x="922" y="716"/>
                  </a:lnTo>
                  <a:lnTo>
                    <a:pt x="947" y="695"/>
                  </a:lnTo>
                  <a:lnTo>
                    <a:pt x="986" y="668"/>
                  </a:lnTo>
                  <a:lnTo>
                    <a:pt x="1001" y="662"/>
                  </a:lnTo>
                  <a:lnTo>
                    <a:pt x="1015" y="664"/>
                  </a:lnTo>
                  <a:lnTo>
                    <a:pt x="1030" y="675"/>
                  </a:lnTo>
                  <a:lnTo>
                    <a:pt x="1038" y="685"/>
                  </a:lnTo>
                  <a:lnTo>
                    <a:pt x="1044" y="704"/>
                  </a:lnTo>
                  <a:lnTo>
                    <a:pt x="1048" y="716"/>
                  </a:lnTo>
                  <a:lnTo>
                    <a:pt x="1055" y="718"/>
                  </a:lnTo>
                  <a:lnTo>
                    <a:pt x="1063" y="712"/>
                  </a:lnTo>
                  <a:lnTo>
                    <a:pt x="1094" y="687"/>
                  </a:lnTo>
                  <a:lnTo>
                    <a:pt x="1125" y="691"/>
                  </a:lnTo>
                  <a:lnTo>
                    <a:pt x="1115" y="812"/>
                  </a:lnTo>
                  <a:lnTo>
                    <a:pt x="1098" y="914"/>
                  </a:lnTo>
                  <a:lnTo>
                    <a:pt x="1055" y="1085"/>
                  </a:lnTo>
                  <a:lnTo>
                    <a:pt x="1036" y="1164"/>
                  </a:lnTo>
                  <a:lnTo>
                    <a:pt x="1021" y="1247"/>
                  </a:lnTo>
                  <a:lnTo>
                    <a:pt x="1013" y="1340"/>
                  </a:lnTo>
                  <a:lnTo>
                    <a:pt x="1015" y="1448"/>
                  </a:lnTo>
                  <a:lnTo>
                    <a:pt x="1028" y="1575"/>
                  </a:lnTo>
                  <a:lnTo>
                    <a:pt x="1034" y="1623"/>
                  </a:lnTo>
                  <a:lnTo>
                    <a:pt x="1032" y="1631"/>
                  </a:lnTo>
                  <a:lnTo>
                    <a:pt x="1028" y="1631"/>
                  </a:lnTo>
                  <a:lnTo>
                    <a:pt x="1007" y="1637"/>
                  </a:lnTo>
                  <a:lnTo>
                    <a:pt x="997" y="1614"/>
                  </a:lnTo>
                  <a:lnTo>
                    <a:pt x="986" y="1610"/>
                  </a:lnTo>
                  <a:lnTo>
                    <a:pt x="974" y="1614"/>
                  </a:lnTo>
                  <a:lnTo>
                    <a:pt x="968" y="1612"/>
                  </a:lnTo>
                  <a:lnTo>
                    <a:pt x="959" y="1606"/>
                  </a:lnTo>
                  <a:lnTo>
                    <a:pt x="941" y="1554"/>
                  </a:lnTo>
                  <a:lnTo>
                    <a:pt x="928" y="1548"/>
                  </a:lnTo>
                  <a:lnTo>
                    <a:pt x="914" y="1535"/>
                  </a:lnTo>
                  <a:lnTo>
                    <a:pt x="885" y="1511"/>
                  </a:lnTo>
                  <a:lnTo>
                    <a:pt x="858" y="1492"/>
                  </a:lnTo>
                  <a:lnTo>
                    <a:pt x="847" y="1488"/>
                  </a:lnTo>
                  <a:lnTo>
                    <a:pt x="837" y="1488"/>
                  </a:lnTo>
                  <a:lnTo>
                    <a:pt x="818" y="1504"/>
                  </a:lnTo>
                  <a:lnTo>
                    <a:pt x="804" y="1527"/>
                  </a:lnTo>
                  <a:lnTo>
                    <a:pt x="787" y="1552"/>
                  </a:lnTo>
                  <a:lnTo>
                    <a:pt x="767" y="1579"/>
                  </a:lnTo>
                  <a:lnTo>
                    <a:pt x="756" y="1592"/>
                  </a:lnTo>
                  <a:lnTo>
                    <a:pt x="740" y="1604"/>
                  </a:lnTo>
                  <a:lnTo>
                    <a:pt x="703" y="1625"/>
                  </a:lnTo>
                  <a:lnTo>
                    <a:pt x="653" y="1641"/>
                  </a:lnTo>
                  <a:lnTo>
                    <a:pt x="620" y="1648"/>
                  </a:lnTo>
                  <a:lnTo>
                    <a:pt x="584" y="1650"/>
                  </a:lnTo>
                  <a:lnTo>
                    <a:pt x="536" y="1648"/>
                  </a:lnTo>
                  <a:lnTo>
                    <a:pt x="484" y="1644"/>
                  </a:lnTo>
                  <a:lnTo>
                    <a:pt x="436" y="1633"/>
                  </a:lnTo>
                  <a:lnTo>
                    <a:pt x="387" y="1617"/>
                  </a:lnTo>
                  <a:lnTo>
                    <a:pt x="341" y="1598"/>
                  </a:lnTo>
                  <a:lnTo>
                    <a:pt x="294" y="1573"/>
                  </a:lnTo>
                  <a:lnTo>
                    <a:pt x="250" y="1542"/>
                  </a:lnTo>
                  <a:lnTo>
                    <a:pt x="209" y="1506"/>
                  </a:lnTo>
                  <a:lnTo>
                    <a:pt x="171" y="1469"/>
                  </a:lnTo>
                  <a:lnTo>
                    <a:pt x="134" y="1423"/>
                  </a:lnTo>
                  <a:lnTo>
                    <a:pt x="101" y="1376"/>
                  </a:lnTo>
                  <a:lnTo>
                    <a:pt x="72" y="1324"/>
                  </a:lnTo>
                  <a:lnTo>
                    <a:pt x="49" y="1265"/>
                  </a:lnTo>
                  <a:lnTo>
                    <a:pt x="28" y="1203"/>
                  </a:lnTo>
                  <a:lnTo>
                    <a:pt x="14" y="1137"/>
                  </a:lnTo>
                  <a:lnTo>
                    <a:pt x="4" y="1066"/>
                  </a:lnTo>
                  <a:lnTo>
                    <a:pt x="0" y="973"/>
                  </a:lnTo>
                  <a:lnTo>
                    <a:pt x="4" y="883"/>
                  </a:lnTo>
                  <a:lnTo>
                    <a:pt x="16" y="799"/>
                  </a:lnTo>
                  <a:lnTo>
                    <a:pt x="33" y="720"/>
                  </a:lnTo>
                  <a:lnTo>
                    <a:pt x="57" y="648"/>
                  </a:lnTo>
                  <a:lnTo>
                    <a:pt x="84" y="579"/>
                  </a:lnTo>
                  <a:lnTo>
                    <a:pt x="115" y="517"/>
                  </a:lnTo>
                  <a:lnTo>
                    <a:pt x="149" y="459"/>
                  </a:lnTo>
                  <a:lnTo>
                    <a:pt x="215" y="357"/>
                  </a:lnTo>
                  <a:lnTo>
                    <a:pt x="281" y="276"/>
                  </a:lnTo>
                  <a:lnTo>
                    <a:pt x="333" y="218"/>
                  </a:lnTo>
                  <a:lnTo>
                    <a:pt x="366" y="180"/>
                  </a:lnTo>
                  <a:lnTo>
                    <a:pt x="403" y="143"/>
                  </a:lnTo>
                  <a:lnTo>
                    <a:pt x="434" y="118"/>
                  </a:lnTo>
                  <a:lnTo>
                    <a:pt x="478" y="91"/>
                  </a:lnTo>
                  <a:lnTo>
                    <a:pt x="532" y="64"/>
                  </a:lnTo>
                  <a:lnTo>
                    <a:pt x="599" y="37"/>
                  </a:lnTo>
                  <a:lnTo>
                    <a:pt x="678" y="16"/>
                  </a:lnTo>
                  <a:lnTo>
                    <a:pt x="767" y="0"/>
                  </a:lnTo>
                  <a:lnTo>
                    <a:pt x="790" y="0"/>
                  </a:lnTo>
                  <a:lnTo>
                    <a:pt x="798" y="4"/>
                  </a:lnTo>
                  <a:lnTo>
                    <a:pt x="804" y="12"/>
                  </a:lnTo>
                  <a:lnTo>
                    <a:pt x="821" y="24"/>
                  </a:lnTo>
                  <a:lnTo>
                    <a:pt x="876" y="37"/>
                  </a:lnTo>
                  <a:lnTo>
                    <a:pt x="887" y="54"/>
                  </a:lnTo>
                  <a:lnTo>
                    <a:pt x="889" y="62"/>
                  </a:lnTo>
                  <a:lnTo>
                    <a:pt x="887" y="68"/>
                  </a:lnTo>
                  <a:lnTo>
                    <a:pt x="887" y="74"/>
                  </a:lnTo>
                  <a:lnTo>
                    <a:pt x="891" y="83"/>
                  </a:lnTo>
                  <a:lnTo>
                    <a:pt x="924" y="120"/>
                  </a:lnTo>
                  <a:lnTo>
                    <a:pt x="949" y="147"/>
                  </a:lnTo>
                  <a:lnTo>
                    <a:pt x="959" y="153"/>
                  </a:lnTo>
                  <a:lnTo>
                    <a:pt x="972" y="149"/>
                  </a:lnTo>
                  <a:lnTo>
                    <a:pt x="999" y="151"/>
                  </a:lnTo>
                  <a:lnTo>
                    <a:pt x="1007" y="153"/>
                  </a:lnTo>
                  <a:lnTo>
                    <a:pt x="1011" y="157"/>
                  </a:lnTo>
                  <a:lnTo>
                    <a:pt x="1013" y="166"/>
                  </a:lnTo>
                  <a:lnTo>
                    <a:pt x="1013" y="172"/>
                  </a:lnTo>
                  <a:lnTo>
                    <a:pt x="1003" y="191"/>
                  </a:lnTo>
                  <a:lnTo>
                    <a:pt x="995" y="199"/>
                  </a:lnTo>
                  <a:lnTo>
                    <a:pt x="980" y="20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613640" y="5740560"/>
              <a:ext cx="100440" cy="119520"/>
            </a:xfrm>
            <a:custGeom>
              <a:avLst/>
              <a:gdLst/>
              <a:ahLst/>
              <a:rect l="0" t="0" r="r" b="b"/>
              <a:pathLst>
                <a:path w="279" h="332">
                  <a:moveTo>
                    <a:pt x="0" y="332"/>
                  </a:moveTo>
                  <a:lnTo>
                    <a:pt x="26" y="322"/>
                  </a:lnTo>
                  <a:lnTo>
                    <a:pt x="50" y="308"/>
                  </a:lnTo>
                  <a:lnTo>
                    <a:pt x="104" y="274"/>
                  </a:lnTo>
                  <a:lnTo>
                    <a:pt x="132" y="258"/>
                  </a:lnTo>
                  <a:lnTo>
                    <a:pt x="163" y="247"/>
                  </a:lnTo>
                  <a:lnTo>
                    <a:pt x="193" y="240"/>
                  </a:lnTo>
                  <a:lnTo>
                    <a:pt x="225" y="242"/>
                  </a:lnTo>
                  <a:lnTo>
                    <a:pt x="231" y="216"/>
                  </a:lnTo>
                  <a:lnTo>
                    <a:pt x="231" y="196"/>
                  </a:lnTo>
                  <a:lnTo>
                    <a:pt x="229" y="172"/>
                  </a:lnTo>
                  <a:lnTo>
                    <a:pt x="227" y="156"/>
                  </a:lnTo>
                  <a:lnTo>
                    <a:pt x="237" y="132"/>
                  </a:lnTo>
                  <a:lnTo>
                    <a:pt x="247" y="115"/>
                  </a:lnTo>
                  <a:lnTo>
                    <a:pt x="255" y="97"/>
                  </a:lnTo>
                  <a:lnTo>
                    <a:pt x="279" y="14"/>
                  </a:lnTo>
                  <a:lnTo>
                    <a:pt x="249" y="14"/>
                  </a:lnTo>
                  <a:lnTo>
                    <a:pt x="249" y="10"/>
                  </a:lnTo>
                  <a:lnTo>
                    <a:pt x="245" y="0"/>
                  </a:lnTo>
                  <a:lnTo>
                    <a:pt x="235" y="6"/>
                  </a:lnTo>
                  <a:lnTo>
                    <a:pt x="212" y="28"/>
                  </a:lnTo>
                  <a:lnTo>
                    <a:pt x="147" y="111"/>
                  </a:lnTo>
                  <a:lnTo>
                    <a:pt x="68" y="222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50040" y="5743440"/>
              <a:ext cx="103680" cy="178200"/>
            </a:xfrm>
            <a:custGeom>
              <a:avLst/>
              <a:gdLst/>
              <a:ahLst/>
              <a:rect l="0" t="0" r="r" b="b"/>
              <a:pathLst>
                <a:path w="288" h="495">
                  <a:moveTo>
                    <a:pt x="0" y="495"/>
                  </a:moveTo>
                  <a:lnTo>
                    <a:pt x="16" y="493"/>
                  </a:lnTo>
                  <a:lnTo>
                    <a:pt x="22" y="491"/>
                  </a:lnTo>
                  <a:lnTo>
                    <a:pt x="26" y="487"/>
                  </a:lnTo>
                  <a:lnTo>
                    <a:pt x="30" y="479"/>
                  </a:lnTo>
                  <a:lnTo>
                    <a:pt x="34" y="469"/>
                  </a:lnTo>
                  <a:lnTo>
                    <a:pt x="38" y="459"/>
                  </a:lnTo>
                  <a:lnTo>
                    <a:pt x="48" y="446"/>
                  </a:lnTo>
                  <a:lnTo>
                    <a:pt x="66" y="436"/>
                  </a:lnTo>
                  <a:lnTo>
                    <a:pt x="97" y="426"/>
                  </a:lnTo>
                  <a:lnTo>
                    <a:pt x="137" y="418"/>
                  </a:lnTo>
                  <a:lnTo>
                    <a:pt x="143" y="416"/>
                  </a:lnTo>
                  <a:lnTo>
                    <a:pt x="147" y="410"/>
                  </a:lnTo>
                  <a:lnTo>
                    <a:pt x="179" y="389"/>
                  </a:lnTo>
                  <a:lnTo>
                    <a:pt x="282" y="335"/>
                  </a:lnTo>
                  <a:lnTo>
                    <a:pt x="288" y="0"/>
                  </a:lnTo>
                  <a:lnTo>
                    <a:pt x="262" y="38"/>
                  </a:lnTo>
                  <a:lnTo>
                    <a:pt x="258" y="36"/>
                  </a:lnTo>
                  <a:lnTo>
                    <a:pt x="246" y="38"/>
                  </a:lnTo>
                  <a:lnTo>
                    <a:pt x="228" y="34"/>
                  </a:lnTo>
                  <a:lnTo>
                    <a:pt x="4" y="453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070840" y="5951520"/>
              <a:ext cx="773640" cy="630720"/>
            </a:xfrm>
            <a:custGeom>
              <a:avLst/>
              <a:gdLst/>
              <a:ahLst/>
              <a:rect l="0" t="0" r="r" b="b"/>
              <a:pathLst>
                <a:path w="2149" h="1752">
                  <a:moveTo>
                    <a:pt x="45" y="0"/>
                  </a:moveTo>
                  <a:lnTo>
                    <a:pt x="77" y="8"/>
                  </a:lnTo>
                  <a:lnTo>
                    <a:pt x="129" y="26"/>
                  </a:lnTo>
                  <a:lnTo>
                    <a:pt x="181" y="47"/>
                  </a:lnTo>
                  <a:lnTo>
                    <a:pt x="206" y="62"/>
                  </a:lnTo>
                  <a:lnTo>
                    <a:pt x="379" y="224"/>
                  </a:lnTo>
                  <a:lnTo>
                    <a:pt x="464" y="306"/>
                  </a:lnTo>
                  <a:lnTo>
                    <a:pt x="734" y="585"/>
                  </a:lnTo>
                  <a:lnTo>
                    <a:pt x="905" y="720"/>
                  </a:lnTo>
                  <a:lnTo>
                    <a:pt x="922" y="739"/>
                  </a:lnTo>
                  <a:lnTo>
                    <a:pt x="935" y="758"/>
                  </a:lnTo>
                  <a:lnTo>
                    <a:pt x="962" y="795"/>
                  </a:lnTo>
                  <a:lnTo>
                    <a:pt x="983" y="814"/>
                  </a:lnTo>
                  <a:lnTo>
                    <a:pt x="1016" y="836"/>
                  </a:lnTo>
                  <a:lnTo>
                    <a:pt x="1062" y="861"/>
                  </a:lnTo>
                  <a:lnTo>
                    <a:pt x="1124" y="890"/>
                  </a:lnTo>
                  <a:lnTo>
                    <a:pt x="1126" y="890"/>
                  </a:lnTo>
                  <a:lnTo>
                    <a:pt x="1124" y="884"/>
                  </a:lnTo>
                  <a:lnTo>
                    <a:pt x="1126" y="884"/>
                  </a:lnTo>
                  <a:lnTo>
                    <a:pt x="1141" y="894"/>
                  </a:lnTo>
                  <a:lnTo>
                    <a:pt x="1231" y="973"/>
                  </a:lnTo>
                  <a:lnTo>
                    <a:pt x="1454" y="1177"/>
                  </a:lnTo>
                  <a:lnTo>
                    <a:pt x="1647" y="1360"/>
                  </a:lnTo>
                  <a:lnTo>
                    <a:pt x="1709" y="1402"/>
                  </a:lnTo>
                  <a:lnTo>
                    <a:pt x="1755" y="1427"/>
                  </a:lnTo>
                  <a:lnTo>
                    <a:pt x="1826" y="1460"/>
                  </a:lnTo>
                  <a:lnTo>
                    <a:pt x="1868" y="1485"/>
                  </a:lnTo>
                  <a:lnTo>
                    <a:pt x="1924" y="1526"/>
                  </a:lnTo>
                  <a:lnTo>
                    <a:pt x="2001" y="1592"/>
                  </a:lnTo>
                  <a:lnTo>
                    <a:pt x="2107" y="1690"/>
                  </a:lnTo>
                  <a:lnTo>
                    <a:pt x="2145" y="1729"/>
                  </a:lnTo>
                  <a:lnTo>
                    <a:pt x="2149" y="1742"/>
                  </a:lnTo>
                  <a:lnTo>
                    <a:pt x="2147" y="1746"/>
                  </a:lnTo>
                  <a:lnTo>
                    <a:pt x="2143" y="1746"/>
                  </a:lnTo>
                  <a:lnTo>
                    <a:pt x="2134" y="1752"/>
                  </a:lnTo>
                  <a:lnTo>
                    <a:pt x="2128" y="1752"/>
                  </a:lnTo>
                  <a:lnTo>
                    <a:pt x="2122" y="1750"/>
                  </a:lnTo>
                  <a:lnTo>
                    <a:pt x="2109" y="1740"/>
                  </a:lnTo>
                  <a:lnTo>
                    <a:pt x="2049" y="1690"/>
                  </a:lnTo>
                  <a:lnTo>
                    <a:pt x="1909" y="1582"/>
                  </a:lnTo>
                  <a:lnTo>
                    <a:pt x="1516" y="1291"/>
                  </a:lnTo>
                  <a:lnTo>
                    <a:pt x="1433" y="1233"/>
                  </a:lnTo>
                  <a:lnTo>
                    <a:pt x="1395" y="1208"/>
                  </a:lnTo>
                  <a:lnTo>
                    <a:pt x="1385" y="1204"/>
                  </a:lnTo>
                  <a:lnTo>
                    <a:pt x="1377" y="1204"/>
                  </a:lnTo>
                  <a:lnTo>
                    <a:pt x="1352" y="1187"/>
                  </a:lnTo>
                  <a:lnTo>
                    <a:pt x="1287" y="1141"/>
                  </a:lnTo>
                  <a:lnTo>
                    <a:pt x="1243" y="1108"/>
                  </a:lnTo>
                  <a:lnTo>
                    <a:pt x="1199" y="1069"/>
                  </a:lnTo>
                  <a:lnTo>
                    <a:pt x="1118" y="992"/>
                  </a:lnTo>
                  <a:lnTo>
                    <a:pt x="1076" y="955"/>
                  </a:lnTo>
                  <a:lnTo>
                    <a:pt x="1033" y="921"/>
                  </a:lnTo>
                  <a:lnTo>
                    <a:pt x="985" y="890"/>
                  </a:lnTo>
                  <a:lnTo>
                    <a:pt x="932" y="863"/>
                  </a:lnTo>
                  <a:lnTo>
                    <a:pt x="905" y="853"/>
                  </a:lnTo>
                  <a:lnTo>
                    <a:pt x="901" y="851"/>
                  </a:lnTo>
                  <a:lnTo>
                    <a:pt x="893" y="836"/>
                  </a:lnTo>
                  <a:lnTo>
                    <a:pt x="855" y="789"/>
                  </a:lnTo>
                  <a:lnTo>
                    <a:pt x="828" y="758"/>
                  </a:lnTo>
                  <a:lnTo>
                    <a:pt x="799" y="735"/>
                  </a:lnTo>
                  <a:lnTo>
                    <a:pt x="743" y="702"/>
                  </a:lnTo>
                  <a:lnTo>
                    <a:pt x="693" y="675"/>
                  </a:lnTo>
                  <a:lnTo>
                    <a:pt x="670" y="662"/>
                  </a:lnTo>
                  <a:lnTo>
                    <a:pt x="647" y="646"/>
                  </a:lnTo>
                  <a:lnTo>
                    <a:pt x="559" y="538"/>
                  </a:lnTo>
                  <a:lnTo>
                    <a:pt x="473" y="488"/>
                  </a:lnTo>
                  <a:lnTo>
                    <a:pt x="435" y="444"/>
                  </a:lnTo>
                  <a:lnTo>
                    <a:pt x="400" y="398"/>
                  </a:lnTo>
                  <a:lnTo>
                    <a:pt x="379" y="373"/>
                  </a:lnTo>
                  <a:lnTo>
                    <a:pt x="352" y="344"/>
                  </a:lnTo>
                  <a:lnTo>
                    <a:pt x="321" y="313"/>
                  </a:lnTo>
                  <a:lnTo>
                    <a:pt x="277" y="280"/>
                  </a:lnTo>
                  <a:lnTo>
                    <a:pt x="246" y="257"/>
                  </a:lnTo>
                  <a:lnTo>
                    <a:pt x="231" y="248"/>
                  </a:lnTo>
                  <a:lnTo>
                    <a:pt x="181" y="172"/>
                  </a:lnTo>
                  <a:lnTo>
                    <a:pt x="112" y="168"/>
                  </a:lnTo>
                  <a:lnTo>
                    <a:pt x="97" y="165"/>
                  </a:lnTo>
                  <a:lnTo>
                    <a:pt x="93" y="161"/>
                  </a:lnTo>
                  <a:lnTo>
                    <a:pt x="91" y="153"/>
                  </a:lnTo>
                  <a:lnTo>
                    <a:pt x="89" y="149"/>
                  </a:lnTo>
                  <a:lnTo>
                    <a:pt x="79" y="145"/>
                  </a:lnTo>
                  <a:lnTo>
                    <a:pt x="18" y="145"/>
                  </a:lnTo>
                  <a:lnTo>
                    <a:pt x="6" y="130"/>
                  </a:lnTo>
                  <a:lnTo>
                    <a:pt x="0" y="122"/>
                  </a:lnTo>
                  <a:lnTo>
                    <a:pt x="2" y="118"/>
                  </a:lnTo>
                  <a:lnTo>
                    <a:pt x="6" y="114"/>
                  </a:lnTo>
                  <a:lnTo>
                    <a:pt x="10" y="109"/>
                  </a:lnTo>
                  <a:lnTo>
                    <a:pt x="14" y="99"/>
                  </a:lnTo>
                  <a:lnTo>
                    <a:pt x="14" y="85"/>
                  </a:lnTo>
                  <a:lnTo>
                    <a:pt x="6" y="58"/>
                  </a:lnTo>
                  <a:lnTo>
                    <a:pt x="8" y="41"/>
                  </a:lnTo>
                  <a:lnTo>
                    <a:pt x="14" y="22"/>
                  </a:lnTo>
                  <a:lnTo>
                    <a:pt x="25" y="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067600" y="6024600"/>
              <a:ext cx="813240" cy="659160"/>
            </a:xfrm>
            <a:custGeom>
              <a:avLst/>
              <a:gdLst/>
              <a:ahLst/>
              <a:rect l="0" t="0" r="r" b="b"/>
              <a:pathLst>
                <a:path w="2259" h="1831">
                  <a:moveTo>
                    <a:pt x="0" y="47"/>
                  </a:moveTo>
                  <a:lnTo>
                    <a:pt x="2" y="29"/>
                  </a:lnTo>
                  <a:lnTo>
                    <a:pt x="8" y="14"/>
                  </a:lnTo>
                  <a:lnTo>
                    <a:pt x="20" y="4"/>
                  </a:lnTo>
                  <a:lnTo>
                    <a:pt x="39" y="0"/>
                  </a:lnTo>
                  <a:lnTo>
                    <a:pt x="70" y="6"/>
                  </a:lnTo>
                  <a:lnTo>
                    <a:pt x="110" y="20"/>
                  </a:lnTo>
                  <a:lnTo>
                    <a:pt x="162" y="49"/>
                  </a:lnTo>
                  <a:lnTo>
                    <a:pt x="227" y="91"/>
                  </a:lnTo>
                  <a:lnTo>
                    <a:pt x="266" y="116"/>
                  </a:lnTo>
                  <a:lnTo>
                    <a:pt x="306" y="135"/>
                  </a:lnTo>
                  <a:lnTo>
                    <a:pt x="325" y="149"/>
                  </a:lnTo>
                  <a:lnTo>
                    <a:pt x="341" y="162"/>
                  </a:lnTo>
                  <a:lnTo>
                    <a:pt x="358" y="180"/>
                  </a:lnTo>
                  <a:lnTo>
                    <a:pt x="368" y="199"/>
                  </a:lnTo>
                  <a:lnTo>
                    <a:pt x="373" y="222"/>
                  </a:lnTo>
                  <a:lnTo>
                    <a:pt x="381" y="255"/>
                  </a:lnTo>
                  <a:lnTo>
                    <a:pt x="396" y="280"/>
                  </a:lnTo>
                  <a:lnTo>
                    <a:pt x="416" y="313"/>
                  </a:lnTo>
                  <a:lnTo>
                    <a:pt x="452" y="353"/>
                  </a:lnTo>
                  <a:lnTo>
                    <a:pt x="500" y="400"/>
                  </a:lnTo>
                  <a:lnTo>
                    <a:pt x="576" y="467"/>
                  </a:lnTo>
                  <a:lnTo>
                    <a:pt x="620" y="504"/>
                  </a:lnTo>
                  <a:lnTo>
                    <a:pt x="641" y="521"/>
                  </a:lnTo>
                  <a:lnTo>
                    <a:pt x="651" y="525"/>
                  </a:lnTo>
                  <a:lnTo>
                    <a:pt x="661" y="544"/>
                  </a:lnTo>
                  <a:lnTo>
                    <a:pt x="716" y="631"/>
                  </a:lnTo>
                  <a:lnTo>
                    <a:pt x="734" y="658"/>
                  </a:lnTo>
                  <a:lnTo>
                    <a:pt x="749" y="668"/>
                  </a:lnTo>
                  <a:lnTo>
                    <a:pt x="759" y="670"/>
                  </a:lnTo>
                  <a:lnTo>
                    <a:pt x="768" y="666"/>
                  </a:lnTo>
                  <a:lnTo>
                    <a:pt x="778" y="664"/>
                  </a:lnTo>
                  <a:lnTo>
                    <a:pt x="793" y="662"/>
                  </a:lnTo>
                  <a:lnTo>
                    <a:pt x="814" y="670"/>
                  </a:lnTo>
                  <a:lnTo>
                    <a:pt x="843" y="691"/>
                  </a:lnTo>
                  <a:lnTo>
                    <a:pt x="884" y="731"/>
                  </a:lnTo>
                  <a:lnTo>
                    <a:pt x="909" y="758"/>
                  </a:lnTo>
                  <a:lnTo>
                    <a:pt x="920" y="776"/>
                  </a:lnTo>
                  <a:lnTo>
                    <a:pt x="924" y="789"/>
                  </a:lnTo>
                  <a:lnTo>
                    <a:pt x="924" y="799"/>
                  </a:lnTo>
                  <a:lnTo>
                    <a:pt x="928" y="810"/>
                  </a:lnTo>
                  <a:lnTo>
                    <a:pt x="943" y="822"/>
                  </a:lnTo>
                  <a:lnTo>
                    <a:pt x="970" y="845"/>
                  </a:lnTo>
                  <a:lnTo>
                    <a:pt x="1014" y="866"/>
                  </a:lnTo>
                  <a:lnTo>
                    <a:pt x="1028" y="876"/>
                  </a:lnTo>
                  <a:lnTo>
                    <a:pt x="1049" y="891"/>
                  </a:lnTo>
                  <a:lnTo>
                    <a:pt x="1101" y="937"/>
                  </a:lnTo>
                  <a:lnTo>
                    <a:pt x="1174" y="998"/>
                  </a:lnTo>
                  <a:lnTo>
                    <a:pt x="1220" y="1031"/>
                  </a:lnTo>
                  <a:lnTo>
                    <a:pt x="1268" y="1064"/>
                  </a:lnTo>
                  <a:lnTo>
                    <a:pt x="1320" y="1085"/>
                  </a:lnTo>
                  <a:lnTo>
                    <a:pt x="1341" y="1120"/>
                  </a:lnTo>
                  <a:lnTo>
                    <a:pt x="1351" y="1133"/>
                  </a:lnTo>
                  <a:lnTo>
                    <a:pt x="1364" y="1141"/>
                  </a:lnTo>
                  <a:lnTo>
                    <a:pt x="1418" y="1178"/>
                  </a:lnTo>
                  <a:lnTo>
                    <a:pt x="1527" y="1263"/>
                  </a:lnTo>
                  <a:lnTo>
                    <a:pt x="1558" y="1272"/>
                  </a:lnTo>
                  <a:lnTo>
                    <a:pt x="1577" y="1307"/>
                  </a:lnTo>
                  <a:lnTo>
                    <a:pt x="1602" y="1326"/>
                  </a:lnTo>
                  <a:lnTo>
                    <a:pt x="1654" y="1353"/>
                  </a:lnTo>
                  <a:lnTo>
                    <a:pt x="1753" y="1417"/>
                  </a:lnTo>
                  <a:lnTo>
                    <a:pt x="2259" y="1818"/>
                  </a:lnTo>
                  <a:lnTo>
                    <a:pt x="2251" y="1828"/>
                  </a:lnTo>
                  <a:lnTo>
                    <a:pt x="2238" y="1831"/>
                  </a:lnTo>
                  <a:lnTo>
                    <a:pt x="2220" y="1822"/>
                  </a:lnTo>
                  <a:lnTo>
                    <a:pt x="2186" y="1799"/>
                  </a:lnTo>
                  <a:lnTo>
                    <a:pt x="2063" y="1706"/>
                  </a:lnTo>
                  <a:lnTo>
                    <a:pt x="1826" y="1533"/>
                  </a:lnTo>
                  <a:lnTo>
                    <a:pt x="1256" y="1126"/>
                  </a:lnTo>
                  <a:lnTo>
                    <a:pt x="1093" y="1006"/>
                  </a:lnTo>
                  <a:lnTo>
                    <a:pt x="1085" y="998"/>
                  </a:lnTo>
                  <a:lnTo>
                    <a:pt x="1082" y="995"/>
                  </a:lnTo>
                  <a:lnTo>
                    <a:pt x="974" y="913"/>
                  </a:lnTo>
                  <a:lnTo>
                    <a:pt x="855" y="818"/>
                  </a:lnTo>
                  <a:lnTo>
                    <a:pt x="845" y="793"/>
                  </a:lnTo>
                  <a:lnTo>
                    <a:pt x="832" y="778"/>
                  </a:lnTo>
                  <a:lnTo>
                    <a:pt x="818" y="768"/>
                  </a:lnTo>
                  <a:lnTo>
                    <a:pt x="799" y="762"/>
                  </a:lnTo>
                  <a:lnTo>
                    <a:pt x="749" y="741"/>
                  </a:lnTo>
                  <a:lnTo>
                    <a:pt x="713" y="720"/>
                  </a:lnTo>
                  <a:lnTo>
                    <a:pt x="672" y="683"/>
                  </a:lnTo>
                  <a:lnTo>
                    <a:pt x="521" y="544"/>
                  </a:lnTo>
                  <a:lnTo>
                    <a:pt x="485" y="504"/>
                  </a:lnTo>
                  <a:lnTo>
                    <a:pt x="464" y="479"/>
                  </a:lnTo>
                  <a:lnTo>
                    <a:pt x="452" y="459"/>
                  </a:lnTo>
                  <a:lnTo>
                    <a:pt x="448" y="450"/>
                  </a:lnTo>
                  <a:lnTo>
                    <a:pt x="437" y="440"/>
                  </a:lnTo>
                  <a:lnTo>
                    <a:pt x="366" y="378"/>
                  </a:lnTo>
                  <a:lnTo>
                    <a:pt x="316" y="338"/>
                  </a:lnTo>
                  <a:lnTo>
                    <a:pt x="298" y="324"/>
                  </a:lnTo>
                  <a:lnTo>
                    <a:pt x="281" y="307"/>
                  </a:lnTo>
                  <a:lnTo>
                    <a:pt x="268" y="286"/>
                  </a:lnTo>
                  <a:lnTo>
                    <a:pt x="254" y="261"/>
                  </a:lnTo>
                  <a:lnTo>
                    <a:pt x="248" y="240"/>
                  </a:lnTo>
                  <a:lnTo>
                    <a:pt x="245" y="228"/>
                  </a:lnTo>
                  <a:lnTo>
                    <a:pt x="245" y="218"/>
                  </a:lnTo>
                  <a:lnTo>
                    <a:pt x="223" y="205"/>
                  </a:lnTo>
                  <a:lnTo>
                    <a:pt x="143" y="170"/>
                  </a:lnTo>
                  <a:lnTo>
                    <a:pt x="118" y="153"/>
                  </a:lnTo>
                  <a:lnTo>
                    <a:pt x="110" y="139"/>
                  </a:lnTo>
                  <a:lnTo>
                    <a:pt x="102" y="118"/>
                  </a:lnTo>
                  <a:lnTo>
                    <a:pt x="91" y="103"/>
                  </a:lnTo>
                  <a:lnTo>
                    <a:pt x="75" y="83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932600" y="6226200"/>
              <a:ext cx="41760" cy="79560"/>
            </a:xfrm>
            <a:custGeom>
              <a:avLst/>
              <a:gdLst/>
              <a:ahLst/>
              <a:rect l="0" t="0" r="r" b="b"/>
              <a:pathLst>
                <a:path w="116" h="221">
                  <a:moveTo>
                    <a:pt x="116" y="17"/>
                  </a:moveTo>
                  <a:lnTo>
                    <a:pt x="111" y="53"/>
                  </a:lnTo>
                  <a:lnTo>
                    <a:pt x="101" y="92"/>
                  </a:lnTo>
                  <a:lnTo>
                    <a:pt x="78" y="144"/>
                  </a:lnTo>
                  <a:lnTo>
                    <a:pt x="62" y="180"/>
                  </a:lnTo>
                  <a:lnTo>
                    <a:pt x="37" y="221"/>
                  </a:lnTo>
                  <a:lnTo>
                    <a:pt x="14" y="201"/>
                  </a:lnTo>
                  <a:lnTo>
                    <a:pt x="3" y="186"/>
                  </a:lnTo>
                  <a:lnTo>
                    <a:pt x="0" y="174"/>
                  </a:lnTo>
                  <a:lnTo>
                    <a:pt x="3" y="166"/>
                  </a:lnTo>
                  <a:lnTo>
                    <a:pt x="20" y="156"/>
                  </a:lnTo>
                  <a:lnTo>
                    <a:pt x="30" y="152"/>
                  </a:lnTo>
                  <a:lnTo>
                    <a:pt x="34" y="146"/>
                  </a:lnTo>
                  <a:lnTo>
                    <a:pt x="43" y="126"/>
                  </a:lnTo>
                  <a:lnTo>
                    <a:pt x="47" y="104"/>
                  </a:lnTo>
                  <a:lnTo>
                    <a:pt x="49" y="66"/>
                  </a:lnTo>
                  <a:lnTo>
                    <a:pt x="56" y="33"/>
                  </a:lnTo>
                  <a:lnTo>
                    <a:pt x="67" y="15"/>
                  </a:lnTo>
                  <a:lnTo>
                    <a:pt x="84" y="0"/>
                  </a:lnTo>
                  <a:lnTo>
                    <a:pt x="92" y="0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772480" y="6391440"/>
              <a:ext cx="87840" cy="66960"/>
            </a:xfrm>
            <a:custGeom>
              <a:avLst/>
              <a:gdLst/>
              <a:ahLst/>
              <a:rect l="0" t="0" r="r" b="b"/>
              <a:pathLst>
                <a:path w="244" h="186">
                  <a:moveTo>
                    <a:pt x="12" y="0"/>
                  </a:moveTo>
                  <a:lnTo>
                    <a:pt x="32" y="1"/>
                  </a:lnTo>
                  <a:lnTo>
                    <a:pt x="38" y="5"/>
                  </a:lnTo>
                  <a:lnTo>
                    <a:pt x="42" y="9"/>
                  </a:lnTo>
                  <a:lnTo>
                    <a:pt x="52" y="25"/>
                  </a:lnTo>
                  <a:lnTo>
                    <a:pt x="63" y="35"/>
                  </a:lnTo>
                  <a:lnTo>
                    <a:pt x="79" y="47"/>
                  </a:lnTo>
                  <a:lnTo>
                    <a:pt x="97" y="57"/>
                  </a:lnTo>
                  <a:lnTo>
                    <a:pt x="109" y="61"/>
                  </a:lnTo>
                  <a:lnTo>
                    <a:pt x="125" y="63"/>
                  </a:lnTo>
                  <a:lnTo>
                    <a:pt x="137" y="69"/>
                  </a:lnTo>
                  <a:lnTo>
                    <a:pt x="159" y="85"/>
                  </a:lnTo>
                  <a:lnTo>
                    <a:pt x="240" y="164"/>
                  </a:lnTo>
                  <a:lnTo>
                    <a:pt x="244" y="172"/>
                  </a:lnTo>
                  <a:lnTo>
                    <a:pt x="244" y="178"/>
                  </a:lnTo>
                  <a:lnTo>
                    <a:pt x="238" y="184"/>
                  </a:lnTo>
                  <a:lnTo>
                    <a:pt x="228" y="186"/>
                  </a:lnTo>
                  <a:lnTo>
                    <a:pt x="210" y="182"/>
                  </a:lnTo>
                  <a:lnTo>
                    <a:pt x="186" y="170"/>
                  </a:lnTo>
                  <a:lnTo>
                    <a:pt x="151" y="148"/>
                  </a:lnTo>
                  <a:lnTo>
                    <a:pt x="109" y="114"/>
                  </a:lnTo>
                  <a:lnTo>
                    <a:pt x="63" y="79"/>
                  </a:lnTo>
                  <a:lnTo>
                    <a:pt x="24" y="55"/>
                  </a:lnTo>
                  <a:lnTo>
                    <a:pt x="10" y="43"/>
                  </a:lnTo>
                  <a:lnTo>
                    <a:pt x="2" y="31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872560" y="6461280"/>
              <a:ext cx="125640" cy="73440"/>
            </a:xfrm>
            <a:custGeom>
              <a:avLst/>
              <a:gdLst/>
              <a:ahLst/>
              <a:rect l="0" t="0" r="r" b="b"/>
              <a:pathLst>
                <a:path w="349" h="204">
                  <a:moveTo>
                    <a:pt x="10" y="0"/>
                  </a:moveTo>
                  <a:lnTo>
                    <a:pt x="24" y="3"/>
                  </a:lnTo>
                  <a:lnTo>
                    <a:pt x="64" y="27"/>
                  </a:lnTo>
                  <a:lnTo>
                    <a:pt x="161" y="86"/>
                  </a:lnTo>
                  <a:lnTo>
                    <a:pt x="337" y="189"/>
                  </a:lnTo>
                  <a:lnTo>
                    <a:pt x="349" y="197"/>
                  </a:lnTo>
                  <a:lnTo>
                    <a:pt x="349" y="200"/>
                  </a:lnTo>
                  <a:lnTo>
                    <a:pt x="343" y="202"/>
                  </a:lnTo>
                  <a:lnTo>
                    <a:pt x="331" y="204"/>
                  </a:lnTo>
                  <a:lnTo>
                    <a:pt x="307" y="198"/>
                  </a:lnTo>
                  <a:lnTo>
                    <a:pt x="266" y="185"/>
                  </a:lnTo>
                  <a:lnTo>
                    <a:pt x="208" y="158"/>
                  </a:lnTo>
                  <a:lnTo>
                    <a:pt x="126" y="118"/>
                  </a:lnTo>
                  <a:lnTo>
                    <a:pt x="18" y="57"/>
                  </a:lnTo>
                  <a:lnTo>
                    <a:pt x="10" y="46"/>
                  </a:lnTo>
                  <a:lnTo>
                    <a:pt x="2" y="29"/>
                  </a:lnTo>
                  <a:lnTo>
                    <a:pt x="0" y="9"/>
                  </a:lnTo>
                  <a:lnTo>
                    <a:pt x="2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832960" y="6504120"/>
              <a:ext cx="81360" cy="51120"/>
            </a:xfrm>
            <a:custGeom>
              <a:avLst/>
              <a:gdLst/>
              <a:ahLst/>
              <a:rect l="0" t="0" r="r" b="b"/>
              <a:pathLst>
                <a:path w="226" h="142">
                  <a:moveTo>
                    <a:pt x="7" y="0"/>
                  </a:moveTo>
                  <a:lnTo>
                    <a:pt x="19" y="0"/>
                  </a:lnTo>
                  <a:lnTo>
                    <a:pt x="41" y="9"/>
                  </a:lnTo>
                  <a:lnTo>
                    <a:pt x="105" y="43"/>
                  </a:lnTo>
                  <a:lnTo>
                    <a:pt x="175" y="88"/>
                  </a:lnTo>
                  <a:lnTo>
                    <a:pt x="205" y="109"/>
                  </a:lnTo>
                  <a:lnTo>
                    <a:pt x="226" y="126"/>
                  </a:lnTo>
                  <a:lnTo>
                    <a:pt x="226" y="140"/>
                  </a:lnTo>
                  <a:lnTo>
                    <a:pt x="219" y="142"/>
                  </a:lnTo>
                  <a:lnTo>
                    <a:pt x="201" y="140"/>
                  </a:lnTo>
                  <a:lnTo>
                    <a:pt x="133" y="111"/>
                  </a:lnTo>
                  <a:lnTo>
                    <a:pt x="73" y="79"/>
                  </a:lnTo>
                  <a:lnTo>
                    <a:pt x="39" y="57"/>
                  </a:lnTo>
                  <a:lnTo>
                    <a:pt x="3" y="30"/>
                  </a:lnTo>
                  <a:lnTo>
                    <a:pt x="0" y="11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858160" y="6591240"/>
              <a:ext cx="28800" cy="19440"/>
            </a:xfrm>
            <a:custGeom>
              <a:avLst/>
              <a:gdLst/>
              <a:ahLst/>
              <a:rect l="0" t="0" r="r" b="b"/>
              <a:pathLst>
                <a:path w="80" h="54">
                  <a:moveTo>
                    <a:pt x="0" y="18"/>
                  </a:moveTo>
                  <a:lnTo>
                    <a:pt x="7" y="6"/>
                  </a:lnTo>
                  <a:lnTo>
                    <a:pt x="12" y="3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41" y="6"/>
                  </a:lnTo>
                  <a:lnTo>
                    <a:pt x="58" y="19"/>
                  </a:lnTo>
                  <a:lnTo>
                    <a:pt x="78" y="41"/>
                  </a:lnTo>
                  <a:lnTo>
                    <a:pt x="80" y="49"/>
                  </a:lnTo>
                  <a:lnTo>
                    <a:pt x="78" y="54"/>
                  </a:lnTo>
                  <a:lnTo>
                    <a:pt x="63" y="54"/>
                  </a:lnTo>
                  <a:lnTo>
                    <a:pt x="35" y="4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526600" y="5640480"/>
              <a:ext cx="27360" cy="33840"/>
            </a:xfrm>
            <a:custGeom>
              <a:avLst/>
              <a:gdLst/>
              <a:ahLst/>
              <a:rect l="0" t="0" r="r" b="b"/>
              <a:pathLst>
                <a:path w="76" h="94">
                  <a:moveTo>
                    <a:pt x="25" y="94"/>
                  </a:moveTo>
                  <a:lnTo>
                    <a:pt x="25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6" y="0"/>
                  </a:lnTo>
                  <a:lnTo>
                    <a:pt x="76" y="22"/>
                  </a:lnTo>
                  <a:lnTo>
                    <a:pt x="49" y="22"/>
                  </a:lnTo>
                  <a:lnTo>
                    <a:pt x="49" y="94"/>
                  </a:lnTo>
                  <a:lnTo>
                    <a:pt x="25" y="94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564400" y="5640480"/>
              <a:ext cx="44640" cy="36720"/>
            </a:xfrm>
            <a:custGeom>
              <a:avLst/>
              <a:gdLst/>
              <a:ahLst/>
              <a:rect l="0" t="0" r="r" b="b"/>
              <a:pathLst>
                <a:path w="124" h="102">
                  <a:moveTo>
                    <a:pt x="6" y="0"/>
                  </a:moveTo>
                  <a:lnTo>
                    <a:pt x="14" y="0"/>
                  </a:lnTo>
                  <a:lnTo>
                    <a:pt x="18" y="2"/>
                  </a:lnTo>
                  <a:lnTo>
                    <a:pt x="61" y="67"/>
                  </a:lnTo>
                  <a:lnTo>
                    <a:pt x="105" y="4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2" y="10"/>
                  </a:lnTo>
                  <a:lnTo>
                    <a:pt x="124" y="14"/>
                  </a:lnTo>
                  <a:lnTo>
                    <a:pt x="124" y="102"/>
                  </a:lnTo>
                  <a:lnTo>
                    <a:pt x="103" y="102"/>
                  </a:lnTo>
                  <a:lnTo>
                    <a:pt x="103" y="34"/>
                  </a:lnTo>
                  <a:lnTo>
                    <a:pt x="61" y="100"/>
                  </a:lnTo>
                  <a:lnTo>
                    <a:pt x="20" y="34"/>
                  </a:lnTo>
                  <a:lnTo>
                    <a:pt x="20" y="100"/>
                  </a:lnTo>
                  <a:lnTo>
                    <a:pt x="0" y="10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564400" y="5640480"/>
              <a:ext cx="44640" cy="36720"/>
            </a:xfrm>
            <a:custGeom>
              <a:avLst/>
              <a:gdLst/>
              <a:ahLst/>
              <a:rect l="0" t="0" r="r" b="b"/>
              <a:pathLst>
                <a:path w="124" h="102">
                  <a:moveTo>
                    <a:pt x="6" y="0"/>
                  </a:moveTo>
                  <a:lnTo>
                    <a:pt x="14" y="0"/>
                  </a:lnTo>
                  <a:lnTo>
                    <a:pt x="18" y="2"/>
                  </a:lnTo>
                  <a:lnTo>
                    <a:pt x="61" y="67"/>
                  </a:lnTo>
                  <a:lnTo>
                    <a:pt x="105" y="4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2" y="10"/>
                  </a:lnTo>
                  <a:lnTo>
                    <a:pt x="124" y="14"/>
                  </a:lnTo>
                  <a:lnTo>
                    <a:pt x="124" y="102"/>
                  </a:lnTo>
                  <a:lnTo>
                    <a:pt x="103" y="102"/>
                  </a:lnTo>
                  <a:lnTo>
                    <a:pt x="103" y="34"/>
                  </a:lnTo>
                  <a:lnTo>
                    <a:pt x="61" y="100"/>
                  </a:lnTo>
                  <a:lnTo>
                    <a:pt x="20" y="34"/>
                  </a:lnTo>
                  <a:lnTo>
                    <a:pt x="20" y="100"/>
                  </a:lnTo>
                  <a:lnTo>
                    <a:pt x="0" y="10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1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762120" y="76320"/>
            <a:ext cx="7772400" cy="64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Jagua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ology Speaks For Itself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of the ye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028880" indent="-171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 Games Magaz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ological achievement of the ye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028880" indent="-171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hard Game F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st new hardw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028880" indent="-171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me Infor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s ‘94 Winn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028880" indent="-171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 Electronics Sh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1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457200" y="254160"/>
            <a:ext cx="8458200" cy="65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Jagua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ology Speaks For Itself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st Hardware of  the Ye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028880" indent="-171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TS Industry A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…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 new and so hot…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028880" indent="-171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oday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…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ame this year is the Atari Jaguar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028880" indent="-171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RON, San Francisc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…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new level of video game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lnSpc>
                <a:spcPct val="6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028880" indent="-171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ic Engineering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1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762120" y="30492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Jagua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ight Here, Right Now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90000"/>
              </a:lnSpc>
              <a:spcBef>
                <a:spcPts val="720"/>
              </a:spcBef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 algn="ctr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 "/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guar is the only next-generation VIDEO GAME system available before 199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5589720" y="5483160"/>
            <a:ext cx="3408480" cy="1200600"/>
            <a:chOff x="5589720" y="5483160"/>
            <a:chExt cx="3408480" cy="1200600"/>
          </a:xfrm>
        </p:grpSpPr>
        <p:sp>
          <p:nvSpPr>
            <p:cNvPr id="575" name=""/>
            <p:cNvSpPr/>
            <p:nvPr/>
          </p:nvSpPr>
          <p:spPr>
            <a:xfrm>
              <a:off x="5589720" y="5483160"/>
              <a:ext cx="973440" cy="868680"/>
            </a:xfrm>
            <a:custGeom>
              <a:avLst/>
              <a:gdLst/>
              <a:ahLst/>
              <a:rect l="0" t="0" r="r" b="b"/>
              <a:pathLst>
                <a:path w="2704" h="2413">
                  <a:moveTo>
                    <a:pt x="2704" y="45"/>
                  </a:moveTo>
                  <a:lnTo>
                    <a:pt x="2691" y="52"/>
                  </a:lnTo>
                  <a:lnTo>
                    <a:pt x="2674" y="56"/>
                  </a:lnTo>
                  <a:lnTo>
                    <a:pt x="2631" y="66"/>
                  </a:lnTo>
                  <a:lnTo>
                    <a:pt x="2518" y="83"/>
                  </a:lnTo>
                  <a:lnTo>
                    <a:pt x="2399" y="101"/>
                  </a:lnTo>
                  <a:lnTo>
                    <a:pt x="2308" y="118"/>
                  </a:lnTo>
                  <a:lnTo>
                    <a:pt x="2314" y="137"/>
                  </a:lnTo>
                  <a:lnTo>
                    <a:pt x="2314" y="141"/>
                  </a:lnTo>
                  <a:lnTo>
                    <a:pt x="2318" y="143"/>
                  </a:lnTo>
                  <a:lnTo>
                    <a:pt x="2341" y="147"/>
                  </a:lnTo>
                  <a:lnTo>
                    <a:pt x="2395" y="154"/>
                  </a:lnTo>
                  <a:lnTo>
                    <a:pt x="2393" y="178"/>
                  </a:lnTo>
                  <a:lnTo>
                    <a:pt x="2343" y="216"/>
                  </a:lnTo>
                  <a:lnTo>
                    <a:pt x="2331" y="226"/>
                  </a:lnTo>
                  <a:lnTo>
                    <a:pt x="2326" y="233"/>
                  </a:lnTo>
                  <a:lnTo>
                    <a:pt x="2329" y="241"/>
                  </a:lnTo>
                  <a:lnTo>
                    <a:pt x="2331" y="245"/>
                  </a:lnTo>
                  <a:lnTo>
                    <a:pt x="2326" y="249"/>
                  </a:lnTo>
                  <a:lnTo>
                    <a:pt x="2312" y="264"/>
                  </a:lnTo>
                  <a:lnTo>
                    <a:pt x="2291" y="272"/>
                  </a:lnTo>
                  <a:lnTo>
                    <a:pt x="2272" y="280"/>
                  </a:lnTo>
                  <a:lnTo>
                    <a:pt x="2251" y="283"/>
                  </a:lnTo>
                  <a:lnTo>
                    <a:pt x="2212" y="291"/>
                  </a:lnTo>
                  <a:lnTo>
                    <a:pt x="2183" y="301"/>
                  </a:lnTo>
                  <a:lnTo>
                    <a:pt x="2170" y="314"/>
                  </a:lnTo>
                  <a:lnTo>
                    <a:pt x="2168" y="320"/>
                  </a:lnTo>
                  <a:lnTo>
                    <a:pt x="2168" y="326"/>
                  </a:lnTo>
                  <a:lnTo>
                    <a:pt x="2164" y="332"/>
                  </a:lnTo>
                  <a:lnTo>
                    <a:pt x="2147" y="343"/>
                  </a:lnTo>
                  <a:lnTo>
                    <a:pt x="2112" y="355"/>
                  </a:lnTo>
                  <a:lnTo>
                    <a:pt x="1949" y="403"/>
                  </a:lnTo>
                  <a:lnTo>
                    <a:pt x="1941" y="407"/>
                  </a:lnTo>
                  <a:lnTo>
                    <a:pt x="1933" y="416"/>
                  </a:lnTo>
                  <a:lnTo>
                    <a:pt x="1918" y="437"/>
                  </a:lnTo>
                  <a:lnTo>
                    <a:pt x="1901" y="459"/>
                  </a:lnTo>
                  <a:lnTo>
                    <a:pt x="1893" y="472"/>
                  </a:lnTo>
                  <a:lnTo>
                    <a:pt x="1882" y="476"/>
                  </a:lnTo>
                  <a:lnTo>
                    <a:pt x="1868" y="480"/>
                  </a:lnTo>
                  <a:lnTo>
                    <a:pt x="1845" y="482"/>
                  </a:lnTo>
                  <a:lnTo>
                    <a:pt x="1803" y="493"/>
                  </a:lnTo>
                  <a:lnTo>
                    <a:pt x="1739" y="524"/>
                  </a:lnTo>
                  <a:lnTo>
                    <a:pt x="1714" y="653"/>
                  </a:lnTo>
                  <a:lnTo>
                    <a:pt x="1687" y="776"/>
                  </a:lnTo>
                  <a:lnTo>
                    <a:pt x="1657" y="896"/>
                  </a:lnTo>
                  <a:lnTo>
                    <a:pt x="1626" y="1013"/>
                  </a:lnTo>
                  <a:lnTo>
                    <a:pt x="1559" y="1233"/>
                  </a:lnTo>
                  <a:lnTo>
                    <a:pt x="1489" y="1428"/>
                  </a:lnTo>
                  <a:lnTo>
                    <a:pt x="1453" y="1520"/>
                  </a:lnTo>
                  <a:lnTo>
                    <a:pt x="1418" y="1605"/>
                  </a:lnTo>
                  <a:lnTo>
                    <a:pt x="1346" y="1757"/>
                  </a:lnTo>
                  <a:lnTo>
                    <a:pt x="1310" y="1822"/>
                  </a:lnTo>
                  <a:lnTo>
                    <a:pt x="1277" y="1880"/>
                  </a:lnTo>
                  <a:lnTo>
                    <a:pt x="1244" y="1932"/>
                  </a:lnTo>
                  <a:lnTo>
                    <a:pt x="1212" y="1976"/>
                  </a:lnTo>
                  <a:lnTo>
                    <a:pt x="1125" y="2084"/>
                  </a:lnTo>
                  <a:lnTo>
                    <a:pt x="1085" y="2132"/>
                  </a:lnTo>
                  <a:lnTo>
                    <a:pt x="1044" y="2173"/>
                  </a:lnTo>
                  <a:lnTo>
                    <a:pt x="1006" y="2213"/>
                  </a:lnTo>
                  <a:lnTo>
                    <a:pt x="969" y="2246"/>
                  </a:lnTo>
                  <a:lnTo>
                    <a:pt x="933" y="2277"/>
                  </a:lnTo>
                  <a:lnTo>
                    <a:pt x="896" y="2306"/>
                  </a:lnTo>
                  <a:lnTo>
                    <a:pt x="862" y="2331"/>
                  </a:lnTo>
                  <a:lnTo>
                    <a:pt x="829" y="2350"/>
                  </a:lnTo>
                  <a:lnTo>
                    <a:pt x="762" y="2381"/>
                  </a:lnTo>
                  <a:lnTo>
                    <a:pt x="698" y="2402"/>
                  </a:lnTo>
                  <a:lnTo>
                    <a:pt x="633" y="2411"/>
                  </a:lnTo>
                  <a:lnTo>
                    <a:pt x="585" y="2413"/>
                  </a:lnTo>
                  <a:lnTo>
                    <a:pt x="535" y="2406"/>
                  </a:lnTo>
                  <a:lnTo>
                    <a:pt x="487" y="2396"/>
                  </a:lnTo>
                  <a:lnTo>
                    <a:pt x="437" y="2383"/>
                  </a:lnTo>
                  <a:lnTo>
                    <a:pt x="391" y="2367"/>
                  </a:lnTo>
                  <a:lnTo>
                    <a:pt x="343" y="2346"/>
                  </a:lnTo>
                  <a:lnTo>
                    <a:pt x="256" y="2302"/>
                  </a:lnTo>
                  <a:lnTo>
                    <a:pt x="181" y="2259"/>
                  </a:lnTo>
                  <a:lnTo>
                    <a:pt x="120" y="2217"/>
                  </a:lnTo>
                  <a:lnTo>
                    <a:pt x="81" y="2186"/>
                  </a:lnTo>
                  <a:lnTo>
                    <a:pt x="64" y="2171"/>
                  </a:lnTo>
                  <a:lnTo>
                    <a:pt x="33" y="2127"/>
                  </a:lnTo>
                  <a:lnTo>
                    <a:pt x="12" y="2092"/>
                  </a:lnTo>
                  <a:lnTo>
                    <a:pt x="2" y="2065"/>
                  </a:lnTo>
                  <a:lnTo>
                    <a:pt x="0" y="2044"/>
                  </a:lnTo>
                  <a:lnTo>
                    <a:pt x="0" y="2032"/>
                  </a:lnTo>
                  <a:lnTo>
                    <a:pt x="4" y="2023"/>
                  </a:lnTo>
                  <a:lnTo>
                    <a:pt x="16" y="2015"/>
                  </a:lnTo>
                  <a:lnTo>
                    <a:pt x="31" y="2015"/>
                  </a:lnTo>
                  <a:lnTo>
                    <a:pt x="39" y="2019"/>
                  </a:lnTo>
                  <a:lnTo>
                    <a:pt x="47" y="2026"/>
                  </a:lnTo>
                  <a:lnTo>
                    <a:pt x="72" y="2053"/>
                  </a:lnTo>
                  <a:lnTo>
                    <a:pt x="120" y="2096"/>
                  </a:lnTo>
                  <a:lnTo>
                    <a:pt x="177" y="2140"/>
                  </a:lnTo>
                  <a:lnTo>
                    <a:pt x="233" y="2173"/>
                  </a:lnTo>
                  <a:lnTo>
                    <a:pt x="289" y="2198"/>
                  </a:lnTo>
                  <a:lnTo>
                    <a:pt x="341" y="2215"/>
                  </a:lnTo>
                  <a:lnTo>
                    <a:pt x="393" y="2225"/>
                  </a:lnTo>
                  <a:lnTo>
                    <a:pt x="446" y="2227"/>
                  </a:lnTo>
                  <a:lnTo>
                    <a:pt x="493" y="2221"/>
                  </a:lnTo>
                  <a:lnTo>
                    <a:pt x="541" y="2211"/>
                  </a:lnTo>
                  <a:lnTo>
                    <a:pt x="589" y="2194"/>
                  </a:lnTo>
                  <a:lnTo>
                    <a:pt x="633" y="2169"/>
                  </a:lnTo>
                  <a:lnTo>
                    <a:pt x="679" y="2140"/>
                  </a:lnTo>
                  <a:lnTo>
                    <a:pt x="723" y="2105"/>
                  </a:lnTo>
                  <a:lnTo>
                    <a:pt x="766" y="2065"/>
                  </a:lnTo>
                  <a:lnTo>
                    <a:pt x="806" y="2019"/>
                  </a:lnTo>
                  <a:lnTo>
                    <a:pt x="848" y="1971"/>
                  </a:lnTo>
                  <a:lnTo>
                    <a:pt x="887" y="1919"/>
                  </a:lnTo>
                  <a:lnTo>
                    <a:pt x="944" y="1834"/>
                  </a:lnTo>
                  <a:lnTo>
                    <a:pt x="998" y="1740"/>
                  </a:lnTo>
                  <a:lnTo>
                    <a:pt x="1052" y="1636"/>
                  </a:lnTo>
                  <a:lnTo>
                    <a:pt x="1102" y="1524"/>
                  </a:lnTo>
                  <a:lnTo>
                    <a:pt x="1150" y="1403"/>
                  </a:lnTo>
                  <a:lnTo>
                    <a:pt x="1198" y="1268"/>
                  </a:lnTo>
                  <a:lnTo>
                    <a:pt x="1244" y="1123"/>
                  </a:lnTo>
                  <a:lnTo>
                    <a:pt x="1285" y="965"/>
                  </a:lnTo>
                  <a:lnTo>
                    <a:pt x="1374" y="595"/>
                  </a:lnTo>
                  <a:lnTo>
                    <a:pt x="1372" y="568"/>
                  </a:lnTo>
                  <a:lnTo>
                    <a:pt x="796" y="634"/>
                  </a:lnTo>
                  <a:lnTo>
                    <a:pt x="719" y="641"/>
                  </a:lnTo>
                  <a:lnTo>
                    <a:pt x="704" y="638"/>
                  </a:lnTo>
                  <a:lnTo>
                    <a:pt x="677" y="580"/>
                  </a:lnTo>
                  <a:lnTo>
                    <a:pt x="621" y="584"/>
                  </a:lnTo>
                  <a:lnTo>
                    <a:pt x="612" y="580"/>
                  </a:lnTo>
                  <a:lnTo>
                    <a:pt x="606" y="568"/>
                  </a:lnTo>
                  <a:lnTo>
                    <a:pt x="608" y="555"/>
                  </a:lnTo>
                  <a:lnTo>
                    <a:pt x="610" y="549"/>
                  </a:lnTo>
                  <a:lnTo>
                    <a:pt x="623" y="547"/>
                  </a:lnTo>
                  <a:lnTo>
                    <a:pt x="641" y="541"/>
                  </a:lnTo>
                  <a:lnTo>
                    <a:pt x="654" y="534"/>
                  </a:lnTo>
                  <a:lnTo>
                    <a:pt x="664" y="520"/>
                  </a:lnTo>
                  <a:lnTo>
                    <a:pt x="666" y="509"/>
                  </a:lnTo>
                  <a:lnTo>
                    <a:pt x="660" y="499"/>
                  </a:lnTo>
                  <a:lnTo>
                    <a:pt x="633" y="482"/>
                  </a:lnTo>
                  <a:lnTo>
                    <a:pt x="602" y="464"/>
                  </a:lnTo>
                  <a:lnTo>
                    <a:pt x="591" y="455"/>
                  </a:lnTo>
                  <a:lnTo>
                    <a:pt x="585" y="445"/>
                  </a:lnTo>
                  <a:lnTo>
                    <a:pt x="583" y="422"/>
                  </a:lnTo>
                  <a:lnTo>
                    <a:pt x="587" y="405"/>
                  </a:lnTo>
                  <a:lnTo>
                    <a:pt x="596" y="397"/>
                  </a:lnTo>
                  <a:lnTo>
                    <a:pt x="608" y="393"/>
                  </a:lnTo>
                  <a:lnTo>
                    <a:pt x="641" y="391"/>
                  </a:lnTo>
                  <a:lnTo>
                    <a:pt x="664" y="391"/>
                  </a:lnTo>
                  <a:lnTo>
                    <a:pt x="685" y="385"/>
                  </a:lnTo>
                  <a:lnTo>
                    <a:pt x="685" y="368"/>
                  </a:lnTo>
                  <a:lnTo>
                    <a:pt x="654" y="366"/>
                  </a:lnTo>
                  <a:lnTo>
                    <a:pt x="633" y="360"/>
                  </a:lnTo>
                  <a:lnTo>
                    <a:pt x="629" y="353"/>
                  </a:lnTo>
                  <a:lnTo>
                    <a:pt x="627" y="343"/>
                  </a:lnTo>
                  <a:lnTo>
                    <a:pt x="633" y="301"/>
                  </a:lnTo>
                  <a:lnTo>
                    <a:pt x="635" y="297"/>
                  </a:lnTo>
                  <a:lnTo>
                    <a:pt x="641" y="293"/>
                  </a:lnTo>
                  <a:lnTo>
                    <a:pt x="664" y="289"/>
                  </a:lnTo>
                  <a:lnTo>
                    <a:pt x="781" y="289"/>
                  </a:lnTo>
                  <a:lnTo>
                    <a:pt x="889" y="283"/>
                  </a:lnTo>
                  <a:lnTo>
                    <a:pt x="1039" y="270"/>
                  </a:lnTo>
                  <a:lnTo>
                    <a:pt x="1237" y="245"/>
                  </a:lnTo>
                  <a:lnTo>
                    <a:pt x="1493" y="206"/>
                  </a:lnTo>
                  <a:lnTo>
                    <a:pt x="2295" y="49"/>
                  </a:lnTo>
                  <a:lnTo>
                    <a:pt x="2539" y="8"/>
                  </a:lnTo>
                  <a:lnTo>
                    <a:pt x="2612" y="0"/>
                  </a:lnTo>
                  <a:lnTo>
                    <a:pt x="2658" y="0"/>
                  </a:lnTo>
                  <a:lnTo>
                    <a:pt x="2687" y="6"/>
                  </a:lnTo>
                  <a:lnTo>
                    <a:pt x="2699" y="16"/>
                  </a:lnTo>
                  <a:lnTo>
                    <a:pt x="2704" y="31"/>
                  </a:lnTo>
                  <a:lnTo>
                    <a:pt x="2704" y="4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999120" y="5564160"/>
              <a:ext cx="849600" cy="790920"/>
            </a:xfrm>
            <a:custGeom>
              <a:avLst/>
              <a:gdLst/>
              <a:ahLst/>
              <a:rect l="0" t="0" r="r" b="b"/>
              <a:pathLst>
                <a:path w="2360" h="2197">
                  <a:moveTo>
                    <a:pt x="706" y="145"/>
                  </a:moveTo>
                  <a:lnTo>
                    <a:pt x="739" y="162"/>
                  </a:lnTo>
                  <a:lnTo>
                    <a:pt x="762" y="176"/>
                  </a:lnTo>
                  <a:lnTo>
                    <a:pt x="769" y="185"/>
                  </a:lnTo>
                  <a:lnTo>
                    <a:pt x="773" y="195"/>
                  </a:lnTo>
                  <a:lnTo>
                    <a:pt x="773" y="220"/>
                  </a:lnTo>
                  <a:lnTo>
                    <a:pt x="758" y="255"/>
                  </a:lnTo>
                  <a:lnTo>
                    <a:pt x="729" y="305"/>
                  </a:lnTo>
                  <a:lnTo>
                    <a:pt x="635" y="459"/>
                  </a:lnTo>
                  <a:lnTo>
                    <a:pt x="614" y="480"/>
                  </a:lnTo>
                  <a:lnTo>
                    <a:pt x="591" y="580"/>
                  </a:lnTo>
                  <a:lnTo>
                    <a:pt x="581" y="607"/>
                  </a:lnTo>
                  <a:lnTo>
                    <a:pt x="568" y="625"/>
                  </a:lnTo>
                  <a:lnTo>
                    <a:pt x="535" y="673"/>
                  </a:lnTo>
                  <a:lnTo>
                    <a:pt x="506" y="717"/>
                  </a:lnTo>
                  <a:lnTo>
                    <a:pt x="468" y="781"/>
                  </a:lnTo>
                  <a:lnTo>
                    <a:pt x="420" y="917"/>
                  </a:lnTo>
                  <a:lnTo>
                    <a:pt x="406" y="935"/>
                  </a:lnTo>
                  <a:lnTo>
                    <a:pt x="373" y="983"/>
                  </a:lnTo>
                  <a:lnTo>
                    <a:pt x="350" y="1021"/>
                  </a:lnTo>
                  <a:lnTo>
                    <a:pt x="323" y="1068"/>
                  </a:lnTo>
                  <a:lnTo>
                    <a:pt x="266" y="1203"/>
                  </a:lnTo>
                  <a:lnTo>
                    <a:pt x="233" y="1302"/>
                  </a:lnTo>
                  <a:lnTo>
                    <a:pt x="208" y="1381"/>
                  </a:lnTo>
                  <a:lnTo>
                    <a:pt x="195" y="1442"/>
                  </a:lnTo>
                  <a:lnTo>
                    <a:pt x="191" y="1483"/>
                  </a:lnTo>
                  <a:lnTo>
                    <a:pt x="200" y="1510"/>
                  </a:lnTo>
                  <a:lnTo>
                    <a:pt x="206" y="1519"/>
                  </a:lnTo>
                  <a:lnTo>
                    <a:pt x="214" y="1521"/>
                  </a:lnTo>
                  <a:lnTo>
                    <a:pt x="222" y="1523"/>
                  </a:lnTo>
                  <a:lnTo>
                    <a:pt x="235" y="1521"/>
                  </a:lnTo>
                  <a:lnTo>
                    <a:pt x="264" y="1506"/>
                  </a:lnTo>
                  <a:lnTo>
                    <a:pt x="298" y="1485"/>
                  </a:lnTo>
                  <a:lnTo>
                    <a:pt x="337" y="1456"/>
                  </a:lnTo>
                  <a:lnTo>
                    <a:pt x="423" y="1379"/>
                  </a:lnTo>
                  <a:lnTo>
                    <a:pt x="614" y="1203"/>
                  </a:lnTo>
                  <a:lnTo>
                    <a:pt x="646" y="1173"/>
                  </a:lnTo>
                  <a:lnTo>
                    <a:pt x="664" y="1153"/>
                  </a:lnTo>
                  <a:lnTo>
                    <a:pt x="685" y="1126"/>
                  </a:lnTo>
                  <a:lnTo>
                    <a:pt x="704" y="1093"/>
                  </a:lnTo>
                  <a:lnTo>
                    <a:pt x="725" y="1056"/>
                  </a:lnTo>
                  <a:lnTo>
                    <a:pt x="744" y="1010"/>
                  </a:lnTo>
                  <a:lnTo>
                    <a:pt x="758" y="956"/>
                  </a:lnTo>
                  <a:lnTo>
                    <a:pt x="787" y="838"/>
                  </a:lnTo>
                  <a:lnTo>
                    <a:pt x="798" y="786"/>
                  </a:lnTo>
                  <a:lnTo>
                    <a:pt x="806" y="771"/>
                  </a:lnTo>
                  <a:lnTo>
                    <a:pt x="825" y="750"/>
                  </a:lnTo>
                  <a:lnTo>
                    <a:pt x="833" y="746"/>
                  </a:lnTo>
                  <a:lnTo>
                    <a:pt x="831" y="702"/>
                  </a:lnTo>
                  <a:lnTo>
                    <a:pt x="831" y="669"/>
                  </a:lnTo>
                  <a:lnTo>
                    <a:pt x="837" y="642"/>
                  </a:lnTo>
                  <a:lnTo>
                    <a:pt x="846" y="623"/>
                  </a:lnTo>
                  <a:lnTo>
                    <a:pt x="856" y="613"/>
                  </a:lnTo>
                  <a:lnTo>
                    <a:pt x="864" y="605"/>
                  </a:lnTo>
                  <a:lnTo>
                    <a:pt x="881" y="598"/>
                  </a:lnTo>
                  <a:lnTo>
                    <a:pt x="902" y="582"/>
                  </a:lnTo>
                  <a:lnTo>
                    <a:pt x="887" y="546"/>
                  </a:lnTo>
                  <a:lnTo>
                    <a:pt x="885" y="534"/>
                  </a:lnTo>
                  <a:lnTo>
                    <a:pt x="885" y="519"/>
                  </a:lnTo>
                  <a:lnTo>
                    <a:pt x="908" y="476"/>
                  </a:lnTo>
                  <a:lnTo>
                    <a:pt x="964" y="388"/>
                  </a:lnTo>
                  <a:lnTo>
                    <a:pt x="998" y="338"/>
                  </a:lnTo>
                  <a:lnTo>
                    <a:pt x="1025" y="291"/>
                  </a:lnTo>
                  <a:lnTo>
                    <a:pt x="1069" y="214"/>
                  </a:lnTo>
                  <a:lnTo>
                    <a:pt x="1094" y="187"/>
                  </a:lnTo>
                  <a:lnTo>
                    <a:pt x="1119" y="172"/>
                  </a:lnTo>
                  <a:lnTo>
                    <a:pt x="1150" y="168"/>
                  </a:lnTo>
                  <a:lnTo>
                    <a:pt x="1169" y="170"/>
                  </a:lnTo>
                  <a:lnTo>
                    <a:pt x="1188" y="176"/>
                  </a:lnTo>
                  <a:lnTo>
                    <a:pt x="1197" y="189"/>
                  </a:lnTo>
                  <a:lnTo>
                    <a:pt x="1268" y="180"/>
                  </a:lnTo>
                  <a:lnTo>
                    <a:pt x="1293" y="185"/>
                  </a:lnTo>
                  <a:lnTo>
                    <a:pt x="1311" y="197"/>
                  </a:lnTo>
                  <a:lnTo>
                    <a:pt x="1324" y="232"/>
                  </a:lnTo>
                  <a:lnTo>
                    <a:pt x="1326" y="255"/>
                  </a:lnTo>
                  <a:lnTo>
                    <a:pt x="1326" y="274"/>
                  </a:lnTo>
                  <a:lnTo>
                    <a:pt x="1322" y="284"/>
                  </a:lnTo>
                  <a:lnTo>
                    <a:pt x="1316" y="301"/>
                  </a:lnTo>
                  <a:lnTo>
                    <a:pt x="1316" y="307"/>
                  </a:lnTo>
                  <a:lnTo>
                    <a:pt x="1322" y="311"/>
                  </a:lnTo>
                  <a:lnTo>
                    <a:pt x="1332" y="318"/>
                  </a:lnTo>
                  <a:lnTo>
                    <a:pt x="1347" y="322"/>
                  </a:lnTo>
                  <a:lnTo>
                    <a:pt x="1361" y="330"/>
                  </a:lnTo>
                  <a:lnTo>
                    <a:pt x="1366" y="338"/>
                  </a:lnTo>
                  <a:lnTo>
                    <a:pt x="1370" y="349"/>
                  </a:lnTo>
                  <a:lnTo>
                    <a:pt x="1370" y="366"/>
                  </a:lnTo>
                  <a:lnTo>
                    <a:pt x="1366" y="382"/>
                  </a:lnTo>
                  <a:lnTo>
                    <a:pt x="1349" y="428"/>
                  </a:lnTo>
                  <a:lnTo>
                    <a:pt x="1282" y="559"/>
                  </a:lnTo>
                  <a:lnTo>
                    <a:pt x="1177" y="763"/>
                  </a:lnTo>
                  <a:lnTo>
                    <a:pt x="1117" y="898"/>
                  </a:lnTo>
                  <a:lnTo>
                    <a:pt x="1052" y="1056"/>
                  </a:lnTo>
                  <a:lnTo>
                    <a:pt x="992" y="1223"/>
                  </a:lnTo>
                  <a:lnTo>
                    <a:pt x="948" y="1348"/>
                  </a:lnTo>
                  <a:lnTo>
                    <a:pt x="923" y="1433"/>
                  </a:lnTo>
                  <a:lnTo>
                    <a:pt x="912" y="1494"/>
                  </a:lnTo>
                  <a:lnTo>
                    <a:pt x="917" y="1531"/>
                  </a:lnTo>
                  <a:lnTo>
                    <a:pt x="923" y="1544"/>
                  </a:lnTo>
                  <a:lnTo>
                    <a:pt x="931" y="1554"/>
                  </a:lnTo>
                  <a:lnTo>
                    <a:pt x="956" y="1569"/>
                  </a:lnTo>
                  <a:lnTo>
                    <a:pt x="987" y="1585"/>
                  </a:lnTo>
                  <a:lnTo>
                    <a:pt x="1085" y="1446"/>
                  </a:lnTo>
                  <a:lnTo>
                    <a:pt x="1135" y="1381"/>
                  </a:lnTo>
                  <a:lnTo>
                    <a:pt x="1162" y="1346"/>
                  </a:lnTo>
                  <a:lnTo>
                    <a:pt x="1188" y="1296"/>
                  </a:lnTo>
                  <a:lnTo>
                    <a:pt x="1079" y="1327"/>
                  </a:lnTo>
                  <a:lnTo>
                    <a:pt x="1085" y="1296"/>
                  </a:lnTo>
                  <a:lnTo>
                    <a:pt x="1092" y="1288"/>
                  </a:lnTo>
                  <a:lnTo>
                    <a:pt x="1100" y="1279"/>
                  </a:lnTo>
                  <a:lnTo>
                    <a:pt x="1114" y="1254"/>
                  </a:lnTo>
                  <a:lnTo>
                    <a:pt x="1108" y="1240"/>
                  </a:lnTo>
                  <a:lnTo>
                    <a:pt x="1100" y="1223"/>
                  </a:lnTo>
                  <a:lnTo>
                    <a:pt x="1096" y="1209"/>
                  </a:lnTo>
                  <a:lnTo>
                    <a:pt x="1098" y="1203"/>
                  </a:lnTo>
                  <a:lnTo>
                    <a:pt x="1100" y="1196"/>
                  </a:lnTo>
                  <a:lnTo>
                    <a:pt x="1299" y="1068"/>
                  </a:lnTo>
                  <a:lnTo>
                    <a:pt x="1349" y="1035"/>
                  </a:lnTo>
                  <a:lnTo>
                    <a:pt x="1378" y="1010"/>
                  </a:lnTo>
                  <a:lnTo>
                    <a:pt x="1389" y="998"/>
                  </a:lnTo>
                  <a:lnTo>
                    <a:pt x="1397" y="985"/>
                  </a:lnTo>
                  <a:lnTo>
                    <a:pt x="1414" y="952"/>
                  </a:lnTo>
                  <a:lnTo>
                    <a:pt x="1441" y="902"/>
                  </a:lnTo>
                  <a:lnTo>
                    <a:pt x="1482" y="825"/>
                  </a:lnTo>
                  <a:lnTo>
                    <a:pt x="1561" y="738"/>
                  </a:lnTo>
                  <a:lnTo>
                    <a:pt x="1584" y="725"/>
                  </a:lnTo>
                  <a:lnTo>
                    <a:pt x="1589" y="694"/>
                  </a:lnTo>
                  <a:lnTo>
                    <a:pt x="1603" y="682"/>
                  </a:lnTo>
                  <a:lnTo>
                    <a:pt x="1641" y="646"/>
                  </a:lnTo>
                  <a:lnTo>
                    <a:pt x="1672" y="611"/>
                  </a:lnTo>
                  <a:lnTo>
                    <a:pt x="1716" y="555"/>
                  </a:lnTo>
                  <a:lnTo>
                    <a:pt x="1841" y="395"/>
                  </a:lnTo>
                  <a:lnTo>
                    <a:pt x="1895" y="338"/>
                  </a:lnTo>
                  <a:lnTo>
                    <a:pt x="1928" y="314"/>
                  </a:lnTo>
                  <a:lnTo>
                    <a:pt x="1957" y="293"/>
                  </a:lnTo>
                  <a:lnTo>
                    <a:pt x="2001" y="253"/>
                  </a:lnTo>
                  <a:lnTo>
                    <a:pt x="2016" y="237"/>
                  </a:lnTo>
                  <a:lnTo>
                    <a:pt x="2028" y="218"/>
                  </a:lnTo>
                  <a:lnTo>
                    <a:pt x="2041" y="180"/>
                  </a:lnTo>
                  <a:lnTo>
                    <a:pt x="2049" y="116"/>
                  </a:lnTo>
                  <a:lnTo>
                    <a:pt x="2055" y="91"/>
                  </a:lnTo>
                  <a:lnTo>
                    <a:pt x="2060" y="83"/>
                  </a:lnTo>
                  <a:lnTo>
                    <a:pt x="2070" y="76"/>
                  </a:lnTo>
                  <a:lnTo>
                    <a:pt x="2099" y="74"/>
                  </a:lnTo>
                  <a:lnTo>
                    <a:pt x="2149" y="85"/>
                  </a:lnTo>
                  <a:lnTo>
                    <a:pt x="2170" y="101"/>
                  </a:lnTo>
                  <a:lnTo>
                    <a:pt x="2170" y="126"/>
                  </a:lnTo>
                  <a:lnTo>
                    <a:pt x="2174" y="131"/>
                  </a:lnTo>
                  <a:lnTo>
                    <a:pt x="2180" y="133"/>
                  </a:lnTo>
                  <a:lnTo>
                    <a:pt x="2224" y="135"/>
                  </a:lnTo>
                  <a:lnTo>
                    <a:pt x="2324" y="149"/>
                  </a:lnTo>
                  <a:lnTo>
                    <a:pt x="2341" y="153"/>
                  </a:lnTo>
                  <a:lnTo>
                    <a:pt x="2351" y="162"/>
                  </a:lnTo>
                  <a:lnTo>
                    <a:pt x="2358" y="172"/>
                  </a:lnTo>
                  <a:lnTo>
                    <a:pt x="2360" y="187"/>
                  </a:lnTo>
                  <a:lnTo>
                    <a:pt x="2358" y="234"/>
                  </a:lnTo>
                  <a:lnTo>
                    <a:pt x="2343" y="309"/>
                  </a:lnTo>
                  <a:lnTo>
                    <a:pt x="2322" y="420"/>
                  </a:lnTo>
                  <a:lnTo>
                    <a:pt x="2299" y="569"/>
                  </a:lnTo>
                  <a:lnTo>
                    <a:pt x="2274" y="767"/>
                  </a:lnTo>
                  <a:lnTo>
                    <a:pt x="2255" y="1016"/>
                  </a:lnTo>
                  <a:lnTo>
                    <a:pt x="2222" y="1502"/>
                  </a:lnTo>
                  <a:lnTo>
                    <a:pt x="2185" y="1872"/>
                  </a:lnTo>
                  <a:lnTo>
                    <a:pt x="2178" y="1957"/>
                  </a:lnTo>
                  <a:lnTo>
                    <a:pt x="2174" y="2034"/>
                  </a:lnTo>
                  <a:lnTo>
                    <a:pt x="2170" y="2061"/>
                  </a:lnTo>
                  <a:lnTo>
                    <a:pt x="2164" y="2080"/>
                  </a:lnTo>
                  <a:lnTo>
                    <a:pt x="2160" y="2084"/>
                  </a:lnTo>
                  <a:lnTo>
                    <a:pt x="2153" y="2086"/>
                  </a:lnTo>
                  <a:lnTo>
                    <a:pt x="2137" y="2078"/>
                  </a:lnTo>
                  <a:lnTo>
                    <a:pt x="2137" y="2066"/>
                  </a:lnTo>
                  <a:lnTo>
                    <a:pt x="2128" y="2059"/>
                  </a:lnTo>
                  <a:lnTo>
                    <a:pt x="2122" y="1982"/>
                  </a:lnTo>
                  <a:lnTo>
                    <a:pt x="2089" y="1968"/>
                  </a:lnTo>
                  <a:lnTo>
                    <a:pt x="2074" y="1953"/>
                  </a:lnTo>
                  <a:lnTo>
                    <a:pt x="2070" y="1945"/>
                  </a:lnTo>
                  <a:lnTo>
                    <a:pt x="2070" y="1932"/>
                  </a:lnTo>
                  <a:lnTo>
                    <a:pt x="2080" y="1926"/>
                  </a:lnTo>
                  <a:lnTo>
                    <a:pt x="2089" y="1916"/>
                  </a:lnTo>
                  <a:lnTo>
                    <a:pt x="2097" y="1895"/>
                  </a:lnTo>
                  <a:lnTo>
                    <a:pt x="2099" y="1872"/>
                  </a:lnTo>
                  <a:lnTo>
                    <a:pt x="2097" y="1855"/>
                  </a:lnTo>
                  <a:lnTo>
                    <a:pt x="2074" y="1843"/>
                  </a:lnTo>
                  <a:lnTo>
                    <a:pt x="2064" y="1808"/>
                  </a:lnTo>
                  <a:lnTo>
                    <a:pt x="2062" y="1799"/>
                  </a:lnTo>
                  <a:lnTo>
                    <a:pt x="2072" y="1797"/>
                  </a:lnTo>
                  <a:lnTo>
                    <a:pt x="2080" y="1793"/>
                  </a:lnTo>
                  <a:lnTo>
                    <a:pt x="2091" y="1781"/>
                  </a:lnTo>
                  <a:lnTo>
                    <a:pt x="2093" y="1768"/>
                  </a:lnTo>
                  <a:lnTo>
                    <a:pt x="2091" y="1764"/>
                  </a:lnTo>
                  <a:lnTo>
                    <a:pt x="2053" y="1764"/>
                  </a:lnTo>
                  <a:lnTo>
                    <a:pt x="2030" y="1631"/>
                  </a:lnTo>
                  <a:lnTo>
                    <a:pt x="2018" y="1554"/>
                  </a:lnTo>
                  <a:lnTo>
                    <a:pt x="2014" y="1539"/>
                  </a:lnTo>
                  <a:lnTo>
                    <a:pt x="2010" y="1537"/>
                  </a:lnTo>
                  <a:lnTo>
                    <a:pt x="1987" y="1581"/>
                  </a:lnTo>
                  <a:lnTo>
                    <a:pt x="1970" y="1435"/>
                  </a:lnTo>
                  <a:lnTo>
                    <a:pt x="1970" y="1388"/>
                  </a:lnTo>
                  <a:lnTo>
                    <a:pt x="1978" y="1377"/>
                  </a:lnTo>
                  <a:lnTo>
                    <a:pt x="1980" y="1369"/>
                  </a:lnTo>
                  <a:lnTo>
                    <a:pt x="1982" y="1350"/>
                  </a:lnTo>
                  <a:lnTo>
                    <a:pt x="1970" y="1279"/>
                  </a:lnTo>
                  <a:lnTo>
                    <a:pt x="1964" y="1267"/>
                  </a:lnTo>
                  <a:lnTo>
                    <a:pt x="1960" y="1244"/>
                  </a:lnTo>
                  <a:lnTo>
                    <a:pt x="1960" y="1186"/>
                  </a:lnTo>
                  <a:lnTo>
                    <a:pt x="1970" y="1064"/>
                  </a:lnTo>
                  <a:lnTo>
                    <a:pt x="1976" y="1012"/>
                  </a:lnTo>
                  <a:lnTo>
                    <a:pt x="1974" y="960"/>
                  </a:lnTo>
                  <a:lnTo>
                    <a:pt x="1891" y="985"/>
                  </a:lnTo>
                  <a:lnTo>
                    <a:pt x="1828" y="1008"/>
                  </a:lnTo>
                  <a:lnTo>
                    <a:pt x="1784" y="1029"/>
                  </a:lnTo>
                  <a:lnTo>
                    <a:pt x="1755" y="1048"/>
                  </a:lnTo>
                  <a:lnTo>
                    <a:pt x="1714" y="1083"/>
                  </a:lnTo>
                  <a:lnTo>
                    <a:pt x="1695" y="1101"/>
                  </a:lnTo>
                  <a:lnTo>
                    <a:pt x="1668" y="1115"/>
                  </a:lnTo>
                  <a:lnTo>
                    <a:pt x="1612" y="1134"/>
                  </a:lnTo>
                  <a:lnTo>
                    <a:pt x="1578" y="1140"/>
                  </a:lnTo>
                  <a:lnTo>
                    <a:pt x="1559" y="1138"/>
                  </a:lnTo>
                  <a:lnTo>
                    <a:pt x="1541" y="1144"/>
                  </a:lnTo>
                  <a:lnTo>
                    <a:pt x="1534" y="1171"/>
                  </a:lnTo>
                  <a:lnTo>
                    <a:pt x="1501" y="1192"/>
                  </a:lnTo>
                  <a:lnTo>
                    <a:pt x="1493" y="1203"/>
                  </a:lnTo>
                  <a:lnTo>
                    <a:pt x="1482" y="1223"/>
                  </a:lnTo>
                  <a:lnTo>
                    <a:pt x="1459" y="1269"/>
                  </a:lnTo>
                  <a:lnTo>
                    <a:pt x="1420" y="1348"/>
                  </a:lnTo>
                  <a:lnTo>
                    <a:pt x="1355" y="1469"/>
                  </a:lnTo>
                  <a:lnTo>
                    <a:pt x="1255" y="1641"/>
                  </a:lnTo>
                  <a:lnTo>
                    <a:pt x="1154" y="1820"/>
                  </a:lnTo>
                  <a:lnTo>
                    <a:pt x="1144" y="1837"/>
                  </a:lnTo>
                  <a:lnTo>
                    <a:pt x="1137" y="1843"/>
                  </a:lnTo>
                  <a:lnTo>
                    <a:pt x="1129" y="1845"/>
                  </a:lnTo>
                  <a:lnTo>
                    <a:pt x="1119" y="1843"/>
                  </a:lnTo>
                  <a:lnTo>
                    <a:pt x="1106" y="1837"/>
                  </a:lnTo>
                  <a:lnTo>
                    <a:pt x="1100" y="1833"/>
                  </a:lnTo>
                  <a:lnTo>
                    <a:pt x="1098" y="1835"/>
                  </a:lnTo>
                  <a:lnTo>
                    <a:pt x="1092" y="1843"/>
                  </a:lnTo>
                  <a:lnTo>
                    <a:pt x="1062" y="1901"/>
                  </a:lnTo>
                  <a:lnTo>
                    <a:pt x="1033" y="1955"/>
                  </a:lnTo>
                  <a:lnTo>
                    <a:pt x="987" y="2034"/>
                  </a:lnTo>
                  <a:lnTo>
                    <a:pt x="960" y="2068"/>
                  </a:lnTo>
                  <a:lnTo>
                    <a:pt x="948" y="2080"/>
                  </a:lnTo>
                  <a:lnTo>
                    <a:pt x="933" y="2090"/>
                  </a:lnTo>
                  <a:lnTo>
                    <a:pt x="914" y="2101"/>
                  </a:lnTo>
                  <a:lnTo>
                    <a:pt x="902" y="2099"/>
                  </a:lnTo>
                  <a:lnTo>
                    <a:pt x="887" y="2076"/>
                  </a:lnTo>
                  <a:lnTo>
                    <a:pt x="885" y="2076"/>
                  </a:lnTo>
                  <a:lnTo>
                    <a:pt x="879" y="2082"/>
                  </a:lnTo>
                  <a:lnTo>
                    <a:pt x="869" y="2103"/>
                  </a:lnTo>
                  <a:lnTo>
                    <a:pt x="856" y="2120"/>
                  </a:lnTo>
                  <a:lnTo>
                    <a:pt x="841" y="2134"/>
                  </a:lnTo>
                  <a:lnTo>
                    <a:pt x="821" y="2130"/>
                  </a:lnTo>
                  <a:lnTo>
                    <a:pt x="819" y="2101"/>
                  </a:lnTo>
                  <a:lnTo>
                    <a:pt x="814" y="2088"/>
                  </a:lnTo>
                  <a:lnTo>
                    <a:pt x="808" y="2093"/>
                  </a:lnTo>
                  <a:lnTo>
                    <a:pt x="798" y="2109"/>
                  </a:lnTo>
                  <a:lnTo>
                    <a:pt x="769" y="2157"/>
                  </a:lnTo>
                  <a:lnTo>
                    <a:pt x="748" y="2180"/>
                  </a:lnTo>
                  <a:lnTo>
                    <a:pt x="723" y="2197"/>
                  </a:lnTo>
                  <a:lnTo>
                    <a:pt x="694" y="2197"/>
                  </a:lnTo>
                  <a:lnTo>
                    <a:pt x="698" y="2130"/>
                  </a:lnTo>
                  <a:lnTo>
                    <a:pt x="658" y="2126"/>
                  </a:lnTo>
                  <a:lnTo>
                    <a:pt x="668" y="2101"/>
                  </a:lnTo>
                  <a:lnTo>
                    <a:pt x="679" y="2074"/>
                  </a:lnTo>
                  <a:lnTo>
                    <a:pt x="714" y="2022"/>
                  </a:lnTo>
                  <a:lnTo>
                    <a:pt x="752" y="1970"/>
                  </a:lnTo>
                  <a:lnTo>
                    <a:pt x="785" y="1920"/>
                  </a:lnTo>
                  <a:lnTo>
                    <a:pt x="831" y="1833"/>
                  </a:lnTo>
                  <a:lnTo>
                    <a:pt x="852" y="1779"/>
                  </a:lnTo>
                  <a:lnTo>
                    <a:pt x="856" y="1762"/>
                  </a:lnTo>
                  <a:lnTo>
                    <a:pt x="856" y="1752"/>
                  </a:lnTo>
                  <a:lnTo>
                    <a:pt x="852" y="1745"/>
                  </a:lnTo>
                  <a:lnTo>
                    <a:pt x="844" y="1743"/>
                  </a:lnTo>
                  <a:lnTo>
                    <a:pt x="816" y="1747"/>
                  </a:lnTo>
                  <a:lnTo>
                    <a:pt x="783" y="1760"/>
                  </a:lnTo>
                  <a:lnTo>
                    <a:pt x="744" y="1772"/>
                  </a:lnTo>
                  <a:lnTo>
                    <a:pt x="702" y="1776"/>
                  </a:lnTo>
                  <a:lnTo>
                    <a:pt x="664" y="1772"/>
                  </a:lnTo>
                  <a:lnTo>
                    <a:pt x="635" y="1760"/>
                  </a:lnTo>
                  <a:lnTo>
                    <a:pt x="612" y="1739"/>
                  </a:lnTo>
                  <a:lnTo>
                    <a:pt x="596" y="1716"/>
                  </a:lnTo>
                  <a:lnTo>
                    <a:pt x="596" y="1672"/>
                  </a:lnTo>
                  <a:lnTo>
                    <a:pt x="593" y="1664"/>
                  </a:lnTo>
                  <a:lnTo>
                    <a:pt x="589" y="1658"/>
                  </a:lnTo>
                  <a:lnTo>
                    <a:pt x="579" y="1641"/>
                  </a:lnTo>
                  <a:lnTo>
                    <a:pt x="575" y="1606"/>
                  </a:lnTo>
                  <a:lnTo>
                    <a:pt x="579" y="1533"/>
                  </a:lnTo>
                  <a:lnTo>
                    <a:pt x="598" y="1448"/>
                  </a:lnTo>
                  <a:lnTo>
                    <a:pt x="616" y="1394"/>
                  </a:lnTo>
                  <a:lnTo>
                    <a:pt x="631" y="1367"/>
                  </a:lnTo>
                  <a:lnTo>
                    <a:pt x="631" y="1361"/>
                  </a:lnTo>
                  <a:lnTo>
                    <a:pt x="627" y="1363"/>
                  </a:lnTo>
                  <a:lnTo>
                    <a:pt x="593" y="1392"/>
                  </a:lnTo>
                  <a:lnTo>
                    <a:pt x="552" y="1435"/>
                  </a:lnTo>
                  <a:lnTo>
                    <a:pt x="454" y="1544"/>
                  </a:lnTo>
                  <a:lnTo>
                    <a:pt x="398" y="1598"/>
                  </a:lnTo>
                  <a:lnTo>
                    <a:pt x="341" y="1643"/>
                  </a:lnTo>
                  <a:lnTo>
                    <a:pt x="310" y="1662"/>
                  </a:lnTo>
                  <a:lnTo>
                    <a:pt x="281" y="1675"/>
                  </a:lnTo>
                  <a:lnTo>
                    <a:pt x="250" y="1687"/>
                  </a:lnTo>
                  <a:lnTo>
                    <a:pt x="218" y="1689"/>
                  </a:lnTo>
                  <a:lnTo>
                    <a:pt x="166" y="1689"/>
                  </a:lnTo>
                  <a:lnTo>
                    <a:pt x="143" y="1683"/>
                  </a:lnTo>
                  <a:lnTo>
                    <a:pt x="120" y="1677"/>
                  </a:lnTo>
                  <a:lnTo>
                    <a:pt x="102" y="1668"/>
                  </a:lnTo>
                  <a:lnTo>
                    <a:pt x="83" y="1658"/>
                  </a:lnTo>
                  <a:lnTo>
                    <a:pt x="68" y="1645"/>
                  </a:lnTo>
                  <a:lnTo>
                    <a:pt x="56" y="1631"/>
                  </a:lnTo>
                  <a:lnTo>
                    <a:pt x="33" y="1600"/>
                  </a:lnTo>
                  <a:lnTo>
                    <a:pt x="16" y="1562"/>
                  </a:lnTo>
                  <a:lnTo>
                    <a:pt x="8" y="1523"/>
                  </a:lnTo>
                  <a:lnTo>
                    <a:pt x="2" y="1479"/>
                  </a:lnTo>
                  <a:lnTo>
                    <a:pt x="0" y="1435"/>
                  </a:lnTo>
                  <a:lnTo>
                    <a:pt x="2" y="1390"/>
                  </a:lnTo>
                  <a:lnTo>
                    <a:pt x="12" y="1304"/>
                  </a:lnTo>
                  <a:lnTo>
                    <a:pt x="29" y="1230"/>
                  </a:lnTo>
                  <a:lnTo>
                    <a:pt x="43" y="1175"/>
                  </a:lnTo>
                  <a:lnTo>
                    <a:pt x="72" y="1075"/>
                  </a:lnTo>
                  <a:lnTo>
                    <a:pt x="87" y="1016"/>
                  </a:lnTo>
                  <a:lnTo>
                    <a:pt x="110" y="944"/>
                  </a:lnTo>
                  <a:lnTo>
                    <a:pt x="143" y="850"/>
                  </a:lnTo>
                  <a:lnTo>
                    <a:pt x="189" y="727"/>
                  </a:lnTo>
                  <a:lnTo>
                    <a:pt x="341" y="372"/>
                  </a:lnTo>
                  <a:lnTo>
                    <a:pt x="377" y="301"/>
                  </a:lnTo>
                  <a:lnTo>
                    <a:pt x="402" y="257"/>
                  </a:lnTo>
                  <a:lnTo>
                    <a:pt x="431" y="193"/>
                  </a:lnTo>
                  <a:lnTo>
                    <a:pt x="460" y="133"/>
                  </a:lnTo>
                  <a:lnTo>
                    <a:pt x="487" y="89"/>
                  </a:lnTo>
                  <a:lnTo>
                    <a:pt x="510" y="64"/>
                  </a:lnTo>
                  <a:lnTo>
                    <a:pt x="533" y="45"/>
                  </a:lnTo>
                  <a:lnTo>
                    <a:pt x="550" y="35"/>
                  </a:lnTo>
                  <a:lnTo>
                    <a:pt x="566" y="31"/>
                  </a:lnTo>
                  <a:lnTo>
                    <a:pt x="591" y="31"/>
                  </a:lnTo>
                  <a:lnTo>
                    <a:pt x="606" y="33"/>
                  </a:lnTo>
                  <a:lnTo>
                    <a:pt x="616" y="24"/>
                  </a:lnTo>
                  <a:lnTo>
                    <a:pt x="627" y="10"/>
                  </a:lnTo>
                  <a:lnTo>
                    <a:pt x="641" y="0"/>
                  </a:lnTo>
                  <a:lnTo>
                    <a:pt x="662" y="2"/>
                  </a:lnTo>
                  <a:lnTo>
                    <a:pt x="673" y="8"/>
                  </a:lnTo>
                  <a:lnTo>
                    <a:pt x="679" y="16"/>
                  </a:lnTo>
                  <a:lnTo>
                    <a:pt x="683" y="33"/>
                  </a:lnTo>
                  <a:lnTo>
                    <a:pt x="687" y="72"/>
                  </a:lnTo>
                  <a:lnTo>
                    <a:pt x="698" y="83"/>
                  </a:lnTo>
                  <a:lnTo>
                    <a:pt x="708" y="93"/>
                  </a:lnTo>
                  <a:lnTo>
                    <a:pt x="712" y="112"/>
                  </a:lnTo>
                  <a:lnTo>
                    <a:pt x="706" y="14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826400" y="5580000"/>
              <a:ext cx="981360" cy="908280"/>
            </a:xfrm>
            <a:custGeom>
              <a:avLst/>
              <a:gdLst/>
              <a:ahLst/>
              <a:rect l="0" t="0" r="r" b="b"/>
              <a:pathLst>
                <a:path w="2726" h="2523">
                  <a:moveTo>
                    <a:pt x="2599" y="2235"/>
                  </a:moveTo>
                  <a:lnTo>
                    <a:pt x="2582" y="2246"/>
                  </a:lnTo>
                  <a:lnTo>
                    <a:pt x="2567" y="2252"/>
                  </a:lnTo>
                  <a:lnTo>
                    <a:pt x="2555" y="2250"/>
                  </a:lnTo>
                  <a:lnTo>
                    <a:pt x="2540" y="2244"/>
                  </a:lnTo>
                  <a:lnTo>
                    <a:pt x="2503" y="2208"/>
                  </a:lnTo>
                  <a:lnTo>
                    <a:pt x="2432" y="2148"/>
                  </a:lnTo>
                  <a:lnTo>
                    <a:pt x="2038" y="1831"/>
                  </a:lnTo>
                  <a:lnTo>
                    <a:pt x="1929" y="1748"/>
                  </a:lnTo>
                  <a:lnTo>
                    <a:pt x="1823" y="1671"/>
                  </a:lnTo>
                  <a:lnTo>
                    <a:pt x="1771" y="1633"/>
                  </a:lnTo>
                  <a:lnTo>
                    <a:pt x="1731" y="1598"/>
                  </a:lnTo>
                  <a:lnTo>
                    <a:pt x="1698" y="1567"/>
                  </a:lnTo>
                  <a:lnTo>
                    <a:pt x="1673" y="1540"/>
                  </a:lnTo>
                  <a:lnTo>
                    <a:pt x="1635" y="1494"/>
                  </a:lnTo>
                  <a:lnTo>
                    <a:pt x="1623" y="1479"/>
                  </a:lnTo>
                  <a:lnTo>
                    <a:pt x="1608" y="1465"/>
                  </a:lnTo>
                  <a:lnTo>
                    <a:pt x="1554" y="1444"/>
                  </a:lnTo>
                  <a:lnTo>
                    <a:pt x="1402" y="1269"/>
                  </a:lnTo>
                  <a:lnTo>
                    <a:pt x="1361" y="1224"/>
                  </a:lnTo>
                  <a:lnTo>
                    <a:pt x="1340" y="1203"/>
                  </a:lnTo>
                  <a:lnTo>
                    <a:pt x="1324" y="1193"/>
                  </a:lnTo>
                  <a:lnTo>
                    <a:pt x="1303" y="1208"/>
                  </a:lnTo>
                  <a:lnTo>
                    <a:pt x="1082" y="1047"/>
                  </a:lnTo>
                  <a:lnTo>
                    <a:pt x="1009" y="999"/>
                  </a:lnTo>
                  <a:lnTo>
                    <a:pt x="1011" y="1001"/>
                  </a:lnTo>
                  <a:lnTo>
                    <a:pt x="1025" y="1016"/>
                  </a:lnTo>
                  <a:lnTo>
                    <a:pt x="1067" y="1058"/>
                  </a:lnTo>
                  <a:lnTo>
                    <a:pt x="1084" y="1081"/>
                  </a:lnTo>
                  <a:lnTo>
                    <a:pt x="1086" y="1089"/>
                  </a:lnTo>
                  <a:lnTo>
                    <a:pt x="1084" y="1091"/>
                  </a:lnTo>
                  <a:lnTo>
                    <a:pt x="1088" y="1097"/>
                  </a:lnTo>
                  <a:lnTo>
                    <a:pt x="1144" y="1153"/>
                  </a:lnTo>
                  <a:lnTo>
                    <a:pt x="1330" y="1321"/>
                  </a:lnTo>
                  <a:lnTo>
                    <a:pt x="1420" y="1398"/>
                  </a:lnTo>
                  <a:lnTo>
                    <a:pt x="1460" y="1429"/>
                  </a:lnTo>
                  <a:lnTo>
                    <a:pt x="1468" y="1438"/>
                  </a:lnTo>
                  <a:lnTo>
                    <a:pt x="1458" y="1444"/>
                  </a:lnTo>
                  <a:lnTo>
                    <a:pt x="1450" y="1448"/>
                  </a:lnTo>
                  <a:lnTo>
                    <a:pt x="1441" y="1450"/>
                  </a:lnTo>
                  <a:lnTo>
                    <a:pt x="1439" y="1448"/>
                  </a:lnTo>
                  <a:lnTo>
                    <a:pt x="1464" y="1463"/>
                  </a:lnTo>
                  <a:lnTo>
                    <a:pt x="1531" y="1513"/>
                  </a:lnTo>
                  <a:lnTo>
                    <a:pt x="1898" y="1811"/>
                  </a:lnTo>
                  <a:lnTo>
                    <a:pt x="1967" y="1871"/>
                  </a:lnTo>
                  <a:lnTo>
                    <a:pt x="1996" y="1898"/>
                  </a:lnTo>
                  <a:lnTo>
                    <a:pt x="2031" y="1938"/>
                  </a:lnTo>
                  <a:lnTo>
                    <a:pt x="2090" y="1990"/>
                  </a:lnTo>
                  <a:lnTo>
                    <a:pt x="2209" y="2094"/>
                  </a:lnTo>
                  <a:lnTo>
                    <a:pt x="2563" y="2408"/>
                  </a:lnTo>
                  <a:lnTo>
                    <a:pt x="2726" y="2512"/>
                  </a:lnTo>
                  <a:lnTo>
                    <a:pt x="2724" y="2521"/>
                  </a:lnTo>
                  <a:lnTo>
                    <a:pt x="2719" y="2523"/>
                  </a:lnTo>
                  <a:lnTo>
                    <a:pt x="2703" y="2523"/>
                  </a:lnTo>
                  <a:lnTo>
                    <a:pt x="2678" y="2512"/>
                  </a:lnTo>
                  <a:lnTo>
                    <a:pt x="2644" y="2494"/>
                  </a:lnTo>
                  <a:lnTo>
                    <a:pt x="2603" y="2469"/>
                  </a:lnTo>
                  <a:lnTo>
                    <a:pt x="2557" y="2435"/>
                  </a:lnTo>
                  <a:lnTo>
                    <a:pt x="2448" y="2356"/>
                  </a:lnTo>
                  <a:lnTo>
                    <a:pt x="2223" y="2181"/>
                  </a:lnTo>
                  <a:lnTo>
                    <a:pt x="2121" y="2104"/>
                  </a:lnTo>
                  <a:lnTo>
                    <a:pt x="2042" y="2046"/>
                  </a:lnTo>
                  <a:lnTo>
                    <a:pt x="1913" y="1954"/>
                  </a:lnTo>
                  <a:lnTo>
                    <a:pt x="1825" y="1883"/>
                  </a:lnTo>
                  <a:lnTo>
                    <a:pt x="1760" y="1823"/>
                  </a:lnTo>
                  <a:lnTo>
                    <a:pt x="1708" y="1767"/>
                  </a:lnTo>
                  <a:lnTo>
                    <a:pt x="1652" y="1708"/>
                  </a:lnTo>
                  <a:lnTo>
                    <a:pt x="1577" y="1638"/>
                  </a:lnTo>
                  <a:lnTo>
                    <a:pt x="1529" y="1596"/>
                  </a:lnTo>
                  <a:lnTo>
                    <a:pt x="1468" y="1550"/>
                  </a:lnTo>
                  <a:lnTo>
                    <a:pt x="1311" y="1436"/>
                  </a:lnTo>
                  <a:lnTo>
                    <a:pt x="1259" y="1417"/>
                  </a:lnTo>
                  <a:lnTo>
                    <a:pt x="1180" y="1325"/>
                  </a:lnTo>
                  <a:lnTo>
                    <a:pt x="1171" y="1286"/>
                  </a:lnTo>
                  <a:lnTo>
                    <a:pt x="1134" y="1258"/>
                  </a:lnTo>
                  <a:lnTo>
                    <a:pt x="1100" y="1230"/>
                  </a:lnTo>
                  <a:lnTo>
                    <a:pt x="1050" y="1180"/>
                  </a:lnTo>
                  <a:lnTo>
                    <a:pt x="1009" y="1143"/>
                  </a:lnTo>
                  <a:lnTo>
                    <a:pt x="988" y="1128"/>
                  </a:lnTo>
                  <a:lnTo>
                    <a:pt x="969" y="1120"/>
                  </a:lnTo>
                  <a:lnTo>
                    <a:pt x="917" y="1114"/>
                  </a:lnTo>
                  <a:lnTo>
                    <a:pt x="884" y="1074"/>
                  </a:lnTo>
                  <a:lnTo>
                    <a:pt x="859" y="1049"/>
                  </a:lnTo>
                  <a:lnTo>
                    <a:pt x="821" y="1028"/>
                  </a:lnTo>
                  <a:lnTo>
                    <a:pt x="813" y="1024"/>
                  </a:lnTo>
                  <a:lnTo>
                    <a:pt x="813" y="1018"/>
                  </a:lnTo>
                  <a:lnTo>
                    <a:pt x="838" y="985"/>
                  </a:lnTo>
                  <a:lnTo>
                    <a:pt x="846" y="974"/>
                  </a:lnTo>
                  <a:lnTo>
                    <a:pt x="852" y="964"/>
                  </a:lnTo>
                  <a:lnTo>
                    <a:pt x="856" y="949"/>
                  </a:lnTo>
                  <a:lnTo>
                    <a:pt x="861" y="945"/>
                  </a:lnTo>
                  <a:lnTo>
                    <a:pt x="867" y="941"/>
                  </a:lnTo>
                  <a:lnTo>
                    <a:pt x="892" y="941"/>
                  </a:lnTo>
                  <a:lnTo>
                    <a:pt x="917" y="953"/>
                  </a:lnTo>
                  <a:lnTo>
                    <a:pt x="948" y="949"/>
                  </a:lnTo>
                  <a:lnTo>
                    <a:pt x="971" y="941"/>
                  </a:lnTo>
                  <a:lnTo>
                    <a:pt x="982" y="935"/>
                  </a:lnTo>
                  <a:lnTo>
                    <a:pt x="988" y="926"/>
                  </a:lnTo>
                  <a:lnTo>
                    <a:pt x="986" y="916"/>
                  </a:lnTo>
                  <a:lnTo>
                    <a:pt x="979" y="906"/>
                  </a:lnTo>
                  <a:lnTo>
                    <a:pt x="954" y="885"/>
                  </a:lnTo>
                  <a:lnTo>
                    <a:pt x="927" y="858"/>
                  </a:lnTo>
                  <a:lnTo>
                    <a:pt x="907" y="831"/>
                  </a:lnTo>
                  <a:lnTo>
                    <a:pt x="900" y="818"/>
                  </a:lnTo>
                  <a:lnTo>
                    <a:pt x="900" y="803"/>
                  </a:lnTo>
                  <a:lnTo>
                    <a:pt x="907" y="789"/>
                  </a:lnTo>
                  <a:lnTo>
                    <a:pt x="921" y="774"/>
                  </a:lnTo>
                  <a:lnTo>
                    <a:pt x="936" y="770"/>
                  </a:lnTo>
                  <a:lnTo>
                    <a:pt x="950" y="774"/>
                  </a:lnTo>
                  <a:lnTo>
                    <a:pt x="967" y="785"/>
                  </a:lnTo>
                  <a:lnTo>
                    <a:pt x="982" y="799"/>
                  </a:lnTo>
                  <a:lnTo>
                    <a:pt x="1017" y="833"/>
                  </a:lnTo>
                  <a:lnTo>
                    <a:pt x="1030" y="847"/>
                  </a:lnTo>
                  <a:lnTo>
                    <a:pt x="1044" y="853"/>
                  </a:lnTo>
                  <a:lnTo>
                    <a:pt x="1100" y="845"/>
                  </a:lnTo>
                  <a:lnTo>
                    <a:pt x="1132" y="858"/>
                  </a:lnTo>
                  <a:lnTo>
                    <a:pt x="1265" y="683"/>
                  </a:lnTo>
                  <a:lnTo>
                    <a:pt x="1307" y="622"/>
                  </a:lnTo>
                  <a:lnTo>
                    <a:pt x="1330" y="574"/>
                  </a:lnTo>
                  <a:lnTo>
                    <a:pt x="1336" y="556"/>
                  </a:lnTo>
                  <a:lnTo>
                    <a:pt x="1336" y="537"/>
                  </a:lnTo>
                  <a:lnTo>
                    <a:pt x="1334" y="522"/>
                  </a:lnTo>
                  <a:lnTo>
                    <a:pt x="1328" y="506"/>
                  </a:lnTo>
                  <a:lnTo>
                    <a:pt x="1315" y="493"/>
                  </a:lnTo>
                  <a:lnTo>
                    <a:pt x="1303" y="479"/>
                  </a:lnTo>
                  <a:lnTo>
                    <a:pt x="1259" y="451"/>
                  </a:lnTo>
                  <a:lnTo>
                    <a:pt x="1228" y="437"/>
                  </a:lnTo>
                  <a:lnTo>
                    <a:pt x="1196" y="426"/>
                  </a:lnTo>
                  <a:lnTo>
                    <a:pt x="1134" y="414"/>
                  </a:lnTo>
                  <a:lnTo>
                    <a:pt x="1071" y="412"/>
                  </a:lnTo>
                  <a:lnTo>
                    <a:pt x="1013" y="418"/>
                  </a:lnTo>
                  <a:lnTo>
                    <a:pt x="963" y="429"/>
                  </a:lnTo>
                  <a:lnTo>
                    <a:pt x="923" y="439"/>
                  </a:lnTo>
                  <a:lnTo>
                    <a:pt x="898" y="449"/>
                  </a:lnTo>
                  <a:lnTo>
                    <a:pt x="886" y="456"/>
                  </a:lnTo>
                  <a:lnTo>
                    <a:pt x="859" y="526"/>
                  </a:lnTo>
                  <a:lnTo>
                    <a:pt x="838" y="579"/>
                  </a:lnTo>
                  <a:lnTo>
                    <a:pt x="829" y="595"/>
                  </a:lnTo>
                  <a:lnTo>
                    <a:pt x="821" y="604"/>
                  </a:lnTo>
                  <a:lnTo>
                    <a:pt x="813" y="604"/>
                  </a:lnTo>
                  <a:lnTo>
                    <a:pt x="802" y="595"/>
                  </a:lnTo>
                  <a:lnTo>
                    <a:pt x="802" y="572"/>
                  </a:lnTo>
                  <a:lnTo>
                    <a:pt x="794" y="574"/>
                  </a:lnTo>
                  <a:lnTo>
                    <a:pt x="786" y="581"/>
                  </a:lnTo>
                  <a:lnTo>
                    <a:pt x="769" y="604"/>
                  </a:lnTo>
                  <a:lnTo>
                    <a:pt x="742" y="674"/>
                  </a:lnTo>
                  <a:lnTo>
                    <a:pt x="719" y="754"/>
                  </a:lnTo>
                  <a:lnTo>
                    <a:pt x="706" y="789"/>
                  </a:lnTo>
                  <a:lnTo>
                    <a:pt x="694" y="814"/>
                  </a:lnTo>
                  <a:lnTo>
                    <a:pt x="677" y="810"/>
                  </a:lnTo>
                  <a:lnTo>
                    <a:pt x="669" y="816"/>
                  </a:lnTo>
                  <a:lnTo>
                    <a:pt x="658" y="835"/>
                  </a:lnTo>
                  <a:lnTo>
                    <a:pt x="602" y="1035"/>
                  </a:lnTo>
                  <a:lnTo>
                    <a:pt x="558" y="1212"/>
                  </a:lnTo>
                  <a:lnTo>
                    <a:pt x="496" y="1500"/>
                  </a:lnTo>
                  <a:lnTo>
                    <a:pt x="475" y="1608"/>
                  </a:lnTo>
                  <a:lnTo>
                    <a:pt x="454" y="1690"/>
                  </a:lnTo>
                  <a:lnTo>
                    <a:pt x="444" y="1723"/>
                  </a:lnTo>
                  <a:lnTo>
                    <a:pt x="433" y="1746"/>
                  </a:lnTo>
                  <a:lnTo>
                    <a:pt x="421" y="1765"/>
                  </a:lnTo>
                  <a:lnTo>
                    <a:pt x="408" y="1775"/>
                  </a:lnTo>
                  <a:lnTo>
                    <a:pt x="391" y="1767"/>
                  </a:lnTo>
                  <a:lnTo>
                    <a:pt x="391" y="1675"/>
                  </a:lnTo>
                  <a:lnTo>
                    <a:pt x="193" y="2110"/>
                  </a:lnTo>
                  <a:lnTo>
                    <a:pt x="185" y="2017"/>
                  </a:lnTo>
                  <a:lnTo>
                    <a:pt x="150" y="2021"/>
                  </a:lnTo>
                  <a:lnTo>
                    <a:pt x="100" y="2171"/>
                  </a:lnTo>
                  <a:lnTo>
                    <a:pt x="87" y="2200"/>
                  </a:lnTo>
                  <a:lnTo>
                    <a:pt x="83" y="2206"/>
                  </a:lnTo>
                  <a:lnTo>
                    <a:pt x="79" y="2206"/>
                  </a:lnTo>
                  <a:lnTo>
                    <a:pt x="77" y="2185"/>
                  </a:lnTo>
                  <a:lnTo>
                    <a:pt x="75" y="2156"/>
                  </a:lnTo>
                  <a:lnTo>
                    <a:pt x="70" y="2158"/>
                  </a:lnTo>
                  <a:lnTo>
                    <a:pt x="62" y="2171"/>
                  </a:lnTo>
                  <a:lnTo>
                    <a:pt x="50" y="2188"/>
                  </a:lnTo>
                  <a:lnTo>
                    <a:pt x="37" y="2200"/>
                  </a:lnTo>
                  <a:lnTo>
                    <a:pt x="22" y="2200"/>
                  </a:lnTo>
                  <a:lnTo>
                    <a:pt x="16" y="2192"/>
                  </a:lnTo>
                  <a:lnTo>
                    <a:pt x="12" y="2177"/>
                  </a:lnTo>
                  <a:lnTo>
                    <a:pt x="4" y="2127"/>
                  </a:lnTo>
                  <a:lnTo>
                    <a:pt x="0" y="2038"/>
                  </a:lnTo>
                  <a:lnTo>
                    <a:pt x="4" y="2013"/>
                  </a:lnTo>
                  <a:lnTo>
                    <a:pt x="14" y="1979"/>
                  </a:lnTo>
                  <a:lnTo>
                    <a:pt x="45" y="1913"/>
                  </a:lnTo>
                  <a:lnTo>
                    <a:pt x="77" y="1854"/>
                  </a:lnTo>
                  <a:lnTo>
                    <a:pt x="93" y="1827"/>
                  </a:lnTo>
                  <a:lnTo>
                    <a:pt x="110" y="1819"/>
                  </a:lnTo>
                  <a:lnTo>
                    <a:pt x="110" y="1731"/>
                  </a:lnTo>
                  <a:lnTo>
                    <a:pt x="112" y="1727"/>
                  </a:lnTo>
                  <a:lnTo>
                    <a:pt x="118" y="1723"/>
                  </a:lnTo>
                  <a:lnTo>
                    <a:pt x="129" y="1719"/>
                  </a:lnTo>
                  <a:lnTo>
                    <a:pt x="141" y="1711"/>
                  </a:lnTo>
                  <a:lnTo>
                    <a:pt x="118" y="1679"/>
                  </a:lnTo>
                  <a:lnTo>
                    <a:pt x="183" y="1511"/>
                  </a:lnTo>
                  <a:lnTo>
                    <a:pt x="198" y="1469"/>
                  </a:lnTo>
                  <a:lnTo>
                    <a:pt x="198" y="1471"/>
                  </a:lnTo>
                  <a:lnTo>
                    <a:pt x="204" y="1475"/>
                  </a:lnTo>
                  <a:lnTo>
                    <a:pt x="214" y="1467"/>
                  </a:lnTo>
                  <a:lnTo>
                    <a:pt x="227" y="1456"/>
                  </a:lnTo>
                  <a:lnTo>
                    <a:pt x="241" y="1440"/>
                  </a:lnTo>
                  <a:lnTo>
                    <a:pt x="252" y="1423"/>
                  </a:lnTo>
                  <a:lnTo>
                    <a:pt x="254" y="1415"/>
                  </a:lnTo>
                  <a:lnTo>
                    <a:pt x="252" y="1411"/>
                  </a:lnTo>
                  <a:lnTo>
                    <a:pt x="246" y="1404"/>
                  </a:lnTo>
                  <a:lnTo>
                    <a:pt x="239" y="1392"/>
                  </a:lnTo>
                  <a:lnTo>
                    <a:pt x="237" y="1375"/>
                  </a:lnTo>
                  <a:lnTo>
                    <a:pt x="243" y="1346"/>
                  </a:lnTo>
                  <a:lnTo>
                    <a:pt x="254" y="1300"/>
                  </a:lnTo>
                  <a:lnTo>
                    <a:pt x="379" y="928"/>
                  </a:lnTo>
                  <a:lnTo>
                    <a:pt x="439" y="760"/>
                  </a:lnTo>
                  <a:lnTo>
                    <a:pt x="471" y="685"/>
                  </a:lnTo>
                  <a:lnTo>
                    <a:pt x="506" y="587"/>
                  </a:lnTo>
                  <a:lnTo>
                    <a:pt x="448" y="612"/>
                  </a:lnTo>
                  <a:lnTo>
                    <a:pt x="379" y="643"/>
                  </a:lnTo>
                  <a:lnTo>
                    <a:pt x="344" y="654"/>
                  </a:lnTo>
                  <a:lnTo>
                    <a:pt x="312" y="662"/>
                  </a:lnTo>
                  <a:lnTo>
                    <a:pt x="300" y="662"/>
                  </a:lnTo>
                  <a:lnTo>
                    <a:pt x="287" y="658"/>
                  </a:lnTo>
                  <a:lnTo>
                    <a:pt x="277" y="654"/>
                  </a:lnTo>
                  <a:lnTo>
                    <a:pt x="268" y="643"/>
                  </a:lnTo>
                  <a:lnTo>
                    <a:pt x="260" y="608"/>
                  </a:lnTo>
                  <a:lnTo>
                    <a:pt x="158" y="599"/>
                  </a:lnTo>
                  <a:lnTo>
                    <a:pt x="150" y="562"/>
                  </a:lnTo>
                  <a:lnTo>
                    <a:pt x="135" y="545"/>
                  </a:lnTo>
                  <a:lnTo>
                    <a:pt x="118" y="539"/>
                  </a:lnTo>
                  <a:lnTo>
                    <a:pt x="102" y="539"/>
                  </a:lnTo>
                  <a:lnTo>
                    <a:pt x="87" y="539"/>
                  </a:lnTo>
                  <a:lnTo>
                    <a:pt x="81" y="537"/>
                  </a:lnTo>
                  <a:lnTo>
                    <a:pt x="77" y="531"/>
                  </a:lnTo>
                  <a:lnTo>
                    <a:pt x="70" y="512"/>
                  </a:lnTo>
                  <a:lnTo>
                    <a:pt x="70" y="472"/>
                  </a:lnTo>
                  <a:lnTo>
                    <a:pt x="77" y="429"/>
                  </a:lnTo>
                  <a:lnTo>
                    <a:pt x="81" y="416"/>
                  </a:lnTo>
                  <a:lnTo>
                    <a:pt x="100" y="416"/>
                  </a:lnTo>
                  <a:lnTo>
                    <a:pt x="137" y="408"/>
                  </a:lnTo>
                  <a:lnTo>
                    <a:pt x="158" y="397"/>
                  </a:lnTo>
                  <a:lnTo>
                    <a:pt x="164" y="391"/>
                  </a:lnTo>
                  <a:lnTo>
                    <a:pt x="170" y="383"/>
                  </a:lnTo>
                  <a:lnTo>
                    <a:pt x="181" y="368"/>
                  </a:lnTo>
                  <a:lnTo>
                    <a:pt x="187" y="349"/>
                  </a:lnTo>
                  <a:lnTo>
                    <a:pt x="200" y="314"/>
                  </a:lnTo>
                  <a:lnTo>
                    <a:pt x="212" y="297"/>
                  </a:lnTo>
                  <a:lnTo>
                    <a:pt x="229" y="285"/>
                  </a:lnTo>
                  <a:lnTo>
                    <a:pt x="369" y="222"/>
                  </a:lnTo>
                  <a:lnTo>
                    <a:pt x="562" y="149"/>
                  </a:lnTo>
                  <a:lnTo>
                    <a:pt x="746" y="87"/>
                  </a:lnTo>
                  <a:lnTo>
                    <a:pt x="813" y="68"/>
                  </a:lnTo>
                  <a:lnTo>
                    <a:pt x="856" y="58"/>
                  </a:lnTo>
                  <a:lnTo>
                    <a:pt x="948" y="54"/>
                  </a:lnTo>
                  <a:lnTo>
                    <a:pt x="1005" y="49"/>
                  </a:lnTo>
                  <a:lnTo>
                    <a:pt x="1027" y="45"/>
                  </a:lnTo>
                  <a:lnTo>
                    <a:pt x="1044" y="39"/>
                  </a:lnTo>
                  <a:lnTo>
                    <a:pt x="1080" y="10"/>
                  </a:lnTo>
                  <a:lnTo>
                    <a:pt x="1142" y="4"/>
                  </a:lnTo>
                  <a:lnTo>
                    <a:pt x="1192" y="0"/>
                  </a:lnTo>
                  <a:lnTo>
                    <a:pt x="1251" y="0"/>
                  </a:lnTo>
                  <a:lnTo>
                    <a:pt x="1315" y="6"/>
                  </a:lnTo>
                  <a:lnTo>
                    <a:pt x="1387" y="20"/>
                  </a:lnTo>
                  <a:lnTo>
                    <a:pt x="1458" y="43"/>
                  </a:lnTo>
                  <a:lnTo>
                    <a:pt x="1493" y="60"/>
                  </a:lnTo>
                  <a:lnTo>
                    <a:pt x="1529" y="79"/>
                  </a:lnTo>
                  <a:lnTo>
                    <a:pt x="1596" y="129"/>
                  </a:lnTo>
                  <a:lnTo>
                    <a:pt x="1652" y="179"/>
                  </a:lnTo>
                  <a:lnTo>
                    <a:pt x="1698" y="233"/>
                  </a:lnTo>
                  <a:lnTo>
                    <a:pt x="1733" y="289"/>
                  </a:lnTo>
                  <a:lnTo>
                    <a:pt x="1758" y="347"/>
                  </a:lnTo>
                  <a:lnTo>
                    <a:pt x="1769" y="408"/>
                  </a:lnTo>
                  <a:lnTo>
                    <a:pt x="1771" y="439"/>
                  </a:lnTo>
                  <a:lnTo>
                    <a:pt x="1771" y="468"/>
                  </a:lnTo>
                  <a:lnTo>
                    <a:pt x="1769" y="499"/>
                  </a:lnTo>
                  <a:lnTo>
                    <a:pt x="1760" y="531"/>
                  </a:lnTo>
                  <a:lnTo>
                    <a:pt x="1742" y="593"/>
                  </a:lnTo>
                  <a:lnTo>
                    <a:pt x="1710" y="654"/>
                  </a:lnTo>
                  <a:lnTo>
                    <a:pt x="1671" y="716"/>
                  </a:lnTo>
                  <a:lnTo>
                    <a:pt x="1644" y="747"/>
                  </a:lnTo>
                  <a:lnTo>
                    <a:pt x="1616" y="776"/>
                  </a:lnTo>
                  <a:lnTo>
                    <a:pt x="1587" y="806"/>
                  </a:lnTo>
                  <a:lnTo>
                    <a:pt x="1554" y="837"/>
                  </a:lnTo>
                  <a:lnTo>
                    <a:pt x="1481" y="895"/>
                  </a:lnTo>
                  <a:lnTo>
                    <a:pt x="1439" y="924"/>
                  </a:lnTo>
                  <a:lnTo>
                    <a:pt x="1395" y="951"/>
                  </a:lnTo>
                  <a:lnTo>
                    <a:pt x="1299" y="1006"/>
                  </a:lnTo>
                  <a:lnTo>
                    <a:pt x="1425" y="1128"/>
                  </a:lnTo>
                  <a:lnTo>
                    <a:pt x="1443" y="1151"/>
                  </a:lnTo>
                  <a:lnTo>
                    <a:pt x="1458" y="1174"/>
                  </a:lnTo>
                  <a:lnTo>
                    <a:pt x="1568" y="1309"/>
                  </a:lnTo>
                  <a:lnTo>
                    <a:pt x="1612" y="1356"/>
                  </a:lnTo>
                  <a:lnTo>
                    <a:pt x="1646" y="1390"/>
                  </a:lnTo>
                  <a:lnTo>
                    <a:pt x="1673" y="1413"/>
                  </a:lnTo>
                  <a:lnTo>
                    <a:pt x="1694" y="1427"/>
                  </a:lnTo>
                  <a:lnTo>
                    <a:pt x="1729" y="1444"/>
                  </a:lnTo>
                  <a:lnTo>
                    <a:pt x="1746" y="1452"/>
                  </a:lnTo>
                  <a:lnTo>
                    <a:pt x="1764" y="1465"/>
                  </a:lnTo>
                  <a:lnTo>
                    <a:pt x="1865" y="1583"/>
                  </a:lnTo>
                  <a:lnTo>
                    <a:pt x="2038" y="1719"/>
                  </a:lnTo>
                  <a:lnTo>
                    <a:pt x="2146" y="1827"/>
                  </a:lnTo>
                  <a:lnTo>
                    <a:pt x="2225" y="1906"/>
                  </a:lnTo>
                  <a:lnTo>
                    <a:pt x="2292" y="1963"/>
                  </a:lnTo>
                  <a:lnTo>
                    <a:pt x="2446" y="2085"/>
                  </a:lnTo>
                  <a:lnTo>
                    <a:pt x="2534" y="2156"/>
                  </a:lnTo>
                  <a:lnTo>
                    <a:pt x="2559" y="2179"/>
                  </a:lnTo>
                  <a:lnTo>
                    <a:pt x="2578" y="2198"/>
                  </a:lnTo>
                  <a:lnTo>
                    <a:pt x="2590" y="2217"/>
                  </a:lnTo>
                  <a:lnTo>
                    <a:pt x="2599" y="223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076800" y="5589720"/>
              <a:ext cx="503640" cy="748080"/>
            </a:xfrm>
            <a:custGeom>
              <a:avLst/>
              <a:gdLst/>
              <a:ahLst/>
              <a:rect l="0" t="0" r="r" b="b"/>
              <a:pathLst>
                <a:path w="1399" h="2078">
                  <a:moveTo>
                    <a:pt x="1385" y="140"/>
                  </a:moveTo>
                  <a:lnTo>
                    <a:pt x="1393" y="161"/>
                  </a:lnTo>
                  <a:lnTo>
                    <a:pt x="1397" y="184"/>
                  </a:lnTo>
                  <a:lnTo>
                    <a:pt x="1399" y="236"/>
                  </a:lnTo>
                  <a:lnTo>
                    <a:pt x="1397" y="301"/>
                  </a:lnTo>
                  <a:lnTo>
                    <a:pt x="1391" y="374"/>
                  </a:lnTo>
                  <a:lnTo>
                    <a:pt x="1372" y="560"/>
                  </a:lnTo>
                  <a:lnTo>
                    <a:pt x="1355" y="798"/>
                  </a:lnTo>
                  <a:lnTo>
                    <a:pt x="1345" y="1286"/>
                  </a:lnTo>
                  <a:lnTo>
                    <a:pt x="1343" y="1601"/>
                  </a:lnTo>
                  <a:lnTo>
                    <a:pt x="1337" y="1687"/>
                  </a:lnTo>
                  <a:lnTo>
                    <a:pt x="1332" y="1712"/>
                  </a:lnTo>
                  <a:lnTo>
                    <a:pt x="1326" y="1718"/>
                  </a:lnTo>
                  <a:lnTo>
                    <a:pt x="1322" y="1723"/>
                  </a:lnTo>
                  <a:lnTo>
                    <a:pt x="1318" y="1723"/>
                  </a:lnTo>
                  <a:lnTo>
                    <a:pt x="1311" y="1720"/>
                  </a:lnTo>
                  <a:lnTo>
                    <a:pt x="1297" y="1704"/>
                  </a:lnTo>
                  <a:lnTo>
                    <a:pt x="1259" y="1633"/>
                  </a:lnTo>
                  <a:lnTo>
                    <a:pt x="1226" y="1817"/>
                  </a:lnTo>
                  <a:lnTo>
                    <a:pt x="1207" y="1804"/>
                  </a:lnTo>
                  <a:lnTo>
                    <a:pt x="1194" y="1794"/>
                  </a:lnTo>
                  <a:lnTo>
                    <a:pt x="1190" y="1779"/>
                  </a:lnTo>
                  <a:lnTo>
                    <a:pt x="1186" y="1764"/>
                  </a:lnTo>
                  <a:lnTo>
                    <a:pt x="1186" y="1731"/>
                  </a:lnTo>
                  <a:lnTo>
                    <a:pt x="1186" y="1689"/>
                  </a:lnTo>
                  <a:lnTo>
                    <a:pt x="1146" y="1618"/>
                  </a:lnTo>
                  <a:lnTo>
                    <a:pt x="1142" y="1643"/>
                  </a:lnTo>
                  <a:lnTo>
                    <a:pt x="1136" y="1660"/>
                  </a:lnTo>
                  <a:lnTo>
                    <a:pt x="1129" y="1668"/>
                  </a:lnTo>
                  <a:lnTo>
                    <a:pt x="1121" y="1674"/>
                  </a:lnTo>
                  <a:lnTo>
                    <a:pt x="1115" y="1672"/>
                  </a:lnTo>
                  <a:lnTo>
                    <a:pt x="1106" y="1666"/>
                  </a:lnTo>
                  <a:lnTo>
                    <a:pt x="1094" y="1645"/>
                  </a:lnTo>
                  <a:lnTo>
                    <a:pt x="1071" y="1582"/>
                  </a:lnTo>
                  <a:lnTo>
                    <a:pt x="1065" y="1554"/>
                  </a:lnTo>
                  <a:lnTo>
                    <a:pt x="1062" y="1531"/>
                  </a:lnTo>
                  <a:lnTo>
                    <a:pt x="1079" y="1510"/>
                  </a:lnTo>
                  <a:lnTo>
                    <a:pt x="1079" y="1458"/>
                  </a:lnTo>
                  <a:lnTo>
                    <a:pt x="1054" y="1391"/>
                  </a:lnTo>
                  <a:lnTo>
                    <a:pt x="1054" y="1024"/>
                  </a:lnTo>
                  <a:lnTo>
                    <a:pt x="1045" y="964"/>
                  </a:lnTo>
                  <a:lnTo>
                    <a:pt x="835" y="1041"/>
                  </a:lnTo>
                  <a:lnTo>
                    <a:pt x="714" y="1083"/>
                  </a:lnTo>
                  <a:lnTo>
                    <a:pt x="653" y="1106"/>
                  </a:lnTo>
                  <a:lnTo>
                    <a:pt x="639" y="1114"/>
                  </a:lnTo>
                  <a:lnTo>
                    <a:pt x="630" y="1123"/>
                  </a:lnTo>
                  <a:lnTo>
                    <a:pt x="349" y="1720"/>
                  </a:lnTo>
                  <a:lnTo>
                    <a:pt x="255" y="1942"/>
                  </a:lnTo>
                  <a:lnTo>
                    <a:pt x="238" y="1982"/>
                  </a:lnTo>
                  <a:lnTo>
                    <a:pt x="200" y="2032"/>
                  </a:lnTo>
                  <a:lnTo>
                    <a:pt x="219" y="1924"/>
                  </a:lnTo>
                  <a:lnTo>
                    <a:pt x="228" y="1838"/>
                  </a:lnTo>
                  <a:lnTo>
                    <a:pt x="232" y="1794"/>
                  </a:lnTo>
                  <a:lnTo>
                    <a:pt x="198" y="1838"/>
                  </a:lnTo>
                  <a:lnTo>
                    <a:pt x="113" y="2032"/>
                  </a:lnTo>
                  <a:lnTo>
                    <a:pt x="96" y="2026"/>
                  </a:lnTo>
                  <a:lnTo>
                    <a:pt x="89" y="2020"/>
                  </a:lnTo>
                  <a:lnTo>
                    <a:pt x="87" y="2011"/>
                  </a:lnTo>
                  <a:lnTo>
                    <a:pt x="89" y="2003"/>
                  </a:lnTo>
                  <a:lnTo>
                    <a:pt x="104" y="1982"/>
                  </a:lnTo>
                  <a:lnTo>
                    <a:pt x="113" y="1968"/>
                  </a:lnTo>
                  <a:lnTo>
                    <a:pt x="115" y="1951"/>
                  </a:lnTo>
                  <a:lnTo>
                    <a:pt x="110" y="1924"/>
                  </a:lnTo>
                  <a:lnTo>
                    <a:pt x="104" y="1917"/>
                  </a:lnTo>
                  <a:lnTo>
                    <a:pt x="98" y="1928"/>
                  </a:lnTo>
                  <a:lnTo>
                    <a:pt x="89" y="1949"/>
                  </a:lnTo>
                  <a:lnTo>
                    <a:pt x="77" y="1980"/>
                  </a:lnTo>
                  <a:lnTo>
                    <a:pt x="60" y="2014"/>
                  </a:lnTo>
                  <a:lnTo>
                    <a:pt x="37" y="2047"/>
                  </a:lnTo>
                  <a:lnTo>
                    <a:pt x="23" y="2064"/>
                  </a:lnTo>
                  <a:lnTo>
                    <a:pt x="6" y="2078"/>
                  </a:lnTo>
                  <a:lnTo>
                    <a:pt x="0" y="1959"/>
                  </a:lnTo>
                  <a:lnTo>
                    <a:pt x="0" y="1934"/>
                  </a:lnTo>
                  <a:lnTo>
                    <a:pt x="2" y="1924"/>
                  </a:lnTo>
                  <a:lnTo>
                    <a:pt x="16" y="1909"/>
                  </a:lnTo>
                  <a:lnTo>
                    <a:pt x="31" y="1892"/>
                  </a:lnTo>
                  <a:lnTo>
                    <a:pt x="46" y="1852"/>
                  </a:lnTo>
                  <a:lnTo>
                    <a:pt x="50" y="1806"/>
                  </a:lnTo>
                  <a:lnTo>
                    <a:pt x="79" y="1781"/>
                  </a:lnTo>
                  <a:lnTo>
                    <a:pt x="92" y="1767"/>
                  </a:lnTo>
                  <a:lnTo>
                    <a:pt x="98" y="1754"/>
                  </a:lnTo>
                  <a:lnTo>
                    <a:pt x="104" y="1737"/>
                  </a:lnTo>
                  <a:lnTo>
                    <a:pt x="113" y="1708"/>
                  </a:lnTo>
                  <a:lnTo>
                    <a:pt x="129" y="1660"/>
                  </a:lnTo>
                  <a:lnTo>
                    <a:pt x="167" y="1586"/>
                  </a:lnTo>
                  <a:lnTo>
                    <a:pt x="223" y="1479"/>
                  </a:lnTo>
                  <a:lnTo>
                    <a:pt x="301" y="1340"/>
                  </a:lnTo>
                  <a:lnTo>
                    <a:pt x="343" y="1255"/>
                  </a:lnTo>
                  <a:lnTo>
                    <a:pt x="363" y="1209"/>
                  </a:lnTo>
                  <a:lnTo>
                    <a:pt x="373" y="1179"/>
                  </a:lnTo>
                  <a:lnTo>
                    <a:pt x="390" y="1148"/>
                  </a:lnTo>
                  <a:lnTo>
                    <a:pt x="345" y="1139"/>
                  </a:lnTo>
                  <a:lnTo>
                    <a:pt x="336" y="1135"/>
                  </a:lnTo>
                  <a:lnTo>
                    <a:pt x="334" y="1133"/>
                  </a:lnTo>
                  <a:lnTo>
                    <a:pt x="334" y="1123"/>
                  </a:lnTo>
                  <a:lnTo>
                    <a:pt x="334" y="1114"/>
                  </a:lnTo>
                  <a:lnTo>
                    <a:pt x="326" y="1100"/>
                  </a:lnTo>
                  <a:lnTo>
                    <a:pt x="320" y="1083"/>
                  </a:lnTo>
                  <a:lnTo>
                    <a:pt x="322" y="1075"/>
                  </a:lnTo>
                  <a:lnTo>
                    <a:pt x="328" y="1068"/>
                  </a:lnTo>
                  <a:lnTo>
                    <a:pt x="345" y="1060"/>
                  </a:lnTo>
                  <a:lnTo>
                    <a:pt x="367" y="1052"/>
                  </a:lnTo>
                  <a:lnTo>
                    <a:pt x="423" y="1037"/>
                  </a:lnTo>
                  <a:lnTo>
                    <a:pt x="450" y="1029"/>
                  </a:lnTo>
                  <a:lnTo>
                    <a:pt x="469" y="1016"/>
                  </a:lnTo>
                  <a:lnTo>
                    <a:pt x="522" y="924"/>
                  </a:lnTo>
                  <a:lnTo>
                    <a:pt x="522" y="880"/>
                  </a:lnTo>
                  <a:lnTo>
                    <a:pt x="566" y="836"/>
                  </a:lnTo>
                  <a:lnTo>
                    <a:pt x="574" y="825"/>
                  </a:lnTo>
                  <a:lnTo>
                    <a:pt x="574" y="817"/>
                  </a:lnTo>
                  <a:lnTo>
                    <a:pt x="574" y="796"/>
                  </a:lnTo>
                  <a:lnTo>
                    <a:pt x="578" y="779"/>
                  </a:lnTo>
                  <a:lnTo>
                    <a:pt x="586" y="750"/>
                  </a:lnTo>
                  <a:lnTo>
                    <a:pt x="658" y="641"/>
                  </a:lnTo>
                  <a:lnTo>
                    <a:pt x="683" y="593"/>
                  </a:lnTo>
                  <a:lnTo>
                    <a:pt x="699" y="572"/>
                  </a:lnTo>
                  <a:lnTo>
                    <a:pt x="722" y="541"/>
                  </a:lnTo>
                  <a:lnTo>
                    <a:pt x="758" y="483"/>
                  </a:lnTo>
                  <a:lnTo>
                    <a:pt x="762" y="456"/>
                  </a:lnTo>
                  <a:lnTo>
                    <a:pt x="785" y="443"/>
                  </a:lnTo>
                  <a:lnTo>
                    <a:pt x="848" y="299"/>
                  </a:lnTo>
                  <a:lnTo>
                    <a:pt x="869" y="263"/>
                  </a:lnTo>
                  <a:lnTo>
                    <a:pt x="882" y="242"/>
                  </a:lnTo>
                  <a:lnTo>
                    <a:pt x="902" y="224"/>
                  </a:lnTo>
                  <a:lnTo>
                    <a:pt x="913" y="211"/>
                  </a:lnTo>
                  <a:lnTo>
                    <a:pt x="928" y="188"/>
                  </a:lnTo>
                  <a:lnTo>
                    <a:pt x="944" y="157"/>
                  </a:lnTo>
                  <a:lnTo>
                    <a:pt x="955" y="129"/>
                  </a:lnTo>
                  <a:lnTo>
                    <a:pt x="963" y="90"/>
                  </a:lnTo>
                  <a:lnTo>
                    <a:pt x="967" y="81"/>
                  </a:lnTo>
                  <a:lnTo>
                    <a:pt x="976" y="73"/>
                  </a:lnTo>
                  <a:lnTo>
                    <a:pt x="988" y="69"/>
                  </a:lnTo>
                  <a:lnTo>
                    <a:pt x="1011" y="69"/>
                  </a:lnTo>
                  <a:lnTo>
                    <a:pt x="1024" y="69"/>
                  </a:lnTo>
                  <a:lnTo>
                    <a:pt x="1032" y="75"/>
                  </a:lnTo>
                  <a:lnTo>
                    <a:pt x="1034" y="79"/>
                  </a:lnTo>
                  <a:lnTo>
                    <a:pt x="1036" y="85"/>
                  </a:lnTo>
                  <a:lnTo>
                    <a:pt x="1038" y="104"/>
                  </a:lnTo>
                  <a:lnTo>
                    <a:pt x="1045" y="121"/>
                  </a:lnTo>
                  <a:lnTo>
                    <a:pt x="1050" y="125"/>
                  </a:lnTo>
                  <a:lnTo>
                    <a:pt x="1056" y="121"/>
                  </a:lnTo>
                  <a:lnTo>
                    <a:pt x="1067" y="90"/>
                  </a:lnTo>
                  <a:lnTo>
                    <a:pt x="1073" y="73"/>
                  </a:lnTo>
                  <a:lnTo>
                    <a:pt x="1083" y="56"/>
                  </a:lnTo>
                  <a:lnTo>
                    <a:pt x="1096" y="41"/>
                  </a:lnTo>
                  <a:lnTo>
                    <a:pt x="1111" y="33"/>
                  </a:lnTo>
                  <a:lnTo>
                    <a:pt x="1148" y="35"/>
                  </a:lnTo>
                  <a:lnTo>
                    <a:pt x="1171" y="39"/>
                  </a:lnTo>
                  <a:lnTo>
                    <a:pt x="1184" y="39"/>
                  </a:lnTo>
                  <a:lnTo>
                    <a:pt x="1201" y="35"/>
                  </a:lnTo>
                  <a:lnTo>
                    <a:pt x="1257" y="8"/>
                  </a:lnTo>
                  <a:lnTo>
                    <a:pt x="1270" y="2"/>
                  </a:lnTo>
                  <a:lnTo>
                    <a:pt x="1293" y="0"/>
                  </a:lnTo>
                  <a:lnTo>
                    <a:pt x="1322" y="2"/>
                  </a:lnTo>
                  <a:lnTo>
                    <a:pt x="1335" y="8"/>
                  </a:lnTo>
                  <a:lnTo>
                    <a:pt x="1343" y="16"/>
                  </a:lnTo>
                  <a:lnTo>
                    <a:pt x="1349" y="33"/>
                  </a:lnTo>
                  <a:lnTo>
                    <a:pt x="1349" y="52"/>
                  </a:lnTo>
                  <a:lnTo>
                    <a:pt x="1345" y="90"/>
                  </a:lnTo>
                  <a:lnTo>
                    <a:pt x="1347" y="108"/>
                  </a:lnTo>
                  <a:lnTo>
                    <a:pt x="1353" y="123"/>
                  </a:lnTo>
                  <a:lnTo>
                    <a:pt x="1358" y="129"/>
                  </a:lnTo>
                  <a:lnTo>
                    <a:pt x="1366" y="133"/>
                  </a:lnTo>
                  <a:lnTo>
                    <a:pt x="1385" y="14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602400" y="5607000"/>
              <a:ext cx="405000" cy="594000"/>
            </a:xfrm>
            <a:custGeom>
              <a:avLst/>
              <a:gdLst/>
              <a:ahLst/>
              <a:rect l="0" t="0" r="r" b="b"/>
              <a:pathLst>
                <a:path w="1125" h="1650">
                  <a:moveTo>
                    <a:pt x="980" y="207"/>
                  </a:moveTo>
                  <a:lnTo>
                    <a:pt x="988" y="234"/>
                  </a:lnTo>
                  <a:lnTo>
                    <a:pt x="986" y="253"/>
                  </a:lnTo>
                  <a:lnTo>
                    <a:pt x="980" y="267"/>
                  </a:lnTo>
                  <a:lnTo>
                    <a:pt x="966" y="278"/>
                  </a:lnTo>
                  <a:lnTo>
                    <a:pt x="920" y="294"/>
                  </a:lnTo>
                  <a:lnTo>
                    <a:pt x="856" y="309"/>
                  </a:lnTo>
                  <a:lnTo>
                    <a:pt x="771" y="334"/>
                  </a:lnTo>
                  <a:lnTo>
                    <a:pt x="721" y="353"/>
                  </a:lnTo>
                  <a:lnTo>
                    <a:pt x="667" y="378"/>
                  </a:lnTo>
                  <a:lnTo>
                    <a:pt x="609" y="411"/>
                  </a:lnTo>
                  <a:lnTo>
                    <a:pt x="546" y="450"/>
                  </a:lnTo>
                  <a:lnTo>
                    <a:pt x="482" y="500"/>
                  </a:lnTo>
                  <a:lnTo>
                    <a:pt x="414" y="560"/>
                  </a:lnTo>
                  <a:lnTo>
                    <a:pt x="378" y="600"/>
                  </a:lnTo>
                  <a:lnTo>
                    <a:pt x="345" y="643"/>
                  </a:lnTo>
                  <a:lnTo>
                    <a:pt x="316" y="689"/>
                  </a:lnTo>
                  <a:lnTo>
                    <a:pt x="291" y="739"/>
                  </a:lnTo>
                  <a:lnTo>
                    <a:pt x="273" y="791"/>
                  </a:lnTo>
                  <a:lnTo>
                    <a:pt x="254" y="842"/>
                  </a:lnTo>
                  <a:lnTo>
                    <a:pt x="244" y="896"/>
                  </a:lnTo>
                  <a:lnTo>
                    <a:pt x="236" y="948"/>
                  </a:lnTo>
                  <a:lnTo>
                    <a:pt x="231" y="1052"/>
                  </a:lnTo>
                  <a:lnTo>
                    <a:pt x="236" y="1099"/>
                  </a:lnTo>
                  <a:lnTo>
                    <a:pt x="244" y="1147"/>
                  </a:lnTo>
                  <a:lnTo>
                    <a:pt x="254" y="1189"/>
                  </a:lnTo>
                  <a:lnTo>
                    <a:pt x="271" y="1228"/>
                  </a:lnTo>
                  <a:lnTo>
                    <a:pt x="291" y="1263"/>
                  </a:lnTo>
                  <a:lnTo>
                    <a:pt x="314" y="1292"/>
                  </a:lnTo>
                  <a:lnTo>
                    <a:pt x="370" y="1346"/>
                  </a:lnTo>
                  <a:lnTo>
                    <a:pt x="426" y="1390"/>
                  </a:lnTo>
                  <a:lnTo>
                    <a:pt x="488" y="1427"/>
                  </a:lnTo>
                  <a:lnTo>
                    <a:pt x="550" y="1450"/>
                  </a:lnTo>
                  <a:lnTo>
                    <a:pt x="616" y="1461"/>
                  </a:lnTo>
                  <a:lnTo>
                    <a:pt x="649" y="1461"/>
                  </a:lnTo>
                  <a:lnTo>
                    <a:pt x="680" y="1454"/>
                  </a:lnTo>
                  <a:lnTo>
                    <a:pt x="713" y="1446"/>
                  </a:lnTo>
                  <a:lnTo>
                    <a:pt x="746" y="1432"/>
                  </a:lnTo>
                  <a:lnTo>
                    <a:pt x="781" y="1413"/>
                  </a:lnTo>
                  <a:lnTo>
                    <a:pt x="814" y="1388"/>
                  </a:lnTo>
                  <a:lnTo>
                    <a:pt x="796" y="1355"/>
                  </a:lnTo>
                  <a:lnTo>
                    <a:pt x="787" y="1330"/>
                  </a:lnTo>
                  <a:lnTo>
                    <a:pt x="781" y="1292"/>
                  </a:lnTo>
                  <a:lnTo>
                    <a:pt x="783" y="1238"/>
                  </a:lnTo>
                  <a:lnTo>
                    <a:pt x="792" y="1164"/>
                  </a:lnTo>
                  <a:lnTo>
                    <a:pt x="810" y="1066"/>
                  </a:lnTo>
                  <a:lnTo>
                    <a:pt x="841" y="939"/>
                  </a:lnTo>
                  <a:lnTo>
                    <a:pt x="736" y="958"/>
                  </a:lnTo>
                  <a:lnTo>
                    <a:pt x="651" y="979"/>
                  </a:lnTo>
                  <a:lnTo>
                    <a:pt x="587" y="1002"/>
                  </a:lnTo>
                  <a:lnTo>
                    <a:pt x="538" y="1022"/>
                  </a:lnTo>
                  <a:lnTo>
                    <a:pt x="480" y="1052"/>
                  </a:lnTo>
                  <a:lnTo>
                    <a:pt x="461" y="1058"/>
                  </a:lnTo>
                  <a:lnTo>
                    <a:pt x="445" y="1054"/>
                  </a:lnTo>
                  <a:lnTo>
                    <a:pt x="436" y="1047"/>
                  </a:lnTo>
                  <a:lnTo>
                    <a:pt x="434" y="1041"/>
                  </a:lnTo>
                  <a:lnTo>
                    <a:pt x="439" y="1037"/>
                  </a:lnTo>
                  <a:lnTo>
                    <a:pt x="445" y="1031"/>
                  </a:lnTo>
                  <a:lnTo>
                    <a:pt x="465" y="1020"/>
                  </a:lnTo>
                  <a:lnTo>
                    <a:pt x="484" y="1006"/>
                  </a:lnTo>
                  <a:lnTo>
                    <a:pt x="540" y="906"/>
                  </a:lnTo>
                  <a:lnTo>
                    <a:pt x="578" y="887"/>
                  </a:lnTo>
                  <a:lnTo>
                    <a:pt x="593" y="875"/>
                  </a:lnTo>
                  <a:lnTo>
                    <a:pt x="599" y="865"/>
                  </a:lnTo>
                  <a:lnTo>
                    <a:pt x="616" y="848"/>
                  </a:lnTo>
                  <a:lnTo>
                    <a:pt x="711" y="814"/>
                  </a:lnTo>
                  <a:lnTo>
                    <a:pt x="717" y="789"/>
                  </a:lnTo>
                  <a:lnTo>
                    <a:pt x="719" y="787"/>
                  </a:lnTo>
                  <a:lnTo>
                    <a:pt x="742" y="789"/>
                  </a:lnTo>
                  <a:lnTo>
                    <a:pt x="767" y="785"/>
                  </a:lnTo>
                  <a:lnTo>
                    <a:pt x="802" y="774"/>
                  </a:lnTo>
                  <a:lnTo>
                    <a:pt x="852" y="758"/>
                  </a:lnTo>
                  <a:lnTo>
                    <a:pt x="891" y="737"/>
                  </a:lnTo>
                  <a:lnTo>
                    <a:pt x="922" y="716"/>
                  </a:lnTo>
                  <a:lnTo>
                    <a:pt x="947" y="695"/>
                  </a:lnTo>
                  <a:lnTo>
                    <a:pt x="986" y="668"/>
                  </a:lnTo>
                  <a:lnTo>
                    <a:pt x="1001" y="662"/>
                  </a:lnTo>
                  <a:lnTo>
                    <a:pt x="1015" y="664"/>
                  </a:lnTo>
                  <a:lnTo>
                    <a:pt x="1030" y="675"/>
                  </a:lnTo>
                  <a:lnTo>
                    <a:pt x="1038" y="685"/>
                  </a:lnTo>
                  <a:lnTo>
                    <a:pt x="1044" y="704"/>
                  </a:lnTo>
                  <a:lnTo>
                    <a:pt x="1048" y="716"/>
                  </a:lnTo>
                  <a:lnTo>
                    <a:pt x="1055" y="718"/>
                  </a:lnTo>
                  <a:lnTo>
                    <a:pt x="1063" y="712"/>
                  </a:lnTo>
                  <a:lnTo>
                    <a:pt x="1094" y="687"/>
                  </a:lnTo>
                  <a:lnTo>
                    <a:pt x="1125" y="691"/>
                  </a:lnTo>
                  <a:lnTo>
                    <a:pt x="1115" y="812"/>
                  </a:lnTo>
                  <a:lnTo>
                    <a:pt x="1098" y="914"/>
                  </a:lnTo>
                  <a:lnTo>
                    <a:pt x="1055" y="1085"/>
                  </a:lnTo>
                  <a:lnTo>
                    <a:pt x="1036" y="1164"/>
                  </a:lnTo>
                  <a:lnTo>
                    <a:pt x="1021" y="1247"/>
                  </a:lnTo>
                  <a:lnTo>
                    <a:pt x="1013" y="1340"/>
                  </a:lnTo>
                  <a:lnTo>
                    <a:pt x="1015" y="1448"/>
                  </a:lnTo>
                  <a:lnTo>
                    <a:pt x="1028" y="1575"/>
                  </a:lnTo>
                  <a:lnTo>
                    <a:pt x="1034" y="1623"/>
                  </a:lnTo>
                  <a:lnTo>
                    <a:pt x="1032" y="1631"/>
                  </a:lnTo>
                  <a:lnTo>
                    <a:pt x="1028" y="1631"/>
                  </a:lnTo>
                  <a:lnTo>
                    <a:pt x="1007" y="1637"/>
                  </a:lnTo>
                  <a:lnTo>
                    <a:pt x="997" y="1614"/>
                  </a:lnTo>
                  <a:lnTo>
                    <a:pt x="986" y="1610"/>
                  </a:lnTo>
                  <a:lnTo>
                    <a:pt x="974" y="1614"/>
                  </a:lnTo>
                  <a:lnTo>
                    <a:pt x="968" y="1612"/>
                  </a:lnTo>
                  <a:lnTo>
                    <a:pt x="959" y="1606"/>
                  </a:lnTo>
                  <a:lnTo>
                    <a:pt x="941" y="1554"/>
                  </a:lnTo>
                  <a:lnTo>
                    <a:pt x="928" y="1548"/>
                  </a:lnTo>
                  <a:lnTo>
                    <a:pt x="914" y="1535"/>
                  </a:lnTo>
                  <a:lnTo>
                    <a:pt x="885" y="1511"/>
                  </a:lnTo>
                  <a:lnTo>
                    <a:pt x="858" y="1492"/>
                  </a:lnTo>
                  <a:lnTo>
                    <a:pt x="847" y="1488"/>
                  </a:lnTo>
                  <a:lnTo>
                    <a:pt x="837" y="1488"/>
                  </a:lnTo>
                  <a:lnTo>
                    <a:pt x="818" y="1504"/>
                  </a:lnTo>
                  <a:lnTo>
                    <a:pt x="804" y="1527"/>
                  </a:lnTo>
                  <a:lnTo>
                    <a:pt x="787" y="1552"/>
                  </a:lnTo>
                  <a:lnTo>
                    <a:pt x="767" y="1579"/>
                  </a:lnTo>
                  <a:lnTo>
                    <a:pt x="756" y="1592"/>
                  </a:lnTo>
                  <a:lnTo>
                    <a:pt x="740" y="1604"/>
                  </a:lnTo>
                  <a:lnTo>
                    <a:pt x="703" y="1625"/>
                  </a:lnTo>
                  <a:lnTo>
                    <a:pt x="653" y="1641"/>
                  </a:lnTo>
                  <a:lnTo>
                    <a:pt x="620" y="1648"/>
                  </a:lnTo>
                  <a:lnTo>
                    <a:pt x="584" y="1650"/>
                  </a:lnTo>
                  <a:lnTo>
                    <a:pt x="536" y="1648"/>
                  </a:lnTo>
                  <a:lnTo>
                    <a:pt x="484" y="1644"/>
                  </a:lnTo>
                  <a:lnTo>
                    <a:pt x="436" y="1633"/>
                  </a:lnTo>
                  <a:lnTo>
                    <a:pt x="387" y="1617"/>
                  </a:lnTo>
                  <a:lnTo>
                    <a:pt x="341" y="1598"/>
                  </a:lnTo>
                  <a:lnTo>
                    <a:pt x="294" y="1573"/>
                  </a:lnTo>
                  <a:lnTo>
                    <a:pt x="250" y="1542"/>
                  </a:lnTo>
                  <a:lnTo>
                    <a:pt x="209" y="1506"/>
                  </a:lnTo>
                  <a:lnTo>
                    <a:pt x="171" y="1469"/>
                  </a:lnTo>
                  <a:lnTo>
                    <a:pt x="134" y="1423"/>
                  </a:lnTo>
                  <a:lnTo>
                    <a:pt x="101" y="1376"/>
                  </a:lnTo>
                  <a:lnTo>
                    <a:pt x="72" y="1324"/>
                  </a:lnTo>
                  <a:lnTo>
                    <a:pt x="49" y="1265"/>
                  </a:lnTo>
                  <a:lnTo>
                    <a:pt x="28" y="1203"/>
                  </a:lnTo>
                  <a:lnTo>
                    <a:pt x="14" y="1137"/>
                  </a:lnTo>
                  <a:lnTo>
                    <a:pt x="4" y="1066"/>
                  </a:lnTo>
                  <a:lnTo>
                    <a:pt x="0" y="973"/>
                  </a:lnTo>
                  <a:lnTo>
                    <a:pt x="4" y="883"/>
                  </a:lnTo>
                  <a:lnTo>
                    <a:pt x="16" y="799"/>
                  </a:lnTo>
                  <a:lnTo>
                    <a:pt x="33" y="720"/>
                  </a:lnTo>
                  <a:lnTo>
                    <a:pt x="57" y="648"/>
                  </a:lnTo>
                  <a:lnTo>
                    <a:pt x="84" y="579"/>
                  </a:lnTo>
                  <a:lnTo>
                    <a:pt x="115" y="517"/>
                  </a:lnTo>
                  <a:lnTo>
                    <a:pt x="149" y="459"/>
                  </a:lnTo>
                  <a:lnTo>
                    <a:pt x="215" y="357"/>
                  </a:lnTo>
                  <a:lnTo>
                    <a:pt x="281" y="276"/>
                  </a:lnTo>
                  <a:lnTo>
                    <a:pt x="333" y="218"/>
                  </a:lnTo>
                  <a:lnTo>
                    <a:pt x="366" y="180"/>
                  </a:lnTo>
                  <a:lnTo>
                    <a:pt x="403" y="143"/>
                  </a:lnTo>
                  <a:lnTo>
                    <a:pt x="434" y="118"/>
                  </a:lnTo>
                  <a:lnTo>
                    <a:pt x="478" y="91"/>
                  </a:lnTo>
                  <a:lnTo>
                    <a:pt x="532" y="64"/>
                  </a:lnTo>
                  <a:lnTo>
                    <a:pt x="599" y="37"/>
                  </a:lnTo>
                  <a:lnTo>
                    <a:pt x="678" y="16"/>
                  </a:lnTo>
                  <a:lnTo>
                    <a:pt x="767" y="0"/>
                  </a:lnTo>
                  <a:lnTo>
                    <a:pt x="790" y="0"/>
                  </a:lnTo>
                  <a:lnTo>
                    <a:pt x="798" y="4"/>
                  </a:lnTo>
                  <a:lnTo>
                    <a:pt x="804" y="12"/>
                  </a:lnTo>
                  <a:lnTo>
                    <a:pt x="821" y="24"/>
                  </a:lnTo>
                  <a:lnTo>
                    <a:pt x="876" y="37"/>
                  </a:lnTo>
                  <a:lnTo>
                    <a:pt x="887" y="54"/>
                  </a:lnTo>
                  <a:lnTo>
                    <a:pt x="889" y="62"/>
                  </a:lnTo>
                  <a:lnTo>
                    <a:pt x="887" y="68"/>
                  </a:lnTo>
                  <a:lnTo>
                    <a:pt x="887" y="74"/>
                  </a:lnTo>
                  <a:lnTo>
                    <a:pt x="891" y="83"/>
                  </a:lnTo>
                  <a:lnTo>
                    <a:pt x="924" y="120"/>
                  </a:lnTo>
                  <a:lnTo>
                    <a:pt x="949" y="147"/>
                  </a:lnTo>
                  <a:lnTo>
                    <a:pt x="959" y="153"/>
                  </a:lnTo>
                  <a:lnTo>
                    <a:pt x="972" y="149"/>
                  </a:lnTo>
                  <a:lnTo>
                    <a:pt x="999" y="151"/>
                  </a:lnTo>
                  <a:lnTo>
                    <a:pt x="1007" y="153"/>
                  </a:lnTo>
                  <a:lnTo>
                    <a:pt x="1011" y="157"/>
                  </a:lnTo>
                  <a:lnTo>
                    <a:pt x="1013" y="166"/>
                  </a:lnTo>
                  <a:lnTo>
                    <a:pt x="1013" y="172"/>
                  </a:lnTo>
                  <a:lnTo>
                    <a:pt x="1003" y="191"/>
                  </a:lnTo>
                  <a:lnTo>
                    <a:pt x="995" y="199"/>
                  </a:lnTo>
                  <a:lnTo>
                    <a:pt x="980" y="20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613640" y="5740560"/>
              <a:ext cx="100440" cy="119520"/>
            </a:xfrm>
            <a:custGeom>
              <a:avLst/>
              <a:gdLst/>
              <a:ahLst/>
              <a:rect l="0" t="0" r="r" b="b"/>
              <a:pathLst>
                <a:path w="279" h="332">
                  <a:moveTo>
                    <a:pt x="0" y="332"/>
                  </a:moveTo>
                  <a:lnTo>
                    <a:pt x="26" y="322"/>
                  </a:lnTo>
                  <a:lnTo>
                    <a:pt x="50" y="308"/>
                  </a:lnTo>
                  <a:lnTo>
                    <a:pt x="104" y="274"/>
                  </a:lnTo>
                  <a:lnTo>
                    <a:pt x="132" y="258"/>
                  </a:lnTo>
                  <a:lnTo>
                    <a:pt x="163" y="247"/>
                  </a:lnTo>
                  <a:lnTo>
                    <a:pt x="193" y="240"/>
                  </a:lnTo>
                  <a:lnTo>
                    <a:pt x="225" y="242"/>
                  </a:lnTo>
                  <a:lnTo>
                    <a:pt x="231" y="216"/>
                  </a:lnTo>
                  <a:lnTo>
                    <a:pt x="231" y="196"/>
                  </a:lnTo>
                  <a:lnTo>
                    <a:pt x="229" y="172"/>
                  </a:lnTo>
                  <a:lnTo>
                    <a:pt x="227" y="156"/>
                  </a:lnTo>
                  <a:lnTo>
                    <a:pt x="237" y="132"/>
                  </a:lnTo>
                  <a:lnTo>
                    <a:pt x="247" y="115"/>
                  </a:lnTo>
                  <a:lnTo>
                    <a:pt x="255" y="97"/>
                  </a:lnTo>
                  <a:lnTo>
                    <a:pt x="279" y="14"/>
                  </a:lnTo>
                  <a:lnTo>
                    <a:pt x="249" y="14"/>
                  </a:lnTo>
                  <a:lnTo>
                    <a:pt x="249" y="10"/>
                  </a:lnTo>
                  <a:lnTo>
                    <a:pt x="245" y="0"/>
                  </a:lnTo>
                  <a:lnTo>
                    <a:pt x="235" y="6"/>
                  </a:lnTo>
                  <a:lnTo>
                    <a:pt x="212" y="28"/>
                  </a:lnTo>
                  <a:lnTo>
                    <a:pt x="147" y="111"/>
                  </a:lnTo>
                  <a:lnTo>
                    <a:pt x="68" y="222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350040" y="5743440"/>
              <a:ext cx="103680" cy="178200"/>
            </a:xfrm>
            <a:custGeom>
              <a:avLst/>
              <a:gdLst/>
              <a:ahLst/>
              <a:rect l="0" t="0" r="r" b="b"/>
              <a:pathLst>
                <a:path w="288" h="495">
                  <a:moveTo>
                    <a:pt x="0" y="495"/>
                  </a:moveTo>
                  <a:lnTo>
                    <a:pt x="16" y="493"/>
                  </a:lnTo>
                  <a:lnTo>
                    <a:pt x="22" y="491"/>
                  </a:lnTo>
                  <a:lnTo>
                    <a:pt x="26" y="487"/>
                  </a:lnTo>
                  <a:lnTo>
                    <a:pt x="30" y="479"/>
                  </a:lnTo>
                  <a:lnTo>
                    <a:pt x="34" y="469"/>
                  </a:lnTo>
                  <a:lnTo>
                    <a:pt x="38" y="459"/>
                  </a:lnTo>
                  <a:lnTo>
                    <a:pt x="48" y="446"/>
                  </a:lnTo>
                  <a:lnTo>
                    <a:pt x="66" y="436"/>
                  </a:lnTo>
                  <a:lnTo>
                    <a:pt x="97" y="426"/>
                  </a:lnTo>
                  <a:lnTo>
                    <a:pt x="137" y="418"/>
                  </a:lnTo>
                  <a:lnTo>
                    <a:pt x="143" y="416"/>
                  </a:lnTo>
                  <a:lnTo>
                    <a:pt x="147" y="410"/>
                  </a:lnTo>
                  <a:lnTo>
                    <a:pt x="179" y="389"/>
                  </a:lnTo>
                  <a:lnTo>
                    <a:pt x="282" y="335"/>
                  </a:lnTo>
                  <a:lnTo>
                    <a:pt x="288" y="0"/>
                  </a:lnTo>
                  <a:lnTo>
                    <a:pt x="262" y="38"/>
                  </a:lnTo>
                  <a:lnTo>
                    <a:pt x="258" y="36"/>
                  </a:lnTo>
                  <a:lnTo>
                    <a:pt x="246" y="38"/>
                  </a:lnTo>
                  <a:lnTo>
                    <a:pt x="228" y="34"/>
                  </a:lnTo>
                  <a:lnTo>
                    <a:pt x="4" y="453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70840" y="5951520"/>
              <a:ext cx="773640" cy="630720"/>
            </a:xfrm>
            <a:custGeom>
              <a:avLst/>
              <a:gdLst/>
              <a:ahLst/>
              <a:rect l="0" t="0" r="r" b="b"/>
              <a:pathLst>
                <a:path w="2149" h="1752">
                  <a:moveTo>
                    <a:pt x="45" y="0"/>
                  </a:moveTo>
                  <a:lnTo>
                    <a:pt x="77" y="8"/>
                  </a:lnTo>
                  <a:lnTo>
                    <a:pt x="129" y="26"/>
                  </a:lnTo>
                  <a:lnTo>
                    <a:pt x="181" y="47"/>
                  </a:lnTo>
                  <a:lnTo>
                    <a:pt x="206" y="62"/>
                  </a:lnTo>
                  <a:lnTo>
                    <a:pt x="379" y="224"/>
                  </a:lnTo>
                  <a:lnTo>
                    <a:pt x="464" y="306"/>
                  </a:lnTo>
                  <a:lnTo>
                    <a:pt x="734" y="585"/>
                  </a:lnTo>
                  <a:lnTo>
                    <a:pt x="905" y="720"/>
                  </a:lnTo>
                  <a:lnTo>
                    <a:pt x="922" y="739"/>
                  </a:lnTo>
                  <a:lnTo>
                    <a:pt x="935" y="758"/>
                  </a:lnTo>
                  <a:lnTo>
                    <a:pt x="962" y="795"/>
                  </a:lnTo>
                  <a:lnTo>
                    <a:pt x="983" y="814"/>
                  </a:lnTo>
                  <a:lnTo>
                    <a:pt x="1016" y="836"/>
                  </a:lnTo>
                  <a:lnTo>
                    <a:pt x="1062" y="861"/>
                  </a:lnTo>
                  <a:lnTo>
                    <a:pt x="1124" y="890"/>
                  </a:lnTo>
                  <a:lnTo>
                    <a:pt x="1126" y="890"/>
                  </a:lnTo>
                  <a:lnTo>
                    <a:pt x="1124" y="884"/>
                  </a:lnTo>
                  <a:lnTo>
                    <a:pt x="1126" y="884"/>
                  </a:lnTo>
                  <a:lnTo>
                    <a:pt x="1141" y="894"/>
                  </a:lnTo>
                  <a:lnTo>
                    <a:pt x="1231" y="973"/>
                  </a:lnTo>
                  <a:lnTo>
                    <a:pt x="1454" y="1177"/>
                  </a:lnTo>
                  <a:lnTo>
                    <a:pt x="1647" y="1360"/>
                  </a:lnTo>
                  <a:lnTo>
                    <a:pt x="1709" y="1402"/>
                  </a:lnTo>
                  <a:lnTo>
                    <a:pt x="1755" y="1427"/>
                  </a:lnTo>
                  <a:lnTo>
                    <a:pt x="1826" y="1460"/>
                  </a:lnTo>
                  <a:lnTo>
                    <a:pt x="1868" y="1485"/>
                  </a:lnTo>
                  <a:lnTo>
                    <a:pt x="1924" y="1526"/>
                  </a:lnTo>
                  <a:lnTo>
                    <a:pt x="2001" y="1592"/>
                  </a:lnTo>
                  <a:lnTo>
                    <a:pt x="2107" y="1690"/>
                  </a:lnTo>
                  <a:lnTo>
                    <a:pt x="2145" y="1729"/>
                  </a:lnTo>
                  <a:lnTo>
                    <a:pt x="2149" y="1742"/>
                  </a:lnTo>
                  <a:lnTo>
                    <a:pt x="2147" y="1746"/>
                  </a:lnTo>
                  <a:lnTo>
                    <a:pt x="2143" y="1746"/>
                  </a:lnTo>
                  <a:lnTo>
                    <a:pt x="2134" y="1752"/>
                  </a:lnTo>
                  <a:lnTo>
                    <a:pt x="2128" y="1752"/>
                  </a:lnTo>
                  <a:lnTo>
                    <a:pt x="2122" y="1750"/>
                  </a:lnTo>
                  <a:lnTo>
                    <a:pt x="2109" y="1740"/>
                  </a:lnTo>
                  <a:lnTo>
                    <a:pt x="2049" y="1690"/>
                  </a:lnTo>
                  <a:lnTo>
                    <a:pt x="1909" y="1582"/>
                  </a:lnTo>
                  <a:lnTo>
                    <a:pt x="1516" y="1291"/>
                  </a:lnTo>
                  <a:lnTo>
                    <a:pt x="1433" y="1233"/>
                  </a:lnTo>
                  <a:lnTo>
                    <a:pt x="1395" y="1208"/>
                  </a:lnTo>
                  <a:lnTo>
                    <a:pt x="1385" y="1204"/>
                  </a:lnTo>
                  <a:lnTo>
                    <a:pt x="1377" y="1204"/>
                  </a:lnTo>
                  <a:lnTo>
                    <a:pt x="1352" y="1187"/>
                  </a:lnTo>
                  <a:lnTo>
                    <a:pt x="1287" y="1141"/>
                  </a:lnTo>
                  <a:lnTo>
                    <a:pt x="1243" y="1108"/>
                  </a:lnTo>
                  <a:lnTo>
                    <a:pt x="1199" y="1069"/>
                  </a:lnTo>
                  <a:lnTo>
                    <a:pt x="1118" y="992"/>
                  </a:lnTo>
                  <a:lnTo>
                    <a:pt x="1076" y="955"/>
                  </a:lnTo>
                  <a:lnTo>
                    <a:pt x="1033" y="921"/>
                  </a:lnTo>
                  <a:lnTo>
                    <a:pt x="985" y="890"/>
                  </a:lnTo>
                  <a:lnTo>
                    <a:pt x="932" y="863"/>
                  </a:lnTo>
                  <a:lnTo>
                    <a:pt x="905" y="853"/>
                  </a:lnTo>
                  <a:lnTo>
                    <a:pt x="901" y="851"/>
                  </a:lnTo>
                  <a:lnTo>
                    <a:pt x="893" y="836"/>
                  </a:lnTo>
                  <a:lnTo>
                    <a:pt x="855" y="789"/>
                  </a:lnTo>
                  <a:lnTo>
                    <a:pt x="828" y="758"/>
                  </a:lnTo>
                  <a:lnTo>
                    <a:pt x="799" y="735"/>
                  </a:lnTo>
                  <a:lnTo>
                    <a:pt x="743" y="702"/>
                  </a:lnTo>
                  <a:lnTo>
                    <a:pt x="693" y="675"/>
                  </a:lnTo>
                  <a:lnTo>
                    <a:pt x="670" y="662"/>
                  </a:lnTo>
                  <a:lnTo>
                    <a:pt x="647" y="646"/>
                  </a:lnTo>
                  <a:lnTo>
                    <a:pt x="559" y="538"/>
                  </a:lnTo>
                  <a:lnTo>
                    <a:pt x="473" y="488"/>
                  </a:lnTo>
                  <a:lnTo>
                    <a:pt x="435" y="444"/>
                  </a:lnTo>
                  <a:lnTo>
                    <a:pt x="400" y="398"/>
                  </a:lnTo>
                  <a:lnTo>
                    <a:pt x="379" y="373"/>
                  </a:lnTo>
                  <a:lnTo>
                    <a:pt x="352" y="344"/>
                  </a:lnTo>
                  <a:lnTo>
                    <a:pt x="321" y="313"/>
                  </a:lnTo>
                  <a:lnTo>
                    <a:pt x="277" y="280"/>
                  </a:lnTo>
                  <a:lnTo>
                    <a:pt x="246" y="257"/>
                  </a:lnTo>
                  <a:lnTo>
                    <a:pt x="231" y="248"/>
                  </a:lnTo>
                  <a:lnTo>
                    <a:pt x="181" y="172"/>
                  </a:lnTo>
                  <a:lnTo>
                    <a:pt x="112" y="168"/>
                  </a:lnTo>
                  <a:lnTo>
                    <a:pt x="97" y="165"/>
                  </a:lnTo>
                  <a:lnTo>
                    <a:pt x="93" y="161"/>
                  </a:lnTo>
                  <a:lnTo>
                    <a:pt x="91" y="153"/>
                  </a:lnTo>
                  <a:lnTo>
                    <a:pt x="89" y="149"/>
                  </a:lnTo>
                  <a:lnTo>
                    <a:pt x="79" y="145"/>
                  </a:lnTo>
                  <a:lnTo>
                    <a:pt x="18" y="145"/>
                  </a:lnTo>
                  <a:lnTo>
                    <a:pt x="6" y="130"/>
                  </a:lnTo>
                  <a:lnTo>
                    <a:pt x="0" y="122"/>
                  </a:lnTo>
                  <a:lnTo>
                    <a:pt x="2" y="118"/>
                  </a:lnTo>
                  <a:lnTo>
                    <a:pt x="6" y="114"/>
                  </a:lnTo>
                  <a:lnTo>
                    <a:pt x="10" y="109"/>
                  </a:lnTo>
                  <a:lnTo>
                    <a:pt x="14" y="99"/>
                  </a:lnTo>
                  <a:lnTo>
                    <a:pt x="14" y="85"/>
                  </a:lnTo>
                  <a:lnTo>
                    <a:pt x="6" y="58"/>
                  </a:lnTo>
                  <a:lnTo>
                    <a:pt x="8" y="41"/>
                  </a:lnTo>
                  <a:lnTo>
                    <a:pt x="14" y="22"/>
                  </a:lnTo>
                  <a:lnTo>
                    <a:pt x="25" y="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067600" y="6024600"/>
              <a:ext cx="813240" cy="659160"/>
            </a:xfrm>
            <a:custGeom>
              <a:avLst/>
              <a:gdLst/>
              <a:ahLst/>
              <a:rect l="0" t="0" r="r" b="b"/>
              <a:pathLst>
                <a:path w="2259" h="1831">
                  <a:moveTo>
                    <a:pt x="0" y="47"/>
                  </a:moveTo>
                  <a:lnTo>
                    <a:pt x="2" y="29"/>
                  </a:lnTo>
                  <a:lnTo>
                    <a:pt x="8" y="14"/>
                  </a:lnTo>
                  <a:lnTo>
                    <a:pt x="20" y="4"/>
                  </a:lnTo>
                  <a:lnTo>
                    <a:pt x="39" y="0"/>
                  </a:lnTo>
                  <a:lnTo>
                    <a:pt x="70" y="6"/>
                  </a:lnTo>
                  <a:lnTo>
                    <a:pt x="110" y="20"/>
                  </a:lnTo>
                  <a:lnTo>
                    <a:pt x="162" y="49"/>
                  </a:lnTo>
                  <a:lnTo>
                    <a:pt x="227" y="91"/>
                  </a:lnTo>
                  <a:lnTo>
                    <a:pt x="266" y="116"/>
                  </a:lnTo>
                  <a:lnTo>
                    <a:pt x="306" y="135"/>
                  </a:lnTo>
                  <a:lnTo>
                    <a:pt x="325" y="149"/>
                  </a:lnTo>
                  <a:lnTo>
                    <a:pt x="341" y="162"/>
                  </a:lnTo>
                  <a:lnTo>
                    <a:pt x="358" y="180"/>
                  </a:lnTo>
                  <a:lnTo>
                    <a:pt x="368" y="199"/>
                  </a:lnTo>
                  <a:lnTo>
                    <a:pt x="373" y="222"/>
                  </a:lnTo>
                  <a:lnTo>
                    <a:pt x="381" y="255"/>
                  </a:lnTo>
                  <a:lnTo>
                    <a:pt x="396" y="280"/>
                  </a:lnTo>
                  <a:lnTo>
                    <a:pt x="416" y="313"/>
                  </a:lnTo>
                  <a:lnTo>
                    <a:pt x="452" y="353"/>
                  </a:lnTo>
                  <a:lnTo>
                    <a:pt x="500" y="400"/>
                  </a:lnTo>
                  <a:lnTo>
                    <a:pt x="576" y="467"/>
                  </a:lnTo>
                  <a:lnTo>
                    <a:pt x="620" y="504"/>
                  </a:lnTo>
                  <a:lnTo>
                    <a:pt x="641" y="521"/>
                  </a:lnTo>
                  <a:lnTo>
                    <a:pt x="651" y="525"/>
                  </a:lnTo>
                  <a:lnTo>
                    <a:pt x="661" y="544"/>
                  </a:lnTo>
                  <a:lnTo>
                    <a:pt x="716" y="631"/>
                  </a:lnTo>
                  <a:lnTo>
                    <a:pt x="734" y="658"/>
                  </a:lnTo>
                  <a:lnTo>
                    <a:pt x="749" y="668"/>
                  </a:lnTo>
                  <a:lnTo>
                    <a:pt x="759" y="670"/>
                  </a:lnTo>
                  <a:lnTo>
                    <a:pt x="768" y="666"/>
                  </a:lnTo>
                  <a:lnTo>
                    <a:pt x="778" y="664"/>
                  </a:lnTo>
                  <a:lnTo>
                    <a:pt x="793" y="662"/>
                  </a:lnTo>
                  <a:lnTo>
                    <a:pt x="814" y="670"/>
                  </a:lnTo>
                  <a:lnTo>
                    <a:pt x="843" y="691"/>
                  </a:lnTo>
                  <a:lnTo>
                    <a:pt x="884" y="731"/>
                  </a:lnTo>
                  <a:lnTo>
                    <a:pt x="909" y="758"/>
                  </a:lnTo>
                  <a:lnTo>
                    <a:pt x="920" y="776"/>
                  </a:lnTo>
                  <a:lnTo>
                    <a:pt x="924" y="789"/>
                  </a:lnTo>
                  <a:lnTo>
                    <a:pt x="924" y="799"/>
                  </a:lnTo>
                  <a:lnTo>
                    <a:pt x="928" y="810"/>
                  </a:lnTo>
                  <a:lnTo>
                    <a:pt x="943" y="822"/>
                  </a:lnTo>
                  <a:lnTo>
                    <a:pt x="970" y="845"/>
                  </a:lnTo>
                  <a:lnTo>
                    <a:pt x="1014" y="866"/>
                  </a:lnTo>
                  <a:lnTo>
                    <a:pt x="1028" y="876"/>
                  </a:lnTo>
                  <a:lnTo>
                    <a:pt x="1049" y="891"/>
                  </a:lnTo>
                  <a:lnTo>
                    <a:pt x="1101" y="937"/>
                  </a:lnTo>
                  <a:lnTo>
                    <a:pt x="1174" y="998"/>
                  </a:lnTo>
                  <a:lnTo>
                    <a:pt x="1220" y="1031"/>
                  </a:lnTo>
                  <a:lnTo>
                    <a:pt x="1268" y="1064"/>
                  </a:lnTo>
                  <a:lnTo>
                    <a:pt x="1320" y="1085"/>
                  </a:lnTo>
                  <a:lnTo>
                    <a:pt x="1341" y="1120"/>
                  </a:lnTo>
                  <a:lnTo>
                    <a:pt x="1351" y="1133"/>
                  </a:lnTo>
                  <a:lnTo>
                    <a:pt x="1364" y="1141"/>
                  </a:lnTo>
                  <a:lnTo>
                    <a:pt x="1418" y="1178"/>
                  </a:lnTo>
                  <a:lnTo>
                    <a:pt x="1527" y="1263"/>
                  </a:lnTo>
                  <a:lnTo>
                    <a:pt x="1558" y="1272"/>
                  </a:lnTo>
                  <a:lnTo>
                    <a:pt x="1577" y="1307"/>
                  </a:lnTo>
                  <a:lnTo>
                    <a:pt x="1602" y="1326"/>
                  </a:lnTo>
                  <a:lnTo>
                    <a:pt x="1654" y="1353"/>
                  </a:lnTo>
                  <a:lnTo>
                    <a:pt x="1753" y="1417"/>
                  </a:lnTo>
                  <a:lnTo>
                    <a:pt x="2259" y="1818"/>
                  </a:lnTo>
                  <a:lnTo>
                    <a:pt x="2251" y="1828"/>
                  </a:lnTo>
                  <a:lnTo>
                    <a:pt x="2238" y="1831"/>
                  </a:lnTo>
                  <a:lnTo>
                    <a:pt x="2220" y="1822"/>
                  </a:lnTo>
                  <a:lnTo>
                    <a:pt x="2186" y="1799"/>
                  </a:lnTo>
                  <a:lnTo>
                    <a:pt x="2063" y="1706"/>
                  </a:lnTo>
                  <a:lnTo>
                    <a:pt x="1826" y="1533"/>
                  </a:lnTo>
                  <a:lnTo>
                    <a:pt x="1256" y="1126"/>
                  </a:lnTo>
                  <a:lnTo>
                    <a:pt x="1093" y="1006"/>
                  </a:lnTo>
                  <a:lnTo>
                    <a:pt x="1085" y="998"/>
                  </a:lnTo>
                  <a:lnTo>
                    <a:pt x="1082" y="995"/>
                  </a:lnTo>
                  <a:lnTo>
                    <a:pt x="974" y="913"/>
                  </a:lnTo>
                  <a:lnTo>
                    <a:pt x="855" y="818"/>
                  </a:lnTo>
                  <a:lnTo>
                    <a:pt x="845" y="793"/>
                  </a:lnTo>
                  <a:lnTo>
                    <a:pt x="832" y="778"/>
                  </a:lnTo>
                  <a:lnTo>
                    <a:pt x="818" y="768"/>
                  </a:lnTo>
                  <a:lnTo>
                    <a:pt x="799" y="762"/>
                  </a:lnTo>
                  <a:lnTo>
                    <a:pt x="749" y="741"/>
                  </a:lnTo>
                  <a:lnTo>
                    <a:pt x="713" y="720"/>
                  </a:lnTo>
                  <a:lnTo>
                    <a:pt x="672" y="683"/>
                  </a:lnTo>
                  <a:lnTo>
                    <a:pt x="521" y="544"/>
                  </a:lnTo>
                  <a:lnTo>
                    <a:pt x="485" y="504"/>
                  </a:lnTo>
                  <a:lnTo>
                    <a:pt x="464" y="479"/>
                  </a:lnTo>
                  <a:lnTo>
                    <a:pt x="452" y="459"/>
                  </a:lnTo>
                  <a:lnTo>
                    <a:pt x="448" y="450"/>
                  </a:lnTo>
                  <a:lnTo>
                    <a:pt x="437" y="440"/>
                  </a:lnTo>
                  <a:lnTo>
                    <a:pt x="366" y="378"/>
                  </a:lnTo>
                  <a:lnTo>
                    <a:pt x="316" y="338"/>
                  </a:lnTo>
                  <a:lnTo>
                    <a:pt x="298" y="324"/>
                  </a:lnTo>
                  <a:lnTo>
                    <a:pt x="281" y="307"/>
                  </a:lnTo>
                  <a:lnTo>
                    <a:pt x="268" y="286"/>
                  </a:lnTo>
                  <a:lnTo>
                    <a:pt x="254" y="261"/>
                  </a:lnTo>
                  <a:lnTo>
                    <a:pt x="248" y="240"/>
                  </a:lnTo>
                  <a:lnTo>
                    <a:pt x="245" y="228"/>
                  </a:lnTo>
                  <a:lnTo>
                    <a:pt x="245" y="218"/>
                  </a:lnTo>
                  <a:lnTo>
                    <a:pt x="223" y="205"/>
                  </a:lnTo>
                  <a:lnTo>
                    <a:pt x="143" y="170"/>
                  </a:lnTo>
                  <a:lnTo>
                    <a:pt x="118" y="153"/>
                  </a:lnTo>
                  <a:lnTo>
                    <a:pt x="110" y="139"/>
                  </a:lnTo>
                  <a:lnTo>
                    <a:pt x="102" y="118"/>
                  </a:lnTo>
                  <a:lnTo>
                    <a:pt x="91" y="103"/>
                  </a:lnTo>
                  <a:lnTo>
                    <a:pt x="75" y="83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932600" y="6226200"/>
              <a:ext cx="41760" cy="79560"/>
            </a:xfrm>
            <a:custGeom>
              <a:avLst/>
              <a:gdLst/>
              <a:ahLst/>
              <a:rect l="0" t="0" r="r" b="b"/>
              <a:pathLst>
                <a:path w="116" h="221">
                  <a:moveTo>
                    <a:pt x="116" y="17"/>
                  </a:moveTo>
                  <a:lnTo>
                    <a:pt x="111" y="53"/>
                  </a:lnTo>
                  <a:lnTo>
                    <a:pt x="101" y="92"/>
                  </a:lnTo>
                  <a:lnTo>
                    <a:pt x="78" y="144"/>
                  </a:lnTo>
                  <a:lnTo>
                    <a:pt x="62" y="180"/>
                  </a:lnTo>
                  <a:lnTo>
                    <a:pt x="37" y="221"/>
                  </a:lnTo>
                  <a:lnTo>
                    <a:pt x="14" y="201"/>
                  </a:lnTo>
                  <a:lnTo>
                    <a:pt x="3" y="186"/>
                  </a:lnTo>
                  <a:lnTo>
                    <a:pt x="0" y="174"/>
                  </a:lnTo>
                  <a:lnTo>
                    <a:pt x="3" y="166"/>
                  </a:lnTo>
                  <a:lnTo>
                    <a:pt x="20" y="156"/>
                  </a:lnTo>
                  <a:lnTo>
                    <a:pt x="30" y="152"/>
                  </a:lnTo>
                  <a:lnTo>
                    <a:pt x="34" y="146"/>
                  </a:lnTo>
                  <a:lnTo>
                    <a:pt x="43" y="126"/>
                  </a:lnTo>
                  <a:lnTo>
                    <a:pt x="47" y="104"/>
                  </a:lnTo>
                  <a:lnTo>
                    <a:pt x="49" y="66"/>
                  </a:lnTo>
                  <a:lnTo>
                    <a:pt x="56" y="33"/>
                  </a:lnTo>
                  <a:lnTo>
                    <a:pt x="67" y="15"/>
                  </a:lnTo>
                  <a:lnTo>
                    <a:pt x="84" y="0"/>
                  </a:lnTo>
                  <a:lnTo>
                    <a:pt x="92" y="0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772480" y="6391440"/>
              <a:ext cx="87840" cy="66960"/>
            </a:xfrm>
            <a:custGeom>
              <a:avLst/>
              <a:gdLst/>
              <a:ahLst/>
              <a:rect l="0" t="0" r="r" b="b"/>
              <a:pathLst>
                <a:path w="244" h="186">
                  <a:moveTo>
                    <a:pt x="12" y="0"/>
                  </a:moveTo>
                  <a:lnTo>
                    <a:pt x="32" y="1"/>
                  </a:lnTo>
                  <a:lnTo>
                    <a:pt x="38" y="5"/>
                  </a:lnTo>
                  <a:lnTo>
                    <a:pt x="42" y="9"/>
                  </a:lnTo>
                  <a:lnTo>
                    <a:pt x="52" y="25"/>
                  </a:lnTo>
                  <a:lnTo>
                    <a:pt x="63" y="35"/>
                  </a:lnTo>
                  <a:lnTo>
                    <a:pt x="79" y="47"/>
                  </a:lnTo>
                  <a:lnTo>
                    <a:pt x="97" y="57"/>
                  </a:lnTo>
                  <a:lnTo>
                    <a:pt x="109" y="61"/>
                  </a:lnTo>
                  <a:lnTo>
                    <a:pt x="125" y="63"/>
                  </a:lnTo>
                  <a:lnTo>
                    <a:pt x="137" y="69"/>
                  </a:lnTo>
                  <a:lnTo>
                    <a:pt x="159" y="85"/>
                  </a:lnTo>
                  <a:lnTo>
                    <a:pt x="240" y="164"/>
                  </a:lnTo>
                  <a:lnTo>
                    <a:pt x="244" y="172"/>
                  </a:lnTo>
                  <a:lnTo>
                    <a:pt x="244" y="178"/>
                  </a:lnTo>
                  <a:lnTo>
                    <a:pt x="238" y="184"/>
                  </a:lnTo>
                  <a:lnTo>
                    <a:pt x="228" y="186"/>
                  </a:lnTo>
                  <a:lnTo>
                    <a:pt x="210" y="182"/>
                  </a:lnTo>
                  <a:lnTo>
                    <a:pt x="186" y="170"/>
                  </a:lnTo>
                  <a:lnTo>
                    <a:pt x="151" y="148"/>
                  </a:lnTo>
                  <a:lnTo>
                    <a:pt x="109" y="114"/>
                  </a:lnTo>
                  <a:lnTo>
                    <a:pt x="63" y="79"/>
                  </a:lnTo>
                  <a:lnTo>
                    <a:pt x="24" y="55"/>
                  </a:lnTo>
                  <a:lnTo>
                    <a:pt x="10" y="43"/>
                  </a:lnTo>
                  <a:lnTo>
                    <a:pt x="2" y="31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872560" y="6461280"/>
              <a:ext cx="125640" cy="73440"/>
            </a:xfrm>
            <a:custGeom>
              <a:avLst/>
              <a:gdLst/>
              <a:ahLst/>
              <a:rect l="0" t="0" r="r" b="b"/>
              <a:pathLst>
                <a:path w="349" h="204">
                  <a:moveTo>
                    <a:pt x="10" y="0"/>
                  </a:moveTo>
                  <a:lnTo>
                    <a:pt x="24" y="3"/>
                  </a:lnTo>
                  <a:lnTo>
                    <a:pt x="64" y="27"/>
                  </a:lnTo>
                  <a:lnTo>
                    <a:pt x="161" y="86"/>
                  </a:lnTo>
                  <a:lnTo>
                    <a:pt x="337" y="189"/>
                  </a:lnTo>
                  <a:lnTo>
                    <a:pt x="349" y="197"/>
                  </a:lnTo>
                  <a:lnTo>
                    <a:pt x="349" y="200"/>
                  </a:lnTo>
                  <a:lnTo>
                    <a:pt x="343" y="202"/>
                  </a:lnTo>
                  <a:lnTo>
                    <a:pt x="331" y="204"/>
                  </a:lnTo>
                  <a:lnTo>
                    <a:pt x="307" y="198"/>
                  </a:lnTo>
                  <a:lnTo>
                    <a:pt x="266" y="185"/>
                  </a:lnTo>
                  <a:lnTo>
                    <a:pt x="208" y="158"/>
                  </a:lnTo>
                  <a:lnTo>
                    <a:pt x="126" y="118"/>
                  </a:lnTo>
                  <a:lnTo>
                    <a:pt x="18" y="57"/>
                  </a:lnTo>
                  <a:lnTo>
                    <a:pt x="10" y="46"/>
                  </a:lnTo>
                  <a:lnTo>
                    <a:pt x="2" y="29"/>
                  </a:lnTo>
                  <a:lnTo>
                    <a:pt x="0" y="9"/>
                  </a:lnTo>
                  <a:lnTo>
                    <a:pt x="2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832960" y="6504120"/>
              <a:ext cx="81360" cy="51120"/>
            </a:xfrm>
            <a:custGeom>
              <a:avLst/>
              <a:gdLst/>
              <a:ahLst/>
              <a:rect l="0" t="0" r="r" b="b"/>
              <a:pathLst>
                <a:path w="226" h="142">
                  <a:moveTo>
                    <a:pt x="7" y="0"/>
                  </a:moveTo>
                  <a:lnTo>
                    <a:pt x="19" y="0"/>
                  </a:lnTo>
                  <a:lnTo>
                    <a:pt x="41" y="9"/>
                  </a:lnTo>
                  <a:lnTo>
                    <a:pt x="105" y="43"/>
                  </a:lnTo>
                  <a:lnTo>
                    <a:pt x="175" y="88"/>
                  </a:lnTo>
                  <a:lnTo>
                    <a:pt x="205" y="109"/>
                  </a:lnTo>
                  <a:lnTo>
                    <a:pt x="226" y="126"/>
                  </a:lnTo>
                  <a:lnTo>
                    <a:pt x="226" y="140"/>
                  </a:lnTo>
                  <a:lnTo>
                    <a:pt x="219" y="142"/>
                  </a:lnTo>
                  <a:lnTo>
                    <a:pt x="201" y="140"/>
                  </a:lnTo>
                  <a:lnTo>
                    <a:pt x="133" y="111"/>
                  </a:lnTo>
                  <a:lnTo>
                    <a:pt x="73" y="79"/>
                  </a:lnTo>
                  <a:lnTo>
                    <a:pt x="39" y="57"/>
                  </a:lnTo>
                  <a:lnTo>
                    <a:pt x="3" y="30"/>
                  </a:lnTo>
                  <a:lnTo>
                    <a:pt x="0" y="11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858160" y="6591240"/>
              <a:ext cx="28800" cy="19440"/>
            </a:xfrm>
            <a:custGeom>
              <a:avLst/>
              <a:gdLst/>
              <a:ahLst/>
              <a:rect l="0" t="0" r="r" b="b"/>
              <a:pathLst>
                <a:path w="80" h="54">
                  <a:moveTo>
                    <a:pt x="0" y="18"/>
                  </a:moveTo>
                  <a:lnTo>
                    <a:pt x="7" y="6"/>
                  </a:lnTo>
                  <a:lnTo>
                    <a:pt x="12" y="3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41" y="6"/>
                  </a:lnTo>
                  <a:lnTo>
                    <a:pt x="58" y="19"/>
                  </a:lnTo>
                  <a:lnTo>
                    <a:pt x="78" y="41"/>
                  </a:lnTo>
                  <a:lnTo>
                    <a:pt x="80" y="49"/>
                  </a:lnTo>
                  <a:lnTo>
                    <a:pt x="78" y="54"/>
                  </a:lnTo>
                  <a:lnTo>
                    <a:pt x="63" y="54"/>
                  </a:lnTo>
                  <a:lnTo>
                    <a:pt x="35" y="4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526600" y="5640480"/>
              <a:ext cx="27360" cy="33840"/>
            </a:xfrm>
            <a:custGeom>
              <a:avLst/>
              <a:gdLst/>
              <a:ahLst/>
              <a:rect l="0" t="0" r="r" b="b"/>
              <a:pathLst>
                <a:path w="76" h="94">
                  <a:moveTo>
                    <a:pt x="25" y="94"/>
                  </a:moveTo>
                  <a:lnTo>
                    <a:pt x="25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6" y="0"/>
                  </a:lnTo>
                  <a:lnTo>
                    <a:pt x="76" y="22"/>
                  </a:lnTo>
                  <a:lnTo>
                    <a:pt x="49" y="22"/>
                  </a:lnTo>
                  <a:lnTo>
                    <a:pt x="49" y="94"/>
                  </a:lnTo>
                  <a:lnTo>
                    <a:pt x="25" y="94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564400" y="5640480"/>
              <a:ext cx="44640" cy="36720"/>
            </a:xfrm>
            <a:custGeom>
              <a:avLst/>
              <a:gdLst/>
              <a:ahLst/>
              <a:rect l="0" t="0" r="r" b="b"/>
              <a:pathLst>
                <a:path w="124" h="102">
                  <a:moveTo>
                    <a:pt x="6" y="0"/>
                  </a:moveTo>
                  <a:lnTo>
                    <a:pt x="14" y="0"/>
                  </a:lnTo>
                  <a:lnTo>
                    <a:pt x="18" y="2"/>
                  </a:lnTo>
                  <a:lnTo>
                    <a:pt x="61" y="67"/>
                  </a:lnTo>
                  <a:lnTo>
                    <a:pt x="105" y="4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2" y="10"/>
                  </a:lnTo>
                  <a:lnTo>
                    <a:pt x="124" y="14"/>
                  </a:lnTo>
                  <a:lnTo>
                    <a:pt x="124" y="102"/>
                  </a:lnTo>
                  <a:lnTo>
                    <a:pt x="103" y="102"/>
                  </a:lnTo>
                  <a:lnTo>
                    <a:pt x="103" y="34"/>
                  </a:lnTo>
                  <a:lnTo>
                    <a:pt x="61" y="100"/>
                  </a:lnTo>
                  <a:lnTo>
                    <a:pt x="20" y="34"/>
                  </a:lnTo>
                  <a:lnTo>
                    <a:pt x="20" y="100"/>
                  </a:lnTo>
                  <a:lnTo>
                    <a:pt x="0" y="10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564400" y="5640480"/>
              <a:ext cx="44640" cy="36720"/>
            </a:xfrm>
            <a:custGeom>
              <a:avLst/>
              <a:gdLst/>
              <a:ahLst/>
              <a:rect l="0" t="0" r="r" b="b"/>
              <a:pathLst>
                <a:path w="124" h="102">
                  <a:moveTo>
                    <a:pt x="6" y="0"/>
                  </a:moveTo>
                  <a:lnTo>
                    <a:pt x="14" y="0"/>
                  </a:lnTo>
                  <a:lnTo>
                    <a:pt x="18" y="2"/>
                  </a:lnTo>
                  <a:lnTo>
                    <a:pt x="61" y="67"/>
                  </a:lnTo>
                  <a:lnTo>
                    <a:pt x="105" y="4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2" y="10"/>
                  </a:lnTo>
                  <a:lnTo>
                    <a:pt x="124" y="14"/>
                  </a:lnTo>
                  <a:lnTo>
                    <a:pt x="124" y="102"/>
                  </a:lnTo>
                  <a:lnTo>
                    <a:pt x="103" y="102"/>
                  </a:lnTo>
                  <a:lnTo>
                    <a:pt x="103" y="34"/>
                  </a:lnTo>
                  <a:lnTo>
                    <a:pt x="61" y="100"/>
                  </a:lnTo>
                  <a:lnTo>
                    <a:pt x="20" y="34"/>
                  </a:lnTo>
                  <a:lnTo>
                    <a:pt x="20" y="100"/>
                  </a:lnTo>
                  <a:lnTo>
                    <a:pt x="0" y="10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1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533520" y="291960"/>
            <a:ext cx="7975440" cy="56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Jagua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 Price = Big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 algn="ctr">
              <a:lnSpc>
                <a:spcPct val="90000"/>
              </a:lnSpc>
              <a:spcBef>
                <a:spcPts val="72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ari’s Jaguar strategy is quite clear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 a solid next-generation gaming system at an aggressive price point to quickly reach a mass-market installed b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5589720" y="5483160"/>
            <a:ext cx="3408480" cy="1200600"/>
            <a:chOff x="5589720" y="5483160"/>
            <a:chExt cx="3408480" cy="1200600"/>
          </a:xfrm>
        </p:grpSpPr>
        <p:sp>
          <p:nvSpPr>
            <p:cNvPr id="594" name=""/>
            <p:cNvSpPr/>
            <p:nvPr/>
          </p:nvSpPr>
          <p:spPr>
            <a:xfrm>
              <a:off x="5589720" y="5483160"/>
              <a:ext cx="973440" cy="868680"/>
            </a:xfrm>
            <a:custGeom>
              <a:avLst/>
              <a:gdLst/>
              <a:ahLst/>
              <a:rect l="0" t="0" r="r" b="b"/>
              <a:pathLst>
                <a:path w="2704" h="2413">
                  <a:moveTo>
                    <a:pt x="2704" y="45"/>
                  </a:moveTo>
                  <a:lnTo>
                    <a:pt x="2691" y="52"/>
                  </a:lnTo>
                  <a:lnTo>
                    <a:pt x="2674" y="56"/>
                  </a:lnTo>
                  <a:lnTo>
                    <a:pt x="2631" y="66"/>
                  </a:lnTo>
                  <a:lnTo>
                    <a:pt x="2518" y="83"/>
                  </a:lnTo>
                  <a:lnTo>
                    <a:pt x="2399" y="101"/>
                  </a:lnTo>
                  <a:lnTo>
                    <a:pt x="2308" y="118"/>
                  </a:lnTo>
                  <a:lnTo>
                    <a:pt x="2314" y="137"/>
                  </a:lnTo>
                  <a:lnTo>
                    <a:pt x="2314" y="141"/>
                  </a:lnTo>
                  <a:lnTo>
                    <a:pt x="2318" y="143"/>
                  </a:lnTo>
                  <a:lnTo>
                    <a:pt x="2341" y="147"/>
                  </a:lnTo>
                  <a:lnTo>
                    <a:pt x="2395" y="154"/>
                  </a:lnTo>
                  <a:lnTo>
                    <a:pt x="2393" y="178"/>
                  </a:lnTo>
                  <a:lnTo>
                    <a:pt x="2343" y="216"/>
                  </a:lnTo>
                  <a:lnTo>
                    <a:pt x="2331" y="226"/>
                  </a:lnTo>
                  <a:lnTo>
                    <a:pt x="2326" y="233"/>
                  </a:lnTo>
                  <a:lnTo>
                    <a:pt x="2329" y="241"/>
                  </a:lnTo>
                  <a:lnTo>
                    <a:pt x="2331" y="245"/>
                  </a:lnTo>
                  <a:lnTo>
                    <a:pt x="2326" y="249"/>
                  </a:lnTo>
                  <a:lnTo>
                    <a:pt x="2312" y="264"/>
                  </a:lnTo>
                  <a:lnTo>
                    <a:pt x="2291" y="272"/>
                  </a:lnTo>
                  <a:lnTo>
                    <a:pt x="2272" y="280"/>
                  </a:lnTo>
                  <a:lnTo>
                    <a:pt x="2251" y="283"/>
                  </a:lnTo>
                  <a:lnTo>
                    <a:pt x="2212" y="291"/>
                  </a:lnTo>
                  <a:lnTo>
                    <a:pt x="2183" y="301"/>
                  </a:lnTo>
                  <a:lnTo>
                    <a:pt x="2170" y="314"/>
                  </a:lnTo>
                  <a:lnTo>
                    <a:pt x="2168" y="320"/>
                  </a:lnTo>
                  <a:lnTo>
                    <a:pt x="2168" y="326"/>
                  </a:lnTo>
                  <a:lnTo>
                    <a:pt x="2164" y="332"/>
                  </a:lnTo>
                  <a:lnTo>
                    <a:pt x="2147" y="343"/>
                  </a:lnTo>
                  <a:lnTo>
                    <a:pt x="2112" y="355"/>
                  </a:lnTo>
                  <a:lnTo>
                    <a:pt x="1949" y="403"/>
                  </a:lnTo>
                  <a:lnTo>
                    <a:pt x="1941" y="407"/>
                  </a:lnTo>
                  <a:lnTo>
                    <a:pt x="1933" y="416"/>
                  </a:lnTo>
                  <a:lnTo>
                    <a:pt x="1918" y="437"/>
                  </a:lnTo>
                  <a:lnTo>
                    <a:pt x="1901" y="459"/>
                  </a:lnTo>
                  <a:lnTo>
                    <a:pt x="1893" y="472"/>
                  </a:lnTo>
                  <a:lnTo>
                    <a:pt x="1882" y="476"/>
                  </a:lnTo>
                  <a:lnTo>
                    <a:pt x="1868" y="480"/>
                  </a:lnTo>
                  <a:lnTo>
                    <a:pt x="1845" y="482"/>
                  </a:lnTo>
                  <a:lnTo>
                    <a:pt x="1803" y="493"/>
                  </a:lnTo>
                  <a:lnTo>
                    <a:pt x="1739" y="524"/>
                  </a:lnTo>
                  <a:lnTo>
                    <a:pt x="1714" y="653"/>
                  </a:lnTo>
                  <a:lnTo>
                    <a:pt x="1687" y="776"/>
                  </a:lnTo>
                  <a:lnTo>
                    <a:pt x="1657" y="896"/>
                  </a:lnTo>
                  <a:lnTo>
                    <a:pt x="1626" y="1013"/>
                  </a:lnTo>
                  <a:lnTo>
                    <a:pt x="1559" y="1233"/>
                  </a:lnTo>
                  <a:lnTo>
                    <a:pt x="1489" y="1428"/>
                  </a:lnTo>
                  <a:lnTo>
                    <a:pt x="1453" y="1520"/>
                  </a:lnTo>
                  <a:lnTo>
                    <a:pt x="1418" y="1605"/>
                  </a:lnTo>
                  <a:lnTo>
                    <a:pt x="1346" y="1757"/>
                  </a:lnTo>
                  <a:lnTo>
                    <a:pt x="1310" y="1822"/>
                  </a:lnTo>
                  <a:lnTo>
                    <a:pt x="1277" y="1880"/>
                  </a:lnTo>
                  <a:lnTo>
                    <a:pt x="1244" y="1932"/>
                  </a:lnTo>
                  <a:lnTo>
                    <a:pt x="1212" y="1976"/>
                  </a:lnTo>
                  <a:lnTo>
                    <a:pt x="1125" y="2084"/>
                  </a:lnTo>
                  <a:lnTo>
                    <a:pt x="1085" y="2132"/>
                  </a:lnTo>
                  <a:lnTo>
                    <a:pt x="1044" y="2173"/>
                  </a:lnTo>
                  <a:lnTo>
                    <a:pt x="1006" y="2213"/>
                  </a:lnTo>
                  <a:lnTo>
                    <a:pt x="969" y="2246"/>
                  </a:lnTo>
                  <a:lnTo>
                    <a:pt x="933" y="2277"/>
                  </a:lnTo>
                  <a:lnTo>
                    <a:pt x="896" y="2306"/>
                  </a:lnTo>
                  <a:lnTo>
                    <a:pt x="862" y="2331"/>
                  </a:lnTo>
                  <a:lnTo>
                    <a:pt x="829" y="2350"/>
                  </a:lnTo>
                  <a:lnTo>
                    <a:pt x="762" y="2381"/>
                  </a:lnTo>
                  <a:lnTo>
                    <a:pt x="698" y="2402"/>
                  </a:lnTo>
                  <a:lnTo>
                    <a:pt x="633" y="2411"/>
                  </a:lnTo>
                  <a:lnTo>
                    <a:pt x="585" y="2413"/>
                  </a:lnTo>
                  <a:lnTo>
                    <a:pt x="535" y="2406"/>
                  </a:lnTo>
                  <a:lnTo>
                    <a:pt x="487" y="2396"/>
                  </a:lnTo>
                  <a:lnTo>
                    <a:pt x="437" y="2383"/>
                  </a:lnTo>
                  <a:lnTo>
                    <a:pt x="391" y="2367"/>
                  </a:lnTo>
                  <a:lnTo>
                    <a:pt x="343" y="2346"/>
                  </a:lnTo>
                  <a:lnTo>
                    <a:pt x="256" y="2302"/>
                  </a:lnTo>
                  <a:lnTo>
                    <a:pt x="181" y="2259"/>
                  </a:lnTo>
                  <a:lnTo>
                    <a:pt x="120" y="2217"/>
                  </a:lnTo>
                  <a:lnTo>
                    <a:pt x="81" y="2186"/>
                  </a:lnTo>
                  <a:lnTo>
                    <a:pt x="64" y="2171"/>
                  </a:lnTo>
                  <a:lnTo>
                    <a:pt x="33" y="2127"/>
                  </a:lnTo>
                  <a:lnTo>
                    <a:pt x="12" y="2092"/>
                  </a:lnTo>
                  <a:lnTo>
                    <a:pt x="2" y="2065"/>
                  </a:lnTo>
                  <a:lnTo>
                    <a:pt x="0" y="2044"/>
                  </a:lnTo>
                  <a:lnTo>
                    <a:pt x="0" y="2032"/>
                  </a:lnTo>
                  <a:lnTo>
                    <a:pt x="4" y="2023"/>
                  </a:lnTo>
                  <a:lnTo>
                    <a:pt x="16" y="2015"/>
                  </a:lnTo>
                  <a:lnTo>
                    <a:pt x="31" y="2015"/>
                  </a:lnTo>
                  <a:lnTo>
                    <a:pt x="39" y="2019"/>
                  </a:lnTo>
                  <a:lnTo>
                    <a:pt x="47" y="2026"/>
                  </a:lnTo>
                  <a:lnTo>
                    <a:pt x="72" y="2053"/>
                  </a:lnTo>
                  <a:lnTo>
                    <a:pt x="120" y="2096"/>
                  </a:lnTo>
                  <a:lnTo>
                    <a:pt x="177" y="2140"/>
                  </a:lnTo>
                  <a:lnTo>
                    <a:pt x="233" y="2173"/>
                  </a:lnTo>
                  <a:lnTo>
                    <a:pt x="289" y="2198"/>
                  </a:lnTo>
                  <a:lnTo>
                    <a:pt x="341" y="2215"/>
                  </a:lnTo>
                  <a:lnTo>
                    <a:pt x="393" y="2225"/>
                  </a:lnTo>
                  <a:lnTo>
                    <a:pt x="446" y="2227"/>
                  </a:lnTo>
                  <a:lnTo>
                    <a:pt x="493" y="2221"/>
                  </a:lnTo>
                  <a:lnTo>
                    <a:pt x="541" y="2211"/>
                  </a:lnTo>
                  <a:lnTo>
                    <a:pt x="589" y="2194"/>
                  </a:lnTo>
                  <a:lnTo>
                    <a:pt x="633" y="2169"/>
                  </a:lnTo>
                  <a:lnTo>
                    <a:pt x="679" y="2140"/>
                  </a:lnTo>
                  <a:lnTo>
                    <a:pt x="723" y="2105"/>
                  </a:lnTo>
                  <a:lnTo>
                    <a:pt x="766" y="2065"/>
                  </a:lnTo>
                  <a:lnTo>
                    <a:pt x="806" y="2019"/>
                  </a:lnTo>
                  <a:lnTo>
                    <a:pt x="848" y="1971"/>
                  </a:lnTo>
                  <a:lnTo>
                    <a:pt x="887" y="1919"/>
                  </a:lnTo>
                  <a:lnTo>
                    <a:pt x="944" y="1834"/>
                  </a:lnTo>
                  <a:lnTo>
                    <a:pt x="998" y="1740"/>
                  </a:lnTo>
                  <a:lnTo>
                    <a:pt x="1052" y="1636"/>
                  </a:lnTo>
                  <a:lnTo>
                    <a:pt x="1102" y="1524"/>
                  </a:lnTo>
                  <a:lnTo>
                    <a:pt x="1150" y="1403"/>
                  </a:lnTo>
                  <a:lnTo>
                    <a:pt x="1198" y="1268"/>
                  </a:lnTo>
                  <a:lnTo>
                    <a:pt x="1244" y="1123"/>
                  </a:lnTo>
                  <a:lnTo>
                    <a:pt x="1285" y="965"/>
                  </a:lnTo>
                  <a:lnTo>
                    <a:pt x="1374" y="595"/>
                  </a:lnTo>
                  <a:lnTo>
                    <a:pt x="1372" y="568"/>
                  </a:lnTo>
                  <a:lnTo>
                    <a:pt x="796" y="634"/>
                  </a:lnTo>
                  <a:lnTo>
                    <a:pt x="719" y="641"/>
                  </a:lnTo>
                  <a:lnTo>
                    <a:pt x="704" y="638"/>
                  </a:lnTo>
                  <a:lnTo>
                    <a:pt x="677" y="580"/>
                  </a:lnTo>
                  <a:lnTo>
                    <a:pt x="621" y="584"/>
                  </a:lnTo>
                  <a:lnTo>
                    <a:pt x="612" y="580"/>
                  </a:lnTo>
                  <a:lnTo>
                    <a:pt x="606" y="568"/>
                  </a:lnTo>
                  <a:lnTo>
                    <a:pt x="608" y="555"/>
                  </a:lnTo>
                  <a:lnTo>
                    <a:pt x="610" y="549"/>
                  </a:lnTo>
                  <a:lnTo>
                    <a:pt x="623" y="547"/>
                  </a:lnTo>
                  <a:lnTo>
                    <a:pt x="641" y="541"/>
                  </a:lnTo>
                  <a:lnTo>
                    <a:pt x="654" y="534"/>
                  </a:lnTo>
                  <a:lnTo>
                    <a:pt x="664" y="520"/>
                  </a:lnTo>
                  <a:lnTo>
                    <a:pt x="666" y="509"/>
                  </a:lnTo>
                  <a:lnTo>
                    <a:pt x="660" y="499"/>
                  </a:lnTo>
                  <a:lnTo>
                    <a:pt x="633" y="482"/>
                  </a:lnTo>
                  <a:lnTo>
                    <a:pt x="602" y="464"/>
                  </a:lnTo>
                  <a:lnTo>
                    <a:pt x="591" y="455"/>
                  </a:lnTo>
                  <a:lnTo>
                    <a:pt x="585" y="445"/>
                  </a:lnTo>
                  <a:lnTo>
                    <a:pt x="583" y="422"/>
                  </a:lnTo>
                  <a:lnTo>
                    <a:pt x="587" y="405"/>
                  </a:lnTo>
                  <a:lnTo>
                    <a:pt x="596" y="397"/>
                  </a:lnTo>
                  <a:lnTo>
                    <a:pt x="608" y="393"/>
                  </a:lnTo>
                  <a:lnTo>
                    <a:pt x="641" y="391"/>
                  </a:lnTo>
                  <a:lnTo>
                    <a:pt x="664" y="391"/>
                  </a:lnTo>
                  <a:lnTo>
                    <a:pt x="685" y="385"/>
                  </a:lnTo>
                  <a:lnTo>
                    <a:pt x="685" y="368"/>
                  </a:lnTo>
                  <a:lnTo>
                    <a:pt x="654" y="366"/>
                  </a:lnTo>
                  <a:lnTo>
                    <a:pt x="633" y="360"/>
                  </a:lnTo>
                  <a:lnTo>
                    <a:pt x="629" y="353"/>
                  </a:lnTo>
                  <a:lnTo>
                    <a:pt x="627" y="343"/>
                  </a:lnTo>
                  <a:lnTo>
                    <a:pt x="633" y="301"/>
                  </a:lnTo>
                  <a:lnTo>
                    <a:pt x="635" y="297"/>
                  </a:lnTo>
                  <a:lnTo>
                    <a:pt x="641" y="293"/>
                  </a:lnTo>
                  <a:lnTo>
                    <a:pt x="664" y="289"/>
                  </a:lnTo>
                  <a:lnTo>
                    <a:pt x="781" y="289"/>
                  </a:lnTo>
                  <a:lnTo>
                    <a:pt x="889" y="283"/>
                  </a:lnTo>
                  <a:lnTo>
                    <a:pt x="1039" y="270"/>
                  </a:lnTo>
                  <a:lnTo>
                    <a:pt x="1237" y="245"/>
                  </a:lnTo>
                  <a:lnTo>
                    <a:pt x="1493" y="206"/>
                  </a:lnTo>
                  <a:lnTo>
                    <a:pt x="2295" y="49"/>
                  </a:lnTo>
                  <a:lnTo>
                    <a:pt x="2539" y="8"/>
                  </a:lnTo>
                  <a:lnTo>
                    <a:pt x="2612" y="0"/>
                  </a:lnTo>
                  <a:lnTo>
                    <a:pt x="2658" y="0"/>
                  </a:lnTo>
                  <a:lnTo>
                    <a:pt x="2687" y="6"/>
                  </a:lnTo>
                  <a:lnTo>
                    <a:pt x="2699" y="16"/>
                  </a:lnTo>
                  <a:lnTo>
                    <a:pt x="2704" y="31"/>
                  </a:lnTo>
                  <a:lnTo>
                    <a:pt x="2704" y="4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999120" y="5564160"/>
              <a:ext cx="849600" cy="790920"/>
            </a:xfrm>
            <a:custGeom>
              <a:avLst/>
              <a:gdLst/>
              <a:ahLst/>
              <a:rect l="0" t="0" r="r" b="b"/>
              <a:pathLst>
                <a:path w="2360" h="2197">
                  <a:moveTo>
                    <a:pt x="706" y="145"/>
                  </a:moveTo>
                  <a:lnTo>
                    <a:pt x="739" y="162"/>
                  </a:lnTo>
                  <a:lnTo>
                    <a:pt x="762" y="176"/>
                  </a:lnTo>
                  <a:lnTo>
                    <a:pt x="769" y="185"/>
                  </a:lnTo>
                  <a:lnTo>
                    <a:pt x="773" y="195"/>
                  </a:lnTo>
                  <a:lnTo>
                    <a:pt x="773" y="220"/>
                  </a:lnTo>
                  <a:lnTo>
                    <a:pt x="758" y="255"/>
                  </a:lnTo>
                  <a:lnTo>
                    <a:pt x="729" y="305"/>
                  </a:lnTo>
                  <a:lnTo>
                    <a:pt x="635" y="459"/>
                  </a:lnTo>
                  <a:lnTo>
                    <a:pt x="614" y="480"/>
                  </a:lnTo>
                  <a:lnTo>
                    <a:pt x="591" y="580"/>
                  </a:lnTo>
                  <a:lnTo>
                    <a:pt x="581" y="607"/>
                  </a:lnTo>
                  <a:lnTo>
                    <a:pt x="568" y="625"/>
                  </a:lnTo>
                  <a:lnTo>
                    <a:pt x="535" y="673"/>
                  </a:lnTo>
                  <a:lnTo>
                    <a:pt x="506" y="717"/>
                  </a:lnTo>
                  <a:lnTo>
                    <a:pt x="468" y="781"/>
                  </a:lnTo>
                  <a:lnTo>
                    <a:pt x="420" y="917"/>
                  </a:lnTo>
                  <a:lnTo>
                    <a:pt x="406" y="935"/>
                  </a:lnTo>
                  <a:lnTo>
                    <a:pt x="373" y="983"/>
                  </a:lnTo>
                  <a:lnTo>
                    <a:pt x="350" y="1021"/>
                  </a:lnTo>
                  <a:lnTo>
                    <a:pt x="323" y="1068"/>
                  </a:lnTo>
                  <a:lnTo>
                    <a:pt x="266" y="1203"/>
                  </a:lnTo>
                  <a:lnTo>
                    <a:pt x="233" y="1302"/>
                  </a:lnTo>
                  <a:lnTo>
                    <a:pt x="208" y="1381"/>
                  </a:lnTo>
                  <a:lnTo>
                    <a:pt x="195" y="1442"/>
                  </a:lnTo>
                  <a:lnTo>
                    <a:pt x="191" y="1483"/>
                  </a:lnTo>
                  <a:lnTo>
                    <a:pt x="200" y="1510"/>
                  </a:lnTo>
                  <a:lnTo>
                    <a:pt x="206" y="1519"/>
                  </a:lnTo>
                  <a:lnTo>
                    <a:pt x="214" y="1521"/>
                  </a:lnTo>
                  <a:lnTo>
                    <a:pt x="222" y="1523"/>
                  </a:lnTo>
                  <a:lnTo>
                    <a:pt x="235" y="1521"/>
                  </a:lnTo>
                  <a:lnTo>
                    <a:pt x="264" y="1506"/>
                  </a:lnTo>
                  <a:lnTo>
                    <a:pt x="298" y="1485"/>
                  </a:lnTo>
                  <a:lnTo>
                    <a:pt x="337" y="1456"/>
                  </a:lnTo>
                  <a:lnTo>
                    <a:pt x="423" y="1379"/>
                  </a:lnTo>
                  <a:lnTo>
                    <a:pt x="614" y="1203"/>
                  </a:lnTo>
                  <a:lnTo>
                    <a:pt x="646" y="1173"/>
                  </a:lnTo>
                  <a:lnTo>
                    <a:pt x="664" y="1153"/>
                  </a:lnTo>
                  <a:lnTo>
                    <a:pt x="685" y="1126"/>
                  </a:lnTo>
                  <a:lnTo>
                    <a:pt x="704" y="1093"/>
                  </a:lnTo>
                  <a:lnTo>
                    <a:pt x="725" y="1056"/>
                  </a:lnTo>
                  <a:lnTo>
                    <a:pt x="744" y="1010"/>
                  </a:lnTo>
                  <a:lnTo>
                    <a:pt x="758" y="956"/>
                  </a:lnTo>
                  <a:lnTo>
                    <a:pt x="787" y="838"/>
                  </a:lnTo>
                  <a:lnTo>
                    <a:pt x="798" y="786"/>
                  </a:lnTo>
                  <a:lnTo>
                    <a:pt x="806" y="771"/>
                  </a:lnTo>
                  <a:lnTo>
                    <a:pt x="825" y="750"/>
                  </a:lnTo>
                  <a:lnTo>
                    <a:pt x="833" y="746"/>
                  </a:lnTo>
                  <a:lnTo>
                    <a:pt x="831" y="702"/>
                  </a:lnTo>
                  <a:lnTo>
                    <a:pt x="831" y="669"/>
                  </a:lnTo>
                  <a:lnTo>
                    <a:pt x="837" y="642"/>
                  </a:lnTo>
                  <a:lnTo>
                    <a:pt x="846" y="623"/>
                  </a:lnTo>
                  <a:lnTo>
                    <a:pt x="856" y="613"/>
                  </a:lnTo>
                  <a:lnTo>
                    <a:pt x="864" y="605"/>
                  </a:lnTo>
                  <a:lnTo>
                    <a:pt x="881" y="598"/>
                  </a:lnTo>
                  <a:lnTo>
                    <a:pt x="902" y="582"/>
                  </a:lnTo>
                  <a:lnTo>
                    <a:pt x="887" y="546"/>
                  </a:lnTo>
                  <a:lnTo>
                    <a:pt x="885" y="534"/>
                  </a:lnTo>
                  <a:lnTo>
                    <a:pt x="885" y="519"/>
                  </a:lnTo>
                  <a:lnTo>
                    <a:pt x="908" y="476"/>
                  </a:lnTo>
                  <a:lnTo>
                    <a:pt x="964" y="388"/>
                  </a:lnTo>
                  <a:lnTo>
                    <a:pt x="998" y="338"/>
                  </a:lnTo>
                  <a:lnTo>
                    <a:pt x="1025" y="291"/>
                  </a:lnTo>
                  <a:lnTo>
                    <a:pt x="1069" y="214"/>
                  </a:lnTo>
                  <a:lnTo>
                    <a:pt x="1094" y="187"/>
                  </a:lnTo>
                  <a:lnTo>
                    <a:pt x="1119" y="172"/>
                  </a:lnTo>
                  <a:lnTo>
                    <a:pt x="1150" y="168"/>
                  </a:lnTo>
                  <a:lnTo>
                    <a:pt x="1169" y="170"/>
                  </a:lnTo>
                  <a:lnTo>
                    <a:pt x="1188" y="176"/>
                  </a:lnTo>
                  <a:lnTo>
                    <a:pt x="1197" y="189"/>
                  </a:lnTo>
                  <a:lnTo>
                    <a:pt x="1268" y="180"/>
                  </a:lnTo>
                  <a:lnTo>
                    <a:pt x="1293" y="185"/>
                  </a:lnTo>
                  <a:lnTo>
                    <a:pt x="1311" y="197"/>
                  </a:lnTo>
                  <a:lnTo>
                    <a:pt x="1324" y="232"/>
                  </a:lnTo>
                  <a:lnTo>
                    <a:pt x="1326" y="255"/>
                  </a:lnTo>
                  <a:lnTo>
                    <a:pt x="1326" y="274"/>
                  </a:lnTo>
                  <a:lnTo>
                    <a:pt x="1322" y="284"/>
                  </a:lnTo>
                  <a:lnTo>
                    <a:pt x="1316" y="301"/>
                  </a:lnTo>
                  <a:lnTo>
                    <a:pt x="1316" y="307"/>
                  </a:lnTo>
                  <a:lnTo>
                    <a:pt x="1322" y="311"/>
                  </a:lnTo>
                  <a:lnTo>
                    <a:pt x="1332" y="318"/>
                  </a:lnTo>
                  <a:lnTo>
                    <a:pt x="1347" y="322"/>
                  </a:lnTo>
                  <a:lnTo>
                    <a:pt x="1361" y="330"/>
                  </a:lnTo>
                  <a:lnTo>
                    <a:pt x="1366" y="338"/>
                  </a:lnTo>
                  <a:lnTo>
                    <a:pt x="1370" y="349"/>
                  </a:lnTo>
                  <a:lnTo>
                    <a:pt x="1370" y="366"/>
                  </a:lnTo>
                  <a:lnTo>
                    <a:pt x="1366" y="382"/>
                  </a:lnTo>
                  <a:lnTo>
                    <a:pt x="1349" y="428"/>
                  </a:lnTo>
                  <a:lnTo>
                    <a:pt x="1282" y="559"/>
                  </a:lnTo>
                  <a:lnTo>
                    <a:pt x="1177" y="763"/>
                  </a:lnTo>
                  <a:lnTo>
                    <a:pt x="1117" y="898"/>
                  </a:lnTo>
                  <a:lnTo>
                    <a:pt x="1052" y="1056"/>
                  </a:lnTo>
                  <a:lnTo>
                    <a:pt x="992" y="1223"/>
                  </a:lnTo>
                  <a:lnTo>
                    <a:pt x="948" y="1348"/>
                  </a:lnTo>
                  <a:lnTo>
                    <a:pt x="923" y="1433"/>
                  </a:lnTo>
                  <a:lnTo>
                    <a:pt x="912" y="1494"/>
                  </a:lnTo>
                  <a:lnTo>
                    <a:pt x="917" y="1531"/>
                  </a:lnTo>
                  <a:lnTo>
                    <a:pt x="923" y="1544"/>
                  </a:lnTo>
                  <a:lnTo>
                    <a:pt x="931" y="1554"/>
                  </a:lnTo>
                  <a:lnTo>
                    <a:pt x="956" y="1569"/>
                  </a:lnTo>
                  <a:lnTo>
                    <a:pt x="987" y="1585"/>
                  </a:lnTo>
                  <a:lnTo>
                    <a:pt x="1085" y="1446"/>
                  </a:lnTo>
                  <a:lnTo>
                    <a:pt x="1135" y="1381"/>
                  </a:lnTo>
                  <a:lnTo>
                    <a:pt x="1162" y="1346"/>
                  </a:lnTo>
                  <a:lnTo>
                    <a:pt x="1188" y="1296"/>
                  </a:lnTo>
                  <a:lnTo>
                    <a:pt x="1079" y="1327"/>
                  </a:lnTo>
                  <a:lnTo>
                    <a:pt x="1085" y="1296"/>
                  </a:lnTo>
                  <a:lnTo>
                    <a:pt x="1092" y="1288"/>
                  </a:lnTo>
                  <a:lnTo>
                    <a:pt x="1100" y="1279"/>
                  </a:lnTo>
                  <a:lnTo>
                    <a:pt x="1114" y="1254"/>
                  </a:lnTo>
                  <a:lnTo>
                    <a:pt x="1108" y="1240"/>
                  </a:lnTo>
                  <a:lnTo>
                    <a:pt x="1100" y="1223"/>
                  </a:lnTo>
                  <a:lnTo>
                    <a:pt x="1096" y="1209"/>
                  </a:lnTo>
                  <a:lnTo>
                    <a:pt x="1098" y="1203"/>
                  </a:lnTo>
                  <a:lnTo>
                    <a:pt x="1100" y="1196"/>
                  </a:lnTo>
                  <a:lnTo>
                    <a:pt x="1299" y="1068"/>
                  </a:lnTo>
                  <a:lnTo>
                    <a:pt x="1349" y="1035"/>
                  </a:lnTo>
                  <a:lnTo>
                    <a:pt x="1378" y="1010"/>
                  </a:lnTo>
                  <a:lnTo>
                    <a:pt x="1389" y="998"/>
                  </a:lnTo>
                  <a:lnTo>
                    <a:pt x="1397" y="985"/>
                  </a:lnTo>
                  <a:lnTo>
                    <a:pt x="1414" y="952"/>
                  </a:lnTo>
                  <a:lnTo>
                    <a:pt x="1441" y="902"/>
                  </a:lnTo>
                  <a:lnTo>
                    <a:pt x="1482" y="825"/>
                  </a:lnTo>
                  <a:lnTo>
                    <a:pt x="1561" y="738"/>
                  </a:lnTo>
                  <a:lnTo>
                    <a:pt x="1584" y="725"/>
                  </a:lnTo>
                  <a:lnTo>
                    <a:pt x="1589" y="694"/>
                  </a:lnTo>
                  <a:lnTo>
                    <a:pt x="1603" y="682"/>
                  </a:lnTo>
                  <a:lnTo>
                    <a:pt x="1641" y="646"/>
                  </a:lnTo>
                  <a:lnTo>
                    <a:pt x="1672" y="611"/>
                  </a:lnTo>
                  <a:lnTo>
                    <a:pt x="1716" y="555"/>
                  </a:lnTo>
                  <a:lnTo>
                    <a:pt x="1841" y="395"/>
                  </a:lnTo>
                  <a:lnTo>
                    <a:pt x="1895" y="338"/>
                  </a:lnTo>
                  <a:lnTo>
                    <a:pt x="1928" y="314"/>
                  </a:lnTo>
                  <a:lnTo>
                    <a:pt x="1957" y="293"/>
                  </a:lnTo>
                  <a:lnTo>
                    <a:pt x="2001" y="253"/>
                  </a:lnTo>
                  <a:lnTo>
                    <a:pt x="2016" y="237"/>
                  </a:lnTo>
                  <a:lnTo>
                    <a:pt x="2028" y="218"/>
                  </a:lnTo>
                  <a:lnTo>
                    <a:pt x="2041" y="180"/>
                  </a:lnTo>
                  <a:lnTo>
                    <a:pt x="2049" y="116"/>
                  </a:lnTo>
                  <a:lnTo>
                    <a:pt x="2055" y="91"/>
                  </a:lnTo>
                  <a:lnTo>
                    <a:pt x="2060" y="83"/>
                  </a:lnTo>
                  <a:lnTo>
                    <a:pt x="2070" y="76"/>
                  </a:lnTo>
                  <a:lnTo>
                    <a:pt x="2099" y="74"/>
                  </a:lnTo>
                  <a:lnTo>
                    <a:pt x="2149" y="85"/>
                  </a:lnTo>
                  <a:lnTo>
                    <a:pt x="2170" y="101"/>
                  </a:lnTo>
                  <a:lnTo>
                    <a:pt x="2170" y="126"/>
                  </a:lnTo>
                  <a:lnTo>
                    <a:pt x="2174" y="131"/>
                  </a:lnTo>
                  <a:lnTo>
                    <a:pt x="2180" y="133"/>
                  </a:lnTo>
                  <a:lnTo>
                    <a:pt x="2224" y="135"/>
                  </a:lnTo>
                  <a:lnTo>
                    <a:pt x="2324" y="149"/>
                  </a:lnTo>
                  <a:lnTo>
                    <a:pt x="2341" y="153"/>
                  </a:lnTo>
                  <a:lnTo>
                    <a:pt x="2351" y="162"/>
                  </a:lnTo>
                  <a:lnTo>
                    <a:pt x="2358" y="172"/>
                  </a:lnTo>
                  <a:lnTo>
                    <a:pt x="2360" y="187"/>
                  </a:lnTo>
                  <a:lnTo>
                    <a:pt x="2358" y="234"/>
                  </a:lnTo>
                  <a:lnTo>
                    <a:pt x="2343" y="309"/>
                  </a:lnTo>
                  <a:lnTo>
                    <a:pt x="2322" y="420"/>
                  </a:lnTo>
                  <a:lnTo>
                    <a:pt x="2299" y="569"/>
                  </a:lnTo>
                  <a:lnTo>
                    <a:pt x="2274" y="767"/>
                  </a:lnTo>
                  <a:lnTo>
                    <a:pt x="2255" y="1016"/>
                  </a:lnTo>
                  <a:lnTo>
                    <a:pt x="2222" y="1502"/>
                  </a:lnTo>
                  <a:lnTo>
                    <a:pt x="2185" y="1872"/>
                  </a:lnTo>
                  <a:lnTo>
                    <a:pt x="2178" y="1957"/>
                  </a:lnTo>
                  <a:lnTo>
                    <a:pt x="2174" y="2034"/>
                  </a:lnTo>
                  <a:lnTo>
                    <a:pt x="2170" y="2061"/>
                  </a:lnTo>
                  <a:lnTo>
                    <a:pt x="2164" y="2080"/>
                  </a:lnTo>
                  <a:lnTo>
                    <a:pt x="2160" y="2084"/>
                  </a:lnTo>
                  <a:lnTo>
                    <a:pt x="2153" y="2086"/>
                  </a:lnTo>
                  <a:lnTo>
                    <a:pt x="2137" y="2078"/>
                  </a:lnTo>
                  <a:lnTo>
                    <a:pt x="2137" y="2066"/>
                  </a:lnTo>
                  <a:lnTo>
                    <a:pt x="2128" y="2059"/>
                  </a:lnTo>
                  <a:lnTo>
                    <a:pt x="2122" y="1982"/>
                  </a:lnTo>
                  <a:lnTo>
                    <a:pt x="2089" y="1968"/>
                  </a:lnTo>
                  <a:lnTo>
                    <a:pt x="2074" y="1953"/>
                  </a:lnTo>
                  <a:lnTo>
                    <a:pt x="2070" y="1945"/>
                  </a:lnTo>
                  <a:lnTo>
                    <a:pt x="2070" y="1932"/>
                  </a:lnTo>
                  <a:lnTo>
                    <a:pt x="2080" y="1926"/>
                  </a:lnTo>
                  <a:lnTo>
                    <a:pt x="2089" y="1916"/>
                  </a:lnTo>
                  <a:lnTo>
                    <a:pt x="2097" y="1895"/>
                  </a:lnTo>
                  <a:lnTo>
                    <a:pt x="2099" y="1872"/>
                  </a:lnTo>
                  <a:lnTo>
                    <a:pt x="2097" y="1855"/>
                  </a:lnTo>
                  <a:lnTo>
                    <a:pt x="2074" y="1843"/>
                  </a:lnTo>
                  <a:lnTo>
                    <a:pt x="2064" y="1808"/>
                  </a:lnTo>
                  <a:lnTo>
                    <a:pt x="2062" y="1799"/>
                  </a:lnTo>
                  <a:lnTo>
                    <a:pt x="2072" y="1797"/>
                  </a:lnTo>
                  <a:lnTo>
                    <a:pt x="2080" y="1793"/>
                  </a:lnTo>
                  <a:lnTo>
                    <a:pt x="2091" y="1781"/>
                  </a:lnTo>
                  <a:lnTo>
                    <a:pt x="2093" y="1768"/>
                  </a:lnTo>
                  <a:lnTo>
                    <a:pt x="2091" y="1764"/>
                  </a:lnTo>
                  <a:lnTo>
                    <a:pt x="2053" y="1764"/>
                  </a:lnTo>
                  <a:lnTo>
                    <a:pt x="2030" y="1631"/>
                  </a:lnTo>
                  <a:lnTo>
                    <a:pt x="2018" y="1554"/>
                  </a:lnTo>
                  <a:lnTo>
                    <a:pt x="2014" y="1539"/>
                  </a:lnTo>
                  <a:lnTo>
                    <a:pt x="2010" y="1537"/>
                  </a:lnTo>
                  <a:lnTo>
                    <a:pt x="1987" y="1581"/>
                  </a:lnTo>
                  <a:lnTo>
                    <a:pt x="1970" y="1435"/>
                  </a:lnTo>
                  <a:lnTo>
                    <a:pt x="1970" y="1388"/>
                  </a:lnTo>
                  <a:lnTo>
                    <a:pt x="1978" y="1377"/>
                  </a:lnTo>
                  <a:lnTo>
                    <a:pt x="1980" y="1369"/>
                  </a:lnTo>
                  <a:lnTo>
                    <a:pt x="1982" y="1350"/>
                  </a:lnTo>
                  <a:lnTo>
                    <a:pt x="1970" y="1279"/>
                  </a:lnTo>
                  <a:lnTo>
                    <a:pt x="1964" y="1267"/>
                  </a:lnTo>
                  <a:lnTo>
                    <a:pt x="1960" y="1244"/>
                  </a:lnTo>
                  <a:lnTo>
                    <a:pt x="1960" y="1186"/>
                  </a:lnTo>
                  <a:lnTo>
                    <a:pt x="1970" y="1064"/>
                  </a:lnTo>
                  <a:lnTo>
                    <a:pt x="1976" y="1012"/>
                  </a:lnTo>
                  <a:lnTo>
                    <a:pt x="1974" y="960"/>
                  </a:lnTo>
                  <a:lnTo>
                    <a:pt x="1891" y="985"/>
                  </a:lnTo>
                  <a:lnTo>
                    <a:pt x="1828" y="1008"/>
                  </a:lnTo>
                  <a:lnTo>
                    <a:pt x="1784" y="1029"/>
                  </a:lnTo>
                  <a:lnTo>
                    <a:pt x="1755" y="1048"/>
                  </a:lnTo>
                  <a:lnTo>
                    <a:pt x="1714" y="1083"/>
                  </a:lnTo>
                  <a:lnTo>
                    <a:pt x="1695" y="1101"/>
                  </a:lnTo>
                  <a:lnTo>
                    <a:pt x="1668" y="1115"/>
                  </a:lnTo>
                  <a:lnTo>
                    <a:pt x="1612" y="1134"/>
                  </a:lnTo>
                  <a:lnTo>
                    <a:pt x="1578" y="1140"/>
                  </a:lnTo>
                  <a:lnTo>
                    <a:pt x="1559" y="1138"/>
                  </a:lnTo>
                  <a:lnTo>
                    <a:pt x="1541" y="1144"/>
                  </a:lnTo>
                  <a:lnTo>
                    <a:pt x="1534" y="1171"/>
                  </a:lnTo>
                  <a:lnTo>
                    <a:pt x="1501" y="1192"/>
                  </a:lnTo>
                  <a:lnTo>
                    <a:pt x="1493" y="1203"/>
                  </a:lnTo>
                  <a:lnTo>
                    <a:pt x="1482" y="1223"/>
                  </a:lnTo>
                  <a:lnTo>
                    <a:pt x="1459" y="1269"/>
                  </a:lnTo>
                  <a:lnTo>
                    <a:pt x="1420" y="1348"/>
                  </a:lnTo>
                  <a:lnTo>
                    <a:pt x="1355" y="1469"/>
                  </a:lnTo>
                  <a:lnTo>
                    <a:pt x="1255" y="1641"/>
                  </a:lnTo>
                  <a:lnTo>
                    <a:pt x="1154" y="1820"/>
                  </a:lnTo>
                  <a:lnTo>
                    <a:pt x="1144" y="1837"/>
                  </a:lnTo>
                  <a:lnTo>
                    <a:pt x="1137" y="1843"/>
                  </a:lnTo>
                  <a:lnTo>
                    <a:pt x="1129" y="1845"/>
                  </a:lnTo>
                  <a:lnTo>
                    <a:pt x="1119" y="1843"/>
                  </a:lnTo>
                  <a:lnTo>
                    <a:pt x="1106" y="1837"/>
                  </a:lnTo>
                  <a:lnTo>
                    <a:pt x="1100" y="1833"/>
                  </a:lnTo>
                  <a:lnTo>
                    <a:pt x="1098" y="1835"/>
                  </a:lnTo>
                  <a:lnTo>
                    <a:pt x="1092" y="1843"/>
                  </a:lnTo>
                  <a:lnTo>
                    <a:pt x="1062" y="1901"/>
                  </a:lnTo>
                  <a:lnTo>
                    <a:pt x="1033" y="1955"/>
                  </a:lnTo>
                  <a:lnTo>
                    <a:pt x="987" y="2034"/>
                  </a:lnTo>
                  <a:lnTo>
                    <a:pt x="960" y="2068"/>
                  </a:lnTo>
                  <a:lnTo>
                    <a:pt x="948" y="2080"/>
                  </a:lnTo>
                  <a:lnTo>
                    <a:pt x="933" y="2090"/>
                  </a:lnTo>
                  <a:lnTo>
                    <a:pt x="914" y="2101"/>
                  </a:lnTo>
                  <a:lnTo>
                    <a:pt x="902" y="2099"/>
                  </a:lnTo>
                  <a:lnTo>
                    <a:pt x="887" y="2076"/>
                  </a:lnTo>
                  <a:lnTo>
                    <a:pt x="885" y="2076"/>
                  </a:lnTo>
                  <a:lnTo>
                    <a:pt x="879" y="2082"/>
                  </a:lnTo>
                  <a:lnTo>
                    <a:pt x="869" y="2103"/>
                  </a:lnTo>
                  <a:lnTo>
                    <a:pt x="856" y="2120"/>
                  </a:lnTo>
                  <a:lnTo>
                    <a:pt x="841" y="2134"/>
                  </a:lnTo>
                  <a:lnTo>
                    <a:pt x="821" y="2130"/>
                  </a:lnTo>
                  <a:lnTo>
                    <a:pt x="819" y="2101"/>
                  </a:lnTo>
                  <a:lnTo>
                    <a:pt x="814" y="2088"/>
                  </a:lnTo>
                  <a:lnTo>
                    <a:pt x="808" y="2093"/>
                  </a:lnTo>
                  <a:lnTo>
                    <a:pt x="798" y="2109"/>
                  </a:lnTo>
                  <a:lnTo>
                    <a:pt x="769" y="2157"/>
                  </a:lnTo>
                  <a:lnTo>
                    <a:pt x="748" y="2180"/>
                  </a:lnTo>
                  <a:lnTo>
                    <a:pt x="723" y="2197"/>
                  </a:lnTo>
                  <a:lnTo>
                    <a:pt x="694" y="2197"/>
                  </a:lnTo>
                  <a:lnTo>
                    <a:pt x="698" y="2130"/>
                  </a:lnTo>
                  <a:lnTo>
                    <a:pt x="658" y="2126"/>
                  </a:lnTo>
                  <a:lnTo>
                    <a:pt x="668" y="2101"/>
                  </a:lnTo>
                  <a:lnTo>
                    <a:pt x="679" y="2074"/>
                  </a:lnTo>
                  <a:lnTo>
                    <a:pt x="714" y="2022"/>
                  </a:lnTo>
                  <a:lnTo>
                    <a:pt x="752" y="1970"/>
                  </a:lnTo>
                  <a:lnTo>
                    <a:pt x="785" y="1920"/>
                  </a:lnTo>
                  <a:lnTo>
                    <a:pt x="831" y="1833"/>
                  </a:lnTo>
                  <a:lnTo>
                    <a:pt x="852" y="1779"/>
                  </a:lnTo>
                  <a:lnTo>
                    <a:pt x="856" y="1762"/>
                  </a:lnTo>
                  <a:lnTo>
                    <a:pt x="856" y="1752"/>
                  </a:lnTo>
                  <a:lnTo>
                    <a:pt x="852" y="1745"/>
                  </a:lnTo>
                  <a:lnTo>
                    <a:pt x="844" y="1743"/>
                  </a:lnTo>
                  <a:lnTo>
                    <a:pt x="816" y="1747"/>
                  </a:lnTo>
                  <a:lnTo>
                    <a:pt x="783" y="1760"/>
                  </a:lnTo>
                  <a:lnTo>
                    <a:pt x="744" y="1772"/>
                  </a:lnTo>
                  <a:lnTo>
                    <a:pt x="702" y="1776"/>
                  </a:lnTo>
                  <a:lnTo>
                    <a:pt x="664" y="1772"/>
                  </a:lnTo>
                  <a:lnTo>
                    <a:pt x="635" y="1760"/>
                  </a:lnTo>
                  <a:lnTo>
                    <a:pt x="612" y="1739"/>
                  </a:lnTo>
                  <a:lnTo>
                    <a:pt x="596" y="1716"/>
                  </a:lnTo>
                  <a:lnTo>
                    <a:pt x="596" y="1672"/>
                  </a:lnTo>
                  <a:lnTo>
                    <a:pt x="593" y="1664"/>
                  </a:lnTo>
                  <a:lnTo>
                    <a:pt x="589" y="1658"/>
                  </a:lnTo>
                  <a:lnTo>
                    <a:pt x="579" y="1641"/>
                  </a:lnTo>
                  <a:lnTo>
                    <a:pt x="575" y="1606"/>
                  </a:lnTo>
                  <a:lnTo>
                    <a:pt x="579" y="1533"/>
                  </a:lnTo>
                  <a:lnTo>
                    <a:pt x="598" y="1448"/>
                  </a:lnTo>
                  <a:lnTo>
                    <a:pt x="616" y="1394"/>
                  </a:lnTo>
                  <a:lnTo>
                    <a:pt x="631" y="1367"/>
                  </a:lnTo>
                  <a:lnTo>
                    <a:pt x="631" y="1361"/>
                  </a:lnTo>
                  <a:lnTo>
                    <a:pt x="627" y="1363"/>
                  </a:lnTo>
                  <a:lnTo>
                    <a:pt x="593" y="1392"/>
                  </a:lnTo>
                  <a:lnTo>
                    <a:pt x="552" y="1435"/>
                  </a:lnTo>
                  <a:lnTo>
                    <a:pt x="454" y="1544"/>
                  </a:lnTo>
                  <a:lnTo>
                    <a:pt x="398" y="1598"/>
                  </a:lnTo>
                  <a:lnTo>
                    <a:pt x="341" y="1643"/>
                  </a:lnTo>
                  <a:lnTo>
                    <a:pt x="310" y="1662"/>
                  </a:lnTo>
                  <a:lnTo>
                    <a:pt x="281" y="1675"/>
                  </a:lnTo>
                  <a:lnTo>
                    <a:pt x="250" y="1687"/>
                  </a:lnTo>
                  <a:lnTo>
                    <a:pt x="218" y="1689"/>
                  </a:lnTo>
                  <a:lnTo>
                    <a:pt x="166" y="1689"/>
                  </a:lnTo>
                  <a:lnTo>
                    <a:pt x="143" y="1683"/>
                  </a:lnTo>
                  <a:lnTo>
                    <a:pt x="120" y="1677"/>
                  </a:lnTo>
                  <a:lnTo>
                    <a:pt x="102" y="1668"/>
                  </a:lnTo>
                  <a:lnTo>
                    <a:pt x="83" y="1658"/>
                  </a:lnTo>
                  <a:lnTo>
                    <a:pt x="68" y="1645"/>
                  </a:lnTo>
                  <a:lnTo>
                    <a:pt x="56" y="1631"/>
                  </a:lnTo>
                  <a:lnTo>
                    <a:pt x="33" y="1600"/>
                  </a:lnTo>
                  <a:lnTo>
                    <a:pt x="16" y="1562"/>
                  </a:lnTo>
                  <a:lnTo>
                    <a:pt x="8" y="1523"/>
                  </a:lnTo>
                  <a:lnTo>
                    <a:pt x="2" y="1479"/>
                  </a:lnTo>
                  <a:lnTo>
                    <a:pt x="0" y="1435"/>
                  </a:lnTo>
                  <a:lnTo>
                    <a:pt x="2" y="1390"/>
                  </a:lnTo>
                  <a:lnTo>
                    <a:pt x="12" y="1304"/>
                  </a:lnTo>
                  <a:lnTo>
                    <a:pt x="29" y="1230"/>
                  </a:lnTo>
                  <a:lnTo>
                    <a:pt x="43" y="1175"/>
                  </a:lnTo>
                  <a:lnTo>
                    <a:pt x="72" y="1075"/>
                  </a:lnTo>
                  <a:lnTo>
                    <a:pt x="87" y="1016"/>
                  </a:lnTo>
                  <a:lnTo>
                    <a:pt x="110" y="944"/>
                  </a:lnTo>
                  <a:lnTo>
                    <a:pt x="143" y="850"/>
                  </a:lnTo>
                  <a:lnTo>
                    <a:pt x="189" y="727"/>
                  </a:lnTo>
                  <a:lnTo>
                    <a:pt x="341" y="372"/>
                  </a:lnTo>
                  <a:lnTo>
                    <a:pt x="377" y="301"/>
                  </a:lnTo>
                  <a:lnTo>
                    <a:pt x="402" y="257"/>
                  </a:lnTo>
                  <a:lnTo>
                    <a:pt x="431" y="193"/>
                  </a:lnTo>
                  <a:lnTo>
                    <a:pt x="460" y="133"/>
                  </a:lnTo>
                  <a:lnTo>
                    <a:pt x="487" y="89"/>
                  </a:lnTo>
                  <a:lnTo>
                    <a:pt x="510" y="64"/>
                  </a:lnTo>
                  <a:lnTo>
                    <a:pt x="533" y="45"/>
                  </a:lnTo>
                  <a:lnTo>
                    <a:pt x="550" y="35"/>
                  </a:lnTo>
                  <a:lnTo>
                    <a:pt x="566" y="31"/>
                  </a:lnTo>
                  <a:lnTo>
                    <a:pt x="591" y="31"/>
                  </a:lnTo>
                  <a:lnTo>
                    <a:pt x="606" y="33"/>
                  </a:lnTo>
                  <a:lnTo>
                    <a:pt x="616" y="24"/>
                  </a:lnTo>
                  <a:lnTo>
                    <a:pt x="627" y="10"/>
                  </a:lnTo>
                  <a:lnTo>
                    <a:pt x="641" y="0"/>
                  </a:lnTo>
                  <a:lnTo>
                    <a:pt x="662" y="2"/>
                  </a:lnTo>
                  <a:lnTo>
                    <a:pt x="673" y="8"/>
                  </a:lnTo>
                  <a:lnTo>
                    <a:pt x="679" y="16"/>
                  </a:lnTo>
                  <a:lnTo>
                    <a:pt x="683" y="33"/>
                  </a:lnTo>
                  <a:lnTo>
                    <a:pt x="687" y="72"/>
                  </a:lnTo>
                  <a:lnTo>
                    <a:pt x="698" y="83"/>
                  </a:lnTo>
                  <a:lnTo>
                    <a:pt x="708" y="93"/>
                  </a:lnTo>
                  <a:lnTo>
                    <a:pt x="712" y="112"/>
                  </a:lnTo>
                  <a:lnTo>
                    <a:pt x="706" y="14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826400" y="5580000"/>
              <a:ext cx="981360" cy="908280"/>
            </a:xfrm>
            <a:custGeom>
              <a:avLst/>
              <a:gdLst/>
              <a:ahLst/>
              <a:rect l="0" t="0" r="r" b="b"/>
              <a:pathLst>
                <a:path w="2726" h="2523">
                  <a:moveTo>
                    <a:pt x="2599" y="2235"/>
                  </a:moveTo>
                  <a:lnTo>
                    <a:pt x="2582" y="2246"/>
                  </a:lnTo>
                  <a:lnTo>
                    <a:pt x="2567" y="2252"/>
                  </a:lnTo>
                  <a:lnTo>
                    <a:pt x="2555" y="2250"/>
                  </a:lnTo>
                  <a:lnTo>
                    <a:pt x="2540" y="2244"/>
                  </a:lnTo>
                  <a:lnTo>
                    <a:pt x="2503" y="2208"/>
                  </a:lnTo>
                  <a:lnTo>
                    <a:pt x="2432" y="2148"/>
                  </a:lnTo>
                  <a:lnTo>
                    <a:pt x="2038" y="1831"/>
                  </a:lnTo>
                  <a:lnTo>
                    <a:pt x="1929" y="1748"/>
                  </a:lnTo>
                  <a:lnTo>
                    <a:pt x="1823" y="1671"/>
                  </a:lnTo>
                  <a:lnTo>
                    <a:pt x="1771" y="1633"/>
                  </a:lnTo>
                  <a:lnTo>
                    <a:pt x="1731" y="1598"/>
                  </a:lnTo>
                  <a:lnTo>
                    <a:pt x="1698" y="1567"/>
                  </a:lnTo>
                  <a:lnTo>
                    <a:pt x="1673" y="1540"/>
                  </a:lnTo>
                  <a:lnTo>
                    <a:pt x="1635" y="1494"/>
                  </a:lnTo>
                  <a:lnTo>
                    <a:pt x="1623" y="1479"/>
                  </a:lnTo>
                  <a:lnTo>
                    <a:pt x="1608" y="1465"/>
                  </a:lnTo>
                  <a:lnTo>
                    <a:pt x="1554" y="1444"/>
                  </a:lnTo>
                  <a:lnTo>
                    <a:pt x="1402" y="1269"/>
                  </a:lnTo>
                  <a:lnTo>
                    <a:pt x="1361" y="1224"/>
                  </a:lnTo>
                  <a:lnTo>
                    <a:pt x="1340" y="1203"/>
                  </a:lnTo>
                  <a:lnTo>
                    <a:pt x="1324" y="1193"/>
                  </a:lnTo>
                  <a:lnTo>
                    <a:pt x="1303" y="1208"/>
                  </a:lnTo>
                  <a:lnTo>
                    <a:pt x="1082" y="1047"/>
                  </a:lnTo>
                  <a:lnTo>
                    <a:pt x="1009" y="999"/>
                  </a:lnTo>
                  <a:lnTo>
                    <a:pt x="1011" y="1001"/>
                  </a:lnTo>
                  <a:lnTo>
                    <a:pt x="1025" y="1016"/>
                  </a:lnTo>
                  <a:lnTo>
                    <a:pt x="1067" y="1058"/>
                  </a:lnTo>
                  <a:lnTo>
                    <a:pt x="1084" y="1081"/>
                  </a:lnTo>
                  <a:lnTo>
                    <a:pt x="1086" y="1089"/>
                  </a:lnTo>
                  <a:lnTo>
                    <a:pt x="1084" y="1091"/>
                  </a:lnTo>
                  <a:lnTo>
                    <a:pt x="1088" y="1097"/>
                  </a:lnTo>
                  <a:lnTo>
                    <a:pt x="1144" y="1153"/>
                  </a:lnTo>
                  <a:lnTo>
                    <a:pt x="1330" y="1321"/>
                  </a:lnTo>
                  <a:lnTo>
                    <a:pt x="1420" y="1398"/>
                  </a:lnTo>
                  <a:lnTo>
                    <a:pt x="1460" y="1429"/>
                  </a:lnTo>
                  <a:lnTo>
                    <a:pt x="1468" y="1438"/>
                  </a:lnTo>
                  <a:lnTo>
                    <a:pt x="1458" y="1444"/>
                  </a:lnTo>
                  <a:lnTo>
                    <a:pt x="1450" y="1448"/>
                  </a:lnTo>
                  <a:lnTo>
                    <a:pt x="1441" y="1450"/>
                  </a:lnTo>
                  <a:lnTo>
                    <a:pt x="1439" y="1448"/>
                  </a:lnTo>
                  <a:lnTo>
                    <a:pt x="1464" y="1463"/>
                  </a:lnTo>
                  <a:lnTo>
                    <a:pt x="1531" y="1513"/>
                  </a:lnTo>
                  <a:lnTo>
                    <a:pt x="1898" y="1811"/>
                  </a:lnTo>
                  <a:lnTo>
                    <a:pt x="1967" y="1871"/>
                  </a:lnTo>
                  <a:lnTo>
                    <a:pt x="1996" y="1898"/>
                  </a:lnTo>
                  <a:lnTo>
                    <a:pt x="2031" y="1938"/>
                  </a:lnTo>
                  <a:lnTo>
                    <a:pt x="2090" y="1990"/>
                  </a:lnTo>
                  <a:lnTo>
                    <a:pt x="2209" y="2094"/>
                  </a:lnTo>
                  <a:lnTo>
                    <a:pt x="2563" y="2408"/>
                  </a:lnTo>
                  <a:lnTo>
                    <a:pt x="2726" y="2512"/>
                  </a:lnTo>
                  <a:lnTo>
                    <a:pt x="2724" y="2521"/>
                  </a:lnTo>
                  <a:lnTo>
                    <a:pt x="2719" y="2523"/>
                  </a:lnTo>
                  <a:lnTo>
                    <a:pt x="2703" y="2523"/>
                  </a:lnTo>
                  <a:lnTo>
                    <a:pt x="2678" y="2512"/>
                  </a:lnTo>
                  <a:lnTo>
                    <a:pt x="2644" y="2494"/>
                  </a:lnTo>
                  <a:lnTo>
                    <a:pt x="2603" y="2469"/>
                  </a:lnTo>
                  <a:lnTo>
                    <a:pt x="2557" y="2435"/>
                  </a:lnTo>
                  <a:lnTo>
                    <a:pt x="2448" y="2356"/>
                  </a:lnTo>
                  <a:lnTo>
                    <a:pt x="2223" y="2181"/>
                  </a:lnTo>
                  <a:lnTo>
                    <a:pt x="2121" y="2104"/>
                  </a:lnTo>
                  <a:lnTo>
                    <a:pt x="2042" y="2046"/>
                  </a:lnTo>
                  <a:lnTo>
                    <a:pt x="1913" y="1954"/>
                  </a:lnTo>
                  <a:lnTo>
                    <a:pt x="1825" y="1883"/>
                  </a:lnTo>
                  <a:lnTo>
                    <a:pt x="1760" y="1823"/>
                  </a:lnTo>
                  <a:lnTo>
                    <a:pt x="1708" y="1767"/>
                  </a:lnTo>
                  <a:lnTo>
                    <a:pt x="1652" y="1708"/>
                  </a:lnTo>
                  <a:lnTo>
                    <a:pt x="1577" y="1638"/>
                  </a:lnTo>
                  <a:lnTo>
                    <a:pt x="1529" y="1596"/>
                  </a:lnTo>
                  <a:lnTo>
                    <a:pt x="1468" y="1550"/>
                  </a:lnTo>
                  <a:lnTo>
                    <a:pt x="1311" y="1436"/>
                  </a:lnTo>
                  <a:lnTo>
                    <a:pt x="1259" y="1417"/>
                  </a:lnTo>
                  <a:lnTo>
                    <a:pt x="1180" y="1325"/>
                  </a:lnTo>
                  <a:lnTo>
                    <a:pt x="1171" y="1286"/>
                  </a:lnTo>
                  <a:lnTo>
                    <a:pt x="1134" y="1258"/>
                  </a:lnTo>
                  <a:lnTo>
                    <a:pt x="1100" y="1230"/>
                  </a:lnTo>
                  <a:lnTo>
                    <a:pt x="1050" y="1180"/>
                  </a:lnTo>
                  <a:lnTo>
                    <a:pt x="1009" y="1143"/>
                  </a:lnTo>
                  <a:lnTo>
                    <a:pt x="988" y="1128"/>
                  </a:lnTo>
                  <a:lnTo>
                    <a:pt x="969" y="1120"/>
                  </a:lnTo>
                  <a:lnTo>
                    <a:pt x="917" y="1114"/>
                  </a:lnTo>
                  <a:lnTo>
                    <a:pt x="884" y="1074"/>
                  </a:lnTo>
                  <a:lnTo>
                    <a:pt x="859" y="1049"/>
                  </a:lnTo>
                  <a:lnTo>
                    <a:pt x="821" y="1028"/>
                  </a:lnTo>
                  <a:lnTo>
                    <a:pt x="813" y="1024"/>
                  </a:lnTo>
                  <a:lnTo>
                    <a:pt x="813" y="1018"/>
                  </a:lnTo>
                  <a:lnTo>
                    <a:pt x="838" y="985"/>
                  </a:lnTo>
                  <a:lnTo>
                    <a:pt x="846" y="974"/>
                  </a:lnTo>
                  <a:lnTo>
                    <a:pt x="852" y="964"/>
                  </a:lnTo>
                  <a:lnTo>
                    <a:pt x="856" y="949"/>
                  </a:lnTo>
                  <a:lnTo>
                    <a:pt x="861" y="945"/>
                  </a:lnTo>
                  <a:lnTo>
                    <a:pt x="867" y="941"/>
                  </a:lnTo>
                  <a:lnTo>
                    <a:pt x="892" y="941"/>
                  </a:lnTo>
                  <a:lnTo>
                    <a:pt x="917" y="953"/>
                  </a:lnTo>
                  <a:lnTo>
                    <a:pt x="948" y="949"/>
                  </a:lnTo>
                  <a:lnTo>
                    <a:pt x="971" y="941"/>
                  </a:lnTo>
                  <a:lnTo>
                    <a:pt x="982" y="935"/>
                  </a:lnTo>
                  <a:lnTo>
                    <a:pt x="988" y="926"/>
                  </a:lnTo>
                  <a:lnTo>
                    <a:pt x="986" y="916"/>
                  </a:lnTo>
                  <a:lnTo>
                    <a:pt x="979" y="906"/>
                  </a:lnTo>
                  <a:lnTo>
                    <a:pt x="954" y="885"/>
                  </a:lnTo>
                  <a:lnTo>
                    <a:pt x="927" y="858"/>
                  </a:lnTo>
                  <a:lnTo>
                    <a:pt x="907" y="831"/>
                  </a:lnTo>
                  <a:lnTo>
                    <a:pt x="900" y="818"/>
                  </a:lnTo>
                  <a:lnTo>
                    <a:pt x="900" y="803"/>
                  </a:lnTo>
                  <a:lnTo>
                    <a:pt x="907" y="789"/>
                  </a:lnTo>
                  <a:lnTo>
                    <a:pt x="921" y="774"/>
                  </a:lnTo>
                  <a:lnTo>
                    <a:pt x="936" y="770"/>
                  </a:lnTo>
                  <a:lnTo>
                    <a:pt x="950" y="774"/>
                  </a:lnTo>
                  <a:lnTo>
                    <a:pt x="967" y="785"/>
                  </a:lnTo>
                  <a:lnTo>
                    <a:pt x="982" y="799"/>
                  </a:lnTo>
                  <a:lnTo>
                    <a:pt x="1017" y="833"/>
                  </a:lnTo>
                  <a:lnTo>
                    <a:pt x="1030" y="847"/>
                  </a:lnTo>
                  <a:lnTo>
                    <a:pt x="1044" y="853"/>
                  </a:lnTo>
                  <a:lnTo>
                    <a:pt x="1100" y="845"/>
                  </a:lnTo>
                  <a:lnTo>
                    <a:pt x="1132" y="858"/>
                  </a:lnTo>
                  <a:lnTo>
                    <a:pt x="1265" y="683"/>
                  </a:lnTo>
                  <a:lnTo>
                    <a:pt x="1307" y="622"/>
                  </a:lnTo>
                  <a:lnTo>
                    <a:pt x="1330" y="574"/>
                  </a:lnTo>
                  <a:lnTo>
                    <a:pt x="1336" y="556"/>
                  </a:lnTo>
                  <a:lnTo>
                    <a:pt x="1336" y="537"/>
                  </a:lnTo>
                  <a:lnTo>
                    <a:pt x="1334" y="522"/>
                  </a:lnTo>
                  <a:lnTo>
                    <a:pt x="1328" y="506"/>
                  </a:lnTo>
                  <a:lnTo>
                    <a:pt x="1315" y="493"/>
                  </a:lnTo>
                  <a:lnTo>
                    <a:pt x="1303" y="479"/>
                  </a:lnTo>
                  <a:lnTo>
                    <a:pt x="1259" y="451"/>
                  </a:lnTo>
                  <a:lnTo>
                    <a:pt x="1228" y="437"/>
                  </a:lnTo>
                  <a:lnTo>
                    <a:pt x="1196" y="426"/>
                  </a:lnTo>
                  <a:lnTo>
                    <a:pt x="1134" y="414"/>
                  </a:lnTo>
                  <a:lnTo>
                    <a:pt x="1071" y="412"/>
                  </a:lnTo>
                  <a:lnTo>
                    <a:pt x="1013" y="418"/>
                  </a:lnTo>
                  <a:lnTo>
                    <a:pt x="963" y="429"/>
                  </a:lnTo>
                  <a:lnTo>
                    <a:pt x="923" y="439"/>
                  </a:lnTo>
                  <a:lnTo>
                    <a:pt x="898" y="449"/>
                  </a:lnTo>
                  <a:lnTo>
                    <a:pt x="886" y="456"/>
                  </a:lnTo>
                  <a:lnTo>
                    <a:pt x="859" y="526"/>
                  </a:lnTo>
                  <a:lnTo>
                    <a:pt x="838" y="579"/>
                  </a:lnTo>
                  <a:lnTo>
                    <a:pt x="829" y="595"/>
                  </a:lnTo>
                  <a:lnTo>
                    <a:pt x="821" y="604"/>
                  </a:lnTo>
                  <a:lnTo>
                    <a:pt x="813" y="604"/>
                  </a:lnTo>
                  <a:lnTo>
                    <a:pt x="802" y="595"/>
                  </a:lnTo>
                  <a:lnTo>
                    <a:pt x="802" y="572"/>
                  </a:lnTo>
                  <a:lnTo>
                    <a:pt x="794" y="574"/>
                  </a:lnTo>
                  <a:lnTo>
                    <a:pt x="786" y="581"/>
                  </a:lnTo>
                  <a:lnTo>
                    <a:pt x="769" y="604"/>
                  </a:lnTo>
                  <a:lnTo>
                    <a:pt x="742" y="674"/>
                  </a:lnTo>
                  <a:lnTo>
                    <a:pt x="719" y="754"/>
                  </a:lnTo>
                  <a:lnTo>
                    <a:pt x="706" y="789"/>
                  </a:lnTo>
                  <a:lnTo>
                    <a:pt x="694" y="814"/>
                  </a:lnTo>
                  <a:lnTo>
                    <a:pt x="677" y="810"/>
                  </a:lnTo>
                  <a:lnTo>
                    <a:pt x="669" y="816"/>
                  </a:lnTo>
                  <a:lnTo>
                    <a:pt x="658" y="835"/>
                  </a:lnTo>
                  <a:lnTo>
                    <a:pt x="602" y="1035"/>
                  </a:lnTo>
                  <a:lnTo>
                    <a:pt x="558" y="1212"/>
                  </a:lnTo>
                  <a:lnTo>
                    <a:pt x="496" y="1500"/>
                  </a:lnTo>
                  <a:lnTo>
                    <a:pt x="475" y="1608"/>
                  </a:lnTo>
                  <a:lnTo>
                    <a:pt x="454" y="1690"/>
                  </a:lnTo>
                  <a:lnTo>
                    <a:pt x="444" y="1723"/>
                  </a:lnTo>
                  <a:lnTo>
                    <a:pt x="433" y="1746"/>
                  </a:lnTo>
                  <a:lnTo>
                    <a:pt x="421" y="1765"/>
                  </a:lnTo>
                  <a:lnTo>
                    <a:pt x="408" y="1775"/>
                  </a:lnTo>
                  <a:lnTo>
                    <a:pt x="391" y="1767"/>
                  </a:lnTo>
                  <a:lnTo>
                    <a:pt x="391" y="1675"/>
                  </a:lnTo>
                  <a:lnTo>
                    <a:pt x="193" y="2110"/>
                  </a:lnTo>
                  <a:lnTo>
                    <a:pt x="185" y="2017"/>
                  </a:lnTo>
                  <a:lnTo>
                    <a:pt x="150" y="2021"/>
                  </a:lnTo>
                  <a:lnTo>
                    <a:pt x="100" y="2171"/>
                  </a:lnTo>
                  <a:lnTo>
                    <a:pt x="87" y="2200"/>
                  </a:lnTo>
                  <a:lnTo>
                    <a:pt x="83" y="2206"/>
                  </a:lnTo>
                  <a:lnTo>
                    <a:pt x="79" y="2206"/>
                  </a:lnTo>
                  <a:lnTo>
                    <a:pt x="77" y="2185"/>
                  </a:lnTo>
                  <a:lnTo>
                    <a:pt x="75" y="2156"/>
                  </a:lnTo>
                  <a:lnTo>
                    <a:pt x="70" y="2158"/>
                  </a:lnTo>
                  <a:lnTo>
                    <a:pt x="62" y="2171"/>
                  </a:lnTo>
                  <a:lnTo>
                    <a:pt x="50" y="2188"/>
                  </a:lnTo>
                  <a:lnTo>
                    <a:pt x="37" y="2200"/>
                  </a:lnTo>
                  <a:lnTo>
                    <a:pt x="22" y="2200"/>
                  </a:lnTo>
                  <a:lnTo>
                    <a:pt x="16" y="2192"/>
                  </a:lnTo>
                  <a:lnTo>
                    <a:pt x="12" y="2177"/>
                  </a:lnTo>
                  <a:lnTo>
                    <a:pt x="4" y="2127"/>
                  </a:lnTo>
                  <a:lnTo>
                    <a:pt x="0" y="2038"/>
                  </a:lnTo>
                  <a:lnTo>
                    <a:pt x="4" y="2013"/>
                  </a:lnTo>
                  <a:lnTo>
                    <a:pt x="14" y="1979"/>
                  </a:lnTo>
                  <a:lnTo>
                    <a:pt x="45" y="1913"/>
                  </a:lnTo>
                  <a:lnTo>
                    <a:pt x="77" y="1854"/>
                  </a:lnTo>
                  <a:lnTo>
                    <a:pt x="93" y="1827"/>
                  </a:lnTo>
                  <a:lnTo>
                    <a:pt x="110" y="1819"/>
                  </a:lnTo>
                  <a:lnTo>
                    <a:pt x="110" y="1731"/>
                  </a:lnTo>
                  <a:lnTo>
                    <a:pt x="112" y="1727"/>
                  </a:lnTo>
                  <a:lnTo>
                    <a:pt x="118" y="1723"/>
                  </a:lnTo>
                  <a:lnTo>
                    <a:pt x="129" y="1719"/>
                  </a:lnTo>
                  <a:lnTo>
                    <a:pt x="141" y="1711"/>
                  </a:lnTo>
                  <a:lnTo>
                    <a:pt x="118" y="1679"/>
                  </a:lnTo>
                  <a:lnTo>
                    <a:pt x="183" y="1511"/>
                  </a:lnTo>
                  <a:lnTo>
                    <a:pt x="198" y="1469"/>
                  </a:lnTo>
                  <a:lnTo>
                    <a:pt x="198" y="1471"/>
                  </a:lnTo>
                  <a:lnTo>
                    <a:pt x="204" y="1475"/>
                  </a:lnTo>
                  <a:lnTo>
                    <a:pt x="214" y="1467"/>
                  </a:lnTo>
                  <a:lnTo>
                    <a:pt x="227" y="1456"/>
                  </a:lnTo>
                  <a:lnTo>
                    <a:pt x="241" y="1440"/>
                  </a:lnTo>
                  <a:lnTo>
                    <a:pt x="252" y="1423"/>
                  </a:lnTo>
                  <a:lnTo>
                    <a:pt x="254" y="1415"/>
                  </a:lnTo>
                  <a:lnTo>
                    <a:pt x="252" y="1411"/>
                  </a:lnTo>
                  <a:lnTo>
                    <a:pt x="246" y="1404"/>
                  </a:lnTo>
                  <a:lnTo>
                    <a:pt x="239" y="1392"/>
                  </a:lnTo>
                  <a:lnTo>
                    <a:pt x="237" y="1375"/>
                  </a:lnTo>
                  <a:lnTo>
                    <a:pt x="243" y="1346"/>
                  </a:lnTo>
                  <a:lnTo>
                    <a:pt x="254" y="1300"/>
                  </a:lnTo>
                  <a:lnTo>
                    <a:pt x="379" y="928"/>
                  </a:lnTo>
                  <a:lnTo>
                    <a:pt x="439" y="760"/>
                  </a:lnTo>
                  <a:lnTo>
                    <a:pt x="471" y="685"/>
                  </a:lnTo>
                  <a:lnTo>
                    <a:pt x="506" y="587"/>
                  </a:lnTo>
                  <a:lnTo>
                    <a:pt x="448" y="612"/>
                  </a:lnTo>
                  <a:lnTo>
                    <a:pt x="379" y="643"/>
                  </a:lnTo>
                  <a:lnTo>
                    <a:pt x="344" y="654"/>
                  </a:lnTo>
                  <a:lnTo>
                    <a:pt x="312" y="662"/>
                  </a:lnTo>
                  <a:lnTo>
                    <a:pt x="300" y="662"/>
                  </a:lnTo>
                  <a:lnTo>
                    <a:pt x="287" y="658"/>
                  </a:lnTo>
                  <a:lnTo>
                    <a:pt x="277" y="654"/>
                  </a:lnTo>
                  <a:lnTo>
                    <a:pt x="268" y="643"/>
                  </a:lnTo>
                  <a:lnTo>
                    <a:pt x="260" y="608"/>
                  </a:lnTo>
                  <a:lnTo>
                    <a:pt x="158" y="599"/>
                  </a:lnTo>
                  <a:lnTo>
                    <a:pt x="150" y="562"/>
                  </a:lnTo>
                  <a:lnTo>
                    <a:pt x="135" y="545"/>
                  </a:lnTo>
                  <a:lnTo>
                    <a:pt x="118" y="539"/>
                  </a:lnTo>
                  <a:lnTo>
                    <a:pt x="102" y="539"/>
                  </a:lnTo>
                  <a:lnTo>
                    <a:pt x="87" y="539"/>
                  </a:lnTo>
                  <a:lnTo>
                    <a:pt x="81" y="537"/>
                  </a:lnTo>
                  <a:lnTo>
                    <a:pt x="77" y="531"/>
                  </a:lnTo>
                  <a:lnTo>
                    <a:pt x="70" y="512"/>
                  </a:lnTo>
                  <a:lnTo>
                    <a:pt x="70" y="472"/>
                  </a:lnTo>
                  <a:lnTo>
                    <a:pt x="77" y="429"/>
                  </a:lnTo>
                  <a:lnTo>
                    <a:pt x="81" y="416"/>
                  </a:lnTo>
                  <a:lnTo>
                    <a:pt x="100" y="416"/>
                  </a:lnTo>
                  <a:lnTo>
                    <a:pt x="137" y="408"/>
                  </a:lnTo>
                  <a:lnTo>
                    <a:pt x="158" y="397"/>
                  </a:lnTo>
                  <a:lnTo>
                    <a:pt x="164" y="391"/>
                  </a:lnTo>
                  <a:lnTo>
                    <a:pt x="170" y="383"/>
                  </a:lnTo>
                  <a:lnTo>
                    <a:pt x="181" y="368"/>
                  </a:lnTo>
                  <a:lnTo>
                    <a:pt x="187" y="349"/>
                  </a:lnTo>
                  <a:lnTo>
                    <a:pt x="200" y="314"/>
                  </a:lnTo>
                  <a:lnTo>
                    <a:pt x="212" y="297"/>
                  </a:lnTo>
                  <a:lnTo>
                    <a:pt x="229" y="285"/>
                  </a:lnTo>
                  <a:lnTo>
                    <a:pt x="369" y="222"/>
                  </a:lnTo>
                  <a:lnTo>
                    <a:pt x="562" y="149"/>
                  </a:lnTo>
                  <a:lnTo>
                    <a:pt x="746" y="87"/>
                  </a:lnTo>
                  <a:lnTo>
                    <a:pt x="813" y="68"/>
                  </a:lnTo>
                  <a:lnTo>
                    <a:pt x="856" y="58"/>
                  </a:lnTo>
                  <a:lnTo>
                    <a:pt x="948" y="54"/>
                  </a:lnTo>
                  <a:lnTo>
                    <a:pt x="1005" y="49"/>
                  </a:lnTo>
                  <a:lnTo>
                    <a:pt x="1027" y="45"/>
                  </a:lnTo>
                  <a:lnTo>
                    <a:pt x="1044" y="39"/>
                  </a:lnTo>
                  <a:lnTo>
                    <a:pt x="1080" y="10"/>
                  </a:lnTo>
                  <a:lnTo>
                    <a:pt x="1142" y="4"/>
                  </a:lnTo>
                  <a:lnTo>
                    <a:pt x="1192" y="0"/>
                  </a:lnTo>
                  <a:lnTo>
                    <a:pt x="1251" y="0"/>
                  </a:lnTo>
                  <a:lnTo>
                    <a:pt x="1315" y="6"/>
                  </a:lnTo>
                  <a:lnTo>
                    <a:pt x="1387" y="20"/>
                  </a:lnTo>
                  <a:lnTo>
                    <a:pt x="1458" y="43"/>
                  </a:lnTo>
                  <a:lnTo>
                    <a:pt x="1493" y="60"/>
                  </a:lnTo>
                  <a:lnTo>
                    <a:pt x="1529" y="79"/>
                  </a:lnTo>
                  <a:lnTo>
                    <a:pt x="1596" y="129"/>
                  </a:lnTo>
                  <a:lnTo>
                    <a:pt x="1652" y="179"/>
                  </a:lnTo>
                  <a:lnTo>
                    <a:pt x="1698" y="233"/>
                  </a:lnTo>
                  <a:lnTo>
                    <a:pt x="1733" y="289"/>
                  </a:lnTo>
                  <a:lnTo>
                    <a:pt x="1758" y="347"/>
                  </a:lnTo>
                  <a:lnTo>
                    <a:pt x="1769" y="408"/>
                  </a:lnTo>
                  <a:lnTo>
                    <a:pt x="1771" y="439"/>
                  </a:lnTo>
                  <a:lnTo>
                    <a:pt x="1771" y="468"/>
                  </a:lnTo>
                  <a:lnTo>
                    <a:pt x="1769" y="499"/>
                  </a:lnTo>
                  <a:lnTo>
                    <a:pt x="1760" y="531"/>
                  </a:lnTo>
                  <a:lnTo>
                    <a:pt x="1742" y="593"/>
                  </a:lnTo>
                  <a:lnTo>
                    <a:pt x="1710" y="654"/>
                  </a:lnTo>
                  <a:lnTo>
                    <a:pt x="1671" y="716"/>
                  </a:lnTo>
                  <a:lnTo>
                    <a:pt x="1644" y="747"/>
                  </a:lnTo>
                  <a:lnTo>
                    <a:pt x="1616" y="776"/>
                  </a:lnTo>
                  <a:lnTo>
                    <a:pt x="1587" y="806"/>
                  </a:lnTo>
                  <a:lnTo>
                    <a:pt x="1554" y="837"/>
                  </a:lnTo>
                  <a:lnTo>
                    <a:pt x="1481" y="895"/>
                  </a:lnTo>
                  <a:lnTo>
                    <a:pt x="1439" y="924"/>
                  </a:lnTo>
                  <a:lnTo>
                    <a:pt x="1395" y="951"/>
                  </a:lnTo>
                  <a:lnTo>
                    <a:pt x="1299" y="1006"/>
                  </a:lnTo>
                  <a:lnTo>
                    <a:pt x="1425" y="1128"/>
                  </a:lnTo>
                  <a:lnTo>
                    <a:pt x="1443" y="1151"/>
                  </a:lnTo>
                  <a:lnTo>
                    <a:pt x="1458" y="1174"/>
                  </a:lnTo>
                  <a:lnTo>
                    <a:pt x="1568" y="1309"/>
                  </a:lnTo>
                  <a:lnTo>
                    <a:pt x="1612" y="1356"/>
                  </a:lnTo>
                  <a:lnTo>
                    <a:pt x="1646" y="1390"/>
                  </a:lnTo>
                  <a:lnTo>
                    <a:pt x="1673" y="1413"/>
                  </a:lnTo>
                  <a:lnTo>
                    <a:pt x="1694" y="1427"/>
                  </a:lnTo>
                  <a:lnTo>
                    <a:pt x="1729" y="1444"/>
                  </a:lnTo>
                  <a:lnTo>
                    <a:pt x="1746" y="1452"/>
                  </a:lnTo>
                  <a:lnTo>
                    <a:pt x="1764" y="1465"/>
                  </a:lnTo>
                  <a:lnTo>
                    <a:pt x="1865" y="1583"/>
                  </a:lnTo>
                  <a:lnTo>
                    <a:pt x="2038" y="1719"/>
                  </a:lnTo>
                  <a:lnTo>
                    <a:pt x="2146" y="1827"/>
                  </a:lnTo>
                  <a:lnTo>
                    <a:pt x="2225" y="1906"/>
                  </a:lnTo>
                  <a:lnTo>
                    <a:pt x="2292" y="1963"/>
                  </a:lnTo>
                  <a:lnTo>
                    <a:pt x="2446" y="2085"/>
                  </a:lnTo>
                  <a:lnTo>
                    <a:pt x="2534" y="2156"/>
                  </a:lnTo>
                  <a:lnTo>
                    <a:pt x="2559" y="2179"/>
                  </a:lnTo>
                  <a:lnTo>
                    <a:pt x="2578" y="2198"/>
                  </a:lnTo>
                  <a:lnTo>
                    <a:pt x="2590" y="2217"/>
                  </a:lnTo>
                  <a:lnTo>
                    <a:pt x="2599" y="223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76800" y="5589720"/>
              <a:ext cx="503640" cy="748080"/>
            </a:xfrm>
            <a:custGeom>
              <a:avLst/>
              <a:gdLst/>
              <a:ahLst/>
              <a:rect l="0" t="0" r="r" b="b"/>
              <a:pathLst>
                <a:path w="1399" h="2078">
                  <a:moveTo>
                    <a:pt x="1385" y="140"/>
                  </a:moveTo>
                  <a:lnTo>
                    <a:pt x="1393" y="161"/>
                  </a:lnTo>
                  <a:lnTo>
                    <a:pt x="1397" y="184"/>
                  </a:lnTo>
                  <a:lnTo>
                    <a:pt x="1399" y="236"/>
                  </a:lnTo>
                  <a:lnTo>
                    <a:pt x="1397" y="301"/>
                  </a:lnTo>
                  <a:lnTo>
                    <a:pt x="1391" y="374"/>
                  </a:lnTo>
                  <a:lnTo>
                    <a:pt x="1372" y="560"/>
                  </a:lnTo>
                  <a:lnTo>
                    <a:pt x="1355" y="798"/>
                  </a:lnTo>
                  <a:lnTo>
                    <a:pt x="1345" y="1286"/>
                  </a:lnTo>
                  <a:lnTo>
                    <a:pt x="1343" y="1601"/>
                  </a:lnTo>
                  <a:lnTo>
                    <a:pt x="1337" y="1687"/>
                  </a:lnTo>
                  <a:lnTo>
                    <a:pt x="1332" y="1712"/>
                  </a:lnTo>
                  <a:lnTo>
                    <a:pt x="1326" y="1718"/>
                  </a:lnTo>
                  <a:lnTo>
                    <a:pt x="1322" y="1723"/>
                  </a:lnTo>
                  <a:lnTo>
                    <a:pt x="1318" y="1723"/>
                  </a:lnTo>
                  <a:lnTo>
                    <a:pt x="1311" y="1720"/>
                  </a:lnTo>
                  <a:lnTo>
                    <a:pt x="1297" y="1704"/>
                  </a:lnTo>
                  <a:lnTo>
                    <a:pt x="1259" y="1633"/>
                  </a:lnTo>
                  <a:lnTo>
                    <a:pt x="1226" y="1817"/>
                  </a:lnTo>
                  <a:lnTo>
                    <a:pt x="1207" y="1804"/>
                  </a:lnTo>
                  <a:lnTo>
                    <a:pt x="1194" y="1794"/>
                  </a:lnTo>
                  <a:lnTo>
                    <a:pt x="1190" y="1779"/>
                  </a:lnTo>
                  <a:lnTo>
                    <a:pt x="1186" y="1764"/>
                  </a:lnTo>
                  <a:lnTo>
                    <a:pt x="1186" y="1731"/>
                  </a:lnTo>
                  <a:lnTo>
                    <a:pt x="1186" y="1689"/>
                  </a:lnTo>
                  <a:lnTo>
                    <a:pt x="1146" y="1618"/>
                  </a:lnTo>
                  <a:lnTo>
                    <a:pt x="1142" y="1643"/>
                  </a:lnTo>
                  <a:lnTo>
                    <a:pt x="1136" y="1660"/>
                  </a:lnTo>
                  <a:lnTo>
                    <a:pt x="1129" y="1668"/>
                  </a:lnTo>
                  <a:lnTo>
                    <a:pt x="1121" y="1674"/>
                  </a:lnTo>
                  <a:lnTo>
                    <a:pt x="1115" y="1672"/>
                  </a:lnTo>
                  <a:lnTo>
                    <a:pt x="1106" y="1666"/>
                  </a:lnTo>
                  <a:lnTo>
                    <a:pt x="1094" y="1645"/>
                  </a:lnTo>
                  <a:lnTo>
                    <a:pt x="1071" y="1582"/>
                  </a:lnTo>
                  <a:lnTo>
                    <a:pt x="1065" y="1554"/>
                  </a:lnTo>
                  <a:lnTo>
                    <a:pt x="1062" y="1531"/>
                  </a:lnTo>
                  <a:lnTo>
                    <a:pt x="1079" y="1510"/>
                  </a:lnTo>
                  <a:lnTo>
                    <a:pt x="1079" y="1458"/>
                  </a:lnTo>
                  <a:lnTo>
                    <a:pt x="1054" y="1391"/>
                  </a:lnTo>
                  <a:lnTo>
                    <a:pt x="1054" y="1024"/>
                  </a:lnTo>
                  <a:lnTo>
                    <a:pt x="1045" y="964"/>
                  </a:lnTo>
                  <a:lnTo>
                    <a:pt x="835" y="1041"/>
                  </a:lnTo>
                  <a:lnTo>
                    <a:pt x="714" y="1083"/>
                  </a:lnTo>
                  <a:lnTo>
                    <a:pt x="653" y="1106"/>
                  </a:lnTo>
                  <a:lnTo>
                    <a:pt x="639" y="1114"/>
                  </a:lnTo>
                  <a:lnTo>
                    <a:pt x="630" y="1123"/>
                  </a:lnTo>
                  <a:lnTo>
                    <a:pt x="349" y="1720"/>
                  </a:lnTo>
                  <a:lnTo>
                    <a:pt x="255" y="1942"/>
                  </a:lnTo>
                  <a:lnTo>
                    <a:pt x="238" y="1982"/>
                  </a:lnTo>
                  <a:lnTo>
                    <a:pt x="200" y="2032"/>
                  </a:lnTo>
                  <a:lnTo>
                    <a:pt x="219" y="1924"/>
                  </a:lnTo>
                  <a:lnTo>
                    <a:pt x="228" y="1838"/>
                  </a:lnTo>
                  <a:lnTo>
                    <a:pt x="232" y="1794"/>
                  </a:lnTo>
                  <a:lnTo>
                    <a:pt x="198" y="1838"/>
                  </a:lnTo>
                  <a:lnTo>
                    <a:pt x="113" y="2032"/>
                  </a:lnTo>
                  <a:lnTo>
                    <a:pt x="96" y="2026"/>
                  </a:lnTo>
                  <a:lnTo>
                    <a:pt x="89" y="2020"/>
                  </a:lnTo>
                  <a:lnTo>
                    <a:pt x="87" y="2011"/>
                  </a:lnTo>
                  <a:lnTo>
                    <a:pt x="89" y="2003"/>
                  </a:lnTo>
                  <a:lnTo>
                    <a:pt x="104" y="1982"/>
                  </a:lnTo>
                  <a:lnTo>
                    <a:pt x="113" y="1968"/>
                  </a:lnTo>
                  <a:lnTo>
                    <a:pt x="115" y="1951"/>
                  </a:lnTo>
                  <a:lnTo>
                    <a:pt x="110" y="1924"/>
                  </a:lnTo>
                  <a:lnTo>
                    <a:pt x="104" y="1917"/>
                  </a:lnTo>
                  <a:lnTo>
                    <a:pt x="98" y="1928"/>
                  </a:lnTo>
                  <a:lnTo>
                    <a:pt x="89" y="1949"/>
                  </a:lnTo>
                  <a:lnTo>
                    <a:pt x="77" y="1980"/>
                  </a:lnTo>
                  <a:lnTo>
                    <a:pt x="60" y="2014"/>
                  </a:lnTo>
                  <a:lnTo>
                    <a:pt x="37" y="2047"/>
                  </a:lnTo>
                  <a:lnTo>
                    <a:pt x="23" y="2064"/>
                  </a:lnTo>
                  <a:lnTo>
                    <a:pt x="6" y="2078"/>
                  </a:lnTo>
                  <a:lnTo>
                    <a:pt x="0" y="1959"/>
                  </a:lnTo>
                  <a:lnTo>
                    <a:pt x="0" y="1934"/>
                  </a:lnTo>
                  <a:lnTo>
                    <a:pt x="2" y="1924"/>
                  </a:lnTo>
                  <a:lnTo>
                    <a:pt x="16" y="1909"/>
                  </a:lnTo>
                  <a:lnTo>
                    <a:pt x="31" y="1892"/>
                  </a:lnTo>
                  <a:lnTo>
                    <a:pt x="46" y="1852"/>
                  </a:lnTo>
                  <a:lnTo>
                    <a:pt x="50" y="1806"/>
                  </a:lnTo>
                  <a:lnTo>
                    <a:pt x="79" y="1781"/>
                  </a:lnTo>
                  <a:lnTo>
                    <a:pt x="92" y="1767"/>
                  </a:lnTo>
                  <a:lnTo>
                    <a:pt x="98" y="1754"/>
                  </a:lnTo>
                  <a:lnTo>
                    <a:pt x="104" y="1737"/>
                  </a:lnTo>
                  <a:lnTo>
                    <a:pt x="113" y="1708"/>
                  </a:lnTo>
                  <a:lnTo>
                    <a:pt x="129" y="1660"/>
                  </a:lnTo>
                  <a:lnTo>
                    <a:pt x="167" y="1586"/>
                  </a:lnTo>
                  <a:lnTo>
                    <a:pt x="223" y="1479"/>
                  </a:lnTo>
                  <a:lnTo>
                    <a:pt x="301" y="1340"/>
                  </a:lnTo>
                  <a:lnTo>
                    <a:pt x="343" y="1255"/>
                  </a:lnTo>
                  <a:lnTo>
                    <a:pt x="363" y="1209"/>
                  </a:lnTo>
                  <a:lnTo>
                    <a:pt x="373" y="1179"/>
                  </a:lnTo>
                  <a:lnTo>
                    <a:pt x="390" y="1148"/>
                  </a:lnTo>
                  <a:lnTo>
                    <a:pt x="345" y="1139"/>
                  </a:lnTo>
                  <a:lnTo>
                    <a:pt x="336" y="1135"/>
                  </a:lnTo>
                  <a:lnTo>
                    <a:pt x="334" y="1133"/>
                  </a:lnTo>
                  <a:lnTo>
                    <a:pt x="334" y="1123"/>
                  </a:lnTo>
                  <a:lnTo>
                    <a:pt x="334" y="1114"/>
                  </a:lnTo>
                  <a:lnTo>
                    <a:pt x="326" y="1100"/>
                  </a:lnTo>
                  <a:lnTo>
                    <a:pt x="320" y="1083"/>
                  </a:lnTo>
                  <a:lnTo>
                    <a:pt x="322" y="1075"/>
                  </a:lnTo>
                  <a:lnTo>
                    <a:pt x="328" y="1068"/>
                  </a:lnTo>
                  <a:lnTo>
                    <a:pt x="345" y="1060"/>
                  </a:lnTo>
                  <a:lnTo>
                    <a:pt x="367" y="1052"/>
                  </a:lnTo>
                  <a:lnTo>
                    <a:pt x="423" y="1037"/>
                  </a:lnTo>
                  <a:lnTo>
                    <a:pt x="450" y="1029"/>
                  </a:lnTo>
                  <a:lnTo>
                    <a:pt x="469" y="1016"/>
                  </a:lnTo>
                  <a:lnTo>
                    <a:pt x="522" y="924"/>
                  </a:lnTo>
                  <a:lnTo>
                    <a:pt x="522" y="880"/>
                  </a:lnTo>
                  <a:lnTo>
                    <a:pt x="566" y="836"/>
                  </a:lnTo>
                  <a:lnTo>
                    <a:pt x="574" y="825"/>
                  </a:lnTo>
                  <a:lnTo>
                    <a:pt x="574" y="817"/>
                  </a:lnTo>
                  <a:lnTo>
                    <a:pt x="574" y="796"/>
                  </a:lnTo>
                  <a:lnTo>
                    <a:pt x="578" y="779"/>
                  </a:lnTo>
                  <a:lnTo>
                    <a:pt x="586" y="750"/>
                  </a:lnTo>
                  <a:lnTo>
                    <a:pt x="658" y="641"/>
                  </a:lnTo>
                  <a:lnTo>
                    <a:pt x="683" y="593"/>
                  </a:lnTo>
                  <a:lnTo>
                    <a:pt x="699" y="572"/>
                  </a:lnTo>
                  <a:lnTo>
                    <a:pt x="722" y="541"/>
                  </a:lnTo>
                  <a:lnTo>
                    <a:pt x="758" y="483"/>
                  </a:lnTo>
                  <a:lnTo>
                    <a:pt x="762" y="456"/>
                  </a:lnTo>
                  <a:lnTo>
                    <a:pt x="785" y="443"/>
                  </a:lnTo>
                  <a:lnTo>
                    <a:pt x="848" y="299"/>
                  </a:lnTo>
                  <a:lnTo>
                    <a:pt x="869" y="263"/>
                  </a:lnTo>
                  <a:lnTo>
                    <a:pt x="882" y="242"/>
                  </a:lnTo>
                  <a:lnTo>
                    <a:pt x="902" y="224"/>
                  </a:lnTo>
                  <a:lnTo>
                    <a:pt x="913" y="211"/>
                  </a:lnTo>
                  <a:lnTo>
                    <a:pt x="928" y="188"/>
                  </a:lnTo>
                  <a:lnTo>
                    <a:pt x="944" y="157"/>
                  </a:lnTo>
                  <a:lnTo>
                    <a:pt x="955" y="129"/>
                  </a:lnTo>
                  <a:lnTo>
                    <a:pt x="963" y="90"/>
                  </a:lnTo>
                  <a:lnTo>
                    <a:pt x="967" y="81"/>
                  </a:lnTo>
                  <a:lnTo>
                    <a:pt x="976" y="73"/>
                  </a:lnTo>
                  <a:lnTo>
                    <a:pt x="988" y="69"/>
                  </a:lnTo>
                  <a:lnTo>
                    <a:pt x="1011" y="69"/>
                  </a:lnTo>
                  <a:lnTo>
                    <a:pt x="1024" y="69"/>
                  </a:lnTo>
                  <a:lnTo>
                    <a:pt x="1032" y="75"/>
                  </a:lnTo>
                  <a:lnTo>
                    <a:pt x="1034" y="79"/>
                  </a:lnTo>
                  <a:lnTo>
                    <a:pt x="1036" y="85"/>
                  </a:lnTo>
                  <a:lnTo>
                    <a:pt x="1038" y="104"/>
                  </a:lnTo>
                  <a:lnTo>
                    <a:pt x="1045" y="121"/>
                  </a:lnTo>
                  <a:lnTo>
                    <a:pt x="1050" y="125"/>
                  </a:lnTo>
                  <a:lnTo>
                    <a:pt x="1056" y="121"/>
                  </a:lnTo>
                  <a:lnTo>
                    <a:pt x="1067" y="90"/>
                  </a:lnTo>
                  <a:lnTo>
                    <a:pt x="1073" y="73"/>
                  </a:lnTo>
                  <a:lnTo>
                    <a:pt x="1083" y="56"/>
                  </a:lnTo>
                  <a:lnTo>
                    <a:pt x="1096" y="41"/>
                  </a:lnTo>
                  <a:lnTo>
                    <a:pt x="1111" y="33"/>
                  </a:lnTo>
                  <a:lnTo>
                    <a:pt x="1148" y="35"/>
                  </a:lnTo>
                  <a:lnTo>
                    <a:pt x="1171" y="39"/>
                  </a:lnTo>
                  <a:lnTo>
                    <a:pt x="1184" y="39"/>
                  </a:lnTo>
                  <a:lnTo>
                    <a:pt x="1201" y="35"/>
                  </a:lnTo>
                  <a:lnTo>
                    <a:pt x="1257" y="8"/>
                  </a:lnTo>
                  <a:lnTo>
                    <a:pt x="1270" y="2"/>
                  </a:lnTo>
                  <a:lnTo>
                    <a:pt x="1293" y="0"/>
                  </a:lnTo>
                  <a:lnTo>
                    <a:pt x="1322" y="2"/>
                  </a:lnTo>
                  <a:lnTo>
                    <a:pt x="1335" y="8"/>
                  </a:lnTo>
                  <a:lnTo>
                    <a:pt x="1343" y="16"/>
                  </a:lnTo>
                  <a:lnTo>
                    <a:pt x="1349" y="33"/>
                  </a:lnTo>
                  <a:lnTo>
                    <a:pt x="1349" y="52"/>
                  </a:lnTo>
                  <a:lnTo>
                    <a:pt x="1345" y="90"/>
                  </a:lnTo>
                  <a:lnTo>
                    <a:pt x="1347" y="108"/>
                  </a:lnTo>
                  <a:lnTo>
                    <a:pt x="1353" y="123"/>
                  </a:lnTo>
                  <a:lnTo>
                    <a:pt x="1358" y="129"/>
                  </a:lnTo>
                  <a:lnTo>
                    <a:pt x="1366" y="133"/>
                  </a:lnTo>
                  <a:lnTo>
                    <a:pt x="1385" y="14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602400" y="5607000"/>
              <a:ext cx="405000" cy="594000"/>
            </a:xfrm>
            <a:custGeom>
              <a:avLst/>
              <a:gdLst/>
              <a:ahLst/>
              <a:rect l="0" t="0" r="r" b="b"/>
              <a:pathLst>
                <a:path w="1125" h="1650">
                  <a:moveTo>
                    <a:pt x="980" y="207"/>
                  </a:moveTo>
                  <a:lnTo>
                    <a:pt x="988" y="234"/>
                  </a:lnTo>
                  <a:lnTo>
                    <a:pt x="986" y="253"/>
                  </a:lnTo>
                  <a:lnTo>
                    <a:pt x="980" y="267"/>
                  </a:lnTo>
                  <a:lnTo>
                    <a:pt x="966" y="278"/>
                  </a:lnTo>
                  <a:lnTo>
                    <a:pt x="920" y="294"/>
                  </a:lnTo>
                  <a:lnTo>
                    <a:pt x="856" y="309"/>
                  </a:lnTo>
                  <a:lnTo>
                    <a:pt x="771" y="334"/>
                  </a:lnTo>
                  <a:lnTo>
                    <a:pt x="721" y="353"/>
                  </a:lnTo>
                  <a:lnTo>
                    <a:pt x="667" y="378"/>
                  </a:lnTo>
                  <a:lnTo>
                    <a:pt x="609" y="411"/>
                  </a:lnTo>
                  <a:lnTo>
                    <a:pt x="546" y="450"/>
                  </a:lnTo>
                  <a:lnTo>
                    <a:pt x="482" y="500"/>
                  </a:lnTo>
                  <a:lnTo>
                    <a:pt x="414" y="560"/>
                  </a:lnTo>
                  <a:lnTo>
                    <a:pt x="378" y="600"/>
                  </a:lnTo>
                  <a:lnTo>
                    <a:pt x="345" y="643"/>
                  </a:lnTo>
                  <a:lnTo>
                    <a:pt x="316" y="689"/>
                  </a:lnTo>
                  <a:lnTo>
                    <a:pt x="291" y="739"/>
                  </a:lnTo>
                  <a:lnTo>
                    <a:pt x="273" y="791"/>
                  </a:lnTo>
                  <a:lnTo>
                    <a:pt x="254" y="842"/>
                  </a:lnTo>
                  <a:lnTo>
                    <a:pt x="244" y="896"/>
                  </a:lnTo>
                  <a:lnTo>
                    <a:pt x="236" y="948"/>
                  </a:lnTo>
                  <a:lnTo>
                    <a:pt x="231" y="1052"/>
                  </a:lnTo>
                  <a:lnTo>
                    <a:pt x="236" y="1099"/>
                  </a:lnTo>
                  <a:lnTo>
                    <a:pt x="244" y="1147"/>
                  </a:lnTo>
                  <a:lnTo>
                    <a:pt x="254" y="1189"/>
                  </a:lnTo>
                  <a:lnTo>
                    <a:pt x="271" y="1228"/>
                  </a:lnTo>
                  <a:lnTo>
                    <a:pt x="291" y="1263"/>
                  </a:lnTo>
                  <a:lnTo>
                    <a:pt x="314" y="1292"/>
                  </a:lnTo>
                  <a:lnTo>
                    <a:pt x="370" y="1346"/>
                  </a:lnTo>
                  <a:lnTo>
                    <a:pt x="426" y="1390"/>
                  </a:lnTo>
                  <a:lnTo>
                    <a:pt x="488" y="1427"/>
                  </a:lnTo>
                  <a:lnTo>
                    <a:pt x="550" y="1450"/>
                  </a:lnTo>
                  <a:lnTo>
                    <a:pt x="616" y="1461"/>
                  </a:lnTo>
                  <a:lnTo>
                    <a:pt x="649" y="1461"/>
                  </a:lnTo>
                  <a:lnTo>
                    <a:pt x="680" y="1454"/>
                  </a:lnTo>
                  <a:lnTo>
                    <a:pt x="713" y="1446"/>
                  </a:lnTo>
                  <a:lnTo>
                    <a:pt x="746" y="1432"/>
                  </a:lnTo>
                  <a:lnTo>
                    <a:pt x="781" y="1413"/>
                  </a:lnTo>
                  <a:lnTo>
                    <a:pt x="814" y="1388"/>
                  </a:lnTo>
                  <a:lnTo>
                    <a:pt x="796" y="1355"/>
                  </a:lnTo>
                  <a:lnTo>
                    <a:pt x="787" y="1330"/>
                  </a:lnTo>
                  <a:lnTo>
                    <a:pt x="781" y="1292"/>
                  </a:lnTo>
                  <a:lnTo>
                    <a:pt x="783" y="1238"/>
                  </a:lnTo>
                  <a:lnTo>
                    <a:pt x="792" y="1164"/>
                  </a:lnTo>
                  <a:lnTo>
                    <a:pt x="810" y="1066"/>
                  </a:lnTo>
                  <a:lnTo>
                    <a:pt x="841" y="939"/>
                  </a:lnTo>
                  <a:lnTo>
                    <a:pt x="736" y="958"/>
                  </a:lnTo>
                  <a:lnTo>
                    <a:pt x="651" y="979"/>
                  </a:lnTo>
                  <a:lnTo>
                    <a:pt x="587" y="1002"/>
                  </a:lnTo>
                  <a:lnTo>
                    <a:pt x="538" y="1022"/>
                  </a:lnTo>
                  <a:lnTo>
                    <a:pt x="480" y="1052"/>
                  </a:lnTo>
                  <a:lnTo>
                    <a:pt x="461" y="1058"/>
                  </a:lnTo>
                  <a:lnTo>
                    <a:pt x="445" y="1054"/>
                  </a:lnTo>
                  <a:lnTo>
                    <a:pt x="436" y="1047"/>
                  </a:lnTo>
                  <a:lnTo>
                    <a:pt x="434" y="1041"/>
                  </a:lnTo>
                  <a:lnTo>
                    <a:pt x="439" y="1037"/>
                  </a:lnTo>
                  <a:lnTo>
                    <a:pt x="445" y="1031"/>
                  </a:lnTo>
                  <a:lnTo>
                    <a:pt x="465" y="1020"/>
                  </a:lnTo>
                  <a:lnTo>
                    <a:pt x="484" y="1006"/>
                  </a:lnTo>
                  <a:lnTo>
                    <a:pt x="540" y="906"/>
                  </a:lnTo>
                  <a:lnTo>
                    <a:pt x="578" y="887"/>
                  </a:lnTo>
                  <a:lnTo>
                    <a:pt x="593" y="875"/>
                  </a:lnTo>
                  <a:lnTo>
                    <a:pt x="599" y="865"/>
                  </a:lnTo>
                  <a:lnTo>
                    <a:pt x="616" y="848"/>
                  </a:lnTo>
                  <a:lnTo>
                    <a:pt x="711" y="814"/>
                  </a:lnTo>
                  <a:lnTo>
                    <a:pt x="717" y="789"/>
                  </a:lnTo>
                  <a:lnTo>
                    <a:pt x="719" y="787"/>
                  </a:lnTo>
                  <a:lnTo>
                    <a:pt x="742" y="789"/>
                  </a:lnTo>
                  <a:lnTo>
                    <a:pt x="767" y="785"/>
                  </a:lnTo>
                  <a:lnTo>
                    <a:pt x="802" y="774"/>
                  </a:lnTo>
                  <a:lnTo>
                    <a:pt x="852" y="758"/>
                  </a:lnTo>
                  <a:lnTo>
                    <a:pt x="891" y="737"/>
                  </a:lnTo>
                  <a:lnTo>
                    <a:pt x="922" y="716"/>
                  </a:lnTo>
                  <a:lnTo>
                    <a:pt x="947" y="695"/>
                  </a:lnTo>
                  <a:lnTo>
                    <a:pt x="986" y="668"/>
                  </a:lnTo>
                  <a:lnTo>
                    <a:pt x="1001" y="662"/>
                  </a:lnTo>
                  <a:lnTo>
                    <a:pt x="1015" y="664"/>
                  </a:lnTo>
                  <a:lnTo>
                    <a:pt x="1030" y="675"/>
                  </a:lnTo>
                  <a:lnTo>
                    <a:pt x="1038" y="685"/>
                  </a:lnTo>
                  <a:lnTo>
                    <a:pt x="1044" y="704"/>
                  </a:lnTo>
                  <a:lnTo>
                    <a:pt x="1048" y="716"/>
                  </a:lnTo>
                  <a:lnTo>
                    <a:pt x="1055" y="718"/>
                  </a:lnTo>
                  <a:lnTo>
                    <a:pt x="1063" y="712"/>
                  </a:lnTo>
                  <a:lnTo>
                    <a:pt x="1094" y="687"/>
                  </a:lnTo>
                  <a:lnTo>
                    <a:pt x="1125" y="691"/>
                  </a:lnTo>
                  <a:lnTo>
                    <a:pt x="1115" y="812"/>
                  </a:lnTo>
                  <a:lnTo>
                    <a:pt x="1098" y="914"/>
                  </a:lnTo>
                  <a:lnTo>
                    <a:pt x="1055" y="1085"/>
                  </a:lnTo>
                  <a:lnTo>
                    <a:pt x="1036" y="1164"/>
                  </a:lnTo>
                  <a:lnTo>
                    <a:pt x="1021" y="1247"/>
                  </a:lnTo>
                  <a:lnTo>
                    <a:pt x="1013" y="1340"/>
                  </a:lnTo>
                  <a:lnTo>
                    <a:pt x="1015" y="1448"/>
                  </a:lnTo>
                  <a:lnTo>
                    <a:pt x="1028" y="1575"/>
                  </a:lnTo>
                  <a:lnTo>
                    <a:pt x="1034" y="1623"/>
                  </a:lnTo>
                  <a:lnTo>
                    <a:pt x="1032" y="1631"/>
                  </a:lnTo>
                  <a:lnTo>
                    <a:pt x="1028" y="1631"/>
                  </a:lnTo>
                  <a:lnTo>
                    <a:pt x="1007" y="1637"/>
                  </a:lnTo>
                  <a:lnTo>
                    <a:pt x="997" y="1614"/>
                  </a:lnTo>
                  <a:lnTo>
                    <a:pt x="986" y="1610"/>
                  </a:lnTo>
                  <a:lnTo>
                    <a:pt x="974" y="1614"/>
                  </a:lnTo>
                  <a:lnTo>
                    <a:pt x="968" y="1612"/>
                  </a:lnTo>
                  <a:lnTo>
                    <a:pt x="959" y="1606"/>
                  </a:lnTo>
                  <a:lnTo>
                    <a:pt x="941" y="1554"/>
                  </a:lnTo>
                  <a:lnTo>
                    <a:pt x="928" y="1548"/>
                  </a:lnTo>
                  <a:lnTo>
                    <a:pt x="914" y="1535"/>
                  </a:lnTo>
                  <a:lnTo>
                    <a:pt x="885" y="1511"/>
                  </a:lnTo>
                  <a:lnTo>
                    <a:pt x="858" y="1492"/>
                  </a:lnTo>
                  <a:lnTo>
                    <a:pt x="847" y="1488"/>
                  </a:lnTo>
                  <a:lnTo>
                    <a:pt x="837" y="1488"/>
                  </a:lnTo>
                  <a:lnTo>
                    <a:pt x="818" y="1504"/>
                  </a:lnTo>
                  <a:lnTo>
                    <a:pt x="804" y="1527"/>
                  </a:lnTo>
                  <a:lnTo>
                    <a:pt x="787" y="1552"/>
                  </a:lnTo>
                  <a:lnTo>
                    <a:pt x="767" y="1579"/>
                  </a:lnTo>
                  <a:lnTo>
                    <a:pt x="756" y="1592"/>
                  </a:lnTo>
                  <a:lnTo>
                    <a:pt x="740" y="1604"/>
                  </a:lnTo>
                  <a:lnTo>
                    <a:pt x="703" y="1625"/>
                  </a:lnTo>
                  <a:lnTo>
                    <a:pt x="653" y="1641"/>
                  </a:lnTo>
                  <a:lnTo>
                    <a:pt x="620" y="1648"/>
                  </a:lnTo>
                  <a:lnTo>
                    <a:pt x="584" y="1650"/>
                  </a:lnTo>
                  <a:lnTo>
                    <a:pt x="536" y="1648"/>
                  </a:lnTo>
                  <a:lnTo>
                    <a:pt x="484" y="1644"/>
                  </a:lnTo>
                  <a:lnTo>
                    <a:pt x="436" y="1633"/>
                  </a:lnTo>
                  <a:lnTo>
                    <a:pt x="387" y="1617"/>
                  </a:lnTo>
                  <a:lnTo>
                    <a:pt x="341" y="1598"/>
                  </a:lnTo>
                  <a:lnTo>
                    <a:pt x="294" y="1573"/>
                  </a:lnTo>
                  <a:lnTo>
                    <a:pt x="250" y="1542"/>
                  </a:lnTo>
                  <a:lnTo>
                    <a:pt x="209" y="1506"/>
                  </a:lnTo>
                  <a:lnTo>
                    <a:pt x="171" y="1469"/>
                  </a:lnTo>
                  <a:lnTo>
                    <a:pt x="134" y="1423"/>
                  </a:lnTo>
                  <a:lnTo>
                    <a:pt x="101" y="1376"/>
                  </a:lnTo>
                  <a:lnTo>
                    <a:pt x="72" y="1324"/>
                  </a:lnTo>
                  <a:lnTo>
                    <a:pt x="49" y="1265"/>
                  </a:lnTo>
                  <a:lnTo>
                    <a:pt x="28" y="1203"/>
                  </a:lnTo>
                  <a:lnTo>
                    <a:pt x="14" y="1137"/>
                  </a:lnTo>
                  <a:lnTo>
                    <a:pt x="4" y="1066"/>
                  </a:lnTo>
                  <a:lnTo>
                    <a:pt x="0" y="973"/>
                  </a:lnTo>
                  <a:lnTo>
                    <a:pt x="4" y="883"/>
                  </a:lnTo>
                  <a:lnTo>
                    <a:pt x="16" y="799"/>
                  </a:lnTo>
                  <a:lnTo>
                    <a:pt x="33" y="720"/>
                  </a:lnTo>
                  <a:lnTo>
                    <a:pt x="57" y="648"/>
                  </a:lnTo>
                  <a:lnTo>
                    <a:pt x="84" y="579"/>
                  </a:lnTo>
                  <a:lnTo>
                    <a:pt x="115" y="517"/>
                  </a:lnTo>
                  <a:lnTo>
                    <a:pt x="149" y="459"/>
                  </a:lnTo>
                  <a:lnTo>
                    <a:pt x="215" y="357"/>
                  </a:lnTo>
                  <a:lnTo>
                    <a:pt x="281" y="276"/>
                  </a:lnTo>
                  <a:lnTo>
                    <a:pt x="333" y="218"/>
                  </a:lnTo>
                  <a:lnTo>
                    <a:pt x="366" y="180"/>
                  </a:lnTo>
                  <a:lnTo>
                    <a:pt x="403" y="143"/>
                  </a:lnTo>
                  <a:lnTo>
                    <a:pt x="434" y="118"/>
                  </a:lnTo>
                  <a:lnTo>
                    <a:pt x="478" y="91"/>
                  </a:lnTo>
                  <a:lnTo>
                    <a:pt x="532" y="64"/>
                  </a:lnTo>
                  <a:lnTo>
                    <a:pt x="599" y="37"/>
                  </a:lnTo>
                  <a:lnTo>
                    <a:pt x="678" y="16"/>
                  </a:lnTo>
                  <a:lnTo>
                    <a:pt x="767" y="0"/>
                  </a:lnTo>
                  <a:lnTo>
                    <a:pt x="790" y="0"/>
                  </a:lnTo>
                  <a:lnTo>
                    <a:pt x="798" y="4"/>
                  </a:lnTo>
                  <a:lnTo>
                    <a:pt x="804" y="12"/>
                  </a:lnTo>
                  <a:lnTo>
                    <a:pt x="821" y="24"/>
                  </a:lnTo>
                  <a:lnTo>
                    <a:pt x="876" y="37"/>
                  </a:lnTo>
                  <a:lnTo>
                    <a:pt x="887" y="54"/>
                  </a:lnTo>
                  <a:lnTo>
                    <a:pt x="889" y="62"/>
                  </a:lnTo>
                  <a:lnTo>
                    <a:pt x="887" y="68"/>
                  </a:lnTo>
                  <a:lnTo>
                    <a:pt x="887" y="74"/>
                  </a:lnTo>
                  <a:lnTo>
                    <a:pt x="891" y="83"/>
                  </a:lnTo>
                  <a:lnTo>
                    <a:pt x="924" y="120"/>
                  </a:lnTo>
                  <a:lnTo>
                    <a:pt x="949" y="147"/>
                  </a:lnTo>
                  <a:lnTo>
                    <a:pt x="959" y="153"/>
                  </a:lnTo>
                  <a:lnTo>
                    <a:pt x="972" y="149"/>
                  </a:lnTo>
                  <a:lnTo>
                    <a:pt x="999" y="151"/>
                  </a:lnTo>
                  <a:lnTo>
                    <a:pt x="1007" y="153"/>
                  </a:lnTo>
                  <a:lnTo>
                    <a:pt x="1011" y="157"/>
                  </a:lnTo>
                  <a:lnTo>
                    <a:pt x="1013" y="166"/>
                  </a:lnTo>
                  <a:lnTo>
                    <a:pt x="1013" y="172"/>
                  </a:lnTo>
                  <a:lnTo>
                    <a:pt x="1003" y="191"/>
                  </a:lnTo>
                  <a:lnTo>
                    <a:pt x="995" y="199"/>
                  </a:lnTo>
                  <a:lnTo>
                    <a:pt x="980" y="20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613640" y="5740560"/>
              <a:ext cx="100440" cy="119520"/>
            </a:xfrm>
            <a:custGeom>
              <a:avLst/>
              <a:gdLst/>
              <a:ahLst/>
              <a:rect l="0" t="0" r="r" b="b"/>
              <a:pathLst>
                <a:path w="279" h="332">
                  <a:moveTo>
                    <a:pt x="0" y="332"/>
                  </a:moveTo>
                  <a:lnTo>
                    <a:pt x="26" y="322"/>
                  </a:lnTo>
                  <a:lnTo>
                    <a:pt x="50" y="308"/>
                  </a:lnTo>
                  <a:lnTo>
                    <a:pt x="104" y="274"/>
                  </a:lnTo>
                  <a:lnTo>
                    <a:pt x="132" y="258"/>
                  </a:lnTo>
                  <a:lnTo>
                    <a:pt x="163" y="247"/>
                  </a:lnTo>
                  <a:lnTo>
                    <a:pt x="193" y="240"/>
                  </a:lnTo>
                  <a:lnTo>
                    <a:pt x="225" y="242"/>
                  </a:lnTo>
                  <a:lnTo>
                    <a:pt x="231" y="216"/>
                  </a:lnTo>
                  <a:lnTo>
                    <a:pt x="231" y="196"/>
                  </a:lnTo>
                  <a:lnTo>
                    <a:pt x="229" y="172"/>
                  </a:lnTo>
                  <a:lnTo>
                    <a:pt x="227" y="156"/>
                  </a:lnTo>
                  <a:lnTo>
                    <a:pt x="237" y="132"/>
                  </a:lnTo>
                  <a:lnTo>
                    <a:pt x="247" y="115"/>
                  </a:lnTo>
                  <a:lnTo>
                    <a:pt x="255" y="97"/>
                  </a:lnTo>
                  <a:lnTo>
                    <a:pt x="279" y="14"/>
                  </a:lnTo>
                  <a:lnTo>
                    <a:pt x="249" y="14"/>
                  </a:lnTo>
                  <a:lnTo>
                    <a:pt x="249" y="10"/>
                  </a:lnTo>
                  <a:lnTo>
                    <a:pt x="245" y="0"/>
                  </a:lnTo>
                  <a:lnTo>
                    <a:pt x="235" y="6"/>
                  </a:lnTo>
                  <a:lnTo>
                    <a:pt x="212" y="28"/>
                  </a:lnTo>
                  <a:lnTo>
                    <a:pt x="147" y="111"/>
                  </a:lnTo>
                  <a:lnTo>
                    <a:pt x="68" y="222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50040" y="5743440"/>
              <a:ext cx="103680" cy="178200"/>
            </a:xfrm>
            <a:custGeom>
              <a:avLst/>
              <a:gdLst/>
              <a:ahLst/>
              <a:rect l="0" t="0" r="r" b="b"/>
              <a:pathLst>
                <a:path w="288" h="495">
                  <a:moveTo>
                    <a:pt x="0" y="495"/>
                  </a:moveTo>
                  <a:lnTo>
                    <a:pt x="16" y="493"/>
                  </a:lnTo>
                  <a:lnTo>
                    <a:pt x="22" y="491"/>
                  </a:lnTo>
                  <a:lnTo>
                    <a:pt x="26" y="487"/>
                  </a:lnTo>
                  <a:lnTo>
                    <a:pt x="30" y="479"/>
                  </a:lnTo>
                  <a:lnTo>
                    <a:pt x="34" y="469"/>
                  </a:lnTo>
                  <a:lnTo>
                    <a:pt x="38" y="459"/>
                  </a:lnTo>
                  <a:lnTo>
                    <a:pt x="48" y="446"/>
                  </a:lnTo>
                  <a:lnTo>
                    <a:pt x="66" y="436"/>
                  </a:lnTo>
                  <a:lnTo>
                    <a:pt x="97" y="426"/>
                  </a:lnTo>
                  <a:lnTo>
                    <a:pt x="137" y="418"/>
                  </a:lnTo>
                  <a:lnTo>
                    <a:pt x="143" y="416"/>
                  </a:lnTo>
                  <a:lnTo>
                    <a:pt x="147" y="410"/>
                  </a:lnTo>
                  <a:lnTo>
                    <a:pt x="179" y="389"/>
                  </a:lnTo>
                  <a:lnTo>
                    <a:pt x="282" y="335"/>
                  </a:lnTo>
                  <a:lnTo>
                    <a:pt x="288" y="0"/>
                  </a:lnTo>
                  <a:lnTo>
                    <a:pt x="262" y="38"/>
                  </a:lnTo>
                  <a:lnTo>
                    <a:pt x="258" y="36"/>
                  </a:lnTo>
                  <a:lnTo>
                    <a:pt x="246" y="38"/>
                  </a:lnTo>
                  <a:lnTo>
                    <a:pt x="228" y="34"/>
                  </a:lnTo>
                  <a:lnTo>
                    <a:pt x="4" y="453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070840" y="5951520"/>
              <a:ext cx="773640" cy="630720"/>
            </a:xfrm>
            <a:custGeom>
              <a:avLst/>
              <a:gdLst/>
              <a:ahLst/>
              <a:rect l="0" t="0" r="r" b="b"/>
              <a:pathLst>
                <a:path w="2149" h="1752">
                  <a:moveTo>
                    <a:pt x="45" y="0"/>
                  </a:moveTo>
                  <a:lnTo>
                    <a:pt x="77" y="8"/>
                  </a:lnTo>
                  <a:lnTo>
                    <a:pt x="129" y="26"/>
                  </a:lnTo>
                  <a:lnTo>
                    <a:pt x="181" y="47"/>
                  </a:lnTo>
                  <a:lnTo>
                    <a:pt x="206" y="62"/>
                  </a:lnTo>
                  <a:lnTo>
                    <a:pt x="379" y="224"/>
                  </a:lnTo>
                  <a:lnTo>
                    <a:pt x="464" y="306"/>
                  </a:lnTo>
                  <a:lnTo>
                    <a:pt x="734" y="585"/>
                  </a:lnTo>
                  <a:lnTo>
                    <a:pt x="905" y="720"/>
                  </a:lnTo>
                  <a:lnTo>
                    <a:pt x="922" y="739"/>
                  </a:lnTo>
                  <a:lnTo>
                    <a:pt x="935" y="758"/>
                  </a:lnTo>
                  <a:lnTo>
                    <a:pt x="962" y="795"/>
                  </a:lnTo>
                  <a:lnTo>
                    <a:pt x="983" y="814"/>
                  </a:lnTo>
                  <a:lnTo>
                    <a:pt x="1016" y="836"/>
                  </a:lnTo>
                  <a:lnTo>
                    <a:pt x="1062" y="861"/>
                  </a:lnTo>
                  <a:lnTo>
                    <a:pt x="1124" y="890"/>
                  </a:lnTo>
                  <a:lnTo>
                    <a:pt x="1126" y="890"/>
                  </a:lnTo>
                  <a:lnTo>
                    <a:pt x="1124" y="884"/>
                  </a:lnTo>
                  <a:lnTo>
                    <a:pt x="1126" y="884"/>
                  </a:lnTo>
                  <a:lnTo>
                    <a:pt x="1141" y="894"/>
                  </a:lnTo>
                  <a:lnTo>
                    <a:pt x="1231" y="973"/>
                  </a:lnTo>
                  <a:lnTo>
                    <a:pt x="1454" y="1177"/>
                  </a:lnTo>
                  <a:lnTo>
                    <a:pt x="1647" y="1360"/>
                  </a:lnTo>
                  <a:lnTo>
                    <a:pt x="1709" y="1402"/>
                  </a:lnTo>
                  <a:lnTo>
                    <a:pt x="1755" y="1427"/>
                  </a:lnTo>
                  <a:lnTo>
                    <a:pt x="1826" y="1460"/>
                  </a:lnTo>
                  <a:lnTo>
                    <a:pt x="1868" y="1485"/>
                  </a:lnTo>
                  <a:lnTo>
                    <a:pt x="1924" y="1526"/>
                  </a:lnTo>
                  <a:lnTo>
                    <a:pt x="2001" y="1592"/>
                  </a:lnTo>
                  <a:lnTo>
                    <a:pt x="2107" y="1690"/>
                  </a:lnTo>
                  <a:lnTo>
                    <a:pt x="2145" y="1729"/>
                  </a:lnTo>
                  <a:lnTo>
                    <a:pt x="2149" y="1742"/>
                  </a:lnTo>
                  <a:lnTo>
                    <a:pt x="2147" y="1746"/>
                  </a:lnTo>
                  <a:lnTo>
                    <a:pt x="2143" y="1746"/>
                  </a:lnTo>
                  <a:lnTo>
                    <a:pt x="2134" y="1752"/>
                  </a:lnTo>
                  <a:lnTo>
                    <a:pt x="2128" y="1752"/>
                  </a:lnTo>
                  <a:lnTo>
                    <a:pt x="2122" y="1750"/>
                  </a:lnTo>
                  <a:lnTo>
                    <a:pt x="2109" y="1740"/>
                  </a:lnTo>
                  <a:lnTo>
                    <a:pt x="2049" y="1690"/>
                  </a:lnTo>
                  <a:lnTo>
                    <a:pt x="1909" y="1582"/>
                  </a:lnTo>
                  <a:lnTo>
                    <a:pt x="1516" y="1291"/>
                  </a:lnTo>
                  <a:lnTo>
                    <a:pt x="1433" y="1233"/>
                  </a:lnTo>
                  <a:lnTo>
                    <a:pt x="1395" y="1208"/>
                  </a:lnTo>
                  <a:lnTo>
                    <a:pt x="1385" y="1204"/>
                  </a:lnTo>
                  <a:lnTo>
                    <a:pt x="1377" y="1204"/>
                  </a:lnTo>
                  <a:lnTo>
                    <a:pt x="1352" y="1187"/>
                  </a:lnTo>
                  <a:lnTo>
                    <a:pt x="1287" y="1141"/>
                  </a:lnTo>
                  <a:lnTo>
                    <a:pt x="1243" y="1108"/>
                  </a:lnTo>
                  <a:lnTo>
                    <a:pt x="1199" y="1069"/>
                  </a:lnTo>
                  <a:lnTo>
                    <a:pt x="1118" y="992"/>
                  </a:lnTo>
                  <a:lnTo>
                    <a:pt x="1076" y="955"/>
                  </a:lnTo>
                  <a:lnTo>
                    <a:pt x="1033" y="921"/>
                  </a:lnTo>
                  <a:lnTo>
                    <a:pt x="985" y="890"/>
                  </a:lnTo>
                  <a:lnTo>
                    <a:pt x="932" y="863"/>
                  </a:lnTo>
                  <a:lnTo>
                    <a:pt x="905" y="853"/>
                  </a:lnTo>
                  <a:lnTo>
                    <a:pt x="901" y="851"/>
                  </a:lnTo>
                  <a:lnTo>
                    <a:pt x="893" y="836"/>
                  </a:lnTo>
                  <a:lnTo>
                    <a:pt x="855" y="789"/>
                  </a:lnTo>
                  <a:lnTo>
                    <a:pt x="828" y="758"/>
                  </a:lnTo>
                  <a:lnTo>
                    <a:pt x="799" y="735"/>
                  </a:lnTo>
                  <a:lnTo>
                    <a:pt x="743" y="702"/>
                  </a:lnTo>
                  <a:lnTo>
                    <a:pt x="693" y="675"/>
                  </a:lnTo>
                  <a:lnTo>
                    <a:pt x="670" y="662"/>
                  </a:lnTo>
                  <a:lnTo>
                    <a:pt x="647" y="646"/>
                  </a:lnTo>
                  <a:lnTo>
                    <a:pt x="559" y="538"/>
                  </a:lnTo>
                  <a:lnTo>
                    <a:pt x="473" y="488"/>
                  </a:lnTo>
                  <a:lnTo>
                    <a:pt x="435" y="444"/>
                  </a:lnTo>
                  <a:lnTo>
                    <a:pt x="400" y="398"/>
                  </a:lnTo>
                  <a:lnTo>
                    <a:pt x="379" y="373"/>
                  </a:lnTo>
                  <a:lnTo>
                    <a:pt x="352" y="344"/>
                  </a:lnTo>
                  <a:lnTo>
                    <a:pt x="321" y="313"/>
                  </a:lnTo>
                  <a:lnTo>
                    <a:pt x="277" y="280"/>
                  </a:lnTo>
                  <a:lnTo>
                    <a:pt x="246" y="257"/>
                  </a:lnTo>
                  <a:lnTo>
                    <a:pt x="231" y="248"/>
                  </a:lnTo>
                  <a:lnTo>
                    <a:pt x="181" y="172"/>
                  </a:lnTo>
                  <a:lnTo>
                    <a:pt x="112" y="168"/>
                  </a:lnTo>
                  <a:lnTo>
                    <a:pt x="97" y="165"/>
                  </a:lnTo>
                  <a:lnTo>
                    <a:pt x="93" y="161"/>
                  </a:lnTo>
                  <a:lnTo>
                    <a:pt x="91" y="153"/>
                  </a:lnTo>
                  <a:lnTo>
                    <a:pt x="89" y="149"/>
                  </a:lnTo>
                  <a:lnTo>
                    <a:pt x="79" y="145"/>
                  </a:lnTo>
                  <a:lnTo>
                    <a:pt x="18" y="145"/>
                  </a:lnTo>
                  <a:lnTo>
                    <a:pt x="6" y="130"/>
                  </a:lnTo>
                  <a:lnTo>
                    <a:pt x="0" y="122"/>
                  </a:lnTo>
                  <a:lnTo>
                    <a:pt x="2" y="118"/>
                  </a:lnTo>
                  <a:lnTo>
                    <a:pt x="6" y="114"/>
                  </a:lnTo>
                  <a:lnTo>
                    <a:pt x="10" y="109"/>
                  </a:lnTo>
                  <a:lnTo>
                    <a:pt x="14" y="99"/>
                  </a:lnTo>
                  <a:lnTo>
                    <a:pt x="14" y="85"/>
                  </a:lnTo>
                  <a:lnTo>
                    <a:pt x="6" y="58"/>
                  </a:lnTo>
                  <a:lnTo>
                    <a:pt x="8" y="41"/>
                  </a:lnTo>
                  <a:lnTo>
                    <a:pt x="14" y="22"/>
                  </a:lnTo>
                  <a:lnTo>
                    <a:pt x="25" y="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67600" y="6024600"/>
              <a:ext cx="813240" cy="659160"/>
            </a:xfrm>
            <a:custGeom>
              <a:avLst/>
              <a:gdLst/>
              <a:ahLst/>
              <a:rect l="0" t="0" r="r" b="b"/>
              <a:pathLst>
                <a:path w="2259" h="1831">
                  <a:moveTo>
                    <a:pt x="0" y="47"/>
                  </a:moveTo>
                  <a:lnTo>
                    <a:pt x="2" y="29"/>
                  </a:lnTo>
                  <a:lnTo>
                    <a:pt x="8" y="14"/>
                  </a:lnTo>
                  <a:lnTo>
                    <a:pt x="20" y="4"/>
                  </a:lnTo>
                  <a:lnTo>
                    <a:pt x="39" y="0"/>
                  </a:lnTo>
                  <a:lnTo>
                    <a:pt x="70" y="6"/>
                  </a:lnTo>
                  <a:lnTo>
                    <a:pt x="110" y="20"/>
                  </a:lnTo>
                  <a:lnTo>
                    <a:pt x="162" y="49"/>
                  </a:lnTo>
                  <a:lnTo>
                    <a:pt x="227" y="91"/>
                  </a:lnTo>
                  <a:lnTo>
                    <a:pt x="266" y="116"/>
                  </a:lnTo>
                  <a:lnTo>
                    <a:pt x="306" y="135"/>
                  </a:lnTo>
                  <a:lnTo>
                    <a:pt x="325" y="149"/>
                  </a:lnTo>
                  <a:lnTo>
                    <a:pt x="341" y="162"/>
                  </a:lnTo>
                  <a:lnTo>
                    <a:pt x="358" y="180"/>
                  </a:lnTo>
                  <a:lnTo>
                    <a:pt x="368" y="199"/>
                  </a:lnTo>
                  <a:lnTo>
                    <a:pt x="373" y="222"/>
                  </a:lnTo>
                  <a:lnTo>
                    <a:pt x="381" y="255"/>
                  </a:lnTo>
                  <a:lnTo>
                    <a:pt x="396" y="280"/>
                  </a:lnTo>
                  <a:lnTo>
                    <a:pt x="416" y="313"/>
                  </a:lnTo>
                  <a:lnTo>
                    <a:pt x="452" y="353"/>
                  </a:lnTo>
                  <a:lnTo>
                    <a:pt x="500" y="400"/>
                  </a:lnTo>
                  <a:lnTo>
                    <a:pt x="576" y="467"/>
                  </a:lnTo>
                  <a:lnTo>
                    <a:pt x="620" y="504"/>
                  </a:lnTo>
                  <a:lnTo>
                    <a:pt x="641" y="521"/>
                  </a:lnTo>
                  <a:lnTo>
                    <a:pt x="651" y="525"/>
                  </a:lnTo>
                  <a:lnTo>
                    <a:pt x="661" y="544"/>
                  </a:lnTo>
                  <a:lnTo>
                    <a:pt x="716" y="631"/>
                  </a:lnTo>
                  <a:lnTo>
                    <a:pt x="734" y="658"/>
                  </a:lnTo>
                  <a:lnTo>
                    <a:pt x="749" y="668"/>
                  </a:lnTo>
                  <a:lnTo>
                    <a:pt x="759" y="670"/>
                  </a:lnTo>
                  <a:lnTo>
                    <a:pt x="768" y="666"/>
                  </a:lnTo>
                  <a:lnTo>
                    <a:pt x="778" y="664"/>
                  </a:lnTo>
                  <a:lnTo>
                    <a:pt x="793" y="662"/>
                  </a:lnTo>
                  <a:lnTo>
                    <a:pt x="814" y="670"/>
                  </a:lnTo>
                  <a:lnTo>
                    <a:pt x="843" y="691"/>
                  </a:lnTo>
                  <a:lnTo>
                    <a:pt x="884" y="731"/>
                  </a:lnTo>
                  <a:lnTo>
                    <a:pt x="909" y="758"/>
                  </a:lnTo>
                  <a:lnTo>
                    <a:pt x="920" y="776"/>
                  </a:lnTo>
                  <a:lnTo>
                    <a:pt x="924" y="789"/>
                  </a:lnTo>
                  <a:lnTo>
                    <a:pt x="924" y="799"/>
                  </a:lnTo>
                  <a:lnTo>
                    <a:pt x="928" y="810"/>
                  </a:lnTo>
                  <a:lnTo>
                    <a:pt x="943" y="822"/>
                  </a:lnTo>
                  <a:lnTo>
                    <a:pt x="970" y="845"/>
                  </a:lnTo>
                  <a:lnTo>
                    <a:pt x="1014" y="866"/>
                  </a:lnTo>
                  <a:lnTo>
                    <a:pt x="1028" y="876"/>
                  </a:lnTo>
                  <a:lnTo>
                    <a:pt x="1049" y="891"/>
                  </a:lnTo>
                  <a:lnTo>
                    <a:pt x="1101" y="937"/>
                  </a:lnTo>
                  <a:lnTo>
                    <a:pt x="1174" y="998"/>
                  </a:lnTo>
                  <a:lnTo>
                    <a:pt x="1220" y="1031"/>
                  </a:lnTo>
                  <a:lnTo>
                    <a:pt x="1268" y="1064"/>
                  </a:lnTo>
                  <a:lnTo>
                    <a:pt x="1320" y="1085"/>
                  </a:lnTo>
                  <a:lnTo>
                    <a:pt x="1341" y="1120"/>
                  </a:lnTo>
                  <a:lnTo>
                    <a:pt x="1351" y="1133"/>
                  </a:lnTo>
                  <a:lnTo>
                    <a:pt x="1364" y="1141"/>
                  </a:lnTo>
                  <a:lnTo>
                    <a:pt x="1418" y="1178"/>
                  </a:lnTo>
                  <a:lnTo>
                    <a:pt x="1527" y="1263"/>
                  </a:lnTo>
                  <a:lnTo>
                    <a:pt x="1558" y="1272"/>
                  </a:lnTo>
                  <a:lnTo>
                    <a:pt x="1577" y="1307"/>
                  </a:lnTo>
                  <a:lnTo>
                    <a:pt x="1602" y="1326"/>
                  </a:lnTo>
                  <a:lnTo>
                    <a:pt x="1654" y="1353"/>
                  </a:lnTo>
                  <a:lnTo>
                    <a:pt x="1753" y="1417"/>
                  </a:lnTo>
                  <a:lnTo>
                    <a:pt x="2259" y="1818"/>
                  </a:lnTo>
                  <a:lnTo>
                    <a:pt x="2251" y="1828"/>
                  </a:lnTo>
                  <a:lnTo>
                    <a:pt x="2238" y="1831"/>
                  </a:lnTo>
                  <a:lnTo>
                    <a:pt x="2220" y="1822"/>
                  </a:lnTo>
                  <a:lnTo>
                    <a:pt x="2186" y="1799"/>
                  </a:lnTo>
                  <a:lnTo>
                    <a:pt x="2063" y="1706"/>
                  </a:lnTo>
                  <a:lnTo>
                    <a:pt x="1826" y="1533"/>
                  </a:lnTo>
                  <a:lnTo>
                    <a:pt x="1256" y="1126"/>
                  </a:lnTo>
                  <a:lnTo>
                    <a:pt x="1093" y="1006"/>
                  </a:lnTo>
                  <a:lnTo>
                    <a:pt x="1085" y="998"/>
                  </a:lnTo>
                  <a:lnTo>
                    <a:pt x="1082" y="995"/>
                  </a:lnTo>
                  <a:lnTo>
                    <a:pt x="974" y="913"/>
                  </a:lnTo>
                  <a:lnTo>
                    <a:pt x="855" y="818"/>
                  </a:lnTo>
                  <a:lnTo>
                    <a:pt x="845" y="793"/>
                  </a:lnTo>
                  <a:lnTo>
                    <a:pt x="832" y="778"/>
                  </a:lnTo>
                  <a:lnTo>
                    <a:pt x="818" y="768"/>
                  </a:lnTo>
                  <a:lnTo>
                    <a:pt x="799" y="762"/>
                  </a:lnTo>
                  <a:lnTo>
                    <a:pt x="749" y="741"/>
                  </a:lnTo>
                  <a:lnTo>
                    <a:pt x="713" y="720"/>
                  </a:lnTo>
                  <a:lnTo>
                    <a:pt x="672" y="683"/>
                  </a:lnTo>
                  <a:lnTo>
                    <a:pt x="521" y="544"/>
                  </a:lnTo>
                  <a:lnTo>
                    <a:pt x="485" y="504"/>
                  </a:lnTo>
                  <a:lnTo>
                    <a:pt x="464" y="479"/>
                  </a:lnTo>
                  <a:lnTo>
                    <a:pt x="452" y="459"/>
                  </a:lnTo>
                  <a:lnTo>
                    <a:pt x="448" y="450"/>
                  </a:lnTo>
                  <a:lnTo>
                    <a:pt x="437" y="440"/>
                  </a:lnTo>
                  <a:lnTo>
                    <a:pt x="366" y="378"/>
                  </a:lnTo>
                  <a:lnTo>
                    <a:pt x="316" y="338"/>
                  </a:lnTo>
                  <a:lnTo>
                    <a:pt x="298" y="324"/>
                  </a:lnTo>
                  <a:lnTo>
                    <a:pt x="281" y="307"/>
                  </a:lnTo>
                  <a:lnTo>
                    <a:pt x="268" y="286"/>
                  </a:lnTo>
                  <a:lnTo>
                    <a:pt x="254" y="261"/>
                  </a:lnTo>
                  <a:lnTo>
                    <a:pt x="248" y="240"/>
                  </a:lnTo>
                  <a:lnTo>
                    <a:pt x="245" y="228"/>
                  </a:lnTo>
                  <a:lnTo>
                    <a:pt x="245" y="218"/>
                  </a:lnTo>
                  <a:lnTo>
                    <a:pt x="223" y="205"/>
                  </a:lnTo>
                  <a:lnTo>
                    <a:pt x="143" y="170"/>
                  </a:lnTo>
                  <a:lnTo>
                    <a:pt x="118" y="153"/>
                  </a:lnTo>
                  <a:lnTo>
                    <a:pt x="110" y="139"/>
                  </a:lnTo>
                  <a:lnTo>
                    <a:pt x="102" y="118"/>
                  </a:lnTo>
                  <a:lnTo>
                    <a:pt x="91" y="103"/>
                  </a:lnTo>
                  <a:lnTo>
                    <a:pt x="75" y="83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932600" y="6226200"/>
              <a:ext cx="41760" cy="79560"/>
            </a:xfrm>
            <a:custGeom>
              <a:avLst/>
              <a:gdLst/>
              <a:ahLst/>
              <a:rect l="0" t="0" r="r" b="b"/>
              <a:pathLst>
                <a:path w="116" h="221">
                  <a:moveTo>
                    <a:pt x="116" y="17"/>
                  </a:moveTo>
                  <a:lnTo>
                    <a:pt x="111" y="53"/>
                  </a:lnTo>
                  <a:lnTo>
                    <a:pt x="101" y="92"/>
                  </a:lnTo>
                  <a:lnTo>
                    <a:pt x="78" y="144"/>
                  </a:lnTo>
                  <a:lnTo>
                    <a:pt x="62" y="180"/>
                  </a:lnTo>
                  <a:lnTo>
                    <a:pt x="37" y="221"/>
                  </a:lnTo>
                  <a:lnTo>
                    <a:pt x="14" y="201"/>
                  </a:lnTo>
                  <a:lnTo>
                    <a:pt x="3" y="186"/>
                  </a:lnTo>
                  <a:lnTo>
                    <a:pt x="0" y="174"/>
                  </a:lnTo>
                  <a:lnTo>
                    <a:pt x="3" y="166"/>
                  </a:lnTo>
                  <a:lnTo>
                    <a:pt x="20" y="156"/>
                  </a:lnTo>
                  <a:lnTo>
                    <a:pt x="30" y="152"/>
                  </a:lnTo>
                  <a:lnTo>
                    <a:pt x="34" y="146"/>
                  </a:lnTo>
                  <a:lnTo>
                    <a:pt x="43" y="126"/>
                  </a:lnTo>
                  <a:lnTo>
                    <a:pt x="47" y="104"/>
                  </a:lnTo>
                  <a:lnTo>
                    <a:pt x="49" y="66"/>
                  </a:lnTo>
                  <a:lnTo>
                    <a:pt x="56" y="33"/>
                  </a:lnTo>
                  <a:lnTo>
                    <a:pt x="67" y="15"/>
                  </a:lnTo>
                  <a:lnTo>
                    <a:pt x="84" y="0"/>
                  </a:lnTo>
                  <a:lnTo>
                    <a:pt x="92" y="0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772480" y="6391440"/>
              <a:ext cx="87840" cy="66960"/>
            </a:xfrm>
            <a:custGeom>
              <a:avLst/>
              <a:gdLst/>
              <a:ahLst/>
              <a:rect l="0" t="0" r="r" b="b"/>
              <a:pathLst>
                <a:path w="244" h="186">
                  <a:moveTo>
                    <a:pt x="12" y="0"/>
                  </a:moveTo>
                  <a:lnTo>
                    <a:pt x="32" y="1"/>
                  </a:lnTo>
                  <a:lnTo>
                    <a:pt x="38" y="5"/>
                  </a:lnTo>
                  <a:lnTo>
                    <a:pt x="42" y="9"/>
                  </a:lnTo>
                  <a:lnTo>
                    <a:pt x="52" y="25"/>
                  </a:lnTo>
                  <a:lnTo>
                    <a:pt x="63" y="35"/>
                  </a:lnTo>
                  <a:lnTo>
                    <a:pt x="79" y="47"/>
                  </a:lnTo>
                  <a:lnTo>
                    <a:pt x="97" y="57"/>
                  </a:lnTo>
                  <a:lnTo>
                    <a:pt x="109" y="61"/>
                  </a:lnTo>
                  <a:lnTo>
                    <a:pt x="125" y="63"/>
                  </a:lnTo>
                  <a:lnTo>
                    <a:pt x="137" y="69"/>
                  </a:lnTo>
                  <a:lnTo>
                    <a:pt x="159" y="85"/>
                  </a:lnTo>
                  <a:lnTo>
                    <a:pt x="240" y="164"/>
                  </a:lnTo>
                  <a:lnTo>
                    <a:pt x="244" y="172"/>
                  </a:lnTo>
                  <a:lnTo>
                    <a:pt x="244" y="178"/>
                  </a:lnTo>
                  <a:lnTo>
                    <a:pt x="238" y="184"/>
                  </a:lnTo>
                  <a:lnTo>
                    <a:pt x="228" y="186"/>
                  </a:lnTo>
                  <a:lnTo>
                    <a:pt x="210" y="182"/>
                  </a:lnTo>
                  <a:lnTo>
                    <a:pt x="186" y="170"/>
                  </a:lnTo>
                  <a:lnTo>
                    <a:pt x="151" y="148"/>
                  </a:lnTo>
                  <a:lnTo>
                    <a:pt x="109" y="114"/>
                  </a:lnTo>
                  <a:lnTo>
                    <a:pt x="63" y="79"/>
                  </a:lnTo>
                  <a:lnTo>
                    <a:pt x="24" y="55"/>
                  </a:lnTo>
                  <a:lnTo>
                    <a:pt x="10" y="43"/>
                  </a:lnTo>
                  <a:lnTo>
                    <a:pt x="2" y="31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872560" y="6461280"/>
              <a:ext cx="125640" cy="73440"/>
            </a:xfrm>
            <a:custGeom>
              <a:avLst/>
              <a:gdLst/>
              <a:ahLst/>
              <a:rect l="0" t="0" r="r" b="b"/>
              <a:pathLst>
                <a:path w="349" h="204">
                  <a:moveTo>
                    <a:pt x="10" y="0"/>
                  </a:moveTo>
                  <a:lnTo>
                    <a:pt x="24" y="3"/>
                  </a:lnTo>
                  <a:lnTo>
                    <a:pt x="64" y="27"/>
                  </a:lnTo>
                  <a:lnTo>
                    <a:pt x="161" y="86"/>
                  </a:lnTo>
                  <a:lnTo>
                    <a:pt x="337" y="189"/>
                  </a:lnTo>
                  <a:lnTo>
                    <a:pt x="349" y="197"/>
                  </a:lnTo>
                  <a:lnTo>
                    <a:pt x="349" y="200"/>
                  </a:lnTo>
                  <a:lnTo>
                    <a:pt x="343" y="202"/>
                  </a:lnTo>
                  <a:lnTo>
                    <a:pt x="331" y="204"/>
                  </a:lnTo>
                  <a:lnTo>
                    <a:pt x="307" y="198"/>
                  </a:lnTo>
                  <a:lnTo>
                    <a:pt x="266" y="185"/>
                  </a:lnTo>
                  <a:lnTo>
                    <a:pt x="208" y="158"/>
                  </a:lnTo>
                  <a:lnTo>
                    <a:pt x="126" y="118"/>
                  </a:lnTo>
                  <a:lnTo>
                    <a:pt x="18" y="57"/>
                  </a:lnTo>
                  <a:lnTo>
                    <a:pt x="10" y="46"/>
                  </a:lnTo>
                  <a:lnTo>
                    <a:pt x="2" y="29"/>
                  </a:lnTo>
                  <a:lnTo>
                    <a:pt x="0" y="9"/>
                  </a:lnTo>
                  <a:lnTo>
                    <a:pt x="2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832960" y="6504120"/>
              <a:ext cx="81360" cy="51120"/>
            </a:xfrm>
            <a:custGeom>
              <a:avLst/>
              <a:gdLst/>
              <a:ahLst/>
              <a:rect l="0" t="0" r="r" b="b"/>
              <a:pathLst>
                <a:path w="226" h="142">
                  <a:moveTo>
                    <a:pt x="7" y="0"/>
                  </a:moveTo>
                  <a:lnTo>
                    <a:pt x="19" y="0"/>
                  </a:lnTo>
                  <a:lnTo>
                    <a:pt x="41" y="9"/>
                  </a:lnTo>
                  <a:lnTo>
                    <a:pt x="105" y="43"/>
                  </a:lnTo>
                  <a:lnTo>
                    <a:pt x="175" y="88"/>
                  </a:lnTo>
                  <a:lnTo>
                    <a:pt x="205" y="109"/>
                  </a:lnTo>
                  <a:lnTo>
                    <a:pt x="226" y="126"/>
                  </a:lnTo>
                  <a:lnTo>
                    <a:pt x="226" y="140"/>
                  </a:lnTo>
                  <a:lnTo>
                    <a:pt x="219" y="142"/>
                  </a:lnTo>
                  <a:lnTo>
                    <a:pt x="201" y="140"/>
                  </a:lnTo>
                  <a:lnTo>
                    <a:pt x="133" y="111"/>
                  </a:lnTo>
                  <a:lnTo>
                    <a:pt x="73" y="79"/>
                  </a:lnTo>
                  <a:lnTo>
                    <a:pt x="39" y="57"/>
                  </a:lnTo>
                  <a:lnTo>
                    <a:pt x="3" y="30"/>
                  </a:lnTo>
                  <a:lnTo>
                    <a:pt x="0" y="11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858160" y="6591240"/>
              <a:ext cx="28800" cy="19440"/>
            </a:xfrm>
            <a:custGeom>
              <a:avLst/>
              <a:gdLst/>
              <a:ahLst/>
              <a:rect l="0" t="0" r="r" b="b"/>
              <a:pathLst>
                <a:path w="80" h="54">
                  <a:moveTo>
                    <a:pt x="0" y="18"/>
                  </a:moveTo>
                  <a:lnTo>
                    <a:pt x="7" y="6"/>
                  </a:lnTo>
                  <a:lnTo>
                    <a:pt x="12" y="3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41" y="6"/>
                  </a:lnTo>
                  <a:lnTo>
                    <a:pt x="58" y="19"/>
                  </a:lnTo>
                  <a:lnTo>
                    <a:pt x="78" y="41"/>
                  </a:lnTo>
                  <a:lnTo>
                    <a:pt x="80" y="49"/>
                  </a:lnTo>
                  <a:lnTo>
                    <a:pt x="78" y="54"/>
                  </a:lnTo>
                  <a:lnTo>
                    <a:pt x="63" y="54"/>
                  </a:lnTo>
                  <a:lnTo>
                    <a:pt x="35" y="4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526600" y="5640480"/>
              <a:ext cx="27360" cy="33840"/>
            </a:xfrm>
            <a:custGeom>
              <a:avLst/>
              <a:gdLst/>
              <a:ahLst/>
              <a:rect l="0" t="0" r="r" b="b"/>
              <a:pathLst>
                <a:path w="76" h="94">
                  <a:moveTo>
                    <a:pt x="25" y="94"/>
                  </a:moveTo>
                  <a:lnTo>
                    <a:pt x="25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6" y="0"/>
                  </a:lnTo>
                  <a:lnTo>
                    <a:pt x="76" y="22"/>
                  </a:lnTo>
                  <a:lnTo>
                    <a:pt x="49" y="22"/>
                  </a:lnTo>
                  <a:lnTo>
                    <a:pt x="49" y="94"/>
                  </a:lnTo>
                  <a:lnTo>
                    <a:pt x="25" y="94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564400" y="5640480"/>
              <a:ext cx="44640" cy="36720"/>
            </a:xfrm>
            <a:custGeom>
              <a:avLst/>
              <a:gdLst/>
              <a:ahLst/>
              <a:rect l="0" t="0" r="r" b="b"/>
              <a:pathLst>
                <a:path w="124" h="102">
                  <a:moveTo>
                    <a:pt x="6" y="0"/>
                  </a:moveTo>
                  <a:lnTo>
                    <a:pt x="14" y="0"/>
                  </a:lnTo>
                  <a:lnTo>
                    <a:pt x="18" y="2"/>
                  </a:lnTo>
                  <a:lnTo>
                    <a:pt x="61" y="67"/>
                  </a:lnTo>
                  <a:lnTo>
                    <a:pt x="105" y="4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2" y="10"/>
                  </a:lnTo>
                  <a:lnTo>
                    <a:pt x="124" y="14"/>
                  </a:lnTo>
                  <a:lnTo>
                    <a:pt x="124" y="102"/>
                  </a:lnTo>
                  <a:lnTo>
                    <a:pt x="103" y="102"/>
                  </a:lnTo>
                  <a:lnTo>
                    <a:pt x="103" y="34"/>
                  </a:lnTo>
                  <a:lnTo>
                    <a:pt x="61" y="100"/>
                  </a:lnTo>
                  <a:lnTo>
                    <a:pt x="20" y="34"/>
                  </a:lnTo>
                  <a:lnTo>
                    <a:pt x="20" y="100"/>
                  </a:lnTo>
                  <a:lnTo>
                    <a:pt x="0" y="10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564400" y="5640480"/>
              <a:ext cx="44640" cy="36720"/>
            </a:xfrm>
            <a:custGeom>
              <a:avLst/>
              <a:gdLst/>
              <a:ahLst/>
              <a:rect l="0" t="0" r="r" b="b"/>
              <a:pathLst>
                <a:path w="124" h="102">
                  <a:moveTo>
                    <a:pt x="6" y="0"/>
                  </a:moveTo>
                  <a:lnTo>
                    <a:pt x="14" y="0"/>
                  </a:lnTo>
                  <a:lnTo>
                    <a:pt x="18" y="2"/>
                  </a:lnTo>
                  <a:lnTo>
                    <a:pt x="61" y="67"/>
                  </a:lnTo>
                  <a:lnTo>
                    <a:pt x="105" y="4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2" y="10"/>
                  </a:lnTo>
                  <a:lnTo>
                    <a:pt x="124" y="14"/>
                  </a:lnTo>
                  <a:lnTo>
                    <a:pt x="124" y="102"/>
                  </a:lnTo>
                  <a:lnTo>
                    <a:pt x="103" y="102"/>
                  </a:lnTo>
                  <a:lnTo>
                    <a:pt x="103" y="34"/>
                  </a:lnTo>
                  <a:lnTo>
                    <a:pt x="61" y="100"/>
                  </a:lnTo>
                  <a:lnTo>
                    <a:pt x="20" y="34"/>
                  </a:lnTo>
                  <a:lnTo>
                    <a:pt x="20" y="100"/>
                  </a:lnTo>
                  <a:lnTo>
                    <a:pt x="0" y="10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1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762120" y="30492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Jagua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28880" indent="-17136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buClr>
                <a:srgbClr val="fafd00"/>
              </a:buClr>
              <a:buFont typeface="Times New Roman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guar 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ma Design’s Jaguar-CD/MPEG MPC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guar Mo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-Head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in-Op Arcade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Development...Jaguar 2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5589720" y="5483160"/>
            <a:ext cx="3408480" cy="1200600"/>
            <a:chOff x="5589720" y="5483160"/>
            <a:chExt cx="3408480" cy="1200600"/>
          </a:xfrm>
        </p:grpSpPr>
        <p:sp>
          <p:nvSpPr>
            <p:cNvPr id="613" name=""/>
            <p:cNvSpPr/>
            <p:nvPr/>
          </p:nvSpPr>
          <p:spPr>
            <a:xfrm>
              <a:off x="5589720" y="5483160"/>
              <a:ext cx="973440" cy="868680"/>
            </a:xfrm>
            <a:custGeom>
              <a:avLst/>
              <a:gdLst/>
              <a:ahLst/>
              <a:rect l="0" t="0" r="r" b="b"/>
              <a:pathLst>
                <a:path w="2704" h="2413">
                  <a:moveTo>
                    <a:pt x="2704" y="45"/>
                  </a:moveTo>
                  <a:lnTo>
                    <a:pt x="2691" y="52"/>
                  </a:lnTo>
                  <a:lnTo>
                    <a:pt x="2674" y="56"/>
                  </a:lnTo>
                  <a:lnTo>
                    <a:pt x="2631" y="66"/>
                  </a:lnTo>
                  <a:lnTo>
                    <a:pt x="2518" y="83"/>
                  </a:lnTo>
                  <a:lnTo>
                    <a:pt x="2399" y="101"/>
                  </a:lnTo>
                  <a:lnTo>
                    <a:pt x="2308" y="118"/>
                  </a:lnTo>
                  <a:lnTo>
                    <a:pt x="2314" y="137"/>
                  </a:lnTo>
                  <a:lnTo>
                    <a:pt x="2314" y="141"/>
                  </a:lnTo>
                  <a:lnTo>
                    <a:pt x="2318" y="143"/>
                  </a:lnTo>
                  <a:lnTo>
                    <a:pt x="2341" y="147"/>
                  </a:lnTo>
                  <a:lnTo>
                    <a:pt x="2395" y="154"/>
                  </a:lnTo>
                  <a:lnTo>
                    <a:pt x="2393" y="178"/>
                  </a:lnTo>
                  <a:lnTo>
                    <a:pt x="2343" y="216"/>
                  </a:lnTo>
                  <a:lnTo>
                    <a:pt x="2331" y="226"/>
                  </a:lnTo>
                  <a:lnTo>
                    <a:pt x="2326" y="233"/>
                  </a:lnTo>
                  <a:lnTo>
                    <a:pt x="2329" y="241"/>
                  </a:lnTo>
                  <a:lnTo>
                    <a:pt x="2331" y="245"/>
                  </a:lnTo>
                  <a:lnTo>
                    <a:pt x="2326" y="249"/>
                  </a:lnTo>
                  <a:lnTo>
                    <a:pt x="2312" y="264"/>
                  </a:lnTo>
                  <a:lnTo>
                    <a:pt x="2291" y="272"/>
                  </a:lnTo>
                  <a:lnTo>
                    <a:pt x="2272" y="280"/>
                  </a:lnTo>
                  <a:lnTo>
                    <a:pt x="2251" y="283"/>
                  </a:lnTo>
                  <a:lnTo>
                    <a:pt x="2212" y="291"/>
                  </a:lnTo>
                  <a:lnTo>
                    <a:pt x="2183" y="301"/>
                  </a:lnTo>
                  <a:lnTo>
                    <a:pt x="2170" y="314"/>
                  </a:lnTo>
                  <a:lnTo>
                    <a:pt x="2168" y="320"/>
                  </a:lnTo>
                  <a:lnTo>
                    <a:pt x="2168" y="326"/>
                  </a:lnTo>
                  <a:lnTo>
                    <a:pt x="2164" y="332"/>
                  </a:lnTo>
                  <a:lnTo>
                    <a:pt x="2147" y="343"/>
                  </a:lnTo>
                  <a:lnTo>
                    <a:pt x="2112" y="355"/>
                  </a:lnTo>
                  <a:lnTo>
                    <a:pt x="1949" y="403"/>
                  </a:lnTo>
                  <a:lnTo>
                    <a:pt x="1941" y="407"/>
                  </a:lnTo>
                  <a:lnTo>
                    <a:pt x="1933" y="416"/>
                  </a:lnTo>
                  <a:lnTo>
                    <a:pt x="1918" y="437"/>
                  </a:lnTo>
                  <a:lnTo>
                    <a:pt x="1901" y="459"/>
                  </a:lnTo>
                  <a:lnTo>
                    <a:pt x="1893" y="472"/>
                  </a:lnTo>
                  <a:lnTo>
                    <a:pt x="1882" y="476"/>
                  </a:lnTo>
                  <a:lnTo>
                    <a:pt x="1868" y="480"/>
                  </a:lnTo>
                  <a:lnTo>
                    <a:pt x="1845" y="482"/>
                  </a:lnTo>
                  <a:lnTo>
                    <a:pt x="1803" y="493"/>
                  </a:lnTo>
                  <a:lnTo>
                    <a:pt x="1739" y="524"/>
                  </a:lnTo>
                  <a:lnTo>
                    <a:pt x="1714" y="653"/>
                  </a:lnTo>
                  <a:lnTo>
                    <a:pt x="1687" y="776"/>
                  </a:lnTo>
                  <a:lnTo>
                    <a:pt x="1657" y="896"/>
                  </a:lnTo>
                  <a:lnTo>
                    <a:pt x="1626" y="1013"/>
                  </a:lnTo>
                  <a:lnTo>
                    <a:pt x="1559" y="1233"/>
                  </a:lnTo>
                  <a:lnTo>
                    <a:pt x="1489" y="1428"/>
                  </a:lnTo>
                  <a:lnTo>
                    <a:pt x="1453" y="1520"/>
                  </a:lnTo>
                  <a:lnTo>
                    <a:pt x="1418" y="1605"/>
                  </a:lnTo>
                  <a:lnTo>
                    <a:pt x="1346" y="1757"/>
                  </a:lnTo>
                  <a:lnTo>
                    <a:pt x="1310" y="1822"/>
                  </a:lnTo>
                  <a:lnTo>
                    <a:pt x="1277" y="1880"/>
                  </a:lnTo>
                  <a:lnTo>
                    <a:pt x="1244" y="1932"/>
                  </a:lnTo>
                  <a:lnTo>
                    <a:pt x="1212" y="1976"/>
                  </a:lnTo>
                  <a:lnTo>
                    <a:pt x="1125" y="2084"/>
                  </a:lnTo>
                  <a:lnTo>
                    <a:pt x="1085" y="2132"/>
                  </a:lnTo>
                  <a:lnTo>
                    <a:pt x="1044" y="2173"/>
                  </a:lnTo>
                  <a:lnTo>
                    <a:pt x="1006" y="2213"/>
                  </a:lnTo>
                  <a:lnTo>
                    <a:pt x="969" y="2246"/>
                  </a:lnTo>
                  <a:lnTo>
                    <a:pt x="933" y="2277"/>
                  </a:lnTo>
                  <a:lnTo>
                    <a:pt x="896" y="2306"/>
                  </a:lnTo>
                  <a:lnTo>
                    <a:pt x="862" y="2331"/>
                  </a:lnTo>
                  <a:lnTo>
                    <a:pt x="829" y="2350"/>
                  </a:lnTo>
                  <a:lnTo>
                    <a:pt x="762" y="2381"/>
                  </a:lnTo>
                  <a:lnTo>
                    <a:pt x="698" y="2402"/>
                  </a:lnTo>
                  <a:lnTo>
                    <a:pt x="633" y="2411"/>
                  </a:lnTo>
                  <a:lnTo>
                    <a:pt x="585" y="2413"/>
                  </a:lnTo>
                  <a:lnTo>
                    <a:pt x="535" y="2406"/>
                  </a:lnTo>
                  <a:lnTo>
                    <a:pt x="487" y="2396"/>
                  </a:lnTo>
                  <a:lnTo>
                    <a:pt x="437" y="2383"/>
                  </a:lnTo>
                  <a:lnTo>
                    <a:pt x="391" y="2367"/>
                  </a:lnTo>
                  <a:lnTo>
                    <a:pt x="343" y="2346"/>
                  </a:lnTo>
                  <a:lnTo>
                    <a:pt x="256" y="2302"/>
                  </a:lnTo>
                  <a:lnTo>
                    <a:pt x="181" y="2259"/>
                  </a:lnTo>
                  <a:lnTo>
                    <a:pt x="120" y="2217"/>
                  </a:lnTo>
                  <a:lnTo>
                    <a:pt x="81" y="2186"/>
                  </a:lnTo>
                  <a:lnTo>
                    <a:pt x="64" y="2171"/>
                  </a:lnTo>
                  <a:lnTo>
                    <a:pt x="33" y="2127"/>
                  </a:lnTo>
                  <a:lnTo>
                    <a:pt x="12" y="2092"/>
                  </a:lnTo>
                  <a:lnTo>
                    <a:pt x="2" y="2065"/>
                  </a:lnTo>
                  <a:lnTo>
                    <a:pt x="0" y="2044"/>
                  </a:lnTo>
                  <a:lnTo>
                    <a:pt x="0" y="2032"/>
                  </a:lnTo>
                  <a:lnTo>
                    <a:pt x="4" y="2023"/>
                  </a:lnTo>
                  <a:lnTo>
                    <a:pt x="16" y="2015"/>
                  </a:lnTo>
                  <a:lnTo>
                    <a:pt x="31" y="2015"/>
                  </a:lnTo>
                  <a:lnTo>
                    <a:pt x="39" y="2019"/>
                  </a:lnTo>
                  <a:lnTo>
                    <a:pt x="47" y="2026"/>
                  </a:lnTo>
                  <a:lnTo>
                    <a:pt x="72" y="2053"/>
                  </a:lnTo>
                  <a:lnTo>
                    <a:pt x="120" y="2096"/>
                  </a:lnTo>
                  <a:lnTo>
                    <a:pt x="177" y="2140"/>
                  </a:lnTo>
                  <a:lnTo>
                    <a:pt x="233" y="2173"/>
                  </a:lnTo>
                  <a:lnTo>
                    <a:pt x="289" y="2198"/>
                  </a:lnTo>
                  <a:lnTo>
                    <a:pt x="341" y="2215"/>
                  </a:lnTo>
                  <a:lnTo>
                    <a:pt x="393" y="2225"/>
                  </a:lnTo>
                  <a:lnTo>
                    <a:pt x="446" y="2227"/>
                  </a:lnTo>
                  <a:lnTo>
                    <a:pt x="493" y="2221"/>
                  </a:lnTo>
                  <a:lnTo>
                    <a:pt x="541" y="2211"/>
                  </a:lnTo>
                  <a:lnTo>
                    <a:pt x="589" y="2194"/>
                  </a:lnTo>
                  <a:lnTo>
                    <a:pt x="633" y="2169"/>
                  </a:lnTo>
                  <a:lnTo>
                    <a:pt x="679" y="2140"/>
                  </a:lnTo>
                  <a:lnTo>
                    <a:pt x="723" y="2105"/>
                  </a:lnTo>
                  <a:lnTo>
                    <a:pt x="766" y="2065"/>
                  </a:lnTo>
                  <a:lnTo>
                    <a:pt x="806" y="2019"/>
                  </a:lnTo>
                  <a:lnTo>
                    <a:pt x="848" y="1971"/>
                  </a:lnTo>
                  <a:lnTo>
                    <a:pt x="887" y="1919"/>
                  </a:lnTo>
                  <a:lnTo>
                    <a:pt x="944" y="1834"/>
                  </a:lnTo>
                  <a:lnTo>
                    <a:pt x="998" y="1740"/>
                  </a:lnTo>
                  <a:lnTo>
                    <a:pt x="1052" y="1636"/>
                  </a:lnTo>
                  <a:lnTo>
                    <a:pt x="1102" y="1524"/>
                  </a:lnTo>
                  <a:lnTo>
                    <a:pt x="1150" y="1403"/>
                  </a:lnTo>
                  <a:lnTo>
                    <a:pt x="1198" y="1268"/>
                  </a:lnTo>
                  <a:lnTo>
                    <a:pt x="1244" y="1123"/>
                  </a:lnTo>
                  <a:lnTo>
                    <a:pt x="1285" y="965"/>
                  </a:lnTo>
                  <a:lnTo>
                    <a:pt x="1374" y="595"/>
                  </a:lnTo>
                  <a:lnTo>
                    <a:pt x="1372" y="568"/>
                  </a:lnTo>
                  <a:lnTo>
                    <a:pt x="796" y="634"/>
                  </a:lnTo>
                  <a:lnTo>
                    <a:pt x="719" y="641"/>
                  </a:lnTo>
                  <a:lnTo>
                    <a:pt x="704" y="638"/>
                  </a:lnTo>
                  <a:lnTo>
                    <a:pt x="677" y="580"/>
                  </a:lnTo>
                  <a:lnTo>
                    <a:pt x="621" y="584"/>
                  </a:lnTo>
                  <a:lnTo>
                    <a:pt x="612" y="580"/>
                  </a:lnTo>
                  <a:lnTo>
                    <a:pt x="606" y="568"/>
                  </a:lnTo>
                  <a:lnTo>
                    <a:pt x="608" y="555"/>
                  </a:lnTo>
                  <a:lnTo>
                    <a:pt x="610" y="549"/>
                  </a:lnTo>
                  <a:lnTo>
                    <a:pt x="623" y="547"/>
                  </a:lnTo>
                  <a:lnTo>
                    <a:pt x="641" y="541"/>
                  </a:lnTo>
                  <a:lnTo>
                    <a:pt x="654" y="534"/>
                  </a:lnTo>
                  <a:lnTo>
                    <a:pt x="664" y="520"/>
                  </a:lnTo>
                  <a:lnTo>
                    <a:pt x="666" y="509"/>
                  </a:lnTo>
                  <a:lnTo>
                    <a:pt x="660" y="499"/>
                  </a:lnTo>
                  <a:lnTo>
                    <a:pt x="633" y="482"/>
                  </a:lnTo>
                  <a:lnTo>
                    <a:pt x="602" y="464"/>
                  </a:lnTo>
                  <a:lnTo>
                    <a:pt x="591" y="455"/>
                  </a:lnTo>
                  <a:lnTo>
                    <a:pt x="585" y="445"/>
                  </a:lnTo>
                  <a:lnTo>
                    <a:pt x="583" y="422"/>
                  </a:lnTo>
                  <a:lnTo>
                    <a:pt x="587" y="405"/>
                  </a:lnTo>
                  <a:lnTo>
                    <a:pt x="596" y="397"/>
                  </a:lnTo>
                  <a:lnTo>
                    <a:pt x="608" y="393"/>
                  </a:lnTo>
                  <a:lnTo>
                    <a:pt x="641" y="391"/>
                  </a:lnTo>
                  <a:lnTo>
                    <a:pt x="664" y="391"/>
                  </a:lnTo>
                  <a:lnTo>
                    <a:pt x="685" y="385"/>
                  </a:lnTo>
                  <a:lnTo>
                    <a:pt x="685" y="368"/>
                  </a:lnTo>
                  <a:lnTo>
                    <a:pt x="654" y="366"/>
                  </a:lnTo>
                  <a:lnTo>
                    <a:pt x="633" y="360"/>
                  </a:lnTo>
                  <a:lnTo>
                    <a:pt x="629" y="353"/>
                  </a:lnTo>
                  <a:lnTo>
                    <a:pt x="627" y="343"/>
                  </a:lnTo>
                  <a:lnTo>
                    <a:pt x="633" y="301"/>
                  </a:lnTo>
                  <a:lnTo>
                    <a:pt x="635" y="297"/>
                  </a:lnTo>
                  <a:lnTo>
                    <a:pt x="641" y="293"/>
                  </a:lnTo>
                  <a:lnTo>
                    <a:pt x="664" y="289"/>
                  </a:lnTo>
                  <a:lnTo>
                    <a:pt x="781" y="289"/>
                  </a:lnTo>
                  <a:lnTo>
                    <a:pt x="889" y="283"/>
                  </a:lnTo>
                  <a:lnTo>
                    <a:pt x="1039" y="270"/>
                  </a:lnTo>
                  <a:lnTo>
                    <a:pt x="1237" y="245"/>
                  </a:lnTo>
                  <a:lnTo>
                    <a:pt x="1493" y="206"/>
                  </a:lnTo>
                  <a:lnTo>
                    <a:pt x="2295" y="49"/>
                  </a:lnTo>
                  <a:lnTo>
                    <a:pt x="2539" y="8"/>
                  </a:lnTo>
                  <a:lnTo>
                    <a:pt x="2612" y="0"/>
                  </a:lnTo>
                  <a:lnTo>
                    <a:pt x="2658" y="0"/>
                  </a:lnTo>
                  <a:lnTo>
                    <a:pt x="2687" y="6"/>
                  </a:lnTo>
                  <a:lnTo>
                    <a:pt x="2699" y="16"/>
                  </a:lnTo>
                  <a:lnTo>
                    <a:pt x="2704" y="31"/>
                  </a:lnTo>
                  <a:lnTo>
                    <a:pt x="2704" y="4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99120" y="5564160"/>
              <a:ext cx="849600" cy="790920"/>
            </a:xfrm>
            <a:custGeom>
              <a:avLst/>
              <a:gdLst/>
              <a:ahLst/>
              <a:rect l="0" t="0" r="r" b="b"/>
              <a:pathLst>
                <a:path w="2360" h="2197">
                  <a:moveTo>
                    <a:pt x="706" y="145"/>
                  </a:moveTo>
                  <a:lnTo>
                    <a:pt x="739" y="162"/>
                  </a:lnTo>
                  <a:lnTo>
                    <a:pt x="762" y="176"/>
                  </a:lnTo>
                  <a:lnTo>
                    <a:pt x="769" y="185"/>
                  </a:lnTo>
                  <a:lnTo>
                    <a:pt x="773" y="195"/>
                  </a:lnTo>
                  <a:lnTo>
                    <a:pt x="773" y="220"/>
                  </a:lnTo>
                  <a:lnTo>
                    <a:pt x="758" y="255"/>
                  </a:lnTo>
                  <a:lnTo>
                    <a:pt x="729" y="305"/>
                  </a:lnTo>
                  <a:lnTo>
                    <a:pt x="635" y="459"/>
                  </a:lnTo>
                  <a:lnTo>
                    <a:pt x="614" y="480"/>
                  </a:lnTo>
                  <a:lnTo>
                    <a:pt x="591" y="580"/>
                  </a:lnTo>
                  <a:lnTo>
                    <a:pt x="581" y="607"/>
                  </a:lnTo>
                  <a:lnTo>
                    <a:pt x="568" y="625"/>
                  </a:lnTo>
                  <a:lnTo>
                    <a:pt x="535" y="673"/>
                  </a:lnTo>
                  <a:lnTo>
                    <a:pt x="506" y="717"/>
                  </a:lnTo>
                  <a:lnTo>
                    <a:pt x="468" y="781"/>
                  </a:lnTo>
                  <a:lnTo>
                    <a:pt x="420" y="917"/>
                  </a:lnTo>
                  <a:lnTo>
                    <a:pt x="406" y="935"/>
                  </a:lnTo>
                  <a:lnTo>
                    <a:pt x="373" y="983"/>
                  </a:lnTo>
                  <a:lnTo>
                    <a:pt x="350" y="1021"/>
                  </a:lnTo>
                  <a:lnTo>
                    <a:pt x="323" y="1068"/>
                  </a:lnTo>
                  <a:lnTo>
                    <a:pt x="266" y="1203"/>
                  </a:lnTo>
                  <a:lnTo>
                    <a:pt x="233" y="1302"/>
                  </a:lnTo>
                  <a:lnTo>
                    <a:pt x="208" y="1381"/>
                  </a:lnTo>
                  <a:lnTo>
                    <a:pt x="195" y="1442"/>
                  </a:lnTo>
                  <a:lnTo>
                    <a:pt x="191" y="1483"/>
                  </a:lnTo>
                  <a:lnTo>
                    <a:pt x="200" y="1510"/>
                  </a:lnTo>
                  <a:lnTo>
                    <a:pt x="206" y="1519"/>
                  </a:lnTo>
                  <a:lnTo>
                    <a:pt x="214" y="1521"/>
                  </a:lnTo>
                  <a:lnTo>
                    <a:pt x="222" y="1523"/>
                  </a:lnTo>
                  <a:lnTo>
                    <a:pt x="235" y="1521"/>
                  </a:lnTo>
                  <a:lnTo>
                    <a:pt x="264" y="1506"/>
                  </a:lnTo>
                  <a:lnTo>
                    <a:pt x="298" y="1485"/>
                  </a:lnTo>
                  <a:lnTo>
                    <a:pt x="337" y="1456"/>
                  </a:lnTo>
                  <a:lnTo>
                    <a:pt x="423" y="1379"/>
                  </a:lnTo>
                  <a:lnTo>
                    <a:pt x="614" y="1203"/>
                  </a:lnTo>
                  <a:lnTo>
                    <a:pt x="646" y="1173"/>
                  </a:lnTo>
                  <a:lnTo>
                    <a:pt x="664" y="1153"/>
                  </a:lnTo>
                  <a:lnTo>
                    <a:pt x="685" y="1126"/>
                  </a:lnTo>
                  <a:lnTo>
                    <a:pt x="704" y="1093"/>
                  </a:lnTo>
                  <a:lnTo>
                    <a:pt x="725" y="1056"/>
                  </a:lnTo>
                  <a:lnTo>
                    <a:pt x="744" y="1010"/>
                  </a:lnTo>
                  <a:lnTo>
                    <a:pt x="758" y="956"/>
                  </a:lnTo>
                  <a:lnTo>
                    <a:pt x="787" y="838"/>
                  </a:lnTo>
                  <a:lnTo>
                    <a:pt x="798" y="786"/>
                  </a:lnTo>
                  <a:lnTo>
                    <a:pt x="806" y="771"/>
                  </a:lnTo>
                  <a:lnTo>
                    <a:pt x="825" y="750"/>
                  </a:lnTo>
                  <a:lnTo>
                    <a:pt x="833" y="746"/>
                  </a:lnTo>
                  <a:lnTo>
                    <a:pt x="831" y="702"/>
                  </a:lnTo>
                  <a:lnTo>
                    <a:pt x="831" y="669"/>
                  </a:lnTo>
                  <a:lnTo>
                    <a:pt x="837" y="642"/>
                  </a:lnTo>
                  <a:lnTo>
                    <a:pt x="846" y="623"/>
                  </a:lnTo>
                  <a:lnTo>
                    <a:pt x="856" y="613"/>
                  </a:lnTo>
                  <a:lnTo>
                    <a:pt x="864" y="605"/>
                  </a:lnTo>
                  <a:lnTo>
                    <a:pt x="881" y="598"/>
                  </a:lnTo>
                  <a:lnTo>
                    <a:pt x="902" y="582"/>
                  </a:lnTo>
                  <a:lnTo>
                    <a:pt x="887" y="546"/>
                  </a:lnTo>
                  <a:lnTo>
                    <a:pt x="885" y="534"/>
                  </a:lnTo>
                  <a:lnTo>
                    <a:pt x="885" y="519"/>
                  </a:lnTo>
                  <a:lnTo>
                    <a:pt x="908" y="476"/>
                  </a:lnTo>
                  <a:lnTo>
                    <a:pt x="964" y="388"/>
                  </a:lnTo>
                  <a:lnTo>
                    <a:pt x="998" y="338"/>
                  </a:lnTo>
                  <a:lnTo>
                    <a:pt x="1025" y="291"/>
                  </a:lnTo>
                  <a:lnTo>
                    <a:pt x="1069" y="214"/>
                  </a:lnTo>
                  <a:lnTo>
                    <a:pt x="1094" y="187"/>
                  </a:lnTo>
                  <a:lnTo>
                    <a:pt x="1119" y="172"/>
                  </a:lnTo>
                  <a:lnTo>
                    <a:pt x="1150" y="168"/>
                  </a:lnTo>
                  <a:lnTo>
                    <a:pt x="1169" y="170"/>
                  </a:lnTo>
                  <a:lnTo>
                    <a:pt x="1188" y="176"/>
                  </a:lnTo>
                  <a:lnTo>
                    <a:pt x="1197" y="189"/>
                  </a:lnTo>
                  <a:lnTo>
                    <a:pt x="1268" y="180"/>
                  </a:lnTo>
                  <a:lnTo>
                    <a:pt x="1293" y="185"/>
                  </a:lnTo>
                  <a:lnTo>
                    <a:pt x="1311" y="197"/>
                  </a:lnTo>
                  <a:lnTo>
                    <a:pt x="1324" y="232"/>
                  </a:lnTo>
                  <a:lnTo>
                    <a:pt x="1326" y="255"/>
                  </a:lnTo>
                  <a:lnTo>
                    <a:pt x="1326" y="274"/>
                  </a:lnTo>
                  <a:lnTo>
                    <a:pt x="1322" y="284"/>
                  </a:lnTo>
                  <a:lnTo>
                    <a:pt x="1316" y="301"/>
                  </a:lnTo>
                  <a:lnTo>
                    <a:pt x="1316" y="307"/>
                  </a:lnTo>
                  <a:lnTo>
                    <a:pt x="1322" y="311"/>
                  </a:lnTo>
                  <a:lnTo>
                    <a:pt x="1332" y="318"/>
                  </a:lnTo>
                  <a:lnTo>
                    <a:pt x="1347" y="322"/>
                  </a:lnTo>
                  <a:lnTo>
                    <a:pt x="1361" y="330"/>
                  </a:lnTo>
                  <a:lnTo>
                    <a:pt x="1366" y="338"/>
                  </a:lnTo>
                  <a:lnTo>
                    <a:pt x="1370" y="349"/>
                  </a:lnTo>
                  <a:lnTo>
                    <a:pt x="1370" y="366"/>
                  </a:lnTo>
                  <a:lnTo>
                    <a:pt x="1366" y="382"/>
                  </a:lnTo>
                  <a:lnTo>
                    <a:pt x="1349" y="428"/>
                  </a:lnTo>
                  <a:lnTo>
                    <a:pt x="1282" y="559"/>
                  </a:lnTo>
                  <a:lnTo>
                    <a:pt x="1177" y="763"/>
                  </a:lnTo>
                  <a:lnTo>
                    <a:pt x="1117" y="898"/>
                  </a:lnTo>
                  <a:lnTo>
                    <a:pt x="1052" y="1056"/>
                  </a:lnTo>
                  <a:lnTo>
                    <a:pt x="992" y="1223"/>
                  </a:lnTo>
                  <a:lnTo>
                    <a:pt x="948" y="1348"/>
                  </a:lnTo>
                  <a:lnTo>
                    <a:pt x="923" y="1433"/>
                  </a:lnTo>
                  <a:lnTo>
                    <a:pt x="912" y="1494"/>
                  </a:lnTo>
                  <a:lnTo>
                    <a:pt x="917" y="1531"/>
                  </a:lnTo>
                  <a:lnTo>
                    <a:pt x="923" y="1544"/>
                  </a:lnTo>
                  <a:lnTo>
                    <a:pt x="931" y="1554"/>
                  </a:lnTo>
                  <a:lnTo>
                    <a:pt x="956" y="1569"/>
                  </a:lnTo>
                  <a:lnTo>
                    <a:pt x="987" y="1585"/>
                  </a:lnTo>
                  <a:lnTo>
                    <a:pt x="1085" y="1446"/>
                  </a:lnTo>
                  <a:lnTo>
                    <a:pt x="1135" y="1381"/>
                  </a:lnTo>
                  <a:lnTo>
                    <a:pt x="1162" y="1346"/>
                  </a:lnTo>
                  <a:lnTo>
                    <a:pt x="1188" y="1296"/>
                  </a:lnTo>
                  <a:lnTo>
                    <a:pt x="1079" y="1327"/>
                  </a:lnTo>
                  <a:lnTo>
                    <a:pt x="1085" y="1296"/>
                  </a:lnTo>
                  <a:lnTo>
                    <a:pt x="1092" y="1288"/>
                  </a:lnTo>
                  <a:lnTo>
                    <a:pt x="1100" y="1279"/>
                  </a:lnTo>
                  <a:lnTo>
                    <a:pt x="1114" y="1254"/>
                  </a:lnTo>
                  <a:lnTo>
                    <a:pt x="1108" y="1240"/>
                  </a:lnTo>
                  <a:lnTo>
                    <a:pt x="1100" y="1223"/>
                  </a:lnTo>
                  <a:lnTo>
                    <a:pt x="1096" y="1209"/>
                  </a:lnTo>
                  <a:lnTo>
                    <a:pt x="1098" y="1203"/>
                  </a:lnTo>
                  <a:lnTo>
                    <a:pt x="1100" y="1196"/>
                  </a:lnTo>
                  <a:lnTo>
                    <a:pt x="1299" y="1068"/>
                  </a:lnTo>
                  <a:lnTo>
                    <a:pt x="1349" y="1035"/>
                  </a:lnTo>
                  <a:lnTo>
                    <a:pt x="1378" y="1010"/>
                  </a:lnTo>
                  <a:lnTo>
                    <a:pt x="1389" y="998"/>
                  </a:lnTo>
                  <a:lnTo>
                    <a:pt x="1397" y="985"/>
                  </a:lnTo>
                  <a:lnTo>
                    <a:pt x="1414" y="952"/>
                  </a:lnTo>
                  <a:lnTo>
                    <a:pt x="1441" y="902"/>
                  </a:lnTo>
                  <a:lnTo>
                    <a:pt x="1482" y="825"/>
                  </a:lnTo>
                  <a:lnTo>
                    <a:pt x="1561" y="738"/>
                  </a:lnTo>
                  <a:lnTo>
                    <a:pt x="1584" y="725"/>
                  </a:lnTo>
                  <a:lnTo>
                    <a:pt x="1589" y="694"/>
                  </a:lnTo>
                  <a:lnTo>
                    <a:pt x="1603" y="682"/>
                  </a:lnTo>
                  <a:lnTo>
                    <a:pt x="1641" y="646"/>
                  </a:lnTo>
                  <a:lnTo>
                    <a:pt x="1672" y="611"/>
                  </a:lnTo>
                  <a:lnTo>
                    <a:pt x="1716" y="555"/>
                  </a:lnTo>
                  <a:lnTo>
                    <a:pt x="1841" y="395"/>
                  </a:lnTo>
                  <a:lnTo>
                    <a:pt x="1895" y="338"/>
                  </a:lnTo>
                  <a:lnTo>
                    <a:pt x="1928" y="314"/>
                  </a:lnTo>
                  <a:lnTo>
                    <a:pt x="1957" y="293"/>
                  </a:lnTo>
                  <a:lnTo>
                    <a:pt x="2001" y="253"/>
                  </a:lnTo>
                  <a:lnTo>
                    <a:pt x="2016" y="237"/>
                  </a:lnTo>
                  <a:lnTo>
                    <a:pt x="2028" y="218"/>
                  </a:lnTo>
                  <a:lnTo>
                    <a:pt x="2041" y="180"/>
                  </a:lnTo>
                  <a:lnTo>
                    <a:pt x="2049" y="116"/>
                  </a:lnTo>
                  <a:lnTo>
                    <a:pt x="2055" y="91"/>
                  </a:lnTo>
                  <a:lnTo>
                    <a:pt x="2060" y="83"/>
                  </a:lnTo>
                  <a:lnTo>
                    <a:pt x="2070" y="76"/>
                  </a:lnTo>
                  <a:lnTo>
                    <a:pt x="2099" y="74"/>
                  </a:lnTo>
                  <a:lnTo>
                    <a:pt x="2149" y="85"/>
                  </a:lnTo>
                  <a:lnTo>
                    <a:pt x="2170" y="101"/>
                  </a:lnTo>
                  <a:lnTo>
                    <a:pt x="2170" y="126"/>
                  </a:lnTo>
                  <a:lnTo>
                    <a:pt x="2174" y="131"/>
                  </a:lnTo>
                  <a:lnTo>
                    <a:pt x="2180" y="133"/>
                  </a:lnTo>
                  <a:lnTo>
                    <a:pt x="2224" y="135"/>
                  </a:lnTo>
                  <a:lnTo>
                    <a:pt x="2324" y="149"/>
                  </a:lnTo>
                  <a:lnTo>
                    <a:pt x="2341" y="153"/>
                  </a:lnTo>
                  <a:lnTo>
                    <a:pt x="2351" y="162"/>
                  </a:lnTo>
                  <a:lnTo>
                    <a:pt x="2358" y="172"/>
                  </a:lnTo>
                  <a:lnTo>
                    <a:pt x="2360" y="187"/>
                  </a:lnTo>
                  <a:lnTo>
                    <a:pt x="2358" y="234"/>
                  </a:lnTo>
                  <a:lnTo>
                    <a:pt x="2343" y="309"/>
                  </a:lnTo>
                  <a:lnTo>
                    <a:pt x="2322" y="420"/>
                  </a:lnTo>
                  <a:lnTo>
                    <a:pt x="2299" y="569"/>
                  </a:lnTo>
                  <a:lnTo>
                    <a:pt x="2274" y="767"/>
                  </a:lnTo>
                  <a:lnTo>
                    <a:pt x="2255" y="1016"/>
                  </a:lnTo>
                  <a:lnTo>
                    <a:pt x="2222" y="1502"/>
                  </a:lnTo>
                  <a:lnTo>
                    <a:pt x="2185" y="1872"/>
                  </a:lnTo>
                  <a:lnTo>
                    <a:pt x="2178" y="1957"/>
                  </a:lnTo>
                  <a:lnTo>
                    <a:pt x="2174" y="2034"/>
                  </a:lnTo>
                  <a:lnTo>
                    <a:pt x="2170" y="2061"/>
                  </a:lnTo>
                  <a:lnTo>
                    <a:pt x="2164" y="2080"/>
                  </a:lnTo>
                  <a:lnTo>
                    <a:pt x="2160" y="2084"/>
                  </a:lnTo>
                  <a:lnTo>
                    <a:pt x="2153" y="2086"/>
                  </a:lnTo>
                  <a:lnTo>
                    <a:pt x="2137" y="2078"/>
                  </a:lnTo>
                  <a:lnTo>
                    <a:pt x="2137" y="2066"/>
                  </a:lnTo>
                  <a:lnTo>
                    <a:pt x="2128" y="2059"/>
                  </a:lnTo>
                  <a:lnTo>
                    <a:pt x="2122" y="1982"/>
                  </a:lnTo>
                  <a:lnTo>
                    <a:pt x="2089" y="1968"/>
                  </a:lnTo>
                  <a:lnTo>
                    <a:pt x="2074" y="1953"/>
                  </a:lnTo>
                  <a:lnTo>
                    <a:pt x="2070" y="1945"/>
                  </a:lnTo>
                  <a:lnTo>
                    <a:pt x="2070" y="1932"/>
                  </a:lnTo>
                  <a:lnTo>
                    <a:pt x="2080" y="1926"/>
                  </a:lnTo>
                  <a:lnTo>
                    <a:pt x="2089" y="1916"/>
                  </a:lnTo>
                  <a:lnTo>
                    <a:pt x="2097" y="1895"/>
                  </a:lnTo>
                  <a:lnTo>
                    <a:pt x="2099" y="1872"/>
                  </a:lnTo>
                  <a:lnTo>
                    <a:pt x="2097" y="1855"/>
                  </a:lnTo>
                  <a:lnTo>
                    <a:pt x="2074" y="1843"/>
                  </a:lnTo>
                  <a:lnTo>
                    <a:pt x="2064" y="1808"/>
                  </a:lnTo>
                  <a:lnTo>
                    <a:pt x="2062" y="1799"/>
                  </a:lnTo>
                  <a:lnTo>
                    <a:pt x="2072" y="1797"/>
                  </a:lnTo>
                  <a:lnTo>
                    <a:pt x="2080" y="1793"/>
                  </a:lnTo>
                  <a:lnTo>
                    <a:pt x="2091" y="1781"/>
                  </a:lnTo>
                  <a:lnTo>
                    <a:pt x="2093" y="1768"/>
                  </a:lnTo>
                  <a:lnTo>
                    <a:pt x="2091" y="1764"/>
                  </a:lnTo>
                  <a:lnTo>
                    <a:pt x="2053" y="1764"/>
                  </a:lnTo>
                  <a:lnTo>
                    <a:pt x="2030" y="1631"/>
                  </a:lnTo>
                  <a:lnTo>
                    <a:pt x="2018" y="1554"/>
                  </a:lnTo>
                  <a:lnTo>
                    <a:pt x="2014" y="1539"/>
                  </a:lnTo>
                  <a:lnTo>
                    <a:pt x="2010" y="1537"/>
                  </a:lnTo>
                  <a:lnTo>
                    <a:pt x="1987" y="1581"/>
                  </a:lnTo>
                  <a:lnTo>
                    <a:pt x="1970" y="1435"/>
                  </a:lnTo>
                  <a:lnTo>
                    <a:pt x="1970" y="1388"/>
                  </a:lnTo>
                  <a:lnTo>
                    <a:pt x="1978" y="1377"/>
                  </a:lnTo>
                  <a:lnTo>
                    <a:pt x="1980" y="1369"/>
                  </a:lnTo>
                  <a:lnTo>
                    <a:pt x="1982" y="1350"/>
                  </a:lnTo>
                  <a:lnTo>
                    <a:pt x="1970" y="1279"/>
                  </a:lnTo>
                  <a:lnTo>
                    <a:pt x="1964" y="1267"/>
                  </a:lnTo>
                  <a:lnTo>
                    <a:pt x="1960" y="1244"/>
                  </a:lnTo>
                  <a:lnTo>
                    <a:pt x="1960" y="1186"/>
                  </a:lnTo>
                  <a:lnTo>
                    <a:pt x="1970" y="1064"/>
                  </a:lnTo>
                  <a:lnTo>
                    <a:pt x="1976" y="1012"/>
                  </a:lnTo>
                  <a:lnTo>
                    <a:pt x="1974" y="960"/>
                  </a:lnTo>
                  <a:lnTo>
                    <a:pt x="1891" y="985"/>
                  </a:lnTo>
                  <a:lnTo>
                    <a:pt x="1828" y="1008"/>
                  </a:lnTo>
                  <a:lnTo>
                    <a:pt x="1784" y="1029"/>
                  </a:lnTo>
                  <a:lnTo>
                    <a:pt x="1755" y="1048"/>
                  </a:lnTo>
                  <a:lnTo>
                    <a:pt x="1714" y="1083"/>
                  </a:lnTo>
                  <a:lnTo>
                    <a:pt x="1695" y="1101"/>
                  </a:lnTo>
                  <a:lnTo>
                    <a:pt x="1668" y="1115"/>
                  </a:lnTo>
                  <a:lnTo>
                    <a:pt x="1612" y="1134"/>
                  </a:lnTo>
                  <a:lnTo>
                    <a:pt x="1578" y="1140"/>
                  </a:lnTo>
                  <a:lnTo>
                    <a:pt x="1559" y="1138"/>
                  </a:lnTo>
                  <a:lnTo>
                    <a:pt x="1541" y="1144"/>
                  </a:lnTo>
                  <a:lnTo>
                    <a:pt x="1534" y="1171"/>
                  </a:lnTo>
                  <a:lnTo>
                    <a:pt x="1501" y="1192"/>
                  </a:lnTo>
                  <a:lnTo>
                    <a:pt x="1493" y="1203"/>
                  </a:lnTo>
                  <a:lnTo>
                    <a:pt x="1482" y="1223"/>
                  </a:lnTo>
                  <a:lnTo>
                    <a:pt x="1459" y="1269"/>
                  </a:lnTo>
                  <a:lnTo>
                    <a:pt x="1420" y="1348"/>
                  </a:lnTo>
                  <a:lnTo>
                    <a:pt x="1355" y="1469"/>
                  </a:lnTo>
                  <a:lnTo>
                    <a:pt x="1255" y="1641"/>
                  </a:lnTo>
                  <a:lnTo>
                    <a:pt x="1154" y="1820"/>
                  </a:lnTo>
                  <a:lnTo>
                    <a:pt x="1144" y="1837"/>
                  </a:lnTo>
                  <a:lnTo>
                    <a:pt x="1137" y="1843"/>
                  </a:lnTo>
                  <a:lnTo>
                    <a:pt x="1129" y="1845"/>
                  </a:lnTo>
                  <a:lnTo>
                    <a:pt x="1119" y="1843"/>
                  </a:lnTo>
                  <a:lnTo>
                    <a:pt x="1106" y="1837"/>
                  </a:lnTo>
                  <a:lnTo>
                    <a:pt x="1100" y="1833"/>
                  </a:lnTo>
                  <a:lnTo>
                    <a:pt x="1098" y="1835"/>
                  </a:lnTo>
                  <a:lnTo>
                    <a:pt x="1092" y="1843"/>
                  </a:lnTo>
                  <a:lnTo>
                    <a:pt x="1062" y="1901"/>
                  </a:lnTo>
                  <a:lnTo>
                    <a:pt x="1033" y="1955"/>
                  </a:lnTo>
                  <a:lnTo>
                    <a:pt x="987" y="2034"/>
                  </a:lnTo>
                  <a:lnTo>
                    <a:pt x="960" y="2068"/>
                  </a:lnTo>
                  <a:lnTo>
                    <a:pt x="948" y="2080"/>
                  </a:lnTo>
                  <a:lnTo>
                    <a:pt x="933" y="2090"/>
                  </a:lnTo>
                  <a:lnTo>
                    <a:pt x="914" y="2101"/>
                  </a:lnTo>
                  <a:lnTo>
                    <a:pt x="902" y="2099"/>
                  </a:lnTo>
                  <a:lnTo>
                    <a:pt x="887" y="2076"/>
                  </a:lnTo>
                  <a:lnTo>
                    <a:pt x="885" y="2076"/>
                  </a:lnTo>
                  <a:lnTo>
                    <a:pt x="879" y="2082"/>
                  </a:lnTo>
                  <a:lnTo>
                    <a:pt x="869" y="2103"/>
                  </a:lnTo>
                  <a:lnTo>
                    <a:pt x="856" y="2120"/>
                  </a:lnTo>
                  <a:lnTo>
                    <a:pt x="841" y="2134"/>
                  </a:lnTo>
                  <a:lnTo>
                    <a:pt x="821" y="2130"/>
                  </a:lnTo>
                  <a:lnTo>
                    <a:pt x="819" y="2101"/>
                  </a:lnTo>
                  <a:lnTo>
                    <a:pt x="814" y="2088"/>
                  </a:lnTo>
                  <a:lnTo>
                    <a:pt x="808" y="2093"/>
                  </a:lnTo>
                  <a:lnTo>
                    <a:pt x="798" y="2109"/>
                  </a:lnTo>
                  <a:lnTo>
                    <a:pt x="769" y="2157"/>
                  </a:lnTo>
                  <a:lnTo>
                    <a:pt x="748" y="2180"/>
                  </a:lnTo>
                  <a:lnTo>
                    <a:pt x="723" y="2197"/>
                  </a:lnTo>
                  <a:lnTo>
                    <a:pt x="694" y="2197"/>
                  </a:lnTo>
                  <a:lnTo>
                    <a:pt x="698" y="2130"/>
                  </a:lnTo>
                  <a:lnTo>
                    <a:pt x="658" y="2126"/>
                  </a:lnTo>
                  <a:lnTo>
                    <a:pt x="668" y="2101"/>
                  </a:lnTo>
                  <a:lnTo>
                    <a:pt x="679" y="2074"/>
                  </a:lnTo>
                  <a:lnTo>
                    <a:pt x="714" y="2022"/>
                  </a:lnTo>
                  <a:lnTo>
                    <a:pt x="752" y="1970"/>
                  </a:lnTo>
                  <a:lnTo>
                    <a:pt x="785" y="1920"/>
                  </a:lnTo>
                  <a:lnTo>
                    <a:pt x="831" y="1833"/>
                  </a:lnTo>
                  <a:lnTo>
                    <a:pt x="852" y="1779"/>
                  </a:lnTo>
                  <a:lnTo>
                    <a:pt x="856" y="1762"/>
                  </a:lnTo>
                  <a:lnTo>
                    <a:pt x="856" y="1752"/>
                  </a:lnTo>
                  <a:lnTo>
                    <a:pt x="852" y="1745"/>
                  </a:lnTo>
                  <a:lnTo>
                    <a:pt x="844" y="1743"/>
                  </a:lnTo>
                  <a:lnTo>
                    <a:pt x="816" y="1747"/>
                  </a:lnTo>
                  <a:lnTo>
                    <a:pt x="783" y="1760"/>
                  </a:lnTo>
                  <a:lnTo>
                    <a:pt x="744" y="1772"/>
                  </a:lnTo>
                  <a:lnTo>
                    <a:pt x="702" y="1776"/>
                  </a:lnTo>
                  <a:lnTo>
                    <a:pt x="664" y="1772"/>
                  </a:lnTo>
                  <a:lnTo>
                    <a:pt x="635" y="1760"/>
                  </a:lnTo>
                  <a:lnTo>
                    <a:pt x="612" y="1739"/>
                  </a:lnTo>
                  <a:lnTo>
                    <a:pt x="596" y="1716"/>
                  </a:lnTo>
                  <a:lnTo>
                    <a:pt x="596" y="1672"/>
                  </a:lnTo>
                  <a:lnTo>
                    <a:pt x="593" y="1664"/>
                  </a:lnTo>
                  <a:lnTo>
                    <a:pt x="589" y="1658"/>
                  </a:lnTo>
                  <a:lnTo>
                    <a:pt x="579" y="1641"/>
                  </a:lnTo>
                  <a:lnTo>
                    <a:pt x="575" y="1606"/>
                  </a:lnTo>
                  <a:lnTo>
                    <a:pt x="579" y="1533"/>
                  </a:lnTo>
                  <a:lnTo>
                    <a:pt x="598" y="1448"/>
                  </a:lnTo>
                  <a:lnTo>
                    <a:pt x="616" y="1394"/>
                  </a:lnTo>
                  <a:lnTo>
                    <a:pt x="631" y="1367"/>
                  </a:lnTo>
                  <a:lnTo>
                    <a:pt x="631" y="1361"/>
                  </a:lnTo>
                  <a:lnTo>
                    <a:pt x="627" y="1363"/>
                  </a:lnTo>
                  <a:lnTo>
                    <a:pt x="593" y="1392"/>
                  </a:lnTo>
                  <a:lnTo>
                    <a:pt x="552" y="1435"/>
                  </a:lnTo>
                  <a:lnTo>
                    <a:pt x="454" y="1544"/>
                  </a:lnTo>
                  <a:lnTo>
                    <a:pt x="398" y="1598"/>
                  </a:lnTo>
                  <a:lnTo>
                    <a:pt x="341" y="1643"/>
                  </a:lnTo>
                  <a:lnTo>
                    <a:pt x="310" y="1662"/>
                  </a:lnTo>
                  <a:lnTo>
                    <a:pt x="281" y="1675"/>
                  </a:lnTo>
                  <a:lnTo>
                    <a:pt x="250" y="1687"/>
                  </a:lnTo>
                  <a:lnTo>
                    <a:pt x="218" y="1689"/>
                  </a:lnTo>
                  <a:lnTo>
                    <a:pt x="166" y="1689"/>
                  </a:lnTo>
                  <a:lnTo>
                    <a:pt x="143" y="1683"/>
                  </a:lnTo>
                  <a:lnTo>
                    <a:pt x="120" y="1677"/>
                  </a:lnTo>
                  <a:lnTo>
                    <a:pt x="102" y="1668"/>
                  </a:lnTo>
                  <a:lnTo>
                    <a:pt x="83" y="1658"/>
                  </a:lnTo>
                  <a:lnTo>
                    <a:pt x="68" y="1645"/>
                  </a:lnTo>
                  <a:lnTo>
                    <a:pt x="56" y="1631"/>
                  </a:lnTo>
                  <a:lnTo>
                    <a:pt x="33" y="1600"/>
                  </a:lnTo>
                  <a:lnTo>
                    <a:pt x="16" y="1562"/>
                  </a:lnTo>
                  <a:lnTo>
                    <a:pt x="8" y="1523"/>
                  </a:lnTo>
                  <a:lnTo>
                    <a:pt x="2" y="1479"/>
                  </a:lnTo>
                  <a:lnTo>
                    <a:pt x="0" y="1435"/>
                  </a:lnTo>
                  <a:lnTo>
                    <a:pt x="2" y="1390"/>
                  </a:lnTo>
                  <a:lnTo>
                    <a:pt x="12" y="1304"/>
                  </a:lnTo>
                  <a:lnTo>
                    <a:pt x="29" y="1230"/>
                  </a:lnTo>
                  <a:lnTo>
                    <a:pt x="43" y="1175"/>
                  </a:lnTo>
                  <a:lnTo>
                    <a:pt x="72" y="1075"/>
                  </a:lnTo>
                  <a:lnTo>
                    <a:pt x="87" y="1016"/>
                  </a:lnTo>
                  <a:lnTo>
                    <a:pt x="110" y="944"/>
                  </a:lnTo>
                  <a:lnTo>
                    <a:pt x="143" y="850"/>
                  </a:lnTo>
                  <a:lnTo>
                    <a:pt x="189" y="727"/>
                  </a:lnTo>
                  <a:lnTo>
                    <a:pt x="341" y="372"/>
                  </a:lnTo>
                  <a:lnTo>
                    <a:pt x="377" y="301"/>
                  </a:lnTo>
                  <a:lnTo>
                    <a:pt x="402" y="257"/>
                  </a:lnTo>
                  <a:lnTo>
                    <a:pt x="431" y="193"/>
                  </a:lnTo>
                  <a:lnTo>
                    <a:pt x="460" y="133"/>
                  </a:lnTo>
                  <a:lnTo>
                    <a:pt x="487" y="89"/>
                  </a:lnTo>
                  <a:lnTo>
                    <a:pt x="510" y="64"/>
                  </a:lnTo>
                  <a:lnTo>
                    <a:pt x="533" y="45"/>
                  </a:lnTo>
                  <a:lnTo>
                    <a:pt x="550" y="35"/>
                  </a:lnTo>
                  <a:lnTo>
                    <a:pt x="566" y="31"/>
                  </a:lnTo>
                  <a:lnTo>
                    <a:pt x="591" y="31"/>
                  </a:lnTo>
                  <a:lnTo>
                    <a:pt x="606" y="33"/>
                  </a:lnTo>
                  <a:lnTo>
                    <a:pt x="616" y="24"/>
                  </a:lnTo>
                  <a:lnTo>
                    <a:pt x="627" y="10"/>
                  </a:lnTo>
                  <a:lnTo>
                    <a:pt x="641" y="0"/>
                  </a:lnTo>
                  <a:lnTo>
                    <a:pt x="662" y="2"/>
                  </a:lnTo>
                  <a:lnTo>
                    <a:pt x="673" y="8"/>
                  </a:lnTo>
                  <a:lnTo>
                    <a:pt x="679" y="16"/>
                  </a:lnTo>
                  <a:lnTo>
                    <a:pt x="683" y="33"/>
                  </a:lnTo>
                  <a:lnTo>
                    <a:pt x="687" y="72"/>
                  </a:lnTo>
                  <a:lnTo>
                    <a:pt x="698" y="83"/>
                  </a:lnTo>
                  <a:lnTo>
                    <a:pt x="708" y="93"/>
                  </a:lnTo>
                  <a:lnTo>
                    <a:pt x="712" y="112"/>
                  </a:lnTo>
                  <a:lnTo>
                    <a:pt x="706" y="14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826400" y="5580000"/>
              <a:ext cx="981360" cy="908280"/>
            </a:xfrm>
            <a:custGeom>
              <a:avLst/>
              <a:gdLst/>
              <a:ahLst/>
              <a:rect l="0" t="0" r="r" b="b"/>
              <a:pathLst>
                <a:path w="2726" h="2523">
                  <a:moveTo>
                    <a:pt x="2599" y="2235"/>
                  </a:moveTo>
                  <a:lnTo>
                    <a:pt x="2582" y="2246"/>
                  </a:lnTo>
                  <a:lnTo>
                    <a:pt x="2567" y="2252"/>
                  </a:lnTo>
                  <a:lnTo>
                    <a:pt x="2555" y="2250"/>
                  </a:lnTo>
                  <a:lnTo>
                    <a:pt x="2540" y="2244"/>
                  </a:lnTo>
                  <a:lnTo>
                    <a:pt x="2503" y="2208"/>
                  </a:lnTo>
                  <a:lnTo>
                    <a:pt x="2432" y="2148"/>
                  </a:lnTo>
                  <a:lnTo>
                    <a:pt x="2038" y="1831"/>
                  </a:lnTo>
                  <a:lnTo>
                    <a:pt x="1929" y="1748"/>
                  </a:lnTo>
                  <a:lnTo>
                    <a:pt x="1823" y="1671"/>
                  </a:lnTo>
                  <a:lnTo>
                    <a:pt x="1771" y="1633"/>
                  </a:lnTo>
                  <a:lnTo>
                    <a:pt x="1731" y="1598"/>
                  </a:lnTo>
                  <a:lnTo>
                    <a:pt x="1698" y="1567"/>
                  </a:lnTo>
                  <a:lnTo>
                    <a:pt x="1673" y="1540"/>
                  </a:lnTo>
                  <a:lnTo>
                    <a:pt x="1635" y="1494"/>
                  </a:lnTo>
                  <a:lnTo>
                    <a:pt x="1623" y="1479"/>
                  </a:lnTo>
                  <a:lnTo>
                    <a:pt x="1608" y="1465"/>
                  </a:lnTo>
                  <a:lnTo>
                    <a:pt x="1554" y="1444"/>
                  </a:lnTo>
                  <a:lnTo>
                    <a:pt x="1402" y="1269"/>
                  </a:lnTo>
                  <a:lnTo>
                    <a:pt x="1361" y="1224"/>
                  </a:lnTo>
                  <a:lnTo>
                    <a:pt x="1340" y="1203"/>
                  </a:lnTo>
                  <a:lnTo>
                    <a:pt x="1324" y="1193"/>
                  </a:lnTo>
                  <a:lnTo>
                    <a:pt x="1303" y="1208"/>
                  </a:lnTo>
                  <a:lnTo>
                    <a:pt x="1082" y="1047"/>
                  </a:lnTo>
                  <a:lnTo>
                    <a:pt x="1009" y="999"/>
                  </a:lnTo>
                  <a:lnTo>
                    <a:pt x="1011" y="1001"/>
                  </a:lnTo>
                  <a:lnTo>
                    <a:pt x="1025" y="1016"/>
                  </a:lnTo>
                  <a:lnTo>
                    <a:pt x="1067" y="1058"/>
                  </a:lnTo>
                  <a:lnTo>
                    <a:pt x="1084" y="1081"/>
                  </a:lnTo>
                  <a:lnTo>
                    <a:pt x="1086" y="1089"/>
                  </a:lnTo>
                  <a:lnTo>
                    <a:pt x="1084" y="1091"/>
                  </a:lnTo>
                  <a:lnTo>
                    <a:pt x="1088" y="1097"/>
                  </a:lnTo>
                  <a:lnTo>
                    <a:pt x="1144" y="1153"/>
                  </a:lnTo>
                  <a:lnTo>
                    <a:pt x="1330" y="1321"/>
                  </a:lnTo>
                  <a:lnTo>
                    <a:pt x="1420" y="1398"/>
                  </a:lnTo>
                  <a:lnTo>
                    <a:pt x="1460" y="1429"/>
                  </a:lnTo>
                  <a:lnTo>
                    <a:pt x="1468" y="1438"/>
                  </a:lnTo>
                  <a:lnTo>
                    <a:pt x="1458" y="1444"/>
                  </a:lnTo>
                  <a:lnTo>
                    <a:pt x="1450" y="1448"/>
                  </a:lnTo>
                  <a:lnTo>
                    <a:pt x="1441" y="1450"/>
                  </a:lnTo>
                  <a:lnTo>
                    <a:pt x="1439" y="1448"/>
                  </a:lnTo>
                  <a:lnTo>
                    <a:pt x="1464" y="1463"/>
                  </a:lnTo>
                  <a:lnTo>
                    <a:pt x="1531" y="1513"/>
                  </a:lnTo>
                  <a:lnTo>
                    <a:pt x="1898" y="1811"/>
                  </a:lnTo>
                  <a:lnTo>
                    <a:pt x="1967" y="1871"/>
                  </a:lnTo>
                  <a:lnTo>
                    <a:pt x="1996" y="1898"/>
                  </a:lnTo>
                  <a:lnTo>
                    <a:pt x="2031" y="1938"/>
                  </a:lnTo>
                  <a:lnTo>
                    <a:pt x="2090" y="1990"/>
                  </a:lnTo>
                  <a:lnTo>
                    <a:pt x="2209" y="2094"/>
                  </a:lnTo>
                  <a:lnTo>
                    <a:pt x="2563" y="2408"/>
                  </a:lnTo>
                  <a:lnTo>
                    <a:pt x="2726" y="2512"/>
                  </a:lnTo>
                  <a:lnTo>
                    <a:pt x="2724" y="2521"/>
                  </a:lnTo>
                  <a:lnTo>
                    <a:pt x="2719" y="2523"/>
                  </a:lnTo>
                  <a:lnTo>
                    <a:pt x="2703" y="2523"/>
                  </a:lnTo>
                  <a:lnTo>
                    <a:pt x="2678" y="2512"/>
                  </a:lnTo>
                  <a:lnTo>
                    <a:pt x="2644" y="2494"/>
                  </a:lnTo>
                  <a:lnTo>
                    <a:pt x="2603" y="2469"/>
                  </a:lnTo>
                  <a:lnTo>
                    <a:pt x="2557" y="2435"/>
                  </a:lnTo>
                  <a:lnTo>
                    <a:pt x="2448" y="2356"/>
                  </a:lnTo>
                  <a:lnTo>
                    <a:pt x="2223" y="2181"/>
                  </a:lnTo>
                  <a:lnTo>
                    <a:pt x="2121" y="2104"/>
                  </a:lnTo>
                  <a:lnTo>
                    <a:pt x="2042" y="2046"/>
                  </a:lnTo>
                  <a:lnTo>
                    <a:pt x="1913" y="1954"/>
                  </a:lnTo>
                  <a:lnTo>
                    <a:pt x="1825" y="1883"/>
                  </a:lnTo>
                  <a:lnTo>
                    <a:pt x="1760" y="1823"/>
                  </a:lnTo>
                  <a:lnTo>
                    <a:pt x="1708" y="1767"/>
                  </a:lnTo>
                  <a:lnTo>
                    <a:pt x="1652" y="1708"/>
                  </a:lnTo>
                  <a:lnTo>
                    <a:pt x="1577" y="1638"/>
                  </a:lnTo>
                  <a:lnTo>
                    <a:pt x="1529" y="1596"/>
                  </a:lnTo>
                  <a:lnTo>
                    <a:pt x="1468" y="1550"/>
                  </a:lnTo>
                  <a:lnTo>
                    <a:pt x="1311" y="1436"/>
                  </a:lnTo>
                  <a:lnTo>
                    <a:pt x="1259" y="1417"/>
                  </a:lnTo>
                  <a:lnTo>
                    <a:pt x="1180" y="1325"/>
                  </a:lnTo>
                  <a:lnTo>
                    <a:pt x="1171" y="1286"/>
                  </a:lnTo>
                  <a:lnTo>
                    <a:pt x="1134" y="1258"/>
                  </a:lnTo>
                  <a:lnTo>
                    <a:pt x="1100" y="1230"/>
                  </a:lnTo>
                  <a:lnTo>
                    <a:pt x="1050" y="1180"/>
                  </a:lnTo>
                  <a:lnTo>
                    <a:pt x="1009" y="1143"/>
                  </a:lnTo>
                  <a:lnTo>
                    <a:pt x="988" y="1128"/>
                  </a:lnTo>
                  <a:lnTo>
                    <a:pt x="969" y="1120"/>
                  </a:lnTo>
                  <a:lnTo>
                    <a:pt x="917" y="1114"/>
                  </a:lnTo>
                  <a:lnTo>
                    <a:pt x="884" y="1074"/>
                  </a:lnTo>
                  <a:lnTo>
                    <a:pt x="859" y="1049"/>
                  </a:lnTo>
                  <a:lnTo>
                    <a:pt x="821" y="1028"/>
                  </a:lnTo>
                  <a:lnTo>
                    <a:pt x="813" y="1024"/>
                  </a:lnTo>
                  <a:lnTo>
                    <a:pt x="813" y="1018"/>
                  </a:lnTo>
                  <a:lnTo>
                    <a:pt x="838" y="985"/>
                  </a:lnTo>
                  <a:lnTo>
                    <a:pt x="846" y="974"/>
                  </a:lnTo>
                  <a:lnTo>
                    <a:pt x="852" y="964"/>
                  </a:lnTo>
                  <a:lnTo>
                    <a:pt x="856" y="949"/>
                  </a:lnTo>
                  <a:lnTo>
                    <a:pt x="861" y="945"/>
                  </a:lnTo>
                  <a:lnTo>
                    <a:pt x="867" y="941"/>
                  </a:lnTo>
                  <a:lnTo>
                    <a:pt x="892" y="941"/>
                  </a:lnTo>
                  <a:lnTo>
                    <a:pt x="917" y="953"/>
                  </a:lnTo>
                  <a:lnTo>
                    <a:pt x="948" y="949"/>
                  </a:lnTo>
                  <a:lnTo>
                    <a:pt x="971" y="941"/>
                  </a:lnTo>
                  <a:lnTo>
                    <a:pt x="982" y="935"/>
                  </a:lnTo>
                  <a:lnTo>
                    <a:pt x="988" y="926"/>
                  </a:lnTo>
                  <a:lnTo>
                    <a:pt x="986" y="916"/>
                  </a:lnTo>
                  <a:lnTo>
                    <a:pt x="979" y="906"/>
                  </a:lnTo>
                  <a:lnTo>
                    <a:pt x="954" y="885"/>
                  </a:lnTo>
                  <a:lnTo>
                    <a:pt x="927" y="858"/>
                  </a:lnTo>
                  <a:lnTo>
                    <a:pt x="907" y="831"/>
                  </a:lnTo>
                  <a:lnTo>
                    <a:pt x="900" y="818"/>
                  </a:lnTo>
                  <a:lnTo>
                    <a:pt x="900" y="803"/>
                  </a:lnTo>
                  <a:lnTo>
                    <a:pt x="907" y="789"/>
                  </a:lnTo>
                  <a:lnTo>
                    <a:pt x="921" y="774"/>
                  </a:lnTo>
                  <a:lnTo>
                    <a:pt x="936" y="770"/>
                  </a:lnTo>
                  <a:lnTo>
                    <a:pt x="950" y="774"/>
                  </a:lnTo>
                  <a:lnTo>
                    <a:pt x="967" y="785"/>
                  </a:lnTo>
                  <a:lnTo>
                    <a:pt x="982" y="799"/>
                  </a:lnTo>
                  <a:lnTo>
                    <a:pt x="1017" y="833"/>
                  </a:lnTo>
                  <a:lnTo>
                    <a:pt x="1030" y="847"/>
                  </a:lnTo>
                  <a:lnTo>
                    <a:pt x="1044" y="853"/>
                  </a:lnTo>
                  <a:lnTo>
                    <a:pt x="1100" y="845"/>
                  </a:lnTo>
                  <a:lnTo>
                    <a:pt x="1132" y="858"/>
                  </a:lnTo>
                  <a:lnTo>
                    <a:pt x="1265" y="683"/>
                  </a:lnTo>
                  <a:lnTo>
                    <a:pt x="1307" y="622"/>
                  </a:lnTo>
                  <a:lnTo>
                    <a:pt x="1330" y="574"/>
                  </a:lnTo>
                  <a:lnTo>
                    <a:pt x="1336" y="556"/>
                  </a:lnTo>
                  <a:lnTo>
                    <a:pt x="1336" y="537"/>
                  </a:lnTo>
                  <a:lnTo>
                    <a:pt x="1334" y="522"/>
                  </a:lnTo>
                  <a:lnTo>
                    <a:pt x="1328" y="506"/>
                  </a:lnTo>
                  <a:lnTo>
                    <a:pt x="1315" y="493"/>
                  </a:lnTo>
                  <a:lnTo>
                    <a:pt x="1303" y="479"/>
                  </a:lnTo>
                  <a:lnTo>
                    <a:pt x="1259" y="451"/>
                  </a:lnTo>
                  <a:lnTo>
                    <a:pt x="1228" y="437"/>
                  </a:lnTo>
                  <a:lnTo>
                    <a:pt x="1196" y="426"/>
                  </a:lnTo>
                  <a:lnTo>
                    <a:pt x="1134" y="414"/>
                  </a:lnTo>
                  <a:lnTo>
                    <a:pt x="1071" y="412"/>
                  </a:lnTo>
                  <a:lnTo>
                    <a:pt x="1013" y="418"/>
                  </a:lnTo>
                  <a:lnTo>
                    <a:pt x="963" y="429"/>
                  </a:lnTo>
                  <a:lnTo>
                    <a:pt x="923" y="439"/>
                  </a:lnTo>
                  <a:lnTo>
                    <a:pt x="898" y="449"/>
                  </a:lnTo>
                  <a:lnTo>
                    <a:pt x="886" y="456"/>
                  </a:lnTo>
                  <a:lnTo>
                    <a:pt x="859" y="526"/>
                  </a:lnTo>
                  <a:lnTo>
                    <a:pt x="838" y="579"/>
                  </a:lnTo>
                  <a:lnTo>
                    <a:pt x="829" y="595"/>
                  </a:lnTo>
                  <a:lnTo>
                    <a:pt x="821" y="604"/>
                  </a:lnTo>
                  <a:lnTo>
                    <a:pt x="813" y="604"/>
                  </a:lnTo>
                  <a:lnTo>
                    <a:pt x="802" y="595"/>
                  </a:lnTo>
                  <a:lnTo>
                    <a:pt x="802" y="572"/>
                  </a:lnTo>
                  <a:lnTo>
                    <a:pt x="794" y="574"/>
                  </a:lnTo>
                  <a:lnTo>
                    <a:pt x="786" y="581"/>
                  </a:lnTo>
                  <a:lnTo>
                    <a:pt x="769" y="604"/>
                  </a:lnTo>
                  <a:lnTo>
                    <a:pt x="742" y="674"/>
                  </a:lnTo>
                  <a:lnTo>
                    <a:pt x="719" y="754"/>
                  </a:lnTo>
                  <a:lnTo>
                    <a:pt x="706" y="789"/>
                  </a:lnTo>
                  <a:lnTo>
                    <a:pt x="694" y="814"/>
                  </a:lnTo>
                  <a:lnTo>
                    <a:pt x="677" y="810"/>
                  </a:lnTo>
                  <a:lnTo>
                    <a:pt x="669" y="816"/>
                  </a:lnTo>
                  <a:lnTo>
                    <a:pt x="658" y="835"/>
                  </a:lnTo>
                  <a:lnTo>
                    <a:pt x="602" y="1035"/>
                  </a:lnTo>
                  <a:lnTo>
                    <a:pt x="558" y="1212"/>
                  </a:lnTo>
                  <a:lnTo>
                    <a:pt x="496" y="1500"/>
                  </a:lnTo>
                  <a:lnTo>
                    <a:pt x="475" y="1608"/>
                  </a:lnTo>
                  <a:lnTo>
                    <a:pt x="454" y="1690"/>
                  </a:lnTo>
                  <a:lnTo>
                    <a:pt x="444" y="1723"/>
                  </a:lnTo>
                  <a:lnTo>
                    <a:pt x="433" y="1746"/>
                  </a:lnTo>
                  <a:lnTo>
                    <a:pt x="421" y="1765"/>
                  </a:lnTo>
                  <a:lnTo>
                    <a:pt x="408" y="1775"/>
                  </a:lnTo>
                  <a:lnTo>
                    <a:pt x="391" y="1767"/>
                  </a:lnTo>
                  <a:lnTo>
                    <a:pt x="391" y="1675"/>
                  </a:lnTo>
                  <a:lnTo>
                    <a:pt x="193" y="2110"/>
                  </a:lnTo>
                  <a:lnTo>
                    <a:pt x="185" y="2017"/>
                  </a:lnTo>
                  <a:lnTo>
                    <a:pt x="150" y="2021"/>
                  </a:lnTo>
                  <a:lnTo>
                    <a:pt x="100" y="2171"/>
                  </a:lnTo>
                  <a:lnTo>
                    <a:pt x="87" y="2200"/>
                  </a:lnTo>
                  <a:lnTo>
                    <a:pt x="83" y="2206"/>
                  </a:lnTo>
                  <a:lnTo>
                    <a:pt x="79" y="2206"/>
                  </a:lnTo>
                  <a:lnTo>
                    <a:pt x="77" y="2185"/>
                  </a:lnTo>
                  <a:lnTo>
                    <a:pt x="75" y="2156"/>
                  </a:lnTo>
                  <a:lnTo>
                    <a:pt x="70" y="2158"/>
                  </a:lnTo>
                  <a:lnTo>
                    <a:pt x="62" y="2171"/>
                  </a:lnTo>
                  <a:lnTo>
                    <a:pt x="50" y="2188"/>
                  </a:lnTo>
                  <a:lnTo>
                    <a:pt x="37" y="2200"/>
                  </a:lnTo>
                  <a:lnTo>
                    <a:pt x="22" y="2200"/>
                  </a:lnTo>
                  <a:lnTo>
                    <a:pt x="16" y="2192"/>
                  </a:lnTo>
                  <a:lnTo>
                    <a:pt x="12" y="2177"/>
                  </a:lnTo>
                  <a:lnTo>
                    <a:pt x="4" y="2127"/>
                  </a:lnTo>
                  <a:lnTo>
                    <a:pt x="0" y="2038"/>
                  </a:lnTo>
                  <a:lnTo>
                    <a:pt x="4" y="2013"/>
                  </a:lnTo>
                  <a:lnTo>
                    <a:pt x="14" y="1979"/>
                  </a:lnTo>
                  <a:lnTo>
                    <a:pt x="45" y="1913"/>
                  </a:lnTo>
                  <a:lnTo>
                    <a:pt x="77" y="1854"/>
                  </a:lnTo>
                  <a:lnTo>
                    <a:pt x="93" y="1827"/>
                  </a:lnTo>
                  <a:lnTo>
                    <a:pt x="110" y="1819"/>
                  </a:lnTo>
                  <a:lnTo>
                    <a:pt x="110" y="1731"/>
                  </a:lnTo>
                  <a:lnTo>
                    <a:pt x="112" y="1727"/>
                  </a:lnTo>
                  <a:lnTo>
                    <a:pt x="118" y="1723"/>
                  </a:lnTo>
                  <a:lnTo>
                    <a:pt x="129" y="1719"/>
                  </a:lnTo>
                  <a:lnTo>
                    <a:pt x="141" y="1711"/>
                  </a:lnTo>
                  <a:lnTo>
                    <a:pt x="118" y="1679"/>
                  </a:lnTo>
                  <a:lnTo>
                    <a:pt x="183" y="1511"/>
                  </a:lnTo>
                  <a:lnTo>
                    <a:pt x="198" y="1469"/>
                  </a:lnTo>
                  <a:lnTo>
                    <a:pt x="198" y="1471"/>
                  </a:lnTo>
                  <a:lnTo>
                    <a:pt x="204" y="1475"/>
                  </a:lnTo>
                  <a:lnTo>
                    <a:pt x="214" y="1467"/>
                  </a:lnTo>
                  <a:lnTo>
                    <a:pt x="227" y="1456"/>
                  </a:lnTo>
                  <a:lnTo>
                    <a:pt x="241" y="1440"/>
                  </a:lnTo>
                  <a:lnTo>
                    <a:pt x="252" y="1423"/>
                  </a:lnTo>
                  <a:lnTo>
                    <a:pt x="254" y="1415"/>
                  </a:lnTo>
                  <a:lnTo>
                    <a:pt x="252" y="1411"/>
                  </a:lnTo>
                  <a:lnTo>
                    <a:pt x="246" y="1404"/>
                  </a:lnTo>
                  <a:lnTo>
                    <a:pt x="239" y="1392"/>
                  </a:lnTo>
                  <a:lnTo>
                    <a:pt x="237" y="1375"/>
                  </a:lnTo>
                  <a:lnTo>
                    <a:pt x="243" y="1346"/>
                  </a:lnTo>
                  <a:lnTo>
                    <a:pt x="254" y="1300"/>
                  </a:lnTo>
                  <a:lnTo>
                    <a:pt x="379" y="928"/>
                  </a:lnTo>
                  <a:lnTo>
                    <a:pt x="439" y="760"/>
                  </a:lnTo>
                  <a:lnTo>
                    <a:pt x="471" y="685"/>
                  </a:lnTo>
                  <a:lnTo>
                    <a:pt x="506" y="587"/>
                  </a:lnTo>
                  <a:lnTo>
                    <a:pt x="448" y="612"/>
                  </a:lnTo>
                  <a:lnTo>
                    <a:pt x="379" y="643"/>
                  </a:lnTo>
                  <a:lnTo>
                    <a:pt x="344" y="654"/>
                  </a:lnTo>
                  <a:lnTo>
                    <a:pt x="312" y="662"/>
                  </a:lnTo>
                  <a:lnTo>
                    <a:pt x="300" y="662"/>
                  </a:lnTo>
                  <a:lnTo>
                    <a:pt x="287" y="658"/>
                  </a:lnTo>
                  <a:lnTo>
                    <a:pt x="277" y="654"/>
                  </a:lnTo>
                  <a:lnTo>
                    <a:pt x="268" y="643"/>
                  </a:lnTo>
                  <a:lnTo>
                    <a:pt x="260" y="608"/>
                  </a:lnTo>
                  <a:lnTo>
                    <a:pt x="158" y="599"/>
                  </a:lnTo>
                  <a:lnTo>
                    <a:pt x="150" y="562"/>
                  </a:lnTo>
                  <a:lnTo>
                    <a:pt x="135" y="545"/>
                  </a:lnTo>
                  <a:lnTo>
                    <a:pt x="118" y="539"/>
                  </a:lnTo>
                  <a:lnTo>
                    <a:pt x="102" y="539"/>
                  </a:lnTo>
                  <a:lnTo>
                    <a:pt x="87" y="539"/>
                  </a:lnTo>
                  <a:lnTo>
                    <a:pt x="81" y="537"/>
                  </a:lnTo>
                  <a:lnTo>
                    <a:pt x="77" y="531"/>
                  </a:lnTo>
                  <a:lnTo>
                    <a:pt x="70" y="512"/>
                  </a:lnTo>
                  <a:lnTo>
                    <a:pt x="70" y="472"/>
                  </a:lnTo>
                  <a:lnTo>
                    <a:pt x="77" y="429"/>
                  </a:lnTo>
                  <a:lnTo>
                    <a:pt x="81" y="416"/>
                  </a:lnTo>
                  <a:lnTo>
                    <a:pt x="100" y="416"/>
                  </a:lnTo>
                  <a:lnTo>
                    <a:pt x="137" y="408"/>
                  </a:lnTo>
                  <a:lnTo>
                    <a:pt x="158" y="397"/>
                  </a:lnTo>
                  <a:lnTo>
                    <a:pt x="164" y="391"/>
                  </a:lnTo>
                  <a:lnTo>
                    <a:pt x="170" y="383"/>
                  </a:lnTo>
                  <a:lnTo>
                    <a:pt x="181" y="368"/>
                  </a:lnTo>
                  <a:lnTo>
                    <a:pt x="187" y="349"/>
                  </a:lnTo>
                  <a:lnTo>
                    <a:pt x="200" y="314"/>
                  </a:lnTo>
                  <a:lnTo>
                    <a:pt x="212" y="297"/>
                  </a:lnTo>
                  <a:lnTo>
                    <a:pt x="229" y="285"/>
                  </a:lnTo>
                  <a:lnTo>
                    <a:pt x="369" y="222"/>
                  </a:lnTo>
                  <a:lnTo>
                    <a:pt x="562" y="149"/>
                  </a:lnTo>
                  <a:lnTo>
                    <a:pt x="746" y="87"/>
                  </a:lnTo>
                  <a:lnTo>
                    <a:pt x="813" y="68"/>
                  </a:lnTo>
                  <a:lnTo>
                    <a:pt x="856" y="58"/>
                  </a:lnTo>
                  <a:lnTo>
                    <a:pt x="948" y="54"/>
                  </a:lnTo>
                  <a:lnTo>
                    <a:pt x="1005" y="49"/>
                  </a:lnTo>
                  <a:lnTo>
                    <a:pt x="1027" y="45"/>
                  </a:lnTo>
                  <a:lnTo>
                    <a:pt x="1044" y="39"/>
                  </a:lnTo>
                  <a:lnTo>
                    <a:pt x="1080" y="10"/>
                  </a:lnTo>
                  <a:lnTo>
                    <a:pt x="1142" y="4"/>
                  </a:lnTo>
                  <a:lnTo>
                    <a:pt x="1192" y="0"/>
                  </a:lnTo>
                  <a:lnTo>
                    <a:pt x="1251" y="0"/>
                  </a:lnTo>
                  <a:lnTo>
                    <a:pt x="1315" y="6"/>
                  </a:lnTo>
                  <a:lnTo>
                    <a:pt x="1387" y="20"/>
                  </a:lnTo>
                  <a:lnTo>
                    <a:pt x="1458" y="43"/>
                  </a:lnTo>
                  <a:lnTo>
                    <a:pt x="1493" y="60"/>
                  </a:lnTo>
                  <a:lnTo>
                    <a:pt x="1529" y="79"/>
                  </a:lnTo>
                  <a:lnTo>
                    <a:pt x="1596" y="129"/>
                  </a:lnTo>
                  <a:lnTo>
                    <a:pt x="1652" y="179"/>
                  </a:lnTo>
                  <a:lnTo>
                    <a:pt x="1698" y="233"/>
                  </a:lnTo>
                  <a:lnTo>
                    <a:pt x="1733" y="289"/>
                  </a:lnTo>
                  <a:lnTo>
                    <a:pt x="1758" y="347"/>
                  </a:lnTo>
                  <a:lnTo>
                    <a:pt x="1769" y="408"/>
                  </a:lnTo>
                  <a:lnTo>
                    <a:pt x="1771" y="439"/>
                  </a:lnTo>
                  <a:lnTo>
                    <a:pt x="1771" y="468"/>
                  </a:lnTo>
                  <a:lnTo>
                    <a:pt x="1769" y="499"/>
                  </a:lnTo>
                  <a:lnTo>
                    <a:pt x="1760" y="531"/>
                  </a:lnTo>
                  <a:lnTo>
                    <a:pt x="1742" y="593"/>
                  </a:lnTo>
                  <a:lnTo>
                    <a:pt x="1710" y="654"/>
                  </a:lnTo>
                  <a:lnTo>
                    <a:pt x="1671" y="716"/>
                  </a:lnTo>
                  <a:lnTo>
                    <a:pt x="1644" y="747"/>
                  </a:lnTo>
                  <a:lnTo>
                    <a:pt x="1616" y="776"/>
                  </a:lnTo>
                  <a:lnTo>
                    <a:pt x="1587" y="806"/>
                  </a:lnTo>
                  <a:lnTo>
                    <a:pt x="1554" y="837"/>
                  </a:lnTo>
                  <a:lnTo>
                    <a:pt x="1481" y="895"/>
                  </a:lnTo>
                  <a:lnTo>
                    <a:pt x="1439" y="924"/>
                  </a:lnTo>
                  <a:lnTo>
                    <a:pt x="1395" y="951"/>
                  </a:lnTo>
                  <a:lnTo>
                    <a:pt x="1299" y="1006"/>
                  </a:lnTo>
                  <a:lnTo>
                    <a:pt x="1425" y="1128"/>
                  </a:lnTo>
                  <a:lnTo>
                    <a:pt x="1443" y="1151"/>
                  </a:lnTo>
                  <a:lnTo>
                    <a:pt x="1458" y="1174"/>
                  </a:lnTo>
                  <a:lnTo>
                    <a:pt x="1568" y="1309"/>
                  </a:lnTo>
                  <a:lnTo>
                    <a:pt x="1612" y="1356"/>
                  </a:lnTo>
                  <a:lnTo>
                    <a:pt x="1646" y="1390"/>
                  </a:lnTo>
                  <a:lnTo>
                    <a:pt x="1673" y="1413"/>
                  </a:lnTo>
                  <a:lnTo>
                    <a:pt x="1694" y="1427"/>
                  </a:lnTo>
                  <a:lnTo>
                    <a:pt x="1729" y="1444"/>
                  </a:lnTo>
                  <a:lnTo>
                    <a:pt x="1746" y="1452"/>
                  </a:lnTo>
                  <a:lnTo>
                    <a:pt x="1764" y="1465"/>
                  </a:lnTo>
                  <a:lnTo>
                    <a:pt x="1865" y="1583"/>
                  </a:lnTo>
                  <a:lnTo>
                    <a:pt x="2038" y="1719"/>
                  </a:lnTo>
                  <a:lnTo>
                    <a:pt x="2146" y="1827"/>
                  </a:lnTo>
                  <a:lnTo>
                    <a:pt x="2225" y="1906"/>
                  </a:lnTo>
                  <a:lnTo>
                    <a:pt x="2292" y="1963"/>
                  </a:lnTo>
                  <a:lnTo>
                    <a:pt x="2446" y="2085"/>
                  </a:lnTo>
                  <a:lnTo>
                    <a:pt x="2534" y="2156"/>
                  </a:lnTo>
                  <a:lnTo>
                    <a:pt x="2559" y="2179"/>
                  </a:lnTo>
                  <a:lnTo>
                    <a:pt x="2578" y="2198"/>
                  </a:lnTo>
                  <a:lnTo>
                    <a:pt x="2590" y="2217"/>
                  </a:lnTo>
                  <a:lnTo>
                    <a:pt x="2599" y="223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76800" y="5589720"/>
              <a:ext cx="503640" cy="748080"/>
            </a:xfrm>
            <a:custGeom>
              <a:avLst/>
              <a:gdLst/>
              <a:ahLst/>
              <a:rect l="0" t="0" r="r" b="b"/>
              <a:pathLst>
                <a:path w="1399" h="2078">
                  <a:moveTo>
                    <a:pt x="1385" y="140"/>
                  </a:moveTo>
                  <a:lnTo>
                    <a:pt x="1393" y="161"/>
                  </a:lnTo>
                  <a:lnTo>
                    <a:pt x="1397" y="184"/>
                  </a:lnTo>
                  <a:lnTo>
                    <a:pt x="1399" y="236"/>
                  </a:lnTo>
                  <a:lnTo>
                    <a:pt x="1397" y="301"/>
                  </a:lnTo>
                  <a:lnTo>
                    <a:pt x="1391" y="374"/>
                  </a:lnTo>
                  <a:lnTo>
                    <a:pt x="1372" y="560"/>
                  </a:lnTo>
                  <a:lnTo>
                    <a:pt x="1355" y="798"/>
                  </a:lnTo>
                  <a:lnTo>
                    <a:pt x="1345" y="1286"/>
                  </a:lnTo>
                  <a:lnTo>
                    <a:pt x="1343" y="1601"/>
                  </a:lnTo>
                  <a:lnTo>
                    <a:pt x="1337" y="1687"/>
                  </a:lnTo>
                  <a:lnTo>
                    <a:pt x="1332" y="1712"/>
                  </a:lnTo>
                  <a:lnTo>
                    <a:pt x="1326" y="1718"/>
                  </a:lnTo>
                  <a:lnTo>
                    <a:pt x="1322" y="1723"/>
                  </a:lnTo>
                  <a:lnTo>
                    <a:pt x="1318" y="1723"/>
                  </a:lnTo>
                  <a:lnTo>
                    <a:pt x="1311" y="1720"/>
                  </a:lnTo>
                  <a:lnTo>
                    <a:pt x="1297" y="1704"/>
                  </a:lnTo>
                  <a:lnTo>
                    <a:pt x="1259" y="1633"/>
                  </a:lnTo>
                  <a:lnTo>
                    <a:pt x="1226" y="1817"/>
                  </a:lnTo>
                  <a:lnTo>
                    <a:pt x="1207" y="1804"/>
                  </a:lnTo>
                  <a:lnTo>
                    <a:pt x="1194" y="1794"/>
                  </a:lnTo>
                  <a:lnTo>
                    <a:pt x="1190" y="1779"/>
                  </a:lnTo>
                  <a:lnTo>
                    <a:pt x="1186" y="1764"/>
                  </a:lnTo>
                  <a:lnTo>
                    <a:pt x="1186" y="1731"/>
                  </a:lnTo>
                  <a:lnTo>
                    <a:pt x="1186" y="1689"/>
                  </a:lnTo>
                  <a:lnTo>
                    <a:pt x="1146" y="1618"/>
                  </a:lnTo>
                  <a:lnTo>
                    <a:pt x="1142" y="1643"/>
                  </a:lnTo>
                  <a:lnTo>
                    <a:pt x="1136" y="1660"/>
                  </a:lnTo>
                  <a:lnTo>
                    <a:pt x="1129" y="1668"/>
                  </a:lnTo>
                  <a:lnTo>
                    <a:pt x="1121" y="1674"/>
                  </a:lnTo>
                  <a:lnTo>
                    <a:pt x="1115" y="1672"/>
                  </a:lnTo>
                  <a:lnTo>
                    <a:pt x="1106" y="1666"/>
                  </a:lnTo>
                  <a:lnTo>
                    <a:pt x="1094" y="1645"/>
                  </a:lnTo>
                  <a:lnTo>
                    <a:pt x="1071" y="1582"/>
                  </a:lnTo>
                  <a:lnTo>
                    <a:pt x="1065" y="1554"/>
                  </a:lnTo>
                  <a:lnTo>
                    <a:pt x="1062" y="1531"/>
                  </a:lnTo>
                  <a:lnTo>
                    <a:pt x="1079" y="1510"/>
                  </a:lnTo>
                  <a:lnTo>
                    <a:pt x="1079" y="1458"/>
                  </a:lnTo>
                  <a:lnTo>
                    <a:pt x="1054" y="1391"/>
                  </a:lnTo>
                  <a:lnTo>
                    <a:pt x="1054" y="1024"/>
                  </a:lnTo>
                  <a:lnTo>
                    <a:pt x="1045" y="964"/>
                  </a:lnTo>
                  <a:lnTo>
                    <a:pt x="835" y="1041"/>
                  </a:lnTo>
                  <a:lnTo>
                    <a:pt x="714" y="1083"/>
                  </a:lnTo>
                  <a:lnTo>
                    <a:pt x="653" y="1106"/>
                  </a:lnTo>
                  <a:lnTo>
                    <a:pt x="639" y="1114"/>
                  </a:lnTo>
                  <a:lnTo>
                    <a:pt x="630" y="1123"/>
                  </a:lnTo>
                  <a:lnTo>
                    <a:pt x="349" y="1720"/>
                  </a:lnTo>
                  <a:lnTo>
                    <a:pt x="255" y="1942"/>
                  </a:lnTo>
                  <a:lnTo>
                    <a:pt x="238" y="1982"/>
                  </a:lnTo>
                  <a:lnTo>
                    <a:pt x="200" y="2032"/>
                  </a:lnTo>
                  <a:lnTo>
                    <a:pt x="219" y="1924"/>
                  </a:lnTo>
                  <a:lnTo>
                    <a:pt x="228" y="1838"/>
                  </a:lnTo>
                  <a:lnTo>
                    <a:pt x="232" y="1794"/>
                  </a:lnTo>
                  <a:lnTo>
                    <a:pt x="198" y="1838"/>
                  </a:lnTo>
                  <a:lnTo>
                    <a:pt x="113" y="2032"/>
                  </a:lnTo>
                  <a:lnTo>
                    <a:pt x="96" y="2026"/>
                  </a:lnTo>
                  <a:lnTo>
                    <a:pt x="89" y="2020"/>
                  </a:lnTo>
                  <a:lnTo>
                    <a:pt x="87" y="2011"/>
                  </a:lnTo>
                  <a:lnTo>
                    <a:pt x="89" y="2003"/>
                  </a:lnTo>
                  <a:lnTo>
                    <a:pt x="104" y="1982"/>
                  </a:lnTo>
                  <a:lnTo>
                    <a:pt x="113" y="1968"/>
                  </a:lnTo>
                  <a:lnTo>
                    <a:pt x="115" y="1951"/>
                  </a:lnTo>
                  <a:lnTo>
                    <a:pt x="110" y="1924"/>
                  </a:lnTo>
                  <a:lnTo>
                    <a:pt x="104" y="1917"/>
                  </a:lnTo>
                  <a:lnTo>
                    <a:pt x="98" y="1928"/>
                  </a:lnTo>
                  <a:lnTo>
                    <a:pt x="89" y="1949"/>
                  </a:lnTo>
                  <a:lnTo>
                    <a:pt x="77" y="1980"/>
                  </a:lnTo>
                  <a:lnTo>
                    <a:pt x="60" y="2014"/>
                  </a:lnTo>
                  <a:lnTo>
                    <a:pt x="37" y="2047"/>
                  </a:lnTo>
                  <a:lnTo>
                    <a:pt x="23" y="2064"/>
                  </a:lnTo>
                  <a:lnTo>
                    <a:pt x="6" y="2078"/>
                  </a:lnTo>
                  <a:lnTo>
                    <a:pt x="0" y="1959"/>
                  </a:lnTo>
                  <a:lnTo>
                    <a:pt x="0" y="1934"/>
                  </a:lnTo>
                  <a:lnTo>
                    <a:pt x="2" y="1924"/>
                  </a:lnTo>
                  <a:lnTo>
                    <a:pt x="16" y="1909"/>
                  </a:lnTo>
                  <a:lnTo>
                    <a:pt x="31" y="1892"/>
                  </a:lnTo>
                  <a:lnTo>
                    <a:pt x="46" y="1852"/>
                  </a:lnTo>
                  <a:lnTo>
                    <a:pt x="50" y="1806"/>
                  </a:lnTo>
                  <a:lnTo>
                    <a:pt x="79" y="1781"/>
                  </a:lnTo>
                  <a:lnTo>
                    <a:pt x="92" y="1767"/>
                  </a:lnTo>
                  <a:lnTo>
                    <a:pt x="98" y="1754"/>
                  </a:lnTo>
                  <a:lnTo>
                    <a:pt x="104" y="1737"/>
                  </a:lnTo>
                  <a:lnTo>
                    <a:pt x="113" y="1708"/>
                  </a:lnTo>
                  <a:lnTo>
                    <a:pt x="129" y="1660"/>
                  </a:lnTo>
                  <a:lnTo>
                    <a:pt x="167" y="1586"/>
                  </a:lnTo>
                  <a:lnTo>
                    <a:pt x="223" y="1479"/>
                  </a:lnTo>
                  <a:lnTo>
                    <a:pt x="301" y="1340"/>
                  </a:lnTo>
                  <a:lnTo>
                    <a:pt x="343" y="1255"/>
                  </a:lnTo>
                  <a:lnTo>
                    <a:pt x="363" y="1209"/>
                  </a:lnTo>
                  <a:lnTo>
                    <a:pt x="373" y="1179"/>
                  </a:lnTo>
                  <a:lnTo>
                    <a:pt x="390" y="1148"/>
                  </a:lnTo>
                  <a:lnTo>
                    <a:pt x="345" y="1139"/>
                  </a:lnTo>
                  <a:lnTo>
                    <a:pt x="336" y="1135"/>
                  </a:lnTo>
                  <a:lnTo>
                    <a:pt x="334" y="1133"/>
                  </a:lnTo>
                  <a:lnTo>
                    <a:pt x="334" y="1123"/>
                  </a:lnTo>
                  <a:lnTo>
                    <a:pt x="334" y="1114"/>
                  </a:lnTo>
                  <a:lnTo>
                    <a:pt x="326" y="1100"/>
                  </a:lnTo>
                  <a:lnTo>
                    <a:pt x="320" y="1083"/>
                  </a:lnTo>
                  <a:lnTo>
                    <a:pt x="322" y="1075"/>
                  </a:lnTo>
                  <a:lnTo>
                    <a:pt x="328" y="1068"/>
                  </a:lnTo>
                  <a:lnTo>
                    <a:pt x="345" y="1060"/>
                  </a:lnTo>
                  <a:lnTo>
                    <a:pt x="367" y="1052"/>
                  </a:lnTo>
                  <a:lnTo>
                    <a:pt x="423" y="1037"/>
                  </a:lnTo>
                  <a:lnTo>
                    <a:pt x="450" y="1029"/>
                  </a:lnTo>
                  <a:lnTo>
                    <a:pt x="469" y="1016"/>
                  </a:lnTo>
                  <a:lnTo>
                    <a:pt x="522" y="924"/>
                  </a:lnTo>
                  <a:lnTo>
                    <a:pt x="522" y="880"/>
                  </a:lnTo>
                  <a:lnTo>
                    <a:pt x="566" y="836"/>
                  </a:lnTo>
                  <a:lnTo>
                    <a:pt x="574" y="825"/>
                  </a:lnTo>
                  <a:lnTo>
                    <a:pt x="574" y="817"/>
                  </a:lnTo>
                  <a:lnTo>
                    <a:pt x="574" y="796"/>
                  </a:lnTo>
                  <a:lnTo>
                    <a:pt x="578" y="779"/>
                  </a:lnTo>
                  <a:lnTo>
                    <a:pt x="586" y="750"/>
                  </a:lnTo>
                  <a:lnTo>
                    <a:pt x="658" y="641"/>
                  </a:lnTo>
                  <a:lnTo>
                    <a:pt x="683" y="593"/>
                  </a:lnTo>
                  <a:lnTo>
                    <a:pt x="699" y="572"/>
                  </a:lnTo>
                  <a:lnTo>
                    <a:pt x="722" y="541"/>
                  </a:lnTo>
                  <a:lnTo>
                    <a:pt x="758" y="483"/>
                  </a:lnTo>
                  <a:lnTo>
                    <a:pt x="762" y="456"/>
                  </a:lnTo>
                  <a:lnTo>
                    <a:pt x="785" y="443"/>
                  </a:lnTo>
                  <a:lnTo>
                    <a:pt x="848" y="299"/>
                  </a:lnTo>
                  <a:lnTo>
                    <a:pt x="869" y="263"/>
                  </a:lnTo>
                  <a:lnTo>
                    <a:pt x="882" y="242"/>
                  </a:lnTo>
                  <a:lnTo>
                    <a:pt x="902" y="224"/>
                  </a:lnTo>
                  <a:lnTo>
                    <a:pt x="913" y="211"/>
                  </a:lnTo>
                  <a:lnTo>
                    <a:pt x="928" y="188"/>
                  </a:lnTo>
                  <a:lnTo>
                    <a:pt x="944" y="157"/>
                  </a:lnTo>
                  <a:lnTo>
                    <a:pt x="955" y="129"/>
                  </a:lnTo>
                  <a:lnTo>
                    <a:pt x="963" y="90"/>
                  </a:lnTo>
                  <a:lnTo>
                    <a:pt x="967" y="81"/>
                  </a:lnTo>
                  <a:lnTo>
                    <a:pt x="976" y="73"/>
                  </a:lnTo>
                  <a:lnTo>
                    <a:pt x="988" y="69"/>
                  </a:lnTo>
                  <a:lnTo>
                    <a:pt x="1011" y="69"/>
                  </a:lnTo>
                  <a:lnTo>
                    <a:pt x="1024" y="69"/>
                  </a:lnTo>
                  <a:lnTo>
                    <a:pt x="1032" y="75"/>
                  </a:lnTo>
                  <a:lnTo>
                    <a:pt x="1034" y="79"/>
                  </a:lnTo>
                  <a:lnTo>
                    <a:pt x="1036" y="85"/>
                  </a:lnTo>
                  <a:lnTo>
                    <a:pt x="1038" y="104"/>
                  </a:lnTo>
                  <a:lnTo>
                    <a:pt x="1045" y="121"/>
                  </a:lnTo>
                  <a:lnTo>
                    <a:pt x="1050" y="125"/>
                  </a:lnTo>
                  <a:lnTo>
                    <a:pt x="1056" y="121"/>
                  </a:lnTo>
                  <a:lnTo>
                    <a:pt x="1067" y="90"/>
                  </a:lnTo>
                  <a:lnTo>
                    <a:pt x="1073" y="73"/>
                  </a:lnTo>
                  <a:lnTo>
                    <a:pt x="1083" y="56"/>
                  </a:lnTo>
                  <a:lnTo>
                    <a:pt x="1096" y="41"/>
                  </a:lnTo>
                  <a:lnTo>
                    <a:pt x="1111" y="33"/>
                  </a:lnTo>
                  <a:lnTo>
                    <a:pt x="1148" y="35"/>
                  </a:lnTo>
                  <a:lnTo>
                    <a:pt x="1171" y="39"/>
                  </a:lnTo>
                  <a:lnTo>
                    <a:pt x="1184" y="39"/>
                  </a:lnTo>
                  <a:lnTo>
                    <a:pt x="1201" y="35"/>
                  </a:lnTo>
                  <a:lnTo>
                    <a:pt x="1257" y="8"/>
                  </a:lnTo>
                  <a:lnTo>
                    <a:pt x="1270" y="2"/>
                  </a:lnTo>
                  <a:lnTo>
                    <a:pt x="1293" y="0"/>
                  </a:lnTo>
                  <a:lnTo>
                    <a:pt x="1322" y="2"/>
                  </a:lnTo>
                  <a:lnTo>
                    <a:pt x="1335" y="8"/>
                  </a:lnTo>
                  <a:lnTo>
                    <a:pt x="1343" y="16"/>
                  </a:lnTo>
                  <a:lnTo>
                    <a:pt x="1349" y="33"/>
                  </a:lnTo>
                  <a:lnTo>
                    <a:pt x="1349" y="52"/>
                  </a:lnTo>
                  <a:lnTo>
                    <a:pt x="1345" y="90"/>
                  </a:lnTo>
                  <a:lnTo>
                    <a:pt x="1347" y="108"/>
                  </a:lnTo>
                  <a:lnTo>
                    <a:pt x="1353" y="123"/>
                  </a:lnTo>
                  <a:lnTo>
                    <a:pt x="1358" y="129"/>
                  </a:lnTo>
                  <a:lnTo>
                    <a:pt x="1366" y="133"/>
                  </a:lnTo>
                  <a:lnTo>
                    <a:pt x="1385" y="14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602400" y="5607000"/>
              <a:ext cx="405000" cy="594000"/>
            </a:xfrm>
            <a:custGeom>
              <a:avLst/>
              <a:gdLst/>
              <a:ahLst/>
              <a:rect l="0" t="0" r="r" b="b"/>
              <a:pathLst>
                <a:path w="1125" h="1650">
                  <a:moveTo>
                    <a:pt x="980" y="207"/>
                  </a:moveTo>
                  <a:lnTo>
                    <a:pt x="988" y="234"/>
                  </a:lnTo>
                  <a:lnTo>
                    <a:pt x="986" y="253"/>
                  </a:lnTo>
                  <a:lnTo>
                    <a:pt x="980" y="267"/>
                  </a:lnTo>
                  <a:lnTo>
                    <a:pt x="966" y="278"/>
                  </a:lnTo>
                  <a:lnTo>
                    <a:pt x="920" y="294"/>
                  </a:lnTo>
                  <a:lnTo>
                    <a:pt x="856" y="309"/>
                  </a:lnTo>
                  <a:lnTo>
                    <a:pt x="771" y="334"/>
                  </a:lnTo>
                  <a:lnTo>
                    <a:pt x="721" y="353"/>
                  </a:lnTo>
                  <a:lnTo>
                    <a:pt x="667" y="378"/>
                  </a:lnTo>
                  <a:lnTo>
                    <a:pt x="609" y="411"/>
                  </a:lnTo>
                  <a:lnTo>
                    <a:pt x="546" y="450"/>
                  </a:lnTo>
                  <a:lnTo>
                    <a:pt x="482" y="500"/>
                  </a:lnTo>
                  <a:lnTo>
                    <a:pt x="414" y="560"/>
                  </a:lnTo>
                  <a:lnTo>
                    <a:pt x="378" y="600"/>
                  </a:lnTo>
                  <a:lnTo>
                    <a:pt x="345" y="643"/>
                  </a:lnTo>
                  <a:lnTo>
                    <a:pt x="316" y="689"/>
                  </a:lnTo>
                  <a:lnTo>
                    <a:pt x="291" y="739"/>
                  </a:lnTo>
                  <a:lnTo>
                    <a:pt x="273" y="791"/>
                  </a:lnTo>
                  <a:lnTo>
                    <a:pt x="254" y="842"/>
                  </a:lnTo>
                  <a:lnTo>
                    <a:pt x="244" y="896"/>
                  </a:lnTo>
                  <a:lnTo>
                    <a:pt x="236" y="948"/>
                  </a:lnTo>
                  <a:lnTo>
                    <a:pt x="231" y="1052"/>
                  </a:lnTo>
                  <a:lnTo>
                    <a:pt x="236" y="1099"/>
                  </a:lnTo>
                  <a:lnTo>
                    <a:pt x="244" y="1147"/>
                  </a:lnTo>
                  <a:lnTo>
                    <a:pt x="254" y="1189"/>
                  </a:lnTo>
                  <a:lnTo>
                    <a:pt x="271" y="1228"/>
                  </a:lnTo>
                  <a:lnTo>
                    <a:pt x="291" y="1263"/>
                  </a:lnTo>
                  <a:lnTo>
                    <a:pt x="314" y="1292"/>
                  </a:lnTo>
                  <a:lnTo>
                    <a:pt x="370" y="1346"/>
                  </a:lnTo>
                  <a:lnTo>
                    <a:pt x="426" y="1390"/>
                  </a:lnTo>
                  <a:lnTo>
                    <a:pt x="488" y="1427"/>
                  </a:lnTo>
                  <a:lnTo>
                    <a:pt x="550" y="1450"/>
                  </a:lnTo>
                  <a:lnTo>
                    <a:pt x="616" y="1461"/>
                  </a:lnTo>
                  <a:lnTo>
                    <a:pt x="649" y="1461"/>
                  </a:lnTo>
                  <a:lnTo>
                    <a:pt x="680" y="1454"/>
                  </a:lnTo>
                  <a:lnTo>
                    <a:pt x="713" y="1446"/>
                  </a:lnTo>
                  <a:lnTo>
                    <a:pt x="746" y="1432"/>
                  </a:lnTo>
                  <a:lnTo>
                    <a:pt x="781" y="1413"/>
                  </a:lnTo>
                  <a:lnTo>
                    <a:pt x="814" y="1388"/>
                  </a:lnTo>
                  <a:lnTo>
                    <a:pt x="796" y="1355"/>
                  </a:lnTo>
                  <a:lnTo>
                    <a:pt x="787" y="1330"/>
                  </a:lnTo>
                  <a:lnTo>
                    <a:pt x="781" y="1292"/>
                  </a:lnTo>
                  <a:lnTo>
                    <a:pt x="783" y="1238"/>
                  </a:lnTo>
                  <a:lnTo>
                    <a:pt x="792" y="1164"/>
                  </a:lnTo>
                  <a:lnTo>
                    <a:pt x="810" y="1066"/>
                  </a:lnTo>
                  <a:lnTo>
                    <a:pt x="841" y="939"/>
                  </a:lnTo>
                  <a:lnTo>
                    <a:pt x="736" y="958"/>
                  </a:lnTo>
                  <a:lnTo>
                    <a:pt x="651" y="979"/>
                  </a:lnTo>
                  <a:lnTo>
                    <a:pt x="587" y="1002"/>
                  </a:lnTo>
                  <a:lnTo>
                    <a:pt x="538" y="1022"/>
                  </a:lnTo>
                  <a:lnTo>
                    <a:pt x="480" y="1052"/>
                  </a:lnTo>
                  <a:lnTo>
                    <a:pt x="461" y="1058"/>
                  </a:lnTo>
                  <a:lnTo>
                    <a:pt x="445" y="1054"/>
                  </a:lnTo>
                  <a:lnTo>
                    <a:pt x="436" y="1047"/>
                  </a:lnTo>
                  <a:lnTo>
                    <a:pt x="434" y="1041"/>
                  </a:lnTo>
                  <a:lnTo>
                    <a:pt x="439" y="1037"/>
                  </a:lnTo>
                  <a:lnTo>
                    <a:pt x="445" y="1031"/>
                  </a:lnTo>
                  <a:lnTo>
                    <a:pt x="465" y="1020"/>
                  </a:lnTo>
                  <a:lnTo>
                    <a:pt x="484" y="1006"/>
                  </a:lnTo>
                  <a:lnTo>
                    <a:pt x="540" y="906"/>
                  </a:lnTo>
                  <a:lnTo>
                    <a:pt x="578" y="887"/>
                  </a:lnTo>
                  <a:lnTo>
                    <a:pt x="593" y="875"/>
                  </a:lnTo>
                  <a:lnTo>
                    <a:pt x="599" y="865"/>
                  </a:lnTo>
                  <a:lnTo>
                    <a:pt x="616" y="848"/>
                  </a:lnTo>
                  <a:lnTo>
                    <a:pt x="711" y="814"/>
                  </a:lnTo>
                  <a:lnTo>
                    <a:pt x="717" y="789"/>
                  </a:lnTo>
                  <a:lnTo>
                    <a:pt x="719" y="787"/>
                  </a:lnTo>
                  <a:lnTo>
                    <a:pt x="742" y="789"/>
                  </a:lnTo>
                  <a:lnTo>
                    <a:pt x="767" y="785"/>
                  </a:lnTo>
                  <a:lnTo>
                    <a:pt x="802" y="774"/>
                  </a:lnTo>
                  <a:lnTo>
                    <a:pt x="852" y="758"/>
                  </a:lnTo>
                  <a:lnTo>
                    <a:pt x="891" y="737"/>
                  </a:lnTo>
                  <a:lnTo>
                    <a:pt x="922" y="716"/>
                  </a:lnTo>
                  <a:lnTo>
                    <a:pt x="947" y="695"/>
                  </a:lnTo>
                  <a:lnTo>
                    <a:pt x="986" y="668"/>
                  </a:lnTo>
                  <a:lnTo>
                    <a:pt x="1001" y="662"/>
                  </a:lnTo>
                  <a:lnTo>
                    <a:pt x="1015" y="664"/>
                  </a:lnTo>
                  <a:lnTo>
                    <a:pt x="1030" y="675"/>
                  </a:lnTo>
                  <a:lnTo>
                    <a:pt x="1038" y="685"/>
                  </a:lnTo>
                  <a:lnTo>
                    <a:pt x="1044" y="704"/>
                  </a:lnTo>
                  <a:lnTo>
                    <a:pt x="1048" y="716"/>
                  </a:lnTo>
                  <a:lnTo>
                    <a:pt x="1055" y="718"/>
                  </a:lnTo>
                  <a:lnTo>
                    <a:pt x="1063" y="712"/>
                  </a:lnTo>
                  <a:lnTo>
                    <a:pt x="1094" y="687"/>
                  </a:lnTo>
                  <a:lnTo>
                    <a:pt x="1125" y="691"/>
                  </a:lnTo>
                  <a:lnTo>
                    <a:pt x="1115" y="812"/>
                  </a:lnTo>
                  <a:lnTo>
                    <a:pt x="1098" y="914"/>
                  </a:lnTo>
                  <a:lnTo>
                    <a:pt x="1055" y="1085"/>
                  </a:lnTo>
                  <a:lnTo>
                    <a:pt x="1036" y="1164"/>
                  </a:lnTo>
                  <a:lnTo>
                    <a:pt x="1021" y="1247"/>
                  </a:lnTo>
                  <a:lnTo>
                    <a:pt x="1013" y="1340"/>
                  </a:lnTo>
                  <a:lnTo>
                    <a:pt x="1015" y="1448"/>
                  </a:lnTo>
                  <a:lnTo>
                    <a:pt x="1028" y="1575"/>
                  </a:lnTo>
                  <a:lnTo>
                    <a:pt x="1034" y="1623"/>
                  </a:lnTo>
                  <a:lnTo>
                    <a:pt x="1032" y="1631"/>
                  </a:lnTo>
                  <a:lnTo>
                    <a:pt x="1028" y="1631"/>
                  </a:lnTo>
                  <a:lnTo>
                    <a:pt x="1007" y="1637"/>
                  </a:lnTo>
                  <a:lnTo>
                    <a:pt x="997" y="1614"/>
                  </a:lnTo>
                  <a:lnTo>
                    <a:pt x="986" y="1610"/>
                  </a:lnTo>
                  <a:lnTo>
                    <a:pt x="974" y="1614"/>
                  </a:lnTo>
                  <a:lnTo>
                    <a:pt x="968" y="1612"/>
                  </a:lnTo>
                  <a:lnTo>
                    <a:pt x="959" y="1606"/>
                  </a:lnTo>
                  <a:lnTo>
                    <a:pt x="941" y="1554"/>
                  </a:lnTo>
                  <a:lnTo>
                    <a:pt x="928" y="1548"/>
                  </a:lnTo>
                  <a:lnTo>
                    <a:pt x="914" y="1535"/>
                  </a:lnTo>
                  <a:lnTo>
                    <a:pt x="885" y="1511"/>
                  </a:lnTo>
                  <a:lnTo>
                    <a:pt x="858" y="1492"/>
                  </a:lnTo>
                  <a:lnTo>
                    <a:pt x="847" y="1488"/>
                  </a:lnTo>
                  <a:lnTo>
                    <a:pt x="837" y="1488"/>
                  </a:lnTo>
                  <a:lnTo>
                    <a:pt x="818" y="1504"/>
                  </a:lnTo>
                  <a:lnTo>
                    <a:pt x="804" y="1527"/>
                  </a:lnTo>
                  <a:lnTo>
                    <a:pt x="787" y="1552"/>
                  </a:lnTo>
                  <a:lnTo>
                    <a:pt x="767" y="1579"/>
                  </a:lnTo>
                  <a:lnTo>
                    <a:pt x="756" y="1592"/>
                  </a:lnTo>
                  <a:lnTo>
                    <a:pt x="740" y="1604"/>
                  </a:lnTo>
                  <a:lnTo>
                    <a:pt x="703" y="1625"/>
                  </a:lnTo>
                  <a:lnTo>
                    <a:pt x="653" y="1641"/>
                  </a:lnTo>
                  <a:lnTo>
                    <a:pt x="620" y="1648"/>
                  </a:lnTo>
                  <a:lnTo>
                    <a:pt x="584" y="1650"/>
                  </a:lnTo>
                  <a:lnTo>
                    <a:pt x="536" y="1648"/>
                  </a:lnTo>
                  <a:lnTo>
                    <a:pt x="484" y="1644"/>
                  </a:lnTo>
                  <a:lnTo>
                    <a:pt x="436" y="1633"/>
                  </a:lnTo>
                  <a:lnTo>
                    <a:pt x="387" y="1617"/>
                  </a:lnTo>
                  <a:lnTo>
                    <a:pt x="341" y="1598"/>
                  </a:lnTo>
                  <a:lnTo>
                    <a:pt x="294" y="1573"/>
                  </a:lnTo>
                  <a:lnTo>
                    <a:pt x="250" y="1542"/>
                  </a:lnTo>
                  <a:lnTo>
                    <a:pt x="209" y="1506"/>
                  </a:lnTo>
                  <a:lnTo>
                    <a:pt x="171" y="1469"/>
                  </a:lnTo>
                  <a:lnTo>
                    <a:pt x="134" y="1423"/>
                  </a:lnTo>
                  <a:lnTo>
                    <a:pt x="101" y="1376"/>
                  </a:lnTo>
                  <a:lnTo>
                    <a:pt x="72" y="1324"/>
                  </a:lnTo>
                  <a:lnTo>
                    <a:pt x="49" y="1265"/>
                  </a:lnTo>
                  <a:lnTo>
                    <a:pt x="28" y="1203"/>
                  </a:lnTo>
                  <a:lnTo>
                    <a:pt x="14" y="1137"/>
                  </a:lnTo>
                  <a:lnTo>
                    <a:pt x="4" y="1066"/>
                  </a:lnTo>
                  <a:lnTo>
                    <a:pt x="0" y="973"/>
                  </a:lnTo>
                  <a:lnTo>
                    <a:pt x="4" y="883"/>
                  </a:lnTo>
                  <a:lnTo>
                    <a:pt x="16" y="799"/>
                  </a:lnTo>
                  <a:lnTo>
                    <a:pt x="33" y="720"/>
                  </a:lnTo>
                  <a:lnTo>
                    <a:pt x="57" y="648"/>
                  </a:lnTo>
                  <a:lnTo>
                    <a:pt x="84" y="579"/>
                  </a:lnTo>
                  <a:lnTo>
                    <a:pt x="115" y="517"/>
                  </a:lnTo>
                  <a:lnTo>
                    <a:pt x="149" y="459"/>
                  </a:lnTo>
                  <a:lnTo>
                    <a:pt x="215" y="357"/>
                  </a:lnTo>
                  <a:lnTo>
                    <a:pt x="281" y="276"/>
                  </a:lnTo>
                  <a:lnTo>
                    <a:pt x="333" y="218"/>
                  </a:lnTo>
                  <a:lnTo>
                    <a:pt x="366" y="180"/>
                  </a:lnTo>
                  <a:lnTo>
                    <a:pt x="403" y="143"/>
                  </a:lnTo>
                  <a:lnTo>
                    <a:pt x="434" y="118"/>
                  </a:lnTo>
                  <a:lnTo>
                    <a:pt x="478" y="91"/>
                  </a:lnTo>
                  <a:lnTo>
                    <a:pt x="532" y="64"/>
                  </a:lnTo>
                  <a:lnTo>
                    <a:pt x="599" y="37"/>
                  </a:lnTo>
                  <a:lnTo>
                    <a:pt x="678" y="16"/>
                  </a:lnTo>
                  <a:lnTo>
                    <a:pt x="767" y="0"/>
                  </a:lnTo>
                  <a:lnTo>
                    <a:pt x="790" y="0"/>
                  </a:lnTo>
                  <a:lnTo>
                    <a:pt x="798" y="4"/>
                  </a:lnTo>
                  <a:lnTo>
                    <a:pt x="804" y="12"/>
                  </a:lnTo>
                  <a:lnTo>
                    <a:pt x="821" y="24"/>
                  </a:lnTo>
                  <a:lnTo>
                    <a:pt x="876" y="37"/>
                  </a:lnTo>
                  <a:lnTo>
                    <a:pt x="887" y="54"/>
                  </a:lnTo>
                  <a:lnTo>
                    <a:pt x="889" y="62"/>
                  </a:lnTo>
                  <a:lnTo>
                    <a:pt x="887" y="68"/>
                  </a:lnTo>
                  <a:lnTo>
                    <a:pt x="887" y="74"/>
                  </a:lnTo>
                  <a:lnTo>
                    <a:pt x="891" y="83"/>
                  </a:lnTo>
                  <a:lnTo>
                    <a:pt x="924" y="120"/>
                  </a:lnTo>
                  <a:lnTo>
                    <a:pt x="949" y="147"/>
                  </a:lnTo>
                  <a:lnTo>
                    <a:pt x="959" y="153"/>
                  </a:lnTo>
                  <a:lnTo>
                    <a:pt x="972" y="149"/>
                  </a:lnTo>
                  <a:lnTo>
                    <a:pt x="999" y="151"/>
                  </a:lnTo>
                  <a:lnTo>
                    <a:pt x="1007" y="153"/>
                  </a:lnTo>
                  <a:lnTo>
                    <a:pt x="1011" y="157"/>
                  </a:lnTo>
                  <a:lnTo>
                    <a:pt x="1013" y="166"/>
                  </a:lnTo>
                  <a:lnTo>
                    <a:pt x="1013" y="172"/>
                  </a:lnTo>
                  <a:lnTo>
                    <a:pt x="1003" y="191"/>
                  </a:lnTo>
                  <a:lnTo>
                    <a:pt x="995" y="199"/>
                  </a:lnTo>
                  <a:lnTo>
                    <a:pt x="980" y="20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13640" y="5740560"/>
              <a:ext cx="100440" cy="119520"/>
            </a:xfrm>
            <a:custGeom>
              <a:avLst/>
              <a:gdLst/>
              <a:ahLst/>
              <a:rect l="0" t="0" r="r" b="b"/>
              <a:pathLst>
                <a:path w="279" h="332">
                  <a:moveTo>
                    <a:pt x="0" y="332"/>
                  </a:moveTo>
                  <a:lnTo>
                    <a:pt x="26" y="322"/>
                  </a:lnTo>
                  <a:lnTo>
                    <a:pt x="50" y="308"/>
                  </a:lnTo>
                  <a:lnTo>
                    <a:pt x="104" y="274"/>
                  </a:lnTo>
                  <a:lnTo>
                    <a:pt x="132" y="258"/>
                  </a:lnTo>
                  <a:lnTo>
                    <a:pt x="163" y="247"/>
                  </a:lnTo>
                  <a:lnTo>
                    <a:pt x="193" y="240"/>
                  </a:lnTo>
                  <a:lnTo>
                    <a:pt x="225" y="242"/>
                  </a:lnTo>
                  <a:lnTo>
                    <a:pt x="231" y="216"/>
                  </a:lnTo>
                  <a:lnTo>
                    <a:pt x="231" y="196"/>
                  </a:lnTo>
                  <a:lnTo>
                    <a:pt x="229" y="172"/>
                  </a:lnTo>
                  <a:lnTo>
                    <a:pt x="227" y="156"/>
                  </a:lnTo>
                  <a:lnTo>
                    <a:pt x="237" y="132"/>
                  </a:lnTo>
                  <a:lnTo>
                    <a:pt x="247" y="115"/>
                  </a:lnTo>
                  <a:lnTo>
                    <a:pt x="255" y="97"/>
                  </a:lnTo>
                  <a:lnTo>
                    <a:pt x="279" y="14"/>
                  </a:lnTo>
                  <a:lnTo>
                    <a:pt x="249" y="14"/>
                  </a:lnTo>
                  <a:lnTo>
                    <a:pt x="249" y="10"/>
                  </a:lnTo>
                  <a:lnTo>
                    <a:pt x="245" y="0"/>
                  </a:lnTo>
                  <a:lnTo>
                    <a:pt x="235" y="6"/>
                  </a:lnTo>
                  <a:lnTo>
                    <a:pt x="212" y="28"/>
                  </a:lnTo>
                  <a:lnTo>
                    <a:pt x="147" y="111"/>
                  </a:lnTo>
                  <a:lnTo>
                    <a:pt x="68" y="222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50040" y="5743440"/>
              <a:ext cx="103680" cy="178200"/>
            </a:xfrm>
            <a:custGeom>
              <a:avLst/>
              <a:gdLst/>
              <a:ahLst/>
              <a:rect l="0" t="0" r="r" b="b"/>
              <a:pathLst>
                <a:path w="288" h="495">
                  <a:moveTo>
                    <a:pt x="0" y="495"/>
                  </a:moveTo>
                  <a:lnTo>
                    <a:pt x="16" y="493"/>
                  </a:lnTo>
                  <a:lnTo>
                    <a:pt x="22" y="491"/>
                  </a:lnTo>
                  <a:lnTo>
                    <a:pt x="26" y="487"/>
                  </a:lnTo>
                  <a:lnTo>
                    <a:pt x="30" y="479"/>
                  </a:lnTo>
                  <a:lnTo>
                    <a:pt x="34" y="469"/>
                  </a:lnTo>
                  <a:lnTo>
                    <a:pt x="38" y="459"/>
                  </a:lnTo>
                  <a:lnTo>
                    <a:pt x="48" y="446"/>
                  </a:lnTo>
                  <a:lnTo>
                    <a:pt x="66" y="436"/>
                  </a:lnTo>
                  <a:lnTo>
                    <a:pt x="97" y="426"/>
                  </a:lnTo>
                  <a:lnTo>
                    <a:pt x="137" y="418"/>
                  </a:lnTo>
                  <a:lnTo>
                    <a:pt x="143" y="416"/>
                  </a:lnTo>
                  <a:lnTo>
                    <a:pt x="147" y="410"/>
                  </a:lnTo>
                  <a:lnTo>
                    <a:pt x="179" y="389"/>
                  </a:lnTo>
                  <a:lnTo>
                    <a:pt x="282" y="335"/>
                  </a:lnTo>
                  <a:lnTo>
                    <a:pt x="288" y="0"/>
                  </a:lnTo>
                  <a:lnTo>
                    <a:pt x="262" y="38"/>
                  </a:lnTo>
                  <a:lnTo>
                    <a:pt x="258" y="36"/>
                  </a:lnTo>
                  <a:lnTo>
                    <a:pt x="246" y="38"/>
                  </a:lnTo>
                  <a:lnTo>
                    <a:pt x="228" y="34"/>
                  </a:lnTo>
                  <a:lnTo>
                    <a:pt x="4" y="453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070840" y="5951520"/>
              <a:ext cx="773640" cy="630720"/>
            </a:xfrm>
            <a:custGeom>
              <a:avLst/>
              <a:gdLst/>
              <a:ahLst/>
              <a:rect l="0" t="0" r="r" b="b"/>
              <a:pathLst>
                <a:path w="2149" h="1752">
                  <a:moveTo>
                    <a:pt x="45" y="0"/>
                  </a:moveTo>
                  <a:lnTo>
                    <a:pt x="77" y="8"/>
                  </a:lnTo>
                  <a:lnTo>
                    <a:pt x="129" y="26"/>
                  </a:lnTo>
                  <a:lnTo>
                    <a:pt x="181" y="47"/>
                  </a:lnTo>
                  <a:lnTo>
                    <a:pt x="206" y="62"/>
                  </a:lnTo>
                  <a:lnTo>
                    <a:pt x="379" y="224"/>
                  </a:lnTo>
                  <a:lnTo>
                    <a:pt x="464" y="306"/>
                  </a:lnTo>
                  <a:lnTo>
                    <a:pt x="734" y="585"/>
                  </a:lnTo>
                  <a:lnTo>
                    <a:pt x="905" y="720"/>
                  </a:lnTo>
                  <a:lnTo>
                    <a:pt x="922" y="739"/>
                  </a:lnTo>
                  <a:lnTo>
                    <a:pt x="935" y="758"/>
                  </a:lnTo>
                  <a:lnTo>
                    <a:pt x="962" y="795"/>
                  </a:lnTo>
                  <a:lnTo>
                    <a:pt x="983" y="814"/>
                  </a:lnTo>
                  <a:lnTo>
                    <a:pt x="1016" y="836"/>
                  </a:lnTo>
                  <a:lnTo>
                    <a:pt x="1062" y="861"/>
                  </a:lnTo>
                  <a:lnTo>
                    <a:pt x="1124" y="890"/>
                  </a:lnTo>
                  <a:lnTo>
                    <a:pt x="1126" y="890"/>
                  </a:lnTo>
                  <a:lnTo>
                    <a:pt x="1124" y="884"/>
                  </a:lnTo>
                  <a:lnTo>
                    <a:pt x="1126" y="884"/>
                  </a:lnTo>
                  <a:lnTo>
                    <a:pt x="1141" y="894"/>
                  </a:lnTo>
                  <a:lnTo>
                    <a:pt x="1231" y="973"/>
                  </a:lnTo>
                  <a:lnTo>
                    <a:pt x="1454" y="1177"/>
                  </a:lnTo>
                  <a:lnTo>
                    <a:pt x="1647" y="1360"/>
                  </a:lnTo>
                  <a:lnTo>
                    <a:pt x="1709" y="1402"/>
                  </a:lnTo>
                  <a:lnTo>
                    <a:pt x="1755" y="1427"/>
                  </a:lnTo>
                  <a:lnTo>
                    <a:pt x="1826" y="1460"/>
                  </a:lnTo>
                  <a:lnTo>
                    <a:pt x="1868" y="1485"/>
                  </a:lnTo>
                  <a:lnTo>
                    <a:pt x="1924" y="1526"/>
                  </a:lnTo>
                  <a:lnTo>
                    <a:pt x="2001" y="1592"/>
                  </a:lnTo>
                  <a:lnTo>
                    <a:pt x="2107" y="1690"/>
                  </a:lnTo>
                  <a:lnTo>
                    <a:pt x="2145" y="1729"/>
                  </a:lnTo>
                  <a:lnTo>
                    <a:pt x="2149" y="1742"/>
                  </a:lnTo>
                  <a:lnTo>
                    <a:pt x="2147" y="1746"/>
                  </a:lnTo>
                  <a:lnTo>
                    <a:pt x="2143" y="1746"/>
                  </a:lnTo>
                  <a:lnTo>
                    <a:pt x="2134" y="1752"/>
                  </a:lnTo>
                  <a:lnTo>
                    <a:pt x="2128" y="1752"/>
                  </a:lnTo>
                  <a:lnTo>
                    <a:pt x="2122" y="1750"/>
                  </a:lnTo>
                  <a:lnTo>
                    <a:pt x="2109" y="1740"/>
                  </a:lnTo>
                  <a:lnTo>
                    <a:pt x="2049" y="1690"/>
                  </a:lnTo>
                  <a:lnTo>
                    <a:pt x="1909" y="1582"/>
                  </a:lnTo>
                  <a:lnTo>
                    <a:pt x="1516" y="1291"/>
                  </a:lnTo>
                  <a:lnTo>
                    <a:pt x="1433" y="1233"/>
                  </a:lnTo>
                  <a:lnTo>
                    <a:pt x="1395" y="1208"/>
                  </a:lnTo>
                  <a:lnTo>
                    <a:pt x="1385" y="1204"/>
                  </a:lnTo>
                  <a:lnTo>
                    <a:pt x="1377" y="1204"/>
                  </a:lnTo>
                  <a:lnTo>
                    <a:pt x="1352" y="1187"/>
                  </a:lnTo>
                  <a:lnTo>
                    <a:pt x="1287" y="1141"/>
                  </a:lnTo>
                  <a:lnTo>
                    <a:pt x="1243" y="1108"/>
                  </a:lnTo>
                  <a:lnTo>
                    <a:pt x="1199" y="1069"/>
                  </a:lnTo>
                  <a:lnTo>
                    <a:pt x="1118" y="992"/>
                  </a:lnTo>
                  <a:lnTo>
                    <a:pt x="1076" y="955"/>
                  </a:lnTo>
                  <a:lnTo>
                    <a:pt x="1033" y="921"/>
                  </a:lnTo>
                  <a:lnTo>
                    <a:pt x="985" y="890"/>
                  </a:lnTo>
                  <a:lnTo>
                    <a:pt x="932" y="863"/>
                  </a:lnTo>
                  <a:lnTo>
                    <a:pt x="905" y="853"/>
                  </a:lnTo>
                  <a:lnTo>
                    <a:pt x="901" y="851"/>
                  </a:lnTo>
                  <a:lnTo>
                    <a:pt x="893" y="836"/>
                  </a:lnTo>
                  <a:lnTo>
                    <a:pt x="855" y="789"/>
                  </a:lnTo>
                  <a:lnTo>
                    <a:pt x="828" y="758"/>
                  </a:lnTo>
                  <a:lnTo>
                    <a:pt x="799" y="735"/>
                  </a:lnTo>
                  <a:lnTo>
                    <a:pt x="743" y="702"/>
                  </a:lnTo>
                  <a:lnTo>
                    <a:pt x="693" y="675"/>
                  </a:lnTo>
                  <a:lnTo>
                    <a:pt x="670" y="662"/>
                  </a:lnTo>
                  <a:lnTo>
                    <a:pt x="647" y="646"/>
                  </a:lnTo>
                  <a:lnTo>
                    <a:pt x="559" y="538"/>
                  </a:lnTo>
                  <a:lnTo>
                    <a:pt x="473" y="488"/>
                  </a:lnTo>
                  <a:lnTo>
                    <a:pt x="435" y="444"/>
                  </a:lnTo>
                  <a:lnTo>
                    <a:pt x="400" y="398"/>
                  </a:lnTo>
                  <a:lnTo>
                    <a:pt x="379" y="373"/>
                  </a:lnTo>
                  <a:lnTo>
                    <a:pt x="352" y="344"/>
                  </a:lnTo>
                  <a:lnTo>
                    <a:pt x="321" y="313"/>
                  </a:lnTo>
                  <a:lnTo>
                    <a:pt x="277" y="280"/>
                  </a:lnTo>
                  <a:lnTo>
                    <a:pt x="246" y="257"/>
                  </a:lnTo>
                  <a:lnTo>
                    <a:pt x="231" y="248"/>
                  </a:lnTo>
                  <a:lnTo>
                    <a:pt x="181" y="172"/>
                  </a:lnTo>
                  <a:lnTo>
                    <a:pt x="112" y="168"/>
                  </a:lnTo>
                  <a:lnTo>
                    <a:pt x="97" y="165"/>
                  </a:lnTo>
                  <a:lnTo>
                    <a:pt x="93" y="161"/>
                  </a:lnTo>
                  <a:lnTo>
                    <a:pt x="91" y="153"/>
                  </a:lnTo>
                  <a:lnTo>
                    <a:pt x="89" y="149"/>
                  </a:lnTo>
                  <a:lnTo>
                    <a:pt x="79" y="145"/>
                  </a:lnTo>
                  <a:lnTo>
                    <a:pt x="18" y="145"/>
                  </a:lnTo>
                  <a:lnTo>
                    <a:pt x="6" y="130"/>
                  </a:lnTo>
                  <a:lnTo>
                    <a:pt x="0" y="122"/>
                  </a:lnTo>
                  <a:lnTo>
                    <a:pt x="2" y="118"/>
                  </a:lnTo>
                  <a:lnTo>
                    <a:pt x="6" y="114"/>
                  </a:lnTo>
                  <a:lnTo>
                    <a:pt x="10" y="109"/>
                  </a:lnTo>
                  <a:lnTo>
                    <a:pt x="14" y="99"/>
                  </a:lnTo>
                  <a:lnTo>
                    <a:pt x="14" y="85"/>
                  </a:lnTo>
                  <a:lnTo>
                    <a:pt x="6" y="58"/>
                  </a:lnTo>
                  <a:lnTo>
                    <a:pt x="8" y="41"/>
                  </a:lnTo>
                  <a:lnTo>
                    <a:pt x="14" y="22"/>
                  </a:lnTo>
                  <a:lnTo>
                    <a:pt x="25" y="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067600" y="6024600"/>
              <a:ext cx="813240" cy="659160"/>
            </a:xfrm>
            <a:custGeom>
              <a:avLst/>
              <a:gdLst/>
              <a:ahLst/>
              <a:rect l="0" t="0" r="r" b="b"/>
              <a:pathLst>
                <a:path w="2259" h="1831">
                  <a:moveTo>
                    <a:pt x="0" y="47"/>
                  </a:moveTo>
                  <a:lnTo>
                    <a:pt x="2" y="29"/>
                  </a:lnTo>
                  <a:lnTo>
                    <a:pt x="8" y="14"/>
                  </a:lnTo>
                  <a:lnTo>
                    <a:pt x="20" y="4"/>
                  </a:lnTo>
                  <a:lnTo>
                    <a:pt x="39" y="0"/>
                  </a:lnTo>
                  <a:lnTo>
                    <a:pt x="70" y="6"/>
                  </a:lnTo>
                  <a:lnTo>
                    <a:pt x="110" y="20"/>
                  </a:lnTo>
                  <a:lnTo>
                    <a:pt x="162" y="49"/>
                  </a:lnTo>
                  <a:lnTo>
                    <a:pt x="227" y="91"/>
                  </a:lnTo>
                  <a:lnTo>
                    <a:pt x="266" y="116"/>
                  </a:lnTo>
                  <a:lnTo>
                    <a:pt x="306" y="135"/>
                  </a:lnTo>
                  <a:lnTo>
                    <a:pt x="325" y="149"/>
                  </a:lnTo>
                  <a:lnTo>
                    <a:pt x="341" y="162"/>
                  </a:lnTo>
                  <a:lnTo>
                    <a:pt x="358" y="180"/>
                  </a:lnTo>
                  <a:lnTo>
                    <a:pt x="368" y="199"/>
                  </a:lnTo>
                  <a:lnTo>
                    <a:pt x="373" y="222"/>
                  </a:lnTo>
                  <a:lnTo>
                    <a:pt x="381" y="255"/>
                  </a:lnTo>
                  <a:lnTo>
                    <a:pt x="396" y="280"/>
                  </a:lnTo>
                  <a:lnTo>
                    <a:pt x="416" y="313"/>
                  </a:lnTo>
                  <a:lnTo>
                    <a:pt x="452" y="353"/>
                  </a:lnTo>
                  <a:lnTo>
                    <a:pt x="500" y="400"/>
                  </a:lnTo>
                  <a:lnTo>
                    <a:pt x="576" y="467"/>
                  </a:lnTo>
                  <a:lnTo>
                    <a:pt x="620" y="504"/>
                  </a:lnTo>
                  <a:lnTo>
                    <a:pt x="641" y="521"/>
                  </a:lnTo>
                  <a:lnTo>
                    <a:pt x="651" y="525"/>
                  </a:lnTo>
                  <a:lnTo>
                    <a:pt x="661" y="544"/>
                  </a:lnTo>
                  <a:lnTo>
                    <a:pt x="716" y="631"/>
                  </a:lnTo>
                  <a:lnTo>
                    <a:pt x="734" y="658"/>
                  </a:lnTo>
                  <a:lnTo>
                    <a:pt x="749" y="668"/>
                  </a:lnTo>
                  <a:lnTo>
                    <a:pt x="759" y="670"/>
                  </a:lnTo>
                  <a:lnTo>
                    <a:pt x="768" y="666"/>
                  </a:lnTo>
                  <a:lnTo>
                    <a:pt x="778" y="664"/>
                  </a:lnTo>
                  <a:lnTo>
                    <a:pt x="793" y="662"/>
                  </a:lnTo>
                  <a:lnTo>
                    <a:pt x="814" y="670"/>
                  </a:lnTo>
                  <a:lnTo>
                    <a:pt x="843" y="691"/>
                  </a:lnTo>
                  <a:lnTo>
                    <a:pt x="884" y="731"/>
                  </a:lnTo>
                  <a:lnTo>
                    <a:pt x="909" y="758"/>
                  </a:lnTo>
                  <a:lnTo>
                    <a:pt x="920" y="776"/>
                  </a:lnTo>
                  <a:lnTo>
                    <a:pt x="924" y="789"/>
                  </a:lnTo>
                  <a:lnTo>
                    <a:pt x="924" y="799"/>
                  </a:lnTo>
                  <a:lnTo>
                    <a:pt x="928" y="810"/>
                  </a:lnTo>
                  <a:lnTo>
                    <a:pt x="943" y="822"/>
                  </a:lnTo>
                  <a:lnTo>
                    <a:pt x="970" y="845"/>
                  </a:lnTo>
                  <a:lnTo>
                    <a:pt x="1014" y="866"/>
                  </a:lnTo>
                  <a:lnTo>
                    <a:pt x="1028" y="876"/>
                  </a:lnTo>
                  <a:lnTo>
                    <a:pt x="1049" y="891"/>
                  </a:lnTo>
                  <a:lnTo>
                    <a:pt x="1101" y="937"/>
                  </a:lnTo>
                  <a:lnTo>
                    <a:pt x="1174" y="998"/>
                  </a:lnTo>
                  <a:lnTo>
                    <a:pt x="1220" y="1031"/>
                  </a:lnTo>
                  <a:lnTo>
                    <a:pt x="1268" y="1064"/>
                  </a:lnTo>
                  <a:lnTo>
                    <a:pt x="1320" y="1085"/>
                  </a:lnTo>
                  <a:lnTo>
                    <a:pt x="1341" y="1120"/>
                  </a:lnTo>
                  <a:lnTo>
                    <a:pt x="1351" y="1133"/>
                  </a:lnTo>
                  <a:lnTo>
                    <a:pt x="1364" y="1141"/>
                  </a:lnTo>
                  <a:lnTo>
                    <a:pt x="1418" y="1178"/>
                  </a:lnTo>
                  <a:lnTo>
                    <a:pt x="1527" y="1263"/>
                  </a:lnTo>
                  <a:lnTo>
                    <a:pt x="1558" y="1272"/>
                  </a:lnTo>
                  <a:lnTo>
                    <a:pt x="1577" y="1307"/>
                  </a:lnTo>
                  <a:lnTo>
                    <a:pt x="1602" y="1326"/>
                  </a:lnTo>
                  <a:lnTo>
                    <a:pt x="1654" y="1353"/>
                  </a:lnTo>
                  <a:lnTo>
                    <a:pt x="1753" y="1417"/>
                  </a:lnTo>
                  <a:lnTo>
                    <a:pt x="2259" y="1818"/>
                  </a:lnTo>
                  <a:lnTo>
                    <a:pt x="2251" y="1828"/>
                  </a:lnTo>
                  <a:lnTo>
                    <a:pt x="2238" y="1831"/>
                  </a:lnTo>
                  <a:lnTo>
                    <a:pt x="2220" y="1822"/>
                  </a:lnTo>
                  <a:lnTo>
                    <a:pt x="2186" y="1799"/>
                  </a:lnTo>
                  <a:lnTo>
                    <a:pt x="2063" y="1706"/>
                  </a:lnTo>
                  <a:lnTo>
                    <a:pt x="1826" y="1533"/>
                  </a:lnTo>
                  <a:lnTo>
                    <a:pt x="1256" y="1126"/>
                  </a:lnTo>
                  <a:lnTo>
                    <a:pt x="1093" y="1006"/>
                  </a:lnTo>
                  <a:lnTo>
                    <a:pt x="1085" y="998"/>
                  </a:lnTo>
                  <a:lnTo>
                    <a:pt x="1082" y="995"/>
                  </a:lnTo>
                  <a:lnTo>
                    <a:pt x="974" y="913"/>
                  </a:lnTo>
                  <a:lnTo>
                    <a:pt x="855" y="818"/>
                  </a:lnTo>
                  <a:lnTo>
                    <a:pt x="845" y="793"/>
                  </a:lnTo>
                  <a:lnTo>
                    <a:pt x="832" y="778"/>
                  </a:lnTo>
                  <a:lnTo>
                    <a:pt x="818" y="768"/>
                  </a:lnTo>
                  <a:lnTo>
                    <a:pt x="799" y="762"/>
                  </a:lnTo>
                  <a:lnTo>
                    <a:pt x="749" y="741"/>
                  </a:lnTo>
                  <a:lnTo>
                    <a:pt x="713" y="720"/>
                  </a:lnTo>
                  <a:lnTo>
                    <a:pt x="672" y="683"/>
                  </a:lnTo>
                  <a:lnTo>
                    <a:pt x="521" y="544"/>
                  </a:lnTo>
                  <a:lnTo>
                    <a:pt x="485" y="504"/>
                  </a:lnTo>
                  <a:lnTo>
                    <a:pt x="464" y="479"/>
                  </a:lnTo>
                  <a:lnTo>
                    <a:pt x="452" y="459"/>
                  </a:lnTo>
                  <a:lnTo>
                    <a:pt x="448" y="450"/>
                  </a:lnTo>
                  <a:lnTo>
                    <a:pt x="437" y="440"/>
                  </a:lnTo>
                  <a:lnTo>
                    <a:pt x="366" y="378"/>
                  </a:lnTo>
                  <a:lnTo>
                    <a:pt x="316" y="338"/>
                  </a:lnTo>
                  <a:lnTo>
                    <a:pt x="298" y="324"/>
                  </a:lnTo>
                  <a:lnTo>
                    <a:pt x="281" y="307"/>
                  </a:lnTo>
                  <a:lnTo>
                    <a:pt x="268" y="286"/>
                  </a:lnTo>
                  <a:lnTo>
                    <a:pt x="254" y="261"/>
                  </a:lnTo>
                  <a:lnTo>
                    <a:pt x="248" y="240"/>
                  </a:lnTo>
                  <a:lnTo>
                    <a:pt x="245" y="228"/>
                  </a:lnTo>
                  <a:lnTo>
                    <a:pt x="245" y="218"/>
                  </a:lnTo>
                  <a:lnTo>
                    <a:pt x="223" y="205"/>
                  </a:lnTo>
                  <a:lnTo>
                    <a:pt x="143" y="170"/>
                  </a:lnTo>
                  <a:lnTo>
                    <a:pt x="118" y="153"/>
                  </a:lnTo>
                  <a:lnTo>
                    <a:pt x="110" y="139"/>
                  </a:lnTo>
                  <a:lnTo>
                    <a:pt x="102" y="118"/>
                  </a:lnTo>
                  <a:lnTo>
                    <a:pt x="91" y="103"/>
                  </a:lnTo>
                  <a:lnTo>
                    <a:pt x="75" y="83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932600" y="6226200"/>
              <a:ext cx="41760" cy="79560"/>
            </a:xfrm>
            <a:custGeom>
              <a:avLst/>
              <a:gdLst/>
              <a:ahLst/>
              <a:rect l="0" t="0" r="r" b="b"/>
              <a:pathLst>
                <a:path w="116" h="221">
                  <a:moveTo>
                    <a:pt x="116" y="17"/>
                  </a:moveTo>
                  <a:lnTo>
                    <a:pt x="111" y="53"/>
                  </a:lnTo>
                  <a:lnTo>
                    <a:pt x="101" y="92"/>
                  </a:lnTo>
                  <a:lnTo>
                    <a:pt x="78" y="144"/>
                  </a:lnTo>
                  <a:lnTo>
                    <a:pt x="62" y="180"/>
                  </a:lnTo>
                  <a:lnTo>
                    <a:pt x="37" y="221"/>
                  </a:lnTo>
                  <a:lnTo>
                    <a:pt x="14" y="201"/>
                  </a:lnTo>
                  <a:lnTo>
                    <a:pt x="3" y="186"/>
                  </a:lnTo>
                  <a:lnTo>
                    <a:pt x="0" y="174"/>
                  </a:lnTo>
                  <a:lnTo>
                    <a:pt x="3" y="166"/>
                  </a:lnTo>
                  <a:lnTo>
                    <a:pt x="20" y="156"/>
                  </a:lnTo>
                  <a:lnTo>
                    <a:pt x="30" y="152"/>
                  </a:lnTo>
                  <a:lnTo>
                    <a:pt x="34" y="146"/>
                  </a:lnTo>
                  <a:lnTo>
                    <a:pt x="43" y="126"/>
                  </a:lnTo>
                  <a:lnTo>
                    <a:pt x="47" y="104"/>
                  </a:lnTo>
                  <a:lnTo>
                    <a:pt x="49" y="66"/>
                  </a:lnTo>
                  <a:lnTo>
                    <a:pt x="56" y="33"/>
                  </a:lnTo>
                  <a:lnTo>
                    <a:pt x="67" y="15"/>
                  </a:lnTo>
                  <a:lnTo>
                    <a:pt x="84" y="0"/>
                  </a:lnTo>
                  <a:lnTo>
                    <a:pt x="92" y="0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772480" y="6391440"/>
              <a:ext cx="87840" cy="66960"/>
            </a:xfrm>
            <a:custGeom>
              <a:avLst/>
              <a:gdLst/>
              <a:ahLst/>
              <a:rect l="0" t="0" r="r" b="b"/>
              <a:pathLst>
                <a:path w="244" h="186">
                  <a:moveTo>
                    <a:pt x="12" y="0"/>
                  </a:moveTo>
                  <a:lnTo>
                    <a:pt x="32" y="1"/>
                  </a:lnTo>
                  <a:lnTo>
                    <a:pt x="38" y="5"/>
                  </a:lnTo>
                  <a:lnTo>
                    <a:pt x="42" y="9"/>
                  </a:lnTo>
                  <a:lnTo>
                    <a:pt x="52" y="25"/>
                  </a:lnTo>
                  <a:lnTo>
                    <a:pt x="63" y="35"/>
                  </a:lnTo>
                  <a:lnTo>
                    <a:pt x="79" y="47"/>
                  </a:lnTo>
                  <a:lnTo>
                    <a:pt x="97" y="57"/>
                  </a:lnTo>
                  <a:lnTo>
                    <a:pt x="109" y="61"/>
                  </a:lnTo>
                  <a:lnTo>
                    <a:pt x="125" y="63"/>
                  </a:lnTo>
                  <a:lnTo>
                    <a:pt x="137" y="69"/>
                  </a:lnTo>
                  <a:lnTo>
                    <a:pt x="159" y="85"/>
                  </a:lnTo>
                  <a:lnTo>
                    <a:pt x="240" y="164"/>
                  </a:lnTo>
                  <a:lnTo>
                    <a:pt x="244" y="172"/>
                  </a:lnTo>
                  <a:lnTo>
                    <a:pt x="244" y="178"/>
                  </a:lnTo>
                  <a:lnTo>
                    <a:pt x="238" y="184"/>
                  </a:lnTo>
                  <a:lnTo>
                    <a:pt x="228" y="186"/>
                  </a:lnTo>
                  <a:lnTo>
                    <a:pt x="210" y="182"/>
                  </a:lnTo>
                  <a:lnTo>
                    <a:pt x="186" y="170"/>
                  </a:lnTo>
                  <a:lnTo>
                    <a:pt x="151" y="148"/>
                  </a:lnTo>
                  <a:lnTo>
                    <a:pt x="109" y="114"/>
                  </a:lnTo>
                  <a:lnTo>
                    <a:pt x="63" y="79"/>
                  </a:lnTo>
                  <a:lnTo>
                    <a:pt x="24" y="55"/>
                  </a:lnTo>
                  <a:lnTo>
                    <a:pt x="10" y="43"/>
                  </a:lnTo>
                  <a:lnTo>
                    <a:pt x="2" y="31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872560" y="6461280"/>
              <a:ext cx="125640" cy="73440"/>
            </a:xfrm>
            <a:custGeom>
              <a:avLst/>
              <a:gdLst/>
              <a:ahLst/>
              <a:rect l="0" t="0" r="r" b="b"/>
              <a:pathLst>
                <a:path w="349" h="204">
                  <a:moveTo>
                    <a:pt x="10" y="0"/>
                  </a:moveTo>
                  <a:lnTo>
                    <a:pt x="24" y="3"/>
                  </a:lnTo>
                  <a:lnTo>
                    <a:pt x="64" y="27"/>
                  </a:lnTo>
                  <a:lnTo>
                    <a:pt x="161" y="86"/>
                  </a:lnTo>
                  <a:lnTo>
                    <a:pt x="337" y="189"/>
                  </a:lnTo>
                  <a:lnTo>
                    <a:pt x="349" y="197"/>
                  </a:lnTo>
                  <a:lnTo>
                    <a:pt x="349" y="200"/>
                  </a:lnTo>
                  <a:lnTo>
                    <a:pt x="343" y="202"/>
                  </a:lnTo>
                  <a:lnTo>
                    <a:pt x="331" y="204"/>
                  </a:lnTo>
                  <a:lnTo>
                    <a:pt x="307" y="198"/>
                  </a:lnTo>
                  <a:lnTo>
                    <a:pt x="266" y="185"/>
                  </a:lnTo>
                  <a:lnTo>
                    <a:pt x="208" y="158"/>
                  </a:lnTo>
                  <a:lnTo>
                    <a:pt x="126" y="118"/>
                  </a:lnTo>
                  <a:lnTo>
                    <a:pt x="18" y="57"/>
                  </a:lnTo>
                  <a:lnTo>
                    <a:pt x="10" y="46"/>
                  </a:lnTo>
                  <a:lnTo>
                    <a:pt x="2" y="29"/>
                  </a:lnTo>
                  <a:lnTo>
                    <a:pt x="0" y="9"/>
                  </a:lnTo>
                  <a:lnTo>
                    <a:pt x="2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832960" y="6504120"/>
              <a:ext cx="81360" cy="51120"/>
            </a:xfrm>
            <a:custGeom>
              <a:avLst/>
              <a:gdLst/>
              <a:ahLst/>
              <a:rect l="0" t="0" r="r" b="b"/>
              <a:pathLst>
                <a:path w="226" h="142">
                  <a:moveTo>
                    <a:pt x="7" y="0"/>
                  </a:moveTo>
                  <a:lnTo>
                    <a:pt x="19" y="0"/>
                  </a:lnTo>
                  <a:lnTo>
                    <a:pt x="41" y="9"/>
                  </a:lnTo>
                  <a:lnTo>
                    <a:pt x="105" y="43"/>
                  </a:lnTo>
                  <a:lnTo>
                    <a:pt x="175" y="88"/>
                  </a:lnTo>
                  <a:lnTo>
                    <a:pt x="205" y="109"/>
                  </a:lnTo>
                  <a:lnTo>
                    <a:pt x="226" y="126"/>
                  </a:lnTo>
                  <a:lnTo>
                    <a:pt x="226" y="140"/>
                  </a:lnTo>
                  <a:lnTo>
                    <a:pt x="219" y="142"/>
                  </a:lnTo>
                  <a:lnTo>
                    <a:pt x="201" y="140"/>
                  </a:lnTo>
                  <a:lnTo>
                    <a:pt x="133" y="111"/>
                  </a:lnTo>
                  <a:lnTo>
                    <a:pt x="73" y="79"/>
                  </a:lnTo>
                  <a:lnTo>
                    <a:pt x="39" y="57"/>
                  </a:lnTo>
                  <a:lnTo>
                    <a:pt x="3" y="30"/>
                  </a:lnTo>
                  <a:lnTo>
                    <a:pt x="0" y="11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858160" y="6591240"/>
              <a:ext cx="28800" cy="19440"/>
            </a:xfrm>
            <a:custGeom>
              <a:avLst/>
              <a:gdLst/>
              <a:ahLst/>
              <a:rect l="0" t="0" r="r" b="b"/>
              <a:pathLst>
                <a:path w="80" h="54">
                  <a:moveTo>
                    <a:pt x="0" y="18"/>
                  </a:moveTo>
                  <a:lnTo>
                    <a:pt x="7" y="6"/>
                  </a:lnTo>
                  <a:lnTo>
                    <a:pt x="12" y="3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41" y="6"/>
                  </a:lnTo>
                  <a:lnTo>
                    <a:pt x="58" y="19"/>
                  </a:lnTo>
                  <a:lnTo>
                    <a:pt x="78" y="41"/>
                  </a:lnTo>
                  <a:lnTo>
                    <a:pt x="80" y="49"/>
                  </a:lnTo>
                  <a:lnTo>
                    <a:pt x="78" y="54"/>
                  </a:lnTo>
                  <a:lnTo>
                    <a:pt x="63" y="54"/>
                  </a:lnTo>
                  <a:lnTo>
                    <a:pt x="35" y="4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526600" y="5640480"/>
              <a:ext cx="27360" cy="33840"/>
            </a:xfrm>
            <a:custGeom>
              <a:avLst/>
              <a:gdLst/>
              <a:ahLst/>
              <a:rect l="0" t="0" r="r" b="b"/>
              <a:pathLst>
                <a:path w="76" h="94">
                  <a:moveTo>
                    <a:pt x="25" y="94"/>
                  </a:moveTo>
                  <a:lnTo>
                    <a:pt x="25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6" y="0"/>
                  </a:lnTo>
                  <a:lnTo>
                    <a:pt x="76" y="22"/>
                  </a:lnTo>
                  <a:lnTo>
                    <a:pt x="49" y="22"/>
                  </a:lnTo>
                  <a:lnTo>
                    <a:pt x="49" y="94"/>
                  </a:lnTo>
                  <a:lnTo>
                    <a:pt x="25" y="94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564400" y="5640480"/>
              <a:ext cx="44640" cy="36720"/>
            </a:xfrm>
            <a:custGeom>
              <a:avLst/>
              <a:gdLst/>
              <a:ahLst/>
              <a:rect l="0" t="0" r="r" b="b"/>
              <a:pathLst>
                <a:path w="124" h="102">
                  <a:moveTo>
                    <a:pt x="6" y="0"/>
                  </a:moveTo>
                  <a:lnTo>
                    <a:pt x="14" y="0"/>
                  </a:lnTo>
                  <a:lnTo>
                    <a:pt x="18" y="2"/>
                  </a:lnTo>
                  <a:lnTo>
                    <a:pt x="61" y="67"/>
                  </a:lnTo>
                  <a:lnTo>
                    <a:pt x="105" y="4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2" y="10"/>
                  </a:lnTo>
                  <a:lnTo>
                    <a:pt x="124" y="14"/>
                  </a:lnTo>
                  <a:lnTo>
                    <a:pt x="124" y="102"/>
                  </a:lnTo>
                  <a:lnTo>
                    <a:pt x="103" y="102"/>
                  </a:lnTo>
                  <a:lnTo>
                    <a:pt x="103" y="34"/>
                  </a:lnTo>
                  <a:lnTo>
                    <a:pt x="61" y="100"/>
                  </a:lnTo>
                  <a:lnTo>
                    <a:pt x="20" y="34"/>
                  </a:lnTo>
                  <a:lnTo>
                    <a:pt x="20" y="100"/>
                  </a:lnTo>
                  <a:lnTo>
                    <a:pt x="0" y="10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564400" y="5640480"/>
              <a:ext cx="44640" cy="36720"/>
            </a:xfrm>
            <a:custGeom>
              <a:avLst/>
              <a:gdLst/>
              <a:ahLst/>
              <a:rect l="0" t="0" r="r" b="b"/>
              <a:pathLst>
                <a:path w="124" h="102">
                  <a:moveTo>
                    <a:pt x="6" y="0"/>
                  </a:moveTo>
                  <a:lnTo>
                    <a:pt x="14" y="0"/>
                  </a:lnTo>
                  <a:lnTo>
                    <a:pt x="18" y="2"/>
                  </a:lnTo>
                  <a:lnTo>
                    <a:pt x="61" y="67"/>
                  </a:lnTo>
                  <a:lnTo>
                    <a:pt x="105" y="4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2" y="10"/>
                  </a:lnTo>
                  <a:lnTo>
                    <a:pt x="124" y="14"/>
                  </a:lnTo>
                  <a:lnTo>
                    <a:pt x="124" y="102"/>
                  </a:lnTo>
                  <a:lnTo>
                    <a:pt x="103" y="102"/>
                  </a:lnTo>
                  <a:lnTo>
                    <a:pt x="103" y="34"/>
                  </a:lnTo>
                  <a:lnTo>
                    <a:pt x="61" y="100"/>
                  </a:lnTo>
                  <a:lnTo>
                    <a:pt x="20" y="34"/>
                  </a:lnTo>
                  <a:lnTo>
                    <a:pt x="20" y="100"/>
                  </a:lnTo>
                  <a:lnTo>
                    <a:pt x="0" y="10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1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762120" y="30492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Jagua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ner...Not Bos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 algn="ctr">
              <a:lnSpc>
                <a:spcPct val="90000"/>
              </a:lnSpc>
              <a:spcBef>
                <a:spcPts val="72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games not bureaucracy” is our battle cry.  Our philosophy focuses on helping our licensees bring great games to market without “Big Brother” watc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5589720" y="5483160"/>
            <a:ext cx="3408480" cy="1200600"/>
            <a:chOff x="5589720" y="5483160"/>
            <a:chExt cx="3408480" cy="1200600"/>
          </a:xfrm>
        </p:grpSpPr>
        <p:sp>
          <p:nvSpPr>
            <p:cNvPr id="632" name=""/>
            <p:cNvSpPr/>
            <p:nvPr/>
          </p:nvSpPr>
          <p:spPr>
            <a:xfrm>
              <a:off x="5589720" y="5483160"/>
              <a:ext cx="973440" cy="868680"/>
            </a:xfrm>
            <a:custGeom>
              <a:avLst/>
              <a:gdLst/>
              <a:ahLst/>
              <a:rect l="0" t="0" r="r" b="b"/>
              <a:pathLst>
                <a:path w="2704" h="2413">
                  <a:moveTo>
                    <a:pt x="2704" y="45"/>
                  </a:moveTo>
                  <a:lnTo>
                    <a:pt x="2691" y="52"/>
                  </a:lnTo>
                  <a:lnTo>
                    <a:pt x="2674" y="56"/>
                  </a:lnTo>
                  <a:lnTo>
                    <a:pt x="2631" y="66"/>
                  </a:lnTo>
                  <a:lnTo>
                    <a:pt x="2518" y="83"/>
                  </a:lnTo>
                  <a:lnTo>
                    <a:pt x="2399" y="101"/>
                  </a:lnTo>
                  <a:lnTo>
                    <a:pt x="2308" y="118"/>
                  </a:lnTo>
                  <a:lnTo>
                    <a:pt x="2314" y="137"/>
                  </a:lnTo>
                  <a:lnTo>
                    <a:pt x="2314" y="141"/>
                  </a:lnTo>
                  <a:lnTo>
                    <a:pt x="2318" y="143"/>
                  </a:lnTo>
                  <a:lnTo>
                    <a:pt x="2341" y="147"/>
                  </a:lnTo>
                  <a:lnTo>
                    <a:pt x="2395" y="154"/>
                  </a:lnTo>
                  <a:lnTo>
                    <a:pt x="2393" y="178"/>
                  </a:lnTo>
                  <a:lnTo>
                    <a:pt x="2343" y="216"/>
                  </a:lnTo>
                  <a:lnTo>
                    <a:pt x="2331" y="226"/>
                  </a:lnTo>
                  <a:lnTo>
                    <a:pt x="2326" y="233"/>
                  </a:lnTo>
                  <a:lnTo>
                    <a:pt x="2329" y="241"/>
                  </a:lnTo>
                  <a:lnTo>
                    <a:pt x="2331" y="245"/>
                  </a:lnTo>
                  <a:lnTo>
                    <a:pt x="2326" y="249"/>
                  </a:lnTo>
                  <a:lnTo>
                    <a:pt x="2312" y="264"/>
                  </a:lnTo>
                  <a:lnTo>
                    <a:pt x="2291" y="272"/>
                  </a:lnTo>
                  <a:lnTo>
                    <a:pt x="2272" y="280"/>
                  </a:lnTo>
                  <a:lnTo>
                    <a:pt x="2251" y="283"/>
                  </a:lnTo>
                  <a:lnTo>
                    <a:pt x="2212" y="291"/>
                  </a:lnTo>
                  <a:lnTo>
                    <a:pt x="2183" y="301"/>
                  </a:lnTo>
                  <a:lnTo>
                    <a:pt x="2170" y="314"/>
                  </a:lnTo>
                  <a:lnTo>
                    <a:pt x="2168" y="320"/>
                  </a:lnTo>
                  <a:lnTo>
                    <a:pt x="2168" y="326"/>
                  </a:lnTo>
                  <a:lnTo>
                    <a:pt x="2164" y="332"/>
                  </a:lnTo>
                  <a:lnTo>
                    <a:pt x="2147" y="343"/>
                  </a:lnTo>
                  <a:lnTo>
                    <a:pt x="2112" y="355"/>
                  </a:lnTo>
                  <a:lnTo>
                    <a:pt x="1949" y="403"/>
                  </a:lnTo>
                  <a:lnTo>
                    <a:pt x="1941" y="407"/>
                  </a:lnTo>
                  <a:lnTo>
                    <a:pt x="1933" y="416"/>
                  </a:lnTo>
                  <a:lnTo>
                    <a:pt x="1918" y="437"/>
                  </a:lnTo>
                  <a:lnTo>
                    <a:pt x="1901" y="459"/>
                  </a:lnTo>
                  <a:lnTo>
                    <a:pt x="1893" y="472"/>
                  </a:lnTo>
                  <a:lnTo>
                    <a:pt x="1882" y="476"/>
                  </a:lnTo>
                  <a:lnTo>
                    <a:pt x="1868" y="480"/>
                  </a:lnTo>
                  <a:lnTo>
                    <a:pt x="1845" y="482"/>
                  </a:lnTo>
                  <a:lnTo>
                    <a:pt x="1803" y="493"/>
                  </a:lnTo>
                  <a:lnTo>
                    <a:pt x="1739" y="524"/>
                  </a:lnTo>
                  <a:lnTo>
                    <a:pt x="1714" y="653"/>
                  </a:lnTo>
                  <a:lnTo>
                    <a:pt x="1687" y="776"/>
                  </a:lnTo>
                  <a:lnTo>
                    <a:pt x="1657" y="896"/>
                  </a:lnTo>
                  <a:lnTo>
                    <a:pt x="1626" y="1013"/>
                  </a:lnTo>
                  <a:lnTo>
                    <a:pt x="1559" y="1233"/>
                  </a:lnTo>
                  <a:lnTo>
                    <a:pt x="1489" y="1428"/>
                  </a:lnTo>
                  <a:lnTo>
                    <a:pt x="1453" y="1520"/>
                  </a:lnTo>
                  <a:lnTo>
                    <a:pt x="1418" y="1605"/>
                  </a:lnTo>
                  <a:lnTo>
                    <a:pt x="1346" y="1757"/>
                  </a:lnTo>
                  <a:lnTo>
                    <a:pt x="1310" y="1822"/>
                  </a:lnTo>
                  <a:lnTo>
                    <a:pt x="1277" y="1880"/>
                  </a:lnTo>
                  <a:lnTo>
                    <a:pt x="1244" y="1932"/>
                  </a:lnTo>
                  <a:lnTo>
                    <a:pt x="1212" y="1976"/>
                  </a:lnTo>
                  <a:lnTo>
                    <a:pt x="1125" y="2084"/>
                  </a:lnTo>
                  <a:lnTo>
                    <a:pt x="1085" y="2132"/>
                  </a:lnTo>
                  <a:lnTo>
                    <a:pt x="1044" y="2173"/>
                  </a:lnTo>
                  <a:lnTo>
                    <a:pt x="1006" y="2213"/>
                  </a:lnTo>
                  <a:lnTo>
                    <a:pt x="969" y="2246"/>
                  </a:lnTo>
                  <a:lnTo>
                    <a:pt x="933" y="2277"/>
                  </a:lnTo>
                  <a:lnTo>
                    <a:pt x="896" y="2306"/>
                  </a:lnTo>
                  <a:lnTo>
                    <a:pt x="862" y="2331"/>
                  </a:lnTo>
                  <a:lnTo>
                    <a:pt x="829" y="2350"/>
                  </a:lnTo>
                  <a:lnTo>
                    <a:pt x="762" y="2381"/>
                  </a:lnTo>
                  <a:lnTo>
                    <a:pt x="698" y="2402"/>
                  </a:lnTo>
                  <a:lnTo>
                    <a:pt x="633" y="2411"/>
                  </a:lnTo>
                  <a:lnTo>
                    <a:pt x="585" y="2413"/>
                  </a:lnTo>
                  <a:lnTo>
                    <a:pt x="535" y="2406"/>
                  </a:lnTo>
                  <a:lnTo>
                    <a:pt x="487" y="2396"/>
                  </a:lnTo>
                  <a:lnTo>
                    <a:pt x="437" y="2383"/>
                  </a:lnTo>
                  <a:lnTo>
                    <a:pt x="391" y="2367"/>
                  </a:lnTo>
                  <a:lnTo>
                    <a:pt x="343" y="2346"/>
                  </a:lnTo>
                  <a:lnTo>
                    <a:pt x="256" y="2302"/>
                  </a:lnTo>
                  <a:lnTo>
                    <a:pt x="181" y="2259"/>
                  </a:lnTo>
                  <a:lnTo>
                    <a:pt x="120" y="2217"/>
                  </a:lnTo>
                  <a:lnTo>
                    <a:pt x="81" y="2186"/>
                  </a:lnTo>
                  <a:lnTo>
                    <a:pt x="64" y="2171"/>
                  </a:lnTo>
                  <a:lnTo>
                    <a:pt x="33" y="2127"/>
                  </a:lnTo>
                  <a:lnTo>
                    <a:pt x="12" y="2092"/>
                  </a:lnTo>
                  <a:lnTo>
                    <a:pt x="2" y="2065"/>
                  </a:lnTo>
                  <a:lnTo>
                    <a:pt x="0" y="2044"/>
                  </a:lnTo>
                  <a:lnTo>
                    <a:pt x="0" y="2032"/>
                  </a:lnTo>
                  <a:lnTo>
                    <a:pt x="4" y="2023"/>
                  </a:lnTo>
                  <a:lnTo>
                    <a:pt x="16" y="2015"/>
                  </a:lnTo>
                  <a:lnTo>
                    <a:pt x="31" y="2015"/>
                  </a:lnTo>
                  <a:lnTo>
                    <a:pt x="39" y="2019"/>
                  </a:lnTo>
                  <a:lnTo>
                    <a:pt x="47" y="2026"/>
                  </a:lnTo>
                  <a:lnTo>
                    <a:pt x="72" y="2053"/>
                  </a:lnTo>
                  <a:lnTo>
                    <a:pt x="120" y="2096"/>
                  </a:lnTo>
                  <a:lnTo>
                    <a:pt x="177" y="2140"/>
                  </a:lnTo>
                  <a:lnTo>
                    <a:pt x="233" y="2173"/>
                  </a:lnTo>
                  <a:lnTo>
                    <a:pt x="289" y="2198"/>
                  </a:lnTo>
                  <a:lnTo>
                    <a:pt x="341" y="2215"/>
                  </a:lnTo>
                  <a:lnTo>
                    <a:pt x="393" y="2225"/>
                  </a:lnTo>
                  <a:lnTo>
                    <a:pt x="446" y="2227"/>
                  </a:lnTo>
                  <a:lnTo>
                    <a:pt x="493" y="2221"/>
                  </a:lnTo>
                  <a:lnTo>
                    <a:pt x="541" y="2211"/>
                  </a:lnTo>
                  <a:lnTo>
                    <a:pt x="589" y="2194"/>
                  </a:lnTo>
                  <a:lnTo>
                    <a:pt x="633" y="2169"/>
                  </a:lnTo>
                  <a:lnTo>
                    <a:pt x="679" y="2140"/>
                  </a:lnTo>
                  <a:lnTo>
                    <a:pt x="723" y="2105"/>
                  </a:lnTo>
                  <a:lnTo>
                    <a:pt x="766" y="2065"/>
                  </a:lnTo>
                  <a:lnTo>
                    <a:pt x="806" y="2019"/>
                  </a:lnTo>
                  <a:lnTo>
                    <a:pt x="848" y="1971"/>
                  </a:lnTo>
                  <a:lnTo>
                    <a:pt x="887" y="1919"/>
                  </a:lnTo>
                  <a:lnTo>
                    <a:pt x="944" y="1834"/>
                  </a:lnTo>
                  <a:lnTo>
                    <a:pt x="998" y="1740"/>
                  </a:lnTo>
                  <a:lnTo>
                    <a:pt x="1052" y="1636"/>
                  </a:lnTo>
                  <a:lnTo>
                    <a:pt x="1102" y="1524"/>
                  </a:lnTo>
                  <a:lnTo>
                    <a:pt x="1150" y="1403"/>
                  </a:lnTo>
                  <a:lnTo>
                    <a:pt x="1198" y="1268"/>
                  </a:lnTo>
                  <a:lnTo>
                    <a:pt x="1244" y="1123"/>
                  </a:lnTo>
                  <a:lnTo>
                    <a:pt x="1285" y="965"/>
                  </a:lnTo>
                  <a:lnTo>
                    <a:pt x="1374" y="595"/>
                  </a:lnTo>
                  <a:lnTo>
                    <a:pt x="1372" y="568"/>
                  </a:lnTo>
                  <a:lnTo>
                    <a:pt x="796" y="634"/>
                  </a:lnTo>
                  <a:lnTo>
                    <a:pt x="719" y="641"/>
                  </a:lnTo>
                  <a:lnTo>
                    <a:pt x="704" y="638"/>
                  </a:lnTo>
                  <a:lnTo>
                    <a:pt x="677" y="580"/>
                  </a:lnTo>
                  <a:lnTo>
                    <a:pt x="621" y="584"/>
                  </a:lnTo>
                  <a:lnTo>
                    <a:pt x="612" y="580"/>
                  </a:lnTo>
                  <a:lnTo>
                    <a:pt x="606" y="568"/>
                  </a:lnTo>
                  <a:lnTo>
                    <a:pt x="608" y="555"/>
                  </a:lnTo>
                  <a:lnTo>
                    <a:pt x="610" y="549"/>
                  </a:lnTo>
                  <a:lnTo>
                    <a:pt x="623" y="547"/>
                  </a:lnTo>
                  <a:lnTo>
                    <a:pt x="641" y="541"/>
                  </a:lnTo>
                  <a:lnTo>
                    <a:pt x="654" y="534"/>
                  </a:lnTo>
                  <a:lnTo>
                    <a:pt x="664" y="520"/>
                  </a:lnTo>
                  <a:lnTo>
                    <a:pt x="666" y="509"/>
                  </a:lnTo>
                  <a:lnTo>
                    <a:pt x="660" y="499"/>
                  </a:lnTo>
                  <a:lnTo>
                    <a:pt x="633" y="482"/>
                  </a:lnTo>
                  <a:lnTo>
                    <a:pt x="602" y="464"/>
                  </a:lnTo>
                  <a:lnTo>
                    <a:pt x="591" y="455"/>
                  </a:lnTo>
                  <a:lnTo>
                    <a:pt x="585" y="445"/>
                  </a:lnTo>
                  <a:lnTo>
                    <a:pt x="583" y="422"/>
                  </a:lnTo>
                  <a:lnTo>
                    <a:pt x="587" y="405"/>
                  </a:lnTo>
                  <a:lnTo>
                    <a:pt x="596" y="397"/>
                  </a:lnTo>
                  <a:lnTo>
                    <a:pt x="608" y="393"/>
                  </a:lnTo>
                  <a:lnTo>
                    <a:pt x="641" y="391"/>
                  </a:lnTo>
                  <a:lnTo>
                    <a:pt x="664" y="391"/>
                  </a:lnTo>
                  <a:lnTo>
                    <a:pt x="685" y="385"/>
                  </a:lnTo>
                  <a:lnTo>
                    <a:pt x="685" y="368"/>
                  </a:lnTo>
                  <a:lnTo>
                    <a:pt x="654" y="366"/>
                  </a:lnTo>
                  <a:lnTo>
                    <a:pt x="633" y="360"/>
                  </a:lnTo>
                  <a:lnTo>
                    <a:pt x="629" y="353"/>
                  </a:lnTo>
                  <a:lnTo>
                    <a:pt x="627" y="343"/>
                  </a:lnTo>
                  <a:lnTo>
                    <a:pt x="633" y="301"/>
                  </a:lnTo>
                  <a:lnTo>
                    <a:pt x="635" y="297"/>
                  </a:lnTo>
                  <a:lnTo>
                    <a:pt x="641" y="293"/>
                  </a:lnTo>
                  <a:lnTo>
                    <a:pt x="664" y="289"/>
                  </a:lnTo>
                  <a:lnTo>
                    <a:pt x="781" y="289"/>
                  </a:lnTo>
                  <a:lnTo>
                    <a:pt x="889" y="283"/>
                  </a:lnTo>
                  <a:lnTo>
                    <a:pt x="1039" y="270"/>
                  </a:lnTo>
                  <a:lnTo>
                    <a:pt x="1237" y="245"/>
                  </a:lnTo>
                  <a:lnTo>
                    <a:pt x="1493" y="206"/>
                  </a:lnTo>
                  <a:lnTo>
                    <a:pt x="2295" y="49"/>
                  </a:lnTo>
                  <a:lnTo>
                    <a:pt x="2539" y="8"/>
                  </a:lnTo>
                  <a:lnTo>
                    <a:pt x="2612" y="0"/>
                  </a:lnTo>
                  <a:lnTo>
                    <a:pt x="2658" y="0"/>
                  </a:lnTo>
                  <a:lnTo>
                    <a:pt x="2687" y="6"/>
                  </a:lnTo>
                  <a:lnTo>
                    <a:pt x="2699" y="16"/>
                  </a:lnTo>
                  <a:lnTo>
                    <a:pt x="2704" y="31"/>
                  </a:lnTo>
                  <a:lnTo>
                    <a:pt x="2704" y="4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999120" y="5564160"/>
              <a:ext cx="849600" cy="790920"/>
            </a:xfrm>
            <a:custGeom>
              <a:avLst/>
              <a:gdLst/>
              <a:ahLst/>
              <a:rect l="0" t="0" r="r" b="b"/>
              <a:pathLst>
                <a:path w="2360" h="2197">
                  <a:moveTo>
                    <a:pt x="706" y="145"/>
                  </a:moveTo>
                  <a:lnTo>
                    <a:pt x="739" y="162"/>
                  </a:lnTo>
                  <a:lnTo>
                    <a:pt x="762" y="176"/>
                  </a:lnTo>
                  <a:lnTo>
                    <a:pt x="769" y="185"/>
                  </a:lnTo>
                  <a:lnTo>
                    <a:pt x="773" y="195"/>
                  </a:lnTo>
                  <a:lnTo>
                    <a:pt x="773" y="220"/>
                  </a:lnTo>
                  <a:lnTo>
                    <a:pt x="758" y="255"/>
                  </a:lnTo>
                  <a:lnTo>
                    <a:pt x="729" y="305"/>
                  </a:lnTo>
                  <a:lnTo>
                    <a:pt x="635" y="459"/>
                  </a:lnTo>
                  <a:lnTo>
                    <a:pt x="614" y="480"/>
                  </a:lnTo>
                  <a:lnTo>
                    <a:pt x="591" y="580"/>
                  </a:lnTo>
                  <a:lnTo>
                    <a:pt x="581" y="607"/>
                  </a:lnTo>
                  <a:lnTo>
                    <a:pt x="568" y="625"/>
                  </a:lnTo>
                  <a:lnTo>
                    <a:pt x="535" y="673"/>
                  </a:lnTo>
                  <a:lnTo>
                    <a:pt x="506" y="717"/>
                  </a:lnTo>
                  <a:lnTo>
                    <a:pt x="468" y="781"/>
                  </a:lnTo>
                  <a:lnTo>
                    <a:pt x="420" y="917"/>
                  </a:lnTo>
                  <a:lnTo>
                    <a:pt x="406" y="935"/>
                  </a:lnTo>
                  <a:lnTo>
                    <a:pt x="373" y="983"/>
                  </a:lnTo>
                  <a:lnTo>
                    <a:pt x="350" y="1021"/>
                  </a:lnTo>
                  <a:lnTo>
                    <a:pt x="323" y="1068"/>
                  </a:lnTo>
                  <a:lnTo>
                    <a:pt x="266" y="1203"/>
                  </a:lnTo>
                  <a:lnTo>
                    <a:pt x="233" y="1302"/>
                  </a:lnTo>
                  <a:lnTo>
                    <a:pt x="208" y="1381"/>
                  </a:lnTo>
                  <a:lnTo>
                    <a:pt x="195" y="1442"/>
                  </a:lnTo>
                  <a:lnTo>
                    <a:pt x="191" y="1483"/>
                  </a:lnTo>
                  <a:lnTo>
                    <a:pt x="200" y="1510"/>
                  </a:lnTo>
                  <a:lnTo>
                    <a:pt x="206" y="1519"/>
                  </a:lnTo>
                  <a:lnTo>
                    <a:pt x="214" y="1521"/>
                  </a:lnTo>
                  <a:lnTo>
                    <a:pt x="222" y="1523"/>
                  </a:lnTo>
                  <a:lnTo>
                    <a:pt x="235" y="1521"/>
                  </a:lnTo>
                  <a:lnTo>
                    <a:pt x="264" y="1506"/>
                  </a:lnTo>
                  <a:lnTo>
                    <a:pt x="298" y="1485"/>
                  </a:lnTo>
                  <a:lnTo>
                    <a:pt x="337" y="1456"/>
                  </a:lnTo>
                  <a:lnTo>
                    <a:pt x="423" y="1379"/>
                  </a:lnTo>
                  <a:lnTo>
                    <a:pt x="614" y="1203"/>
                  </a:lnTo>
                  <a:lnTo>
                    <a:pt x="646" y="1173"/>
                  </a:lnTo>
                  <a:lnTo>
                    <a:pt x="664" y="1153"/>
                  </a:lnTo>
                  <a:lnTo>
                    <a:pt x="685" y="1126"/>
                  </a:lnTo>
                  <a:lnTo>
                    <a:pt x="704" y="1093"/>
                  </a:lnTo>
                  <a:lnTo>
                    <a:pt x="725" y="1056"/>
                  </a:lnTo>
                  <a:lnTo>
                    <a:pt x="744" y="1010"/>
                  </a:lnTo>
                  <a:lnTo>
                    <a:pt x="758" y="956"/>
                  </a:lnTo>
                  <a:lnTo>
                    <a:pt x="787" y="838"/>
                  </a:lnTo>
                  <a:lnTo>
                    <a:pt x="798" y="786"/>
                  </a:lnTo>
                  <a:lnTo>
                    <a:pt x="806" y="771"/>
                  </a:lnTo>
                  <a:lnTo>
                    <a:pt x="825" y="750"/>
                  </a:lnTo>
                  <a:lnTo>
                    <a:pt x="833" y="746"/>
                  </a:lnTo>
                  <a:lnTo>
                    <a:pt x="831" y="702"/>
                  </a:lnTo>
                  <a:lnTo>
                    <a:pt x="831" y="669"/>
                  </a:lnTo>
                  <a:lnTo>
                    <a:pt x="837" y="642"/>
                  </a:lnTo>
                  <a:lnTo>
                    <a:pt x="846" y="623"/>
                  </a:lnTo>
                  <a:lnTo>
                    <a:pt x="856" y="613"/>
                  </a:lnTo>
                  <a:lnTo>
                    <a:pt x="864" y="605"/>
                  </a:lnTo>
                  <a:lnTo>
                    <a:pt x="881" y="598"/>
                  </a:lnTo>
                  <a:lnTo>
                    <a:pt x="902" y="582"/>
                  </a:lnTo>
                  <a:lnTo>
                    <a:pt x="887" y="546"/>
                  </a:lnTo>
                  <a:lnTo>
                    <a:pt x="885" y="534"/>
                  </a:lnTo>
                  <a:lnTo>
                    <a:pt x="885" y="519"/>
                  </a:lnTo>
                  <a:lnTo>
                    <a:pt x="908" y="476"/>
                  </a:lnTo>
                  <a:lnTo>
                    <a:pt x="964" y="388"/>
                  </a:lnTo>
                  <a:lnTo>
                    <a:pt x="998" y="338"/>
                  </a:lnTo>
                  <a:lnTo>
                    <a:pt x="1025" y="291"/>
                  </a:lnTo>
                  <a:lnTo>
                    <a:pt x="1069" y="214"/>
                  </a:lnTo>
                  <a:lnTo>
                    <a:pt x="1094" y="187"/>
                  </a:lnTo>
                  <a:lnTo>
                    <a:pt x="1119" y="172"/>
                  </a:lnTo>
                  <a:lnTo>
                    <a:pt x="1150" y="168"/>
                  </a:lnTo>
                  <a:lnTo>
                    <a:pt x="1169" y="170"/>
                  </a:lnTo>
                  <a:lnTo>
                    <a:pt x="1188" y="176"/>
                  </a:lnTo>
                  <a:lnTo>
                    <a:pt x="1197" y="189"/>
                  </a:lnTo>
                  <a:lnTo>
                    <a:pt x="1268" y="180"/>
                  </a:lnTo>
                  <a:lnTo>
                    <a:pt x="1293" y="185"/>
                  </a:lnTo>
                  <a:lnTo>
                    <a:pt x="1311" y="197"/>
                  </a:lnTo>
                  <a:lnTo>
                    <a:pt x="1324" y="232"/>
                  </a:lnTo>
                  <a:lnTo>
                    <a:pt x="1326" y="255"/>
                  </a:lnTo>
                  <a:lnTo>
                    <a:pt x="1326" y="274"/>
                  </a:lnTo>
                  <a:lnTo>
                    <a:pt x="1322" y="284"/>
                  </a:lnTo>
                  <a:lnTo>
                    <a:pt x="1316" y="301"/>
                  </a:lnTo>
                  <a:lnTo>
                    <a:pt x="1316" y="307"/>
                  </a:lnTo>
                  <a:lnTo>
                    <a:pt x="1322" y="311"/>
                  </a:lnTo>
                  <a:lnTo>
                    <a:pt x="1332" y="318"/>
                  </a:lnTo>
                  <a:lnTo>
                    <a:pt x="1347" y="322"/>
                  </a:lnTo>
                  <a:lnTo>
                    <a:pt x="1361" y="330"/>
                  </a:lnTo>
                  <a:lnTo>
                    <a:pt x="1366" y="338"/>
                  </a:lnTo>
                  <a:lnTo>
                    <a:pt x="1370" y="349"/>
                  </a:lnTo>
                  <a:lnTo>
                    <a:pt x="1370" y="366"/>
                  </a:lnTo>
                  <a:lnTo>
                    <a:pt x="1366" y="382"/>
                  </a:lnTo>
                  <a:lnTo>
                    <a:pt x="1349" y="428"/>
                  </a:lnTo>
                  <a:lnTo>
                    <a:pt x="1282" y="559"/>
                  </a:lnTo>
                  <a:lnTo>
                    <a:pt x="1177" y="763"/>
                  </a:lnTo>
                  <a:lnTo>
                    <a:pt x="1117" y="898"/>
                  </a:lnTo>
                  <a:lnTo>
                    <a:pt x="1052" y="1056"/>
                  </a:lnTo>
                  <a:lnTo>
                    <a:pt x="992" y="1223"/>
                  </a:lnTo>
                  <a:lnTo>
                    <a:pt x="948" y="1348"/>
                  </a:lnTo>
                  <a:lnTo>
                    <a:pt x="923" y="1433"/>
                  </a:lnTo>
                  <a:lnTo>
                    <a:pt x="912" y="1494"/>
                  </a:lnTo>
                  <a:lnTo>
                    <a:pt x="917" y="1531"/>
                  </a:lnTo>
                  <a:lnTo>
                    <a:pt x="923" y="1544"/>
                  </a:lnTo>
                  <a:lnTo>
                    <a:pt x="931" y="1554"/>
                  </a:lnTo>
                  <a:lnTo>
                    <a:pt x="956" y="1569"/>
                  </a:lnTo>
                  <a:lnTo>
                    <a:pt x="987" y="1585"/>
                  </a:lnTo>
                  <a:lnTo>
                    <a:pt x="1085" y="1446"/>
                  </a:lnTo>
                  <a:lnTo>
                    <a:pt x="1135" y="1381"/>
                  </a:lnTo>
                  <a:lnTo>
                    <a:pt x="1162" y="1346"/>
                  </a:lnTo>
                  <a:lnTo>
                    <a:pt x="1188" y="1296"/>
                  </a:lnTo>
                  <a:lnTo>
                    <a:pt x="1079" y="1327"/>
                  </a:lnTo>
                  <a:lnTo>
                    <a:pt x="1085" y="1296"/>
                  </a:lnTo>
                  <a:lnTo>
                    <a:pt x="1092" y="1288"/>
                  </a:lnTo>
                  <a:lnTo>
                    <a:pt x="1100" y="1279"/>
                  </a:lnTo>
                  <a:lnTo>
                    <a:pt x="1114" y="1254"/>
                  </a:lnTo>
                  <a:lnTo>
                    <a:pt x="1108" y="1240"/>
                  </a:lnTo>
                  <a:lnTo>
                    <a:pt x="1100" y="1223"/>
                  </a:lnTo>
                  <a:lnTo>
                    <a:pt x="1096" y="1209"/>
                  </a:lnTo>
                  <a:lnTo>
                    <a:pt x="1098" y="1203"/>
                  </a:lnTo>
                  <a:lnTo>
                    <a:pt x="1100" y="1196"/>
                  </a:lnTo>
                  <a:lnTo>
                    <a:pt x="1299" y="1068"/>
                  </a:lnTo>
                  <a:lnTo>
                    <a:pt x="1349" y="1035"/>
                  </a:lnTo>
                  <a:lnTo>
                    <a:pt x="1378" y="1010"/>
                  </a:lnTo>
                  <a:lnTo>
                    <a:pt x="1389" y="998"/>
                  </a:lnTo>
                  <a:lnTo>
                    <a:pt x="1397" y="985"/>
                  </a:lnTo>
                  <a:lnTo>
                    <a:pt x="1414" y="952"/>
                  </a:lnTo>
                  <a:lnTo>
                    <a:pt x="1441" y="902"/>
                  </a:lnTo>
                  <a:lnTo>
                    <a:pt x="1482" y="825"/>
                  </a:lnTo>
                  <a:lnTo>
                    <a:pt x="1561" y="738"/>
                  </a:lnTo>
                  <a:lnTo>
                    <a:pt x="1584" y="725"/>
                  </a:lnTo>
                  <a:lnTo>
                    <a:pt x="1589" y="694"/>
                  </a:lnTo>
                  <a:lnTo>
                    <a:pt x="1603" y="682"/>
                  </a:lnTo>
                  <a:lnTo>
                    <a:pt x="1641" y="646"/>
                  </a:lnTo>
                  <a:lnTo>
                    <a:pt x="1672" y="611"/>
                  </a:lnTo>
                  <a:lnTo>
                    <a:pt x="1716" y="555"/>
                  </a:lnTo>
                  <a:lnTo>
                    <a:pt x="1841" y="395"/>
                  </a:lnTo>
                  <a:lnTo>
                    <a:pt x="1895" y="338"/>
                  </a:lnTo>
                  <a:lnTo>
                    <a:pt x="1928" y="314"/>
                  </a:lnTo>
                  <a:lnTo>
                    <a:pt x="1957" y="293"/>
                  </a:lnTo>
                  <a:lnTo>
                    <a:pt x="2001" y="253"/>
                  </a:lnTo>
                  <a:lnTo>
                    <a:pt x="2016" y="237"/>
                  </a:lnTo>
                  <a:lnTo>
                    <a:pt x="2028" y="218"/>
                  </a:lnTo>
                  <a:lnTo>
                    <a:pt x="2041" y="180"/>
                  </a:lnTo>
                  <a:lnTo>
                    <a:pt x="2049" y="116"/>
                  </a:lnTo>
                  <a:lnTo>
                    <a:pt x="2055" y="91"/>
                  </a:lnTo>
                  <a:lnTo>
                    <a:pt x="2060" y="83"/>
                  </a:lnTo>
                  <a:lnTo>
                    <a:pt x="2070" y="76"/>
                  </a:lnTo>
                  <a:lnTo>
                    <a:pt x="2099" y="74"/>
                  </a:lnTo>
                  <a:lnTo>
                    <a:pt x="2149" y="85"/>
                  </a:lnTo>
                  <a:lnTo>
                    <a:pt x="2170" y="101"/>
                  </a:lnTo>
                  <a:lnTo>
                    <a:pt x="2170" y="126"/>
                  </a:lnTo>
                  <a:lnTo>
                    <a:pt x="2174" y="131"/>
                  </a:lnTo>
                  <a:lnTo>
                    <a:pt x="2180" y="133"/>
                  </a:lnTo>
                  <a:lnTo>
                    <a:pt x="2224" y="135"/>
                  </a:lnTo>
                  <a:lnTo>
                    <a:pt x="2324" y="149"/>
                  </a:lnTo>
                  <a:lnTo>
                    <a:pt x="2341" y="153"/>
                  </a:lnTo>
                  <a:lnTo>
                    <a:pt x="2351" y="162"/>
                  </a:lnTo>
                  <a:lnTo>
                    <a:pt x="2358" y="172"/>
                  </a:lnTo>
                  <a:lnTo>
                    <a:pt x="2360" y="187"/>
                  </a:lnTo>
                  <a:lnTo>
                    <a:pt x="2358" y="234"/>
                  </a:lnTo>
                  <a:lnTo>
                    <a:pt x="2343" y="309"/>
                  </a:lnTo>
                  <a:lnTo>
                    <a:pt x="2322" y="420"/>
                  </a:lnTo>
                  <a:lnTo>
                    <a:pt x="2299" y="569"/>
                  </a:lnTo>
                  <a:lnTo>
                    <a:pt x="2274" y="767"/>
                  </a:lnTo>
                  <a:lnTo>
                    <a:pt x="2255" y="1016"/>
                  </a:lnTo>
                  <a:lnTo>
                    <a:pt x="2222" y="1502"/>
                  </a:lnTo>
                  <a:lnTo>
                    <a:pt x="2185" y="1872"/>
                  </a:lnTo>
                  <a:lnTo>
                    <a:pt x="2178" y="1957"/>
                  </a:lnTo>
                  <a:lnTo>
                    <a:pt x="2174" y="2034"/>
                  </a:lnTo>
                  <a:lnTo>
                    <a:pt x="2170" y="2061"/>
                  </a:lnTo>
                  <a:lnTo>
                    <a:pt x="2164" y="2080"/>
                  </a:lnTo>
                  <a:lnTo>
                    <a:pt x="2160" y="2084"/>
                  </a:lnTo>
                  <a:lnTo>
                    <a:pt x="2153" y="2086"/>
                  </a:lnTo>
                  <a:lnTo>
                    <a:pt x="2137" y="2078"/>
                  </a:lnTo>
                  <a:lnTo>
                    <a:pt x="2137" y="2066"/>
                  </a:lnTo>
                  <a:lnTo>
                    <a:pt x="2128" y="2059"/>
                  </a:lnTo>
                  <a:lnTo>
                    <a:pt x="2122" y="1982"/>
                  </a:lnTo>
                  <a:lnTo>
                    <a:pt x="2089" y="1968"/>
                  </a:lnTo>
                  <a:lnTo>
                    <a:pt x="2074" y="1953"/>
                  </a:lnTo>
                  <a:lnTo>
                    <a:pt x="2070" y="1945"/>
                  </a:lnTo>
                  <a:lnTo>
                    <a:pt x="2070" y="1932"/>
                  </a:lnTo>
                  <a:lnTo>
                    <a:pt x="2080" y="1926"/>
                  </a:lnTo>
                  <a:lnTo>
                    <a:pt x="2089" y="1916"/>
                  </a:lnTo>
                  <a:lnTo>
                    <a:pt x="2097" y="1895"/>
                  </a:lnTo>
                  <a:lnTo>
                    <a:pt x="2099" y="1872"/>
                  </a:lnTo>
                  <a:lnTo>
                    <a:pt x="2097" y="1855"/>
                  </a:lnTo>
                  <a:lnTo>
                    <a:pt x="2074" y="1843"/>
                  </a:lnTo>
                  <a:lnTo>
                    <a:pt x="2064" y="1808"/>
                  </a:lnTo>
                  <a:lnTo>
                    <a:pt x="2062" y="1799"/>
                  </a:lnTo>
                  <a:lnTo>
                    <a:pt x="2072" y="1797"/>
                  </a:lnTo>
                  <a:lnTo>
                    <a:pt x="2080" y="1793"/>
                  </a:lnTo>
                  <a:lnTo>
                    <a:pt x="2091" y="1781"/>
                  </a:lnTo>
                  <a:lnTo>
                    <a:pt x="2093" y="1768"/>
                  </a:lnTo>
                  <a:lnTo>
                    <a:pt x="2091" y="1764"/>
                  </a:lnTo>
                  <a:lnTo>
                    <a:pt x="2053" y="1764"/>
                  </a:lnTo>
                  <a:lnTo>
                    <a:pt x="2030" y="1631"/>
                  </a:lnTo>
                  <a:lnTo>
                    <a:pt x="2018" y="1554"/>
                  </a:lnTo>
                  <a:lnTo>
                    <a:pt x="2014" y="1539"/>
                  </a:lnTo>
                  <a:lnTo>
                    <a:pt x="2010" y="1537"/>
                  </a:lnTo>
                  <a:lnTo>
                    <a:pt x="1987" y="1581"/>
                  </a:lnTo>
                  <a:lnTo>
                    <a:pt x="1970" y="1435"/>
                  </a:lnTo>
                  <a:lnTo>
                    <a:pt x="1970" y="1388"/>
                  </a:lnTo>
                  <a:lnTo>
                    <a:pt x="1978" y="1377"/>
                  </a:lnTo>
                  <a:lnTo>
                    <a:pt x="1980" y="1369"/>
                  </a:lnTo>
                  <a:lnTo>
                    <a:pt x="1982" y="1350"/>
                  </a:lnTo>
                  <a:lnTo>
                    <a:pt x="1970" y="1279"/>
                  </a:lnTo>
                  <a:lnTo>
                    <a:pt x="1964" y="1267"/>
                  </a:lnTo>
                  <a:lnTo>
                    <a:pt x="1960" y="1244"/>
                  </a:lnTo>
                  <a:lnTo>
                    <a:pt x="1960" y="1186"/>
                  </a:lnTo>
                  <a:lnTo>
                    <a:pt x="1970" y="1064"/>
                  </a:lnTo>
                  <a:lnTo>
                    <a:pt x="1976" y="1012"/>
                  </a:lnTo>
                  <a:lnTo>
                    <a:pt x="1974" y="960"/>
                  </a:lnTo>
                  <a:lnTo>
                    <a:pt x="1891" y="985"/>
                  </a:lnTo>
                  <a:lnTo>
                    <a:pt x="1828" y="1008"/>
                  </a:lnTo>
                  <a:lnTo>
                    <a:pt x="1784" y="1029"/>
                  </a:lnTo>
                  <a:lnTo>
                    <a:pt x="1755" y="1048"/>
                  </a:lnTo>
                  <a:lnTo>
                    <a:pt x="1714" y="1083"/>
                  </a:lnTo>
                  <a:lnTo>
                    <a:pt x="1695" y="1101"/>
                  </a:lnTo>
                  <a:lnTo>
                    <a:pt x="1668" y="1115"/>
                  </a:lnTo>
                  <a:lnTo>
                    <a:pt x="1612" y="1134"/>
                  </a:lnTo>
                  <a:lnTo>
                    <a:pt x="1578" y="1140"/>
                  </a:lnTo>
                  <a:lnTo>
                    <a:pt x="1559" y="1138"/>
                  </a:lnTo>
                  <a:lnTo>
                    <a:pt x="1541" y="1144"/>
                  </a:lnTo>
                  <a:lnTo>
                    <a:pt x="1534" y="1171"/>
                  </a:lnTo>
                  <a:lnTo>
                    <a:pt x="1501" y="1192"/>
                  </a:lnTo>
                  <a:lnTo>
                    <a:pt x="1493" y="1203"/>
                  </a:lnTo>
                  <a:lnTo>
                    <a:pt x="1482" y="1223"/>
                  </a:lnTo>
                  <a:lnTo>
                    <a:pt x="1459" y="1269"/>
                  </a:lnTo>
                  <a:lnTo>
                    <a:pt x="1420" y="1348"/>
                  </a:lnTo>
                  <a:lnTo>
                    <a:pt x="1355" y="1469"/>
                  </a:lnTo>
                  <a:lnTo>
                    <a:pt x="1255" y="1641"/>
                  </a:lnTo>
                  <a:lnTo>
                    <a:pt x="1154" y="1820"/>
                  </a:lnTo>
                  <a:lnTo>
                    <a:pt x="1144" y="1837"/>
                  </a:lnTo>
                  <a:lnTo>
                    <a:pt x="1137" y="1843"/>
                  </a:lnTo>
                  <a:lnTo>
                    <a:pt x="1129" y="1845"/>
                  </a:lnTo>
                  <a:lnTo>
                    <a:pt x="1119" y="1843"/>
                  </a:lnTo>
                  <a:lnTo>
                    <a:pt x="1106" y="1837"/>
                  </a:lnTo>
                  <a:lnTo>
                    <a:pt x="1100" y="1833"/>
                  </a:lnTo>
                  <a:lnTo>
                    <a:pt x="1098" y="1835"/>
                  </a:lnTo>
                  <a:lnTo>
                    <a:pt x="1092" y="1843"/>
                  </a:lnTo>
                  <a:lnTo>
                    <a:pt x="1062" y="1901"/>
                  </a:lnTo>
                  <a:lnTo>
                    <a:pt x="1033" y="1955"/>
                  </a:lnTo>
                  <a:lnTo>
                    <a:pt x="987" y="2034"/>
                  </a:lnTo>
                  <a:lnTo>
                    <a:pt x="960" y="2068"/>
                  </a:lnTo>
                  <a:lnTo>
                    <a:pt x="948" y="2080"/>
                  </a:lnTo>
                  <a:lnTo>
                    <a:pt x="933" y="2090"/>
                  </a:lnTo>
                  <a:lnTo>
                    <a:pt x="914" y="2101"/>
                  </a:lnTo>
                  <a:lnTo>
                    <a:pt x="902" y="2099"/>
                  </a:lnTo>
                  <a:lnTo>
                    <a:pt x="887" y="2076"/>
                  </a:lnTo>
                  <a:lnTo>
                    <a:pt x="885" y="2076"/>
                  </a:lnTo>
                  <a:lnTo>
                    <a:pt x="879" y="2082"/>
                  </a:lnTo>
                  <a:lnTo>
                    <a:pt x="869" y="2103"/>
                  </a:lnTo>
                  <a:lnTo>
                    <a:pt x="856" y="2120"/>
                  </a:lnTo>
                  <a:lnTo>
                    <a:pt x="841" y="2134"/>
                  </a:lnTo>
                  <a:lnTo>
                    <a:pt x="821" y="2130"/>
                  </a:lnTo>
                  <a:lnTo>
                    <a:pt x="819" y="2101"/>
                  </a:lnTo>
                  <a:lnTo>
                    <a:pt x="814" y="2088"/>
                  </a:lnTo>
                  <a:lnTo>
                    <a:pt x="808" y="2093"/>
                  </a:lnTo>
                  <a:lnTo>
                    <a:pt x="798" y="2109"/>
                  </a:lnTo>
                  <a:lnTo>
                    <a:pt x="769" y="2157"/>
                  </a:lnTo>
                  <a:lnTo>
                    <a:pt x="748" y="2180"/>
                  </a:lnTo>
                  <a:lnTo>
                    <a:pt x="723" y="2197"/>
                  </a:lnTo>
                  <a:lnTo>
                    <a:pt x="694" y="2197"/>
                  </a:lnTo>
                  <a:lnTo>
                    <a:pt x="698" y="2130"/>
                  </a:lnTo>
                  <a:lnTo>
                    <a:pt x="658" y="2126"/>
                  </a:lnTo>
                  <a:lnTo>
                    <a:pt x="668" y="2101"/>
                  </a:lnTo>
                  <a:lnTo>
                    <a:pt x="679" y="2074"/>
                  </a:lnTo>
                  <a:lnTo>
                    <a:pt x="714" y="2022"/>
                  </a:lnTo>
                  <a:lnTo>
                    <a:pt x="752" y="1970"/>
                  </a:lnTo>
                  <a:lnTo>
                    <a:pt x="785" y="1920"/>
                  </a:lnTo>
                  <a:lnTo>
                    <a:pt x="831" y="1833"/>
                  </a:lnTo>
                  <a:lnTo>
                    <a:pt x="852" y="1779"/>
                  </a:lnTo>
                  <a:lnTo>
                    <a:pt x="856" y="1762"/>
                  </a:lnTo>
                  <a:lnTo>
                    <a:pt x="856" y="1752"/>
                  </a:lnTo>
                  <a:lnTo>
                    <a:pt x="852" y="1745"/>
                  </a:lnTo>
                  <a:lnTo>
                    <a:pt x="844" y="1743"/>
                  </a:lnTo>
                  <a:lnTo>
                    <a:pt x="816" y="1747"/>
                  </a:lnTo>
                  <a:lnTo>
                    <a:pt x="783" y="1760"/>
                  </a:lnTo>
                  <a:lnTo>
                    <a:pt x="744" y="1772"/>
                  </a:lnTo>
                  <a:lnTo>
                    <a:pt x="702" y="1776"/>
                  </a:lnTo>
                  <a:lnTo>
                    <a:pt x="664" y="1772"/>
                  </a:lnTo>
                  <a:lnTo>
                    <a:pt x="635" y="1760"/>
                  </a:lnTo>
                  <a:lnTo>
                    <a:pt x="612" y="1739"/>
                  </a:lnTo>
                  <a:lnTo>
                    <a:pt x="596" y="1716"/>
                  </a:lnTo>
                  <a:lnTo>
                    <a:pt x="596" y="1672"/>
                  </a:lnTo>
                  <a:lnTo>
                    <a:pt x="593" y="1664"/>
                  </a:lnTo>
                  <a:lnTo>
                    <a:pt x="589" y="1658"/>
                  </a:lnTo>
                  <a:lnTo>
                    <a:pt x="579" y="1641"/>
                  </a:lnTo>
                  <a:lnTo>
                    <a:pt x="575" y="1606"/>
                  </a:lnTo>
                  <a:lnTo>
                    <a:pt x="579" y="1533"/>
                  </a:lnTo>
                  <a:lnTo>
                    <a:pt x="598" y="1448"/>
                  </a:lnTo>
                  <a:lnTo>
                    <a:pt x="616" y="1394"/>
                  </a:lnTo>
                  <a:lnTo>
                    <a:pt x="631" y="1367"/>
                  </a:lnTo>
                  <a:lnTo>
                    <a:pt x="631" y="1361"/>
                  </a:lnTo>
                  <a:lnTo>
                    <a:pt x="627" y="1363"/>
                  </a:lnTo>
                  <a:lnTo>
                    <a:pt x="593" y="1392"/>
                  </a:lnTo>
                  <a:lnTo>
                    <a:pt x="552" y="1435"/>
                  </a:lnTo>
                  <a:lnTo>
                    <a:pt x="454" y="1544"/>
                  </a:lnTo>
                  <a:lnTo>
                    <a:pt x="398" y="1598"/>
                  </a:lnTo>
                  <a:lnTo>
                    <a:pt x="341" y="1643"/>
                  </a:lnTo>
                  <a:lnTo>
                    <a:pt x="310" y="1662"/>
                  </a:lnTo>
                  <a:lnTo>
                    <a:pt x="281" y="1675"/>
                  </a:lnTo>
                  <a:lnTo>
                    <a:pt x="250" y="1687"/>
                  </a:lnTo>
                  <a:lnTo>
                    <a:pt x="218" y="1689"/>
                  </a:lnTo>
                  <a:lnTo>
                    <a:pt x="166" y="1689"/>
                  </a:lnTo>
                  <a:lnTo>
                    <a:pt x="143" y="1683"/>
                  </a:lnTo>
                  <a:lnTo>
                    <a:pt x="120" y="1677"/>
                  </a:lnTo>
                  <a:lnTo>
                    <a:pt x="102" y="1668"/>
                  </a:lnTo>
                  <a:lnTo>
                    <a:pt x="83" y="1658"/>
                  </a:lnTo>
                  <a:lnTo>
                    <a:pt x="68" y="1645"/>
                  </a:lnTo>
                  <a:lnTo>
                    <a:pt x="56" y="1631"/>
                  </a:lnTo>
                  <a:lnTo>
                    <a:pt x="33" y="1600"/>
                  </a:lnTo>
                  <a:lnTo>
                    <a:pt x="16" y="1562"/>
                  </a:lnTo>
                  <a:lnTo>
                    <a:pt x="8" y="1523"/>
                  </a:lnTo>
                  <a:lnTo>
                    <a:pt x="2" y="1479"/>
                  </a:lnTo>
                  <a:lnTo>
                    <a:pt x="0" y="1435"/>
                  </a:lnTo>
                  <a:lnTo>
                    <a:pt x="2" y="1390"/>
                  </a:lnTo>
                  <a:lnTo>
                    <a:pt x="12" y="1304"/>
                  </a:lnTo>
                  <a:lnTo>
                    <a:pt x="29" y="1230"/>
                  </a:lnTo>
                  <a:lnTo>
                    <a:pt x="43" y="1175"/>
                  </a:lnTo>
                  <a:lnTo>
                    <a:pt x="72" y="1075"/>
                  </a:lnTo>
                  <a:lnTo>
                    <a:pt x="87" y="1016"/>
                  </a:lnTo>
                  <a:lnTo>
                    <a:pt x="110" y="944"/>
                  </a:lnTo>
                  <a:lnTo>
                    <a:pt x="143" y="850"/>
                  </a:lnTo>
                  <a:lnTo>
                    <a:pt x="189" y="727"/>
                  </a:lnTo>
                  <a:lnTo>
                    <a:pt x="341" y="372"/>
                  </a:lnTo>
                  <a:lnTo>
                    <a:pt x="377" y="301"/>
                  </a:lnTo>
                  <a:lnTo>
                    <a:pt x="402" y="257"/>
                  </a:lnTo>
                  <a:lnTo>
                    <a:pt x="431" y="193"/>
                  </a:lnTo>
                  <a:lnTo>
                    <a:pt x="460" y="133"/>
                  </a:lnTo>
                  <a:lnTo>
                    <a:pt x="487" y="89"/>
                  </a:lnTo>
                  <a:lnTo>
                    <a:pt x="510" y="64"/>
                  </a:lnTo>
                  <a:lnTo>
                    <a:pt x="533" y="45"/>
                  </a:lnTo>
                  <a:lnTo>
                    <a:pt x="550" y="35"/>
                  </a:lnTo>
                  <a:lnTo>
                    <a:pt x="566" y="31"/>
                  </a:lnTo>
                  <a:lnTo>
                    <a:pt x="591" y="31"/>
                  </a:lnTo>
                  <a:lnTo>
                    <a:pt x="606" y="33"/>
                  </a:lnTo>
                  <a:lnTo>
                    <a:pt x="616" y="24"/>
                  </a:lnTo>
                  <a:lnTo>
                    <a:pt x="627" y="10"/>
                  </a:lnTo>
                  <a:lnTo>
                    <a:pt x="641" y="0"/>
                  </a:lnTo>
                  <a:lnTo>
                    <a:pt x="662" y="2"/>
                  </a:lnTo>
                  <a:lnTo>
                    <a:pt x="673" y="8"/>
                  </a:lnTo>
                  <a:lnTo>
                    <a:pt x="679" y="16"/>
                  </a:lnTo>
                  <a:lnTo>
                    <a:pt x="683" y="33"/>
                  </a:lnTo>
                  <a:lnTo>
                    <a:pt x="687" y="72"/>
                  </a:lnTo>
                  <a:lnTo>
                    <a:pt x="698" y="83"/>
                  </a:lnTo>
                  <a:lnTo>
                    <a:pt x="708" y="93"/>
                  </a:lnTo>
                  <a:lnTo>
                    <a:pt x="712" y="112"/>
                  </a:lnTo>
                  <a:lnTo>
                    <a:pt x="706" y="14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826400" y="5580000"/>
              <a:ext cx="981360" cy="908280"/>
            </a:xfrm>
            <a:custGeom>
              <a:avLst/>
              <a:gdLst/>
              <a:ahLst/>
              <a:rect l="0" t="0" r="r" b="b"/>
              <a:pathLst>
                <a:path w="2726" h="2523">
                  <a:moveTo>
                    <a:pt x="2599" y="2235"/>
                  </a:moveTo>
                  <a:lnTo>
                    <a:pt x="2582" y="2246"/>
                  </a:lnTo>
                  <a:lnTo>
                    <a:pt x="2567" y="2252"/>
                  </a:lnTo>
                  <a:lnTo>
                    <a:pt x="2555" y="2250"/>
                  </a:lnTo>
                  <a:lnTo>
                    <a:pt x="2540" y="2244"/>
                  </a:lnTo>
                  <a:lnTo>
                    <a:pt x="2503" y="2208"/>
                  </a:lnTo>
                  <a:lnTo>
                    <a:pt x="2432" y="2148"/>
                  </a:lnTo>
                  <a:lnTo>
                    <a:pt x="2038" y="1831"/>
                  </a:lnTo>
                  <a:lnTo>
                    <a:pt x="1929" y="1748"/>
                  </a:lnTo>
                  <a:lnTo>
                    <a:pt x="1823" y="1671"/>
                  </a:lnTo>
                  <a:lnTo>
                    <a:pt x="1771" y="1633"/>
                  </a:lnTo>
                  <a:lnTo>
                    <a:pt x="1731" y="1598"/>
                  </a:lnTo>
                  <a:lnTo>
                    <a:pt x="1698" y="1567"/>
                  </a:lnTo>
                  <a:lnTo>
                    <a:pt x="1673" y="1540"/>
                  </a:lnTo>
                  <a:lnTo>
                    <a:pt x="1635" y="1494"/>
                  </a:lnTo>
                  <a:lnTo>
                    <a:pt x="1623" y="1479"/>
                  </a:lnTo>
                  <a:lnTo>
                    <a:pt x="1608" y="1465"/>
                  </a:lnTo>
                  <a:lnTo>
                    <a:pt x="1554" y="1444"/>
                  </a:lnTo>
                  <a:lnTo>
                    <a:pt x="1402" y="1269"/>
                  </a:lnTo>
                  <a:lnTo>
                    <a:pt x="1361" y="1224"/>
                  </a:lnTo>
                  <a:lnTo>
                    <a:pt x="1340" y="1203"/>
                  </a:lnTo>
                  <a:lnTo>
                    <a:pt x="1324" y="1193"/>
                  </a:lnTo>
                  <a:lnTo>
                    <a:pt x="1303" y="1208"/>
                  </a:lnTo>
                  <a:lnTo>
                    <a:pt x="1082" y="1047"/>
                  </a:lnTo>
                  <a:lnTo>
                    <a:pt x="1009" y="999"/>
                  </a:lnTo>
                  <a:lnTo>
                    <a:pt x="1011" y="1001"/>
                  </a:lnTo>
                  <a:lnTo>
                    <a:pt x="1025" y="1016"/>
                  </a:lnTo>
                  <a:lnTo>
                    <a:pt x="1067" y="1058"/>
                  </a:lnTo>
                  <a:lnTo>
                    <a:pt x="1084" y="1081"/>
                  </a:lnTo>
                  <a:lnTo>
                    <a:pt x="1086" y="1089"/>
                  </a:lnTo>
                  <a:lnTo>
                    <a:pt x="1084" y="1091"/>
                  </a:lnTo>
                  <a:lnTo>
                    <a:pt x="1088" y="1097"/>
                  </a:lnTo>
                  <a:lnTo>
                    <a:pt x="1144" y="1153"/>
                  </a:lnTo>
                  <a:lnTo>
                    <a:pt x="1330" y="1321"/>
                  </a:lnTo>
                  <a:lnTo>
                    <a:pt x="1420" y="1398"/>
                  </a:lnTo>
                  <a:lnTo>
                    <a:pt x="1460" y="1429"/>
                  </a:lnTo>
                  <a:lnTo>
                    <a:pt x="1468" y="1438"/>
                  </a:lnTo>
                  <a:lnTo>
                    <a:pt x="1458" y="1444"/>
                  </a:lnTo>
                  <a:lnTo>
                    <a:pt x="1450" y="1448"/>
                  </a:lnTo>
                  <a:lnTo>
                    <a:pt x="1441" y="1450"/>
                  </a:lnTo>
                  <a:lnTo>
                    <a:pt x="1439" y="1448"/>
                  </a:lnTo>
                  <a:lnTo>
                    <a:pt x="1464" y="1463"/>
                  </a:lnTo>
                  <a:lnTo>
                    <a:pt x="1531" y="1513"/>
                  </a:lnTo>
                  <a:lnTo>
                    <a:pt x="1898" y="1811"/>
                  </a:lnTo>
                  <a:lnTo>
                    <a:pt x="1967" y="1871"/>
                  </a:lnTo>
                  <a:lnTo>
                    <a:pt x="1996" y="1898"/>
                  </a:lnTo>
                  <a:lnTo>
                    <a:pt x="2031" y="1938"/>
                  </a:lnTo>
                  <a:lnTo>
                    <a:pt x="2090" y="1990"/>
                  </a:lnTo>
                  <a:lnTo>
                    <a:pt x="2209" y="2094"/>
                  </a:lnTo>
                  <a:lnTo>
                    <a:pt x="2563" y="2408"/>
                  </a:lnTo>
                  <a:lnTo>
                    <a:pt x="2726" y="2512"/>
                  </a:lnTo>
                  <a:lnTo>
                    <a:pt x="2724" y="2521"/>
                  </a:lnTo>
                  <a:lnTo>
                    <a:pt x="2719" y="2523"/>
                  </a:lnTo>
                  <a:lnTo>
                    <a:pt x="2703" y="2523"/>
                  </a:lnTo>
                  <a:lnTo>
                    <a:pt x="2678" y="2512"/>
                  </a:lnTo>
                  <a:lnTo>
                    <a:pt x="2644" y="2494"/>
                  </a:lnTo>
                  <a:lnTo>
                    <a:pt x="2603" y="2469"/>
                  </a:lnTo>
                  <a:lnTo>
                    <a:pt x="2557" y="2435"/>
                  </a:lnTo>
                  <a:lnTo>
                    <a:pt x="2448" y="2356"/>
                  </a:lnTo>
                  <a:lnTo>
                    <a:pt x="2223" y="2181"/>
                  </a:lnTo>
                  <a:lnTo>
                    <a:pt x="2121" y="2104"/>
                  </a:lnTo>
                  <a:lnTo>
                    <a:pt x="2042" y="2046"/>
                  </a:lnTo>
                  <a:lnTo>
                    <a:pt x="1913" y="1954"/>
                  </a:lnTo>
                  <a:lnTo>
                    <a:pt x="1825" y="1883"/>
                  </a:lnTo>
                  <a:lnTo>
                    <a:pt x="1760" y="1823"/>
                  </a:lnTo>
                  <a:lnTo>
                    <a:pt x="1708" y="1767"/>
                  </a:lnTo>
                  <a:lnTo>
                    <a:pt x="1652" y="1708"/>
                  </a:lnTo>
                  <a:lnTo>
                    <a:pt x="1577" y="1638"/>
                  </a:lnTo>
                  <a:lnTo>
                    <a:pt x="1529" y="1596"/>
                  </a:lnTo>
                  <a:lnTo>
                    <a:pt x="1468" y="1550"/>
                  </a:lnTo>
                  <a:lnTo>
                    <a:pt x="1311" y="1436"/>
                  </a:lnTo>
                  <a:lnTo>
                    <a:pt x="1259" y="1417"/>
                  </a:lnTo>
                  <a:lnTo>
                    <a:pt x="1180" y="1325"/>
                  </a:lnTo>
                  <a:lnTo>
                    <a:pt x="1171" y="1286"/>
                  </a:lnTo>
                  <a:lnTo>
                    <a:pt x="1134" y="1258"/>
                  </a:lnTo>
                  <a:lnTo>
                    <a:pt x="1100" y="1230"/>
                  </a:lnTo>
                  <a:lnTo>
                    <a:pt x="1050" y="1180"/>
                  </a:lnTo>
                  <a:lnTo>
                    <a:pt x="1009" y="1143"/>
                  </a:lnTo>
                  <a:lnTo>
                    <a:pt x="988" y="1128"/>
                  </a:lnTo>
                  <a:lnTo>
                    <a:pt x="969" y="1120"/>
                  </a:lnTo>
                  <a:lnTo>
                    <a:pt x="917" y="1114"/>
                  </a:lnTo>
                  <a:lnTo>
                    <a:pt x="884" y="1074"/>
                  </a:lnTo>
                  <a:lnTo>
                    <a:pt x="859" y="1049"/>
                  </a:lnTo>
                  <a:lnTo>
                    <a:pt x="821" y="1028"/>
                  </a:lnTo>
                  <a:lnTo>
                    <a:pt x="813" y="1024"/>
                  </a:lnTo>
                  <a:lnTo>
                    <a:pt x="813" y="1018"/>
                  </a:lnTo>
                  <a:lnTo>
                    <a:pt x="838" y="985"/>
                  </a:lnTo>
                  <a:lnTo>
                    <a:pt x="846" y="974"/>
                  </a:lnTo>
                  <a:lnTo>
                    <a:pt x="852" y="964"/>
                  </a:lnTo>
                  <a:lnTo>
                    <a:pt x="856" y="949"/>
                  </a:lnTo>
                  <a:lnTo>
                    <a:pt x="861" y="945"/>
                  </a:lnTo>
                  <a:lnTo>
                    <a:pt x="867" y="941"/>
                  </a:lnTo>
                  <a:lnTo>
                    <a:pt x="892" y="941"/>
                  </a:lnTo>
                  <a:lnTo>
                    <a:pt x="917" y="953"/>
                  </a:lnTo>
                  <a:lnTo>
                    <a:pt x="948" y="949"/>
                  </a:lnTo>
                  <a:lnTo>
                    <a:pt x="971" y="941"/>
                  </a:lnTo>
                  <a:lnTo>
                    <a:pt x="982" y="935"/>
                  </a:lnTo>
                  <a:lnTo>
                    <a:pt x="988" y="926"/>
                  </a:lnTo>
                  <a:lnTo>
                    <a:pt x="986" y="916"/>
                  </a:lnTo>
                  <a:lnTo>
                    <a:pt x="979" y="906"/>
                  </a:lnTo>
                  <a:lnTo>
                    <a:pt x="954" y="885"/>
                  </a:lnTo>
                  <a:lnTo>
                    <a:pt x="927" y="858"/>
                  </a:lnTo>
                  <a:lnTo>
                    <a:pt x="907" y="831"/>
                  </a:lnTo>
                  <a:lnTo>
                    <a:pt x="900" y="818"/>
                  </a:lnTo>
                  <a:lnTo>
                    <a:pt x="900" y="803"/>
                  </a:lnTo>
                  <a:lnTo>
                    <a:pt x="907" y="789"/>
                  </a:lnTo>
                  <a:lnTo>
                    <a:pt x="921" y="774"/>
                  </a:lnTo>
                  <a:lnTo>
                    <a:pt x="936" y="770"/>
                  </a:lnTo>
                  <a:lnTo>
                    <a:pt x="950" y="774"/>
                  </a:lnTo>
                  <a:lnTo>
                    <a:pt x="967" y="785"/>
                  </a:lnTo>
                  <a:lnTo>
                    <a:pt x="982" y="799"/>
                  </a:lnTo>
                  <a:lnTo>
                    <a:pt x="1017" y="833"/>
                  </a:lnTo>
                  <a:lnTo>
                    <a:pt x="1030" y="847"/>
                  </a:lnTo>
                  <a:lnTo>
                    <a:pt x="1044" y="853"/>
                  </a:lnTo>
                  <a:lnTo>
                    <a:pt x="1100" y="845"/>
                  </a:lnTo>
                  <a:lnTo>
                    <a:pt x="1132" y="858"/>
                  </a:lnTo>
                  <a:lnTo>
                    <a:pt x="1265" y="683"/>
                  </a:lnTo>
                  <a:lnTo>
                    <a:pt x="1307" y="622"/>
                  </a:lnTo>
                  <a:lnTo>
                    <a:pt x="1330" y="574"/>
                  </a:lnTo>
                  <a:lnTo>
                    <a:pt x="1336" y="556"/>
                  </a:lnTo>
                  <a:lnTo>
                    <a:pt x="1336" y="537"/>
                  </a:lnTo>
                  <a:lnTo>
                    <a:pt x="1334" y="522"/>
                  </a:lnTo>
                  <a:lnTo>
                    <a:pt x="1328" y="506"/>
                  </a:lnTo>
                  <a:lnTo>
                    <a:pt x="1315" y="493"/>
                  </a:lnTo>
                  <a:lnTo>
                    <a:pt x="1303" y="479"/>
                  </a:lnTo>
                  <a:lnTo>
                    <a:pt x="1259" y="451"/>
                  </a:lnTo>
                  <a:lnTo>
                    <a:pt x="1228" y="437"/>
                  </a:lnTo>
                  <a:lnTo>
                    <a:pt x="1196" y="426"/>
                  </a:lnTo>
                  <a:lnTo>
                    <a:pt x="1134" y="414"/>
                  </a:lnTo>
                  <a:lnTo>
                    <a:pt x="1071" y="412"/>
                  </a:lnTo>
                  <a:lnTo>
                    <a:pt x="1013" y="418"/>
                  </a:lnTo>
                  <a:lnTo>
                    <a:pt x="963" y="429"/>
                  </a:lnTo>
                  <a:lnTo>
                    <a:pt x="923" y="439"/>
                  </a:lnTo>
                  <a:lnTo>
                    <a:pt x="898" y="449"/>
                  </a:lnTo>
                  <a:lnTo>
                    <a:pt x="886" y="456"/>
                  </a:lnTo>
                  <a:lnTo>
                    <a:pt x="859" y="526"/>
                  </a:lnTo>
                  <a:lnTo>
                    <a:pt x="838" y="579"/>
                  </a:lnTo>
                  <a:lnTo>
                    <a:pt x="829" y="595"/>
                  </a:lnTo>
                  <a:lnTo>
                    <a:pt x="821" y="604"/>
                  </a:lnTo>
                  <a:lnTo>
                    <a:pt x="813" y="604"/>
                  </a:lnTo>
                  <a:lnTo>
                    <a:pt x="802" y="595"/>
                  </a:lnTo>
                  <a:lnTo>
                    <a:pt x="802" y="572"/>
                  </a:lnTo>
                  <a:lnTo>
                    <a:pt x="794" y="574"/>
                  </a:lnTo>
                  <a:lnTo>
                    <a:pt x="786" y="581"/>
                  </a:lnTo>
                  <a:lnTo>
                    <a:pt x="769" y="604"/>
                  </a:lnTo>
                  <a:lnTo>
                    <a:pt x="742" y="674"/>
                  </a:lnTo>
                  <a:lnTo>
                    <a:pt x="719" y="754"/>
                  </a:lnTo>
                  <a:lnTo>
                    <a:pt x="706" y="789"/>
                  </a:lnTo>
                  <a:lnTo>
                    <a:pt x="694" y="814"/>
                  </a:lnTo>
                  <a:lnTo>
                    <a:pt x="677" y="810"/>
                  </a:lnTo>
                  <a:lnTo>
                    <a:pt x="669" y="816"/>
                  </a:lnTo>
                  <a:lnTo>
                    <a:pt x="658" y="835"/>
                  </a:lnTo>
                  <a:lnTo>
                    <a:pt x="602" y="1035"/>
                  </a:lnTo>
                  <a:lnTo>
                    <a:pt x="558" y="1212"/>
                  </a:lnTo>
                  <a:lnTo>
                    <a:pt x="496" y="1500"/>
                  </a:lnTo>
                  <a:lnTo>
                    <a:pt x="475" y="1608"/>
                  </a:lnTo>
                  <a:lnTo>
                    <a:pt x="454" y="1690"/>
                  </a:lnTo>
                  <a:lnTo>
                    <a:pt x="444" y="1723"/>
                  </a:lnTo>
                  <a:lnTo>
                    <a:pt x="433" y="1746"/>
                  </a:lnTo>
                  <a:lnTo>
                    <a:pt x="421" y="1765"/>
                  </a:lnTo>
                  <a:lnTo>
                    <a:pt x="408" y="1775"/>
                  </a:lnTo>
                  <a:lnTo>
                    <a:pt x="391" y="1767"/>
                  </a:lnTo>
                  <a:lnTo>
                    <a:pt x="391" y="1675"/>
                  </a:lnTo>
                  <a:lnTo>
                    <a:pt x="193" y="2110"/>
                  </a:lnTo>
                  <a:lnTo>
                    <a:pt x="185" y="2017"/>
                  </a:lnTo>
                  <a:lnTo>
                    <a:pt x="150" y="2021"/>
                  </a:lnTo>
                  <a:lnTo>
                    <a:pt x="100" y="2171"/>
                  </a:lnTo>
                  <a:lnTo>
                    <a:pt x="87" y="2200"/>
                  </a:lnTo>
                  <a:lnTo>
                    <a:pt x="83" y="2206"/>
                  </a:lnTo>
                  <a:lnTo>
                    <a:pt x="79" y="2206"/>
                  </a:lnTo>
                  <a:lnTo>
                    <a:pt x="77" y="2185"/>
                  </a:lnTo>
                  <a:lnTo>
                    <a:pt x="75" y="2156"/>
                  </a:lnTo>
                  <a:lnTo>
                    <a:pt x="70" y="2158"/>
                  </a:lnTo>
                  <a:lnTo>
                    <a:pt x="62" y="2171"/>
                  </a:lnTo>
                  <a:lnTo>
                    <a:pt x="50" y="2188"/>
                  </a:lnTo>
                  <a:lnTo>
                    <a:pt x="37" y="2200"/>
                  </a:lnTo>
                  <a:lnTo>
                    <a:pt x="22" y="2200"/>
                  </a:lnTo>
                  <a:lnTo>
                    <a:pt x="16" y="2192"/>
                  </a:lnTo>
                  <a:lnTo>
                    <a:pt x="12" y="2177"/>
                  </a:lnTo>
                  <a:lnTo>
                    <a:pt x="4" y="2127"/>
                  </a:lnTo>
                  <a:lnTo>
                    <a:pt x="0" y="2038"/>
                  </a:lnTo>
                  <a:lnTo>
                    <a:pt x="4" y="2013"/>
                  </a:lnTo>
                  <a:lnTo>
                    <a:pt x="14" y="1979"/>
                  </a:lnTo>
                  <a:lnTo>
                    <a:pt x="45" y="1913"/>
                  </a:lnTo>
                  <a:lnTo>
                    <a:pt x="77" y="1854"/>
                  </a:lnTo>
                  <a:lnTo>
                    <a:pt x="93" y="1827"/>
                  </a:lnTo>
                  <a:lnTo>
                    <a:pt x="110" y="1819"/>
                  </a:lnTo>
                  <a:lnTo>
                    <a:pt x="110" y="1731"/>
                  </a:lnTo>
                  <a:lnTo>
                    <a:pt x="112" y="1727"/>
                  </a:lnTo>
                  <a:lnTo>
                    <a:pt x="118" y="1723"/>
                  </a:lnTo>
                  <a:lnTo>
                    <a:pt x="129" y="1719"/>
                  </a:lnTo>
                  <a:lnTo>
                    <a:pt x="141" y="1711"/>
                  </a:lnTo>
                  <a:lnTo>
                    <a:pt x="118" y="1679"/>
                  </a:lnTo>
                  <a:lnTo>
                    <a:pt x="183" y="1511"/>
                  </a:lnTo>
                  <a:lnTo>
                    <a:pt x="198" y="1469"/>
                  </a:lnTo>
                  <a:lnTo>
                    <a:pt x="198" y="1471"/>
                  </a:lnTo>
                  <a:lnTo>
                    <a:pt x="204" y="1475"/>
                  </a:lnTo>
                  <a:lnTo>
                    <a:pt x="214" y="1467"/>
                  </a:lnTo>
                  <a:lnTo>
                    <a:pt x="227" y="1456"/>
                  </a:lnTo>
                  <a:lnTo>
                    <a:pt x="241" y="1440"/>
                  </a:lnTo>
                  <a:lnTo>
                    <a:pt x="252" y="1423"/>
                  </a:lnTo>
                  <a:lnTo>
                    <a:pt x="254" y="1415"/>
                  </a:lnTo>
                  <a:lnTo>
                    <a:pt x="252" y="1411"/>
                  </a:lnTo>
                  <a:lnTo>
                    <a:pt x="246" y="1404"/>
                  </a:lnTo>
                  <a:lnTo>
                    <a:pt x="239" y="1392"/>
                  </a:lnTo>
                  <a:lnTo>
                    <a:pt x="237" y="1375"/>
                  </a:lnTo>
                  <a:lnTo>
                    <a:pt x="243" y="1346"/>
                  </a:lnTo>
                  <a:lnTo>
                    <a:pt x="254" y="1300"/>
                  </a:lnTo>
                  <a:lnTo>
                    <a:pt x="379" y="928"/>
                  </a:lnTo>
                  <a:lnTo>
                    <a:pt x="439" y="760"/>
                  </a:lnTo>
                  <a:lnTo>
                    <a:pt x="471" y="685"/>
                  </a:lnTo>
                  <a:lnTo>
                    <a:pt x="506" y="587"/>
                  </a:lnTo>
                  <a:lnTo>
                    <a:pt x="448" y="612"/>
                  </a:lnTo>
                  <a:lnTo>
                    <a:pt x="379" y="643"/>
                  </a:lnTo>
                  <a:lnTo>
                    <a:pt x="344" y="654"/>
                  </a:lnTo>
                  <a:lnTo>
                    <a:pt x="312" y="662"/>
                  </a:lnTo>
                  <a:lnTo>
                    <a:pt x="300" y="662"/>
                  </a:lnTo>
                  <a:lnTo>
                    <a:pt x="287" y="658"/>
                  </a:lnTo>
                  <a:lnTo>
                    <a:pt x="277" y="654"/>
                  </a:lnTo>
                  <a:lnTo>
                    <a:pt x="268" y="643"/>
                  </a:lnTo>
                  <a:lnTo>
                    <a:pt x="260" y="608"/>
                  </a:lnTo>
                  <a:lnTo>
                    <a:pt x="158" y="599"/>
                  </a:lnTo>
                  <a:lnTo>
                    <a:pt x="150" y="562"/>
                  </a:lnTo>
                  <a:lnTo>
                    <a:pt x="135" y="545"/>
                  </a:lnTo>
                  <a:lnTo>
                    <a:pt x="118" y="539"/>
                  </a:lnTo>
                  <a:lnTo>
                    <a:pt x="102" y="539"/>
                  </a:lnTo>
                  <a:lnTo>
                    <a:pt x="87" y="539"/>
                  </a:lnTo>
                  <a:lnTo>
                    <a:pt x="81" y="537"/>
                  </a:lnTo>
                  <a:lnTo>
                    <a:pt x="77" y="531"/>
                  </a:lnTo>
                  <a:lnTo>
                    <a:pt x="70" y="512"/>
                  </a:lnTo>
                  <a:lnTo>
                    <a:pt x="70" y="472"/>
                  </a:lnTo>
                  <a:lnTo>
                    <a:pt x="77" y="429"/>
                  </a:lnTo>
                  <a:lnTo>
                    <a:pt x="81" y="416"/>
                  </a:lnTo>
                  <a:lnTo>
                    <a:pt x="100" y="416"/>
                  </a:lnTo>
                  <a:lnTo>
                    <a:pt x="137" y="408"/>
                  </a:lnTo>
                  <a:lnTo>
                    <a:pt x="158" y="397"/>
                  </a:lnTo>
                  <a:lnTo>
                    <a:pt x="164" y="391"/>
                  </a:lnTo>
                  <a:lnTo>
                    <a:pt x="170" y="383"/>
                  </a:lnTo>
                  <a:lnTo>
                    <a:pt x="181" y="368"/>
                  </a:lnTo>
                  <a:lnTo>
                    <a:pt x="187" y="349"/>
                  </a:lnTo>
                  <a:lnTo>
                    <a:pt x="200" y="314"/>
                  </a:lnTo>
                  <a:lnTo>
                    <a:pt x="212" y="297"/>
                  </a:lnTo>
                  <a:lnTo>
                    <a:pt x="229" y="285"/>
                  </a:lnTo>
                  <a:lnTo>
                    <a:pt x="369" y="222"/>
                  </a:lnTo>
                  <a:lnTo>
                    <a:pt x="562" y="149"/>
                  </a:lnTo>
                  <a:lnTo>
                    <a:pt x="746" y="87"/>
                  </a:lnTo>
                  <a:lnTo>
                    <a:pt x="813" y="68"/>
                  </a:lnTo>
                  <a:lnTo>
                    <a:pt x="856" y="58"/>
                  </a:lnTo>
                  <a:lnTo>
                    <a:pt x="948" y="54"/>
                  </a:lnTo>
                  <a:lnTo>
                    <a:pt x="1005" y="49"/>
                  </a:lnTo>
                  <a:lnTo>
                    <a:pt x="1027" y="45"/>
                  </a:lnTo>
                  <a:lnTo>
                    <a:pt x="1044" y="39"/>
                  </a:lnTo>
                  <a:lnTo>
                    <a:pt x="1080" y="10"/>
                  </a:lnTo>
                  <a:lnTo>
                    <a:pt x="1142" y="4"/>
                  </a:lnTo>
                  <a:lnTo>
                    <a:pt x="1192" y="0"/>
                  </a:lnTo>
                  <a:lnTo>
                    <a:pt x="1251" y="0"/>
                  </a:lnTo>
                  <a:lnTo>
                    <a:pt x="1315" y="6"/>
                  </a:lnTo>
                  <a:lnTo>
                    <a:pt x="1387" y="20"/>
                  </a:lnTo>
                  <a:lnTo>
                    <a:pt x="1458" y="43"/>
                  </a:lnTo>
                  <a:lnTo>
                    <a:pt x="1493" y="60"/>
                  </a:lnTo>
                  <a:lnTo>
                    <a:pt x="1529" y="79"/>
                  </a:lnTo>
                  <a:lnTo>
                    <a:pt x="1596" y="129"/>
                  </a:lnTo>
                  <a:lnTo>
                    <a:pt x="1652" y="179"/>
                  </a:lnTo>
                  <a:lnTo>
                    <a:pt x="1698" y="233"/>
                  </a:lnTo>
                  <a:lnTo>
                    <a:pt x="1733" y="289"/>
                  </a:lnTo>
                  <a:lnTo>
                    <a:pt x="1758" y="347"/>
                  </a:lnTo>
                  <a:lnTo>
                    <a:pt x="1769" y="408"/>
                  </a:lnTo>
                  <a:lnTo>
                    <a:pt x="1771" y="439"/>
                  </a:lnTo>
                  <a:lnTo>
                    <a:pt x="1771" y="468"/>
                  </a:lnTo>
                  <a:lnTo>
                    <a:pt x="1769" y="499"/>
                  </a:lnTo>
                  <a:lnTo>
                    <a:pt x="1760" y="531"/>
                  </a:lnTo>
                  <a:lnTo>
                    <a:pt x="1742" y="593"/>
                  </a:lnTo>
                  <a:lnTo>
                    <a:pt x="1710" y="654"/>
                  </a:lnTo>
                  <a:lnTo>
                    <a:pt x="1671" y="716"/>
                  </a:lnTo>
                  <a:lnTo>
                    <a:pt x="1644" y="747"/>
                  </a:lnTo>
                  <a:lnTo>
                    <a:pt x="1616" y="776"/>
                  </a:lnTo>
                  <a:lnTo>
                    <a:pt x="1587" y="806"/>
                  </a:lnTo>
                  <a:lnTo>
                    <a:pt x="1554" y="837"/>
                  </a:lnTo>
                  <a:lnTo>
                    <a:pt x="1481" y="895"/>
                  </a:lnTo>
                  <a:lnTo>
                    <a:pt x="1439" y="924"/>
                  </a:lnTo>
                  <a:lnTo>
                    <a:pt x="1395" y="951"/>
                  </a:lnTo>
                  <a:lnTo>
                    <a:pt x="1299" y="1006"/>
                  </a:lnTo>
                  <a:lnTo>
                    <a:pt x="1425" y="1128"/>
                  </a:lnTo>
                  <a:lnTo>
                    <a:pt x="1443" y="1151"/>
                  </a:lnTo>
                  <a:lnTo>
                    <a:pt x="1458" y="1174"/>
                  </a:lnTo>
                  <a:lnTo>
                    <a:pt x="1568" y="1309"/>
                  </a:lnTo>
                  <a:lnTo>
                    <a:pt x="1612" y="1356"/>
                  </a:lnTo>
                  <a:lnTo>
                    <a:pt x="1646" y="1390"/>
                  </a:lnTo>
                  <a:lnTo>
                    <a:pt x="1673" y="1413"/>
                  </a:lnTo>
                  <a:lnTo>
                    <a:pt x="1694" y="1427"/>
                  </a:lnTo>
                  <a:lnTo>
                    <a:pt x="1729" y="1444"/>
                  </a:lnTo>
                  <a:lnTo>
                    <a:pt x="1746" y="1452"/>
                  </a:lnTo>
                  <a:lnTo>
                    <a:pt x="1764" y="1465"/>
                  </a:lnTo>
                  <a:lnTo>
                    <a:pt x="1865" y="1583"/>
                  </a:lnTo>
                  <a:lnTo>
                    <a:pt x="2038" y="1719"/>
                  </a:lnTo>
                  <a:lnTo>
                    <a:pt x="2146" y="1827"/>
                  </a:lnTo>
                  <a:lnTo>
                    <a:pt x="2225" y="1906"/>
                  </a:lnTo>
                  <a:lnTo>
                    <a:pt x="2292" y="1963"/>
                  </a:lnTo>
                  <a:lnTo>
                    <a:pt x="2446" y="2085"/>
                  </a:lnTo>
                  <a:lnTo>
                    <a:pt x="2534" y="2156"/>
                  </a:lnTo>
                  <a:lnTo>
                    <a:pt x="2559" y="2179"/>
                  </a:lnTo>
                  <a:lnTo>
                    <a:pt x="2578" y="2198"/>
                  </a:lnTo>
                  <a:lnTo>
                    <a:pt x="2590" y="2217"/>
                  </a:lnTo>
                  <a:lnTo>
                    <a:pt x="2599" y="223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076800" y="5589720"/>
              <a:ext cx="503640" cy="748080"/>
            </a:xfrm>
            <a:custGeom>
              <a:avLst/>
              <a:gdLst/>
              <a:ahLst/>
              <a:rect l="0" t="0" r="r" b="b"/>
              <a:pathLst>
                <a:path w="1399" h="2078">
                  <a:moveTo>
                    <a:pt x="1385" y="140"/>
                  </a:moveTo>
                  <a:lnTo>
                    <a:pt x="1393" y="161"/>
                  </a:lnTo>
                  <a:lnTo>
                    <a:pt x="1397" y="184"/>
                  </a:lnTo>
                  <a:lnTo>
                    <a:pt x="1399" y="236"/>
                  </a:lnTo>
                  <a:lnTo>
                    <a:pt x="1397" y="301"/>
                  </a:lnTo>
                  <a:lnTo>
                    <a:pt x="1391" y="374"/>
                  </a:lnTo>
                  <a:lnTo>
                    <a:pt x="1372" y="560"/>
                  </a:lnTo>
                  <a:lnTo>
                    <a:pt x="1355" y="798"/>
                  </a:lnTo>
                  <a:lnTo>
                    <a:pt x="1345" y="1286"/>
                  </a:lnTo>
                  <a:lnTo>
                    <a:pt x="1343" y="1601"/>
                  </a:lnTo>
                  <a:lnTo>
                    <a:pt x="1337" y="1687"/>
                  </a:lnTo>
                  <a:lnTo>
                    <a:pt x="1332" y="1712"/>
                  </a:lnTo>
                  <a:lnTo>
                    <a:pt x="1326" y="1718"/>
                  </a:lnTo>
                  <a:lnTo>
                    <a:pt x="1322" y="1723"/>
                  </a:lnTo>
                  <a:lnTo>
                    <a:pt x="1318" y="1723"/>
                  </a:lnTo>
                  <a:lnTo>
                    <a:pt x="1311" y="1720"/>
                  </a:lnTo>
                  <a:lnTo>
                    <a:pt x="1297" y="1704"/>
                  </a:lnTo>
                  <a:lnTo>
                    <a:pt x="1259" y="1633"/>
                  </a:lnTo>
                  <a:lnTo>
                    <a:pt x="1226" y="1817"/>
                  </a:lnTo>
                  <a:lnTo>
                    <a:pt x="1207" y="1804"/>
                  </a:lnTo>
                  <a:lnTo>
                    <a:pt x="1194" y="1794"/>
                  </a:lnTo>
                  <a:lnTo>
                    <a:pt x="1190" y="1779"/>
                  </a:lnTo>
                  <a:lnTo>
                    <a:pt x="1186" y="1764"/>
                  </a:lnTo>
                  <a:lnTo>
                    <a:pt x="1186" y="1731"/>
                  </a:lnTo>
                  <a:lnTo>
                    <a:pt x="1186" y="1689"/>
                  </a:lnTo>
                  <a:lnTo>
                    <a:pt x="1146" y="1618"/>
                  </a:lnTo>
                  <a:lnTo>
                    <a:pt x="1142" y="1643"/>
                  </a:lnTo>
                  <a:lnTo>
                    <a:pt x="1136" y="1660"/>
                  </a:lnTo>
                  <a:lnTo>
                    <a:pt x="1129" y="1668"/>
                  </a:lnTo>
                  <a:lnTo>
                    <a:pt x="1121" y="1674"/>
                  </a:lnTo>
                  <a:lnTo>
                    <a:pt x="1115" y="1672"/>
                  </a:lnTo>
                  <a:lnTo>
                    <a:pt x="1106" y="1666"/>
                  </a:lnTo>
                  <a:lnTo>
                    <a:pt x="1094" y="1645"/>
                  </a:lnTo>
                  <a:lnTo>
                    <a:pt x="1071" y="1582"/>
                  </a:lnTo>
                  <a:lnTo>
                    <a:pt x="1065" y="1554"/>
                  </a:lnTo>
                  <a:lnTo>
                    <a:pt x="1062" y="1531"/>
                  </a:lnTo>
                  <a:lnTo>
                    <a:pt x="1079" y="1510"/>
                  </a:lnTo>
                  <a:lnTo>
                    <a:pt x="1079" y="1458"/>
                  </a:lnTo>
                  <a:lnTo>
                    <a:pt x="1054" y="1391"/>
                  </a:lnTo>
                  <a:lnTo>
                    <a:pt x="1054" y="1024"/>
                  </a:lnTo>
                  <a:lnTo>
                    <a:pt x="1045" y="964"/>
                  </a:lnTo>
                  <a:lnTo>
                    <a:pt x="835" y="1041"/>
                  </a:lnTo>
                  <a:lnTo>
                    <a:pt x="714" y="1083"/>
                  </a:lnTo>
                  <a:lnTo>
                    <a:pt x="653" y="1106"/>
                  </a:lnTo>
                  <a:lnTo>
                    <a:pt x="639" y="1114"/>
                  </a:lnTo>
                  <a:lnTo>
                    <a:pt x="630" y="1123"/>
                  </a:lnTo>
                  <a:lnTo>
                    <a:pt x="349" y="1720"/>
                  </a:lnTo>
                  <a:lnTo>
                    <a:pt x="255" y="1942"/>
                  </a:lnTo>
                  <a:lnTo>
                    <a:pt x="238" y="1982"/>
                  </a:lnTo>
                  <a:lnTo>
                    <a:pt x="200" y="2032"/>
                  </a:lnTo>
                  <a:lnTo>
                    <a:pt x="219" y="1924"/>
                  </a:lnTo>
                  <a:lnTo>
                    <a:pt x="228" y="1838"/>
                  </a:lnTo>
                  <a:lnTo>
                    <a:pt x="232" y="1794"/>
                  </a:lnTo>
                  <a:lnTo>
                    <a:pt x="198" y="1838"/>
                  </a:lnTo>
                  <a:lnTo>
                    <a:pt x="113" y="2032"/>
                  </a:lnTo>
                  <a:lnTo>
                    <a:pt x="96" y="2026"/>
                  </a:lnTo>
                  <a:lnTo>
                    <a:pt x="89" y="2020"/>
                  </a:lnTo>
                  <a:lnTo>
                    <a:pt x="87" y="2011"/>
                  </a:lnTo>
                  <a:lnTo>
                    <a:pt x="89" y="2003"/>
                  </a:lnTo>
                  <a:lnTo>
                    <a:pt x="104" y="1982"/>
                  </a:lnTo>
                  <a:lnTo>
                    <a:pt x="113" y="1968"/>
                  </a:lnTo>
                  <a:lnTo>
                    <a:pt x="115" y="1951"/>
                  </a:lnTo>
                  <a:lnTo>
                    <a:pt x="110" y="1924"/>
                  </a:lnTo>
                  <a:lnTo>
                    <a:pt x="104" y="1917"/>
                  </a:lnTo>
                  <a:lnTo>
                    <a:pt x="98" y="1928"/>
                  </a:lnTo>
                  <a:lnTo>
                    <a:pt x="89" y="1949"/>
                  </a:lnTo>
                  <a:lnTo>
                    <a:pt x="77" y="1980"/>
                  </a:lnTo>
                  <a:lnTo>
                    <a:pt x="60" y="2014"/>
                  </a:lnTo>
                  <a:lnTo>
                    <a:pt x="37" y="2047"/>
                  </a:lnTo>
                  <a:lnTo>
                    <a:pt x="23" y="2064"/>
                  </a:lnTo>
                  <a:lnTo>
                    <a:pt x="6" y="2078"/>
                  </a:lnTo>
                  <a:lnTo>
                    <a:pt x="0" y="1959"/>
                  </a:lnTo>
                  <a:lnTo>
                    <a:pt x="0" y="1934"/>
                  </a:lnTo>
                  <a:lnTo>
                    <a:pt x="2" y="1924"/>
                  </a:lnTo>
                  <a:lnTo>
                    <a:pt x="16" y="1909"/>
                  </a:lnTo>
                  <a:lnTo>
                    <a:pt x="31" y="1892"/>
                  </a:lnTo>
                  <a:lnTo>
                    <a:pt x="46" y="1852"/>
                  </a:lnTo>
                  <a:lnTo>
                    <a:pt x="50" y="1806"/>
                  </a:lnTo>
                  <a:lnTo>
                    <a:pt x="79" y="1781"/>
                  </a:lnTo>
                  <a:lnTo>
                    <a:pt x="92" y="1767"/>
                  </a:lnTo>
                  <a:lnTo>
                    <a:pt x="98" y="1754"/>
                  </a:lnTo>
                  <a:lnTo>
                    <a:pt x="104" y="1737"/>
                  </a:lnTo>
                  <a:lnTo>
                    <a:pt x="113" y="1708"/>
                  </a:lnTo>
                  <a:lnTo>
                    <a:pt x="129" y="1660"/>
                  </a:lnTo>
                  <a:lnTo>
                    <a:pt x="167" y="1586"/>
                  </a:lnTo>
                  <a:lnTo>
                    <a:pt x="223" y="1479"/>
                  </a:lnTo>
                  <a:lnTo>
                    <a:pt x="301" y="1340"/>
                  </a:lnTo>
                  <a:lnTo>
                    <a:pt x="343" y="1255"/>
                  </a:lnTo>
                  <a:lnTo>
                    <a:pt x="363" y="1209"/>
                  </a:lnTo>
                  <a:lnTo>
                    <a:pt x="373" y="1179"/>
                  </a:lnTo>
                  <a:lnTo>
                    <a:pt x="390" y="1148"/>
                  </a:lnTo>
                  <a:lnTo>
                    <a:pt x="345" y="1139"/>
                  </a:lnTo>
                  <a:lnTo>
                    <a:pt x="336" y="1135"/>
                  </a:lnTo>
                  <a:lnTo>
                    <a:pt x="334" y="1133"/>
                  </a:lnTo>
                  <a:lnTo>
                    <a:pt x="334" y="1123"/>
                  </a:lnTo>
                  <a:lnTo>
                    <a:pt x="334" y="1114"/>
                  </a:lnTo>
                  <a:lnTo>
                    <a:pt x="326" y="1100"/>
                  </a:lnTo>
                  <a:lnTo>
                    <a:pt x="320" y="1083"/>
                  </a:lnTo>
                  <a:lnTo>
                    <a:pt x="322" y="1075"/>
                  </a:lnTo>
                  <a:lnTo>
                    <a:pt x="328" y="1068"/>
                  </a:lnTo>
                  <a:lnTo>
                    <a:pt x="345" y="1060"/>
                  </a:lnTo>
                  <a:lnTo>
                    <a:pt x="367" y="1052"/>
                  </a:lnTo>
                  <a:lnTo>
                    <a:pt x="423" y="1037"/>
                  </a:lnTo>
                  <a:lnTo>
                    <a:pt x="450" y="1029"/>
                  </a:lnTo>
                  <a:lnTo>
                    <a:pt x="469" y="1016"/>
                  </a:lnTo>
                  <a:lnTo>
                    <a:pt x="522" y="924"/>
                  </a:lnTo>
                  <a:lnTo>
                    <a:pt x="522" y="880"/>
                  </a:lnTo>
                  <a:lnTo>
                    <a:pt x="566" y="836"/>
                  </a:lnTo>
                  <a:lnTo>
                    <a:pt x="574" y="825"/>
                  </a:lnTo>
                  <a:lnTo>
                    <a:pt x="574" y="817"/>
                  </a:lnTo>
                  <a:lnTo>
                    <a:pt x="574" y="796"/>
                  </a:lnTo>
                  <a:lnTo>
                    <a:pt x="578" y="779"/>
                  </a:lnTo>
                  <a:lnTo>
                    <a:pt x="586" y="750"/>
                  </a:lnTo>
                  <a:lnTo>
                    <a:pt x="658" y="641"/>
                  </a:lnTo>
                  <a:lnTo>
                    <a:pt x="683" y="593"/>
                  </a:lnTo>
                  <a:lnTo>
                    <a:pt x="699" y="572"/>
                  </a:lnTo>
                  <a:lnTo>
                    <a:pt x="722" y="541"/>
                  </a:lnTo>
                  <a:lnTo>
                    <a:pt x="758" y="483"/>
                  </a:lnTo>
                  <a:lnTo>
                    <a:pt x="762" y="456"/>
                  </a:lnTo>
                  <a:lnTo>
                    <a:pt x="785" y="443"/>
                  </a:lnTo>
                  <a:lnTo>
                    <a:pt x="848" y="299"/>
                  </a:lnTo>
                  <a:lnTo>
                    <a:pt x="869" y="263"/>
                  </a:lnTo>
                  <a:lnTo>
                    <a:pt x="882" y="242"/>
                  </a:lnTo>
                  <a:lnTo>
                    <a:pt x="902" y="224"/>
                  </a:lnTo>
                  <a:lnTo>
                    <a:pt x="913" y="211"/>
                  </a:lnTo>
                  <a:lnTo>
                    <a:pt x="928" y="188"/>
                  </a:lnTo>
                  <a:lnTo>
                    <a:pt x="944" y="157"/>
                  </a:lnTo>
                  <a:lnTo>
                    <a:pt x="955" y="129"/>
                  </a:lnTo>
                  <a:lnTo>
                    <a:pt x="963" y="90"/>
                  </a:lnTo>
                  <a:lnTo>
                    <a:pt x="967" y="81"/>
                  </a:lnTo>
                  <a:lnTo>
                    <a:pt x="976" y="73"/>
                  </a:lnTo>
                  <a:lnTo>
                    <a:pt x="988" y="69"/>
                  </a:lnTo>
                  <a:lnTo>
                    <a:pt x="1011" y="69"/>
                  </a:lnTo>
                  <a:lnTo>
                    <a:pt x="1024" y="69"/>
                  </a:lnTo>
                  <a:lnTo>
                    <a:pt x="1032" y="75"/>
                  </a:lnTo>
                  <a:lnTo>
                    <a:pt x="1034" y="79"/>
                  </a:lnTo>
                  <a:lnTo>
                    <a:pt x="1036" y="85"/>
                  </a:lnTo>
                  <a:lnTo>
                    <a:pt x="1038" y="104"/>
                  </a:lnTo>
                  <a:lnTo>
                    <a:pt x="1045" y="121"/>
                  </a:lnTo>
                  <a:lnTo>
                    <a:pt x="1050" y="125"/>
                  </a:lnTo>
                  <a:lnTo>
                    <a:pt x="1056" y="121"/>
                  </a:lnTo>
                  <a:lnTo>
                    <a:pt x="1067" y="90"/>
                  </a:lnTo>
                  <a:lnTo>
                    <a:pt x="1073" y="73"/>
                  </a:lnTo>
                  <a:lnTo>
                    <a:pt x="1083" y="56"/>
                  </a:lnTo>
                  <a:lnTo>
                    <a:pt x="1096" y="41"/>
                  </a:lnTo>
                  <a:lnTo>
                    <a:pt x="1111" y="33"/>
                  </a:lnTo>
                  <a:lnTo>
                    <a:pt x="1148" y="35"/>
                  </a:lnTo>
                  <a:lnTo>
                    <a:pt x="1171" y="39"/>
                  </a:lnTo>
                  <a:lnTo>
                    <a:pt x="1184" y="39"/>
                  </a:lnTo>
                  <a:lnTo>
                    <a:pt x="1201" y="35"/>
                  </a:lnTo>
                  <a:lnTo>
                    <a:pt x="1257" y="8"/>
                  </a:lnTo>
                  <a:lnTo>
                    <a:pt x="1270" y="2"/>
                  </a:lnTo>
                  <a:lnTo>
                    <a:pt x="1293" y="0"/>
                  </a:lnTo>
                  <a:lnTo>
                    <a:pt x="1322" y="2"/>
                  </a:lnTo>
                  <a:lnTo>
                    <a:pt x="1335" y="8"/>
                  </a:lnTo>
                  <a:lnTo>
                    <a:pt x="1343" y="16"/>
                  </a:lnTo>
                  <a:lnTo>
                    <a:pt x="1349" y="33"/>
                  </a:lnTo>
                  <a:lnTo>
                    <a:pt x="1349" y="52"/>
                  </a:lnTo>
                  <a:lnTo>
                    <a:pt x="1345" y="90"/>
                  </a:lnTo>
                  <a:lnTo>
                    <a:pt x="1347" y="108"/>
                  </a:lnTo>
                  <a:lnTo>
                    <a:pt x="1353" y="123"/>
                  </a:lnTo>
                  <a:lnTo>
                    <a:pt x="1358" y="129"/>
                  </a:lnTo>
                  <a:lnTo>
                    <a:pt x="1366" y="133"/>
                  </a:lnTo>
                  <a:lnTo>
                    <a:pt x="1385" y="14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02400" y="5607000"/>
              <a:ext cx="405000" cy="594000"/>
            </a:xfrm>
            <a:custGeom>
              <a:avLst/>
              <a:gdLst/>
              <a:ahLst/>
              <a:rect l="0" t="0" r="r" b="b"/>
              <a:pathLst>
                <a:path w="1125" h="1650">
                  <a:moveTo>
                    <a:pt x="980" y="207"/>
                  </a:moveTo>
                  <a:lnTo>
                    <a:pt x="988" y="234"/>
                  </a:lnTo>
                  <a:lnTo>
                    <a:pt x="986" y="253"/>
                  </a:lnTo>
                  <a:lnTo>
                    <a:pt x="980" y="267"/>
                  </a:lnTo>
                  <a:lnTo>
                    <a:pt x="966" y="278"/>
                  </a:lnTo>
                  <a:lnTo>
                    <a:pt x="920" y="294"/>
                  </a:lnTo>
                  <a:lnTo>
                    <a:pt x="856" y="309"/>
                  </a:lnTo>
                  <a:lnTo>
                    <a:pt x="771" y="334"/>
                  </a:lnTo>
                  <a:lnTo>
                    <a:pt x="721" y="353"/>
                  </a:lnTo>
                  <a:lnTo>
                    <a:pt x="667" y="378"/>
                  </a:lnTo>
                  <a:lnTo>
                    <a:pt x="609" y="411"/>
                  </a:lnTo>
                  <a:lnTo>
                    <a:pt x="546" y="450"/>
                  </a:lnTo>
                  <a:lnTo>
                    <a:pt x="482" y="500"/>
                  </a:lnTo>
                  <a:lnTo>
                    <a:pt x="414" y="560"/>
                  </a:lnTo>
                  <a:lnTo>
                    <a:pt x="378" y="600"/>
                  </a:lnTo>
                  <a:lnTo>
                    <a:pt x="345" y="643"/>
                  </a:lnTo>
                  <a:lnTo>
                    <a:pt x="316" y="689"/>
                  </a:lnTo>
                  <a:lnTo>
                    <a:pt x="291" y="739"/>
                  </a:lnTo>
                  <a:lnTo>
                    <a:pt x="273" y="791"/>
                  </a:lnTo>
                  <a:lnTo>
                    <a:pt x="254" y="842"/>
                  </a:lnTo>
                  <a:lnTo>
                    <a:pt x="244" y="896"/>
                  </a:lnTo>
                  <a:lnTo>
                    <a:pt x="236" y="948"/>
                  </a:lnTo>
                  <a:lnTo>
                    <a:pt x="231" y="1052"/>
                  </a:lnTo>
                  <a:lnTo>
                    <a:pt x="236" y="1099"/>
                  </a:lnTo>
                  <a:lnTo>
                    <a:pt x="244" y="1147"/>
                  </a:lnTo>
                  <a:lnTo>
                    <a:pt x="254" y="1189"/>
                  </a:lnTo>
                  <a:lnTo>
                    <a:pt x="271" y="1228"/>
                  </a:lnTo>
                  <a:lnTo>
                    <a:pt x="291" y="1263"/>
                  </a:lnTo>
                  <a:lnTo>
                    <a:pt x="314" y="1292"/>
                  </a:lnTo>
                  <a:lnTo>
                    <a:pt x="370" y="1346"/>
                  </a:lnTo>
                  <a:lnTo>
                    <a:pt x="426" y="1390"/>
                  </a:lnTo>
                  <a:lnTo>
                    <a:pt x="488" y="1427"/>
                  </a:lnTo>
                  <a:lnTo>
                    <a:pt x="550" y="1450"/>
                  </a:lnTo>
                  <a:lnTo>
                    <a:pt x="616" y="1461"/>
                  </a:lnTo>
                  <a:lnTo>
                    <a:pt x="649" y="1461"/>
                  </a:lnTo>
                  <a:lnTo>
                    <a:pt x="680" y="1454"/>
                  </a:lnTo>
                  <a:lnTo>
                    <a:pt x="713" y="1446"/>
                  </a:lnTo>
                  <a:lnTo>
                    <a:pt x="746" y="1432"/>
                  </a:lnTo>
                  <a:lnTo>
                    <a:pt x="781" y="1413"/>
                  </a:lnTo>
                  <a:lnTo>
                    <a:pt x="814" y="1388"/>
                  </a:lnTo>
                  <a:lnTo>
                    <a:pt x="796" y="1355"/>
                  </a:lnTo>
                  <a:lnTo>
                    <a:pt x="787" y="1330"/>
                  </a:lnTo>
                  <a:lnTo>
                    <a:pt x="781" y="1292"/>
                  </a:lnTo>
                  <a:lnTo>
                    <a:pt x="783" y="1238"/>
                  </a:lnTo>
                  <a:lnTo>
                    <a:pt x="792" y="1164"/>
                  </a:lnTo>
                  <a:lnTo>
                    <a:pt x="810" y="1066"/>
                  </a:lnTo>
                  <a:lnTo>
                    <a:pt x="841" y="939"/>
                  </a:lnTo>
                  <a:lnTo>
                    <a:pt x="736" y="958"/>
                  </a:lnTo>
                  <a:lnTo>
                    <a:pt x="651" y="979"/>
                  </a:lnTo>
                  <a:lnTo>
                    <a:pt x="587" y="1002"/>
                  </a:lnTo>
                  <a:lnTo>
                    <a:pt x="538" y="1022"/>
                  </a:lnTo>
                  <a:lnTo>
                    <a:pt x="480" y="1052"/>
                  </a:lnTo>
                  <a:lnTo>
                    <a:pt x="461" y="1058"/>
                  </a:lnTo>
                  <a:lnTo>
                    <a:pt x="445" y="1054"/>
                  </a:lnTo>
                  <a:lnTo>
                    <a:pt x="436" y="1047"/>
                  </a:lnTo>
                  <a:lnTo>
                    <a:pt x="434" y="1041"/>
                  </a:lnTo>
                  <a:lnTo>
                    <a:pt x="439" y="1037"/>
                  </a:lnTo>
                  <a:lnTo>
                    <a:pt x="445" y="1031"/>
                  </a:lnTo>
                  <a:lnTo>
                    <a:pt x="465" y="1020"/>
                  </a:lnTo>
                  <a:lnTo>
                    <a:pt x="484" y="1006"/>
                  </a:lnTo>
                  <a:lnTo>
                    <a:pt x="540" y="906"/>
                  </a:lnTo>
                  <a:lnTo>
                    <a:pt x="578" y="887"/>
                  </a:lnTo>
                  <a:lnTo>
                    <a:pt x="593" y="875"/>
                  </a:lnTo>
                  <a:lnTo>
                    <a:pt x="599" y="865"/>
                  </a:lnTo>
                  <a:lnTo>
                    <a:pt x="616" y="848"/>
                  </a:lnTo>
                  <a:lnTo>
                    <a:pt x="711" y="814"/>
                  </a:lnTo>
                  <a:lnTo>
                    <a:pt x="717" y="789"/>
                  </a:lnTo>
                  <a:lnTo>
                    <a:pt x="719" y="787"/>
                  </a:lnTo>
                  <a:lnTo>
                    <a:pt x="742" y="789"/>
                  </a:lnTo>
                  <a:lnTo>
                    <a:pt x="767" y="785"/>
                  </a:lnTo>
                  <a:lnTo>
                    <a:pt x="802" y="774"/>
                  </a:lnTo>
                  <a:lnTo>
                    <a:pt x="852" y="758"/>
                  </a:lnTo>
                  <a:lnTo>
                    <a:pt x="891" y="737"/>
                  </a:lnTo>
                  <a:lnTo>
                    <a:pt x="922" y="716"/>
                  </a:lnTo>
                  <a:lnTo>
                    <a:pt x="947" y="695"/>
                  </a:lnTo>
                  <a:lnTo>
                    <a:pt x="986" y="668"/>
                  </a:lnTo>
                  <a:lnTo>
                    <a:pt x="1001" y="662"/>
                  </a:lnTo>
                  <a:lnTo>
                    <a:pt x="1015" y="664"/>
                  </a:lnTo>
                  <a:lnTo>
                    <a:pt x="1030" y="675"/>
                  </a:lnTo>
                  <a:lnTo>
                    <a:pt x="1038" y="685"/>
                  </a:lnTo>
                  <a:lnTo>
                    <a:pt x="1044" y="704"/>
                  </a:lnTo>
                  <a:lnTo>
                    <a:pt x="1048" y="716"/>
                  </a:lnTo>
                  <a:lnTo>
                    <a:pt x="1055" y="718"/>
                  </a:lnTo>
                  <a:lnTo>
                    <a:pt x="1063" y="712"/>
                  </a:lnTo>
                  <a:lnTo>
                    <a:pt x="1094" y="687"/>
                  </a:lnTo>
                  <a:lnTo>
                    <a:pt x="1125" y="691"/>
                  </a:lnTo>
                  <a:lnTo>
                    <a:pt x="1115" y="812"/>
                  </a:lnTo>
                  <a:lnTo>
                    <a:pt x="1098" y="914"/>
                  </a:lnTo>
                  <a:lnTo>
                    <a:pt x="1055" y="1085"/>
                  </a:lnTo>
                  <a:lnTo>
                    <a:pt x="1036" y="1164"/>
                  </a:lnTo>
                  <a:lnTo>
                    <a:pt x="1021" y="1247"/>
                  </a:lnTo>
                  <a:lnTo>
                    <a:pt x="1013" y="1340"/>
                  </a:lnTo>
                  <a:lnTo>
                    <a:pt x="1015" y="1448"/>
                  </a:lnTo>
                  <a:lnTo>
                    <a:pt x="1028" y="1575"/>
                  </a:lnTo>
                  <a:lnTo>
                    <a:pt x="1034" y="1623"/>
                  </a:lnTo>
                  <a:lnTo>
                    <a:pt x="1032" y="1631"/>
                  </a:lnTo>
                  <a:lnTo>
                    <a:pt x="1028" y="1631"/>
                  </a:lnTo>
                  <a:lnTo>
                    <a:pt x="1007" y="1637"/>
                  </a:lnTo>
                  <a:lnTo>
                    <a:pt x="997" y="1614"/>
                  </a:lnTo>
                  <a:lnTo>
                    <a:pt x="986" y="1610"/>
                  </a:lnTo>
                  <a:lnTo>
                    <a:pt x="974" y="1614"/>
                  </a:lnTo>
                  <a:lnTo>
                    <a:pt x="968" y="1612"/>
                  </a:lnTo>
                  <a:lnTo>
                    <a:pt x="959" y="1606"/>
                  </a:lnTo>
                  <a:lnTo>
                    <a:pt x="941" y="1554"/>
                  </a:lnTo>
                  <a:lnTo>
                    <a:pt x="928" y="1548"/>
                  </a:lnTo>
                  <a:lnTo>
                    <a:pt x="914" y="1535"/>
                  </a:lnTo>
                  <a:lnTo>
                    <a:pt x="885" y="1511"/>
                  </a:lnTo>
                  <a:lnTo>
                    <a:pt x="858" y="1492"/>
                  </a:lnTo>
                  <a:lnTo>
                    <a:pt x="847" y="1488"/>
                  </a:lnTo>
                  <a:lnTo>
                    <a:pt x="837" y="1488"/>
                  </a:lnTo>
                  <a:lnTo>
                    <a:pt x="818" y="1504"/>
                  </a:lnTo>
                  <a:lnTo>
                    <a:pt x="804" y="1527"/>
                  </a:lnTo>
                  <a:lnTo>
                    <a:pt x="787" y="1552"/>
                  </a:lnTo>
                  <a:lnTo>
                    <a:pt x="767" y="1579"/>
                  </a:lnTo>
                  <a:lnTo>
                    <a:pt x="756" y="1592"/>
                  </a:lnTo>
                  <a:lnTo>
                    <a:pt x="740" y="1604"/>
                  </a:lnTo>
                  <a:lnTo>
                    <a:pt x="703" y="1625"/>
                  </a:lnTo>
                  <a:lnTo>
                    <a:pt x="653" y="1641"/>
                  </a:lnTo>
                  <a:lnTo>
                    <a:pt x="620" y="1648"/>
                  </a:lnTo>
                  <a:lnTo>
                    <a:pt x="584" y="1650"/>
                  </a:lnTo>
                  <a:lnTo>
                    <a:pt x="536" y="1648"/>
                  </a:lnTo>
                  <a:lnTo>
                    <a:pt x="484" y="1644"/>
                  </a:lnTo>
                  <a:lnTo>
                    <a:pt x="436" y="1633"/>
                  </a:lnTo>
                  <a:lnTo>
                    <a:pt x="387" y="1617"/>
                  </a:lnTo>
                  <a:lnTo>
                    <a:pt x="341" y="1598"/>
                  </a:lnTo>
                  <a:lnTo>
                    <a:pt x="294" y="1573"/>
                  </a:lnTo>
                  <a:lnTo>
                    <a:pt x="250" y="1542"/>
                  </a:lnTo>
                  <a:lnTo>
                    <a:pt x="209" y="1506"/>
                  </a:lnTo>
                  <a:lnTo>
                    <a:pt x="171" y="1469"/>
                  </a:lnTo>
                  <a:lnTo>
                    <a:pt x="134" y="1423"/>
                  </a:lnTo>
                  <a:lnTo>
                    <a:pt x="101" y="1376"/>
                  </a:lnTo>
                  <a:lnTo>
                    <a:pt x="72" y="1324"/>
                  </a:lnTo>
                  <a:lnTo>
                    <a:pt x="49" y="1265"/>
                  </a:lnTo>
                  <a:lnTo>
                    <a:pt x="28" y="1203"/>
                  </a:lnTo>
                  <a:lnTo>
                    <a:pt x="14" y="1137"/>
                  </a:lnTo>
                  <a:lnTo>
                    <a:pt x="4" y="1066"/>
                  </a:lnTo>
                  <a:lnTo>
                    <a:pt x="0" y="973"/>
                  </a:lnTo>
                  <a:lnTo>
                    <a:pt x="4" y="883"/>
                  </a:lnTo>
                  <a:lnTo>
                    <a:pt x="16" y="799"/>
                  </a:lnTo>
                  <a:lnTo>
                    <a:pt x="33" y="720"/>
                  </a:lnTo>
                  <a:lnTo>
                    <a:pt x="57" y="648"/>
                  </a:lnTo>
                  <a:lnTo>
                    <a:pt x="84" y="579"/>
                  </a:lnTo>
                  <a:lnTo>
                    <a:pt x="115" y="517"/>
                  </a:lnTo>
                  <a:lnTo>
                    <a:pt x="149" y="459"/>
                  </a:lnTo>
                  <a:lnTo>
                    <a:pt x="215" y="357"/>
                  </a:lnTo>
                  <a:lnTo>
                    <a:pt x="281" y="276"/>
                  </a:lnTo>
                  <a:lnTo>
                    <a:pt x="333" y="218"/>
                  </a:lnTo>
                  <a:lnTo>
                    <a:pt x="366" y="180"/>
                  </a:lnTo>
                  <a:lnTo>
                    <a:pt x="403" y="143"/>
                  </a:lnTo>
                  <a:lnTo>
                    <a:pt x="434" y="118"/>
                  </a:lnTo>
                  <a:lnTo>
                    <a:pt x="478" y="91"/>
                  </a:lnTo>
                  <a:lnTo>
                    <a:pt x="532" y="64"/>
                  </a:lnTo>
                  <a:lnTo>
                    <a:pt x="599" y="37"/>
                  </a:lnTo>
                  <a:lnTo>
                    <a:pt x="678" y="16"/>
                  </a:lnTo>
                  <a:lnTo>
                    <a:pt x="767" y="0"/>
                  </a:lnTo>
                  <a:lnTo>
                    <a:pt x="790" y="0"/>
                  </a:lnTo>
                  <a:lnTo>
                    <a:pt x="798" y="4"/>
                  </a:lnTo>
                  <a:lnTo>
                    <a:pt x="804" y="12"/>
                  </a:lnTo>
                  <a:lnTo>
                    <a:pt x="821" y="24"/>
                  </a:lnTo>
                  <a:lnTo>
                    <a:pt x="876" y="37"/>
                  </a:lnTo>
                  <a:lnTo>
                    <a:pt x="887" y="54"/>
                  </a:lnTo>
                  <a:lnTo>
                    <a:pt x="889" y="62"/>
                  </a:lnTo>
                  <a:lnTo>
                    <a:pt x="887" y="68"/>
                  </a:lnTo>
                  <a:lnTo>
                    <a:pt x="887" y="74"/>
                  </a:lnTo>
                  <a:lnTo>
                    <a:pt x="891" y="83"/>
                  </a:lnTo>
                  <a:lnTo>
                    <a:pt x="924" y="120"/>
                  </a:lnTo>
                  <a:lnTo>
                    <a:pt x="949" y="147"/>
                  </a:lnTo>
                  <a:lnTo>
                    <a:pt x="959" y="153"/>
                  </a:lnTo>
                  <a:lnTo>
                    <a:pt x="972" y="149"/>
                  </a:lnTo>
                  <a:lnTo>
                    <a:pt x="999" y="151"/>
                  </a:lnTo>
                  <a:lnTo>
                    <a:pt x="1007" y="153"/>
                  </a:lnTo>
                  <a:lnTo>
                    <a:pt x="1011" y="157"/>
                  </a:lnTo>
                  <a:lnTo>
                    <a:pt x="1013" y="166"/>
                  </a:lnTo>
                  <a:lnTo>
                    <a:pt x="1013" y="172"/>
                  </a:lnTo>
                  <a:lnTo>
                    <a:pt x="1003" y="191"/>
                  </a:lnTo>
                  <a:lnTo>
                    <a:pt x="995" y="199"/>
                  </a:lnTo>
                  <a:lnTo>
                    <a:pt x="980" y="20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13640" y="5740560"/>
              <a:ext cx="100440" cy="119520"/>
            </a:xfrm>
            <a:custGeom>
              <a:avLst/>
              <a:gdLst/>
              <a:ahLst/>
              <a:rect l="0" t="0" r="r" b="b"/>
              <a:pathLst>
                <a:path w="279" h="332">
                  <a:moveTo>
                    <a:pt x="0" y="332"/>
                  </a:moveTo>
                  <a:lnTo>
                    <a:pt x="26" y="322"/>
                  </a:lnTo>
                  <a:lnTo>
                    <a:pt x="50" y="308"/>
                  </a:lnTo>
                  <a:lnTo>
                    <a:pt x="104" y="274"/>
                  </a:lnTo>
                  <a:lnTo>
                    <a:pt x="132" y="258"/>
                  </a:lnTo>
                  <a:lnTo>
                    <a:pt x="163" y="247"/>
                  </a:lnTo>
                  <a:lnTo>
                    <a:pt x="193" y="240"/>
                  </a:lnTo>
                  <a:lnTo>
                    <a:pt x="225" y="242"/>
                  </a:lnTo>
                  <a:lnTo>
                    <a:pt x="231" y="216"/>
                  </a:lnTo>
                  <a:lnTo>
                    <a:pt x="231" y="196"/>
                  </a:lnTo>
                  <a:lnTo>
                    <a:pt x="229" y="172"/>
                  </a:lnTo>
                  <a:lnTo>
                    <a:pt x="227" y="156"/>
                  </a:lnTo>
                  <a:lnTo>
                    <a:pt x="237" y="132"/>
                  </a:lnTo>
                  <a:lnTo>
                    <a:pt x="247" y="115"/>
                  </a:lnTo>
                  <a:lnTo>
                    <a:pt x="255" y="97"/>
                  </a:lnTo>
                  <a:lnTo>
                    <a:pt x="279" y="14"/>
                  </a:lnTo>
                  <a:lnTo>
                    <a:pt x="249" y="14"/>
                  </a:lnTo>
                  <a:lnTo>
                    <a:pt x="249" y="10"/>
                  </a:lnTo>
                  <a:lnTo>
                    <a:pt x="245" y="0"/>
                  </a:lnTo>
                  <a:lnTo>
                    <a:pt x="235" y="6"/>
                  </a:lnTo>
                  <a:lnTo>
                    <a:pt x="212" y="28"/>
                  </a:lnTo>
                  <a:lnTo>
                    <a:pt x="147" y="111"/>
                  </a:lnTo>
                  <a:lnTo>
                    <a:pt x="68" y="222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350040" y="5743440"/>
              <a:ext cx="103680" cy="178200"/>
            </a:xfrm>
            <a:custGeom>
              <a:avLst/>
              <a:gdLst/>
              <a:ahLst/>
              <a:rect l="0" t="0" r="r" b="b"/>
              <a:pathLst>
                <a:path w="288" h="495">
                  <a:moveTo>
                    <a:pt x="0" y="495"/>
                  </a:moveTo>
                  <a:lnTo>
                    <a:pt x="16" y="493"/>
                  </a:lnTo>
                  <a:lnTo>
                    <a:pt x="22" y="491"/>
                  </a:lnTo>
                  <a:lnTo>
                    <a:pt x="26" y="487"/>
                  </a:lnTo>
                  <a:lnTo>
                    <a:pt x="30" y="479"/>
                  </a:lnTo>
                  <a:lnTo>
                    <a:pt x="34" y="469"/>
                  </a:lnTo>
                  <a:lnTo>
                    <a:pt x="38" y="459"/>
                  </a:lnTo>
                  <a:lnTo>
                    <a:pt x="48" y="446"/>
                  </a:lnTo>
                  <a:lnTo>
                    <a:pt x="66" y="436"/>
                  </a:lnTo>
                  <a:lnTo>
                    <a:pt x="97" y="426"/>
                  </a:lnTo>
                  <a:lnTo>
                    <a:pt x="137" y="418"/>
                  </a:lnTo>
                  <a:lnTo>
                    <a:pt x="143" y="416"/>
                  </a:lnTo>
                  <a:lnTo>
                    <a:pt x="147" y="410"/>
                  </a:lnTo>
                  <a:lnTo>
                    <a:pt x="179" y="389"/>
                  </a:lnTo>
                  <a:lnTo>
                    <a:pt x="282" y="335"/>
                  </a:lnTo>
                  <a:lnTo>
                    <a:pt x="288" y="0"/>
                  </a:lnTo>
                  <a:lnTo>
                    <a:pt x="262" y="38"/>
                  </a:lnTo>
                  <a:lnTo>
                    <a:pt x="258" y="36"/>
                  </a:lnTo>
                  <a:lnTo>
                    <a:pt x="246" y="38"/>
                  </a:lnTo>
                  <a:lnTo>
                    <a:pt x="228" y="34"/>
                  </a:lnTo>
                  <a:lnTo>
                    <a:pt x="4" y="453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070840" y="5951520"/>
              <a:ext cx="773640" cy="630720"/>
            </a:xfrm>
            <a:custGeom>
              <a:avLst/>
              <a:gdLst/>
              <a:ahLst/>
              <a:rect l="0" t="0" r="r" b="b"/>
              <a:pathLst>
                <a:path w="2149" h="1752">
                  <a:moveTo>
                    <a:pt x="45" y="0"/>
                  </a:moveTo>
                  <a:lnTo>
                    <a:pt x="77" y="8"/>
                  </a:lnTo>
                  <a:lnTo>
                    <a:pt x="129" y="26"/>
                  </a:lnTo>
                  <a:lnTo>
                    <a:pt x="181" y="47"/>
                  </a:lnTo>
                  <a:lnTo>
                    <a:pt x="206" y="62"/>
                  </a:lnTo>
                  <a:lnTo>
                    <a:pt x="379" y="224"/>
                  </a:lnTo>
                  <a:lnTo>
                    <a:pt x="464" y="306"/>
                  </a:lnTo>
                  <a:lnTo>
                    <a:pt x="734" y="585"/>
                  </a:lnTo>
                  <a:lnTo>
                    <a:pt x="905" y="720"/>
                  </a:lnTo>
                  <a:lnTo>
                    <a:pt x="922" y="739"/>
                  </a:lnTo>
                  <a:lnTo>
                    <a:pt x="935" y="758"/>
                  </a:lnTo>
                  <a:lnTo>
                    <a:pt x="962" y="795"/>
                  </a:lnTo>
                  <a:lnTo>
                    <a:pt x="983" y="814"/>
                  </a:lnTo>
                  <a:lnTo>
                    <a:pt x="1016" y="836"/>
                  </a:lnTo>
                  <a:lnTo>
                    <a:pt x="1062" y="861"/>
                  </a:lnTo>
                  <a:lnTo>
                    <a:pt x="1124" y="890"/>
                  </a:lnTo>
                  <a:lnTo>
                    <a:pt x="1126" y="890"/>
                  </a:lnTo>
                  <a:lnTo>
                    <a:pt x="1124" y="884"/>
                  </a:lnTo>
                  <a:lnTo>
                    <a:pt x="1126" y="884"/>
                  </a:lnTo>
                  <a:lnTo>
                    <a:pt x="1141" y="894"/>
                  </a:lnTo>
                  <a:lnTo>
                    <a:pt x="1231" y="973"/>
                  </a:lnTo>
                  <a:lnTo>
                    <a:pt x="1454" y="1177"/>
                  </a:lnTo>
                  <a:lnTo>
                    <a:pt x="1647" y="1360"/>
                  </a:lnTo>
                  <a:lnTo>
                    <a:pt x="1709" y="1402"/>
                  </a:lnTo>
                  <a:lnTo>
                    <a:pt x="1755" y="1427"/>
                  </a:lnTo>
                  <a:lnTo>
                    <a:pt x="1826" y="1460"/>
                  </a:lnTo>
                  <a:lnTo>
                    <a:pt x="1868" y="1485"/>
                  </a:lnTo>
                  <a:lnTo>
                    <a:pt x="1924" y="1526"/>
                  </a:lnTo>
                  <a:lnTo>
                    <a:pt x="2001" y="1592"/>
                  </a:lnTo>
                  <a:lnTo>
                    <a:pt x="2107" y="1690"/>
                  </a:lnTo>
                  <a:lnTo>
                    <a:pt x="2145" y="1729"/>
                  </a:lnTo>
                  <a:lnTo>
                    <a:pt x="2149" y="1742"/>
                  </a:lnTo>
                  <a:lnTo>
                    <a:pt x="2147" y="1746"/>
                  </a:lnTo>
                  <a:lnTo>
                    <a:pt x="2143" y="1746"/>
                  </a:lnTo>
                  <a:lnTo>
                    <a:pt x="2134" y="1752"/>
                  </a:lnTo>
                  <a:lnTo>
                    <a:pt x="2128" y="1752"/>
                  </a:lnTo>
                  <a:lnTo>
                    <a:pt x="2122" y="1750"/>
                  </a:lnTo>
                  <a:lnTo>
                    <a:pt x="2109" y="1740"/>
                  </a:lnTo>
                  <a:lnTo>
                    <a:pt x="2049" y="1690"/>
                  </a:lnTo>
                  <a:lnTo>
                    <a:pt x="1909" y="1582"/>
                  </a:lnTo>
                  <a:lnTo>
                    <a:pt x="1516" y="1291"/>
                  </a:lnTo>
                  <a:lnTo>
                    <a:pt x="1433" y="1233"/>
                  </a:lnTo>
                  <a:lnTo>
                    <a:pt x="1395" y="1208"/>
                  </a:lnTo>
                  <a:lnTo>
                    <a:pt x="1385" y="1204"/>
                  </a:lnTo>
                  <a:lnTo>
                    <a:pt x="1377" y="1204"/>
                  </a:lnTo>
                  <a:lnTo>
                    <a:pt x="1352" y="1187"/>
                  </a:lnTo>
                  <a:lnTo>
                    <a:pt x="1287" y="1141"/>
                  </a:lnTo>
                  <a:lnTo>
                    <a:pt x="1243" y="1108"/>
                  </a:lnTo>
                  <a:lnTo>
                    <a:pt x="1199" y="1069"/>
                  </a:lnTo>
                  <a:lnTo>
                    <a:pt x="1118" y="992"/>
                  </a:lnTo>
                  <a:lnTo>
                    <a:pt x="1076" y="955"/>
                  </a:lnTo>
                  <a:lnTo>
                    <a:pt x="1033" y="921"/>
                  </a:lnTo>
                  <a:lnTo>
                    <a:pt x="985" y="890"/>
                  </a:lnTo>
                  <a:lnTo>
                    <a:pt x="932" y="863"/>
                  </a:lnTo>
                  <a:lnTo>
                    <a:pt x="905" y="853"/>
                  </a:lnTo>
                  <a:lnTo>
                    <a:pt x="901" y="851"/>
                  </a:lnTo>
                  <a:lnTo>
                    <a:pt x="893" y="836"/>
                  </a:lnTo>
                  <a:lnTo>
                    <a:pt x="855" y="789"/>
                  </a:lnTo>
                  <a:lnTo>
                    <a:pt x="828" y="758"/>
                  </a:lnTo>
                  <a:lnTo>
                    <a:pt x="799" y="735"/>
                  </a:lnTo>
                  <a:lnTo>
                    <a:pt x="743" y="702"/>
                  </a:lnTo>
                  <a:lnTo>
                    <a:pt x="693" y="675"/>
                  </a:lnTo>
                  <a:lnTo>
                    <a:pt x="670" y="662"/>
                  </a:lnTo>
                  <a:lnTo>
                    <a:pt x="647" y="646"/>
                  </a:lnTo>
                  <a:lnTo>
                    <a:pt x="559" y="538"/>
                  </a:lnTo>
                  <a:lnTo>
                    <a:pt x="473" y="488"/>
                  </a:lnTo>
                  <a:lnTo>
                    <a:pt x="435" y="444"/>
                  </a:lnTo>
                  <a:lnTo>
                    <a:pt x="400" y="398"/>
                  </a:lnTo>
                  <a:lnTo>
                    <a:pt x="379" y="373"/>
                  </a:lnTo>
                  <a:lnTo>
                    <a:pt x="352" y="344"/>
                  </a:lnTo>
                  <a:lnTo>
                    <a:pt x="321" y="313"/>
                  </a:lnTo>
                  <a:lnTo>
                    <a:pt x="277" y="280"/>
                  </a:lnTo>
                  <a:lnTo>
                    <a:pt x="246" y="257"/>
                  </a:lnTo>
                  <a:lnTo>
                    <a:pt x="231" y="248"/>
                  </a:lnTo>
                  <a:lnTo>
                    <a:pt x="181" y="172"/>
                  </a:lnTo>
                  <a:lnTo>
                    <a:pt x="112" y="168"/>
                  </a:lnTo>
                  <a:lnTo>
                    <a:pt x="97" y="165"/>
                  </a:lnTo>
                  <a:lnTo>
                    <a:pt x="93" y="161"/>
                  </a:lnTo>
                  <a:lnTo>
                    <a:pt x="91" y="153"/>
                  </a:lnTo>
                  <a:lnTo>
                    <a:pt x="89" y="149"/>
                  </a:lnTo>
                  <a:lnTo>
                    <a:pt x="79" y="145"/>
                  </a:lnTo>
                  <a:lnTo>
                    <a:pt x="18" y="145"/>
                  </a:lnTo>
                  <a:lnTo>
                    <a:pt x="6" y="130"/>
                  </a:lnTo>
                  <a:lnTo>
                    <a:pt x="0" y="122"/>
                  </a:lnTo>
                  <a:lnTo>
                    <a:pt x="2" y="118"/>
                  </a:lnTo>
                  <a:lnTo>
                    <a:pt x="6" y="114"/>
                  </a:lnTo>
                  <a:lnTo>
                    <a:pt x="10" y="109"/>
                  </a:lnTo>
                  <a:lnTo>
                    <a:pt x="14" y="99"/>
                  </a:lnTo>
                  <a:lnTo>
                    <a:pt x="14" y="85"/>
                  </a:lnTo>
                  <a:lnTo>
                    <a:pt x="6" y="58"/>
                  </a:lnTo>
                  <a:lnTo>
                    <a:pt x="8" y="41"/>
                  </a:lnTo>
                  <a:lnTo>
                    <a:pt x="14" y="22"/>
                  </a:lnTo>
                  <a:lnTo>
                    <a:pt x="25" y="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067600" y="6024600"/>
              <a:ext cx="813240" cy="659160"/>
            </a:xfrm>
            <a:custGeom>
              <a:avLst/>
              <a:gdLst/>
              <a:ahLst/>
              <a:rect l="0" t="0" r="r" b="b"/>
              <a:pathLst>
                <a:path w="2259" h="1831">
                  <a:moveTo>
                    <a:pt x="0" y="47"/>
                  </a:moveTo>
                  <a:lnTo>
                    <a:pt x="2" y="29"/>
                  </a:lnTo>
                  <a:lnTo>
                    <a:pt x="8" y="14"/>
                  </a:lnTo>
                  <a:lnTo>
                    <a:pt x="20" y="4"/>
                  </a:lnTo>
                  <a:lnTo>
                    <a:pt x="39" y="0"/>
                  </a:lnTo>
                  <a:lnTo>
                    <a:pt x="70" y="6"/>
                  </a:lnTo>
                  <a:lnTo>
                    <a:pt x="110" y="20"/>
                  </a:lnTo>
                  <a:lnTo>
                    <a:pt x="162" y="49"/>
                  </a:lnTo>
                  <a:lnTo>
                    <a:pt x="227" y="91"/>
                  </a:lnTo>
                  <a:lnTo>
                    <a:pt x="266" y="116"/>
                  </a:lnTo>
                  <a:lnTo>
                    <a:pt x="306" y="135"/>
                  </a:lnTo>
                  <a:lnTo>
                    <a:pt x="325" y="149"/>
                  </a:lnTo>
                  <a:lnTo>
                    <a:pt x="341" y="162"/>
                  </a:lnTo>
                  <a:lnTo>
                    <a:pt x="358" y="180"/>
                  </a:lnTo>
                  <a:lnTo>
                    <a:pt x="368" y="199"/>
                  </a:lnTo>
                  <a:lnTo>
                    <a:pt x="373" y="222"/>
                  </a:lnTo>
                  <a:lnTo>
                    <a:pt x="381" y="255"/>
                  </a:lnTo>
                  <a:lnTo>
                    <a:pt x="396" y="280"/>
                  </a:lnTo>
                  <a:lnTo>
                    <a:pt x="416" y="313"/>
                  </a:lnTo>
                  <a:lnTo>
                    <a:pt x="452" y="353"/>
                  </a:lnTo>
                  <a:lnTo>
                    <a:pt x="500" y="400"/>
                  </a:lnTo>
                  <a:lnTo>
                    <a:pt x="576" y="467"/>
                  </a:lnTo>
                  <a:lnTo>
                    <a:pt x="620" y="504"/>
                  </a:lnTo>
                  <a:lnTo>
                    <a:pt x="641" y="521"/>
                  </a:lnTo>
                  <a:lnTo>
                    <a:pt x="651" y="525"/>
                  </a:lnTo>
                  <a:lnTo>
                    <a:pt x="661" y="544"/>
                  </a:lnTo>
                  <a:lnTo>
                    <a:pt x="716" y="631"/>
                  </a:lnTo>
                  <a:lnTo>
                    <a:pt x="734" y="658"/>
                  </a:lnTo>
                  <a:lnTo>
                    <a:pt x="749" y="668"/>
                  </a:lnTo>
                  <a:lnTo>
                    <a:pt x="759" y="670"/>
                  </a:lnTo>
                  <a:lnTo>
                    <a:pt x="768" y="666"/>
                  </a:lnTo>
                  <a:lnTo>
                    <a:pt x="778" y="664"/>
                  </a:lnTo>
                  <a:lnTo>
                    <a:pt x="793" y="662"/>
                  </a:lnTo>
                  <a:lnTo>
                    <a:pt x="814" y="670"/>
                  </a:lnTo>
                  <a:lnTo>
                    <a:pt x="843" y="691"/>
                  </a:lnTo>
                  <a:lnTo>
                    <a:pt x="884" y="731"/>
                  </a:lnTo>
                  <a:lnTo>
                    <a:pt x="909" y="758"/>
                  </a:lnTo>
                  <a:lnTo>
                    <a:pt x="920" y="776"/>
                  </a:lnTo>
                  <a:lnTo>
                    <a:pt x="924" y="789"/>
                  </a:lnTo>
                  <a:lnTo>
                    <a:pt x="924" y="799"/>
                  </a:lnTo>
                  <a:lnTo>
                    <a:pt x="928" y="810"/>
                  </a:lnTo>
                  <a:lnTo>
                    <a:pt x="943" y="822"/>
                  </a:lnTo>
                  <a:lnTo>
                    <a:pt x="970" y="845"/>
                  </a:lnTo>
                  <a:lnTo>
                    <a:pt x="1014" y="866"/>
                  </a:lnTo>
                  <a:lnTo>
                    <a:pt x="1028" y="876"/>
                  </a:lnTo>
                  <a:lnTo>
                    <a:pt x="1049" y="891"/>
                  </a:lnTo>
                  <a:lnTo>
                    <a:pt x="1101" y="937"/>
                  </a:lnTo>
                  <a:lnTo>
                    <a:pt x="1174" y="998"/>
                  </a:lnTo>
                  <a:lnTo>
                    <a:pt x="1220" y="1031"/>
                  </a:lnTo>
                  <a:lnTo>
                    <a:pt x="1268" y="1064"/>
                  </a:lnTo>
                  <a:lnTo>
                    <a:pt x="1320" y="1085"/>
                  </a:lnTo>
                  <a:lnTo>
                    <a:pt x="1341" y="1120"/>
                  </a:lnTo>
                  <a:lnTo>
                    <a:pt x="1351" y="1133"/>
                  </a:lnTo>
                  <a:lnTo>
                    <a:pt x="1364" y="1141"/>
                  </a:lnTo>
                  <a:lnTo>
                    <a:pt x="1418" y="1178"/>
                  </a:lnTo>
                  <a:lnTo>
                    <a:pt x="1527" y="1263"/>
                  </a:lnTo>
                  <a:lnTo>
                    <a:pt x="1558" y="1272"/>
                  </a:lnTo>
                  <a:lnTo>
                    <a:pt x="1577" y="1307"/>
                  </a:lnTo>
                  <a:lnTo>
                    <a:pt x="1602" y="1326"/>
                  </a:lnTo>
                  <a:lnTo>
                    <a:pt x="1654" y="1353"/>
                  </a:lnTo>
                  <a:lnTo>
                    <a:pt x="1753" y="1417"/>
                  </a:lnTo>
                  <a:lnTo>
                    <a:pt x="2259" y="1818"/>
                  </a:lnTo>
                  <a:lnTo>
                    <a:pt x="2251" y="1828"/>
                  </a:lnTo>
                  <a:lnTo>
                    <a:pt x="2238" y="1831"/>
                  </a:lnTo>
                  <a:lnTo>
                    <a:pt x="2220" y="1822"/>
                  </a:lnTo>
                  <a:lnTo>
                    <a:pt x="2186" y="1799"/>
                  </a:lnTo>
                  <a:lnTo>
                    <a:pt x="2063" y="1706"/>
                  </a:lnTo>
                  <a:lnTo>
                    <a:pt x="1826" y="1533"/>
                  </a:lnTo>
                  <a:lnTo>
                    <a:pt x="1256" y="1126"/>
                  </a:lnTo>
                  <a:lnTo>
                    <a:pt x="1093" y="1006"/>
                  </a:lnTo>
                  <a:lnTo>
                    <a:pt x="1085" y="998"/>
                  </a:lnTo>
                  <a:lnTo>
                    <a:pt x="1082" y="995"/>
                  </a:lnTo>
                  <a:lnTo>
                    <a:pt x="974" y="913"/>
                  </a:lnTo>
                  <a:lnTo>
                    <a:pt x="855" y="818"/>
                  </a:lnTo>
                  <a:lnTo>
                    <a:pt x="845" y="793"/>
                  </a:lnTo>
                  <a:lnTo>
                    <a:pt x="832" y="778"/>
                  </a:lnTo>
                  <a:lnTo>
                    <a:pt x="818" y="768"/>
                  </a:lnTo>
                  <a:lnTo>
                    <a:pt x="799" y="762"/>
                  </a:lnTo>
                  <a:lnTo>
                    <a:pt x="749" y="741"/>
                  </a:lnTo>
                  <a:lnTo>
                    <a:pt x="713" y="720"/>
                  </a:lnTo>
                  <a:lnTo>
                    <a:pt x="672" y="683"/>
                  </a:lnTo>
                  <a:lnTo>
                    <a:pt x="521" y="544"/>
                  </a:lnTo>
                  <a:lnTo>
                    <a:pt x="485" y="504"/>
                  </a:lnTo>
                  <a:lnTo>
                    <a:pt x="464" y="479"/>
                  </a:lnTo>
                  <a:lnTo>
                    <a:pt x="452" y="459"/>
                  </a:lnTo>
                  <a:lnTo>
                    <a:pt x="448" y="450"/>
                  </a:lnTo>
                  <a:lnTo>
                    <a:pt x="437" y="440"/>
                  </a:lnTo>
                  <a:lnTo>
                    <a:pt x="366" y="378"/>
                  </a:lnTo>
                  <a:lnTo>
                    <a:pt x="316" y="338"/>
                  </a:lnTo>
                  <a:lnTo>
                    <a:pt x="298" y="324"/>
                  </a:lnTo>
                  <a:lnTo>
                    <a:pt x="281" y="307"/>
                  </a:lnTo>
                  <a:lnTo>
                    <a:pt x="268" y="286"/>
                  </a:lnTo>
                  <a:lnTo>
                    <a:pt x="254" y="261"/>
                  </a:lnTo>
                  <a:lnTo>
                    <a:pt x="248" y="240"/>
                  </a:lnTo>
                  <a:lnTo>
                    <a:pt x="245" y="228"/>
                  </a:lnTo>
                  <a:lnTo>
                    <a:pt x="245" y="218"/>
                  </a:lnTo>
                  <a:lnTo>
                    <a:pt x="223" y="205"/>
                  </a:lnTo>
                  <a:lnTo>
                    <a:pt x="143" y="170"/>
                  </a:lnTo>
                  <a:lnTo>
                    <a:pt x="118" y="153"/>
                  </a:lnTo>
                  <a:lnTo>
                    <a:pt x="110" y="139"/>
                  </a:lnTo>
                  <a:lnTo>
                    <a:pt x="102" y="118"/>
                  </a:lnTo>
                  <a:lnTo>
                    <a:pt x="91" y="103"/>
                  </a:lnTo>
                  <a:lnTo>
                    <a:pt x="75" y="83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932600" y="6226200"/>
              <a:ext cx="41760" cy="79560"/>
            </a:xfrm>
            <a:custGeom>
              <a:avLst/>
              <a:gdLst/>
              <a:ahLst/>
              <a:rect l="0" t="0" r="r" b="b"/>
              <a:pathLst>
                <a:path w="116" h="221">
                  <a:moveTo>
                    <a:pt x="116" y="17"/>
                  </a:moveTo>
                  <a:lnTo>
                    <a:pt x="111" y="53"/>
                  </a:lnTo>
                  <a:lnTo>
                    <a:pt x="101" y="92"/>
                  </a:lnTo>
                  <a:lnTo>
                    <a:pt x="78" y="144"/>
                  </a:lnTo>
                  <a:lnTo>
                    <a:pt x="62" y="180"/>
                  </a:lnTo>
                  <a:lnTo>
                    <a:pt x="37" y="221"/>
                  </a:lnTo>
                  <a:lnTo>
                    <a:pt x="14" y="201"/>
                  </a:lnTo>
                  <a:lnTo>
                    <a:pt x="3" y="186"/>
                  </a:lnTo>
                  <a:lnTo>
                    <a:pt x="0" y="174"/>
                  </a:lnTo>
                  <a:lnTo>
                    <a:pt x="3" y="166"/>
                  </a:lnTo>
                  <a:lnTo>
                    <a:pt x="20" y="156"/>
                  </a:lnTo>
                  <a:lnTo>
                    <a:pt x="30" y="152"/>
                  </a:lnTo>
                  <a:lnTo>
                    <a:pt x="34" y="146"/>
                  </a:lnTo>
                  <a:lnTo>
                    <a:pt x="43" y="126"/>
                  </a:lnTo>
                  <a:lnTo>
                    <a:pt x="47" y="104"/>
                  </a:lnTo>
                  <a:lnTo>
                    <a:pt x="49" y="66"/>
                  </a:lnTo>
                  <a:lnTo>
                    <a:pt x="56" y="33"/>
                  </a:lnTo>
                  <a:lnTo>
                    <a:pt x="67" y="15"/>
                  </a:lnTo>
                  <a:lnTo>
                    <a:pt x="84" y="0"/>
                  </a:lnTo>
                  <a:lnTo>
                    <a:pt x="92" y="0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772480" y="6391440"/>
              <a:ext cx="87840" cy="66960"/>
            </a:xfrm>
            <a:custGeom>
              <a:avLst/>
              <a:gdLst/>
              <a:ahLst/>
              <a:rect l="0" t="0" r="r" b="b"/>
              <a:pathLst>
                <a:path w="244" h="186">
                  <a:moveTo>
                    <a:pt x="12" y="0"/>
                  </a:moveTo>
                  <a:lnTo>
                    <a:pt x="32" y="1"/>
                  </a:lnTo>
                  <a:lnTo>
                    <a:pt x="38" y="5"/>
                  </a:lnTo>
                  <a:lnTo>
                    <a:pt x="42" y="9"/>
                  </a:lnTo>
                  <a:lnTo>
                    <a:pt x="52" y="25"/>
                  </a:lnTo>
                  <a:lnTo>
                    <a:pt x="63" y="35"/>
                  </a:lnTo>
                  <a:lnTo>
                    <a:pt x="79" y="47"/>
                  </a:lnTo>
                  <a:lnTo>
                    <a:pt x="97" y="57"/>
                  </a:lnTo>
                  <a:lnTo>
                    <a:pt x="109" y="61"/>
                  </a:lnTo>
                  <a:lnTo>
                    <a:pt x="125" y="63"/>
                  </a:lnTo>
                  <a:lnTo>
                    <a:pt x="137" y="69"/>
                  </a:lnTo>
                  <a:lnTo>
                    <a:pt x="159" y="85"/>
                  </a:lnTo>
                  <a:lnTo>
                    <a:pt x="240" y="164"/>
                  </a:lnTo>
                  <a:lnTo>
                    <a:pt x="244" y="172"/>
                  </a:lnTo>
                  <a:lnTo>
                    <a:pt x="244" y="178"/>
                  </a:lnTo>
                  <a:lnTo>
                    <a:pt x="238" y="184"/>
                  </a:lnTo>
                  <a:lnTo>
                    <a:pt x="228" y="186"/>
                  </a:lnTo>
                  <a:lnTo>
                    <a:pt x="210" y="182"/>
                  </a:lnTo>
                  <a:lnTo>
                    <a:pt x="186" y="170"/>
                  </a:lnTo>
                  <a:lnTo>
                    <a:pt x="151" y="148"/>
                  </a:lnTo>
                  <a:lnTo>
                    <a:pt x="109" y="114"/>
                  </a:lnTo>
                  <a:lnTo>
                    <a:pt x="63" y="79"/>
                  </a:lnTo>
                  <a:lnTo>
                    <a:pt x="24" y="55"/>
                  </a:lnTo>
                  <a:lnTo>
                    <a:pt x="10" y="43"/>
                  </a:lnTo>
                  <a:lnTo>
                    <a:pt x="2" y="31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872560" y="6461280"/>
              <a:ext cx="125640" cy="73440"/>
            </a:xfrm>
            <a:custGeom>
              <a:avLst/>
              <a:gdLst/>
              <a:ahLst/>
              <a:rect l="0" t="0" r="r" b="b"/>
              <a:pathLst>
                <a:path w="349" h="204">
                  <a:moveTo>
                    <a:pt x="10" y="0"/>
                  </a:moveTo>
                  <a:lnTo>
                    <a:pt x="24" y="3"/>
                  </a:lnTo>
                  <a:lnTo>
                    <a:pt x="64" y="27"/>
                  </a:lnTo>
                  <a:lnTo>
                    <a:pt x="161" y="86"/>
                  </a:lnTo>
                  <a:lnTo>
                    <a:pt x="337" y="189"/>
                  </a:lnTo>
                  <a:lnTo>
                    <a:pt x="349" y="197"/>
                  </a:lnTo>
                  <a:lnTo>
                    <a:pt x="349" y="200"/>
                  </a:lnTo>
                  <a:lnTo>
                    <a:pt x="343" y="202"/>
                  </a:lnTo>
                  <a:lnTo>
                    <a:pt x="331" y="204"/>
                  </a:lnTo>
                  <a:lnTo>
                    <a:pt x="307" y="198"/>
                  </a:lnTo>
                  <a:lnTo>
                    <a:pt x="266" y="185"/>
                  </a:lnTo>
                  <a:lnTo>
                    <a:pt x="208" y="158"/>
                  </a:lnTo>
                  <a:lnTo>
                    <a:pt x="126" y="118"/>
                  </a:lnTo>
                  <a:lnTo>
                    <a:pt x="18" y="57"/>
                  </a:lnTo>
                  <a:lnTo>
                    <a:pt x="10" y="46"/>
                  </a:lnTo>
                  <a:lnTo>
                    <a:pt x="2" y="29"/>
                  </a:lnTo>
                  <a:lnTo>
                    <a:pt x="0" y="9"/>
                  </a:lnTo>
                  <a:lnTo>
                    <a:pt x="2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832960" y="6504120"/>
              <a:ext cx="81360" cy="51120"/>
            </a:xfrm>
            <a:custGeom>
              <a:avLst/>
              <a:gdLst/>
              <a:ahLst/>
              <a:rect l="0" t="0" r="r" b="b"/>
              <a:pathLst>
                <a:path w="226" h="142">
                  <a:moveTo>
                    <a:pt x="7" y="0"/>
                  </a:moveTo>
                  <a:lnTo>
                    <a:pt x="19" y="0"/>
                  </a:lnTo>
                  <a:lnTo>
                    <a:pt x="41" y="9"/>
                  </a:lnTo>
                  <a:lnTo>
                    <a:pt x="105" y="43"/>
                  </a:lnTo>
                  <a:lnTo>
                    <a:pt x="175" y="88"/>
                  </a:lnTo>
                  <a:lnTo>
                    <a:pt x="205" y="109"/>
                  </a:lnTo>
                  <a:lnTo>
                    <a:pt x="226" y="126"/>
                  </a:lnTo>
                  <a:lnTo>
                    <a:pt x="226" y="140"/>
                  </a:lnTo>
                  <a:lnTo>
                    <a:pt x="219" y="142"/>
                  </a:lnTo>
                  <a:lnTo>
                    <a:pt x="201" y="140"/>
                  </a:lnTo>
                  <a:lnTo>
                    <a:pt x="133" y="111"/>
                  </a:lnTo>
                  <a:lnTo>
                    <a:pt x="73" y="79"/>
                  </a:lnTo>
                  <a:lnTo>
                    <a:pt x="39" y="57"/>
                  </a:lnTo>
                  <a:lnTo>
                    <a:pt x="3" y="30"/>
                  </a:lnTo>
                  <a:lnTo>
                    <a:pt x="0" y="11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858160" y="6591240"/>
              <a:ext cx="28800" cy="19440"/>
            </a:xfrm>
            <a:custGeom>
              <a:avLst/>
              <a:gdLst/>
              <a:ahLst/>
              <a:rect l="0" t="0" r="r" b="b"/>
              <a:pathLst>
                <a:path w="80" h="54">
                  <a:moveTo>
                    <a:pt x="0" y="18"/>
                  </a:moveTo>
                  <a:lnTo>
                    <a:pt x="7" y="6"/>
                  </a:lnTo>
                  <a:lnTo>
                    <a:pt x="12" y="3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41" y="6"/>
                  </a:lnTo>
                  <a:lnTo>
                    <a:pt x="58" y="19"/>
                  </a:lnTo>
                  <a:lnTo>
                    <a:pt x="78" y="41"/>
                  </a:lnTo>
                  <a:lnTo>
                    <a:pt x="80" y="49"/>
                  </a:lnTo>
                  <a:lnTo>
                    <a:pt x="78" y="54"/>
                  </a:lnTo>
                  <a:lnTo>
                    <a:pt x="63" y="54"/>
                  </a:lnTo>
                  <a:lnTo>
                    <a:pt x="35" y="4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526600" y="5640480"/>
              <a:ext cx="27360" cy="33840"/>
            </a:xfrm>
            <a:custGeom>
              <a:avLst/>
              <a:gdLst/>
              <a:ahLst/>
              <a:rect l="0" t="0" r="r" b="b"/>
              <a:pathLst>
                <a:path w="76" h="94">
                  <a:moveTo>
                    <a:pt x="25" y="94"/>
                  </a:moveTo>
                  <a:lnTo>
                    <a:pt x="25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6" y="0"/>
                  </a:lnTo>
                  <a:lnTo>
                    <a:pt x="76" y="22"/>
                  </a:lnTo>
                  <a:lnTo>
                    <a:pt x="49" y="22"/>
                  </a:lnTo>
                  <a:lnTo>
                    <a:pt x="49" y="94"/>
                  </a:lnTo>
                  <a:lnTo>
                    <a:pt x="25" y="94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564400" y="5640480"/>
              <a:ext cx="44640" cy="36720"/>
            </a:xfrm>
            <a:custGeom>
              <a:avLst/>
              <a:gdLst/>
              <a:ahLst/>
              <a:rect l="0" t="0" r="r" b="b"/>
              <a:pathLst>
                <a:path w="124" h="102">
                  <a:moveTo>
                    <a:pt x="6" y="0"/>
                  </a:moveTo>
                  <a:lnTo>
                    <a:pt x="14" y="0"/>
                  </a:lnTo>
                  <a:lnTo>
                    <a:pt x="18" y="2"/>
                  </a:lnTo>
                  <a:lnTo>
                    <a:pt x="61" y="67"/>
                  </a:lnTo>
                  <a:lnTo>
                    <a:pt x="105" y="4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2" y="10"/>
                  </a:lnTo>
                  <a:lnTo>
                    <a:pt x="124" y="14"/>
                  </a:lnTo>
                  <a:lnTo>
                    <a:pt x="124" y="102"/>
                  </a:lnTo>
                  <a:lnTo>
                    <a:pt x="103" y="102"/>
                  </a:lnTo>
                  <a:lnTo>
                    <a:pt x="103" y="34"/>
                  </a:lnTo>
                  <a:lnTo>
                    <a:pt x="61" y="100"/>
                  </a:lnTo>
                  <a:lnTo>
                    <a:pt x="20" y="34"/>
                  </a:lnTo>
                  <a:lnTo>
                    <a:pt x="20" y="100"/>
                  </a:lnTo>
                  <a:lnTo>
                    <a:pt x="0" y="10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564400" y="5640480"/>
              <a:ext cx="44640" cy="36720"/>
            </a:xfrm>
            <a:custGeom>
              <a:avLst/>
              <a:gdLst/>
              <a:ahLst/>
              <a:rect l="0" t="0" r="r" b="b"/>
              <a:pathLst>
                <a:path w="124" h="102">
                  <a:moveTo>
                    <a:pt x="6" y="0"/>
                  </a:moveTo>
                  <a:lnTo>
                    <a:pt x="14" y="0"/>
                  </a:lnTo>
                  <a:lnTo>
                    <a:pt x="18" y="2"/>
                  </a:lnTo>
                  <a:lnTo>
                    <a:pt x="61" y="67"/>
                  </a:lnTo>
                  <a:lnTo>
                    <a:pt x="105" y="4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2" y="10"/>
                  </a:lnTo>
                  <a:lnTo>
                    <a:pt x="124" y="14"/>
                  </a:lnTo>
                  <a:lnTo>
                    <a:pt x="124" y="102"/>
                  </a:lnTo>
                  <a:lnTo>
                    <a:pt x="103" y="102"/>
                  </a:lnTo>
                  <a:lnTo>
                    <a:pt x="103" y="34"/>
                  </a:lnTo>
                  <a:lnTo>
                    <a:pt x="61" y="100"/>
                  </a:lnTo>
                  <a:lnTo>
                    <a:pt x="20" y="34"/>
                  </a:lnTo>
                  <a:lnTo>
                    <a:pt x="20" y="100"/>
                  </a:lnTo>
                  <a:lnTo>
                    <a:pt x="0" y="10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1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90440"/>
            <a:ext cx="8229600" cy="91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480" y="399960"/>
            <a:ext cx="7924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et Opportunit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-Bit Cart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 Set-Top 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 M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 Network/Modem-G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 Based/Coin-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589720" y="5483160"/>
            <a:ext cx="3408480" cy="1200600"/>
            <a:chOff x="5589720" y="5483160"/>
            <a:chExt cx="3408480" cy="1200600"/>
          </a:xfrm>
        </p:grpSpPr>
        <p:sp>
          <p:nvSpPr>
            <p:cNvPr id="66" name=""/>
            <p:cNvSpPr/>
            <p:nvPr/>
          </p:nvSpPr>
          <p:spPr>
            <a:xfrm>
              <a:off x="5589720" y="5483160"/>
              <a:ext cx="973440" cy="868680"/>
            </a:xfrm>
            <a:custGeom>
              <a:avLst/>
              <a:gdLst/>
              <a:ahLst/>
              <a:rect l="0" t="0" r="r" b="b"/>
              <a:pathLst>
                <a:path w="2704" h="2413">
                  <a:moveTo>
                    <a:pt x="2704" y="45"/>
                  </a:moveTo>
                  <a:lnTo>
                    <a:pt x="2691" y="52"/>
                  </a:lnTo>
                  <a:lnTo>
                    <a:pt x="2674" y="56"/>
                  </a:lnTo>
                  <a:lnTo>
                    <a:pt x="2631" y="66"/>
                  </a:lnTo>
                  <a:lnTo>
                    <a:pt x="2518" y="83"/>
                  </a:lnTo>
                  <a:lnTo>
                    <a:pt x="2399" y="101"/>
                  </a:lnTo>
                  <a:lnTo>
                    <a:pt x="2308" y="118"/>
                  </a:lnTo>
                  <a:lnTo>
                    <a:pt x="2314" y="137"/>
                  </a:lnTo>
                  <a:lnTo>
                    <a:pt x="2314" y="141"/>
                  </a:lnTo>
                  <a:lnTo>
                    <a:pt x="2318" y="143"/>
                  </a:lnTo>
                  <a:lnTo>
                    <a:pt x="2341" y="147"/>
                  </a:lnTo>
                  <a:lnTo>
                    <a:pt x="2395" y="154"/>
                  </a:lnTo>
                  <a:lnTo>
                    <a:pt x="2393" y="178"/>
                  </a:lnTo>
                  <a:lnTo>
                    <a:pt x="2343" y="216"/>
                  </a:lnTo>
                  <a:lnTo>
                    <a:pt x="2331" y="226"/>
                  </a:lnTo>
                  <a:lnTo>
                    <a:pt x="2326" y="233"/>
                  </a:lnTo>
                  <a:lnTo>
                    <a:pt x="2329" y="241"/>
                  </a:lnTo>
                  <a:lnTo>
                    <a:pt x="2331" y="245"/>
                  </a:lnTo>
                  <a:lnTo>
                    <a:pt x="2326" y="249"/>
                  </a:lnTo>
                  <a:lnTo>
                    <a:pt x="2312" y="264"/>
                  </a:lnTo>
                  <a:lnTo>
                    <a:pt x="2291" y="272"/>
                  </a:lnTo>
                  <a:lnTo>
                    <a:pt x="2272" y="280"/>
                  </a:lnTo>
                  <a:lnTo>
                    <a:pt x="2251" y="283"/>
                  </a:lnTo>
                  <a:lnTo>
                    <a:pt x="2212" y="291"/>
                  </a:lnTo>
                  <a:lnTo>
                    <a:pt x="2183" y="301"/>
                  </a:lnTo>
                  <a:lnTo>
                    <a:pt x="2170" y="314"/>
                  </a:lnTo>
                  <a:lnTo>
                    <a:pt x="2168" y="320"/>
                  </a:lnTo>
                  <a:lnTo>
                    <a:pt x="2168" y="326"/>
                  </a:lnTo>
                  <a:lnTo>
                    <a:pt x="2164" y="332"/>
                  </a:lnTo>
                  <a:lnTo>
                    <a:pt x="2147" y="343"/>
                  </a:lnTo>
                  <a:lnTo>
                    <a:pt x="2112" y="355"/>
                  </a:lnTo>
                  <a:lnTo>
                    <a:pt x="1949" y="403"/>
                  </a:lnTo>
                  <a:lnTo>
                    <a:pt x="1941" y="407"/>
                  </a:lnTo>
                  <a:lnTo>
                    <a:pt x="1933" y="416"/>
                  </a:lnTo>
                  <a:lnTo>
                    <a:pt x="1918" y="437"/>
                  </a:lnTo>
                  <a:lnTo>
                    <a:pt x="1901" y="459"/>
                  </a:lnTo>
                  <a:lnTo>
                    <a:pt x="1893" y="472"/>
                  </a:lnTo>
                  <a:lnTo>
                    <a:pt x="1882" y="476"/>
                  </a:lnTo>
                  <a:lnTo>
                    <a:pt x="1868" y="480"/>
                  </a:lnTo>
                  <a:lnTo>
                    <a:pt x="1845" y="482"/>
                  </a:lnTo>
                  <a:lnTo>
                    <a:pt x="1803" y="493"/>
                  </a:lnTo>
                  <a:lnTo>
                    <a:pt x="1739" y="524"/>
                  </a:lnTo>
                  <a:lnTo>
                    <a:pt x="1714" y="653"/>
                  </a:lnTo>
                  <a:lnTo>
                    <a:pt x="1687" y="776"/>
                  </a:lnTo>
                  <a:lnTo>
                    <a:pt x="1657" y="896"/>
                  </a:lnTo>
                  <a:lnTo>
                    <a:pt x="1626" y="1013"/>
                  </a:lnTo>
                  <a:lnTo>
                    <a:pt x="1559" y="1233"/>
                  </a:lnTo>
                  <a:lnTo>
                    <a:pt x="1489" y="1428"/>
                  </a:lnTo>
                  <a:lnTo>
                    <a:pt x="1453" y="1520"/>
                  </a:lnTo>
                  <a:lnTo>
                    <a:pt x="1418" y="1605"/>
                  </a:lnTo>
                  <a:lnTo>
                    <a:pt x="1346" y="1757"/>
                  </a:lnTo>
                  <a:lnTo>
                    <a:pt x="1310" y="1822"/>
                  </a:lnTo>
                  <a:lnTo>
                    <a:pt x="1277" y="1880"/>
                  </a:lnTo>
                  <a:lnTo>
                    <a:pt x="1244" y="1932"/>
                  </a:lnTo>
                  <a:lnTo>
                    <a:pt x="1212" y="1976"/>
                  </a:lnTo>
                  <a:lnTo>
                    <a:pt x="1125" y="2084"/>
                  </a:lnTo>
                  <a:lnTo>
                    <a:pt x="1085" y="2132"/>
                  </a:lnTo>
                  <a:lnTo>
                    <a:pt x="1044" y="2173"/>
                  </a:lnTo>
                  <a:lnTo>
                    <a:pt x="1006" y="2213"/>
                  </a:lnTo>
                  <a:lnTo>
                    <a:pt x="969" y="2246"/>
                  </a:lnTo>
                  <a:lnTo>
                    <a:pt x="933" y="2277"/>
                  </a:lnTo>
                  <a:lnTo>
                    <a:pt x="896" y="2306"/>
                  </a:lnTo>
                  <a:lnTo>
                    <a:pt x="862" y="2331"/>
                  </a:lnTo>
                  <a:lnTo>
                    <a:pt x="829" y="2350"/>
                  </a:lnTo>
                  <a:lnTo>
                    <a:pt x="762" y="2381"/>
                  </a:lnTo>
                  <a:lnTo>
                    <a:pt x="698" y="2402"/>
                  </a:lnTo>
                  <a:lnTo>
                    <a:pt x="633" y="2411"/>
                  </a:lnTo>
                  <a:lnTo>
                    <a:pt x="585" y="2413"/>
                  </a:lnTo>
                  <a:lnTo>
                    <a:pt x="535" y="2406"/>
                  </a:lnTo>
                  <a:lnTo>
                    <a:pt x="487" y="2396"/>
                  </a:lnTo>
                  <a:lnTo>
                    <a:pt x="437" y="2383"/>
                  </a:lnTo>
                  <a:lnTo>
                    <a:pt x="391" y="2367"/>
                  </a:lnTo>
                  <a:lnTo>
                    <a:pt x="343" y="2346"/>
                  </a:lnTo>
                  <a:lnTo>
                    <a:pt x="256" y="2302"/>
                  </a:lnTo>
                  <a:lnTo>
                    <a:pt x="181" y="2259"/>
                  </a:lnTo>
                  <a:lnTo>
                    <a:pt x="120" y="2217"/>
                  </a:lnTo>
                  <a:lnTo>
                    <a:pt x="81" y="2186"/>
                  </a:lnTo>
                  <a:lnTo>
                    <a:pt x="64" y="2171"/>
                  </a:lnTo>
                  <a:lnTo>
                    <a:pt x="33" y="2127"/>
                  </a:lnTo>
                  <a:lnTo>
                    <a:pt x="12" y="2092"/>
                  </a:lnTo>
                  <a:lnTo>
                    <a:pt x="2" y="2065"/>
                  </a:lnTo>
                  <a:lnTo>
                    <a:pt x="0" y="2044"/>
                  </a:lnTo>
                  <a:lnTo>
                    <a:pt x="0" y="2032"/>
                  </a:lnTo>
                  <a:lnTo>
                    <a:pt x="4" y="2023"/>
                  </a:lnTo>
                  <a:lnTo>
                    <a:pt x="16" y="2015"/>
                  </a:lnTo>
                  <a:lnTo>
                    <a:pt x="31" y="2015"/>
                  </a:lnTo>
                  <a:lnTo>
                    <a:pt x="39" y="2019"/>
                  </a:lnTo>
                  <a:lnTo>
                    <a:pt x="47" y="2026"/>
                  </a:lnTo>
                  <a:lnTo>
                    <a:pt x="72" y="2053"/>
                  </a:lnTo>
                  <a:lnTo>
                    <a:pt x="120" y="2096"/>
                  </a:lnTo>
                  <a:lnTo>
                    <a:pt x="177" y="2140"/>
                  </a:lnTo>
                  <a:lnTo>
                    <a:pt x="233" y="2173"/>
                  </a:lnTo>
                  <a:lnTo>
                    <a:pt x="289" y="2198"/>
                  </a:lnTo>
                  <a:lnTo>
                    <a:pt x="341" y="2215"/>
                  </a:lnTo>
                  <a:lnTo>
                    <a:pt x="393" y="2225"/>
                  </a:lnTo>
                  <a:lnTo>
                    <a:pt x="446" y="2227"/>
                  </a:lnTo>
                  <a:lnTo>
                    <a:pt x="493" y="2221"/>
                  </a:lnTo>
                  <a:lnTo>
                    <a:pt x="541" y="2211"/>
                  </a:lnTo>
                  <a:lnTo>
                    <a:pt x="589" y="2194"/>
                  </a:lnTo>
                  <a:lnTo>
                    <a:pt x="633" y="2169"/>
                  </a:lnTo>
                  <a:lnTo>
                    <a:pt x="679" y="2140"/>
                  </a:lnTo>
                  <a:lnTo>
                    <a:pt x="723" y="2105"/>
                  </a:lnTo>
                  <a:lnTo>
                    <a:pt x="766" y="2065"/>
                  </a:lnTo>
                  <a:lnTo>
                    <a:pt x="806" y="2019"/>
                  </a:lnTo>
                  <a:lnTo>
                    <a:pt x="848" y="1971"/>
                  </a:lnTo>
                  <a:lnTo>
                    <a:pt x="887" y="1919"/>
                  </a:lnTo>
                  <a:lnTo>
                    <a:pt x="944" y="1834"/>
                  </a:lnTo>
                  <a:lnTo>
                    <a:pt x="998" y="1740"/>
                  </a:lnTo>
                  <a:lnTo>
                    <a:pt x="1052" y="1636"/>
                  </a:lnTo>
                  <a:lnTo>
                    <a:pt x="1102" y="1524"/>
                  </a:lnTo>
                  <a:lnTo>
                    <a:pt x="1150" y="1403"/>
                  </a:lnTo>
                  <a:lnTo>
                    <a:pt x="1198" y="1268"/>
                  </a:lnTo>
                  <a:lnTo>
                    <a:pt x="1244" y="1123"/>
                  </a:lnTo>
                  <a:lnTo>
                    <a:pt x="1285" y="965"/>
                  </a:lnTo>
                  <a:lnTo>
                    <a:pt x="1374" y="595"/>
                  </a:lnTo>
                  <a:lnTo>
                    <a:pt x="1372" y="568"/>
                  </a:lnTo>
                  <a:lnTo>
                    <a:pt x="796" y="634"/>
                  </a:lnTo>
                  <a:lnTo>
                    <a:pt x="719" y="641"/>
                  </a:lnTo>
                  <a:lnTo>
                    <a:pt x="704" y="638"/>
                  </a:lnTo>
                  <a:lnTo>
                    <a:pt x="677" y="580"/>
                  </a:lnTo>
                  <a:lnTo>
                    <a:pt x="621" y="584"/>
                  </a:lnTo>
                  <a:lnTo>
                    <a:pt x="612" y="580"/>
                  </a:lnTo>
                  <a:lnTo>
                    <a:pt x="606" y="568"/>
                  </a:lnTo>
                  <a:lnTo>
                    <a:pt x="608" y="555"/>
                  </a:lnTo>
                  <a:lnTo>
                    <a:pt x="610" y="549"/>
                  </a:lnTo>
                  <a:lnTo>
                    <a:pt x="623" y="547"/>
                  </a:lnTo>
                  <a:lnTo>
                    <a:pt x="641" y="541"/>
                  </a:lnTo>
                  <a:lnTo>
                    <a:pt x="654" y="534"/>
                  </a:lnTo>
                  <a:lnTo>
                    <a:pt x="664" y="520"/>
                  </a:lnTo>
                  <a:lnTo>
                    <a:pt x="666" y="509"/>
                  </a:lnTo>
                  <a:lnTo>
                    <a:pt x="660" y="499"/>
                  </a:lnTo>
                  <a:lnTo>
                    <a:pt x="633" y="482"/>
                  </a:lnTo>
                  <a:lnTo>
                    <a:pt x="602" y="464"/>
                  </a:lnTo>
                  <a:lnTo>
                    <a:pt x="591" y="455"/>
                  </a:lnTo>
                  <a:lnTo>
                    <a:pt x="585" y="445"/>
                  </a:lnTo>
                  <a:lnTo>
                    <a:pt x="583" y="422"/>
                  </a:lnTo>
                  <a:lnTo>
                    <a:pt x="587" y="405"/>
                  </a:lnTo>
                  <a:lnTo>
                    <a:pt x="596" y="397"/>
                  </a:lnTo>
                  <a:lnTo>
                    <a:pt x="608" y="393"/>
                  </a:lnTo>
                  <a:lnTo>
                    <a:pt x="641" y="391"/>
                  </a:lnTo>
                  <a:lnTo>
                    <a:pt x="664" y="391"/>
                  </a:lnTo>
                  <a:lnTo>
                    <a:pt x="685" y="385"/>
                  </a:lnTo>
                  <a:lnTo>
                    <a:pt x="685" y="368"/>
                  </a:lnTo>
                  <a:lnTo>
                    <a:pt x="654" y="366"/>
                  </a:lnTo>
                  <a:lnTo>
                    <a:pt x="633" y="360"/>
                  </a:lnTo>
                  <a:lnTo>
                    <a:pt x="629" y="353"/>
                  </a:lnTo>
                  <a:lnTo>
                    <a:pt x="627" y="343"/>
                  </a:lnTo>
                  <a:lnTo>
                    <a:pt x="633" y="301"/>
                  </a:lnTo>
                  <a:lnTo>
                    <a:pt x="635" y="297"/>
                  </a:lnTo>
                  <a:lnTo>
                    <a:pt x="641" y="293"/>
                  </a:lnTo>
                  <a:lnTo>
                    <a:pt x="664" y="289"/>
                  </a:lnTo>
                  <a:lnTo>
                    <a:pt x="781" y="289"/>
                  </a:lnTo>
                  <a:lnTo>
                    <a:pt x="889" y="283"/>
                  </a:lnTo>
                  <a:lnTo>
                    <a:pt x="1039" y="270"/>
                  </a:lnTo>
                  <a:lnTo>
                    <a:pt x="1237" y="245"/>
                  </a:lnTo>
                  <a:lnTo>
                    <a:pt x="1493" y="206"/>
                  </a:lnTo>
                  <a:lnTo>
                    <a:pt x="2295" y="49"/>
                  </a:lnTo>
                  <a:lnTo>
                    <a:pt x="2539" y="8"/>
                  </a:lnTo>
                  <a:lnTo>
                    <a:pt x="2612" y="0"/>
                  </a:lnTo>
                  <a:lnTo>
                    <a:pt x="2658" y="0"/>
                  </a:lnTo>
                  <a:lnTo>
                    <a:pt x="2687" y="6"/>
                  </a:lnTo>
                  <a:lnTo>
                    <a:pt x="2699" y="16"/>
                  </a:lnTo>
                  <a:lnTo>
                    <a:pt x="2704" y="31"/>
                  </a:lnTo>
                  <a:lnTo>
                    <a:pt x="2704" y="4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999120" y="5564160"/>
              <a:ext cx="849600" cy="790920"/>
            </a:xfrm>
            <a:custGeom>
              <a:avLst/>
              <a:gdLst/>
              <a:ahLst/>
              <a:rect l="0" t="0" r="r" b="b"/>
              <a:pathLst>
                <a:path w="2360" h="2197">
                  <a:moveTo>
                    <a:pt x="706" y="145"/>
                  </a:moveTo>
                  <a:lnTo>
                    <a:pt x="739" y="162"/>
                  </a:lnTo>
                  <a:lnTo>
                    <a:pt x="762" y="176"/>
                  </a:lnTo>
                  <a:lnTo>
                    <a:pt x="769" y="185"/>
                  </a:lnTo>
                  <a:lnTo>
                    <a:pt x="773" y="195"/>
                  </a:lnTo>
                  <a:lnTo>
                    <a:pt x="773" y="220"/>
                  </a:lnTo>
                  <a:lnTo>
                    <a:pt x="758" y="255"/>
                  </a:lnTo>
                  <a:lnTo>
                    <a:pt x="729" y="305"/>
                  </a:lnTo>
                  <a:lnTo>
                    <a:pt x="635" y="459"/>
                  </a:lnTo>
                  <a:lnTo>
                    <a:pt x="614" y="480"/>
                  </a:lnTo>
                  <a:lnTo>
                    <a:pt x="591" y="580"/>
                  </a:lnTo>
                  <a:lnTo>
                    <a:pt x="581" y="607"/>
                  </a:lnTo>
                  <a:lnTo>
                    <a:pt x="568" y="625"/>
                  </a:lnTo>
                  <a:lnTo>
                    <a:pt x="535" y="673"/>
                  </a:lnTo>
                  <a:lnTo>
                    <a:pt x="506" y="717"/>
                  </a:lnTo>
                  <a:lnTo>
                    <a:pt x="468" y="781"/>
                  </a:lnTo>
                  <a:lnTo>
                    <a:pt x="420" y="917"/>
                  </a:lnTo>
                  <a:lnTo>
                    <a:pt x="406" y="935"/>
                  </a:lnTo>
                  <a:lnTo>
                    <a:pt x="373" y="983"/>
                  </a:lnTo>
                  <a:lnTo>
                    <a:pt x="350" y="1021"/>
                  </a:lnTo>
                  <a:lnTo>
                    <a:pt x="323" y="1068"/>
                  </a:lnTo>
                  <a:lnTo>
                    <a:pt x="266" y="1203"/>
                  </a:lnTo>
                  <a:lnTo>
                    <a:pt x="233" y="1302"/>
                  </a:lnTo>
                  <a:lnTo>
                    <a:pt x="208" y="1381"/>
                  </a:lnTo>
                  <a:lnTo>
                    <a:pt x="195" y="1442"/>
                  </a:lnTo>
                  <a:lnTo>
                    <a:pt x="191" y="1483"/>
                  </a:lnTo>
                  <a:lnTo>
                    <a:pt x="200" y="1510"/>
                  </a:lnTo>
                  <a:lnTo>
                    <a:pt x="206" y="1519"/>
                  </a:lnTo>
                  <a:lnTo>
                    <a:pt x="214" y="1521"/>
                  </a:lnTo>
                  <a:lnTo>
                    <a:pt x="222" y="1523"/>
                  </a:lnTo>
                  <a:lnTo>
                    <a:pt x="235" y="1521"/>
                  </a:lnTo>
                  <a:lnTo>
                    <a:pt x="264" y="1506"/>
                  </a:lnTo>
                  <a:lnTo>
                    <a:pt x="298" y="1485"/>
                  </a:lnTo>
                  <a:lnTo>
                    <a:pt x="337" y="1456"/>
                  </a:lnTo>
                  <a:lnTo>
                    <a:pt x="423" y="1379"/>
                  </a:lnTo>
                  <a:lnTo>
                    <a:pt x="614" y="1203"/>
                  </a:lnTo>
                  <a:lnTo>
                    <a:pt x="646" y="1173"/>
                  </a:lnTo>
                  <a:lnTo>
                    <a:pt x="664" y="1153"/>
                  </a:lnTo>
                  <a:lnTo>
                    <a:pt x="685" y="1126"/>
                  </a:lnTo>
                  <a:lnTo>
                    <a:pt x="704" y="1093"/>
                  </a:lnTo>
                  <a:lnTo>
                    <a:pt x="725" y="1056"/>
                  </a:lnTo>
                  <a:lnTo>
                    <a:pt x="744" y="1010"/>
                  </a:lnTo>
                  <a:lnTo>
                    <a:pt x="758" y="956"/>
                  </a:lnTo>
                  <a:lnTo>
                    <a:pt x="787" y="838"/>
                  </a:lnTo>
                  <a:lnTo>
                    <a:pt x="798" y="786"/>
                  </a:lnTo>
                  <a:lnTo>
                    <a:pt x="806" y="771"/>
                  </a:lnTo>
                  <a:lnTo>
                    <a:pt x="825" y="750"/>
                  </a:lnTo>
                  <a:lnTo>
                    <a:pt x="833" y="746"/>
                  </a:lnTo>
                  <a:lnTo>
                    <a:pt x="831" y="702"/>
                  </a:lnTo>
                  <a:lnTo>
                    <a:pt x="831" y="669"/>
                  </a:lnTo>
                  <a:lnTo>
                    <a:pt x="837" y="642"/>
                  </a:lnTo>
                  <a:lnTo>
                    <a:pt x="846" y="623"/>
                  </a:lnTo>
                  <a:lnTo>
                    <a:pt x="856" y="613"/>
                  </a:lnTo>
                  <a:lnTo>
                    <a:pt x="864" y="605"/>
                  </a:lnTo>
                  <a:lnTo>
                    <a:pt x="881" y="598"/>
                  </a:lnTo>
                  <a:lnTo>
                    <a:pt x="902" y="582"/>
                  </a:lnTo>
                  <a:lnTo>
                    <a:pt x="887" y="546"/>
                  </a:lnTo>
                  <a:lnTo>
                    <a:pt x="885" y="534"/>
                  </a:lnTo>
                  <a:lnTo>
                    <a:pt x="885" y="519"/>
                  </a:lnTo>
                  <a:lnTo>
                    <a:pt x="908" y="476"/>
                  </a:lnTo>
                  <a:lnTo>
                    <a:pt x="964" y="388"/>
                  </a:lnTo>
                  <a:lnTo>
                    <a:pt x="998" y="338"/>
                  </a:lnTo>
                  <a:lnTo>
                    <a:pt x="1025" y="291"/>
                  </a:lnTo>
                  <a:lnTo>
                    <a:pt x="1069" y="214"/>
                  </a:lnTo>
                  <a:lnTo>
                    <a:pt x="1094" y="187"/>
                  </a:lnTo>
                  <a:lnTo>
                    <a:pt x="1119" y="172"/>
                  </a:lnTo>
                  <a:lnTo>
                    <a:pt x="1150" y="168"/>
                  </a:lnTo>
                  <a:lnTo>
                    <a:pt x="1169" y="170"/>
                  </a:lnTo>
                  <a:lnTo>
                    <a:pt x="1188" y="176"/>
                  </a:lnTo>
                  <a:lnTo>
                    <a:pt x="1197" y="189"/>
                  </a:lnTo>
                  <a:lnTo>
                    <a:pt x="1268" y="180"/>
                  </a:lnTo>
                  <a:lnTo>
                    <a:pt x="1293" y="185"/>
                  </a:lnTo>
                  <a:lnTo>
                    <a:pt x="1311" y="197"/>
                  </a:lnTo>
                  <a:lnTo>
                    <a:pt x="1324" y="232"/>
                  </a:lnTo>
                  <a:lnTo>
                    <a:pt x="1326" y="255"/>
                  </a:lnTo>
                  <a:lnTo>
                    <a:pt x="1326" y="274"/>
                  </a:lnTo>
                  <a:lnTo>
                    <a:pt x="1322" y="284"/>
                  </a:lnTo>
                  <a:lnTo>
                    <a:pt x="1316" y="301"/>
                  </a:lnTo>
                  <a:lnTo>
                    <a:pt x="1316" y="307"/>
                  </a:lnTo>
                  <a:lnTo>
                    <a:pt x="1322" y="311"/>
                  </a:lnTo>
                  <a:lnTo>
                    <a:pt x="1332" y="318"/>
                  </a:lnTo>
                  <a:lnTo>
                    <a:pt x="1347" y="322"/>
                  </a:lnTo>
                  <a:lnTo>
                    <a:pt x="1361" y="330"/>
                  </a:lnTo>
                  <a:lnTo>
                    <a:pt x="1366" y="338"/>
                  </a:lnTo>
                  <a:lnTo>
                    <a:pt x="1370" y="349"/>
                  </a:lnTo>
                  <a:lnTo>
                    <a:pt x="1370" y="366"/>
                  </a:lnTo>
                  <a:lnTo>
                    <a:pt x="1366" y="382"/>
                  </a:lnTo>
                  <a:lnTo>
                    <a:pt x="1349" y="428"/>
                  </a:lnTo>
                  <a:lnTo>
                    <a:pt x="1282" y="559"/>
                  </a:lnTo>
                  <a:lnTo>
                    <a:pt x="1177" y="763"/>
                  </a:lnTo>
                  <a:lnTo>
                    <a:pt x="1117" y="898"/>
                  </a:lnTo>
                  <a:lnTo>
                    <a:pt x="1052" y="1056"/>
                  </a:lnTo>
                  <a:lnTo>
                    <a:pt x="992" y="1223"/>
                  </a:lnTo>
                  <a:lnTo>
                    <a:pt x="948" y="1348"/>
                  </a:lnTo>
                  <a:lnTo>
                    <a:pt x="923" y="1433"/>
                  </a:lnTo>
                  <a:lnTo>
                    <a:pt x="912" y="1494"/>
                  </a:lnTo>
                  <a:lnTo>
                    <a:pt x="917" y="1531"/>
                  </a:lnTo>
                  <a:lnTo>
                    <a:pt x="923" y="1544"/>
                  </a:lnTo>
                  <a:lnTo>
                    <a:pt x="931" y="1554"/>
                  </a:lnTo>
                  <a:lnTo>
                    <a:pt x="956" y="1569"/>
                  </a:lnTo>
                  <a:lnTo>
                    <a:pt x="987" y="1585"/>
                  </a:lnTo>
                  <a:lnTo>
                    <a:pt x="1085" y="1446"/>
                  </a:lnTo>
                  <a:lnTo>
                    <a:pt x="1135" y="1381"/>
                  </a:lnTo>
                  <a:lnTo>
                    <a:pt x="1162" y="1346"/>
                  </a:lnTo>
                  <a:lnTo>
                    <a:pt x="1188" y="1296"/>
                  </a:lnTo>
                  <a:lnTo>
                    <a:pt x="1079" y="1327"/>
                  </a:lnTo>
                  <a:lnTo>
                    <a:pt x="1085" y="1296"/>
                  </a:lnTo>
                  <a:lnTo>
                    <a:pt x="1092" y="1288"/>
                  </a:lnTo>
                  <a:lnTo>
                    <a:pt x="1100" y="1279"/>
                  </a:lnTo>
                  <a:lnTo>
                    <a:pt x="1114" y="1254"/>
                  </a:lnTo>
                  <a:lnTo>
                    <a:pt x="1108" y="1240"/>
                  </a:lnTo>
                  <a:lnTo>
                    <a:pt x="1100" y="1223"/>
                  </a:lnTo>
                  <a:lnTo>
                    <a:pt x="1096" y="1209"/>
                  </a:lnTo>
                  <a:lnTo>
                    <a:pt x="1098" y="1203"/>
                  </a:lnTo>
                  <a:lnTo>
                    <a:pt x="1100" y="1196"/>
                  </a:lnTo>
                  <a:lnTo>
                    <a:pt x="1299" y="1068"/>
                  </a:lnTo>
                  <a:lnTo>
                    <a:pt x="1349" y="1035"/>
                  </a:lnTo>
                  <a:lnTo>
                    <a:pt x="1378" y="1010"/>
                  </a:lnTo>
                  <a:lnTo>
                    <a:pt x="1389" y="998"/>
                  </a:lnTo>
                  <a:lnTo>
                    <a:pt x="1397" y="985"/>
                  </a:lnTo>
                  <a:lnTo>
                    <a:pt x="1414" y="952"/>
                  </a:lnTo>
                  <a:lnTo>
                    <a:pt x="1441" y="902"/>
                  </a:lnTo>
                  <a:lnTo>
                    <a:pt x="1482" y="825"/>
                  </a:lnTo>
                  <a:lnTo>
                    <a:pt x="1561" y="738"/>
                  </a:lnTo>
                  <a:lnTo>
                    <a:pt x="1584" y="725"/>
                  </a:lnTo>
                  <a:lnTo>
                    <a:pt x="1589" y="694"/>
                  </a:lnTo>
                  <a:lnTo>
                    <a:pt x="1603" y="682"/>
                  </a:lnTo>
                  <a:lnTo>
                    <a:pt x="1641" y="646"/>
                  </a:lnTo>
                  <a:lnTo>
                    <a:pt x="1672" y="611"/>
                  </a:lnTo>
                  <a:lnTo>
                    <a:pt x="1716" y="555"/>
                  </a:lnTo>
                  <a:lnTo>
                    <a:pt x="1841" y="395"/>
                  </a:lnTo>
                  <a:lnTo>
                    <a:pt x="1895" y="338"/>
                  </a:lnTo>
                  <a:lnTo>
                    <a:pt x="1928" y="314"/>
                  </a:lnTo>
                  <a:lnTo>
                    <a:pt x="1957" y="293"/>
                  </a:lnTo>
                  <a:lnTo>
                    <a:pt x="2001" y="253"/>
                  </a:lnTo>
                  <a:lnTo>
                    <a:pt x="2016" y="237"/>
                  </a:lnTo>
                  <a:lnTo>
                    <a:pt x="2028" y="218"/>
                  </a:lnTo>
                  <a:lnTo>
                    <a:pt x="2041" y="180"/>
                  </a:lnTo>
                  <a:lnTo>
                    <a:pt x="2049" y="116"/>
                  </a:lnTo>
                  <a:lnTo>
                    <a:pt x="2055" y="91"/>
                  </a:lnTo>
                  <a:lnTo>
                    <a:pt x="2060" y="83"/>
                  </a:lnTo>
                  <a:lnTo>
                    <a:pt x="2070" y="76"/>
                  </a:lnTo>
                  <a:lnTo>
                    <a:pt x="2099" y="74"/>
                  </a:lnTo>
                  <a:lnTo>
                    <a:pt x="2149" y="85"/>
                  </a:lnTo>
                  <a:lnTo>
                    <a:pt x="2170" y="101"/>
                  </a:lnTo>
                  <a:lnTo>
                    <a:pt x="2170" y="126"/>
                  </a:lnTo>
                  <a:lnTo>
                    <a:pt x="2174" y="131"/>
                  </a:lnTo>
                  <a:lnTo>
                    <a:pt x="2180" y="133"/>
                  </a:lnTo>
                  <a:lnTo>
                    <a:pt x="2224" y="135"/>
                  </a:lnTo>
                  <a:lnTo>
                    <a:pt x="2324" y="149"/>
                  </a:lnTo>
                  <a:lnTo>
                    <a:pt x="2341" y="153"/>
                  </a:lnTo>
                  <a:lnTo>
                    <a:pt x="2351" y="162"/>
                  </a:lnTo>
                  <a:lnTo>
                    <a:pt x="2358" y="172"/>
                  </a:lnTo>
                  <a:lnTo>
                    <a:pt x="2360" y="187"/>
                  </a:lnTo>
                  <a:lnTo>
                    <a:pt x="2358" y="234"/>
                  </a:lnTo>
                  <a:lnTo>
                    <a:pt x="2343" y="309"/>
                  </a:lnTo>
                  <a:lnTo>
                    <a:pt x="2322" y="420"/>
                  </a:lnTo>
                  <a:lnTo>
                    <a:pt x="2299" y="569"/>
                  </a:lnTo>
                  <a:lnTo>
                    <a:pt x="2274" y="767"/>
                  </a:lnTo>
                  <a:lnTo>
                    <a:pt x="2255" y="1016"/>
                  </a:lnTo>
                  <a:lnTo>
                    <a:pt x="2222" y="1502"/>
                  </a:lnTo>
                  <a:lnTo>
                    <a:pt x="2185" y="1872"/>
                  </a:lnTo>
                  <a:lnTo>
                    <a:pt x="2178" y="1957"/>
                  </a:lnTo>
                  <a:lnTo>
                    <a:pt x="2174" y="2034"/>
                  </a:lnTo>
                  <a:lnTo>
                    <a:pt x="2170" y="2061"/>
                  </a:lnTo>
                  <a:lnTo>
                    <a:pt x="2164" y="2080"/>
                  </a:lnTo>
                  <a:lnTo>
                    <a:pt x="2160" y="2084"/>
                  </a:lnTo>
                  <a:lnTo>
                    <a:pt x="2153" y="2086"/>
                  </a:lnTo>
                  <a:lnTo>
                    <a:pt x="2137" y="2078"/>
                  </a:lnTo>
                  <a:lnTo>
                    <a:pt x="2137" y="2066"/>
                  </a:lnTo>
                  <a:lnTo>
                    <a:pt x="2128" y="2059"/>
                  </a:lnTo>
                  <a:lnTo>
                    <a:pt x="2122" y="1982"/>
                  </a:lnTo>
                  <a:lnTo>
                    <a:pt x="2089" y="1968"/>
                  </a:lnTo>
                  <a:lnTo>
                    <a:pt x="2074" y="1953"/>
                  </a:lnTo>
                  <a:lnTo>
                    <a:pt x="2070" y="1945"/>
                  </a:lnTo>
                  <a:lnTo>
                    <a:pt x="2070" y="1932"/>
                  </a:lnTo>
                  <a:lnTo>
                    <a:pt x="2080" y="1926"/>
                  </a:lnTo>
                  <a:lnTo>
                    <a:pt x="2089" y="1916"/>
                  </a:lnTo>
                  <a:lnTo>
                    <a:pt x="2097" y="1895"/>
                  </a:lnTo>
                  <a:lnTo>
                    <a:pt x="2099" y="1872"/>
                  </a:lnTo>
                  <a:lnTo>
                    <a:pt x="2097" y="1855"/>
                  </a:lnTo>
                  <a:lnTo>
                    <a:pt x="2074" y="1843"/>
                  </a:lnTo>
                  <a:lnTo>
                    <a:pt x="2064" y="1808"/>
                  </a:lnTo>
                  <a:lnTo>
                    <a:pt x="2062" y="1799"/>
                  </a:lnTo>
                  <a:lnTo>
                    <a:pt x="2072" y="1797"/>
                  </a:lnTo>
                  <a:lnTo>
                    <a:pt x="2080" y="1793"/>
                  </a:lnTo>
                  <a:lnTo>
                    <a:pt x="2091" y="1781"/>
                  </a:lnTo>
                  <a:lnTo>
                    <a:pt x="2093" y="1768"/>
                  </a:lnTo>
                  <a:lnTo>
                    <a:pt x="2091" y="1764"/>
                  </a:lnTo>
                  <a:lnTo>
                    <a:pt x="2053" y="1764"/>
                  </a:lnTo>
                  <a:lnTo>
                    <a:pt x="2030" y="1631"/>
                  </a:lnTo>
                  <a:lnTo>
                    <a:pt x="2018" y="1554"/>
                  </a:lnTo>
                  <a:lnTo>
                    <a:pt x="2014" y="1539"/>
                  </a:lnTo>
                  <a:lnTo>
                    <a:pt x="2010" y="1537"/>
                  </a:lnTo>
                  <a:lnTo>
                    <a:pt x="1987" y="1581"/>
                  </a:lnTo>
                  <a:lnTo>
                    <a:pt x="1970" y="1435"/>
                  </a:lnTo>
                  <a:lnTo>
                    <a:pt x="1970" y="1388"/>
                  </a:lnTo>
                  <a:lnTo>
                    <a:pt x="1978" y="1377"/>
                  </a:lnTo>
                  <a:lnTo>
                    <a:pt x="1980" y="1369"/>
                  </a:lnTo>
                  <a:lnTo>
                    <a:pt x="1982" y="1350"/>
                  </a:lnTo>
                  <a:lnTo>
                    <a:pt x="1970" y="1279"/>
                  </a:lnTo>
                  <a:lnTo>
                    <a:pt x="1964" y="1267"/>
                  </a:lnTo>
                  <a:lnTo>
                    <a:pt x="1960" y="1244"/>
                  </a:lnTo>
                  <a:lnTo>
                    <a:pt x="1960" y="1186"/>
                  </a:lnTo>
                  <a:lnTo>
                    <a:pt x="1970" y="1064"/>
                  </a:lnTo>
                  <a:lnTo>
                    <a:pt x="1976" y="1012"/>
                  </a:lnTo>
                  <a:lnTo>
                    <a:pt x="1974" y="960"/>
                  </a:lnTo>
                  <a:lnTo>
                    <a:pt x="1891" y="985"/>
                  </a:lnTo>
                  <a:lnTo>
                    <a:pt x="1828" y="1008"/>
                  </a:lnTo>
                  <a:lnTo>
                    <a:pt x="1784" y="1029"/>
                  </a:lnTo>
                  <a:lnTo>
                    <a:pt x="1755" y="1048"/>
                  </a:lnTo>
                  <a:lnTo>
                    <a:pt x="1714" y="1083"/>
                  </a:lnTo>
                  <a:lnTo>
                    <a:pt x="1695" y="1101"/>
                  </a:lnTo>
                  <a:lnTo>
                    <a:pt x="1668" y="1115"/>
                  </a:lnTo>
                  <a:lnTo>
                    <a:pt x="1612" y="1134"/>
                  </a:lnTo>
                  <a:lnTo>
                    <a:pt x="1578" y="1140"/>
                  </a:lnTo>
                  <a:lnTo>
                    <a:pt x="1559" y="1138"/>
                  </a:lnTo>
                  <a:lnTo>
                    <a:pt x="1541" y="1144"/>
                  </a:lnTo>
                  <a:lnTo>
                    <a:pt x="1534" y="1171"/>
                  </a:lnTo>
                  <a:lnTo>
                    <a:pt x="1501" y="1192"/>
                  </a:lnTo>
                  <a:lnTo>
                    <a:pt x="1493" y="1203"/>
                  </a:lnTo>
                  <a:lnTo>
                    <a:pt x="1482" y="1223"/>
                  </a:lnTo>
                  <a:lnTo>
                    <a:pt x="1459" y="1269"/>
                  </a:lnTo>
                  <a:lnTo>
                    <a:pt x="1420" y="1348"/>
                  </a:lnTo>
                  <a:lnTo>
                    <a:pt x="1355" y="1469"/>
                  </a:lnTo>
                  <a:lnTo>
                    <a:pt x="1255" y="1641"/>
                  </a:lnTo>
                  <a:lnTo>
                    <a:pt x="1154" y="1820"/>
                  </a:lnTo>
                  <a:lnTo>
                    <a:pt x="1144" y="1837"/>
                  </a:lnTo>
                  <a:lnTo>
                    <a:pt x="1137" y="1843"/>
                  </a:lnTo>
                  <a:lnTo>
                    <a:pt x="1129" y="1845"/>
                  </a:lnTo>
                  <a:lnTo>
                    <a:pt x="1119" y="1843"/>
                  </a:lnTo>
                  <a:lnTo>
                    <a:pt x="1106" y="1837"/>
                  </a:lnTo>
                  <a:lnTo>
                    <a:pt x="1100" y="1833"/>
                  </a:lnTo>
                  <a:lnTo>
                    <a:pt x="1098" y="1835"/>
                  </a:lnTo>
                  <a:lnTo>
                    <a:pt x="1092" y="1843"/>
                  </a:lnTo>
                  <a:lnTo>
                    <a:pt x="1062" y="1901"/>
                  </a:lnTo>
                  <a:lnTo>
                    <a:pt x="1033" y="1955"/>
                  </a:lnTo>
                  <a:lnTo>
                    <a:pt x="987" y="2034"/>
                  </a:lnTo>
                  <a:lnTo>
                    <a:pt x="960" y="2068"/>
                  </a:lnTo>
                  <a:lnTo>
                    <a:pt x="948" y="2080"/>
                  </a:lnTo>
                  <a:lnTo>
                    <a:pt x="933" y="2090"/>
                  </a:lnTo>
                  <a:lnTo>
                    <a:pt x="914" y="2101"/>
                  </a:lnTo>
                  <a:lnTo>
                    <a:pt x="902" y="2099"/>
                  </a:lnTo>
                  <a:lnTo>
                    <a:pt x="887" y="2076"/>
                  </a:lnTo>
                  <a:lnTo>
                    <a:pt x="885" y="2076"/>
                  </a:lnTo>
                  <a:lnTo>
                    <a:pt x="879" y="2082"/>
                  </a:lnTo>
                  <a:lnTo>
                    <a:pt x="869" y="2103"/>
                  </a:lnTo>
                  <a:lnTo>
                    <a:pt x="856" y="2120"/>
                  </a:lnTo>
                  <a:lnTo>
                    <a:pt x="841" y="2134"/>
                  </a:lnTo>
                  <a:lnTo>
                    <a:pt x="821" y="2130"/>
                  </a:lnTo>
                  <a:lnTo>
                    <a:pt x="819" y="2101"/>
                  </a:lnTo>
                  <a:lnTo>
                    <a:pt x="814" y="2088"/>
                  </a:lnTo>
                  <a:lnTo>
                    <a:pt x="808" y="2093"/>
                  </a:lnTo>
                  <a:lnTo>
                    <a:pt x="798" y="2109"/>
                  </a:lnTo>
                  <a:lnTo>
                    <a:pt x="769" y="2157"/>
                  </a:lnTo>
                  <a:lnTo>
                    <a:pt x="748" y="2180"/>
                  </a:lnTo>
                  <a:lnTo>
                    <a:pt x="723" y="2197"/>
                  </a:lnTo>
                  <a:lnTo>
                    <a:pt x="694" y="2197"/>
                  </a:lnTo>
                  <a:lnTo>
                    <a:pt x="698" y="2130"/>
                  </a:lnTo>
                  <a:lnTo>
                    <a:pt x="658" y="2126"/>
                  </a:lnTo>
                  <a:lnTo>
                    <a:pt x="668" y="2101"/>
                  </a:lnTo>
                  <a:lnTo>
                    <a:pt x="679" y="2074"/>
                  </a:lnTo>
                  <a:lnTo>
                    <a:pt x="714" y="2022"/>
                  </a:lnTo>
                  <a:lnTo>
                    <a:pt x="752" y="1970"/>
                  </a:lnTo>
                  <a:lnTo>
                    <a:pt x="785" y="1920"/>
                  </a:lnTo>
                  <a:lnTo>
                    <a:pt x="831" y="1833"/>
                  </a:lnTo>
                  <a:lnTo>
                    <a:pt x="852" y="1779"/>
                  </a:lnTo>
                  <a:lnTo>
                    <a:pt x="856" y="1762"/>
                  </a:lnTo>
                  <a:lnTo>
                    <a:pt x="856" y="1752"/>
                  </a:lnTo>
                  <a:lnTo>
                    <a:pt x="852" y="1745"/>
                  </a:lnTo>
                  <a:lnTo>
                    <a:pt x="844" y="1743"/>
                  </a:lnTo>
                  <a:lnTo>
                    <a:pt x="816" y="1747"/>
                  </a:lnTo>
                  <a:lnTo>
                    <a:pt x="783" y="1760"/>
                  </a:lnTo>
                  <a:lnTo>
                    <a:pt x="744" y="1772"/>
                  </a:lnTo>
                  <a:lnTo>
                    <a:pt x="702" y="1776"/>
                  </a:lnTo>
                  <a:lnTo>
                    <a:pt x="664" y="1772"/>
                  </a:lnTo>
                  <a:lnTo>
                    <a:pt x="635" y="1760"/>
                  </a:lnTo>
                  <a:lnTo>
                    <a:pt x="612" y="1739"/>
                  </a:lnTo>
                  <a:lnTo>
                    <a:pt x="596" y="1716"/>
                  </a:lnTo>
                  <a:lnTo>
                    <a:pt x="596" y="1672"/>
                  </a:lnTo>
                  <a:lnTo>
                    <a:pt x="593" y="1664"/>
                  </a:lnTo>
                  <a:lnTo>
                    <a:pt x="589" y="1658"/>
                  </a:lnTo>
                  <a:lnTo>
                    <a:pt x="579" y="1641"/>
                  </a:lnTo>
                  <a:lnTo>
                    <a:pt x="575" y="1606"/>
                  </a:lnTo>
                  <a:lnTo>
                    <a:pt x="579" y="1533"/>
                  </a:lnTo>
                  <a:lnTo>
                    <a:pt x="598" y="1448"/>
                  </a:lnTo>
                  <a:lnTo>
                    <a:pt x="616" y="1394"/>
                  </a:lnTo>
                  <a:lnTo>
                    <a:pt x="631" y="1367"/>
                  </a:lnTo>
                  <a:lnTo>
                    <a:pt x="631" y="1361"/>
                  </a:lnTo>
                  <a:lnTo>
                    <a:pt x="627" y="1363"/>
                  </a:lnTo>
                  <a:lnTo>
                    <a:pt x="593" y="1392"/>
                  </a:lnTo>
                  <a:lnTo>
                    <a:pt x="552" y="1435"/>
                  </a:lnTo>
                  <a:lnTo>
                    <a:pt x="454" y="1544"/>
                  </a:lnTo>
                  <a:lnTo>
                    <a:pt x="398" y="1598"/>
                  </a:lnTo>
                  <a:lnTo>
                    <a:pt x="341" y="1643"/>
                  </a:lnTo>
                  <a:lnTo>
                    <a:pt x="310" y="1662"/>
                  </a:lnTo>
                  <a:lnTo>
                    <a:pt x="281" y="1675"/>
                  </a:lnTo>
                  <a:lnTo>
                    <a:pt x="250" y="1687"/>
                  </a:lnTo>
                  <a:lnTo>
                    <a:pt x="218" y="1689"/>
                  </a:lnTo>
                  <a:lnTo>
                    <a:pt x="166" y="1689"/>
                  </a:lnTo>
                  <a:lnTo>
                    <a:pt x="143" y="1683"/>
                  </a:lnTo>
                  <a:lnTo>
                    <a:pt x="120" y="1677"/>
                  </a:lnTo>
                  <a:lnTo>
                    <a:pt x="102" y="1668"/>
                  </a:lnTo>
                  <a:lnTo>
                    <a:pt x="83" y="1658"/>
                  </a:lnTo>
                  <a:lnTo>
                    <a:pt x="68" y="1645"/>
                  </a:lnTo>
                  <a:lnTo>
                    <a:pt x="56" y="1631"/>
                  </a:lnTo>
                  <a:lnTo>
                    <a:pt x="33" y="1600"/>
                  </a:lnTo>
                  <a:lnTo>
                    <a:pt x="16" y="1562"/>
                  </a:lnTo>
                  <a:lnTo>
                    <a:pt x="8" y="1523"/>
                  </a:lnTo>
                  <a:lnTo>
                    <a:pt x="2" y="1479"/>
                  </a:lnTo>
                  <a:lnTo>
                    <a:pt x="0" y="1435"/>
                  </a:lnTo>
                  <a:lnTo>
                    <a:pt x="2" y="1390"/>
                  </a:lnTo>
                  <a:lnTo>
                    <a:pt x="12" y="1304"/>
                  </a:lnTo>
                  <a:lnTo>
                    <a:pt x="29" y="1230"/>
                  </a:lnTo>
                  <a:lnTo>
                    <a:pt x="43" y="1175"/>
                  </a:lnTo>
                  <a:lnTo>
                    <a:pt x="72" y="1075"/>
                  </a:lnTo>
                  <a:lnTo>
                    <a:pt x="87" y="1016"/>
                  </a:lnTo>
                  <a:lnTo>
                    <a:pt x="110" y="944"/>
                  </a:lnTo>
                  <a:lnTo>
                    <a:pt x="143" y="850"/>
                  </a:lnTo>
                  <a:lnTo>
                    <a:pt x="189" y="727"/>
                  </a:lnTo>
                  <a:lnTo>
                    <a:pt x="341" y="372"/>
                  </a:lnTo>
                  <a:lnTo>
                    <a:pt x="377" y="301"/>
                  </a:lnTo>
                  <a:lnTo>
                    <a:pt x="402" y="257"/>
                  </a:lnTo>
                  <a:lnTo>
                    <a:pt x="431" y="193"/>
                  </a:lnTo>
                  <a:lnTo>
                    <a:pt x="460" y="133"/>
                  </a:lnTo>
                  <a:lnTo>
                    <a:pt x="487" y="89"/>
                  </a:lnTo>
                  <a:lnTo>
                    <a:pt x="510" y="64"/>
                  </a:lnTo>
                  <a:lnTo>
                    <a:pt x="533" y="45"/>
                  </a:lnTo>
                  <a:lnTo>
                    <a:pt x="550" y="35"/>
                  </a:lnTo>
                  <a:lnTo>
                    <a:pt x="566" y="31"/>
                  </a:lnTo>
                  <a:lnTo>
                    <a:pt x="591" y="31"/>
                  </a:lnTo>
                  <a:lnTo>
                    <a:pt x="606" y="33"/>
                  </a:lnTo>
                  <a:lnTo>
                    <a:pt x="616" y="24"/>
                  </a:lnTo>
                  <a:lnTo>
                    <a:pt x="627" y="10"/>
                  </a:lnTo>
                  <a:lnTo>
                    <a:pt x="641" y="0"/>
                  </a:lnTo>
                  <a:lnTo>
                    <a:pt x="662" y="2"/>
                  </a:lnTo>
                  <a:lnTo>
                    <a:pt x="673" y="8"/>
                  </a:lnTo>
                  <a:lnTo>
                    <a:pt x="679" y="16"/>
                  </a:lnTo>
                  <a:lnTo>
                    <a:pt x="683" y="33"/>
                  </a:lnTo>
                  <a:lnTo>
                    <a:pt x="687" y="72"/>
                  </a:lnTo>
                  <a:lnTo>
                    <a:pt x="698" y="83"/>
                  </a:lnTo>
                  <a:lnTo>
                    <a:pt x="708" y="93"/>
                  </a:lnTo>
                  <a:lnTo>
                    <a:pt x="712" y="112"/>
                  </a:lnTo>
                  <a:lnTo>
                    <a:pt x="706" y="14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26400" y="5580000"/>
              <a:ext cx="981360" cy="908280"/>
            </a:xfrm>
            <a:custGeom>
              <a:avLst/>
              <a:gdLst/>
              <a:ahLst/>
              <a:rect l="0" t="0" r="r" b="b"/>
              <a:pathLst>
                <a:path w="2726" h="2523">
                  <a:moveTo>
                    <a:pt x="2599" y="2235"/>
                  </a:moveTo>
                  <a:lnTo>
                    <a:pt x="2582" y="2246"/>
                  </a:lnTo>
                  <a:lnTo>
                    <a:pt x="2567" y="2252"/>
                  </a:lnTo>
                  <a:lnTo>
                    <a:pt x="2555" y="2250"/>
                  </a:lnTo>
                  <a:lnTo>
                    <a:pt x="2540" y="2244"/>
                  </a:lnTo>
                  <a:lnTo>
                    <a:pt x="2503" y="2208"/>
                  </a:lnTo>
                  <a:lnTo>
                    <a:pt x="2432" y="2148"/>
                  </a:lnTo>
                  <a:lnTo>
                    <a:pt x="2038" y="1831"/>
                  </a:lnTo>
                  <a:lnTo>
                    <a:pt x="1929" y="1748"/>
                  </a:lnTo>
                  <a:lnTo>
                    <a:pt x="1823" y="1671"/>
                  </a:lnTo>
                  <a:lnTo>
                    <a:pt x="1771" y="1633"/>
                  </a:lnTo>
                  <a:lnTo>
                    <a:pt x="1731" y="1598"/>
                  </a:lnTo>
                  <a:lnTo>
                    <a:pt x="1698" y="1567"/>
                  </a:lnTo>
                  <a:lnTo>
                    <a:pt x="1673" y="1540"/>
                  </a:lnTo>
                  <a:lnTo>
                    <a:pt x="1635" y="1494"/>
                  </a:lnTo>
                  <a:lnTo>
                    <a:pt x="1623" y="1479"/>
                  </a:lnTo>
                  <a:lnTo>
                    <a:pt x="1608" y="1465"/>
                  </a:lnTo>
                  <a:lnTo>
                    <a:pt x="1554" y="1444"/>
                  </a:lnTo>
                  <a:lnTo>
                    <a:pt x="1402" y="1269"/>
                  </a:lnTo>
                  <a:lnTo>
                    <a:pt x="1361" y="1224"/>
                  </a:lnTo>
                  <a:lnTo>
                    <a:pt x="1340" y="1203"/>
                  </a:lnTo>
                  <a:lnTo>
                    <a:pt x="1324" y="1193"/>
                  </a:lnTo>
                  <a:lnTo>
                    <a:pt x="1303" y="1208"/>
                  </a:lnTo>
                  <a:lnTo>
                    <a:pt x="1082" y="1047"/>
                  </a:lnTo>
                  <a:lnTo>
                    <a:pt x="1009" y="999"/>
                  </a:lnTo>
                  <a:lnTo>
                    <a:pt x="1011" y="1001"/>
                  </a:lnTo>
                  <a:lnTo>
                    <a:pt x="1025" y="1016"/>
                  </a:lnTo>
                  <a:lnTo>
                    <a:pt x="1067" y="1058"/>
                  </a:lnTo>
                  <a:lnTo>
                    <a:pt x="1084" y="1081"/>
                  </a:lnTo>
                  <a:lnTo>
                    <a:pt x="1086" y="1089"/>
                  </a:lnTo>
                  <a:lnTo>
                    <a:pt x="1084" y="1091"/>
                  </a:lnTo>
                  <a:lnTo>
                    <a:pt x="1088" y="1097"/>
                  </a:lnTo>
                  <a:lnTo>
                    <a:pt x="1144" y="1153"/>
                  </a:lnTo>
                  <a:lnTo>
                    <a:pt x="1330" y="1321"/>
                  </a:lnTo>
                  <a:lnTo>
                    <a:pt x="1420" y="1398"/>
                  </a:lnTo>
                  <a:lnTo>
                    <a:pt x="1460" y="1429"/>
                  </a:lnTo>
                  <a:lnTo>
                    <a:pt x="1468" y="1438"/>
                  </a:lnTo>
                  <a:lnTo>
                    <a:pt x="1458" y="1444"/>
                  </a:lnTo>
                  <a:lnTo>
                    <a:pt x="1450" y="1448"/>
                  </a:lnTo>
                  <a:lnTo>
                    <a:pt x="1441" y="1450"/>
                  </a:lnTo>
                  <a:lnTo>
                    <a:pt x="1439" y="1448"/>
                  </a:lnTo>
                  <a:lnTo>
                    <a:pt x="1464" y="1463"/>
                  </a:lnTo>
                  <a:lnTo>
                    <a:pt x="1531" y="1513"/>
                  </a:lnTo>
                  <a:lnTo>
                    <a:pt x="1898" y="1811"/>
                  </a:lnTo>
                  <a:lnTo>
                    <a:pt x="1967" y="1871"/>
                  </a:lnTo>
                  <a:lnTo>
                    <a:pt x="1996" y="1898"/>
                  </a:lnTo>
                  <a:lnTo>
                    <a:pt x="2031" y="1938"/>
                  </a:lnTo>
                  <a:lnTo>
                    <a:pt x="2090" y="1990"/>
                  </a:lnTo>
                  <a:lnTo>
                    <a:pt x="2209" y="2094"/>
                  </a:lnTo>
                  <a:lnTo>
                    <a:pt x="2563" y="2408"/>
                  </a:lnTo>
                  <a:lnTo>
                    <a:pt x="2726" y="2512"/>
                  </a:lnTo>
                  <a:lnTo>
                    <a:pt x="2724" y="2521"/>
                  </a:lnTo>
                  <a:lnTo>
                    <a:pt x="2719" y="2523"/>
                  </a:lnTo>
                  <a:lnTo>
                    <a:pt x="2703" y="2523"/>
                  </a:lnTo>
                  <a:lnTo>
                    <a:pt x="2678" y="2512"/>
                  </a:lnTo>
                  <a:lnTo>
                    <a:pt x="2644" y="2494"/>
                  </a:lnTo>
                  <a:lnTo>
                    <a:pt x="2603" y="2469"/>
                  </a:lnTo>
                  <a:lnTo>
                    <a:pt x="2557" y="2435"/>
                  </a:lnTo>
                  <a:lnTo>
                    <a:pt x="2448" y="2356"/>
                  </a:lnTo>
                  <a:lnTo>
                    <a:pt x="2223" y="2181"/>
                  </a:lnTo>
                  <a:lnTo>
                    <a:pt x="2121" y="2104"/>
                  </a:lnTo>
                  <a:lnTo>
                    <a:pt x="2042" y="2046"/>
                  </a:lnTo>
                  <a:lnTo>
                    <a:pt x="1913" y="1954"/>
                  </a:lnTo>
                  <a:lnTo>
                    <a:pt x="1825" y="1883"/>
                  </a:lnTo>
                  <a:lnTo>
                    <a:pt x="1760" y="1823"/>
                  </a:lnTo>
                  <a:lnTo>
                    <a:pt x="1708" y="1767"/>
                  </a:lnTo>
                  <a:lnTo>
                    <a:pt x="1652" y="1708"/>
                  </a:lnTo>
                  <a:lnTo>
                    <a:pt x="1577" y="1638"/>
                  </a:lnTo>
                  <a:lnTo>
                    <a:pt x="1529" y="1596"/>
                  </a:lnTo>
                  <a:lnTo>
                    <a:pt x="1468" y="1550"/>
                  </a:lnTo>
                  <a:lnTo>
                    <a:pt x="1311" y="1436"/>
                  </a:lnTo>
                  <a:lnTo>
                    <a:pt x="1259" y="1417"/>
                  </a:lnTo>
                  <a:lnTo>
                    <a:pt x="1180" y="1325"/>
                  </a:lnTo>
                  <a:lnTo>
                    <a:pt x="1171" y="1286"/>
                  </a:lnTo>
                  <a:lnTo>
                    <a:pt x="1134" y="1258"/>
                  </a:lnTo>
                  <a:lnTo>
                    <a:pt x="1100" y="1230"/>
                  </a:lnTo>
                  <a:lnTo>
                    <a:pt x="1050" y="1180"/>
                  </a:lnTo>
                  <a:lnTo>
                    <a:pt x="1009" y="1143"/>
                  </a:lnTo>
                  <a:lnTo>
                    <a:pt x="988" y="1128"/>
                  </a:lnTo>
                  <a:lnTo>
                    <a:pt x="969" y="1120"/>
                  </a:lnTo>
                  <a:lnTo>
                    <a:pt x="917" y="1114"/>
                  </a:lnTo>
                  <a:lnTo>
                    <a:pt x="884" y="1074"/>
                  </a:lnTo>
                  <a:lnTo>
                    <a:pt x="859" y="1049"/>
                  </a:lnTo>
                  <a:lnTo>
                    <a:pt x="821" y="1028"/>
                  </a:lnTo>
                  <a:lnTo>
                    <a:pt x="813" y="1024"/>
                  </a:lnTo>
                  <a:lnTo>
                    <a:pt x="813" y="1018"/>
                  </a:lnTo>
                  <a:lnTo>
                    <a:pt x="838" y="985"/>
                  </a:lnTo>
                  <a:lnTo>
                    <a:pt x="846" y="974"/>
                  </a:lnTo>
                  <a:lnTo>
                    <a:pt x="852" y="964"/>
                  </a:lnTo>
                  <a:lnTo>
                    <a:pt x="856" y="949"/>
                  </a:lnTo>
                  <a:lnTo>
                    <a:pt x="861" y="945"/>
                  </a:lnTo>
                  <a:lnTo>
                    <a:pt x="867" y="941"/>
                  </a:lnTo>
                  <a:lnTo>
                    <a:pt x="892" y="941"/>
                  </a:lnTo>
                  <a:lnTo>
                    <a:pt x="917" y="953"/>
                  </a:lnTo>
                  <a:lnTo>
                    <a:pt x="948" y="949"/>
                  </a:lnTo>
                  <a:lnTo>
                    <a:pt x="971" y="941"/>
                  </a:lnTo>
                  <a:lnTo>
                    <a:pt x="982" y="935"/>
                  </a:lnTo>
                  <a:lnTo>
                    <a:pt x="988" y="926"/>
                  </a:lnTo>
                  <a:lnTo>
                    <a:pt x="986" y="916"/>
                  </a:lnTo>
                  <a:lnTo>
                    <a:pt x="979" y="906"/>
                  </a:lnTo>
                  <a:lnTo>
                    <a:pt x="954" y="885"/>
                  </a:lnTo>
                  <a:lnTo>
                    <a:pt x="927" y="858"/>
                  </a:lnTo>
                  <a:lnTo>
                    <a:pt x="907" y="831"/>
                  </a:lnTo>
                  <a:lnTo>
                    <a:pt x="900" y="818"/>
                  </a:lnTo>
                  <a:lnTo>
                    <a:pt x="900" y="803"/>
                  </a:lnTo>
                  <a:lnTo>
                    <a:pt x="907" y="789"/>
                  </a:lnTo>
                  <a:lnTo>
                    <a:pt x="921" y="774"/>
                  </a:lnTo>
                  <a:lnTo>
                    <a:pt x="936" y="770"/>
                  </a:lnTo>
                  <a:lnTo>
                    <a:pt x="950" y="774"/>
                  </a:lnTo>
                  <a:lnTo>
                    <a:pt x="967" y="785"/>
                  </a:lnTo>
                  <a:lnTo>
                    <a:pt x="982" y="799"/>
                  </a:lnTo>
                  <a:lnTo>
                    <a:pt x="1017" y="833"/>
                  </a:lnTo>
                  <a:lnTo>
                    <a:pt x="1030" y="847"/>
                  </a:lnTo>
                  <a:lnTo>
                    <a:pt x="1044" y="853"/>
                  </a:lnTo>
                  <a:lnTo>
                    <a:pt x="1100" y="845"/>
                  </a:lnTo>
                  <a:lnTo>
                    <a:pt x="1132" y="858"/>
                  </a:lnTo>
                  <a:lnTo>
                    <a:pt x="1265" y="683"/>
                  </a:lnTo>
                  <a:lnTo>
                    <a:pt x="1307" y="622"/>
                  </a:lnTo>
                  <a:lnTo>
                    <a:pt x="1330" y="574"/>
                  </a:lnTo>
                  <a:lnTo>
                    <a:pt x="1336" y="556"/>
                  </a:lnTo>
                  <a:lnTo>
                    <a:pt x="1336" y="537"/>
                  </a:lnTo>
                  <a:lnTo>
                    <a:pt x="1334" y="522"/>
                  </a:lnTo>
                  <a:lnTo>
                    <a:pt x="1328" y="506"/>
                  </a:lnTo>
                  <a:lnTo>
                    <a:pt x="1315" y="493"/>
                  </a:lnTo>
                  <a:lnTo>
                    <a:pt x="1303" y="479"/>
                  </a:lnTo>
                  <a:lnTo>
                    <a:pt x="1259" y="451"/>
                  </a:lnTo>
                  <a:lnTo>
                    <a:pt x="1228" y="437"/>
                  </a:lnTo>
                  <a:lnTo>
                    <a:pt x="1196" y="426"/>
                  </a:lnTo>
                  <a:lnTo>
                    <a:pt x="1134" y="414"/>
                  </a:lnTo>
                  <a:lnTo>
                    <a:pt x="1071" y="412"/>
                  </a:lnTo>
                  <a:lnTo>
                    <a:pt x="1013" y="418"/>
                  </a:lnTo>
                  <a:lnTo>
                    <a:pt x="963" y="429"/>
                  </a:lnTo>
                  <a:lnTo>
                    <a:pt x="923" y="439"/>
                  </a:lnTo>
                  <a:lnTo>
                    <a:pt x="898" y="449"/>
                  </a:lnTo>
                  <a:lnTo>
                    <a:pt x="886" y="456"/>
                  </a:lnTo>
                  <a:lnTo>
                    <a:pt x="859" y="526"/>
                  </a:lnTo>
                  <a:lnTo>
                    <a:pt x="838" y="579"/>
                  </a:lnTo>
                  <a:lnTo>
                    <a:pt x="829" y="595"/>
                  </a:lnTo>
                  <a:lnTo>
                    <a:pt x="821" y="604"/>
                  </a:lnTo>
                  <a:lnTo>
                    <a:pt x="813" y="604"/>
                  </a:lnTo>
                  <a:lnTo>
                    <a:pt x="802" y="595"/>
                  </a:lnTo>
                  <a:lnTo>
                    <a:pt x="802" y="572"/>
                  </a:lnTo>
                  <a:lnTo>
                    <a:pt x="794" y="574"/>
                  </a:lnTo>
                  <a:lnTo>
                    <a:pt x="786" y="581"/>
                  </a:lnTo>
                  <a:lnTo>
                    <a:pt x="769" y="604"/>
                  </a:lnTo>
                  <a:lnTo>
                    <a:pt x="742" y="674"/>
                  </a:lnTo>
                  <a:lnTo>
                    <a:pt x="719" y="754"/>
                  </a:lnTo>
                  <a:lnTo>
                    <a:pt x="706" y="789"/>
                  </a:lnTo>
                  <a:lnTo>
                    <a:pt x="694" y="814"/>
                  </a:lnTo>
                  <a:lnTo>
                    <a:pt x="677" y="810"/>
                  </a:lnTo>
                  <a:lnTo>
                    <a:pt x="669" y="816"/>
                  </a:lnTo>
                  <a:lnTo>
                    <a:pt x="658" y="835"/>
                  </a:lnTo>
                  <a:lnTo>
                    <a:pt x="602" y="1035"/>
                  </a:lnTo>
                  <a:lnTo>
                    <a:pt x="558" y="1212"/>
                  </a:lnTo>
                  <a:lnTo>
                    <a:pt x="496" y="1500"/>
                  </a:lnTo>
                  <a:lnTo>
                    <a:pt x="475" y="1608"/>
                  </a:lnTo>
                  <a:lnTo>
                    <a:pt x="454" y="1690"/>
                  </a:lnTo>
                  <a:lnTo>
                    <a:pt x="444" y="1723"/>
                  </a:lnTo>
                  <a:lnTo>
                    <a:pt x="433" y="1746"/>
                  </a:lnTo>
                  <a:lnTo>
                    <a:pt x="421" y="1765"/>
                  </a:lnTo>
                  <a:lnTo>
                    <a:pt x="408" y="1775"/>
                  </a:lnTo>
                  <a:lnTo>
                    <a:pt x="391" y="1767"/>
                  </a:lnTo>
                  <a:lnTo>
                    <a:pt x="391" y="1675"/>
                  </a:lnTo>
                  <a:lnTo>
                    <a:pt x="193" y="2110"/>
                  </a:lnTo>
                  <a:lnTo>
                    <a:pt x="185" y="2017"/>
                  </a:lnTo>
                  <a:lnTo>
                    <a:pt x="150" y="2021"/>
                  </a:lnTo>
                  <a:lnTo>
                    <a:pt x="100" y="2171"/>
                  </a:lnTo>
                  <a:lnTo>
                    <a:pt x="87" y="2200"/>
                  </a:lnTo>
                  <a:lnTo>
                    <a:pt x="83" y="2206"/>
                  </a:lnTo>
                  <a:lnTo>
                    <a:pt x="79" y="2206"/>
                  </a:lnTo>
                  <a:lnTo>
                    <a:pt x="77" y="2185"/>
                  </a:lnTo>
                  <a:lnTo>
                    <a:pt x="75" y="2156"/>
                  </a:lnTo>
                  <a:lnTo>
                    <a:pt x="70" y="2158"/>
                  </a:lnTo>
                  <a:lnTo>
                    <a:pt x="62" y="2171"/>
                  </a:lnTo>
                  <a:lnTo>
                    <a:pt x="50" y="2188"/>
                  </a:lnTo>
                  <a:lnTo>
                    <a:pt x="37" y="2200"/>
                  </a:lnTo>
                  <a:lnTo>
                    <a:pt x="22" y="2200"/>
                  </a:lnTo>
                  <a:lnTo>
                    <a:pt x="16" y="2192"/>
                  </a:lnTo>
                  <a:lnTo>
                    <a:pt x="12" y="2177"/>
                  </a:lnTo>
                  <a:lnTo>
                    <a:pt x="4" y="2127"/>
                  </a:lnTo>
                  <a:lnTo>
                    <a:pt x="0" y="2038"/>
                  </a:lnTo>
                  <a:lnTo>
                    <a:pt x="4" y="2013"/>
                  </a:lnTo>
                  <a:lnTo>
                    <a:pt x="14" y="1979"/>
                  </a:lnTo>
                  <a:lnTo>
                    <a:pt x="45" y="1913"/>
                  </a:lnTo>
                  <a:lnTo>
                    <a:pt x="77" y="1854"/>
                  </a:lnTo>
                  <a:lnTo>
                    <a:pt x="93" y="1827"/>
                  </a:lnTo>
                  <a:lnTo>
                    <a:pt x="110" y="1819"/>
                  </a:lnTo>
                  <a:lnTo>
                    <a:pt x="110" y="1731"/>
                  </a:lnTo>
                  <a:lnTo>
                    <a:pt x="112" y="1727"/>
                  </a:lnTo>
                  <a:lnTo>
                    <a:pt x="118" y="1723"/>
                  </a:lnTo>
                  <a:lnTo>
                    <a:pt x="129" y="1719"/>
                  </a:lnTo>
                  <a:lnTo>
                    <a:pt x="141" y="1711"/>
                  </a:lnTo>
                  <a:lnTo>
                    <a:pt x="118" y="1679"/>
                  </a:lnTo>
                  <a:lnTo>
                    <a:pt x="183" y="1511"/>
                  </a:lnTo>
                  <a:lnTo>
                    <a:pt x="198" y="1469"/>
                  </a:lnTo>
                  <a:lnTo>
                    <a:pt x="198" y="1471"/>
                  </a:lnTo>
                  <a:lnTo>
                    <a:pt x="204" y="1475"/>
                  </a:lnTo>
                  <a:lnTo>
                    <a:pt x="214" y="1467"/>
                  </a:lnTo>
                  <a:lnTo>
                    <a:pt x="227" y="1456"/>
                  </a:lnTo>
                  <a:lnTo>
                    <a:pt x="241" y="1440"/>
                  </a:lnTo>
                  <a:lnTo>
                    <a:pt x="252" y="1423"/>
                  </a:lnTo>
                  <a:lnTo>
                    <a:pt x="254" y="1415"/>
                  </a:lnTo>
                  <a:lnTo>
                    <a:pt x="252" y="1411"/>
                  </a:lnTo>
                  <a:lnTo>
                    <a:pt x="246" y="1404"/>
                  </a:lnTo>
                  <a:lnTo>
                    <a:pt x="239" y="1392"/>
                  </a:lnTo>
                  <a:lnTo>
                    <a:pt x="237" y="1375"/>
                  </a:lnTo>
                  <a:lnTo>
                    <a:pt x="243" y="1346"/>
                  </a:lnTo>
                  <a:lnTo>
                    <a:pt x="254" y="1300"/>
                  </a:lnTo>
                  <a:lnTo>
                    <a:pt x="379" y="928"/>
                  </a:lnTo>
                  <a:lnTo>
                    <a:pt x="439" y="760"/>
                  </a:lnTo>
                  <a:lnTo>
                    <a:pt x="471" y="685"/>
                  </a:lnTo>
                  <a:lnTo>
                    <a:pt x="506" y="587"/>
                  </a:lnTo>
                  <a:lnTo>
                    <a:pt x="448" y="612"/>
                  </a:lnTo>
                  <a:lnTo>
                    <a:pt x="379" y="643"/>
                  </a:lnTo>
                  <a:lnTo>
                    <a:pt x="344" y="654"/>
                  </a:lnTo>
                  <a:lnTo>
                    <a:pt x="312" y="662"/>
                  </a:lnTo>
                  <a:lnTo>
                    <a:pt x="300" y="662"/>
                  </a:lnTo>
                  <a:lnTo>
                    <a:pt x="287" y="658"/>
                  </a:lnTo>
                  <a:lnTo>
                    <a:pt x="277" y="654"/>
                  </a:lnTo>
                  <a:lnTo>
                    <a:pt x="268" y="643"/>
                  </a:lnTo>
                  <a:lnTo>
                    <a:pt x="260" y="608"/>
                  </a:lnTo>
                  <a:lnTo>
                    <a:pt x="158" y="599"/>
                  </a:lnTo>
                  <a:lnTo>
                    <a:pt x="150" y="562"/>
                  </a:lnTo>
                  <a:lnTo>
                    <a:pt x="135" y="545"/>
                  </a:lnTo>
                  <a:lnTo>
                    <a:pt x="118" y="539"/>
                  </a:lnTo>
                  <a:lnTo>
                    <a:pt x="102" y="539"/>
                  </a:lnTo>
                  <a:lnTo>
                    <a:pt x="87" y="539"/>
                  </a:lnTo>
                  <a:lnTo>
                    <a:pt x="81" y="537"/>
                  </a:lnTo>
                  <a:lnTo>
                    <a:pt x="77" y="531"/>
                  </a:lnTo>
                  <a:lnTo>
                    <a:pt x="70" y="512"/>
                  </a:lnTo>
                  <a:lnTo>
                    <a:pt x="70" y="472"/>
                  </a:lnTo>
                  <a:lnTo>
                    <a:pt x="77" y="429"/>
                  </a:lnTo>
                  <a:lnTo>
                    <a:pt x="81" y="416"/>
                  </a:lnTo>
                  <a:lnTo>
                    <a:pt x="100" y="416"/>
                  </a:lnTo>
                  <a:lnTo>
                    <a:pt x="137" y="408"/>
                  </a:lnTo>
                  <a:lnTo>
                    <a:pt x="158" y="397"/>
                  </a:lnTo>
                  <a:lnTo>
                    <a:pt x="164" y="391"/>
                  </a:lnTo>
                  <a:lnTo>
                    <a:pt x="170" y="383"/>
                  </a:lnTo>
                  <a:lnTo>
                    <a:pt x="181" y="368"/>
                  </a:lnTo>
                  <a:lnTo>
                    <a:pt x="187" y="349"/>
                  </a:lnTo>
                  <a:lnTo>
                    <a:pt x="200" y="314"/>
                  </a:lnTo>
                  <a:lnTo>
                    <a:pt x="212" y="297"/>
                  </a:lnTo>
                  <a:lnTo>
                    <a:pt x="229" y="285"/>
                  </a:lnTo>
                  <a:lnTo>
                    <a:pt x="369" y="222"/>
                  </a:lnTo>
                  <a:lnTo>
                    <a:pt x="562" y="149"/>
                  </a:lnTo>
                  <a:lnTo>
                    <a:pt x="746" y="87"/>
                  </a:lnTo>
                  <a:lnTo>
                    <a:pt x="813" y="68"/>
                  </a:lnTo>
                  <a:lnTo>
                    <a:pt x="856" y="58"/>
                  </a:lnTo>
                  <a:lnTo>
                    <a:pt x="948" y="54"/>
                  </a:lnTo>
                  <a:lnTo>
                    <a:pt x="1005" y="49"/>
                  </a:lnTo>
                  <a:lnTo>
                    <a:pt x="1027" y="45"/>
                  </a:lnTo>
                  <a:lnTo>
                    <a:pt x="1044" y="39"/>
                  </a:lnTo>
                  <a:lnTo>
                    <a:pt x="1080" y="10"/>
                  </a:lnTo>
                  <a:lnTo>
                    <a:pt x="1142" y="4"/>
                  </a:lnTo>
                  <a:lnTo>
                    <a:pt x="1192" y="0"/>
                  </a:lnTo>
                  <a:lnTo>
                    <a:pt x="1251" y="0"/>
                  </a:lnTo>
                  <a:lnTo>
                    <a:pt x="1315" y="6"/>
                  </a:lnTo>
                  <a:lnTo>
                    <a:pt x="1387" y="20"/>
                  </a:lnTo>
                  <a:lnTo>
                    <a:pt x="1458" y="43"/>
                  </a:lnTo>
                  <a:lnTo>
                    <a:pt x="1493" y="60"/>
                  </a:lnTo>
                  <a:lnTo>
                    <a:pt x="1529" y="79"/>
                  </a:lnTo>
                  <a:lnTo>
                    <a:pt x="1596" y="129"/>
                  </a:lnTo>
                  <a:lnTo>
                    <a:pt x="1652" y="179"/>
                  </a:lnTo>
                  <a:lnTo>
                    <a:pt x="1698" y="233"/>
                  </a:lnTo>
                  <a:lnTo>
                    <a:pt x="1733" y="289"/>
                  </a:lnTo>
                  <a:lnTo>
                    <a:pt x="1758" y="347"/>
                  </a:lnTo>
                  <a:lnTo>
                    <a:pt x="1769" y="408"/>
                  </a:lnTo>
                  <a:lnTo>
                    <a:pt x="1771" y="439"/>
                  </a:lnTo>
                  <a:lnTo>
                    <a:pt x="1771" y="468"/>
                  </a:lnTo>
                  <a:lnTo>
                    <a:pt x="1769" y="499"/>
                  </a:lnTo>
                  <a:lnTo>
                    <a:pt x="1760" y="531"/>
                  </a:lnTo>
                  <a:lnTo>
                    <a:pt x="1742" y="593"/>
                  </a:lnTo>
                  <a:lnTo>
                    <a:pt x="1710" y="654"/>
                  </a:lnTo>
                  <a:lnTo>
                    <a:pt x="1671" y="716"/>
                  </a:lnTo>
                  <a:lnTo>
                    <a:pt x="1644" y="747"/>
                  </a:lnTo>
                  <a:lnTo>
                    <a:pt x="1616" y="776"/>
                  </a:lnTo>
                  <a:lnTo>
                    <a:pt x="1587" y="806"/>
                  </a:lnTo>
                  <a:lnTo>
                    <a:pt x="1554" y="837"/>
                  </a:lnTo>
                  <a:lnTo>
                    <a:pt x="1481" y="895"/>
                  </a:lnTo>
                  <a:lnTo>
                    <a:pt x="1439" y="924"/>
                  </a:lnTo>
                  <a:lnTo>
                    <a:pt x="1395" y="951"/>
                  </a:lnTo>
                  <a:lnTo>
                    <a:pt x="1299" y="1006"/>
                  </a:lnTo>
                  <a:lnTo>
                    <a:pt x="1425" y="1128"/>
                  </a:lnTo>
                  <a:lnTo>
                    <a:pt x="1443" y="1151"/>
                  </a:lnTo>
                  <a:lnTo>
                    <a:pt x="1458" y="1174"/>
                  </a:lnTo>
                  <a:lnTo>
                    <a:pt x="1568" y="1309"/>
                  </a:lnTo>
                  <a:lnTo>
                    <a:pt x="1612" y="1356"/>
                  </a:lnTo>
                  <a:lnTo>
                    <a:pt x="1646" y="1390"/>
                  </a:lnTo>
                  <a:lnTo>
                    <a:pt x="1673" y="1413"/>
                  </a:lnTo>
                  <a:lnTo>
                    <a:pt x="1694" y="1427"/>
                  </a:lnTo>
                  <a:lnTo>
                    <a:pt x="1729" y="1444"/>
                  </a:lnTo>
                  <a:lnTo>
                    <a:pt x="1746" y="1452"/>
                  </a:lnTo>
                  <a:lnTo>
                    <a:pt x="1764" y="1465"/>
                  </a:lnTo>
                  <a:lnTo>
                    <a:pt x="1865" y="1583"/>
                  </a:lnTo>
                  <a:lnTo>
                    <a:pt x="2038" y="1719"/>
                  </a:lnTo>
                  <a:lnTo>
                    <a:pt x="2146" y="1827"/>
                  </a:lnTo>
                  <a:lnTo>
                    <a:pt x="2225" y="1906"/>
                  </a:lnTo>
                  <a:lnTo>
                    <a:pt x="2292" y="1963"/>
                  </a:lnTo>
                  <a:lnTo>
                    <a:pt x="2446" y="2085"/>
                  </a:lnTo>
                  <a:lnTo>
                    <a:pt x="2534" y="2156"/>
                  </a:lnTo>
                  <a:lnTo>
                    <a:pt x="2559" y="2179"/>
                  </a:lnTo>
                  <a:lnTo>
                    <a:pt x="2578" y="2198"/>
                  </a:lnTo>
                  <a:lnTo>
                    <a:pt x="2590" y="2217"/>
                  </a:lnTo>
                  <a:lnTo>
                    <a:pt x="2599" y="223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76800" y="5589720"/>
              <a:ext cx="503640" cy="748080"/>
            </a:xfrm>
            <a:custGeom>
              <a:avLst/>
              <a:gdLst/>
              <a:ahLst/>
              <a:rect l="0" t="0" r="r" b="b"/>
              <a:pathLst>
                <a:path w="1399" h="2078">
                  <a:moveTo>
                    <a:pt x="1385" y="140"/>
                  </a:moveTo>
                  <a:lnTo>
                    <a:pt x="1393" y="161"/>
                  </a:lnTo>
                  <a:lnTo>
                    <a:pt x="1397" y="184"/>
                  </a:lnTo>
                  <a:lnTo>
                    <a:pt x="1399" y="236"/>
                  </a:lnTo>
                  <a:lnTo>
                    <a:pt x="1397" y="301"/>
                  </a:lnTo>
                  <a:lnTo>
                    <a:pt x="1391" y="374"/>
                  </a:lnTo>
                  <a:lnTo>
                    <a:pt x="1372" y="560"/>
                  </a:lnTo>
                  <a:lnTo>
                    <a:pt x="1355" y="798"/>
                  </a:lnTo>
                  <a:lnTo>
                    <a:pt x="1345" y="1286"/>
                  </a:lnTo>
                  <a:lnTo>
                    <a:pt x="1343" y="1601"/>
                  </a:lnTo>
                  <a:lnTo>
                    <a:pt x="1337" y="1687"/>
                  </a:lnTo>
                  <a:lnTo>
                    <a:pt x="1332" y="1712"/>
                  </a:lnTo>
                  <a:lnTo>
                    <a:pt x="1326" y="1718"/>
                  </a:lnTo>
                  <a:lnTo>
                    <a:pt x="1322" y="1723"/>
                  </a:lnTo>
                  <a:lnTo>
                    <a:pt x="1318" y="1723"/>
                  </a:lnTo>
                  <a:lnTo>
                    <a:pt x="1311" y="1720"/>
                  </a:lnTo>
                  <a:lnTo>
                    <a:pt x="1297" y="1704"/>
                  </a:lnTo>
                  <a:lnTo>
                    <a:pt x="1259" y="1633"/>
                  </a:lnTo>
                  <a:lnTo>
                    <a:pt x="1226" y="1817"/>
                  </a:lnTo>
                  <a:lnTo>
                    <a:pt x="1207" y="1804"/>
                  </a:lnTo>
                  <a:lnTo>
                    <a:pt x="1194" y="1794"/>
                  </a:lnTo>
                  <a:lnTo>
                    <a:pt x="1190" y="1779"/>
                  </a:lnTo>
                  <a:lnTo>
                    <a:pt x="1186" y="1764"/>
                  </a:lnTo>
                  <a:lnTo>
                    <a:pt x="1186" y="1731"/>
                  </a:lnTo>
                  <a:lnTo>
                    <a:pt x="1186" y="1689"/>
                  </a:lnTo>
                  <a:lnTo>
                    <a:pt x="1146" y="1618"/>
                  </a:lnTo>
                  <a:lnTo>
                    <a:pt x="1142" y="1643"/>
                  </a:lnTo>
                  <a:lnTo>
                    <a:pt x="1136" y="1660"/>
                  </a:lnTo>
                  <a:lnTo>
                    <a:pt x="1129" y="1668"/>
                  </a:lnTo>
                  <a:lnTo>
                    <a:pt x="1121" y="1674"/>
                  </a:lnTo>
                  <a:lnTo>
                    <a:pt x="1115" y="1672"/>
                  </a:lnTo>
                  <a:lnTo>
                    <a:pt x="1106" y="1666"/>
                  </a:lnTo>
                  <a:lnTo>
                    <a:pt x="1094" y="1645"/>
                  </a:lnTo>
                  <a:lnTo>
                    <a:pt x="1071" y="1582"/>
                  </a:lnTo>
                  <a:lnTo>
                    <a:pt x="1065" y="1554"/>
                  </a:lnTo>
                  <a:lnTo>
                    <a:pt x="1062" y="1531"/>
                  </a:lnTo>
                  <a:lnTo>
                    <a:pt x="1079" y="1510"/>
                  </a:lnTo>
                  <a:lnTo>
                    <a:pt x="1079" y="1458"/>
                  </a:lnTo>
                  <a:lnTo>
                    <a:pt x="1054" y="1391"/>
                  </a:lnTo>
                  <a:lnTo>
                    <a:pt x="1054" y="1024"/>
                  </a:lnTo>
                  <a:lnTo>
                    <a:pt x="1045" y="964"/>
                  </a:lnTo>
                  <a:lnTo>
                    <a:pt x="835" y="1041"/>
                  </a:lnTo>
                  <a:lnTo>
                    <a:pt x="714" y="1083"/>
                  </a:lnTo>
                  <a:lnTo>
                    <a:pt x="653" y="1106"/>
                  </a:lnTo>
                  <a:lnTo>
                    <a:pt x="639" y="1114"/>
                  </a:lnTo>
                  <a:lnTo>
                    <a:pt x="630" y="1123"/>
                  </a:lnTo>
                  <a:lnTo>
                    <a:pt x="349" y="1720"/>
                  </a:lnTo>
                  <a:lnTo>
                    <a:pt x="255" y="1942"/>
                  </a:lnTo>
                  <a:lnTo>
                    <a:pt x="238" y="1982"/>
                  </a:lnTo>
                  <a:lnTo>
                    <a:pt x="200" y="2032"/>
                  </a:lnTo>
                  <a:lnTo>
                    <a:pt x="219" y="1924"/>
                  </a:lnTo>
                  <a:lnTo>
                    <a:pt x="228" y="1838"/>
                  </a:lnTo>
                  <a:lnTo>
                    <a:pt x="232" y="1794"/>
                  </a:lnTo>
                  <a:lnTo>
                    <a:pt x="198" y="1838"/>
                  </a:lnTo>
                  <a:lnTo>
                    <a:pt x="113" y="2032"/>
                  </a:lnTo>
                  <a:lnTo>
                    <a:pt x="96" y="2026"/>
                  </a:lnTo>
                  <a:lnTo>
                    <a:pt x="89" y="2020"/>
                  </a:lnTo>
                  <a:lnTo>
                    <a:pt x="87" y="2011"/>
                  </a:lnTo>
                  <a:lnTo>
                    <a:pt x="89" y="2003"/>
                  </a:lnTo>
                  <a:lnTo>
                    <a:pt x="104" y="1982"/>
                  </a:lnTo>
                  <a:lnTo>
                    <a:pt x="113" y="1968"/>
                  </a:lnTo>
                  <a:lnTo>
                    <a:pt x="115" y="1951"/>
                  </a:lnTo>
                  <a:lnTo>
                    <a:pt x="110" y="1924"/>
                  </a:lnTo>
                  <a:lnTo>
                    <a:pt x="104" y="1917"/>
                  </a:lnTo>
                  <a:lnTo>
                    <a:pt x="98" y="1928"/>
                  </a:lnTo>
                  <a:lnTo>
                    <a:pt x="89" y="1949"/>
                  </a:lnTo>
                  <a:lnTo>
                    <a:pt x="77" y="1980"/>
                  </a:lnTo>
                  <a:lnTo>
                    <a:pt x="60" y="2014"/>
                  </a:lnTo>
                  <a:lnTo>
                    <a:pt x="37" y="2047"/>
                  </a:lnTo>
                  <a:lnTo>
                    <a:pt x="23" y="2064"/>
                  </a:lnTo>
                  <a:lnTo>
                    <a:pt x="6" y="2078"/>
                  </a:lnTo>
                  <a:lnTo>
                    <a:pt x="0" y="1959"/>
                  </a:lnTo>
                  <a:lnTo>
                    <a:pt x="0" y="1934"/>
                  </a:lnTo>
                  <a:lnTo>
                    <a:pt x="2" y="1924"/>
                  </a:lnTo>
                  <a:lnTo>
                    <a:pt x="16" y="1909"/>
                  </a:lnTo>
                  <a:lnTo>
                    <a:pt x="31" y="1892"/>
                  </a:lnTo>
                  <a:lnTo>
                    <a:pt x="46" y="1852"/>
                  </a:lnTo>
                  <a:lnTo>
                    <a:pt x="50" y="1806"/>
                  </a:lnTo>
                  <a:lnTo>
                    <a:pt x="79" y="1781"/>
                  </a:lnTo>
                  <a:lnTo>
                    <a:pt x="92" y="1767"/>
                  </a:lnTo>
                  <a:lnTo>
                    <a:pt x="98" y="1754"/>
                  </a:lnTo>
                  <a:lnTo>
                    <a:pt x="104" y="1737"/>
                  </a:lnTo>
                  <a:lnTo>
                    <a:pt x="113" y="1708"/>
                  </a:lnTo>
                  <a:lnTo>
                    <a:pt x="129" y="1660"/>
                  </a:lnTo>
                  <a:lnTo>
                    <a:pt x="167" y="1586"/>
                  </a:lnTo>
                  <a:lnTo>
                    <a:pt x="223" y="1479"/>
                  </a:lnTo>
                  <a:lnTo>
                    <a:pt x="301" y="1340"/>
                  </a:lnTo>
                  <a:lnTo>
                    <a:pt x="343" y="1255"/>
                  </a:lnTo>
                  <a:lnTo>
                    <a:pt x="363" y="1209"/>
                  </a:lnTo>
                  <a:lnTo>
                    <a:pt x="373" y="1179"/>
                  </a:lnTo>
                  <a:lnTo>
                    <a:pt x="390" y="1148"/>
                  </a:lnTo>
                  <a:lnTo>
                    <a:pt x="345" y="1139"/>
                  </a:lnTo>
                  <a:lnTo>
                    <a:pt x="336" y="1135"/>
                  </a:lnTo>
                  <a:lnTo>
                    <a:pt x="334" y="1133"/>
                  </a:lnTo>
                  <a:lnTo>
                    <a:pt x="334" y="1123"/>
                  </a:lnTo>
                  <a:lnTo>
                    <a:pt x="334" y="1114"/>
                  </a:lnTo>
                  <a:lnTo>
                    <a:pt x="326" y="1100"/>
                  </a:lnTo>
                  <a:lnTo>
                    <a:pt x="320" y="1083"/>
                  </a:lnTo>
                  <a:lnTo>
                    <a:pt x="322" y="1075"/>
                  </a:lnTo>
                  <a:lnTo>
                    <a:pt x="328" y="1068"/>
                  </a:lnTo>
                  <a:lnTo>
                    <a:pt x="345" y="1060"/>
                  </a:lnTo>
                  <a:lnTo>
                    <a:pt x="367" y="1052"/>
                  </a:lnTo>
                  <a:lnTo>
                    <a:pt x="423" y="1037"/>
                  </a:lnTo>
                  <a:lnTo>
                    <a:pt x="450" y="1029"/>
                  </a:lnTo>
                  <a:lnTo>
                    <a:pt x="469" y="1016"/>
                  </a:lnTo>
                  <a:lnTo>
                    <a:pt x="522" y="924"/>
                  </a:lnTo>
                  <a:lnTo>
                    <a:pt x="522" y="880"/>
                  </a:lnTo>
                  <a:lnTo>
                    <a:pt x="566" y="836"/>
                  </a:lnTo>
                  <a:lnTo>
                    <a:pt x="574" y="825"/>
                  </a:lnTo>
                  <a:lnTo>
                    <a:pt x="574" y="817"/>
                  </a:lnTo>
                  <a:lnTo>
                    <a:pt x="574" y="796"/>
                  </a:lnTo>
                  <a:lnTo>
                    <a:pt x="578" y="779"/>
                  </a:lnTo>
                  <a:lnTo>
                    <a:pt x="586" y="750"/>
                  </a:lnTo>
                  <a:lnTo>
                    <a:pt x="658" y="641"/>
                  </a:lnTo>
                  <a:lnTo>
                    <a:pt x="683" y="593"/>
                  </a:lnTo>
                  <a:lnTo>
                    <a:pt x="699" y="572"/>
                  </a:lnTo>
                  <a:lnTo>
                    <a:pt x="722" y="541"/>
                  </a:lnTo>
                  <a:lnTo>
                    <a:pt x="758" y="483"/>
                  </a:lnTo>
                  <a:lnTo>
                    <a:pt x="762" y="456"/>
                  </a:lnTo>
                  <a:lnTo>
                    <a:pt x="785" y="443"/>
                  </a:lnTo>
                  <a:lnTo>
                    <a:pt x="848" y="299"/>
                  </a:lnTo>
                  <a:lnTo>
                    <a:pt x="869" y="263"/>
                  </a:lnTo>
                  <a:lnTo>
                    <a:pt x="882" y="242"/>
                  </a:lnTo>
                  <a:lnTo>
                    <a:pt x="902" y="224"/>
                  </a:lnTo>
                  <a:lnTo>
                    <a:pt x="913" y="211"/>
                  </a:lnTo>
                  <a:lnTo>
                    <a:pt x="928" y="188"/>
                  </a:lnTo>
                  <a:lnTo>
                    <a:pt x="944" y="157"/>
                  </a:lnTo>
                  <a:lnTo>
                    <a:pt x="955" y="129"/>
                  </a:lnTo>
                  <a:lnTo>
                    <a:pt x="963" y="90"/>
                  </a:lnTo>
                  <a:lnTo>
                    <a:pt x="967" y="81"/>
                  </a:lnTo>
                  <a:lnTo>
                    <a:pt x="976" y="73"/>
                  </a:lnTo>
                  <a:lnTo>
                    <a:pt x="988" y="69"/>
                  </a:lnTo>
                  <a:lnTo>
                    <a:pt x="1011" y="69"/>
                  </a:lnTo>
                  <a:lnTo>
                    <a:pt x="1024" y="69"/>
                  </a:lnTo>
                  <a:lnTo>
                    <a:pt x="1032" y="75"/>
                  </a:lnTo>
                  <a:lnTo>
                    <a:pt x="1034" y="79"/>
                  </a:lnTo>
                  <a:lnTo>
                    <a:pt x="1036" y="85"/>
                  </a:lnTo>
                  <a:lnTo>
                    <a:pt x="1038" y="104"/>
                  </a:lnTo>
                  <a:lnTo>
                    <a:pt x="1045" y="121"/>
                  </a:lnTo>
                  <a:lnTo>
                    <a:pt x="1050" y="125"/>
                  </a:lnTo>
                  <a:lnTo>
                    <a:pt x="1056" y="121"/>
                  </a:lnTo>
                  <a:lnTo>
                    <a:pt x="1067" y="90"/>
                  </a:lnTo>
                  <a:lnTo>
                    <a:pt x="1073" y="73"/>
                  </a:lnTo>
                  <a:lnTo>
                    <a:pt x="1083" y="56"/>
                  </a:lnTo>
                  <a:lnTo>
                    <a:pt x="1096" y="41"/>
                  </a:lnTo>
                  <a:lnTo>
                    <a:pt x="1111" y="33"/>
                  </a:lnTo>
                  <a:lnTo>
                    <a:pt x="1148" y="35"/>
                  </a:lnTo>
                  <a:lnTo>
                    <a:pt x="1171" y="39"/>
                  </a:lnTo>
                  <a:lnTo>
                    <a:pt x="1184" y="39"/>
                  </a:lnTo>
                  <a:lnTo>
                    <a:pt x="1201" y="35"/>
                  </a:lnTo>
                  <a:lnTo>
                    <a:pt x="1257" y="8"/>
                  </a:lnTo>
                  <a:lnTo>
                    <a:pt x="1270" y="2"/>
                  </a:lnTo>
                  <a:lnTo>
                    <a:pt x="1293" y="0"/>
                  </a:lnTo>
                  <a:lnTo>
                    <a:pt x="1322" y="2"/>
                  </a:lnTo>
                  <a:lnTo>
                    <a:pt x="1335" y="8"/>
                  </a:lnTo>
                  <a:lnTo>
                    <a:pt x="1343" y="16"/>
                  </a:lnTo>
                  <a:lnTo>
                    <a:pt x="1349" y="33"/>
                  </a:lnTo>
                  <a:lnTo>
                    <a:pt x="1349" y="52"/>
                  </a:lnTo>
                  <a:lnTo>
                    <a:pt x="1345" y="90"/>
                  </a:lnTo>
                  <a:lnTo>
                    <a:pt x="1347" y="108"/>
                  </a:lnTo>
                  <a:lnTo>
                    <a:pt x="1353" y="123"/>
                  </a:lnTo>
                  <a:lnTo>
                    <a:pt x="1358" y="129"/>
                  </a:lnTo>
                  <a:lnTo>
                    <a:pt x="1366" y="133"/>
                  </a:lnTo>
                  <a:lnTo>
                    <a:pt x="1385" y="14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02400" y="5607000"/>
              <a:ext cx="405000" cy="594000"/>
            </a:xfrm>
            <a:custGeom>
              <a:avLst/>
              <a:gdLst/>
              <a:ahLst/>
              <a:rect l="0" t="0" r="r" b="b"/>
              <a:pathLst>
                <a:path w="1125" h="1650">
                  <a:moveTo>
                    <a:pt x="980" y="207"/>
                  </a:moveTo>
                  <a:lnTo>
                    <a:pt x="988" y="234"/>
                  </a:lnTo>
                  <a:lnTo>
                    <a:pt x="986" y="253"/>
                  </a:lnTo>
                  <a:lnTo>
                    <a:pt x="980" y="267"/>
                  </a:lnTo>
                  <a:lnTo>
                    <a:pt x="966" y="278"/>
                  </a:lnTo>
                  <a:lnTo>
                    <a:pt x="920" y="294"/>
                  </a:lnTo>
                  <a:lnTo>
                    <a:pt x="856" y="309"/>
                  </a:lnTo>
                  <a:lnTo>
                    <a:pt x="771" y="334"/>
                  </a:lnTo>
                  <a:lnTo>
                    <a:pt x="721" y="353"/>
                  </a:lnTo>
                  <a:lnTo>
                    <a:pt x="667" y="378"/>
                  </a:lnTo>
                  <a:lnTo>
                    <a:pt x="609" y="411"/>
                  </a:lnTo>
                  <a:lnTo>
                    <a:pt x="546" y="450"/>
                  </a:lnTo>
                  <a:lnTo>
                    <a:pt x="482" y="500"/>
                  </a:lnTo>
                  <a:lnTo>
                    <a:pt x="414" y="560"/>
                  </a:lnTo>
                  <a:lnTo>
                    <a:pt x="378" y="600"/>
                  </a:lnTo>
                  <a:lnTo>
                    <a:pt x="345" y="643"/>
                  </a:lnTo>
                  <a:lnTo>
                    <a:pt x="316" y="689"/>
                  </a:lnTo>
                  <a:lnTo>
                    <a:pt x="291" y="739"/>
                  </a:lnTo>
                  <a:lnTo>
                    <a:pt x="273" y="791"/>
                  </a:lnTo>
                  <a:lnTo>
                    <a:pt x="254" y="842"/>
                  </a:lnTo>
                  <a:lnTo>
                    <a:pt x="244" y="896"/>
                  </a:lnTo>
                  <a:lnTo>
                    <a:pt x="236" y="948"/>
                  </a:lnTo>
                  <a:lnTo>
                    <a:pt x="231" y="1052"/>
                  </a:lnTo>
                  <a:lnTo>
                    <a:pt x="236" y="1099"/>
                  </a:lnTo>
                  <a:lnTo>
                    <a:pt x="244" y="1147"/>
                  </a:lnTo>
                  <a:lnTo>
                    <a:pt x="254" y="1189"/>
                  </a:lnTo>
                  <a:lnTo>
                    <a:pt x="271" y="1228"/>
                  </a:lnTo>
                  <a:lnTo>
                    <a:pt x="291" y="1263"/>
                  </a:lnTo>
                  <a:lnTo>
                    <a:pt x="314" y="1292"/>
                  </a:lnTo>
                  <a:lnTo>
                    <a:pt x="370" y="1346"/>
                  </a:lnTo>
                  <a:lnTo>
                    <a:pt x="426" y="1390"/>
                  </a:lnTo>
                  <a:lnTo>
                    <a:pt x="488" y="1427"/>
                  </a:lnTo>
                  <a:lnTo>
                    <a:pt x="550" y="1450"/>
                  </a:lnTo>
                  <a:lnTo>
                    <a:pt x="616" y="1461"/>
                  </a:lnTo>
                  <a:lnTo>
                    <a:pt x="649" y="1461"/>
                  </a:lnTo>
                  <a:lnTo>
                    <a:pt x="680" y="1454"/>
                  </a:lnTo>
                  <a:lnTo>
                    <a:pt x="713" y="1446"/>
                  </a:lnTo>
                  <a:lnTo>
                    <a:pt x="746" y="1432"/>
                  </a:lnTo>
                  <a:lnTo>
                    <a:pt x="781" y="1413"/>
                  </a:lnTo>
                  <a:lnTo>
                    <a:pt x="814" y="1388"/>
                  </a:lnTo>
                  <a:lnTo>
                    <a:pt x="796" y="1355"/>
                  </a:lnTo>
                  <a:lnTo>
                    <a:pt x="787" y="1330"/>
                  </a:lnTo>
                  <a:lnTo>
                    <a:pt x="781" y="1292"/>
                  </a:lnTo>
                  <a:lnTo>
                    <a:pt x="783" y="1238"/>
                  </a:lnTo>
                  <a:lnTo>
                    <a:pt x="792" y="1164"/>
                  </a:lnTo>
                  <a:lnTo>
                    <a:pt x="810" y="1066"/>
                  </a:lnTo>
                  <a:lnTo>
                    <a:pt x="841" y="939"/>
                  </a:lnTo>
                  <a:lnTo>
                    <a:pt x="736" y="958"/>
                  </a:lnTo>
                  <a:lnTo>
                    <a:pt x="651" y="979"/>
                  </a:lnTo>
                  <a:lnTo>
                    <a:pt x="587" y="1002"/>
                  </a:lnTo>
                  <a:lnTo>
                    <a:pt x="538" y="1022"/>
                  </a:lnTo>
                  <a:lnTo>
                    <a:pt x="480" y="1052"/>
                  </a:lnTo>
                  <a:lnTo>
                    <a:pt x="461" y="1058"/>
                  </a:lnTo>
                  <a:lnTo>
                    <a:pt x="445" y="1054"/>
                  </a:lnTo>
                  <a:lnTo>
                    <a:pt x="436" y="1047"/>
                  </a:lnTo>
                  <a:lnTo>
                    <a:pt x="434" y="1041"/>
                  </a:lnTo>
                  <a:lnTo>
                    <a:pt x="439" y="1037"/>
                  </a:lnTo>
                  <a:lnTo>
                    <a:pt x="445" y="1031"/>
                  </a:lnTo>
                  <a:lnTo>
                    <a:pt x="465" y="1020"/>
                  </a:lnTo>
                  <a:lnTo>
                    <a:pt x="484" y="1006"/>
                  </a:lnTo>
                  <a:lnTo>
                    <a:pt x="540" y="906"/>
                  </a:lnTo>
                  <a:lnTo>
                    <a:pt x="578" y="887"/>
                  </a:lnTo>
                  <a:lnTo>
                    <a:pt x="593" y="875"/>
                  </a:lnTo>
                  <a:lnTo>
                    <a:pt x="599" y="865"/>
                  </a:lnTo>
                  <a:lnTo>
                    <a:pt x="616" y="848"/>
                  </a:lnTo>
                  <a:lnTo>
                    <a:pt x="711" y="814"/>
                  </a:lnTo>
                  <a:lnTo>
                    <a:pt x="717" y="789"/>
                  </a:lnTo>
                  <a:lnTo>
                    <a:pt x="719" y="787"/>
                  </a:lnTo>
                  <a:lnTo>
                    <a:pt x="742" y="789"/>
                  </a:lnTo>
                  <a:lnTo>
                    <a:pt x="767" y="785"/>
                  </a:lnTo>
                  <a:lnTo>
                    <a:pt x="802" y="774"/>
                  </a:lnTo>
                  <a:lnTo>
                    <a:pt x="852" y="758"/>
                  </a:lnTo>
                  <a:lnTo>
                    <a:pt x="891" y="737"/>
                  </a:lnTo>
                  <a:lnTo>
                    <a:pt x="922" y="716"/>
                  </a:lnTo>
                  <a:lnTo>
                    <a:pt x="947" y="695"/>
                  </a:lnTo>
                  <a:lnTo>
                    <a:pt x="986" y="668"/>
                  </a:lnTo>
                  <a:lnTo>
                    <a:pt x="1001" y="662"/>
                  </a:lnTo>
                  <a:lnTo>
                    <a:pt x="1015" y="664"/>
                  </a:lnTo>
                  <a:lnTo>
                    <a:pt x="1030" y="675"/>
                  </a:lnTo>
                  <a:lnTo>
                    <a:pt x="1038" y="685"/>
                  </a:lnTo>
                  <a:lnTo>
                    <a:pt x="1044" y="704"/>
                  </a:lnTo>
                  <a:lnTo>
                    <a:pt x="1048" y="716"/>
                  </a:lnTo>
                  <a:lnTo>
                    <a:pt x="1055" y="718"/>
                  </a:lnTo>
                  <a:lnTo>
                    <a:pt x="1063" y="712"/>
                  </a:lnTo>
                  <a:lnTo>
                    <a:pt x="1094" y="687"/>
                  </a:lnTo>
                  <a:lnTo>
                    <a:pt x="1125" y="691"/>
                  </a:lnTo>
                  <a:lnTo>
                    <a:pt x="1115" y="812"/>
                  </a:lnTo>
                  <a:lnTo>
                    <a:pt x="1098" y="914"/>
                  </a:lnTo>
                  <a:lnTo>
                    <a:pt x="1055" y="1085"/>
                  </a:lnTo>
                  <a:lnTo>
                    <a:pt x="1036" y="1164"/>
                  </a:lnTo>
                  <a:lnTo>
                    <a:pt x="1021" y="1247"/>
                  </a:lnTo>
                  <a:lnTo>
                    <a:pt x="1013" y="1340"/>
                  </a:lnTo>
                  <a:lnTo>
                    <a:pt x="1015" y="1448"/>
                  </a:lnTo>
                  <a:lnTo>
                    <a:pt x="1028" y="1575"/>
                  </a:lnTo>
                  <a:lnTo>
                    <a:pt x="1034" y="1623"/>
                  </a:lnTo>
                  <a:lnTo>
                    <a:pt x="1032" y="1631"/>
                  </a:lnTo>
                  <a:lnTo>
                    <a:pt x="1028" y="1631"/>
                  </a:lnTo>
                  <a:lnTo>
                    <a:pt x="1007" y="1637"/>
                  </a:lnTo>
                  <a:lnTo>
                    <a:pt x="997" y="1614"/>
                  </a:lnTo>
                  <a:lnTo>
                    <a:pt x="986" y="1610"/>
                  </a:lnTo>
                  <a:lnTo>
                    <a:pt x="974" y="1614"/>
                  </a:lnTo>
                  <a:lnTo>
                    <a:pt x="968" y="1612"/>
                  </a:lnTo>
                  <a:lnTo>
                    <a:pt x="959" y="1606"/>
                  </a:lnTo>
                  <a:lnTo>
                    <a:pt x="941" y="1554"/>
                  </a:lnTo>
                  <a:lnTo>
                    <a:pt x="928" y="1548"/>
                  </a:lnTo>
                  <a:lnTo>
                    <a:pt x="914" y="1535"/>
                  </a:lnTo>
                  <a:lnTo>
                    <a:pt x="885" y="1511"/>
                  </a:lnTo>
                  <a:lnTo>
                    <a:pt x="858" y="1492"/>
                  </a:lnTo>
                  <a:lnTo>
                    <a:pt x="847" y="1488"/>
                  </a:lnTo>
                  <a:lnTo>
                    <a:pt x="837" y="1488"/>
                  </a:lnTo>
                  <a:lnTo>
                    <a:pt x="818" y="1504"/>
                  </a:lnTo>
                  <a:lnTo>
                    <a:pt x="804" y="1527"/>
                  </a:lnTo>
                  <a:lnTo>
                    <a:pt x="787" y="1552"/>
                  </a:lnTo>
                  <a:lnTo>
                    <a:pt x="767" y="1579"/>
                  </a:lnTo>
                  <a:lnTo>
                    <a:pt x="756" y="1592"/>
                  </a:lnTo>
                  <a:lnTo>
                    <a:pt x="740" y="1604"/>
                  </a:lnTo>
                  <a:lnTo>
                    <a:pt x="703" y="1625"/>
                  </a:lnTo>
                  <a:lnTo>
                    <a:pt x="653" y="1641"/>
                  </a:lnTo>
                  <a:lnTo>
                    <a:pt x="620" y="1648"/>
                  </a:lnTo>
                  <a:lnTo>
                    <a:pt x="584" y="1650"/>
                  </a:lnTo>
                  <a:lnTo>
                    <a:pt x="536" y="1648"/>
                  </a:lnTo>
                  <a:lnTo>
                    <a:pt x="484" y="1644"/>
                  </a:lnTo>
                  <a:lnTo>
                    <a:pt x="436" y="1633"/>
                  </a:lnTo>
                  <a:lnTo>
                    <a:pt x="387" y="1617"/>
                  </a:lnTo>
                  <a:lnTo>
                    <a:pt x="341" y="1598"/>
                  </a:lnTo>
                  <a:lnTo>
                    <a:pt x="294" y="1573"/>
                  </a:lnTo>
                  <a:lnTo>
                    <a:pt x="250" y="1542"/>
                  </a:lnTo>
                  <a:lnTo>
                    <a:pt x="209" y="1506"/>
                  </a:lnTo>
                  <a:lnTo>
                    <a:pt x="171" y="1469"/>
                  </a:lnTo>
                  <a:lnTo>
                    <a:pt x="134" y="1423"/>
                  </a:lnTo>
                  <a:lnTo>
                    <a:pt x="101" y="1376"/>
                  </a:lnTo>
                  <a:lnTo>
                    <a:pt x="72" y="1324"/>
                  </a:lnTo>
                  <a:lnTo>
                    <a:pt x="49" y="1265"/>
                  </a:lnTo>
                  <a:lnTo>
                    <a:pt x="28" y="1203"/>
                  </a:lnTo>
                  <a:lnTo>
                    <a:pt x="14" y="1137"/>
                  </a:lnTo>
                  <a:lnTo>
                    <a:pt x="4" y="1066"/>
                  </a:lnTo>
                  <a:lnTo>
                    <a:pt x="0" y="973"/>
                  </a:lnTo>
                  <a:lnTo>
                    <a:pt x="4" y="883"/>
                  </a:lnTo>
                  <a:lnTo>
                    <a:pt x="16" y="799"/>
                  </a:lnTo>
                  <a:lnTo>
                    <a:pt x="33" y="720"/>
                  </a:lnTo>
                  <a:lnTo>
                    <a:pt x="57" y="648"/>
                  </a:lnTo>
                  <a:lnTo>
                    <a:pt x="84" y="579"/>
                  </a:lnTo>
                  <a:lnTo>
                    <a:pt x="115" y="517"/>
                  </a:lnTo>
                  <a:lnTo>
                    <a:pt x="149" y="459"/>
                  </a:lnTo>
                  <a:lnTo>
                    <a:pt x="215" y="357"/>
                  </a:lnTo>
                  <a:lnTo>
                    <a:pt x="281" y="276"/>
                  </a:lnTo>
                  <a:lnTo>
                    <a:pt x="333" y="218"/>
                  </a:lnTo>
                  <a:lnTo>
                    <a:pt x="366" y="180"/>
                  </a:lnTo>
                  <a:lnTo>
                    <a:pt x="403" y="143"/>
                  </a:lnTo>
                  <a:lnTo>
                    <a:pt x="434" y="118"/>
                  </a:lnTo>
                  <a:lnTo>
                    <a:pt x="478" y="91"/>
                  </a:lnTo>
                  <a:lnTo>
                    <a:pt x="532" y="64"/>
                  </a:lnTo>
                  <a:lnTo>
                    <a:pt x="599" y="37"/>
                  </a:lnTo>
                  <a:lnTo>
                    <a:pt x="678" y="16"/>
                  </a:lnTo>
                  <a:lnTo>
                    <a:pt x="767" y="0"/>
                  </a:lnTo>
                  <a:lnTo>
                    <a:pt x="790" y="0"/>
                  </a:lnTo>
                  <a:lnTo>
                    <a:pt x="798" y="4"/>
                  </a:lnTo>
                  <a:lnTo>
                    <a:pt x="804" y="12"/>
                  </a:lnTo>
                  <a:lnTo>
                    <a:pt x="821" y="24"/>
                  </a:lnTo>
                  <a:lnTo>
                    <a:pt x="876" y="37"/>
                  </a:lnTo>
                  <a:lnTo>
                    <a:pt x="887" y="54"/>
                  </a:lnTo>
                  <a:lnTo>
                    <a:pt x="889" y="62"/>
                  </a:lnTo>
                  <a:lnTo>
                    <a:pt x="887" y="68"/>
                  </a:lnTo>
                  <a:lnTo>
                    <a:pt x="887" y="74"/>
                  </a:lnTo>
                  <a:lnTo>
                    <a:pt x="891" y="83"/>
                  </a:lnTo>
                  <a:lnTo>
                    <a:pt x="924" y="120"/>
                  </a:lnTo>
                  <a:lnTo>
                    <a:pt x="949" y="147"/>
                  </a:lnTo>
                  <a:lnTo>
                    <a:pt x="959" y="153"/>
                  </a:lnTo>
                  <a:lnTo>
                    <a:pt x="972" y="149"/>
                  </a:lnTo>
                  <a:lnTo>
                    <a:pt x="999" y="151"/>
                  </a:lnTo>
                  <a:lnTo>
                    <a:pt x="1007" y="153"/>
                  </a:lnTo>
                  <a:lnTo>
                    <a:pt x="1011" y="157"/>
                  </a:lnTo>
                  <a:lnTo>
                    <a:pt x="1013" y="166"/>
                  </a:lnTo>
                  <a:lnTo>
                    <a:pt x="1013" y="172"/>
                  </a:lnTo>
                  <a:lnTo>
                    <a:pt x="1003" y="191"/>
                  </a:lnTo>
                  <a:lnTo>
                    <a:pt x="995" y="199"/>
                  </a:lnTo>
                  <a:lnTo>
                    <a:pt x="980" y="20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13640" y="5740560"/>
              <a:ext cx="100440" cy="119520"/>
            </a:xfrm>
            <a:custGeom>
              <a:avLst/>
              <a:gdLst/>
              <a:ahLst/>
              <a:rect l="0" t="0" r="r" b="b"/>
              <a:pathLst>
                <a:path w="279" h="332">
                  <a:moveTo>
                    <a:pt x="0" y="332"/>
                  </a:moveTo>
                  <a:lnTo>
                    <a:pt x="26" y="322"/>
                  </a:lnTo>
                  <a:lnTo>
                    <a:pt x="50" y="308"/>
                  </a:lnTo>
                  <a:lnTo>
                    <a:pt x="104" y="274"/>
                  </a:lnTo>
                  <a:lnTo>
                    <a:pt x="132" y="258"/>
                  </a:lnTo>
                  <a:lnTo>
                    <a:pt x="163" y="247"/>
                  </a:lnTo>
                  <a:lnTo>
                    <a:pt x="193" y="240"/>
                  </a:lnTo>
                  <a:lnTo>
                    <a:pt x="225" y="242"/>
                  </a:lnTo>
                  <a:lnTo>
                    <a:pt x="231" y="216"/>
                  </a:lnTo>
                  <a:lnTo>
                    <a:pt x="231" y="196"/>
                  </a:lnTo>
                  <a:lnTo>
                    <a:pt x="229" y="172"/>
                  </a:lnTo>
                  <a:lnTo>
                    <a:pt x="227" y="156"/>
                  </a:lnTo>
                  <a:lnTo>
                    <a:pt x="237" y="132"/>
                  </a:lnTo>
                  <a:lnTo>
                    <a:pt x="247" y="115"/>
                  </a:lnTo>
                  <a:lnTo>
                    <a:pt x="255" y="97"/>
                  </a:lnTo>
                  <a:lnTo>
                    <a:pt x="279" y="14"/>
                  </a:lnTo>
                  <a:lnTo>
                    <a:pt x="249" y="14"/>
                  </a:lnTo>
                  <a:lnTo>
                    <a:pt x="249" y="10"/>
                  </a:lnTo>
                  <a:lnTo>
                    <a:pt x="245" y="0"/>
                  </a:lnTo>
                  <a:lnTo>
                    <a:pt x="235" y="6"/>
                  </a:lnTo>
                  <a:lnTo>
                    <a:pt x="212" y="28"/>
                  </a:lnTo>
                  <a:lnTo>
                    <a:pt x="147" y="111"/>
                  </a:lnTo>
                  <a:lnTo>
                    <a:pt x="68" y="222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50040" y="5743440"/>
              <a:ext cx="103680" cy="178200"/>
            </a:xfrm>
            <a:custGeom>
              <a:avLst/>
              <a:gdLst/>
              <a:ahLst/>
              <a:rect l="0" t="0" r="r" b="b"/>
              <a:pathLst>
                <a:path w="288" h="495">
                  <a:moveTo>
                    <a:pt x="0" y="495"/>
                  </a:moveTo>
                  <a:lnTo>
                    <a:pt x="16" y="493"/>
                  </a:lnTo>
                  <a:lnTo>
                    <a:pt x="22" y="491"/>
                  </a:lnTo>
                  <a:lnTo>
                    <a:pt x="26" y="487"/>
                  </a:lnTo>
                  <a:lnTo>
                    <a:pt x="30" y="479"/>
                  </a:lnTo>
                  <a:lnTo>
                    <a:pt x="34" y="469"/>
                  </a:lnTo>
                  <a:lnTo>
                    <a:pt x="38" y="459"/>
                  </a:lnTo>
                  <a:lnTo>
                    <a:pt x="48" y="446"/>
                  </a:lnTo>
                  <a:lnTo>
                    <a:pt x="66" y="436"/>
                  </a:lnTo>
                  <a:lnTo>
                    <a:pt x="97" y="426"/>
                  </a:lnTo>
                  <a:lnTo>
                    <a:pt x="137" y="418"/>
                  </a:lnTo>
                  <a:lnTo>
                    <a:pt x="143" y="416"/>
                  </a:lnTo>
                  <a:lnTo>
                    <a:pt x="147" y="410"/>
                  </a:lnTo>
                  <a:lnTo>
                    <a:pt x="179" y="389"/>
                  </a:lnTo>
                  <a:lnTo>
                    <a:pt x="282" y="335"/>
                  </a:lnTo>
                  <a:lnTo>
                    <a:pt x="288" y="0"/>
                  </a:lnTo>
                  <a:lnTo>
                    <a:pt x="262" y="38"/>
                  </a:lnTo>
                  <a:lnTo>
                    <a:pt x="258" y="36"/>
                  </a:lnTo>
                  <a:lnTo>
                    <a:pt x="246" y="38"/>
                  </a:lnTo>
                  <a:lnTo>
                    <a:pt x="228" y="34"/>
                  </a:lnTo>
                  <a:lnTo>
                    <a:pt x="4" y="453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070840" y="5951520"/>
              <a:ext cx="773640" cy="630720"/>
            </a:xfrm>
            <a:custGeom>
              <a:avLst/>
              <a:gdLst/>
              <a:ahLst/>
              <a:rect l="0" t="0" r="r" b="b"/>
              <a:pathLst>
                <a:path w="2149" h="1752">
                  <a:moveTo>
                    <a:pt x="45" y="0"/>
                  </a:moveTo>
                  <a:lnTo>
                    <a:pt x="77" y="8"/>
                  </a:lnTo>
                  <a:lnTo>
                    <a:pt x="129" y="26"/>
                  </a:lnTo>
                  <a:lnTo>
                    <a:pt x="181" y="47"/>
                  </a:lnTo>
                  <a:lnTo>
                    <a:pt x="206" y="62"/>
                  </a:lnTo>
                  <a:lnTo>
                    <a:pt x="379" y="224"/>
                  </a:lnTo>
                  <a:lnTo>
                    <a:pt x="464" y="306"/>
                  </a:lnTo>
                  <a:lnTo>
                    <a:pt x="734" y="585"/>
                  </a:lnTo>
                  <a:lnTo>
                    <a:pt x="905" y="720"/>
                  </a:lnTo>
                  <a:lnTo>
                    <a:pt x="922" y="739"/>
                  </a:lnTo>
                  <a:lnTo>
                    <a:pt x="935" y="758"/>
                  </a:lnTo>
                  <a:lnTo>
                    <a:pt x="962" y="795"/>
                  </a:lnTo>
                  <a:lnTo>
                    <a:pt x="983" y="814"/>
                  </a:lnTo>
                  <a:lnTo>
                    <a:pt x="1016" y="836"/>
                  </a:lnTo>
                  <a:lnTo>
                    <a:pt x="1062" y="861"/>
                  </a:lnTo>
                  <a:lnTo>
                    <a:pt x="1124" y="890"/>
                  </a:lnTo>
                  <a:lnTo>
                    <a:pt x="1126" y="890"/>
                  </a:lnTo>
                  <a:lnTo>
                    <a:pt x="1124" y="884"/>
                  </a:lnTo>
                  <a:lnTo>
                    <a:pt x="1126" y="884"/>
                  </a:lnTo>
                  <a:lnTo>
                    <a:pt x="1141" y="894"/>
                  </a:lnTo>
                  <a:lnTo>
                    <a:pt x="1231" y="973"/>
                  </a:lnTo>
                  <a:lnTo>
                    <a:pt x="1454" y="1177"/>
                  </a:lnTo>
                  <a:lnTo>
                    <a:pt x="1647" y="1360"/>
                  </a:lnTo>
                  <a:lnTo>
                    <a:pt x="1709" y="1402"/>
                  </a:lnTo>
                  <a:lnTo>
                    <a:pt x="1755" y="1427"/>
                  </a:lnTo>
                  <a:lnTo>
                    <a:pt x="1826" y="1460"/>
                  </a:lnTo>
                  <a:lnTo>
                    <a:pt x="1868" y="1485"/>
                  </a:lnTo>
                  <a:lnTo>
                    <a:pt x="1924" y="1526"/>
                  </a:lnTo>
                  <a:lnTo>
                    <a:pt x="2001" y="1592"/>
                  </a:lnTo>
                  <a:lnTo>
                    <a:pt x="2107" y="1690"/>
                  </a:lnTo>
                  <a:lnTo>
                    <a:pt x="2145" y="1729"/>
                  </a:lnTo>
                  <a:lnTo>
                    <a:pt x="2149" y="1742"/>
                  </a:lnTo>
                  <a:lnTo>
                    <a:pt x="2147" y="1746"/>
                  </a:lnTo>
                  <a:lnTo>
                    <a:pt x="2143" y="1746"/>
                  </a:lnTo>
                  <a:lnTo>
                    <a:pt x="2134" y="1752"/>
                  </a:lnTo>
                  <a:lnTo>
                    <a:pt x="2128" y="1752"/>
                  </a:lnTo>
                  <a:lnTo>
                    <a:pt x="2122" y="1750"/>
                  </a:lnTo>
                  <a:lnTo>
                    <a:pt x="2109" y="1740"/>
                  </a:lnTo>
                  <a:lnTo>
                    <a:pt x="2049" y="1690"/>
                  </a:lnTo>
                  <a:lnTo>
                    <a:pt x="1909" y="1582"/>
                  </a:lnTo>
                  <a:lnTo>
                    <a:pt x="1516" y="1291"/>
                  </a:lnTo>
                  <a:lnTo>
                    <a:pt x="1433" y="1233"/>
                  </a:lnTo>
                  <a:lnTo>
                    <a:pt x="1395" y="1208"/>
                  </a:lnTo>
                  <a:lnTo>
                    <a:pt x="1385" y="1204"/>
                  </a:lnTo>
                  <a:lnTo>
                    <a:pt x="1377" y="1204"/>
                  </a:lnTo>
                  <a:lnTo>
                    <a:pt x="1352" y="1187"/>
                  </a:lnTo>
                  <a:lnTo>
                    <a:pt x="1287" y="1141"/>
                  </a:lnTo>
                  <a:lnTo>
                    <a:pt x="1243" y="1108"/>
                  </a:lnTo>
                  <a:lnTo>
                    <a:pt x="1199" y="1069"/>
                  </a:lnTo>
                  <a:lnTo>
                    <a:pt x="1118" y="992"/>
                  </a:lnTo>
                  <a:lnTo>
                    <a:pt x="1076" y="955"/>
                  </a:lnTo>
                  <a:lnTo>
                    <a:pt x="1033" y="921"/>
                  </a:lnTo>
                  <a:lnTo>
                    <a:pt x="985" y="890"/>
                  </a:lnTo>
                  <a:lnTo>
                    <a:pt x="932" y="863"/>
                  </a:lnTo>
                  <a:lnTo>
                    <a:pt x="905" y="853"/>
                  </a:lnTo>
                  <a:lnTo>
                    <a:pt x="901" y="851"/>
                  </a:lnTo>
                  <a:lnTo>
                    <a:pt x="893" y="836"/>
                  </a:lnTo>
                  <a:lnTo>
                    <a:pt x="855" y="789"/>
                  </a:lnTo>
                  <a:lnTo>
                    <a:pt x="828" y="758"/>
                  </a:lnTo>
                  <a:lnTo>
                    <a:pt x="799" y="735"/>
                  </a:lnTo>
                  <a:lnTo>
                    <a:pt x="743" y="702"/>
                  </a:lnTo>
                  <a:lnTo>
                    <a:pt x="693" y="675"/>
                  </a:lnTo>
                  <a:lnTo>
                    <a:pt x="670" y="662"/>
                  </a:lnTo>
                  <a:lnTo>
                    <a:pt x="647" y="646"/>
                  </a:lnTo>
                  <a:lnTo>
                    <a:pt x="559" y="538"/>
                  </a:lnTo>
                  <a:lnTo>
                    <a:pt x="473" y="488"/>
                  </a:lnTo>
                  <a:lnTo>
                    <a:pt x="435" y="444"/>
                  </a:lnTo>
                  <a:lnTo>
                    <a:pt x="400" y="398"/>
                  </a:lnTo>
                  <a:lnTo>
                    <a:pt x="379" y="373"/>
                  </a:lnTo>
                  <a:lnTo>
                    <a:pt x="352" y="344"/>
                  </a:lnTo>
                  <a:lnTo>
                    <a:pt x="321" y="313"/>
                  </a:lnTo>
                  <a:lnTo>
                    <a:pt x="277" y="280"/>
                  </a:lnTo>
                  <a:lnTo>
                    <a:pt x="246" y="257"/>
                  </a:lnTo>
                  <a:lnTo>
                    <a:pt x="231" y="248"/>
                  </a:lnTo>
                  <a:lnTo>
                    <a:pt x="181" y="172"/>
                  </a:lnTo>
                  <a:lnTo>
                    <a:pt x="112" y="168"/>
                  </a:lnTo>
                  <a:lnTo>
                    <a:pt x="97" y="165"/>
                  </a:lnTo>
                  <a:lnTo>
                    <a:pt x="93" y="161"/>
                  </a:lnTo>
                  <a:lnTo>
                    <a:pt x="91" y="153"/>
                  </a:lnTo>
                  <a:lnTo>
                    <a:pt x="89" y="149"/>
                  </a:lnTo>
                  <a:lnTo>
                    <a:pt x="79" y="145"/>
                  </a:lnTo>
                  <a:lnTo>
                    <a:pt x="18" y="145"/>
                  </a:lnTo>
                  <a:lnTo>
                    <a:pt x="6" y="130"/>
                  </a:lnTo>
                  <a:lnTo>
                    <a:pt x="0" y="122"/>
                  </a:lnTo>
                  <a:lnTo>
                    <a:pt x="2" y="118"/>
                  </a:lnTo>
                  <a:lnTo>
                    <a:pt x="6" y="114"/>
                  </a:lnTo>
                  <a:lnTo>
                    <a:pt x="10" y="109"/>
                  </a:lnTo>
                  <a:lnTo>
                    <a:pt x="14" y="99"/>
                  </a:lnTo>
                  <a:lnTo>
                    <a:pt x="14" y="85"/>
                  </a:lnTo>
                  <a:lnTo>
                    <a:pt x="6" y="58"/>
                  </a:lnTo>
                  <a:lnTo>
                    <a:pt x="8" y="41"/>
                  </a:lnTo>
                  <a:lnTo>
                    <a:pt x="14" y="22"/>
                  </a:lnTo>
                  <a:lnTo>
                    <a:pt x="25" y="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067600" y="6024600"/>
              <a:ext cx="813240" cy="659160"/>
            </a:xfrm>
            <a:custGeom>
              <a:avLst/>
              <a:gdLst/>
              <a:ahLst/>
              <a:rect l="0" t="0" r="r" b="b"/>
              <a:pathLst>
                <a:path w="2259" h="1831">
                  <a:moveTo>
                    <a:pt x="0" y="47"/>
                  </a:moveTo>
                  <a:lnTo>
                    <a:pt x="2" y="29"/>
                  </a:lnTo>
                  <a:lnTo>
                    <a:pt x="8" y="14"/>
                  </a:lnTo>
                  <a:lnTo>
                    <a:pt x="20" y="4"/>
                  </a:lnTo>
                  <a:lnTo>
                    <a:pt x="39" y="0"/>
                  </a:lnTo>
                  <a:lnTo>
                    <a:pt x="70" y="6"/>
                  </a:lnTo>
                  <a:lnTo>
                    <a:pt x="110" y="20"/>
                  </a:lnTo>
                  <a:lnTo>
                    <a:pt x="162" y="49"/>
                  </a:lnTo>
                  <a:lnTo>
                    <a:pt x="227" y="91"/>
                  </a:lnTo>
                  <a:lnTo>
                    <a:pt x="266" y="116"/>
                  </a:lnTo>
                  <a:lnTo>
                    <a:pt x="306" y="135"/>
                  </a:lnTo>
                  <a:lnTo>
                    <a:pt x="325" y="149"/>
                  </a:lnTo>
                  <a:lnTo>
                    <a:pt x="341" y="162"/>
                  </a:lnTo>
                  <a:lnTo>
                    <a:pt x="358" y="180"/>
                  </a:lnTo>
                  <a:lnTo>
                    <a:pt x="368" y="199"/>
                  </a:lnTo>
                  <a:lnTo>
                    <a:pt x="373" y="222"/>
                  </a:lnTo>
                  <a:lnTo>
                    <a:pt x="381" y="255"/>
                  </a:lnTo>
                  <a:lnTo>
                    <a:pt x="396" y="280"/>
                  </a:lnTo>
                  <a:lnTo>
                    <a:pt x="416" y="313"/>
                  </a:lnTo>
                  <a:lnTo>
                    <a:pt x="452" y="353"/>
                  </a:lnTo>
                  <a:lnTo>
                    <a:pt x="500" y="400"/>
                  </a:lnTo>
                  <a:lnTo>
                    <a:pt x="576" y="467"/>
                  </a:lnTo>
                  <a:lnTo>
                    <a:pt x="620" y="504"/>
                  </a:lnTo>
                  <a:lnTo>
                    <a:pt x="641" y="521"/>
                  </a:lnTo>
                  <a:lnTo>
                    <a:pt x="651" y="525"/>
                  </a:lnTo>
                  <a:lnTo>
                    <a:pt x="661" y="544"/>
                  </a:lnTo>
                  <a:lnTo>
                    <a:pt x="716" y="631"/>
                  </a:lnTo>
                  <a:lnTo>
                    <a:pt x="734" y="658"/>
                  </a:lnTo>
                  <a:lnTo>
                    <a:pt x="749" y="668"/>
                  </a:lnTo>
                  <a:lnTo>
                    <a:pt x="759" y="670"/>
                  </a:lnTo>
                  <a:lnTo>
                    <a:pt x="768" y="666"/>
                  </a:lnTo>
                  <a:lnTo>
                    <a:pt x="778" y="664"/>
                  </a:lnTo>
                  <a:lnTo>
                    <a:pt x="793" y="662"/>
                  </a:lnTo>
                  <a:lnTo>
                    <a:pt x="814" y="670"/>
                  </a:lnTo>
                  <a:lnTo>
                    <a:pt x="843" y="691"/>
                  </a:lnTo>
                  <a:lnTo>
                    <a:pt x="884" y="731"/>
                  </a:lnTo>
                  <a:lnTo>
                    <a:pt x="909" y="758"/>
                  </a:lnTo>
                  <a:lnTo>
                    <a:pt x="920" y="776"/>
                  </a:lnTo>
                  <a:lnTo>
                    <a:pt x="924" y="789"/>
                  </a:lnTo>
                  <a:lnTo>
                    <a:pt x="924" y="799"/>
                  </a:lnTo>
                  <a:lnTo>
                    <a:pt x="928" y="810"/>
                  </a:lnTo>
                  <a:lnTo>
                    <a:pt x="943" y="822"/>
                  </a:lnTo>
                  <a:lnTo>
                    <a:pt x="970" y="845"/>
                  </a:lnTo>
                  <a:lnTo>
                    <a:pt x="1014" y="866"/>
                  </a:lnTo>
                  <a:lnTo>
                    <a:pt x="1028" y="876"/>
                  </a:lnTo>
                  <a:lnTo>
                    <a:pt x="1049" y="891"/>
                  </a:lnTo>
                  <a:lnTo>
                    <a:pt x="1101" y="937"/>
                  </a:lnTo>
                  <a:lnTo>
                    <a:pt x="1174" y="998"/>
                  </a:lnTo>
                  <a:lnTo>
                    <a:pt x="1220" y="1031"/>
                  </a:lnTo>
                  <a:lnTo>
                    <a:pt x="1268" y="1064"/>
                  </a:lnTo>
                  <a:lnTo>
                    <a:pt x="1320" y="1085"/>
                  </a:lnTo>
                  <a:lnTo>
                    <a:pt x="1341" y="1120"/>
                  </a:lnTo>
                  <a:lnTo>
                    <a:pt x="1351" y="1133"/>
                  </a:lnTo>
                  <a:lnTo>
                    <a:pt x="1364" y="1141"/>
                  </a:lnTo>
                  <a:lnTo>
                    <a:pt x="1418" y="1178"/>
                  </a:lnTo>
                  <a:lnTo>
                    <a:pt x="1527" y="1263"/>
                  </a:lnTo>
                  <a:lnTo>
                    <a:pt x="1558" y="1272"/>
                  </a:lnTo>
                  <a:lnTo>
                    <a:pt x="1577" y="1307"/>
                  </a:lnTo>
                  <a:lnTo>
                    <a:pt x="1602" y="1326"/>
                  </a:lnTo>
                  <a:lnTo>
                    <a:pt x="1654" y="1353"/>
                  </a:lnTo>
                  <a:lnTo>
                    <a:pt x="1753" y="1417"/>
                  </a:lnTo>
                  <a:lnTo>
                    <a:pt x="2259" y="1818"/>
                  </a:lnTo>
                  <a:lnTo>
                    <a:pt x="2251" y="1828"/>
                  </a:lnTo>
                  <a:lnTo>
                    <a:pt x="2238" y="1831"/>
                  </a:lnTo>
                  <a:lnTo>
                    <a:pt x="2220" y="1822"/>
                  </a:lnTo>
                  <a:lnTo>
                    <a:pt x="2186" y="1799"/>
                  </a:lnTo>
                  <a:lnTo>
                    <a:pt x="2063" y="1706"/>
                  </a:lnTo>
                  <a:lnTo>
                    <a:pt x="1826" y="1533"/>
                  </a:lnTo>
                  <a:lnTo>
                    <a:pt x="1256" y="1126"/>
                  </a:lnTo>
                  <a:lnTo>
                    <a:pt x="1093" y="1006"/>
                  </a:lnTo>
                  <a:lnTo>
                    <a:pt x="1085" y="998"/>
                  </a:lnTo>
                  <a:lnTo>
                    <a:pt x="1082" y="995"/>
                  </a:lnTo>
                  <a:lnTo>
                    <a:pt x="974" y="913"/>
                  </a:lnTo>
                  <a:lnTo>
                    <a:pt x="855" y="818"/>
                  </a:lnTo>
                  <a:lnTo>
                    <a:pt x="845" y="793"/>
                  </a:lnTo>
                  <a:lnTo>
                    <a:pt x="832" y="778"/>
                  </a:lnTo>
                  <a:lnTo>
                    <a:pt x="818" y="768"/>
                  </a:lnTo>
                  <a:lnTo>
                    <a:pt x="799" y="762"/>
                  </a:lnTo>
                  <a:lnTo>
                    <a:pt x="749" y="741"/>
                  </a:lnTo>
                  <a:lnTo>
                    <a:pt x="713" y="720"/>
                  </a:lnTo>
                  <a:lnTo>
                    <a:pt x="672" y="683"/>
                  </a:lnTo>
                  <a:lnTo>
                    <a:pt x="521" y="544"/>
                  </a:lnTo>
                  <a:lnTo>
                    <a:pt x="485" y="504"/>
                  </a:lnTo>
                  <a:lnTo>
                    <a:pt x="464" y="479"/>
                  </a:lnTo>
                  <a:lnTo>
                    <a:pt x="452" y="459"/>
                  </a:lnTo>
                  <a:lnTo>
                    <a:pt x="448" y="450"/>
                  </a:lnTo>
                  <a:lnTo>
                    <a:pt x="437" y="440"/>
                  </a:lnTo>
                  <a:lnTo>
                    <a:pt x="366" y="378"/>
                  </a:lnTo>
                  <a:lnTo>
                    <a:pt x="316" y="338"/>
                  </a:lnTo>
                  <a:lnTo>
                    <a:pt x="298" y="324"/>
                  </a:lnTo>
                  <a:lnTo>
                    <a:pt x="281" y="307"/>
                  </a:lnTo>
                  <a:lnTo>
                    <a:pt x="268" y="286"/>
                  </a:lnTo>
                  <a:lnTo>
                    <a:pt x="254" y="261"/>
                  </a:lnTo>
                  <a:lnTo>
                    <a:pt x="248" y="240"/>
                  </a:lnTo>
                  <a:lnTo>
                    <a:pt x="245" y="228"/>
                  </a:lnTo>
                  <a:lnTo>
                    <a:pt x="245" y="218"/>
                  </a:lnTo>
                  <a:lnTo>
                    <a:pt x="223" y="205"/>
                  </a:lnTo>
                  <a:lnTo>
                    <a:pt x="143" y="170"/>
                  </a:lnTo>
                  <a:lnTo>
                    <a:pt x="118" y="153"/>
                  </a:lnTo>
                  <a:lnTo>
                    <a:pt x="110" y="139"/>
                  </a:lnTo>
                  <a:lnTo>
                    <a:pt x="102" y="118"/>
                  </a:lnTo>
                  <a:lnTo>
                    <a:pt x="91" y="103"/>
                  </a:lnTo>
                  <a:lnTo>
                    <a:pt x="75" y="83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32600" y="6226200"/>
              <a:ext cx="41760" cy="79560"/>
            </a:xfrm>
            <a:custGeom>
              <a:avLst/>
              <a:gdLst/>
              <a:ahLst/>
              <a:rect l="0" t="0" r="r" b="b"/>
              <a:pathLst>
                <a:path w="116" h="221">
                  <a:moveTo>
                    <a:pt x="116" y="17"/>
                  </a:moveTo>
                  <a:lnTo>
                    <a:pt x="111" y="53"/>
                  </a:lnTo>
                  <a:lnTo>
                    <a:pt x="101" y="92"/>
                  </a:lnTo>
                  <a:lnTo>
                    <a:pt x="78" y="144"/>
                  </a:lnTo>
                  <a:lnTo>
                    <a:pt x="62" y="180"/>
                  </a:lnTo>
                  <a:lnTo>
                    <a:pt x="37" y="221"/>
                  </a:lnTo>
                  <a:lnTo>
                    <a:pt x="14" y="201"/>
                  </a:lnTo>
                  <a:lnTo>
                    <a:pt x="3" y="186"/>
                  </a:lnTo>
                  <a:lnTo>
                    <a:pt x="0" y="174"/>
                  </a:lnTo>
                  <a:lnTo>
                    <a:pt x="3" y="166"/>
                  </a:lnTo>
                  <a:lnTo>
                    <a:pt x="20" y="156"/>
                  </a:lnTo>
                  <a:lnTo>
                    <a:pt x="30" y="152"/>
                  </a:lnTo>
                  <a:lnTo>
                    <a:pt x="34" y="146"/>
                  </a:lnTo>
                  <a:lnTo>
                    <a:pt x="43" y="126"/>
                  </a:lnTo>
                  <a:lnTo>
                    <a:pt x="47" y="104"/>
                  </a:lnTo>
                  <a:lnTo>
                    <a:pt x="49" y="66"/>
                  </a:lnTo>
                  <a:lnTo>
                    <a:pt x="56" y="33"/>
                  </a:lnTo>
                  <a:lnTo>
                    <a:pt x="67" y="15"/>
                  </a:lnTo>
                  <a:lnTo>
                    <a:pt x="84" y="0"/>
                  </a:lnTo>
                  <a:lnTo>
                    <a:pt x="92" y="0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72480" y="6391440"/>
              <a:ext cx="87840" cy="66960"/>
            </a:xfrm>
            <a:custGeom>
              <a:avLst/>
              <a:gdLst/>
              <a:ahLst/>
              <a:rect l="0" t="0" r="r" b="b"/>
              <a:pathLst>
                <a:path w="244" h="186">
                  <a:moveTo>
                    <a:pt x="12" y="0"/>
                  </a:moveTo>
                  <a:lnTo>
                    <a:pt x="32" y="1"/>
                  </a:lnTo>
                  <a:lnTo>
                    <a:pt x="38" y="5"/>
                  </a:lnTo>
                  <a:lnTo>
                    <a:pt x="42" y="9"/>
                  </a:lnTo>
                  <a:lnTo>
                    <a:pt x="52" y="25"/>
                  </a:lnTo>
                  <a:lnTo>
                    <a:pt x="63" y="35"/>
                  </a:lnTo>
                  <a:lnTo>
                    <a:pt x="79" y="47"/>
                  </a:lnTo>
                  <a:lnTo>
                    <a:pt x="97" y="57"/>
                  </a:lnTo>
                  <a:lnTo>
                    <a:pt x="109" y="61"/>
                  </a:lnTo>
                  <a:lnTo>
                    <a:pt x="125" y="63"/>
                  </a:lnTo>
                  <a:lnTo>
                    <a:pt x="137" y="69"/>
                  </a:lnTo>
                  <a:lnTo>
                    <a:pt x="159" y="85"/>
                  </a:lnTo>
                  <a:lnTo>
                    <a:pt x="240" y="164"/>
                  </a:lnTo>
                  <a:lnTo>
                    <a:pt x="244" y="172"/>
                  </a:lnTo>
                  <a:lnTo>
                    <a:pt x="244" y="178"/>
                  </a:lnTo>
                  <a:lnTo>
                    <a:pt x="238" y="184"/>
                  </a:lnTo>
                  <a:lnTo>
                    <a:pt x="228" y="186"/>
                  </a:lnTo>
                  <a:lnTo>
                    <a:pt x="210" y="182"/>
                  </a:lnTo>
                  <a:lnTo>
                    <a:pt x="186" y="170"/>
                  </a:lnTo>
                  <a:lnTo>
                    <a:pt x="151" y="148"/>
                  </a:lnTo>
                  <a:lnTo>
                    <a:pt x="109" y="114"/>
                  </a:lnTo>
                  <a:lnTo>
                    <a:pt x="63" y="79"/>
                  </a:lnTo>
                  <a:lnTo>
                    <a:pt x="24" y="55"/>
                  </a:lnTo>
                  <a:lnTo>
                    <a:pt x="10" y="43"/>
                  </a:lnTo>
                  <a:lnTo>
                    <a:pt x="2" y="31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872560" y="6461280"/>
              <a:ext cx="125640" cy="73440"/>
            </a:xfrm>
            <a:custGeom>
              <a:avLst/>
              <a:gdLst/>
              <a:ahLst/>
              <a:rect l="0" t="0" r="r" b="b"/>
              <a:pathLst>
                <a:path w="349" h="204">
                  <a:moveTo>
                    <a:pt x="10" y="0"/>
                  </a:moveTo>
                  <a:lnTo>
                    <a:pt x="24" y="3"/>
                  </a:lnTo>
                  <a:lnTo>
                    <a:pt x="64" y="27"/>
                  </a:lnTo>
                  <a:lnTo>
                    <a:pt x="161" y="86"/>
                  </a:lnTo>
                  <a:lnTo>
                    <a:pt x="337" y="189"/>
                  </a:lnTo>
                  <a:lnTo>
                    <a:pt x="349" y="197"/>
                  </a:lnTo>
                  <a:lnTo>
                    <a:pt x="349" y="200"/>
                  </a:lnTo>
                  <a:lnTo>
                    <a:pt x="343" y="202"/>
                  </a:lnTo>
                  <a:lnTo>
                    <a:pt x="331" y="204"/>
                  </a:lnTo>
                  <a:lnTo>
                    <a:pt x="307" y="198"/>
                  </a:lnTo>
                  <a:lnTo>
                    <a:pt x="266" y="185"/>
                  </a:lnTo>
                  <a:lnTo>
                    <a:pt x="208" y="158"/>
                  </a:lnTo>
                  <a:lnTo>
                    <a:pt x="126" y="118"/>
                  </a:lnTo>
                  <a:lnTo>
                    <a:pt x="18" y="57"/>
                  </a:lnTo>
                  <a:lnTo>
                    <a:pt x="10" y="46"/>
                  </a:lnTo>
                  <a:lnTo>
                    <a:pt x="2" y="29"/>
                  </a:lnTo>
                  <a:lnTo>
                    <a:pt x="0" y="9"/>
                  </a:lnTo>
                  <a:lnTo>
                    <a:pt x="2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832960" y="6504120"/>
              <a:ext cx="81360" cy="51120"/>
            </a:xfrm>
            <a:custGeom>
              <a:avLst/>
              <a:gdLst/>
              <a:ahLst/>
              <a:rect l="0" t="0" r="r" b="b"/>
              <a:pathLst>
                <a:path w="226" h="142">
                  <a:moveTo>
                    <a:pt x="7" y="0"/>
                  </a:moveTo>
                  <a:lnTo>
                    <a:pt x="19" y="0"/>
                  </a:lnTo>
                  <a:lnTo>
                    <a:pt x="41" y="9"/>
                  </a:lnTo>
                  <a:lnTo>
                    <a:pt x="105" y="43"/>
                  </a:lnTo>
                  <a:lnTo>
                    <a:pt x="175" y="88"/>
                  </a:lnTo>
                  <a:lnTo>
                    <a:pt x="205" y="109"/>
                  </a:lnTo>
                  <a:lnTo>
                    <a:pt x="226" y="126"/>
                  </a:lnTo>
                  <a:lnTo>
                    <a:pt x="226" y="140"/>
                  </a:lnTo>
                  <a:lnTo>
                    <a:pt x="219" y="142"/>
                  </a:lnTo>
                  <a:lnTo>
                    <a:pt x="201" y="140"/>
                  </a:lnTo>
                  <a:lnTo>
                    <a:pt x="133" y="111"/>
                  </a:lnTo>
                  <a:lnTo>
                    <a:pt x="73" y="79"/>
                  </a:lnTo>
                  <a:lnTo>
                    <a:pt x="39" y="57"/>
                  </a:lnTo>
                  <a:lnTo>
                    <a:pt x="3" y="30"/>
                  </a:lnTo>
                  <a:lnTo>
                    <a:pt x="0" y="11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858160" y="6591240"/>
              <a:ext cx="28800" cy="19440"/>
            </a:xfrm>
            <a:custGeom>
              <a:avLst/>
              <a:gdLst/>
              <a:ahLst/>
              <a:rect l="0" t="0" r="r" b="b"/>
              <a:pathLst>
                <a:path w="80" h="54">
                  <a:moveTo>
                    <a:pt x="0" y="18"/>
                  </a:moveTo>
                  <a:lnTo>
                    <a:pt x="7" y="6"/>
                  </a:lnTo>
                  <a:lnTo>
                    <a:pt x="12" y="3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41" y="6"/>
                  </a:lnTo>
                  <a:lnTo>
                    <a:pt x="58" y="19"/>
                  </a:lnTo>
                  <a:lnTo>
                    <a:pt x="78" y="41"/>
                  </a:lnTo>
                  <a:lnTo>
                    <a:pt x="80" y="49"/>
                  </a:lnTo>
                  <a:lnTo>
                    <a:pt x="78" y="54"/>
                  </a:lnTo>
                  <a:lnTo>
                    <a:pt x="63" y="54"/>
                  </a:lnTo>
                  <a:lnTo>
                    <a:pt x="35" y="4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26600" y="5640480"/>
              <a:ext cx="27360" cy="33840"/>
            </a:xfrm>
            <a:custGeom>
              <a:avLst/>
              <a:gdLst/>
              <a:ahLst/>
              <a:rect l="0" t="0" r="r" b="b"/>
              <a:pathLst>
                <a:path w="76" h="94">
                  <a:moveTo>
                    <a:pt x="25" y="94"/>
                  </a:moveTo>
                  <a:lnTo>
                    <a:pt x="25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6" y="0"/>
                  </a:lnTo>
                  <a:lnTo>
                    <a:pt x="76" y="22"/>
                  </a:lnTo>
                  <a:lnTo>
                    <a:pt x="49" y="22"/>
                  </a:lnTo>
                  <a:lnTo>
                    <a:pt x="49" y="94"/>
                  </a:lnTo>
                  <a:lnTo>
                    <a:pt x="25" y="94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64400" y="5640480"/>
              <a:ext cx="44640" cy="36720"/>
            </a:xfrm>
            <a:custGeom>
              <a:avLst/>
              <a:gdLst/>
              <a:ahLst/>
              <a:rect l="0" t="0" r="r" b="b"/>
              <a:pathLst>
                <a:path w="124" h="102">
                  <a:moveTo>
                    <a:pt x="6" y="0"/>
                  </a:moveTo>
                  <a:lnTo>
                    <a:pt x="14" y="0"/>
                  </a:lnTo>
                  <a:lnTo>
                    <a:pt x="18" y="2"/>
                  </a:lnTo>
                  <a:lnTo>
                    <a:pt x="61" y="67"/>
                  </a:lnTo>
                  <a:lnTo>
                    <a:pt x="105" y="4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2" y="10"/>
                  </a:lnTo>
                  <a:lnTo>
                    <a:pt x="124" y="14"/>
                  </a:lnTo>
                  <a:lnTo>
                    <a:pt x="124" y="102"/>
                  </a:lnTo>
                  <a:lnTo>
                    <a:pt x="103" y="102"/>
                  </a:lnTo>
                  <a:lnTo>
                    <a:pt x="103" y="34"/>
                  </a:lnTo>
                  <a:lnTo>
                    <a:pt x="61" y="100"/>
                  </a:lnTo>
                  <a:lnTo>
                    <a:pt x="20" y="34"/>
                  </a:lnTo>
                  <a:lnTo>
                    <a:pt x="20" y="100"/>
                  </a:lnTo>
                  <a:lnTo>
                    <a:pt x="0" y="10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564400" y="5640480"/>
              <a:ext cx="44640" cy="36720"/>
            </a:xfrm>
            <a:custGeom>
              <a:avLst/>
              <a:gdLst/>
              <a:ahLst/>
              <a:rect l="0" t="0" r="r" b="b"/>
              <a:pathLst>
                <a:path w="124" h="102">
                  <a:moveTo>
                    <a:pt x="6" y="0"/>
                  </a:moveTo>
                  <a:lnTo>
                    <a:pt x="14" y="0"/>
                  </a:lnTo>
                  <a:lnTo>
                    <a:pt x="18" y="2"/>
                  </a:lnTo>
                  <a:lnTo>
                    <a:pt x="61" y="67"/>
                  </a:lnTo>
                  <a:lnTo>
                    <a:pt x="105" y="4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2" y="10"/>
                  </a:lnTo>
                  <a:lnTo>
                    <a:pt x="124" y="14"/>
                  </a:lnTo>
                  <a:lnTo>
                    <a:pt x="124" y="102"/>
                  </a:lnTo>
                  <a:lnTo>
                    <a:pt x="103" y="102"/>
                  </a:lnTo>
                  <a:lnTo>
                    <a:pt x="103" y="34"/>
                  </a:lnTo>
                  <a:lnTo>
                    <a:pt x="61" y="100"/>
                  </a:lnTo>
                  <a:lnTo>
                    <a:pt x="20" y="34"/>
                  </a:lnTo>
                  <a:lnTo>
                    <a:pt x="20" y="100"/>
                  </a:lnTo>
                  <a:lnTo>
                    <a:pt x="0" y="10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1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762120" y="30492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Jagua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-Marketing Opportunitie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71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 second spots featuring 3rd party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Advert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71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S “Donut 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71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istmas ‘94 Advertising Co-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71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l T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71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guar Road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71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dio and Television Promo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1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762120" y="30492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Jagua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$H, CA$H, CA$H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 algn="ctr">
              <a:lnSpc>
                <a:spcPct val="90000"/>
              </a:lnSpc>
              <a:spcBef>
                <a:spcPts val="72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ari’s licensee program clearly affords bigger margins, greater profitability and strengthened cash flow to Jaguar license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5589720" y="5483160"/>
            <a:ext cx="3408480" cy="1200600"/>
            <a:chOff x="5589720" y="5483160"/>
            <a:chExt cx="3408480" cy="1200600"/>
          </a:xfrm>
        </p:grpSpPr>
        <p:sp>
          <p:nvSpPr>
            <p:cNvPr id="652" name=""/>
            <p:cNvSpPr/>
            <p:nvPr/>
          </p:nvSpPr>
          <p:spPr>
            <a:xfrm>
              <a:off x="5589720" y="5483160"/>
              <a:ext cx="973440" cy="868680"/>
            </a:xfrm>
            <a:custGeom>
              <a:avLst/>
              <a:gdLst/>
              <a:ahLst/>
              <a:rect l="0" t="0" r="r" b="b"/>
              <a:pathLst>
                <a:path w="2704" h="2413">
                  <a:moveTo>
                    <a:pt x="2704" y="45"/>
                  </a:moveTo>
                  <a:lnTo>
                    <a:pt x="2691" y="52"/>
                  </a:lnTo>
                  <a:lnTo>
                    <a:pt x="2674" y="56"/>
                  </a:lnTo>
                  <a:lnTo>
                    <a:pt x="2631" y="66"/>
                  </a:lnTo>
                  <a:lnTo>
                    <a:pt x="2518" y="83"/>
                  </a:lnTo>
                  <a:lnTo>
                    <a:pt x="2399" y="101"/>
                  </a:lnTo>
                  <a:lnTo>
                    <a:pt x="2308" y="118"/>
                  </a:lnTo>
                  <a:lnTo>
                    <a:pt x="2314" y="137"/>
                  </a:lnTo>
                  <a:lnTo>
                    <a:pt x="2314" y="141"/>
                  </a:lnTo>
                  <a:lnTo>
                    <a:pt x="2318" y="143"/>
                  </a:lnTo>
                  <a:lnTo>
                    <a:pt x="2341" y="147"/>
                  </a:lnTo>
                  <a:lnTo>
                    <a:pt x="2395" y="154"/>
                  </a:lnTo>
                  <a:lnTo>
                    <a:pt x="2393" y="178"/>
                  </a:lnTo>
                  <a:lnTo>
                    <a:pt x="2343" y="216"/>
                  </a:lnTo>
                  <a:lnTo>
                    <a:pt x="2331" y="226"/>
                  </a:lnTo>
                  <a:lnTo>
                    <a:pt x="2326" y="233"/>
                  </a:lnTo>
                  <a:lnTo>
                    <a:pt x="2329" y="241"/>
                  </a:lnTo>
                  <a:lnTo>
                    <a:pt x="2331" y="245"/>
                  </a:lnTo>
                  <a:lnTo>
                    <a:pt x="2326" y="249"/>
                  </a:lnTo>
                  <a:lnTo>
                    <a:pt x="2312" y="264"/>
                  </a:lnTo>
                  <a:lnTo>
                    <a:pt x="2291" y="272"/>
                  </a:lnTo>
                  <a:lnTo>
                    <a:pt x="2272" y="280"/>
                  </a:lnTo>
                  <a:lnTo>
                    <a:pt x="2251" y="283"/>
                  </a:lnTo>
                  <a:lnTo>
                    <a:pt x="2212" y="291"/>
                  </a:lnTo>
                  <a:lnTo>
                    <a:pt x="2183" y="301"/>
                  </a:lnTo>
                  <a:lnTo>
                    <a:pt x="2170" y="314"/>
                  </a:lnTo>
                  <a:lnTo>
                    <a:pt x="2168" y="320"/>
                  </a:lnTo>
                  <a:lnTo>
                    <a:pt x="2168" y="326"/>
                  </a:lnTo>
                  <a:lnTo>
                    <a:pt x="2164" y="332"/>
                  </a:lnTo>
                  <a:lnTo>
                    <a:pt x="2147" y="343"/>
                  </a:lnTo>
                  <a:lnTo>
                    <a:pt x="2112" y="355"/>
                  </a:lnTo>
                  <a:lnTo>
                    <a:pt x="1949" y="403"/>
                  </a:lnTo>
                  <a:lnTo>
                    <a:pt x="1941" y="407"/>
                  </a:lnTo>
                  <a:lnTo>
                    <a:pt x="1933" y="416"/>
                  </a:lnTo>
                  <a:lnTo>
                    <a:pt x="1918" y="437"/>
                  </a:lnTo>
                  <a:lnTo>
                    <a:pt x="1901" y="459"/>
                  </a:lnTo>
                  <a:lnTo>
                    <a:pt x="1893" y="472"/>
                  </a:lnTo>
                  <a:lnTo>
                    <a:pt x="1882" y="476"/>
                  </a:lnTo>
                  <a:lnTo>
                    <a:pt x="1868" y="480"/>
                  </a:lnTo>
                  <a:lnTo>
                    <a:pt x="1845" y="482"/>
                  </a:lnTo>
                  <a:lnTo>
                    <a:pt x="1803" y="493"/>
                  </a:lnTo>
                  <a:lnTo>
                    <a:pt x="1739" y="524"/>
                  </a:lnTo>
                  <a:lnTo>
                    <a:pt x="1714" y="653"/>
                  </a:lnTo>
                  <a:lnTo>
                    <a:pt x="1687" y="776"/>
                  </a:lnTo>
                  <a:lnTo>
                    <a:pt x="1657" y="896"/>
                  </a:lnTo>
                  <a:lnTo>
                    <a:pt x="1626" y="1013"/>
                  </a:lnTo>
                  <a:lnTo>
                    <a:pt x="1559" y="1233"/>
                  </a:lnTo>
                  <a:lnTo>
                    <a:pt x="1489" y="1428"/>
                  </a:lnTo>
                  <a:lnTo>
                    <a:pt x="1453" y="1520"/>
                  </a:lnTo>
                  <a:lnTo>
                    <a:pt x="1418" y="1605"/>
                  </a:lnTo>
                  <a:lnTo>
                    <a:pt x="1346" y="1757"/>
                  </a:lnTo>
                  <a:lnTo>
                    <a:pt x="1310" y="1822"/>
                  </a:lnTo>
                  <a:lnTo>
                    <a:pt x="1277" y="1880"/>
                  </a:lnTo>
                  <a:lnTo>
                    <a:pt x="1244" y="1932"/>
                  </a:lnTo>
                  <a:lnTo>
                    <a:pt x="1212" y="1976"/>
                  </a:lnTo>
                  <a:lnTo>
                    <a:pt x="1125" y="2084"/>
                  </a:lnTo>
                  <a:lnTo>
                    <a:pt x="1085" y="2132"/>
                  </a:lnTo>
                  <a:lnTo>
                    <a:pt x="1044" y="2173"/>
                  </a:lnTo>
                  <a:lnTo>
                    <a:pt x="1006" y="2213"/>
                  </a:lnTo>
                  <a:lnTo>
                    <a:pt x="969" y="2246"/>
                  </a:lnTo>
                  <a:lnTo>
                    <a:pt x="933" y="2277"/>
                  </a:lnTo>
                  <a:lnTo>
                    <a:pt x="896" y="2306"/>
                  </a:lnTo>
                  <a:lnTo>
                    <a:pt x="862" y="2331"/>
                  </a:lnTo>
                  <a:lnTo>
                    <a:pt x="829" y="2350"/>
                  </a:lnTo>
                  <a:lnTo>
                    <a:pt x="762" y="2381"/>
                  </a:lnTo>
                  <a:lnTo>
                    <a:pt x="698" y="2402"/>
                  </a:lnTo>
                  <a:lnTo>
                    <a:pt x="633" y="2411"/>
                  </a:lnTo>
                  <a:lnTo>
                    <a:pt x="585" y="2413"/>
                  </a:lnTo>
                  <a:lnTo>
                    <a:pt x="535" y="2406"/>
                  </a:lnTo>
                  <a:lnTo>
                    <a:pt x="487" y="2396"/>
                  </a:lnTo>
                  <a:lnTo>
                    <a:pt x="437" y="2383"/>
                  </a:lnTo>
                  <a:lnTo>
                    <a:pt x="391" y="2367"/>
                  </a:lnTo>
                  <a:lnTo>
                    <a:pt x="343" y="2346"/>
                  </a:lnTo>
                  <a:lnTo>
                    <a:pt x="256" y="2302"/>
                  </a:lnTo>
                  <a:lnTo>
                    <a:pt x="181" y="2259"/>
                  </a:lnTo>
                  <a:lnTo>
                    <a:pt x="120" y="2217"/>
                  </a:lnTo>
                  <a:lnTo>
                    <a:pt x="81" y="2186"/>
                  </a:lnTo>
                  <a:lnTo>
                    <a:pt x="64" y="2171"/>
                  </a:lnTo>
                  <a:lnTo>
                    <a:pt x="33" y="2127"/>
                  </a:lnTo>
                  <a:lnTo>
                    <a:pt x="12" y="2092"/>
                  </a:lnTo>
                  <a:lnTo>
                    <a:pt x="2" y="2065"/>
                  </a:lnTo>
                  <a:lnTo>
                    <a:pt x="0" y="2044"/>
                  </a:lnTo>
                  <a:lnTo>
                    <a:pt x="0" y="2032"/>
                  </a:lnTo>
                  <a:lnTo>
                    <a:pt x="4" y="2023"/>
                  </a:lnTo>
                  <a:lnTo>
                    <a:pt x="16" y="2015"/>
                  </a:lnTo>
                  <a:lnTo>
                    <a:pt x="31" y="2015"/>
                  </a:lnTo>
                  <a:lnTo>
                    <a:pt x="39" y="2019"/>
                  </a:lnTo>
                  <a:lnTo>
                    <a:pt x="47" y="2026"/>
                  </a:lnTo>
                  <a:lnTo>
                    <a:pt x="72" y="2053"/>
                  </a:lnTo>
                  <a:lnTo>
                    <a:pt x="120" y="2096"/>
                  </a:lnTo>
                  <a:lnTo>
                    <a:pt x="177" y="2140"/>
                  </a:lnTo>
                  <a:lnTo>
                    <a:pt x="233" y="2173"/>
                  </a:lnTo>
                  <a:lnTo>
                    <a:pt x="289" y="2198"/>
                  </a:lnTo>
                  <a:lnTo>
                    <a:pt x="341" y="2215"/>
                  </a:lnTo>
                  <a:lnTo>
                    <a:pt x="393" y="2225"/>
                  </a:lnTo>
                  <a:lnTo>
                    <a:pt x="446" y="2227"/>
                  </a:lnTo>
                  <a:lnTo>
                    <a:pt x="493" y="2221"/>
                  </a:lnTo>
                  <a:lnTo>
                    <a:pt x="541" y="2211"/>
                  </a:lnTo>
                  <a:lnTo>
                    <a:pt x="589" y="2194"/>
                  </a:lnTo>
                  <a:lnTo>
                    <a:pt x="633" y="2169"/>
                  </a:lnTo>
                  <a:lnTo>
                    <a:pt x="679" y="2140"/>
                  </a:lnTo>
                  <a:lnTo>
                    <a:pt x="723" y="2105"/>
                  </a:lnTo>
                  <a:lnTo>
                    <a:pt x="766" y="2065"/>
                  </a:lnTo>
                  <a:lnTo>
                    <a:pt x="806" y="2019"/>
                  </a:lnTo>
                  <a:lnTo>
                    <a:pt x="848" y="1971"/>
                  </a:lnTo>
                  <a:lnTo>
                    <a:pt x="887" y="1919"/>
                  </a:lnTo>
                  <a:lnTo>
                    <a:pt x="944" y="1834"/>
                  </a:lnTo>
                  <a:lnTo>
                    <a:pt x="998" y="1740"/>
                  </a:lnTo>
                  <a:lnTo>
                    <a:pt x="1052" y="1636"/>
                  </a:lnTo>
                  <a:lnTo>
                    <a:pt x="1102" y="1524"/>
                  </a:lnTo>
                  <a:lnTo>
                    <a:pt x="1150" y="1403"/>
                  </a:lnTo>
                  <a:lnTo>
                    <a:pt x="1198" y="1268"/>
                  </a:lnTo>
                  <a:lnTo>
                    <a:pt x="1244" y="1123"/>
                  </a:lnTo>
                  <a:lnTo>
                    <a:pt x="1285" y="965"/>
                  </a:lnTo>
                  <a:lnTo>
                    <a:pt x="1374" y="595"/>
                  </a:lnTo>
                  <a:lnTo>
                    <a:pt x="1372" y="568"/>
                  </a:lnTo>
                  <a:lnTo>
                    <a:pt x="796" y="634"/>
                  </a:lnTo>
                  <a:lnTo>
                    <a:pt x="719" y="641"/>
                  </a:lnTo>
                  <a:lnTo>
                    <a:pt x="704" y="638"/>
                  </a:lnTo>
                  <a:lnTo>
                    <a:pt x="677" y="580"/>
                  </a:lnTo>
                  <a:lnTo>
                    <a:pt x="621" y="584"/>
                  </a:lnTo>
                  <a:lnTo>
                    <a:pt x="612" y="580"/>
                  </a:lnTo>
                  <a:lnTo>
                    <a:pt x="606" y="568"/>
                  </a:lnTo>
                  <a:lnTo>
                    <a:pt x="608" y="555"/>
                  </a:lnTo>
                  <a:lnTo>
                    <a:pt x="610" y="549"/>
                  </a:lnTo>
                  <a:lnTo>
                    <a:pt x="623" y="547"/>
                  </a:lnTo>
                  <a:lnTo>
                    <a:pt x="641" y="541"/>
                  </a:lnTo>
                  <a:lnTo>
                    <a:pt x="654" y="534"/>
                  </a:lnTo>
                  <a:lnTo>
                    <a:pt x="664" y="520"/>
                  </a:lnTo>
                  <a:lnTo>
                    <a:pt x="666" y="509"/>
                  </a:lnTo>
                  <a:lnTo>
                    <a:pt x="660" y="499"/>
                  </a:lnTo>
                  <a:lnTo>
                    <a:pt x="633" y="482"/>
                  </a:lnTo>
                  <a:lnTo>
                    <a:pt x="602" y="464"/>
                  </a:lnTo>
                  <a:lnTo>
                    <a:pt x="591" y="455"/>
                  </a:lnTo>
                  <a:lnTo>
                    <a:pt x="585" y="445"/>
                  </a:lnTo>
                  <a:lnTo>
                    <a:pt x="583" y="422"/>
                  </a:lnTo>
                  <a:lnTo>
                    <a:pt x="587" y="405"/>
                  </a:lnTo>
                  <a:lnTo>
                    <a:pt x="596" y="397"/>
                  </a:lnTo>
                  <a:lnTo>
                    <a:pt x="608" y="393"/>
                  </a:lnTo>
                  <a:lnTo>
                    <a:pt x="641" y="391"/>
                  </a:lnTo>
                  <a:lnTo>
                    <a:pt x="664" y="391"/>
                  </a:lnTo>
                  <a:lnTo>
                    <a:pt x="685" y="385"/>
                  </a:lnTo>
                  <a:lnTo>
                    <a:pt x="685" y="368"/>
                  </a:lnTo>
                  <a:lnTo>
                    <a:pt x="654" y="366"/>
                  </a:lnTo>
                  <a:lnTo>
                    <a:pt x="633" y="360"/>
                  </a:lnTo>
                  <a:lnTo>
                    <a:pt x="629" y="353"/>
                  </a:lnTo>
                  <a:lnTo>
                    <a:pt x="627" y="343"/>
                  </a:lnTo>
                  <a:lnTo>
                    <a:pt x="633" y="301"/>
                  </a:lnTo>
                  <a:lnTo>
                    <a:pt x="635" y="297"/>
                  </a:lnTo>
                  <a:lnTo>
                    <a:pt x="641" y="293"/>
                  </a:lnTo>
                  <a:lnTo>
                    <a:pt x="664" y="289"/>
                  </a:lnTo>
                  <a:lnTo>
                    <a:pt x="781" y="289"/>
                  </a:lnTo>
                  <a:lnTo>
                    <a:pt x="889" y="283"/>
                  </a:lnTo>
                  <a:lnTo>
                    <a:pt x="1039" y="270"/>
                  </a:lnTo>
                  <a:lnTo>
                    <a:pt x="1237" y="245"/>
                  </a:lnTo>
                  <a:lnTo>
                    <a:pt x="1493" y="206"/>
                  </a:lnTo>
                  <a:lnTo>
                    <a:pt x="2295" y="49"/>
                  </a:lnTo>
                  <a:lnTo>
                    <a:pt x="2539" y="8"/>
                  </a:lnTo>
                  <a:lnTo>
                    <a:pt x="2612" y="0"/>
                  </a:lnTo>
                  <a:lnTo>
                    <a:pt x="2658" y="0"/>
                  </a:lnTo>
                  <a:lnTo>
                    <a:pt x="2687" y="6"/>
                  </a:lnTo>
                  <a:lnTo>
                    <a:pt x="2699" y="16"/>
                  </a:lnTo>
                  <a:lnTo>
                    <a:pt x="2704" y="31"/>
                  </a:lnTo>
                  <a:lnTo>
                    <a:pt x="2704" y="4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999120" y="5564160"/>
              <a:ext cx="849600" cy="790920"/>
            </a:xfrm>
            <a:custGeom>
              <a:avLst/>
              <a:gdLst/>
              <a:ahLst/>
              <a:rect l="0" t="0" r="r" b="b"/>
              <a:pathLst>
                <a:path w="2360" h="2197">
                  <a:moveTo>
                    <a:pt x="706" y="145"/>
                  </a:moveTo>
                  <a:lnTo>
                    <a:pt x="739" y="162"/>
                  </a:lnTo>
                  <a:lnTo>
                    <a:pt x="762" y="176"/>
                  </a:lnTo>
                  <a:lnTo>
                    <a:pt x="769" y="185"/>
                  </a:lnTo>
                  <a:lnTo>
                    <a:pt x="773" y="195"/>
                  </a:lnTo>
                  <a:lnTo>
                    <a:pt x="773" y="220"/>
                  </a:lnTo>
                  <a:lnTo>
                    <a:pt x="758" y="255"/>
                  </a:lnTo>
                  <a:lnTo>
                    <a:pt x="729" y="305"/>
                  </a:lnTo>
                  <a:lnTo>
                    <a:pt x="635" y="459"/>
                  </a:lnTo>
                  <a:lnTo>
                    <a:pt x="614" y="480"/>
                  </a:lnTo>
                  <a:lnTo>
                    <a:pt x="591" y="580"/>
                  </a:lnTo>
                  <a:lnTo>
                    <a:pt x="581" y="607"/>
                  </a:lnTo>
                  <a:lnTo>
                    <a:pt x="568" y="625"/>
                  </a:lnTo>
                  <a:lnTo>
                    <a:pt x="535" y="673"/>
                  </a:lnTo>
                  <a:lnTo>
                    <a:pt x="506" y="717"/>
                  </a:lnTo>
                  <a:lnTo>
                    <a:pt x="468" y="781"/>
                  </a:lnTo>
                  <a:lnTo>
                    <a:pt x="420" y="917"/>
                  </a:lnTo>
                  <a:lnTo>
                    <a:pt x="406" y="935"/>
                  </a:lnTo>
                  <a:lnTo>
                    <a:pt x="373" y="983"/>
                  </a:lnTo>
                  <a:lnTo>
                    <a:pt x="350" y="1021"/>
                  </a:lnTo>
                  <a:lnTo>
                    <a:pt x="323" y="1068"/>
                  </a:lnTo>
                  <a:lnTo>
                    <a:pt x="266" y="1203"/>
                  </a:lnTo>
                  <a:lnTo>
                    <a:pt x="233" y="1302"/>
                  </a:lnTo>
                  <a:lnTo>
                    <a:pt x="208" y="1381"/>
                  </a:lnTo>
                  <a:lnTo>
                    <a:pt x="195" y="1442"/>
                  </a:lnTo>
                  <a:lnTo>
                    <a:pt x="191" y="1483"/>
                  </a:lnTo>
                  <a:lnTo>
                    <a:pt x="200" y="1510"/>
                  </a:lnTo>
                  <a:lnTo>
                    <a:pt x="206" y="1519"/>
                  </a:lnTo>
                  <a:lnTo>
                    <a:pt x="214" y="1521"/>
                  </a:lnTo>
                  <a:lnTo>
                    <a:pt x="222" y="1523"/>
                  </a:lnTo>
                  <a:lnTo>
                    <a:pt x="235" y="1521"/>
                  </a:lnTo>
                  <a:lnTo>
                    <a:pt x="264" y="1506"/>
                  </a:lnTo>
                  <a:lnTo>
                    <a:pt x="298" y="1485"/>
                  </a:lnTo>
                  <a:lnTo>
                    <a:pt x="337" y="1456"/>
                  </a:lnTo>
                  <a:lnTo>
                    <a:pt x="423" y="1379"/>
                  </a:lnTo>
                  <a:lnTo>
                    <a:pt x="614" y="1203"/>
                  </a:lnTo>
                  <a:lnTo>
                    <a:pt x="646" y="1173"/>
                  </a:lnTo>
                  <a:lnTo>
                    <a:pt x="664" y="1153"/>
                  </a:lnTo>
                  <a:lnTo>
                    <a:pt x="685" y="1126"/>
                  </a:lnTo>
                  <a:lnTo>
                    <a:pt x="704" y="1093"/>
                  </a:lnTo>
                  <a:lnTo>
                    <a:pt x="725" y="1056"/>
                  </a:lnTo>
                  <a:lnTo>
                    <a:pt x="744" y="1010"/>
                  </a:lnTo>
                  <a:lnTo>
                    <a:pt x="758" y="956"/>
                  </a:lnTo>
                  <a:lnTo>
                    <a:pt x="787" y="838"/>
                  </a:lnTo>
                  <a:lnTo>
                    <a:pt x="798" y="786"/>
                  </a:lnTo>
                  <a:lnTo>
                    <a:pt x="806" y="771"/>
                  </a:lnTo>
                  <a:lnTo>
                    <a:pt x="825" y="750"/>
                  </a:lnTo>
                  <a:lnTo>
                    <a:pt x="833" y="746"/>
                  </a:lnTo>
                  <a:lnTo>
                    <a:pt x="831" y="702"/>
                  </a:lnTo>
                  <a:lnTo>
                    <a:pt x="831" y="669"/>
                  </a:lnTo>
                  <a:lnTo>
                    <a:pt x="837" y="642"/>
                  </a:lnTo>
                  <a:lnTo>
                    <a:pt x="846" y="623"/>
                  </a:lnTo>
                  <a:lnTo>
                    <a:pt x="856" y="613"/>
                  </a:lnTo>
                  <a:lnTo>
                    <a:pt x="864" y="605"/>
                  </a:lnTo>
                  <a:lnTo>
                    <a:pt x="881" y="598"/>
                  </a:lnTo>
                  <a:lnTo>
                    <a:pt x="902" y="582"/>
                  </a:lnTo>
                  <a:lnTo>
                    <a:pt x="887" y="546"/>
                  </a:lnTo>
                  <a:lnTo>
                    <a:pt x="885" y="534"/>
                  </a:lnTo>
                  <a:lnTo>
                    <a:pt x="885" y="519"/>
                  </a:lnTo>
                  <a:lnTo>
                    <a:pt x="908" y="476"/>
                  </a:lnTo>
                  <a:lnTo>
                    <a:pt x="964" y="388"/>
                  </a:lnTo>
                  <a:lnTo>
                    <a:pt x="998" y="338"/>
                  </a:lnTo>
                  <a:lnTo>
                    <a:pt x="1025" y="291"/>
                  </a:lnTo>
                  <a:lnTo>
                    <a:pt x="1069" y="214"/>
                  </a:lnTo>
                  <a:lnTo>
                    <a:pt x="1094" y="187"/>
                  </a:lnTo>
                  <a:lnTo>
                    <a:pt x="1119" y="172"/>
                  </a:lnTo>
                  <a:lnTo>
                    <a:pt x="1150" y="168"/>
                  </a:lnTo>
                  <a:lnTo>
                    <a:pt x="1169" y="170"/>
                  </a:lnTo>
                  <a:lnTo>
                    <a:pt x="1188" y="176"/>
                  </a:lnTo>
                  <a:lnTo>
                    <a:pt x="1197" y="189"/>
                  </a:lnTo>
                  <a:lnTo>
                    <a:pt x="1268" y="180"/>
                  </a:lnTo>
                  <a:lnTo>
                    <a:pt x="1293" y="185"/>
                  </a:lnTo>
                  <a:lnTo>
                    <a:pt x="1311" y="197"/>
                  </a:lnTo>
                  <a:lnTo>
                    <a:pt x="1324" y="232"/>
                  </a:lnTo>
                  <a:lnTo>
                    <a:pt x="1326" y="255"/>
                  </a:lnTo>
                  <a:lnTo>
                    <a:pt x="1326" y="274"/>
                  </a:lnTo>
                  <a:lnTo>
                    <a:pt x="1322" y="284"/>
                  </a:lnTo>
                  <a:lnTo>
                    <a:pt x="1316" y="301"/>
                  </a:lnTo>
                  <a:lnTo>
                    <a:pt x="1316" y="307"/>
                  </a:lnTo>
                  <a:lnTo>
                    <a:pt x="1322" y="311"/>
                  </a:lnTo>
                  <a:lnTo>
                    <a:pt x="1332" y="318"/>
                  </a:lnTo>
                  <a:lnTo>
                    <a:pt x="1347" y="322"/>
                  </a:lnTo>
                  <a:lnTo>
                    <a:pt x="1361" y="330"/>
                  </a:lnTo>
                  <a:lnTo>
                    <a:pt x="1366" y="338"/>
                  </a:lnTo>
                  <a:lnTo>
                    <a:pt x="1370" y="349"/>
                  </a:lnTo>
                  <a:lnTo>
                    <a:pt x="1370" y="366"/>
                  </a:lnTo>
                  <a:lnTo>
                    <a:pt x="1366" y="382"/>
                  </a:lnTo>
                  <a:lnTo>
                    <a:pt x="1349" y="428"/>
                  </a:lnTo>
                  <a:lnTo>
                    <a:pt x="1282" y="559"/>
                  </a:lnTo>
                  <a:lnTo>
                    <a:pt x="1177" y="763"/>
                  </a:lnTo>
                  <a:lnTo>
                    <a:pt x="1117" y="898"/>
                  </a:lnTo>
                  <a:lnTo>
                    <a:pt x="1052" y="1056"/>
                  </a:lnTo>
                  <a:lnTo>
                    <a:pt x="992" y="1223"/>
                  </a:lnTo>
                  <a:lnTo>
                    <a:pt x="948" y="1348"/>
                  </a:lnTo>
                  <a:lnTo>
                    <a:pt x="923" y="1433"/>
                  </a:lnTo>
                  <a:lnTo>
                    <a:pt x="912" y="1494"/>
                  </a:lnTo>
                  <a:lnTo>
                    <a:pt x="917" y="1531"/>
                  </a:lnTo>
                  <a:lnTo>
                    <a:pt x="923" y="1544"/>
                  </a:lnTo>
                  <a:lnTo>
                    <a:pt x="931" y="1554"/>
                  </a:lnTo>
                  <a:lnTo>
                    <a:pt x="956" y="1569"/>
                  </a:lnTo>
                  <a:lnTo>
                    <a:pt x="987" y="1585"/>
                  </a:lnTo>
                  <a:lnTo>
                    <a:pt x="1085" y="1446"/>
                  </a:lnTo>
                  <a:lnTo>
                    <a:pt x="1135" y="1381"/>
                  </a:lnTo>
                  <a:lnTo>
                    <a:pt x="1162" y="1346"/>
                  </a:lnTo>
                  <a:lnTo>
                    <a:pt x="1188" y="1296"/>
                  </a:lnTo>
                  <a:lnTo>
                    <a:pt x="1079" y="1327"/>
                  </a:lnTo>
                  <a:lnTo>
                    <a:pt x="1085" y="1296"/>
                  </a:lnTo>
                  <a:lnTo>
                    <a:pt x="1092" y="1288"/>
                  </a:lnTo>
                  <a:lnTo>
                    <a:pt x="1100" y="1279"/>
                  </a:lnTo>
                  <a:lnTo>
                    <a:pt x="1114" y="1254"/>
                  </a:lnTo>
                  <a:lnTo>
                    <a:pt x="1108" y="1240"/>
                  </a:lnTo>
                  <a:lnTo>
                    <a:pt x="1100" y="1223"/>
                  </a:lnTo>
                  <a:lnTo>
                    <a:pt x="1096" y="1209"/>
                  </a:lnTo>
                  <a:lnTo>
                    <a:pt x="1098" y="1203"/>
                  </a:lnTo>
                  <a:lnTo>
                    <a:pt x="1100" y="1196"/>
                  </a:lnTo>
                  <a:lnTo>
                    <a:pt x="1299" y="1068"/>
                  </a:lnTo>
                  <a:lnTo>
                    <a:pt x="1349" y="1035"/>
                  </a:lnTo>
                  <a:lnTo>
                    <a:pt x="1378" y="1010"/>
                  </a:lnTo>
                  <a:lnTo>
                    <a:pt x="1389" y="998"/>
                  </a:lnTo>
                  <a:lnTo>
                    <a:pt x="1397" y="985"/>
                  </a:lnTo>
                  <a:lnTo>
                    <a:pt x="1414" y="952"/>
                  </a:lnTo>
                  <a:lnTo>
                    <a:pt x="1441" y="902"/>
                  </a:lnTo>
                  <a:lnTo>
                    <a:pt x="1482" y="825"/>
                  </a:lnTo>
                  <a:lnTo>
                    <a:pt x="1561" y="738"/>
                  </a:lnTo>
                  <a:lnTo>
                    <a:pt x="1584" y="725"/>
                  </a:lnTo>
                  <a:lnTo>
                    <a:pt x="1589" y="694"/>
                  </a:lnTo>
                  <a:lnTo>
                    <a:pt x="1603" y="682"/>
                  </a:lnTo>
                  <a:lnTo>
                    <a:pt x="1641" y="646"/>
                  </a:lnTo>
                  <a:lnTo>
                    <a:pt x="1672" y="611"/>
                  </a:lnTo>
                  <a:lnTo>
                    <a:pt x="1716" y="555"/>
                  </a:lnTo>
                  <a:lnTo>
                    <a:pt x="1841" y="395"/>
                  </a:lnTo>
                  <a:lnTo>
                    <a:pt x="1895" y="338"/>
                  </a:lnTo>
                  <a:lnTo>
                    <a:pt x="1928" y="314"/>
                  </a:lnTo>
                  <a:lnTo>
                    <a:pt x="1957" y="293"/>
                  </a:lnTo>
                  <a:lnTo>
                    <a:pt x="2001" y="253"/>
                  </a:lnTo>
                  <a:lnTo>
                    <a:pt x="2016" y="237"/>
                  </a:lnTo>
                  <a:lnTo>
                    <a:pt x="2028" y="218"/>
                  </a:lnTo>
                  <a:lnTo>
                    <a:pt x="2041" y="180"/>
                  </a:lnTo>
                  <a:lnTo>
                    <a:pt x="2049" y="116"/>
                  </a:lnTo>
                  <a:lnTo>
                    <a:pt x="2055" y="91"/>
                  </a:lnTo>
                  <a:lnTo>
                    <a:pt x="2060" y="83"/>
                  </a:lnTo>
                  <a:lnTo>
                    <a:pt x="2070" y="76"/>
                  </a:lnTo>
                  <a:lnTo>
                    <a:pt x="2099" y="74"/>
                  </a:lnTo>
                  <a:lnTo>
                    <a:pt x="2149" y="85"/>
                  </a:lnTo>
                  <a:lnTo>
                    <a:pt x="2170" y="101"/>
                  </a:lnTo>
                  <a:lnTo>
                    <a:pt x="2170" y="126"/>
                  </a:lnTo>
                  <a:lnTo>
                    <a:pt x="2174" y="131"/>
                  </a:lnTo>
                  <a:lnTo>
                    <a:pt x="2180" y="133"/>
                  </a:lnTo>
                  <a:lnTo>
                    <a:pt x="2224" y="135"/>
                  </a:lnTo>
                  <a:lnTo>
                    <a:pt x="2324" y="149"/>
                  </a:lnTo>
                  <a:lnTo>
                    <a:pt x="2341" y="153"/>
                  </a:lnTo>
                  <a:lnTo>
                    <a:pt x="2351" y="162"/>
                  </a:lnTo>
                  <a:lnTo>
                    <a:pt x="2358" y="172"/>
                  </a:lnTo>
                  <a:lnTo>
                    <a:pt x="2360" y="187"/>
                  </a:lnTo>
                  <a:lnTo>
                    <a:pt x="2358" y="234"/>
                  </a:lnTo>
                  <a:lnTo>
                    <a:pt x="2343" y="309"/>
                  </a:lnTo>
                  <a:lnTo>
                    <a:pt x="2322" y="420"/>
                  </a:lnTo>
                  <a:lnTo>
                    <a:pt x="2299" y="569"/>
                  </a:lnTo>
                  <a:lnTo>
                    <a:pt x="2274" y="767"/>
                  </a:lnTo>
                  <a:lnTo>
                    <a:pt x="2255" y="1016"/>
                  </a:lnTo>
                  <a:lnTo>
                    <a:pt x="2222" y="1502"/>
                  </a:lnTo>
                  <a:lnTo>
                    <a:pt x="2185" y="1872"/>
                  </a:lnTo>
                  <a:lnTo>
                    <a:pt x="2178" y="1957"/>
                  </a:lnTo>
                  <a:lnTo>
                    <a:pt x="2174" y="2034"/>
                  </a:lnTo>
                  <a:lnTo>
                    <a:pt x="2170" y="2061"/>
                  </a:lnTo>
                  <a:lnTo>
                    <a:pt x="2164" y="2080"/>
                  </a:lnTo>
                  <a:lnTo>
                    <a:pt x="2160" y="2084"/>
                  </a:lnTo>
                  <a:lnTo>
                    <a:pt x="2153" y="2086"/>
                  </a:lnTo>
                  <a:lnTo>
                    <a:pt x="2137" y="2078"/>
                  </a:lnTo>
                  <a:lnTo>
                    <a:pt x="2137" y="2066"/>
                  </a:lnTo>
                  <a:lnTo>
                    <a:pt x="2128" y="2059"/>
                  </a:lnTo>
                  <a:lnTo>
                    <a:pt x="2122" y="1982"/>
                  </a:lnTo>
                  <a:lnTo>
                    <a:pt x="2089" y="1968"/>
                  </a:lnTo>
                  <a:lnTo>
                    <a:pt x="2074" y="1953"/>
                  </a:lnTo>
                  <a:lnTo>
                    <a:pt x="2070" y="1945"/>
                  </a:lnTo>
                  <a:lnTo>
                    <a:pt x="2070" y="1932"/>
                  </a:lnTo>
                  <a:lnTo>
                    <a:pt x="2080" y="1926"/>
                  </a:lnTo>
                  <a:lnTo>
                    <a:pt x="2089" y="1916"/>
                  </a:lnTo>
                  <a:lnTo>
                    <a:pt x="2097" y="1895"/>
                  </a:lnTo>
                  <a:lnTo>
                    <a:pt x="2099" y="1872"/>
                  </a:lnTo>
                  <a:lnTo>
                    <a:pt x="2097" y="1855"/>
                  </a:lnTo>
                  <a:lnTo>
                    <a:pt x="2074" y="1843"/>
                  </a:lnTo>
                  <a:lnTo>
                    <a:pt x="2064" y="1808"/>
                  </a:lnTo>
                  <a:lnTo>
                    <a:pt x="2062" y="1799"/>
                  </a:lnTo>
                  <a:lnTo>
                    <a:pt x="2072" y="1797"/>
                  </a:lnTo>
                  <a:lnTo>
                    <a:pt x="2080" y="1793"/>
                  </a:lnTo>
                  <a:lnTo>
                    <a:pt x="2091" y="1781"/>
                  </a:lnTo>
                  <a:lnTo>
                    <a:pt x="2093" y="1768"/>
                  </a:lnTo>
                  <a:lnTo>
                    <a:pt x="2091" y="1764"/>
                  </a:lnTo>
                  <a:lnTo>
                    <a:pt x="2053" y="1764"/>
                  </a:lnTo>
                  <a:lnTo>
                    <a:pt x="2030" y="1631"/>
                  </a:lnTo>
                  <a:lnTo>
                    <a:pt x="2018" y="1554"/>
                  </a:lnTo>
                  <a:lnTo>
                    <a:pt x="2014" y="1539"/>
                  </a:lnTo>
                  <a:lnTo>
                    <a:pt x="2010" y="1537"/>
                  </a:lnTo>
                  <a:lnTo>
                    <a:pt x="1987" y="1581"/>
                  </a:lnTo>
                  <a:lnTo>
                    <a:pt x="1970" y="1435"/>
                  </a:lnTo>
                  <a:lnTo>
                    <a:pt x="1970" y="1388"/>
                  </a:lnTo>
                  <a:lnTo>
                    <a:pt x="1978" y="1377"/>
                  </a:lnTo>
                  <a:lnTo>
                    <a:pt x="1980" y="1369"/>
                  </a:lnTo>
                  <a:lnTo>
                    <a:pt x="1982" y="1350"/>
                  </a:lnTo>
                  <a:lnTo>
                    <a:pt x="1970" y="1279"/>
                  </a:lnTo>
                  <a:lnTo>
                    <a:pt x="1964" y="1267"/>
                  </a:lnTo>
                  <a:lnTo>
                    <a:pt x="1960" y="1244"/>
                  </a:lnTo>
                  <a:lnTo>
                    <a:pt x="1960" y="1186"/>
                  </a:lnTo>
                  <a:lnTo>
                    <a:pt x="1970" y="1064"/>
                  </a:lnTo>
                  <a:lnTo>
                    <a:pt x="1976" y="1012"/>
                  </a:lnTo>
                  <a:lnTo>
                    <a:pt x="1974" y="960"/>
                  </a:lnTo>
                  <a:lnTo>
                    <a:pt x="1891" y="985"/>
                  </a:lnTo>
                  <a:lnTo>
                    <a:pt x="1828" y="1008"/>
                  </a:lnTo>
                  <a:lnTo>
                    <a:pt x="1784" y="1029"/>
                  </a:lnTo>
                  <a:lnTo>
                    <a:pt x="1755" y="1048"/>
                  </a:lnTo>
                  <a:lnTo>
                    <a:pt x="1714" y="1083"/>
                  </a:lnTo>
                  <a:lnTo>
                    <a:pt x="1695" y="1101"/>
                  </a:lnTo>
                  <a:lnTo>
                    <a:pt x="1668" y="1115"/>
                  </a:lnTo>
                  <a:lnTo>
                    <a:pt x="1612" y="1134"/>
                  </a:lnTo>
                  <a:lnTo>
                    <a:pt x="1578" y="1140"/>
                  </a:lnTo>
                  <a:lnTo>
                    <a:pt x="1559" y="1138"/>
                  </a:lnTo>
                  <a:lnTo>
                    <a:pt x="1541" y="1144"/>
                  </a:lnTo>
                  <a:lnTo>
                    <a:pt x="1534" y="1171"/>
                  </a:lnTo>
                  <a:lnTo>
                    <a:pt x="1501" y="1192"/>
                  </a:lnTo>
                  <a:lnTo>
                    <a:pt x="1493" y="1203"/>
                  </a:lnTo>
                  <a:lnTo>
                    <a:pt x="1482" y="1223"/>
                  </a:lnTo>
                  <a:lnTo>
                    <a:pt x="1459" y="1269"/>
                  </a:lnTo>
                  <a:lnTo>
                    <a:pt x="1420" y="1348"/>
                  </a:lnTo>
                  <a:lnTo>
                    <a:pt x="1355" y="1469"/>
                  </a:lnTo>
                  <a:lnTo>
                    <a:pt x="1255" y="1641"/>
                  </a:lnTo>
                  <a:lnTo>
                    <a:pt x="1154" y="1820"/>
                  </a:lnTo>
                  <a:lnTo>
                    <a:pt x="1144" y="1837"/>
                  </a:lnTo>
                  <a:lnTo>
                    <a:pt x="1137" y="1843"/>
                  </a:lnTo>
                  <a:lnTo>
                    <a:pt x="1129" y="1845"/>
                  </a:lnTo>
                  <a:lnTo>
                    <a:pt x="1119" y="1843"/>
                  </a:lnTo>
                  <a:lnTo>
                    <a:pt x="1106" y="1837"/>
                  </a:lnTo>
                  <a:lnTo>
                    <a:pt x="1100" y="1833"/>
                  </a:lnTo>
                  <a:lnTo>
                    <a:pt x="1098" y="1835"/>
                  </a:lnTo>
                  <a:lnTo>
                    <a:pt x="1092" y="1843"/>
                  </a:lnTo>
                  <a:lnTo>
                    <a:pt x="1062" y="1901"/>
                  </a:lnTo>
                  <a:lnTo>
                    <a:pt x="1033" y="1955"/>
                  </a:lnTo>
                  <a:lnTo>
                    <a:pt x="987" y="2034"/>
                  </a:lnTo>
                  <a:lnTo>
                    <a:pt x="960" y="2068"/>
                  </a:lnTo>
                  <a:lnTo>
                    <a:pt x="948" y="2080"/>
                  </a:lnTo>
                  <a:lnTo>
                    <a:pt x="933" y="2090"/>
                  </a:lnTo>
                  <a:lnTo>
                    <a:pt x="914" y="2101"/>
                  </a:lnTo>
                  <a:lnTo>
                    <a:pt x="902" y="2099"/>
                  </a:lnTo>
                  <a:lnTo>
                    <a:pt x="887" y="2076"/>
                  </a:lnTo>
                  <a:lnTo>
                    <a:pt x="885" y="2076"/>
                  </a:lnTo>
                  <a:lnTo>
                    <a:pt x="879" y="2082"/>
                  </a:lnTo>
                  <a:lnTo>
                    <a:pt x="869" y="2103"/>
                  </a:lnTo>
                  <a:lnTo>
                    <a:pt x="856" y="2120"/>
                  </a:lnTo>
                  <a:lnTo>
                    <a:pt x="841" y="2134"/>
                  </a:lnTo>
                  <a:lnTo>
                    <a:pt x="821" y="2130"/>
                  </a:lnTo>
                  <a:lnTo>
                    <a:pt x="819" y="2101"/>
                  </a:lnTo>
                  <a:lnTo>
                    <a:pt x="814" y="2088"/>
                  </a:lnTo>
                  <a:lnTo>
                    <a:pt x="808" y="2093"/>
                  </a:lnTo>
                  <a:lnTo>
                    <a:pt x="798" y="2109"/>
                  </a:lnTo>
                  <a:lnTo>
                    <a:pt x="769" y="2157"/>
                  </a:lnTo>
                  <a:lnTo>
                    <a:pt x="748" y="2180"/>
                  </a:lnTo>
                  <a:lnTo>
                    <a:pt x="723" y="2197"/>
                  </a:lnTo>
                  <a:lnTo>
                    <a:pt x="694" y="2197"/>
                  </a:lnTo>
                  <a:lnTo>
                    <a:pt x="698" y="2130"/>
                  </a:lnTo>
                  <a:lnTo>
                    <a:pt x="658" y="2126"/>
                  </a:lnTo>
                  <a:lnTo>
                    <a:pt x="668" y="2101"/>
                  </a:lnTo>
                  <a:lnTo>
                    <a:pt x="679" y="2074"/>
                  </a:lnTo>
                  <a:lnTo>
                    <a:pt x="714" y="2022"/>
                  </a:lnTo>
                  <a:lnTo>
                    <a:pt x="752" y="1970"/>
                  </a:lnTo>
                  <a:lnTo>
                    <a:pt x="785" y="1920"/>
                  </a:lnTo>
                  <a:lnTo>
                    <a:pt x="831" y="1833"/>
                  </a:lnTo>
                  <a:lnTo>
                    <a:pt x="852" y="1779"/>
                  </a:lnTo>
                  <a:lnTo>
                    <a:pt x="856" y="1762"/>
                  </a:lnTo>
                  <a:lnTo>
                    <a:pt x="856" y="1752"/>
                  </a:lnTo>
                  <a:lnTo>
                    <a:pt x="852" y="1745"/>
                  </a:lnTo>
                  <a:lnTo>
                    <a:pt x="844" y="1743"/>
                  </a:lnTo>
                  <a:lnTo>
                    <a:pt x="816" y="1747"/>
                  </a:lnTo>
                  <a:lnTo>
                    <a:pt x="783" y="1760"/>
                  </a:lnTo>
                  <a:lnTo>
                    <a:pt x="744" y="1772"/>
                  </a:lnTo>
                  <a:lnTo>
                    <a:pt x="702" y="1776"/>
                  </a:lnTo>
                  <a:lnTo>
                    <a:pt x="664" y="1772"/>
                  </a:lnTo>
                  <a:lnTo>
                    <a:pt x="635" y="1760"/>
                  </a:lnTo>
                  <a:lnTo>
                    <a:pt x="612" y="1739"/>
                  </a:lnTo>
                  <a:lnTo>
                    <a:pt x="596" y="1716"/>
                  </a:lnTo>
                  <a:lnTo>
                    <a:pt x="596" y="1672"/>
                  </a:lnTo>
                  <a:lnTo>
                    <a:pt x="593" y="1664"/>
                  </a:lnTo>
                  <a:lnTo>
                    <a:pt x="589" y="1658"/>
                  </a:lnTo>
                  <a:lnTo>
                    <a:pt x="579" y="1641"/>
                  </a:lnTo>
                  <a:lnTo>
                    <a:pt x="575" y="1606"/>
                  </a:lnTo>
                  <a:lnTo>
                    <a:pt x="579" y="1533"/>
                  </a:lnTo>
                  <a:lnTo>
                    <a:pt x="598" y="1448"/>
                  </a:lnTo>
                  <a:lnTo>
                    <a:pt x="616" y="1394"/>
                  </a:lnTo>
                  <a:lnTo>
                    <a:pt x="631" y="1367"/>
                  </a:lnTo>
                  <a:lnTo>
                    <a:pt x="631" y="1361"/>
                  </a:lnTo>
                  <a:lnTo>
                    <a:pt x="627" y="1363"/>
                  </a:lnTo>
                  <a:lnTo>
                    <a:pt x="593" y="1392"/>
                  </a:lnTo>
                  <a:lnTo>
                    <a:pt x="552" y="1435"/>
                  </a:lnTo>
                  <a:lnTo>
                    <a:pt x="454" y="1544"/>
                  </a:lnTo>
                  <a:lnTo>
                    <a:pt x="398" y="1598"/>
                  </a:lnTo>
                  <a:lnTo>
                    <a:pt x="341" y="1643"/>
                  </a:lnTo>
                  <a:lnTo>
                    <a:pt x="310" y="1662"/>
                  </a:lnTo>
                  <a:lnTo>
                    <a:pt x="281" y="1675"/>
                  </a:lnTo>
                  <a:lnTo>
                    <a:pt x="250" y="1687"/>
                  </a:lnTo>
                  <a:lnTo>
                    <a:pt x="218" y="1689"/>
                  </a:lnTo>
                  <a:lnTo>
                    <a:pt x="166" y="1689"/>
                  </a:lnTo>
                  <a:lnTo>
                    <a:pt x="143" y="1683"/>
                  </a:lnTo>
                  <a:lnTo>
                    <a:pt x="120" y="1677"/>
                  </a:lnTo>
                  <a:lnTo>
                    <a:pt x="102" y="1668"/>
                  </a:lnTo>
                  <a:lnTo>
                    <a:pt x="83" y="1658"/>
                  </a:lnTo>
                  <a:lnTo>
                    <a:pt x="68" y="1645"/>
                  </a:lnTo>
                  <a:lnTo>
                    <a:pt x="56" y="1631"/>
                  </a:lnTo>
                  <a:lnTo>
                    <a:pt x="33" y="1600"/>
                  </a:lnTo>
                  <a:lnTo>
                    <a:pt x="16" y="1562"/>
                  </a:lnTo>
                  <a:lnTo>
                    <a:pt x="8" y="1523"/>
                  </a:lnTo>
                  <a:lnTo>
                    <a:pt x="2" y="1479"/>
                  </a:lnTo>
                  <a:lnTo>
                    <a:pt x="0" y="1435"/>
                  </a:lnTo>
                  <a:lnTo>
                    <a:pt x="2" y="1390"/>
                  </a:lnTo>
                  <a:lnTo>
                    <a:pt x="12" y="1304"/>
                  </a:lnTo>
                  <a:lnTo>
                    <a:pt x="29" y="1230"/>
                  </a:lnTo>
                  <a:lnTo>
                    <a:pt x="43" y="1175"/>
                  </a:lnTo>
                  <a:lnTo>
                    <a:pt x="72" y="1075"/>
                  </a:lnTo>
                  <a:lnTo>
                    <a:pt x="87" y="1016"/>
                  </a:lnTo>
                  <a:lnTo>
                    <a:pt x="110" y="944"/>
                  </a:lnTo>
                  <a:lnTo>
                    <a:pt x="143" y="850"/>
                  </a:lnTo>
                  <a:lnTo>
                    <a:pt x="189" y="727"/>
                  </a:lnTo>
                  <a:lnTo>
                    <a:pt x="341" y="372"/>
                  </a:lnTo>
                  <a:lnTo>
                    <a:pt x="377" y="301"/>
                  </a:lnTo>
                  <a:lnTo>
                    <a:pt x="402" y="257"/>
                  </a:lnTo>
                  <a:lnTo>
                    <a:pt x="431" y="193"/>
                  </a:lnTo>
                  <a:lnTo>
                    <a:pt x="460" y="133"/>
                  </a:lnTo>
                  <a:lnTo>
                    <a:pt x="487" y="89"/>
                  </a:lnTo>
                  <a:lnTo>
                    <a:pt x="510" y="64"/>
                  </a:lnTo>
                  <a:lnTo>
                    <a:pt x="533" y="45"/>
                  </a:lnTo>
                  <a:lnTo>
                    <a:pt x="550" y="35"/>
                  </a:lnTo>
                  <a:lnTo>
                    <a:pt x="566" y="31"/>
                  </a:lnTo>
                  <a:lnTo>
                    <a:pt x="591" y="31"/>
                  </a:lnTo>
                  <a:lnTo>
                    <a:pt x="606" y="33"/>
                  </a:lnTo>
                  <a:lnTo>
                    <a:pt x="616" y="24"/>
                  </a:lnTo>
                  <a:lnTo>
                    <a:pt x="627" y="10"/>
                  </a:lnTo>
                  <a:lnTo>
                    <a:pt x="641" y="0"/>
                  </a:lnTo>
                  <a:lnTo>
                    <a:pt x="662" y="2"/>
                  </a:lnTo>
                  <a:lnTo>
                    <a:pt x="673" y="8"/>
                  </a:lnTo>
                  <a:lnTo>
                    <a:pt x="679" y="16"/>
                  </a:lnTo>
                  <a:lnTo>
                    <a:pt x="683" y="33"/>
                  </a:lnTo>
                  <a:lnTo>
                    <a:pt x="687" y="72"/>
                  </a:lnTo>
                  <a:lnTo>
                    <a:pt x="698" y="83"/>
                  </a:lnTo>
                  <a:lnTo>
                    <a:pt x="708" y="93"/>
                  </a:lnTo>
                  <a:lnTo>
                    <a:pt x="712" y="112"/>
                  </a:lnTo>
                  <a:lnTo>
                    <a:pt x="706" y="14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826400" y="5580000"/>
              <a:ext cx="981360" cy="908280"/>
            </a:xfrm>
            <a:custGeom>
              <a:avLst/>
              <a:gdLst/>
              <a:ahLst/>
              <a:rect l="0" t="0" r="r" b="b"/>
              <a:pathLst>
                <a:path w="2726" h="2523">
                  <a:moveTo>
                    <a:pt x="2599" y="2235"/>
                  </a:moveTo>
                  <a:lnTo>
                    <a:pt x="2582" y="2246"/>
                  </a:lnTo>
                  <a:lnTo>
                    <a:pt x="2567" y="2252"/>
                  </a:lnTo>
                  <a:lnTo>
                    <a:pt x="2555" y="2250"/>
                  </a:lnTo>
                  <a:lnTo>
                    <a:pt x="2540" y="2244"/>
                  </a:lnTo>
                  <a:lnTo>
                    <a:pt x="2503" y="2208"/>
                  </a:lnTo>
                  <a:lnTo>
                    <a:pt x="2432" y="2148"/>
                  </a:lnTo>
                  <a:lnTo>
                    <a:pt x="2038" y="1831"/>
                  </a:lnTo>
                  <a:lnTo>
                    <a:pt x="1929" y="1748"/>
                  </a:lnTo>
                  <a:lnTo>
                    <a:pt x="1823" y="1671"/>
                  </a:lnTo>
                  <a:lnTo>
                    <a:pt x="1771" y="1633"/>
                  </a:lnTo>
                  <a:lnTo>
                    <a:pt x="1731" y="1598"/>
                  </a:lnTo>
                  <a:lnTo>
                    <a:pt x="1698" y="1567"/>
                  </a:lnTo>
                  <a:lnTo>
                    <a:pt x="1673" y="1540"/>
                  </a:lnTo>
                  <a:lnTo>
                    <a:pt x="1635" y="1494"/>
                  </a:lnTo>
                  <a:lnTo>
                    <a:pt x="1623" y="1479"/>
                  </a:lnTo>
                  <a:lnTo>
                    <a:pt x="1608" y="1465"/>
                  </a:lnTo>
                  <a:lnTo>
                    <a:pt x="1554" y="1444"/>
                  </a:lnTo>
                  <a:lnTo>
                    <a:pt x="1402" y="1269"/>
                  </a:lnTo>
                  <a:lnTo>
                    <a:pt x="1361" y="1224"/>
                  </a:lnTo>
                  <a:lnTo>
                    <a:pt x="1340" y="1203"/>
                  </a:lnTo>
                  <a:lnTo>
                    <a:pt x="1324" y="1193"/>
                  </a:lnTo>
                  <a:lnTo>
                    <a:pt x="1303" y="1208"/>
                  </a:lnTo>
                  <a:lnTo>
                    <a:pt x="1082" y="1047"/>
                  </a:lnTo>
                  <a:lnTo>
                    <a:pt x="1009" y="999"/>
                  </a:lnTo>
                  <a:lnTo>
                    <a:pt x="1011" y="1001"/>
                  </a:lnTo>
                  <a:lnTo>
                    <a:pt x="1025" y="1016"/>
                  </a:lnTo>
                  <a:lnTo>
                    <a:pt x="1067" y="1058"/>
                  </a:lnTo>
                  <a:lnTo>
                    <a:pt x="1084" y="1081"/>
                  </a:lnTo>
                  <a:lnTo>
                    <a:pt x="1086" y="1089"/>
                  </a:lnTo>
                  <a:lnTo>
                    <a:pt x="1084" y="1091"/>
                  </a:lnTo>
                  <a:lnTo>
                    <a:pt x="1088" y="1097"/>
                  </a:lnTo>
                  <a:lnTo>
                    <a:pt x="1144" y="1153"/>
                  </a:lnTo>
                  <a:lnTo>
                    <a:pt x="1330" y="1321"/>
                  </a:lnTo>
                  <a:lnTo>
                    <a:pt x="1420" y="1398"/>
                  </a:lnTo>
                  <a:lnTo>
                    <a:pt x="1460" y="1429"/>
                  </a:lnTo>
                  <a:lnTo>
                    <a:pt x="1468" y="1438"/>
                  </a:lnTo>
                  <a:lnTo>
                    <a:pt x="1458" y="1444"/>
                  </a:lnTo>
                  <a:lnTo>
                    <a:pt x="1450" y="1448"/>
                  </a:lnTo>
                  <a:lnTo>
                    <a:pt x="1441" y="1450"/>
                  </a:lnTo>
                  <a:lnTo>
                    <a:pt x="1439" y="1448"/>
                  </a:lnTo>
                  <a:lnTo>
                    <a:pt x="1464" y="1463"/>
                  </a:lnTo>
                  <a:lnTo>
                    <a:pt x="1531" y="1513"/>
                  </a:lnTo>
                  <a:lnTo>
                    <a:pt x="1898" y="1811"/>
                  </a:lnTo>
                  <a:lnTo>
                    <a:pt x="1967" y="1871"/>
                  </a:lnTo>
                  <a:lnTo>
                    <a:pt x="1996" y="1898"/>
                  </a:lnTo>
                  <a:lnTo>
                    <a:pt x="2031" y="1938"/>
                  </a:lnTo>
                  <a:lnTo>
                    <a:pt x="2090" y="1990"/>
                  </a:lnTo>
                  <a:lnTo>
                    <a:pt x="2209" y="2094"/>
                  </a:lnTo>
                  <a:lnTo>
                    <a:pt x="2563" y="2408"/>
                  </a:lnTo>
                  <a:lnTo>
                    <a:pt x="2726" y="2512"/>
                  </a:lnTo>
                  <a:lnTo>
                    <a:pt x="2724" y="2521"/>
                  </a:lnTo>
                  <a:lnTo>
                    <a:pt x="2719" y="2523"/>
                  </a:lnTo>
                  <a:lnTo>
                    <a:pt x="2703" y="2523"/>
                  </a:lnTo>
                  <a:lnTo>
                    <a:pt x="2678" y="2512"/>
                  </a:lnTo>
                  <a:lnTo>
                    <a:pt x="2644" y="2494"/>
                  </a:lnTo>
                  <a:lnTo>
                    <a:pt x="2603" y="2469"/>
                  </a:lnTo>
                  <a:lnTo>
                    <a:pt x="2557" y="2435"/>
                  </a:lnTo>
                  <a:lnTo>
                    <a:pt x="2448" y="2356"/>
                  </a:lnTo>
                  <a:lnTo>
                    <a:pt x="2223" y="2181"/>
                  </a:lnTo>
                  <a:lnTo>
                    <a:pt x="2121" y="2104"/>
                  </a:lnTo>
                  <a:lnTo>
                    <a:pt x="2042" y="2046"/>
                  </a:lnTo>
                  <a:lnTo>
                    <a:pt x="1913" y="1954"/>
                  </a:lnTo>
                  <a:lnTo>
                    <a:pt x="1825" y="1883"/>
                  </a:lnTo>
                  <a:lnTo>
                    <a:pt x="1760" y="1823"/>
                  </a:lnTo>
                  <a:lnTo>
                    <a:pt x="1708" y="1767"/>
                  </a:lnTo>
                  <a:lnTo>
                    <a:pt x="1652" y="1708"/>
                  </a:lnTo>
                  <a:lnTo>
                    <a:pt x="1577" y="1638"/>
                  </a:lnTo>
                  <a:lnTo>
                    <a:pt x="1529" y="1596"/>
                  </a:lnTo>
                  <a:lnTo>
                    <a:pt x="1468" y="1550"/>
                  </a:lnTo>
                  <a:lnTo>
                    <a:pt x="1311" y="1436"/>
                  </a:lnTo>
                  <a:lnTo>
                    <a:pt x="1259" y="1417"/>
                  </a:lnTo>
                  <a:lnTo>
                    <a:pt x="1180" y="1325"/>
                  </a:lnTo>
                  <a:lnTo>
                    <a:pt x="1171" y="1286"/>
                  </a:lnTo>
                  <a:lnTo>
                    <a:pt x="1134" y="1258"/>
                  </a:lnTo>
                  <a:lnTo>
                    <a:pt x="1100" y="1230"/>
                  </a:lnTo>
                  <a:lnTo>
                    <a:pt x="1050" y="1180"/>
                  </a:lnTo>
                  <a:lnTo>
                    <a:pt x="1009" y="1143"/>
                  </a:lnTo>
                  <a:lnTo>
                    <a:pt x="988" y="1128"/>
                  </a:lnTo>
                  <a:lnTo>
                    <a:pt x="969" y="1120"/>
                  </a:lnTo>
                  <a:lnTo>
                    <a:pt x="917" y="1114"/>
                  </a:lnTo>
                  <a:lnTo>
                    <a:pt x="884" y="1074"/>
                  </a:lnTo>
                  <a:lnTo>
                    <a:pt x="859" y="1049"/>
                  </a:lnTo>
                  <a:lnTo>
                    <a:pt x="821" y="1028"/>
                  </a:lnTo>
                  <a:lnTo>
                    <a:pt x="813" y="1024"/>
                  </a:lnTo>
                  <a:lnTo>
                    <a:pt x="813" y="1018"/>
                  </a:lnTo>
                  <a:lnTo>
                    <a:pt x="838" y="985"/>
                  </a:lnTo>
                  <a:lnTo>
                    <a:pt x="846" y="974"/>
                  </a:lnTo>
                  <a:lnTo>
                    <a:pt x="852" y="964"/>
                  </a:lnTo>
                  <a:lnTo>
                    <a:pt x="856" y="949"/>
                  </a:lnTo>
                  <a:lnTo>
                    <a:pt x="861" y="945"/>
                  </a:lnTo>
                  <a:lnTo>
                    <a:pt x="867" y="941"/>
                  </a:lnTo>
                  <a:lnTo>
                    <a:pt x="892" y="941"/>
                  </a:lnTo>
                  <a:lnTo>
                    <a:pt x="917" y="953"/>
                  </a:lnTo>
                  <a:lnTo>
                    <a:pt x="948" y="949"/>
                  </a:lnTo>
                  <a:lnTo>
                    <a:pt x="971" y="941"/>
                  </a:lnTo>
                  <a:lnTo>
                    <a:pt x="982" y="935"/>
                  </a:lnTo>
                  <a:lnTo>
                    <a:pt x="988" y="926"/>
                  </a:lnTo>
                  <a:lnTo>
                    <a:pt x="986" y="916"/>
                  </a:lnTo>
                  <a:lnTo>
                    <a:pt x="979" y="906"/>
                  </a:lnTo>
                  <a:lnTo>
                    <a:pt x="954" y="885"/>
                  </a:lnTo>
                  <a:lnTo>
                    <a:pt x="927" y="858"/>
                  </a:lnTo>
                  <a:lnTo>
                    <a:pt x="907" y="831"/>
                  </a:lnTo>
                  <a:lnTo>
                    <a:pt x="900" y="818"/>
                  </a:lnTo>
                  <a:lnTo>
                    <a:pt x="900" y="803"/>
                  </a:lnTo>
                  <a:lnTo>
                    <a:pt x="907" y="789"/>
                  </a:lnTo>
                  <a:lnTo>
                    <a:pt x="921" y="774"/>
                  </a:lnTo>
                  <a:lnTo>
                    <a:pt x="936" y="770"/>
                  </a:lnTo>
                  <a:lnTo>
                    <a:pt x="950" y="774"/>
                  </a:lnTo>
                  <a:lnTo>
                    <a:pt x="967" y="785"/>
                  </a:lnTo>
                  <a:lnTo>
                    <a:pt x="982" y="799"/>
                  </a:lnTo>
                  <a:lnTo>
                    <a:pt x="1017" y="833"/>
                  </a:lnTo>
                  <a:lnTo>
                    <a:pt x="1030" y="847"/>
                  </a:lnTo>
                  <a:lnTo>
                    <a:pt x="1044" y="853"/>
                  </a:lnTo>
                  <a:lnTo>
                    <a:pt x="1100" y="845"/>
                  </a:lnTo>
                  <a:lnTo>
                    <a:pt x="1132" y="858"/>
                  </a:lnTo>
                  <a:lnTo>
                    <a:pt x="1265" y="683"/>
                  </a:lnTo>
                  <a:lnTo>
                    <a:pt x="1307" y="622"/>
                  </a:lnTo>
                  <a:lnTo>
                    <a:pt x="1330" y="574"/>
                  </a:lnTo>
                  <a:lnTo>
                    <a:pt x="1336" y="556"/>
                  </a:lnTo>
                  <a:lnTo>
                    <a:pt x="1336" y="537"/>
                  </a:lnTo>
                  <a:lnTo>
                    <a:pt x="1334" y="522"/>
                  </a:lnTo>
                  <a:lnTo>
                    <a:pt x="1328" y="506"/>
                  </a:lnTo>
                  <a:lnTo>
                    <a:pt x="1315" y="493"/>
                  </a:lnTo>
                  <a:lnTo>
                    <a:pt x="1303" y="479"/>
                  </a:lnTo>
                  <a:lnTo>
                    <a:pt x="1259" y="451"/>
                  </a:lnTo>
                  <a:lnTo>
                    <a:pt x="1228" y="437"/>
                  </a:lnTo>
                  <a:lnTo>
                    <a:pt x="1196" y="426"/>
                  </a:lnTo>
                  <a:lnTo>
                    <a:pt x="1134" y="414"/>
                  </a:lnTo>
                  <a:lnTo>
                    <a:pt x="1071" y="412"/>
                  </a:lnTo>
                  <a:lnTo>
                    <a:pt x="1013" y="418"/>
                  </a:lnTo>
                  <a:lnTo>
                    <a:pt x="963" y="429"/>
                  </a:lnTo>
                  <a:lnTo>
                    <a:pt x="923" y="439"/>
                  </a:lnTo>
                  <a:lnTo>
                    <a:pt x="898" y="449"/>
                  </a:lnTo>
                  <a:lnTo>
                    <a:pt x="886" y="456"/>
                  </a:lnTo>
                  <a:lnTo>
                    <a:pt x="859" y="526"/>
                  </a:lnTo>
                  <a:lnTo>
                    <a:pt x="838" y="579"/>
                  </a:lnTo>
                  <a:lnTo>
                    <a:pt x="829" y="595"/>
                  </a:lnTo>
                  <a:lnTo>
                    <a:pt x="821" y="604"/>
                  </a:lnTo>
                  <a:lnTo>
                    <a:pt x="813" y="604"/>
                  </a:lnTo>
                  <a:lnTo>
                    <a:pt x="802" y="595"/>
                  </a:lnTo>
                  <a:lnTo>
                    <a:pt x="802" y="572"/>
                  </a:lnTo>
                  <a:lnTo>
                    <a:pt x="794" y="574"/>
                  </a:lnTo>
                  <a:lnTo>
                    <a:pt x="786" y="581"/>
                  </a:lnTo>
                  <a:lnTo>
                    <a:pt x="769" y="604"/>
                  </a:lnTo>
                  <a:lnTo>
                    <a:pt x="742" y="674"/>
                  </a:lnTo>
                  <a:lnTo>
                    <a:pt x="719" y="754"/>
                  </a:lnTo>
                  <a:lnTo>
                    <a:pt x="706" y="789"/>
                  </a:lnTo>
                  <a:lnTo>
                    <a:pt x="694" y="814"/>
                  </a:lnTo>
                  <a:lnTo>
                    <a:pt x="677" y="810"/>
                  </a:lnTo>
                  <a:lnTo>
                    <a:pt x="669" y="816"/>
                  </a:lnTo>
                  <a:lnTo>
                    <a:pt x="658" y="835"/>
                  </a:lnTo>
                  <a:lnTo>
                    <a:pt x="602" y="1035"/>
                  </a:lnTo>
                  <a:lnTo>
                    <a:pt x="558" y="1212"/>
                  </a:lnTo>
                  <a:lnTo>
                    <a:pt x="496" y="1500"/>
                  </a:lnTo>
                  <a:lnTo>
                    <a:pt x="475" y="1608"/>
                  </a:lnTo>
                  <a:lnTo>
                    <a:pt x="454" y="1690"/>
                  </a:lnTo>
                  <a:lnTo>
                    <a:pt x="444" y="1723"/>
                  </a:lnTo>
                  <a:lnTo>
                    <a:pt x="433" y="1746"/>
                  </a:lnTo>
                  <a:lnTo>
                    <a:pt x="421" y="1765"/>
                  </a:lnTo>
                  <a:lnTo>
                    <a:pt x="408" y="1775"/>
                  </a:lnTo>
                  <a:lnTo>
                    <a:pt x="391" y="1767"/>
                  </a:lnTo>
                  <a:lnTo>
                    <a:pt x="391" y="1675"/>
                  </a:lnTo>
                  <a:lnTo>
                    <a:pt x="193" y="2110"/>
                  </a:lnTo>
                  <a:lnTo>
                    <a:pt x="185" y="2017"/>
                  </a:lnTo>
                  <a:lnTo>
                    <a:pt x="150" y="2021"/>
                  </a:lnTo>
                  <a:lnTo>
                    <a:pt x="100" y="2171"/>
                  </a:lnTo>
                  <a:lnTo>
                    <a:pt x="87" y="2200"/>
                  </a:lnTo>
                  <a:lnTo>
                    <a:pt x="83" y="2206"/>
                  </a:lnTo>
                  <a:lnTo>
                    <a:pt x="79" y="2206"/>
                  </a:lnTo>
                  <a:lnTo>
                    <a:pt x="77" y="2185"/>
                  </a:lnTo>
                  <a:lnTo>
                    <a:pt x="75" y="2156"/>
                  </a:lnTo>
                  <a:lnTo>
                    <a:pt x="70" y="2158"/>
                  </a:lnTo>
                  <a:lnTo>
                    <a:pt x="62" y="2171"/>
                  </a:lnTo>
                  <a:lnTo>
                    <a:pt x="50" y="2188"/>
                  </a:lnTo>
                  <a:lnTo>
                    <a:pt x="37" y="2200"/>
                  </a:lnTo>
                  <a:lnTo>
                    <a:pt x="22" y="2200"/>
                  </a:lnTo>
                  <a:lnTo>
                    <a:pt x="16" y="2192"/>
                  </a:lnTo>
                  <a:lnTo>
                    <a:pt x="12" y="2177"/>
                  </a:lnTo>
                  <a:lnTo>
                    <a:pt x="4" y="2127"/>
                  </a:lnTo>
                  <a:lnTo>
                    <a:pt x="0" y="2038"/>
                  </a:lnTo>
                  <a:lnTo>
                    <a:pt x="4" y="2013"/>
                  </a:lnTo>
                  <a:lnTo>
                    <a:pt x="14" y="1979"/>
                  </a:lnTo>
                  <a:lnTo>
                    <a:pt x="45" y="1913"/>
                  </a:lnTo>
                  <a:lnTo>
                    <a:pt x="77" y="1854"/>
                  </a:lnTo>
                  <a:lnTo>
                    <a:pt x="93" y="1827"/>
                  </a:lnTo>
                  <a:lnTo>
                    <a:pt x="110" y="1819"/>
                  </a:lnTo>
                  <a:lnTo>
                    <a:pt x="110" y="1731"/>
                  </a:lnTo>
                  <a:lnTo>
                    <a:pt x="112" y="1727"/>
                  </a:lnTo>
                  <a:lnTo>
                    <a:pt x="118" y="1723"/>
                  </a:lnTo>
                  <a:lnTo>
                    <a:pt x="129" y="1719"/>
                  </a:lnTo>
                  <a:lnTo>
                    <a:pt x="141" y="1711"/>
                  </a:lnTo>
                  <a:lnTo>
                    <a:pt x="118" y="1679"/>
                  </a:lnTo>
                  <a:lnTo>
                    <a:pt x="183" y="1511"/>
                  </a:lnTo>
                  <a:lnTo>
                    <a:pt x="198" y="1469"/>
                  </a:lnTo>
                  <a:lnTo>
                    <a:pt x="198" y="1471"/>
                  </a:lnTo>
                  <a:lnTo>
                    <a:pt x="204" y="1475"/>
                  </a:lnTo>
                  <a:lnTo>
                    <a:pt x="214" y="1467"/>
                  </a:lnTo>
                  <a:lnTo>
                    <a:pt x="227" y="1456"/>
                  </a:lnTo>
                  <a:lnTo>
                    <a:pt x="241" y="1440"/>
                  </a:lnTo>
                  <a:lnTo>
                    <a:pt x="252" y="1423"/>
                  </a:lnTo>
                  <a:lnTo>
                    <a:pt x="254" y="1415"/>
                  </a:lnTo>
                  <a:lnTo>
                    <a:pt x="252" y="1411"/>
                  </a:lnTo>
                  <a:lnTo>
                    <a:pt x="246" y="1404"/>
                  </a:lnTo>
                  <a:lnTo>
                    <a:pt x="239" y="1392"/>
                  </a:lnTo>
                  <a:lnTo>
                    <a:pt x="237" y="1375"/>
                  </a:lnTo>
                  <a:lnTo>
                    <a:pt x="243" y="1346"/>
                  </a:lnTo>
                  <a:lnTo>
                    <a:pt x="254" y="1300"/>
                  </a:lnTo>
                  <a:lnTo>
                    <a:pt x="379" y="928"/>
                  </a:lnTo>
                  <a:lnTo>
                    <a:pt x="439" y="760"/>
                  </a:lnTo>
                  <a:lnTo>
                    <a:pt x="471" y="685"/>
                  </a:lnTo>
                  <a:lnTo>
                    <a:pt x="506" y="587"/>
                  </a:lnTo>
                  <a:lnTo>
                    <a:pt x="448" y="612"/>
                  </a:lnTo>
                  <a:lnTo>
                    <a:pt x="379" y="643"/>
                  </a:lnTo>
                  <a:lnTo>
                    <a:pt x="344" y="654"/>
                  </a:lnTo>
                  <a:lnTo>
                    <a:pt x="312" y="662"/>
                  </a:lnTo>
                  <a:lnTo>
                    <a:pt x="300" y="662"/>
                  </a:lnTo>
                  <a:lnTo>
                    <a:pt x="287" y="658"/>
                  </a:lnTo>
                  <a:lnTo>
                    <a:pt x="277" y="654"/>
                  </a:lnTo>
                  <a:lnTo>
                    <a:pt x="268" y="643"/>
                  </a:lnTo>
                  <a:lnTo>
                    <a:pt x="260" y="608"/>
                  </a:lnTo>
                  <a:lnTo>
                    <a:pt x="158" y="599"/>
                  </a:lnTo>
                  <a:lnTo>
                    <a:pt x="150" y="562"/>
                  </a:lnTo>
                  <a:lnTo>
                    <a:pt x="135" y="545"/>
                  </a:lnTo>
                  <a:lnTo>
                    <a:pt x="118" y="539"/>
                  </a:lnTo>
                  <a:lnTo>
                    <a:pt x="102" y="539"/>
                  </a:lnTo>
                  <a:lnTo>
                    <a:pt x="87" y="539"/>
                  </a:lnTo>
                  <a:lnTo>
                    <a:pt x="81" y="537"/>
                  </a:lnTo>
                  <a:lnTo>
                    <a:pt x="77" y="531"/>
                  </a:lnTo>
                  <a:lnTo>
                    <a:pt x="70" y="512"/>
                  </a:lnTo>
                  <a:lnTo>
                    <a:pt x="70" y="472"/>
                  </a:lnTo>
                  <a:lnTo>
                    <a:pt x="77" y="429"/>
                  </a:lnTo>
                  <a:lnTo>
                    <a:pt x="81" y="416"/>
                  </a:lnTo>
                  <a:lnTo>
                    <a:pt x="100" y="416"/>
                  </a:lnTo>
                  <a:lnTo>
                    <a:pt x="137" y="408"/>
                  </a:lnTo>
                  <a:lnTo>
                    <a:pt x="158" y="397"/>
                  </a:lnTo>
                  <a:lnTo>
                    <a:pt x="164" y="391"/>
                  </a:lnTo>
                  <a:lnTo>
                    <a:pt x="170" y="383"/>
                  </a:lnTo>
                  <a:lnTo>
                    <a:pt x="181" y="368"/>
                  </a:lnTo>
                  <a:lnTo>
                    <a:pt x="187" y="349"/>
                  </a:lnTo>
                  <a:lnTo>
                    <a:pt x="200" y="314"/>
                  </a:lnTo>
                  <a:lnTo>
                    <a:pt x="212" y="297"/>
                  </a:lnTo>
                  <a:lnTo>
                    <a:pt x="229" y="285"/>
                  </a:lnTo>
                  <a:lnTo>
                    <a:pt x="369" y="222"/>
                  </a:lnTo>
                  <a:lnTo>
                    <a:pt x="562" y="149"/>
                  </a:lnTo>
                  <a:lnTo>
                    <a:pt x="746" y="87"/>
                  </a:lnTo>
                  <a:lnTo>
                    <a:pt x="813" y="68"/>
                  </a:lnTo>
                  <a:lnTo>
                    <a:pt x="856" y="58"/>
                  </a:lnTo>
                  <a:lnTo>
                    <a:pt x="948" y="54"/>
                  </a:lnTo>
                  <a:lnTo>
                    <a:pt x="1005" y="49"/>
                  </a:lnTo>
                  <a:lnTo>
                    <a:pt x="1027" y="45"/>
                  </a:lnTo>
                  <a:lnTo>
                    <a:pt x="1044" y="39"/>
                  </a:lnTo>
                  <a:lnTo>
                    <a:pt x="1080" y="10"/>
                  </a:lnTo>
                  <a:lnTo>
                    <a:pt x="1142" y="4"/>
                  </a:lnTo>
                  <a:lnTo>
                    <a:pt x="1192" y="0"/>
                  </a:lnTo>
                  <a:lnTo>
                    <a:pt x="1251" y="0"/>
                  </a:lnTo>
                  <a:lnTo>
                    <a:pt x="1315" y="6"/>
                  </a:lnTo>
                  <a:lnTo>
                    <a:pt x="1387" y="20"/>
                  </a:lnTo>
                  <a:lnTo>
                    <a:pt x="1458" y="43"/>
                  </a:lnTo>
                  <a:lnTo>
                    <a:pt x="1493" y="60"/>
                  </a:lnTo>
                  <a:lnTo>
                    <a:pt x="1529" y="79"/>
                  </a:lnTo>
                  <a:lnTo>
                    <a:pt x="1596" y="129"/>
                  </a:lnTo>
                  <a:lnTo>
                    <a:pt x="1652" y="179"/>
                  </a:lnTo>
                  <a:lnTo>
                    <a:pt x="1698" y="233"/>
                  </a:lnTo>
                  <a:lnTo>
                    <a:pt x="1733" y="289"/>
                  </a:lnTo>
                  <a:lnTo>
                    <a:pt x="1758" y="347"/>
                  </a:lnTo>
                  <a:lnTo>
                    <a:pt x="1769" y="408"/>
                  </a:lnTo>
                  <a:lnTo>
                    <a:pt x="1771" y="439"/>
                  </a:lnTo>
                  <a:lnTo>
                    <a:pt x="1771" y="468"/>
                  </a:lnTo>
                  <a:lnTo>
                    <a:pt x="1769" y="499"/>
                  </a:lnTo>
                  <a:lnTo>
                    <a:pt x="1760" y="531"/>
                  </a:lnTo>
                  <a:lnTo>
                    <a:pt x="1742" y="593"/>
                  </a:lnTo>
                  <a:lnTo>
                    <a:pt x="1710" y="654"/>
                  </a:lnTo>
                  <a:lnTo>
                    <a:pt x="1671" y="716"/>
                  </a:lnTo>
                  <a:lnTo>
                    <a:pt x="1644" y="747"/>
                  </a:lnTo>
                  <a:lnTo>
                    <a:pt x="1616" y="776"/>
                  </a:lnTo>
                  <a:lnTo>
                    <a:pt x="1587" y="806"/>
                  </a:lnTo>
                  <a:lnTo>
                    <a:pt x="1554" y="837"/>
                  </a:lnTo>
                  <a:lnTo>
                    <a:pt x="1481" y="895"/>
                  </a:lnTo>
                  <a:lnTo>
                    <a:pt x="1439" y="924"/>
                  </a:lnTo>
                  <a:lnTo>
                    <a:pt x="1395" y="951"/>
                  </a:lnTo>
                  <a:lnTo>
                    <a:pt x="1299" y="1006"/>
                  </a:lnTo>
                  <a:lnTo>
                    <a:pt x="1425" y="1128"/>
                  </a:lnTo>
                  <a:lnTo>
                    <a:pt x="1443" y="1151"/>
                  </a:lnTo>
                  <a:lnTo>
                    <a:pt x="1458" y="1174"/>
                  </a:lnTo>
                  <a:lnTo>
                    <a:pt x="1568" y="1309"/>
                  </a:lnTo>
                  <a:lnTo>
                    <a:pt x="1612" y="1356"/>
                  </a:lnTo>
                  <a:lnTo>
                    <a:pt x="1646" y="1390"/>
                  </a:lnTo>
                  <a:lnTo>
                    <a:pt x="1673" y="1413"/>
                  </a:lnTo>
                  <a:lnTo>
                    <a:pt x="1694" y="1427"/>
                  </a:lnTo>
                  <a:lnTo>
                    <a:pt x="1729" y="1444"/>
                  </a:lnTo>
                  <a:lnTo>
                    <a:pt x="1746" y="1452"/>
                  </a:lnTo>
                  <a:lnTo>
                    <a:pt x="1764" y="1465"/>
                  </a:lnTo>
                  <a:lnTo>
                    <a:pt x="1865" y="1583"/>
                  </a:lnTo>
                  <a:lnTo>
                    <a:pt x="2038" y="1719"/>
                  </a:lnTo>
                  <a:lnTo>
                    <a:pt x="2146" y="1827"/>
                  </a:lnTo>
                  <a:lnTo>
                    <a:pt x="2225" y="1906"/>
                  </a:lnTo>
                  <a:lnTo>
                    <a:pt x="2292" y="1963"/>
                  </a:lnTo>
                  <a:lnTo>
                    <a:pt x="2446" y="2085"/>
                  </a:lnTo>
                  <a:lnTo>
                    <a:pt x="2534" y="2156"/>
                  </a:lnTo>
                  <a:lnTo>
                    <a:pt x="2559" y="2179"/>
                  </a:lnTo>
                  <a:lnTo>
                    <a:pt x="2578" y="2198"/>
                  </a:lnTo>
                  <a:lnTo>
                    <a:pt x="2590" y="2217"/>
                  </a:lnTo>
                  <a:lnTo>
                    <a:pt x="2599" y="223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076800" y="5589720"/>
              <a:ext cx="503640" cy="748080"/>
            </a:xfrm>
            <a:custGeom>
              <a:avLst/>
              <a:gdLst/>
              <a:ahLst/>
              <a:rect l="0" t="0" r="r" b="b"/>
              <a:pathLst>
                <a:path w="1399" h="2078">
                  <a:moveTo>
                    <a:pt x="1385" y="140"/>
                  </a:moveTo>
                  <a:lnTo>
                    <a:pt x="1393" y="161"/>
                  </a:lnTo>
                  <a:lnTo>
                    <a:pt x="1397" y="184"/>
                  </a:lnTo>
                  <a:lnTo>
                    <a:pt x="1399" y="236"/>
                  </a:lnTo>
                  <a:lnTo>
                    <a:pt x="1397" y="301"/>
                  </a:lnTo>
                  <a:lnTo>
                    <a:pt x="1391" y="374"/>
                  </a:lnTo>
                  <a:lnTo>
                    <a:pt x="1372" y="560"/>
                  </a:lnTo>
                  <a:lnTo>
                    <a:pt x="1355" y="798"/>
                  </a:lnTo>
                  <a:lnTo>
                    <a:pt x="1345" y="1286"/>
                  </a:lnTo>
                  <a:lnTo>
                    <a:pt x="1343" y="1601"/>
                  </a:lnTo>
                  <a:lnTo>
                    <a:pt x="1337" y="1687"/>
                  </a:lnTo>
                  <a:lnTo>
                    <a:pt x="1332" y="1712"/>
                  </a:lnTo>
                  <a:lnTo>
                    <a:pt x="1326" y="1718"/>
                  </a:lnTo>
                  <a:lnTo>
                    <a:pt x="1322" y="1723"/>
                  </a:lnTo>
                  <a:lnTo>
                    <a:pt x="1318" y="1723"/>
                  </a:lnTo>
                  <a:lnTo>
                    <a:pt x="1311" y="1720"/>
                  </a:lnTo>
                  <a:lnTo>
                    <a:pt x="1297" y="1704"/>
                  </a:lnTo>
                  <a:lnTo>
                    <a:pt x="1259" y="1633"/>
                  </a:lnTo>
                  <a:lnTo>
                    <a:pt x="1226" y="1817"/>
                  </a:lnTo>
                  <a:lnTo>
                    <a:pt x="1207" y="1804"/>
                  </a:lnTo>
                  <a:lnTo>
                    <a:pt x="1194" y="1794"/>
                  </a:lnTo>
                  <a:lnTo>
                    <a:pt x="1190" y="1779"/>
                  </a:lnTo>
                  <a:lnTo>
                    <a:pt x="1186" y="1764"/>
                  </a:lnTo>
                  <a:lnTo>
                    <a:pt x="1186" y="1731"/>
                  </a:lnTo>
                  <a:lnTo>
                    <a:pt x="1186" y="1689"/>
                  </a:lnTo>
                  <a:lnTo>
                    <a:pt x="1146" y="1618"/>
                  </a:lnTo>
                  <a:lnTo>
                    <a:pt x="1142" y="1643"/>
                  </a:lnTo>
                  <a:lnTo>
                    <a:pt x="1136" y="1660"/>
                  </a:lnTo>
                  <a:lnTo>
                    <a:pt x="1129" y="1668"/>
                  </a:lnTo>
                  <a:lnTo>
                    <a:pt x="1121" y="1674"/>
                  </a:lnTo>
                  <a:lnTo>
                    <a:pt x="1115" y="1672"/>
                  </a:lnTo>
                  <a:lnTo>
                    <a:pt x="1106" y="1666"/>
                  </a:lnTo>
                  <a:lnTo>
                    <a:pt x="1094" y="1645"/>
                  </a:lnTo>
                  <a:lnTo>
                    <a:pt x="1071" y="1582"/>
                  </a:lnTo>
                  <a:lnTo>
                    <a:pt x="1065" y="1554"/>
                  </a:lnTo>
                  <a:lnTo>
                    <a:pt x="1062" y="1531"/>
                  </a:lnTo>
                  <a:lnTo>
                    <a:pt x="1079" y="1510"/>
                  </a:lnTo>
                  <a:lnTo>
                    <a:pt x="1079" y="1458"/>
                  </a:lnTo>
                  <a:lnTo>
                    <a:pt x="1054" y="1391"/>
                  </a:lnTo>
                  <a:lnTo>
                    <a:pt x="1054" y="1024"/>
                  </a:lnTo>
                  <a:lnTo>
                    <a:pt x="1045" y="964"/>
                  </a:lnTo>
                  <a:lnTo>
                    <a:pt x="835" y="1041"/>
                  </a:lnTo>
                  <a:lnTo>
                    <a:pt x="714" y="1083"/>
                  </a:lnTo>
                  <a:lnTo>
                    <a:pt x="653" y="1106"/>
                  </a:lnTo>
                  <a:lnTo>
                    <a:pt x="639" y="1114"/>
                  </a:lnTo>
                  <a:lnTo>
                    <a:pt x="630" y="1123"/>
                  </a:lnTo>
                  <a:lnTo>
                    <a:pt x="349" y="1720"/>
                  </a:lnTo>
                  <a:lnTo>
                    <a:pt x="255" y="1942"/>
                  </a:lnTo>
                  <a:lnTo>
                    <a:pt x="238" y="1982"/>
                  </a:lnTo>
                  <a:lnTo>
                    <a:pt x="200" y="2032"/>
                  </a:lnTo>
                  <a:lnTo>
                    <a:pt x="219" y="1924"/>
                  </a:lnTo>
                  <a:lnTo>
                    <a:pt x="228" y="1838"/>
                  </a:lnTo>
                  <a:lnTo>
                    <a:pt x="232" y="1794"/>
                  </a:lnTo>
                  <a:lnTo>
                    <a:pt x="198" y="1838"/>
                  </a:lnTo>
                  <a:lnTo>
                    <a:pt x="113" y="2032"/>
                  </a:lnTo>
                  <a:lnTo>
                    <a:pt x="96" y="2026"/>
                  </a:lnTo>
                  <a:lnTo>
                    <a:pt x="89" y="2020"/>
                  </a:lnTo>
                  <a:lnTo>
                    <a:pt x="87" y="2011"/>
                  </a:lnTo>
                  <a:lnTo>
                    <a:pt x="89" y="2003"/>
                  </a:lnTo>
                  <a:lnTo>
                    <a:pt x="104" y="1982"/>
                  </a:lnTo>
                  <a:lnTo>
                    <a:pt x="113" y="1968"/>
                  </a:lnTo>
                  <a:lnTo>
                    <a:pt x="115" y="1951"/>
                  </a:lnTo>
                  <a:lnTo>
                    <a:pt x="110" y="1924"/>
                  </a:lnTo>
                  <a:lnTo>
                    <a:pt x="104" y="1917"/>
                  </a:lnTo>
                  <a:lnTo>
                    <a:pt x="98" y="1928"/>
                  </a:lnTo>
                  <a:lnTo>
                    <a:pt x="89" y="1949"/>
                  </a:lnTo>
                  <a:lnTo>
                    <a:pt x="77" y="1980"/>
                  </a:lnTo>
                  <a:lnTo>
                    <a:pt x="60" y="2014"/>
                  </a:lnTo>
                  <a:lnTo>
                    <a:pt x="37" y="2047"/>
                  </a:lnTo>
                  <a:lnTo>
                    <a:pt x="23" y="2064"/>
                  </a:lnTo>
                  <a:lnTo>
                    <a:pt x="6" y="2078"/>
                  </a:lnTo>
                  <a:lnTo>
                    <a:pt x="0" y="1959"/>
                  </a:lnTo>
                  <a:lnTo>
                    <a:pt x="0" y="1934"/>
                  </a:lnTo>
                  <a:lnTo>
                    <a:pt x="2" y="1924"/>
                  </a:lnTo>
                  <a:lnTo>
                    <a:pt x="16" y="1909"/>
                  </a:lnTo>
                  <a:lnTo>
                    <a:pt x="31" y="1892"/>
                  </a:lnTo>
                  <a:lnTo>
                    <a:pt x="46" y="1852"/>
                  </a:lnTo>
                  <a:lnTo>
                    <a:pt x="50" y="1806"/>
                  </a:lnTo>
                  <a:lnTo>
                    <a:pt x="79" y="1781"/>
                  </a:lnTo>
                  <a:lnTo>
                    <a:pt x="92" y="1767"/>
                  </a:lnTo>
                  <a:lnTo>
                    <a:pt x="98" y="1754"/>
                  </a:lnTo>
                  <a:lnTo>
                    <a:pt x="104" y="1737"/>
                  </a:lnTo>
                  <a:lnTo>
                    <a:pt x="113" y="1708"/>
                  </a:lnTo>
                  <a:lnTo>
                    <a:pt x="129" y="1660"/>
                  </a:lnTo>
                  <a:lnTo>
                    <a:pt x="167" y="1586"/>
                  </a:lnTo>
                  <a:lnTo>
                    <a:pt x="223" y="1479"/>
                  </a:lnTo>
                  <a:lnTo>
                    <a:pt x="301" y="1340"/>
                  </a:lnTo>
                  <a:lnTo>
                    <a:pt x="343" y="1255"/>
                  </a:lnTo>
                  <a:lnTo>
                    <a:pt x="363" y="1209"/>
                  </a:lnTo>
                  <a:lnTo>
                    <a:pt x="373" y="1179"/>
                  </a:lnTo>
                  <a:lnTo>
                    <a:pt x="390" y="1148"/>
                  </a:lnTo>
                  <a:lnTo>
                    <a:pt x="345" y="1139"/>
                  </a:lnTo>
                  <a:lnTo>
                    <a:pt x="336" y="1135"/>
                  </a:lnTo>
                  <a:lnTo>
                    <a:pt x="334" y="1133"/>
                  </a:lnTo>
                  <a:lnTo>
                    <a:pt x="334" y="1123"/>
                  </a:lnTo>
                  <a:lnTo>
                    <a:pt x="334" y="1114"/>
                  </a:lnTo>
                  <a:lnTo>
                    <a:pt x="326" y="1100"/>
                  </a:lnTo>
                  <a:lnTo>
                    <a:pt x="320" y="1083"/>
                  </a:lnTo>
                  <a:lnTo>
                    <a:pt x="322" y="1075"/>
                  </a:lnTo>
                  <a:lnTo>
                    <a:pt x="328" y="1068"/>
                  </a:lnTo>
                  <a:lnTo>
                    <a:pt x="345" y="1060"/>
                  </a:lnTo>
                  <a:lnTo>
                    <a:pt x="367" y="1052"/>
                  </a:lnTo>
                  <a:lnTo>
                    <a:pt x="423" y="1037"/>
                  </a:lnTo>
                  <a:lnTo>
                    <a:pt x="450" y="1029"/>
                  </a:lnTo>
                  <a:lnTo>
                    <a:pt x="469" y="1016"/>
                  </a:lnTo>
                  <a:lnTo>
                    <a:pt x="522" y="924"/>
                  </a:lnTo>
                  <a:lnTo>
                    <a:pt x="522" y="880"/>
                  </a:lnTo>
                  <a:lnTo>
                    <a:pt x="566" y="836"/>
                  </a:lnTo>
                  <a:lnTo>
                    <a:pt x="574" y="825"/>
                  </a:lnTo>
                  <a:lnTo>
                    <a:pt x="574" y="817"/>
                  </a:lnTo>
                  <a:lnTo>
                    <a:pt x="574" y="796"/>
                  </a:lnTo>
                  <a:lnTo>
                    <a:pt x="578" y="779"/>
                  </a:lnTo>
                  <a:lnTo>
                    <a:pt x="586" y="750"/>
                  </a:lnTo>
                  <a:lnTo>
                    <a:pt x="658" y="641"/>
                  </a:lnTo>
                  <a:lnTo>
                    <a:pt x="683" y="593"/>
                  </a:lnTo>
                  <a:lnTo>
                    <a:pt x="699" y="572"/>
                  </a:lnTo>
                  <a:lnTo>
                    <a:pt x="722" y="541"/>
                  </a:lnTo>
                  <a:lnTo>
                    <a:pt x="758" y="483"/>
                  </a:lnTo>
                  <a:lnTo>
                    <a:pt x="762" y="456"/>
                  </a:lnTo>
                  <a:lnTo>
                    <a:pt x="785" y="443"/>
                  </a:lnTo>
                  <a:lnTo>
                    <a:pt x="848" y="299"/>
                  </a:lnTo>
                  <a:lnTo>
                    <a:pt x="869" y="263"/>
                  </a:lnTo>
                  <a:lnTo>
                    <a:pt x="882" y="242"/>
                  </a:lnTo>
                  <a:lnTo>
                    <a:pt x="902" y="224"/>
                  </a:lnTo>
                  <a:lnTo>
                    <a:pt x="913" y="211"/>
                  </a:lnTo>
                  <a:lnTo>
                    <a:pt x="928" y="188"/>
                  </a:lnTo>
                  <a:lnTo>
                    <a:pt x="944" y="157"/>
                  </a:lnTo>
                  <a:lnTo>
                    <a:pt x="955" y="129"/>
                  </a:lnTo>
                  <a:lnTo>
                    <a:pt x="963" y="90"/>
                  </a:lnTo>
                  <a:lnTo>
                    <a:pt x="967" y="81"/>
                  </a:lnTo>
                  <a:lnTo>
                    <a:pt x="976" y="73"/>
                  </a:lnTo>
                  <a:lnTo>
                    <a:pt x="988" y="69"/>
                  </a:lnTo>
                  <a:lnTo>
                    <a:pt x="1011" y="69"/>
                  </a:lnTo>
                  <a:lnTo>
                    <a:pt x="1024" y="69"/>
                  </a:lnTo>
                  <a:lnTo>
                    <a:pt x="1032" y="75"/>
                  </a:lnTo>
                  <a:lnTo>
                    <a:pt x="1034" y="79"/>
                  </a:lnTo>
                  <a:lnTo>
                    <a:pt x="1036" y="85"/>
                  </a:lnTo>
                  <a:lnTo>
                    <a:pt x="1038" y="104"/>
                  </a:lnTo>
                  <a:lnTo>
                    <a:pt x="1045" y="121"/>
                  </a:lnTo>
                  <a:lnTo>
                    <a:pt x="1050" y="125"/>
                  </a:lnTo>
                  <a:lnTo>
                    <a:pt x="1056" y="121"/>
                  </a:lnTo>
                  <a:lnTo>
                    <a:pt x="1067" y="90"/>
                  </a:lnTo>
                  <a:lnTo>
                    <a:pt x="1073" y="73"/>
                  </a:lnTo>
                  <a:lnTo>
                    <a:pt x="1083" y="56"/>
                  </a:lnTo>
                  <a:lnTo>
                    <a:pt x="1096" y="41"/>
                  </a:lnTo>
                  <a:lnTo>
                    <a:pt x="1111" y="33"/>
                  </a:lnTo>
                  <a:lnTo>
                    <a:pt x="1148" y="35"/>
                  </a:lnTo>
                  <a:lnTo>
                    <a:pt x="1171" y="39"/>
                  </a:lnTo>
                  <a:lnTo>
                    <a:pt x="1184" y="39"/>
                  </a:lnTo>
                  <a:lnTo>
                    <a:pt x="1201" y="35"/>
                  </a:lnTo>
                  <a:lnTo>
                    <a:pt x="1257" y="8"/>
                  </a:lnTo>
                  <a:lnTo>
                    <a:pt x="1270" y="2"/>
                  </a:lnTo>
                  <a:lnTo>
                    <a:pt x="1293" y="0"/>
                  </a:lnTo>
                  <a:lnTo>
                    <a:pt x="1322" y="2"/>
                  </a:lnTo>
                  <a:lnTo>
                    <a:pt x="1335" y="8"/>
                  </a:lnTo>
                  <a:lnTo>
                    <a:pt x="1343" y="16"/>
                  </a:lnTo>
                  <a:lnTo>
                    <a:pt x="1349" y="33"/>
                  </a:lnTo>
                  <a:lnTo>
                    <a:pt x="1349" y="52"/>
                  </a:lnTo>
                  <a:lnTo>
                    <a:pt x="1345" y="90"/>
                  </a:lnTo>
                  <a:lnTo>
                    <a:pt x="1347" y="108"/>
                  </a:lnTo>
                  <a:lnTo>
                    <a:pt x="1353" y="123"/>
                  </a:lnTo>
                  <a:lnTo>
                    <a:pt x="1358" y="129"/>
                  </a:lnTo>
                  <a:lnTo>
                    <a:pt x="1366" y="133"/>
                  </a:lnTo>
                  <a:lnTo>
                    <a:pt x="1385" y="14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602400" y="5607000"/>
              <a:ext cx="405000" cy="594000"/>
            </a:xfrm>
            <a:custGeom>
              <a:avLst/>
              <a:gdLst/>
              <a:ahLst/>
              <a:rect l="0" t="0" r="r" b="b"/>
              <a:pathLst>
                <a:path w="1125" h="1650">
                  <a:moveTo>
                    <a:pt x="980" y="207"/>
                  </a:moveTo>
                  <a:lnTo>
                    <a:pt x="988" y="234"/>
                  </a:lnTo>
                  <a:lnTo>
                    <a:pt x="986" y="253"/>
                  </a:lnTo>
                  <a:lnTo>
                    <a:pt x="980" y="267"/>
                  </a:lnTo>
                  <a:lnTo>
                    <a:pt x="966" y="278"/>
                  </a:lnTo>
                  <a:lnTo>
                    <a:pt x="920" y="294"/>
                  </a:lnTo>
                  <a:lnTo>
                    <a:pt x="856" y="309"/>
                  </a:lnTo>
                  <a:lnTo>
                    <a:pt x="771" y="334"/>
                  </a:lnTo>
                  <a:lnTo>
                    <a:pt x="721" y="353"/>
                  </a:lnTo>
                  <a:lnTo>
                    <a:pt x="667" y="378"/>
                  </a:lnTo>
                  <a:lnTo>
                    <a:pt x="609" y="411"/>
                  </a:lnTo>
                  <a:lnTo>
                    <a:pt x="546" y="450"/>
                  </a:lnTo>
                  <a:lnTo>
                    <a:pt x="482" y="500"/>
                  </a:lnTo>
                  <a:lnTo>
                    <a:pt x="414" y="560"/>
                  </a:lnTo>
                  <a:lnTo>
                    <a:pt x="378" y="600"/>
                  </a:lnTo>
                  <a:lnTo>
                    <a:pt x="345" y="643"/>
                  </a:lnTo>
                  <a:lnTo>
                    <a:pt x="316" y="689"/>
                  </a:lnTo>
                  <a:lnTo>
                    <a:pt x="291" y="739"/>
                  </a:lnTo>
                  <a:lnTo>
                    <a:pt x="273" y="791"/>
                  </a:lnTo>
                  <a:lnTo>
                    <a:pt x="254" y="842"/>
                  </a:lnTo>
                  <a:lnTo>
                    <a:pt x="244" y="896"/>
                  </a:lnTo>
                  <a:lnTo>
                    <a:pt x="236" y="948"/>
                  </a:lnTo>
                  <a:lnTo>
                    <a:pt x="231" y="1052"/>
                  </a:lnTo>
                  <a:lnTo>
                    <a:pt x="236" y="1099"/>
                  </a:lnTo>
                  <a:lnTo>
                    <a:pt x="244" y="1147"/>
                  </a:lnTo>
                  <a:lnTo>
                    <a:pt x="254" y="1189"/>
                  </a:lnTo>
                  <a:lnTo>
                    <a:pt x="271" y="1228"/>
                  </a:lnTo>
                  <a:lnTo>
                    <a:pt x="291" y="1263"/>
                  </a:lnTo>
                  <a:lnTo>
                    <a:pt x="314" y="1292"/>
                  </a:lnTo>
                  <a:lnTo>
                    <a:pt x="370" y="1346"/>
                  </a:lnTo>
                  <a:lnTo>
                    <a:pt x="426" y="1390"/>
                  </a:lnTo>
                  <a:lnTo>
                    <a:pt x="488" y="1427"/>
                  </a:lnTo>
                  <a:lnTo>
                    <a:pt x="550" y="1450"/>
                  </a:lnTo>
                  <a:lnTo>
                    <a:pt x="616" y="1461"/>
                  </a:lnTo>
                  <a:lnTo>
                    <a:pt x="649" y="1461"/>
                  </a:lnTo>
                  <a:lnTo>
                    <a:pt x="680" y="1454"/>
                  </a:lnTo>
                  <a:lnTo>
                    <a:pt x="713" y="1446"/>
                  </a:lnTo>
                  <a:lnTo>
                    <a:pt x="746" y="1432"/>
                  </a:lnTo>
                  <a:lnTo>
                    <a:pt x="781" y="1413"/>
                  </a:lnTo>
                  <a:lnTo>
                    <a:pt x="814" y="1388"/>
                  </a:lnTo>
                  <a:lnTo>
                    <a:pt x="796" y="1355"/>
                  </a:lnTo>
                  <a:lnTo>
                    <a:pt x="787" y="1330"/>
                  </a:lnTo>
                  <a:lnTo>
                    <a:pt x="781" y="1292"/>
                  </a:lnTo>
                  <a:lnTo>
                    <a:pt x="783" y="1238"/>
                  </a:lnTo>
                  <a:lnTo>
                    <a:pt x="792" y="1164"/>
                  </a:lnTo>
                  <a:lnTo>
                    <a:pt x="810" y="1066"/>
                  </a:lnTo>
                  <a:lnTo>
                    <a:pt x="841" y="939"/>
                  </a:lnTo>
                  <a:lnTo>
                    <a:pt x="736" y="958"/>
                  </a:lnTo>
                  <a:lnTo>
                    <a:pt x="651" y="979"/>
                  </a:lnTo>
                  <a:lnTo>
                    <a:pt x="587" y="1002"/>
                  </a:lnTo>
                  <a:lnTo>
                    <a:pt x="538" y="1022"/>
                  </a:lnTo>
                  <a:lnTo>
                    <a:pt x="480" y="1052"/>
                  </a:lnTo>
                  <a:lnTo>
                    <a:pt x="461" y="1058"/>
                  </a:lnTo>
                  <a:lnTo>
                    <a:pt x="445" y="1054"/>
                  </a:lnTo>
                  <a:lnTo>
                    <a:pt x="436" y="1047"/>
                  </a:lnTo>
                  <a:lnTo>
                    <a:pt x="434" y="1041"/>
                  </a:lnTo>
                  <a:lnTo>
                    <a:pt x="439" y="1037"/>
                  </a:lnTo>
                  <a:lnTo>
                    <a:pt x="445" y="1031"/>
                  </a:lnTo>
                  <a:lnTo>
                    <a:pt x="465" y="1020"/>
                  </a:lnTo>
                  <a:lnTo>
                    <a:pt x="484" y="1006"/>
                  </a:lnTo>
                  <a:lnTo>
                    <a:pt x="540" y="906"/>
                  </a:lnTo>
                  <a:lnTo>
                    <a:pt x="578" y="887"/>
                  </a:lnTo>
                  <a:lnTo>
                    <a:pt x="593" y="875"/>
                  </a:lnTo>
                  <a:lnTo>
                    <a:pt x="599" y="865"/>
                  </a:lnTo>
                  <a:lnTo>
                    <a:pt x="616" y="848"/>
                  </a:lnTo>
                  <a:lnTo>
                    <a:pt x="711" y="814"/>
                  </a:lnTo>
                  <a:lnTo>
                    <a:pt x="717" y="789"/>
                  </a:lnTo>
                  <a:lnTo>
                    <a:pt x="719" y="787"/>
                  </a:lnTo>
                  <a:lnTo>
                    <a:pt x="742" y="789"/>
                  </a:lnTo>
                  <a:lnTo>
                    <a:pt x="767" y="785"/>
                  </a:lnTo>
                  <a:lnTo>
                    <a:pt x="802" y="774"/>
                  </a:lnTo>
                  <a:lnTo>
                    <a:pt x="852" y="758"/>
                  </a:lnTo>
                  <a:lnTo>
                    <a:pt x="891" y="737"/>
                  </a:lnTo>
                  <a:lnTo>
                    <a:pt x="922" y="716"/>
                  </a:lnTo>
                  <a:lnTo>
                    <a:pt x="947" y="695"/>
                  </a:lnTo>
                  <a:lnTo>
                    <a:pt x="986" y="668"/>
                  </a:lnTo>
                  <a:lnTo>
                    <a:pt x="1001" y="662"/>
                  </a:lnTo>
                  <a:lnTo>
                    <a:pt x="1015" y="664"/>
                  </a:lnTo>
                  <a:lnTo>
                    <a:pt x="1030" y="675"/>
                  </a:lnTo>
                  <a:lnTo>
                    <a:pt x="1038" y="685"/>
                  </a:lnTo>
                  <a:lnTo>
                    <a:pt x="1044" y="704"/>
                  </a:lnTo>
                  <a:lnTo>
                    <a:pt x="1048" y="716"/>
                  </a:lnTo>
                  <a:lnTo>
                    <a:pt x="1055" y="718"/>
                  </a:lnTo>
                  <a:lnTo>
                    <a:pt x="1063" y="712"/>
                  </a:lnTo>
                  <a:lnTo>
                    <a:pt x="1094" y="687"/>
                  </a:lnTo>
                  <a:lnTo>
                    <a:pt x="1125" y="691"/>
                  </a:lnTo>
                  <a:lnTo>
                    <a:pt x="1115" y="812"/>
                  </a:lnTo>
                  <a:lnTo>
                    <a:pt x="1098" y="914"/>
                  </a:lnTo>
                  <a:lnTo>
                    <a:pt x="1055" y="1085"/>
                  </a:lnTo>
                  <a:lnTo>
                    <a:pt x="1036" y="1164"/>
                  </a:lnTo>
                  <a:lnTo>
                    <a:pt x="1021" y="1247"/>
                  </a:lnTo>
                  <a:lnTo>
                    <a:pt x="1013" y="1340"/>
                  </a:lnTo>
                  <a:lnTo>
                    <a:pt x="1015" y="1448"/>
                  </a:lnTo>
                  <a:lnTo>
                    <a:pt x="1028" y="1575"/>
                  </a:lnTo>
                  <a:lnTo>
                    <a:pt x="1034" y="1623"/>
                  </a:lnTo>
                  <a:lnTo>
                    <a:pt x="1032" y="1631"/>
                  </a:lnTo>
                  <a:lnTo>
                    <a:pt x="1028" y="1631"/>
                  </a:lnTo>
                  <a:lnTo>
                    <a:pt x="1007" y="1637"/>
                  </a:lnTo>
                  <a:lnTo>
                    <a:pt x="997" y="1614"/>
                  </a:lnTo>
                  <a:lnTo>
                    <a:pt x="986" y="1610"/>
                  </a:lnTo>
                  <a:lnTo>
                    <a:pt x="974" y="1614"/>
                  </a:lnTo>
                  <a:lnTo>
                    <a:pt x="968" y="1612"/>
                  </a:lnTo>
                  <a:lnTo>
                    <a:pt x="959" y="1606"/>
                  </a:lnTo>
                  <a:lnTo>
                    <a:pt x="941" y="1554"/>
                  </a:lnTo>
                  <a:lnTo>
                    <a:pt x="928" y="1548"/>
                  </a:lnTo>
                  <a:lnTo>
                    <a:pt x="914" y="1535"/>
                  </a:lnTo>
                  <a:lnTo>
                    <a:pt x="885" y="1511"/>
                  </a:lnTo>
                  <a:lnTo>
                    <a:pt x="858" y="1492"/>
                  </a:lnTo>
                  <a:lnTo>
                    <a:pt x="847" y="1488"/>
                  </a:lnTo>
                  <a:lnTo>
                    <a:pt x="837" y="1488"/>
                  </a:lnTo>
                  <a:lnTo>
                    <a:pt x="818" y="1504"/>
                  </a:lnTo>
                  <a:lnTo>
                    <a:pt x="804" y="1527"/>
                  </a:lnTo>
                  <a:lnTo>
                    <a:pt x="787" y="1552"/>
                  </a:lnTo>
                  <a:lnTo>
                    <a:pt x="767" y="1579"/>
                  </a:lnTo>
                  <a:lnTo>
                    <a:pt x="756" y="1592"/>
                  </a:lnTo>
                  <a:lnTo>
                    <a:pt x="740" y="1604"/>
                  </a:lnTo>
                  <a:lnTo>
                    <a:pt x="703" y="1625"/>
                  </a:lnTo>
                  <a:lnTo>
                    <a:pt x="653" y="1641"/>
                  </a:lnTo>
                  <a:lnTo>
                    <a:pt x="620" y="1648"/>
                  </a:lnTo>
                  <a:lnTo>
                    <a:pt x="584" y="1650"/>
                  </a:lnTo>
                  <a:lnTo>
                    <a:pt x="536" y="1648"/>
                  </a:lnTo>
                  <a:lnTo>
                    <a:pt x="484" y="1644"/>
                  </a:lnTo>
                  <a:lnTo>
                    <a:pt x="436" y="1633"/>
                  </a:lnTo>
                  <a:lnTo>
                    <a:pt x="387" y="1617"/>
                  </a:lnTo>
                  <a:lnTo>
                    <a:pt x="341" y="1598"/>
                  </a:lnTo>
                  <a:lnTo>
                    <a:pt x="294" y="1573"/>
                  </a:lnTo>
                  <a:lnTo>
                    <a:pt x="250" y="1542"/>
                  </a:lnTo>
                  <a:lnTo>
                    <a:pt x="209" y="1506"/>
                  </a:lnTo>
                  <a:lnTo>
                    <a:pt x="171" y="1469"/>
                  </a:lnTo>
                  <a:lnTo>
                    <a:pt x="134" y="1423"/>
                  </a:lnTo>
                  <a:lnTo>
                    <a:pt x="101" y="1376"/>
                  </a:lnTo>
                  <a:lnTo>
                    <a:pt x="72" y="1324"/>
                  </a:lnTo>
                  <a:lnTo>
                    <a:pt x="49" y="1265"/>
                  </a:lnTo>
                  <a:lnTo>
                    <a:pt x="28" y="1203"/>
                  </a:lnTo>
                  <a:lnTo>
                    <a:pt x="14" y="1137"/>
                  </a:lnTo>
                  <a:lnTo>
                    <a:pt x="4" y="1066"/>
                  </a:lnTo>
                  <a:lnTo>
                    <a:pt x="0" y="973"/>
                  </a:lnTo>
                  <a:lnTo>
                    <a:pt x="4" y="883"/>
                  </a:lnTo>
                  <a:lnTo>
                    <a:pt x="16" y="799"/>
                  </a:lnTo>
                  <a:lnTo>
                    <a:pt x="33" y="720"/>
                  </a:lnTo>
                  <a:lnTo>
                    <a:pt x="57" y="648"/>
                  </a:lnTo>
                  <a:lnTo>
                    <a:pt x="84" y="579"/>
                  </a:lnTo>
                  <a:lnTo>
                    <a:pt x="115" y="517"/>
                  </a:lnTo>
                  <a:lnTo>
                    <a:pt x="149" y="459"/>
                  </a:lnTo>
                  <a:lnTo>
                    <a:pt x="215" y="357"/>
                  </a:lnTo>
                  <a:lnTo>
                    <a:pt x="281" y="276"/>
                  </a:lnTo>
                  <a:lnTo>
                    <a:pt x="333" y="218"/>
                  </a:lnTo>
                  <a:lnTo>
                    <a:pt x="366" y="180"/>
                  </a:lnTo>
                  <a:lnTo>
                    <a:pt x="403" y="143"/>
                  </a:lnTo>
                  <a:lnTo>
                    <a:pt x="434" y="118"/>
                  </a:lnTo>
                  <a:lnTo>
                    <a:pt x="478" y="91"/>
                  </a:lnTo>
                  <a:lnTo>
                    <a:pt x="532" y="64"/>
                  </a:lnTo>
                  <a:lnTo>
                    <a:pt x="599" y="37"/>
                  </a:lnTo>
                  <a:lnTo>
                    <a:pt x="678" y="16"/>
                  </a:lnTo>
                  <a:lnTo>
                    <a:pt x="767" y="0"/>
                  </a:lnTo>
                  <a:lnTo>
                    <a:pt x="790" y="0"/>
                  </a:lnTo>
                  <a:lnTo>
                    <a:pt x="798" y="4"/>
                  </a:lnTo>
                  <a:lnTo>
                    <a:pt x="804" y="12"/>
                  </a:lnTo>
                  <a:lnTo>
                    <a:pt x="821" y="24"/>
                  </a:lnTo>
                  <a:lnTo>
                    <a:pt x="876" y="37"/>
                  </a:lnTo>
                  <a:lnTo>
                    <a:pt x="887" y="54"/>
                  </a:lnTo>
                  <a:lnTo>
                    <a:pt x="889" y="62"/>
                  </a:lnTo>
                  <a:lnTo>
                    <a:pt x="887" y="68"/>
                  </a:lnTo>
                  <a:lnTo>
                    <a:pt x="887" y="74"/>
                  </a:lnTo>
                  <a:lnTo>
                    <a:pt x="891" y="83"/>
                  </a:lnTo>
                  <a:lnTo>
                    <a:pt x="924" y="120"/>
                  </a:lnTo>
                  <a:lnTo>
                    <a:pt x="949" y="147"/>
                  </a:lnTo>
                  <a:lnTo>
                    <a:pt x="959" y="153"/>
                  </a:lnTo>
                  <a:lnTo>
                    <a:pt x="972" y="149"/>
                  </a:lnTo>
                  <a:lnTo>
                    <a:pt x="999" y="151"/>
                  </a:lnTo>
                  <a:lnTo>
                    <a:pt x="1007" y="153"/>
                  </a:lnTo>
                  <a:lnTo>
                    <a:pt x="1011" y="157"/>
                  </a:lnTo>
                  <a:lnTo>
                    <a:pt x="1013" y="166"/>
                  </a:lnTo>
                  <a:lnTo>
                    <a:pt x="1013" y="172"/>
                  </a:lnTo>
                  <a:lnTo>
                    <a:pt x="1003" y="191"/>
                  </a:lnTo>
                  <a:lnTo>
                    <a:pt x="995" y="199"/>
                  </a:lnTo>
                  <a:lnTo>
                    <a:pt x="980" y="20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613640" y="5740560"/>
              <a:ext cx="100440" cy="119520"/>
            </a:xfrm>
            <a:custGeom>
              <a:avLst/>
              <a:gdLst/>
              <a:ahLst/>
              <a:rect l="0" t="0" r="r" b="b"/>
              <a:pathLst>
                <a:path w="279" h="332">
                  <a:moveTo>
                    <a:pt x="0" y="332"/>
                  </a:moveTo>
                  <a:lnTo>
                    <a:pt x="26" y="322"/>
                  </a:lnTo>
                  <a:lnTo>
                    <a:pt x="50" y="308"/>
                  </a:lnTo>
                  <a:lnTo>
                    <a:pt x="104" y="274"/>
                  </a:lnTo>
                  <a:lnTo>
                    <a:pt x="132" y="258"/>
                  </a:lnTo>
                  <a:lnTo>
                    <a:pt x="163" y="247"/>
                  </a:lnTo>
                  <a:lnTo>
                    <a:pt x="193" y="240"/>
                  </a:lnTo>
                  <a:lnTo>
                    <a:pt x="225" y="242"/>
                  </a:lnTo>
                  <a:lnTo>
                    <a:pt x="231" y="216"/>
                  </a:lnTo>
                  <a:lnTo>
                    <a:pt x="231" y="196"/>
                  </a:lnTo>
                  <a:lnTo>
                    <a:pt x="229" y="172"/>
                  </a:lnTo>
                  <a:lnTo>
                    <a:pt x="227" y="156"/>
                  </a:lnTo>
                  <a:lnTo>
                    <a:pt x="237" y="132"/>
                  </a:lnTo>
                  <a:lnTo>
                    <a:pt x="247" y="115"/>
                  </a:lnTo>
                  <a:lnTo>
                    <a:pt x="255" y="97"/>
                  </a:lnTo>
                  <a:lnTo>
                    <a:pt x="279" y="14"/>
                  </a:lnTo>
                  <a:lnTo>
                    <a:pt x="249" y="14"/>
                  </a:lnTo>
                  <a:lnTo>
                    <a:pt x="249" y="10"/>
                  </a:lnTo>
                  <a:lnTo>
                    <a:pt x="245" y="0"/>
                  </a:lnTo>
                  <a:lnTo>
                    <a:pt x="235" y="6"/>
                  </a:lnTo>
                  <a:lnTo>
                    <a:pt x="212" y="28"/>
                  </a:lnTo>
                  <a:lnTo>
                    <a:pt x="147" y="111"/>
                  </a:lnTo>
                  <a:lnTo>
                    <a:pt x="68" y="222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350040" y="5743440"/>
              <a:ext cx="103680" cy="178200"/>
            </a:xfrm>
            <a:custGeom>
              <a:avLst/>
              <a:gdLst/>
              <a:ahLst/>
              <a:rect l="0" t="0" r="r" b="b"/>
              <a:pathLst>
                <a:path w="288" h="495">
                  <a:moveTo>
                    <a:pt x="0" y="495"/>
                  </a:moveTo>
                  <a:lnTo>
                    <a:pt x="16" y="493"/>
                  </a:lnTo>
                  <a:lnTo>
                    <a:pt x="22" y="491"/>
                  </a:lnTo>
                  <a:lnTo>
                    <a:pt x="26" y="487"/>
                  </a:lnTo>
                  <a:lnTo>
                    <a:pt x="30" y="479"/>
                  </a:lnTo>
                  <a:lnTo>
                    <a:pt x="34" y="469"/>
                  </a:lnTo>
                  <a:lnTo>
                    <a:pt x="38" y="459"/>
                  </a:lnTo>
                  <a:lnTo>
                    <a:pt x="48" y="446"/>
                  </a:lnTo>
                  <a:lnTo>
                    <a:pt x="66" y="436"/>
                  </a:lnTo>
                  <a:lnTo>
                    <a:pt x="97" y="426"/>
                  </a:lnTo>
                  <a:lnTo>
                    <a:pt x="137" y="418"/>
                  </a:lnTo>
                  <a:lnTo>
                    <a:pt x="143" y="416"/>
                  </a:lnTo>
                  <a:lnTo>
                    <a:pt x="147" y="410"/>
                  </a:lnTo>
                  <a:lnTo>
                    <a:pt x="179" y="389"/>
                  </a:lnTo>
                  <a:lnTo>
                    <a:pt x="282" y="335"/>
                  </a:lnTo>
                  <a:lnTo>
                    <a:pt x="288" y="0"/>
                  </a:lnTo>
                  <a:lnTo>
                    <a:pt x="262" y="38"/>
                  </a:lnTo>
                  <a:lnTo>
                    <a:pt x="258" y="36"/>
                  </a:lnTo>
                  <a:lnTo>
                    <a:pt x="246" y="38"/>
                  </a:lnTo>
                  <a:lnTo>
                    <a:pt x="228" y="34"/>
                  </a:lnTo>
                  <a:lnTo>
                    <a:pt x="4" y="453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070840" y="5951520"/>
              <a:ext cx="773640" cy="630720"/>
            </a:xfrm>
            <a:custGeom>
              <a:avLst/>
              <a:gdLst/>
              <a:ahLst/>
              <a:rect l="0" t="0" r="r" b="b"/>
              <a:pathLst>
                <a:path w="2149" h="1752">
                  <a:moveTo>
                    <a:pt x="45" y="0"/>
                  </a:moveTo>
                  <a:lnTo>
                    <a:pt x="77" y="8"/>
                  </a:lnTo>
                  <a:lnTo>
                    <a:pt x="129" y="26"/>
                  </a:lnTo>
                  <a:lnTo>
                    <a:pt x="181" y="47"/>
                  </a:lnTo>
                  <a:lnTo>
                    <a:pt x="206" y="62"/>
                  </a:lnTo>
                  <a:lnTo>
                    <a:pt x="379" y="224"/>
                  </a:lnTo>
                  <a:lnTo>
                    <a:pt x="464" y="306"/>
                  </a:lnTo>
                  <a:lnTo>
                    <a:pt x="734" y="585"/>
                  </a:lnTo>
                  <a:lnTo>
                    <a:pt x="905" y="720"/>
                  </a:lnTo>
                  <a:lnTo>
                    <a:pt x="922" y="739"/>
                  </a:lnTo>
                  <a:lnTo>
                    <a:pt x="935" y="758"/>
                  </a:lnTo>
                  <a:lnTo>
                    <a:pt x="962" y="795"/>
                  </a:lnTo>
                  <a:lnTo>
                    <a:pt x="983" y="814"/>
                  </a:lnTo>
                  <a:lnTo>
                    <a:pt x="1016" y="836"/>
                  </a:lnTo>
                  <a:lnTo>
                    <a:pt x="1062" y="861"/>
                  </a:lnTo>
                  <a:lnTo>
                    <a:pt x="1124" y="890"/>
                  </a:lnTo>
                  <a:lnTo>
                    <a:pt x="1126" y="890"/>
                  </a:lnTo>
                  <a:lnTo>
                    <a:pt x="1124" y="884"/>
                  </a:lnTo>
                  <a:lnTo>
                    <a:pt x="1126" y="884"/>
                  </a:lnTo>
                  <a:lnTo>
                    <a:pt x="1141" y="894"/>
                  </a:lnTo>
                  <a:lnTo>
                    <a:pt x="1231" y="973"/>
                  </a:lnTo>
                  <a:lnTo>
                    <a:pt x="1454" y="1177"/>
                  </a:lnTo>
                  <a:lnTo>
                    <a:pt x="1647" y="1360"/>
                  </a:lnTo>
                  <a:lnTo>
                    <a:pt x="1709" y="1402"/>
                  </a:lnTo>
                  <a:lnTo>
                    <a:pt x="1755" y="1427"/>
                  </a:lnTo>
                  <a:lnTo>
                    <a:pt x="1826" y="1460"/>
                  </a:lnTo>
                  <a:lnTo>
                    <a:pt x="1868" y="1485"/>
                  </a:lnTo>
                  <a:lnTo>
                    <a:pt x="1924" y="1526"/>
                  </a:lnTo>
                  <a:lnTo>
                    <a:pt x="2001" y="1592"/>
                  </a:lnTo>
                  <a:lnTo>
                    <a:pt x="2107" y="1690"/>
                  </a:lnTo>
                  <a:lnTo>
                    <a:pt x="2145" y="1729"/>
                  </a:lnTo>
                  <a:lnTo>
                    <a:pt x="2149" y="1742"/>
                  </a:lnTo>
                  <a:lnTo>
                    <a:pt x="2147" y="1746"/>
                  </a:lnTo>
                  <a:lnTo>
                    <a:pt x="2143" y="1746"/>
                  </a:lnTo>
                  <a:lnTo>
                    <a:pt x="2134" y="1752"/>
                  </a:lnTo>
                  <a:lnTo>
                    <a:pt x="2128" y="1752"/>
                  </a:lnTo>
                  <a:lnTo>
                    <a:pt x="2122" y="1750"/>
                  </a:lnTo>
                  <a:lnTo>
                    <a:pt x="2109" y="1740"/>
                  </a:lnTo>
                  <a:lnTo>
                    <a:pt x="2049" y="1690"/>
                  </a:lnTo>
                  <a:lnTo>
                    <a:pt x="1909" y="1582"/>
                  </a:lnTo>
                  <a:lnTo>
                    <a:pt x="1516" y="1291"/>
                  </a:lnTo>
                  <a:lnTo>
                    <a:pt x="1433" y="1233"/>
                  </a:lnTo>
                  <a:lnTo>
                    <a:pt x="1395" y="1208"/>
                  </a:lnTo>
                  <a:lnTo>
                    <a:pt x="1385" y="1204"/>
                  </a:lnTo>
                  <a:lnTo>
                    <a:pt x="1377" y="1204"/>
                  </a:lnTo>
                  <a:lnTo>
                    <a:pt x="1352" y="1187"/>
                  </a:lnTo>
                  <a:lnTo>
                    <a:pt x="1287" y="1141"/>
                  </a:lnTo>
                  <a:lnTo>
                    <a:pt x="1243" y="1108"/>
                  </a:lnTo>
                  <a:lnTo>
                    <a:pt x="1199" y="1069"/>
                  </a:lnTo>
                  <a:lnTo>
                    <a:pt x="1118" y="992"/>
                  </a:lnTo>
                  <a:lnTo>
                    <a:pt x="1076" y="955"/>
                  </a:lnTo>
                  <a:lnTo>
                    <a:pt x="1033" y="921"/>
                  </a:lnTo>
                  <a:lnTo>
                    <a:pt x="985" y="890"/>
                  </a:lnTo>
                  <a:lnTo>
                    <a:pt x="932" y="863"/>
                  </a:lnTo>
                  <a:lnTo>
                    <a:pt x="905" y="853"/>
                  </a:lnTo>
                  <a:lnTo>
                    <a:pt x="901" y="851"/>
                  </a:lnTo>
                  <a:lnTo>
                    <a:pt x="893" y="836"/>
                  </a:lnTo>
                  <a:lnTo>
                    <a:pt x="855" y="789"/>
                  </a:lnTo>
                  <a:lnTo>
                    <a:pt x="828" y="758"/>
                  </a:lnTo>
                  <a:lnTo>
                    <a:pt x="799" y="735"/>
                  </a:lnTo>
                  <a:lnTo>
                    <a:pt x="743" y="702"/>
                  </a:lnTo>
                  <a:lnTo>
                    <a:pt x="693" y="675"/>
                  </a:lnTo>
                  <a:lnTo>
                    <a:pt x="670" y="662"/>
                  </a:lnTo>
                  <a:lnTo>
                    <a:pt x="647" y="646"/>
                  </a:lnTo>
                  <a:lnTo>
                    <a:pt x="559" y="538"/>
                  </a:lnTo>
                  <a:lnTo>
                    <a:pt x="473" y="488"/>
                  </a:lnTo>
                  <a:lnTo>
                    <a:pt x="435" y="444"/>
                  </a:lnTo>
                  <a:lnTo>
                    <a:pt x="400" y="398"/>
                  </a:lnTo>
                  <a:lnTo>
                    <a:pt x="379" y="373"/>
                  </a:lnTo>
                  <a:lnTo>
                    <a:pt x="352" y="344"/>
                  </a:lnTo>
                  <a:lnTo>
                    <a:pt x="321" y="313"/>
                  </a:lnTo>
                  <a:lnTo>
                    <a:pt x="277" y="280"/>
                  </a:lnTo>
                  <a:lnTo>
                    <a:pt x="246" y="257"/>
                  </a:lnTo>
                  <a:lnTo>
                    <a:pt x="231" y="248"/>
                  </a:lnTo>
                  <a:lnTo>
                    <a:pt x="181" y="172"/>
                  </a:lnTo>
                  <a:lnTo>
                    <a:pt x="112" y="168"/>
                  </a:lnTo>
                  <a:lnTo>
                    <a:pt x="97" y="165"/>
                  </a:lnTo>
                  <a:lnTo>
                    <a:pt x="93" y="161"/>
                  </a:lnTo>
                  <a:lnTo>
                    <a:pt x="91" y="153"/>
                  </a:lnTo>
                  <a:lnTo>
                    <a:pt x="89" y="149"/>
                  </a:lnTo>
                  <a:lnTo>
                    <a:pt x="79" y="145"/>
                  </a:lnTo>
                  <a:lnTo>
                    <a:pt x="18" y="145"/>
                  </a:lnTo>
                  <a:lnTo>
                    <a:pt x="6" y="130"/>
                  </a:lnTo>
                  <a:lnTo>
                    <a:pt x="0" y="122"/>
                  </a:lnTo>
                  <a:lnTo>
                    <a:pt x="2" y="118"/>
                  </a:lnTo>
                  <a:lnTo>
                    <a:pt x="6" y="114"/>
                  </a:lnTo>
                  <a:lnTo>
                    <a:pt x="10" y="109"/>
                  </a:lnTo>
                  <a:lnTo>
                    <a:pt x="14" y="99"/>
                  </a:lnTo>
                  <a:lnTo>
                    <a:pt x="14" y="85"/>
                  </a:lnTo>
                  <a:lnTo>
                    <a:pt x="6" y="58"/>
                  </a:lnTo>
                  <a:lnTo>
                    <a:pt x="8" y="41"/>
                  </a:lnTo>
                  <a:lnTo>
                    <a:pt x="14" y="22"/>
                  </a:lnTo>
                  <a:lnTo>
                    <a:pt x="25" y="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67600" y="6024600"/>
              <a:ext cx="813240" cy="659160"/>
            </a:xfrm>
            <a:custGeom>
              <a:avLst/>
              <a:gdLst/>
              <a:ahLst/>
              <a:rect l="0" t="0" r="r" b="b"/>
              <a:pathLst>
                <a:path w="2259" h="1831">
                  <a:moveTo>
                    <a:pt x="0" y="47"/>
                  </a:moveTo>
                  <a:lnTo>
                    <a:pt x="2" y="29"/>
                  </a:lnTo>
                  <a:lnTo>
                    <a:pt x="8" y="14"/>
                  </a:lnTo>
                  <a:lnTo>
                    <a:pt x="20" y="4"/>
                  </a:lnTo>
                  <a:lnTo>
                    <a:pt x="39" y="0"/>
                  </a:lnTo>
                  <a:lnTo>
                    <a:pt x="70" y="6"/>
                  </a:lnTo>
                  <a:lnTo>
                    <a:pt x="110" y="20"/>
                  </a:lnTo>
                  <a:lnTo>
                    <a:pt x="162" y="49"/>
                  </a:lnTo>
                  <a:lnTo>
                    <a:pt x="227" y="91"/>
                  </a:lnTo>
                  <a:lnTo>
                    <a:pt x="266" y="116"/>
                  </a:lnTo>
                  <a:lnTo>
                    <a:pt x="306" y="135"/>
                  </a:lnTo>
                  <a:lnTo>
                    <a:pt x="325" y="149"/>
                  </a:lnTo>
                  <a:lnTo>
                    <a:pt x="341" y="162"/>
                  </a:lnTo>
                  <a:lnTo>
                    <a:pt x="358" y="180"/>
                  </a:lnTo>
                  <a:lnTo>
                    <a:pt x="368" y="199"/>
                  </a:lnTo>
                  <a:lnTo>
                    <a:pt x="373" y="222"/>
                  </a:lnTo>
                  <a:lnTo>
                    <a:pt x="381" y="255"/>
                  </a:lnTo>
                  <a:lnTo>
                    <a:pt x="396" y="280"/>
                  </a:lnTo>
                  <a:lnTo>
                    <a:pt x="416" y="313"/>
                  </a:lnTo>
                  <a:lnTo>
                    <a:pt x="452" y="353"/>
                  </a:lnTo>
                  <a:lnTo>
                    <a:pt x="500" y="400"/>
                  </a:lnTo>
                  <a:lnTo>
                    <a:pt x="576" y="467"/>
                  </a:lnTo>
                  <a:lnTo>
                    <a:pt x="620" y="504"/>
                  </a:lnTo>
                  <a:lnTo>
                    <a:pt x="641" y="521"/>
                  </a:lnTo>
                  <a:lnTo>
                    <a:pt x="651" y="525"/>
                  </a:lnTo>
                  <a:lnTo>
                    <a:pt x="661" y="544"/>
                  </a:lnTo>
                  <a:lnTo>
                    <a:pt x="716" y="631"/>
                  </a:lnTo>
                  <a:lnTo>
                    <a:pt x="734" y="658"/>
                  </a:lnTo>
                  <a:lnTo>
                    <a:pt x="749" y="668"/>
                  </a:lnTo>
                  <a:lnTo>
                    <a:pt x="759" y="670"/>
                  </a:lnTo>
                  <a:lnTo>
                    <a:pt x="768" y="666"/>
                  </a:lnTo>
                  <a:lnTo>
                    <a:pt x="778" y="664"/>
                  </a:lnTo>
                  <a:lnTo>
                    <a:pt x="793" y="662"/>
                  </a:lnTo>
                  <a:lnTo>
                    <a:pt x="814" y="670"/>
                  </a:lnTo>
                  <a:lnTo>
                    <a:pt x="843" y="691"/>
                  </a:lnTo>
                  <a:lnTo>
                    <a:pt x="884" y="731"/>
                  </a:lnTo>
                  <a:lnTo>
                    <a:pt x="909" y="758"/>
                  </a:lnTo>
                  <a:lnTo>
                    <a:pt x="920" y="776"/>
                  </a:lnTo>
                  <a:lnTo>
                    <a:pt x="924" y="789"/>
                  </a:lnTo>
                  <a:lnTo>
                    <a:pt x="924" y="799"/>
                  </a:lnTo>
                  <a:lnTo>
                    <a:pt x="928" y="810"/>
                  </a:lnTo>
                  <a:lnTo>
                    <a:pt x="943" y="822"/>
                  </a:lnTo>
                  <a:lnTo>
                    <a:pt x="970" y="845"/>
                  </a:lnTo>
                  <a:lnTo>
                    <a:pt x="1014" y="866"/>
                  </a:lnTo>
                  <a:lnTo>
                    <a:pt x="1028" y="876"/>
                  </a:lnTo>
                  <a:lnTo>
                    <a:pt x="1049" y="891"/>
                  </a:lnTo>
                  <a:lnTo>
                    <a:pt x="1101" y="937"/>
                  </a:lnTo>
                  <a:lnTo>
                    <a:pt x="1174" y="998"/>
                  </a:lnTo>
                  <a:lnTo>
                    <a:pt x="1220" y="1031"/>
                  </a:lnTo>
                  <a:lnTo>
                    <a:pt x="1268" y="1064"/>
                  </a:lnTo>
                  <a:lnTo>
                    <a:pt x="1320" y="1085"/>
                  </a:lnTo>
                  <a:lnTo>
                    <a:pt x="1341" y="1120"/>
                  </a:lnTo>
                  <a:lnTo>
                    <a:pt x="1351" y="1133"/>
                  </a:lnTo>
                  <a:lnTo>
                    <a:pt x="1364" y="1141"/>
                  </a:lnTo>
                  <a:lnTo>
                    <a:pt x="1418" y="1178"/>
                  </a:lnTo>
                  <a:lnTo>
                    <a:pt x="1527" y="1263"/>
                  </a:lnTo>
                  <a:lnTo>
                    <a:pt x="1558" y="1272"/>
                  </a:lnTo>
                  <a:lnTo>
                    <a:pt x="1577" y="1307"/>
                  </a:lnTo>
                  <a:lnTo>
                    <a:pt x="1602" y="1326"/>
                  </a:lnTo>
                  <a:lnTo>
                    <a:pt x="1654" y="1353"/>
                  </a:lnTo>
                  <a:lnTo>
                    <a:pt x="1753" y="1417"/>
                  </a:lnTo>
                  <a:lnTo>
                    <a:pt x="2259" y="1818"/>
                  </a:lnTo>
                  <a:lnTo>
                    <a:pt x="2251" y="1828"/>
                  </a:lnTo>
                  <a:lnTo>
                    <a:pt x="2238" y="1831"/>
                  </a:lnTo>
                  <a:lnTo>
                    <a:pt x="2220" y="1822"/>
                  </a:lnTo>
                  <a:lnTo>
                    <a:pt x="2186" y="1799"/>
                  </a:lnTo>
                  <a:lnTo>
                    <a:pt x="2063" y="1706"/>
                  </a:lnTo>
                  <a:lnTo>
                    <a:pt x="1826" y="1533"/>
                  </a:lnTo>
                  <a:lnTo>
                    <a:pt x="1256" y="1126"/>
                  </a:lnTo>
                  <a:lnTo>
                    <a:pt x="1093" y="1006"/>
                  </a:lnTo>
                  <a:lnTo>
                    <a:pt x="1085" y="998"/>
                  </a:lnTo>
                  <a:lnTo>
                    <a:pt x="1082" y="995"/>
                  </a:lnTo>
                  <a:lnTo>
                    <a:pt x="974" y="913"/>
                  </a:lnTo>
                  <a:lnTo>
                    <a:pt x="855" y="818"/>
                  </a:lnTo>
                  <a:lnTo>
                    <a:pt x="845" y="793"/>
                  </a:lnTo>
                  <a:lnTo>
                    <a:pt x="832" y="778"/>
                  </a:lnTo>
                  <a:lnTo>
                    <a:pt x="818" y="768"/>
                  </a:lnTo>
                  <a:lnTo>
                    <a:pt x="799" y="762"/>
                  </a:lnTo>
                  <a:lnTo>
                    <a:pt x="749" y="741"/>
                  </a:lnTo>
                  <a:lnTo>
                    <a:pt x="713" y="720"/>
                  </a:lnTo>
                  <a:lnTo>
                    <a:pt x="672" y="683"/>
                  </a:lnTo>
                  <a:lnTo>
                    <a:pt x="521" y="544"/>
                  </a:lnTo>
                  <a:lnTo>
                    <a:pt x="485" y="504"/>
                  </a:lnTo>
                  <a:lnTo>
                    <a:pt x="464" y="479"/>
                  </a:lnTo>
                  <a:lnTo>
                    <a:pt x="452" y="459"/>
                  </a:lnTo>
                  <a:lnTo>
                    <a:pt x="448" y="450"/>
                  </a:lnTo>
                  <a:lnTo>
                    <a:pt x="437" y="440"/>
                  </a:lnTo>
                  <a:lnTo>
                    <a:pt x="366" y="378"/>
                  </a:lnTo>
                  <a:lnTo>
                    <a:pt x="316" y="338"/>
                  </a:lnTo>
                  <a:lnTo>
                    <a:pt x="298" y="324"/>
                  </a:lnTo>
                  <a:lnTo>
                    <a:pt x="281" y="307"/>
                  </a:lnTo>
                  <a:lnTo>
                    <a:pt x="268" y="286"/>
                  </a:lnTo>
                  <a:lnTo>
                    <a:pt x="254" y="261"/>
                  </a:lnTo>
                  <a:lnTo>
                    <a:pt x="248" y="240"/>
                  </a:lnTo>
                  <a:lnTo>
                    <a:pt x="245" y="228"/>
                  </a:lnTo>
                  <a:lnTo>
                    <a:pt x="245" y="218"/>
                  </a:lnTo>
                  <a:lnTo>
                    <a:pt x="223" y="205"/>
                  </a:lnTo>
                  <a:lnTo>
                    <a:pt x="143" y="170"/>
                  </a:lnTo>
                  <a:lnTo>
                    <a:pt x="118" y="153"/>
                  </a:lnTo>
                  <a:lnTo>
                    <a:pt x="110" y="139"/>
                  </a:lnTo>
                  <a:lnTo>
                    <a:pt x="102" y="118"/>
                  </a:lnTo>
                  <a:lnTo>
                    <a:pt x="91" y="103"/>
                  </a:lnTo>
                  <a:lnTo>
                    <a:pt x="75" y="83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32600" y="6226200"/>
              <a:ext cx="41760" cy="79560"/>
            </a:xfrm>
            <a:custGeom>
              <a:avLst/>
              <a:gdLst/>
              <a:ahLst/>
              <a:rect l="0" t="0" r="r" b="b"/>
              <a:pathLst>
                <a:path w="116" h="221">
                  <a:moveTo>
                    <a:pt x="116" y="17"/>
                  </a:moveTo>
                  <a:lnTo>
                    <a:pt x="111" y="53"/>
                  </a:lnTo>
                  <a:lnTo>
                    <a:pt x="101" y="92"/>
                  </a:lnTo>
                  <a:lnTo>
                    <a:pt x="78" y="144"/>
                  </a:lnTo>
                  <a:lnTo>
                    <a:pt x="62" y="180"/>
                  </a:lnTo>
                  <a:lnTo>
                    <a:pt x="37" y="221"/>
                  </a:lnTo>
                  <a:lnTo>
                    <a:pt x="14" y="201"/>
                  </a:lnTo>
                  <a:lnTo>
                    <a:pt x="3" y="186"/>
                  </a:lnTo>
                  <a:lnTo>
                    <a:pt x="0" y="174"/>
                  </a:lnTo>
                  <a:lnTo>
                    <a:pt x="3" y="166"/>
                  </a:lnTo>
                  <a:lnTo>
                    <a:pt x="20" y="156"/>
                  </a:lnTo>
                  <a:lnTo>
                    <a:pt x="30" y="152"/>
                  </a:lnTo>
                  <a:lnTo>
                    <a:pt x="34" y="146"/>
                  </a:lnTo>
                  <a:lnTo>
                    <a:pt x="43" y="126"/>
                  </a:lnTo>
                  <a:lnTo>
                    <a:pt x="47" y="104"/>
                  </a:lnTo>
                  <a:lnTo>
                    <a:pt x="49" y="66"/>
                  </a:lnTo>
                  <a:lnTo>
                    <a:pt x="56" y="33"/>
                  </a:lnTo>
                  <a:lnTo>
                    <a:pt x="67" y="15"/>
                  </a:lnTo>
                  <a:lnTo>
                    <a:pt x="84" y="0"/>
                  </a:lnTo>
                  <a:lnTo>
                    <a:pt x="92" y="0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772480" y="6391440"/>
              <a:ext cx="87840" cy="66960"/>
            </a:xfrm>
            <a:custGeom>
              <a:avLst/>
              <a:gdLst/>
              <a:ahLst/>
              <a:rect l="0" t="0" r="r" b="b"/>
              <a:pathLst>
                <a:path w="244" h="186">
                  <a:moveTo>
                    <a:pt x="12" y="0"/>
                  </a:moveTo>
                  <a:lnTo>
                    <a:pt x="32" y="1"/>
                  </a:lnTo>
                  <a:lnTo>
                    <a:pt x="38" y="5"/>
                  </a:lnTo>
                  <a:lnTo>
                    <a:pt x="42" y="9"/>
                  </a:lnTo>
                  <a:lnTo>
                    <a:pt x="52" y="25"/>
                  </a:lnTo>
                  <a:lnTo>
                    <a:pt x="63" y="35"/>
                  </a:lnTo>
                  <a:lnTo>
                    <a:pt x="79" y="47"/>
                  </a:lnTo>
                  <a:lnTo>
                    <a:pt x="97" y="57"/>
                  </a:lnTo>
                  <a:lnTo>
                    <a:pt x="109" y="61"/>
                  </a:lnTo>
                  <a:lnTo>
                    <a:pt x="125" y="63"/>
                  </a:lnTo>
                  <a:lnTo>
                    <a:pt x="137" y="69"/>
                  </a:lnTo>
                  <a:lnTo>
                    <a:pt x="159" y="85"/>
                  </a:lnTo>
                  <a:lnTo>
                    <a:pt x="240" y="164"/>
                  </a:lnTo>
                  <a:lnTo>
                    <a:pt x="244" y="172"/>
                  </a:lnTo>
                  <a:lnTo>
                    <a:pt x="244" y="178"/>
                  </a:lnTo>
                  <a:lnTo>
                    <a:pt x="238" y="184"/>
                  </a:lnTo>
                  <a:lnTo>
                    <a:pt x="228" y="186"/>
                  </a:lnTo>
                  <a:lnTo>
                    <a:pt x="210" y="182"/>
                  </a:lnTo>
                  <a:lnTo>
                    <a:pt x="186" y="170"/>
                  </a:lnTo>
                  <a:lnTo>
                    <a:pt x="151" y="148"/>
                  </a:lnTo>
                  <a:lnTo>
                    <a:pt x="109" y="114"/>
                  </a:lnTo>
                  <a:lnTo>
                    <a:pt x="63" y="79"/>
                  </a:lnTo>
                  <a:lnTo>
                    <a:pt x="24" y="55"/>
                  </a:lnTo>
                  <a:lnTo>
                    <a:pt x="10" y="43"/>
                  </a:lnTo>
                  <a:lnTo>
                    <a:pt x="2" y="31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872560" y="6461280"/>
              <a:ext cx="125640" cy="73440"/>
            </a:xfrm>
            <a:custGeom>
              <a:avLst/>
              <a:gdLst/>
              <a:ahLst/>
              <a:rect l="0" t="0" r="r" b="b"/>
              <a:pathLst>
                <a:path w="349" h="204">
                  <a:moveTo>
                    <a:pt x="10" y="0"/>
                  </a:moveTo>
                  <a:lnTo>
                    <a:pt x="24" y="3"/>
                  </a:lnTo>
                  <a:lnTo>
                    <a:pt x="64" y="27"/>
                  </a:lnTo>
                  <a:lnTo>
                    <a:pt x="161" y="86"/>
                  </a:lnTo>
                  <a:lnTo>
                    <a:pt x="337" y="189"/>
                  </a:lnTo>
                  <a:lnTo>
                    <a:pt x="349" y="197"/>
                  </a:lnTo>
                  <a:lnTo>
                    <a:pt x="349" y="200"/>
                  </a:lnTo>
                  <a:lnTo>
                    <a:pt x="343" y="202"/>
                  </a:lnTo>
                  <a:lnTo>
                    <a:pt x="331" y="204"/>
                  </a:lnTo>
                  <a:lnTo>
                    <a:pt x="307" y="198"/>
                  </a:lnTo>
                  <a:lnTo>
                    <a:pt x="266" y="185"/>
                  </a:lnTo>
                  <a:lnTo>
                    <a:pt x="208" y="158"/>
                  </a:lnTo>
                  <a:lnTo>
                    <a:pt x="126" y="118"/>
                  </a:lnTo>
                  <a:lnTo>
                    <a:pt x="18" y="57"/>
                  </a:lnTo>
                  <a:lnTo>
                    <a:pt x="10" y="46"/>
                  </a:lnTo>
                  <a:lnTo>
                    <a:pt x="2" y="29"/>
                  </a:lnTo>
                  <a:lnTo>
                    <a:pt x="0" y="9"/>
                  </a:lnTo>
                  <a:lnTo>
                    <a:pt x="2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832960" y="6504120"/>
              <a:ext cx="81360" cy="51120"/>
            </a:xfrm>
            <a:custGeom>
              <a:avLst/>
              <a:gdLst/>
              <a:ahLst/>
              <a:rect l="0" t="0" r="r" b="b"/>
              <a:pathLst>
                <a:path w="226" h="142">
                  <a:moveTo>
                    <a:pt x="7" y="0"/>
                  </a:moveTo>
                  <a:lnTo>
                    <a:pt x="19" y="0"/>
                  </a:lnTo>
                  <a:lnTo>
                    <a:pt x="41" y="9"/>
                  </a:lnTo>
                  <a:lnTo>
                    <a:pt x="105" y="43"/>
                  </a:lnTo>
                  <a:lnTo>
                    <a:pt x="175" y="88"/>
                  </a:lnTo>
                  <a:lnTo>
                    <a:pt x="205" y="109"/>
                  </a:lnTo>
                  <a:lnTo>
                    <a:pt x="226" y="126"/>
                  </a:lnTo>
                  <a:lnTo>
                    <a:pt x="226" y="140"/>
                  </a:lnTo>
                  <a:lnTo>
                    <a:pt x="219" y="142"/>
                  </a:lnTo>
                  <a:lnTo>
                    <a:pt x="201" y="140"/>
                  </a:lnTo>
                  <a:lnTo>
                    <a:pt x="133" y="111"/>
                  </a:lnTo>
                  <a:lnTo>
                    <a:pt x="73" y="79"/>
                  </a:lnTo>
                  <a:lnTo>
                    <a:pt x="39" y="57"/>
                  </a:lnTo>
                  <a:lnTo>
                    <a:pt x="3" y="30"/>
                  </a:lnTo>
                  <a:lnTo>
                    <a:pt x="0" y="11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858160" y="6591240"/>
              <a:ext cx="28800" cy="19440"/>
            </a:xfrm>
            <a:custGeom>
              <a:avLst/>
              <a:gdLst/>
              <a:ahLst/>
              <a:rect l="0" t="0" r="r" b="b"/>
              <a:pathLst>
                <a:path w="80" h="54">
                  <a:moveTo>
                    <a:pt x="0" y="18"/>
                  </a:moveTo>
                  <a:lnTo>
                    <a:pt x="7" y="6"/>
                  </a:lnTo>
                  <a:lnTo>
                    <a:pt x="12" y="3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41" y="6"/>
                  </a:lnTo>
                  <a:lnTo>
                    <a:pt x="58" y="19"/>
                  </a:lnTo>
                  <a:lnTo>
                    <a:pt x="78" y="41"/>
                  </a:lnTo>
                  <a:lnTo>
                    <a:pt x="80" y="49"/>
                  </a:lnTo>
                  <a:lnTo>
                    <a:pt x="78" y="54"/>
                  </a:lnTo>
                  <a:lnTo>
                    <a:pt x="63" y="54"/>
                  </a:lnTo>
                  <a:lnTo>
                    <a:pt x="35" y="4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526600" y="5640480"/>
              <a:ext cx="27360" cy="33840"/>
            </a:xfrm>
            <a:custGeom>
              <a:avLst/>
              <a:gdLst/>
              <a:ahLst/>
              <a:rect l="0" t="0" r="r" b="b"/>
              <a:pathLst>
                <a:path w="76" h="94">
                  <a:moveTo>
                    <a:pt x="25" y="94"/>
                  </a:moveTo>
                  <a:lnTo>
                    <a:pt x="25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6" y="0"/>
                  </a:lnTo>
                  <a:lnTo>
                    <a:pt x="76" y="22"/>
                  </a:lnTo>
                  <a:lnTo>
                    <a:pt x="49" y="22"/>
                  </a:lnTo>
                  <a:lnTo>
                    <a:pt x="49" y="94"/>
                  </a:lnTo>
                  <a:lnTo>
                    <a:pt x="25" y="94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564400" y="5640480"/>
              <a:ext cx="44640" cy="36720"/>
            </a:xfrm>
            <a:custGeom>
              <a:avLst/>
              <a:gdLst/>
              <a:ahLst/>
              <a:rect l="0" t="0" r="r" b="b"/>
              <a:pathLst>
                <a:path w="124" h="102">
                  <a:moveTo>
                    <a:pt x="6" y="0"/>
                  </a:moveTo>
                  <a:lnTo>
                    <a:pt x="14" y="0"/>
                  </a:lnTo>
                  <a:lnTo>
                    <a:pt x="18" y="2"/>
                  </a:lnTo>
                  <a:lnTo>
                    <a:pt x="61" y="67"/>
                  </a:lnTo>
                  <a:lnTo>
                    <a:pt x="105" y="4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2" y="10"/>
                  </a:lnTo>
                  <a:lnTo>
                    <a:pt x="124" y="14"/>
                  </a:lnTo>
                  <a:lnTo>
                    <a:pt x="124" y="102"/>
                  </a:lnTo>
                  <a:lnTo>
                    <a:pt x="103" y="102"/>
                  </a:lnTo>
                  <a:lnTo>
                    <a:pt x="103" y="34"/>
                  </a:lnTo>
                  <a:lnTo>
                    <a:pt x="61" y="100"/>
                  </a:lnTo>
                  <a:lnTo>
                    <a:pt x="20" y="34"/>
                  </a:lnTo>
                  <a:lnTo>
                    <a:pt x="20" y="100"/>
                  </a:lnTo>
                  <a:lnTo>
                    <a:pt x="0" y="10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564400" y="5640480"/>
              <a:ext cx="44640" cy="36720"/>
            </a:xfrm>
            <a:custGeom>
              <a:avLst/>
              <a:gdLst/>
              <a:ahLst/>
              <a:rect l="0" t="0" r="r" b="b"/>
              <a:pathLst>
                <a:path w="124" h="102">
                  <a:moveTo>
                    <a:pt x="6" y="0"/>
                  </a:moveTo>
                  <a:lnTo>
                    <a:pt x="14" y="0"/>
                  </a:lnTo>
                  <a:lnTo>
                    <a:pt x="18" y="2"/>
                  </a:lnTo>
                  <a:lnTo>
                    <a:pt x="61" y="67"/>
                  </a:lnTo>
                  <a:lnTo>
                    <a:pt x="105" y="4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2" y="10"/>
                  </a:lnTo>
                  <a:lnTo>
                    <a:pt x="124" y="14"/>
                  </a:lnTo>
                  <a:lnTo>
                    <a:pt x="124" y="102"/>
                  </a:lnTo>
                  <a:lnTo>
                    <a:pt x="103" y="102"/>
                  </a:lnTo>
                  <a:lnTo>
                    <a:pt x="103" y="34"/>
                  </a:lnTo>
                  <a:lnTo>
                    <a:pt x="61" y="100"/>
                  </a:lnTo>
                  <a:lnTo>
                    <a:pt x="20" y="34"/>
                  </a:lnTo>
                  <a:lnTo>
                    <a:pt x="20" y="100"/>
                  </a:lnTo>
                  <a:lnTo>
                    <a:pt x="0" y="10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1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762120" y="30492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ctr" pos="4572000"/>
                <a:tab algn="ctr" pos="64008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$H, CA$H, CA$H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90000"/>
              </a:lnSpc>
              <a:spcBef>
                <a:spcPts val="720"/>
              </a:spcBef>
              <a:tabLst>
                <a:tab algn="ctr" pos="4457880"/>
                <a:tab algn="ctr" pos="62866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rative Per-Unit Profit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lnSpc>
                <a:spcPct val="90000"/>
              </a:lnSpc>
              <a:spcBef>
                <a:spcPts val="720"/>
              </a:spcBef>
              <a:tabLst>
                <a:tab algn="ctr" pos="4114800"/>
                <a:tab algn="ctr" pos="59436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6-Bit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Jagu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lnSpc>
                <a:spcPct val="90000"/>
              </a:lnSpc>
              <a:spcBef>
                <a:spcPts val="479"/>
              </a:spcBef>
              <a:tabLst>
                <a:tab algn="ctr" pos="4114800"/>
                <a:tab algn="ctr" pos="5943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P (16-Meg Cart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9.9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9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lnSpc>
                <a:spcPct val="90000"/>
              </a:lnSpc>
              <a:spcBef>
                <a:spcPts val="479"/>
              </a:spcBef>
              <a:tabLst>
                <a:tab algn="ctr" pos="4114800"/>
                <a:tab algn="ctr" pos="5943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lesa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.9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9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lnSpc>
                <a:spcPct val="90000"/>
              </a:lnSpc>
              <a:spcBef>
                <a:spcPts val="479"/>
              </a:spcBef>
              <a:tabLst>
                <a:tab algn="ctr" pos="4114800"/>
                <a:tab algn="ctr" pos="59436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Gs (Incl. Hrdwr. Rylty.)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23.00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18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lnSpc>
                <a:spcPct val="90000"/>
              </a:lnSpc>
              <a:spcBef>
                <a:spcPts val="479"/>
              </a:spcBef>
              <a:tabLst>
                <a:tab algn="ctr" pos="4114800"/>
                <a:tab algn="ctr" pos="5943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ss Profi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.9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lnSpc>
                <a:spcPct val="90000"/>
              </a:lnSpc>
              <a:spcBef>
                <a:spcPts val="1919"/>
              </a:spcBef>
              <a:tabLst>
                <a:tab algn="ctr" pos="4114800"/>
                <a:tab algn="ctr" pos="5943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h Requirements &amp;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3.00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3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lnSpc>
                <a:spcPct val="90000"/>
              </a:lnSpc>
              <a:tabLst>
                <a:tab algn="ctr" pos="4114800"/>
                <a:tab algn="ctr" pos="5943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ufacturing Lead-Time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90++ Days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60-Days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fore Ship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fore 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1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2058840" y="5424480"/>
            <a:ext cx="50259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  <a:ea typeface="Arial"/>
              </a:rPr>
              <a:t>DO THE MATH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974880" y="2154240"/>
            <a:ext cx="7175520" cy="2529360"/>
            <a:chOff x="974880" y="2154240"/>
            <a:chExt cx="7175520" cy="2529360"/>
          </a:xfrm>
        </p:grpSpPr>
        <p:sp>
          <p:nvSpPr>
            <p:cNvPr id="672" name=""/>
            <p:cNvSpPr/>
            <p:nvPr/>
          </p:nvSpPr>
          <p:spPr>
            <a:xfrm>
              <a:off x="974880" y="2154240"/>
              <a:ext cx="2049840" cy="1830600"/>
            </a:xfrm>
            <a:custGeom>
              <a:avLst/>
              <a:gdLst/>
              <a:ahLst/>
              <a:rect l="0" t="0" r="r" b="b"/>
              <a:pathLst>
                <a:path w="5694" h="5085">
                  <a:moveTo>
                    <a:pt x="5694" y="96"/>
                  </a:moveTo>
                  <a:lnTo>
                    <a:pt x="5668" y="109"/>
                  </a:lnTo>
                  <a:lnTo>
                    <a:pt x="5633" y="118"/>
                  </a:lnTo>
                  <a:lnTo>
                    <a:pt x="5541" y="140"/>
                  </a:lnTo>
                  <a:lnTo>
                    <a:pt x="5304" y="175"/>
                  </a:lnTo>
                  <a:lnTo>
                    <a:pt x="5054" y="214"/>
                  </a:lnTo>
                  <a:lnTo>
                    <a:pt x="4860" y="250"/>
                  </a:lnTo>
                  <a:lnTo>
                    <a:pt x="4874" y="289"/>
                  </a:lnTo>
                  <a:lnTo>
                    <a:pt x="4874" y="298"/>
                  </a:lnTo>
                  <a:lnTo>
                    <a:pt x="4882" y="302"/>
                  </a:lnTo>
                  <a:lnTo>
                    <a:pt x="4931" y="311"/>
                  </a:lnTo>
                  <a:lnTo>
                    <a:pt x="5045" y="324"/>
                  </a:lnTo>
                  <a:lnTo>
                    <a:pt x="5040" y="377"/>
                  </a:lnTo>
                  <a:lnTo>
                    <a:pt x="4935" y="456"/>
                  </a:lnTo>
                  <a:lnTo>
                    <a:pt x="4909" y="478"/>
                  </a:lnTo>
                  <a:lnTo>
                    <a:pt x="4900" y="491"/>
                  </a:lnTo>
                  <a:lnTo>
                    <a:pt x="4904" y="508"/>
                  </a:lnTo>
                  <a:lnTo>
                    <a:pt x="4909" y="517"/>
                  </a:lnTo>
                  <a:lnTo>
                    <a:pt x="4900" y="526"/>
                  </a:lnTo>
                  <a:lnTo>
                    <a:pt x="4869" y="557"/>
                  </a:lnTo>
                  <a:lnTo>
                    <a:pt x="4825" y="574"/>
                  </a:lnTo>
                  <a:lnTo>
                    <a:pt x="4786" y="592"/>
                  </a:lnTo>
                  <a:lnTo>
                    <a:pt x="4742" y="596"/>
                  </a:lnTo>
                  <a:lnTo>
                    <a:pt x="4659" y="614"/>
                  </a:lnTo>
                  <a:lnTo>
                    <a:pt x="4597" y="636"/>
                  </a:lnTo>
                  <a:lnTo>
                    <a:pt x="4571" y="662"/>
                  </a:lnTo>
                  <a:lnTo>
                    <a:pt x="4566" y="675"/>
                  </a:lnTo>
                  <a:lnTo>
                    <a:pt x="4566" y="688"/>
                  </a:lnTo>
                  <a:lnTo>
                    <a:pt x="4558" y="701"/>
                  </a:lnTo>
                  <a:lnTo>
                    <a:pt x="4523" y="723"/>
                  </a:lnTo>
                  <a:lnTo>
                    <a:pt x="4448" y="750"/>
                  </a:lnTo>
                  <a:lnTo>
                    <a:pt x="4105" y="851"/>
                  </a:lnTo>
                  <a:lnTo>
                    <a:pt x="4087" y="859"/>
                  </a:lnTo>
                  <a:lnTo>
                    <a:pt x="4069" y="877"/>
                  </a:lnTo>
                  <a:lnTo>
                    <a:pt x="4039" y="921"/>
                  </a:lnTo>
                  <a:lnTo>
                    <a:pt x="4004" y="969"/>
                  </a:lnTo>
                  <a:lnTo>
                    <a:pt x="3986" y="995"/>
                  </a:lnTo>
                  <a:lnTo>
                    <a:pt x="3964" y="1004"/>
                  </a:lnTo>
                  <a:lnTo>
                    <a:pt x="3933" y="1013"/>
                  </a:lnTo>
                  <a:lnTo>
                    <a:pt x="3885" y="1017"/>
                  </a:lnTo>
                  <a:lnTo>
                    <a:pt x="3797" y="1039"/>
                  </a:lnTo>
                  <a:lnTo>
                    <a:pt x="3661" y="1105"/>
                  </a:lnTo>
                  <a:lnTo>
                    <a:pt x="3609" y="1377"/>
                  </a:lnTo>
                  <a:lnTo>
                    <a:pt x="3551" y="1636"/>
                  </a:lnTo>
                  <a:lnTo>
                    <a:pt x="3490" y="1890"/>
                  </a:lnTo>
                  <a:lnTo>
                    <a:pt x="3424" y="2136"/>
                  </a:lnTo>
                  <a:lnTo>
                    <a:pt x="3284" y="2598"/>
                  </a:lnTo>
                  <a:lnTo>
                    <a:pt x="3134" y="3010"/>
                  </a:lnTo>
                  <a:lnTo>
                    <a:pt x="3060" y="3203"/>
                  </a:lnTo>
                  <a:lnTo>
                    <a:pt x="2985" y="3383"/>
                  </a:lnTo>
                  <a:lnTo>
                    <a:pt x="2836" y="3703"/>
                  </a:lnTo>
                  <a:lnTo>
                    <a:pt x="2761" y="3839"/>
                  </a:lnTo>
                  <a:lnTo>
                    <a:pt x="2691" y="3962"/>
                  </a:lnTo>
                  <a:lnTo>
                    <a:pt x="2621" y="4072"/>
                  </a:lnTo>
                  <a:lnTo>
                    <a:pt x="2555" y="4164"/>
                  </a:lnTo>
                  <a:lnTo>
                    <a:pt x="2371" y="4392"/>
                  </a:lnTo>
                  <a:lnTo>
                    <a:pt x="2287" y="4493"/>
                  </a:lnTo>
                  <a:lnTo>
                    <a:pt x="2200" y="4580"/>
                  </a:lnTo>
                  <a:lnTo>
                    <a:pt x="2121" y="4664"/>
                  </a:lnTo>
                  <a:lnTo>
                    <a:pt x="2042" y="4734"/>
                  </a:lnTo>
                  <a:lnTo>
                    <a:pt x="1967" y="4800"/>
                  </a:lnTo>
                  <a:lnTo>
                    <a:pt x="1888" y="4861"/>
                  </a:lnTo>
                  <a:lnTo>
                    <a:pt x="1818" y="4914"/>
                  </a:lnTo>
                  <a:lnTo>
                    <a:pt x="1747" y="4953"/>
                  </a:lnTo>
                  <a:lnTo>
                    <a:pt x="1607" y="5019"/>
                  </a:lnTo>
                  <a:lnTo>
                    <a:pt x="1471" y="5063"/>
                  </a:lnTo>
                  <a:lnTo>
                    <a:pt x="1334" y="5081"/>
                  </a:lnTo>
                  <a:lnTo>
                    <a:pt x="1233" y="5085"/>
                  </a:lnTo>
                  <a:lnTo>
                    <a:pt x="1128" y="5072"/>
                  </a:lnTo>
                  <a:lnTo>
                    <a:pt x="1027" y="5050"/>
                  </a:lnTo>
                  <a:lnTo>
                    <a:pt x="921" y="5023"/>
                  </a:lnTo>
                  <a:lnTo>
                    <a:pt x="825" y="4988"/>
                  </a:lnTo>
                  <a:lnTo>
                    <a:pt x="724" y="4945"/>
                  </a:lnTo>
                  <a:lnTo>
                    <a:pt x="539" y="4852"/>
                  </a:lnTo>
                  <a:lnTo>
                    <a:pt x="381" y="4760"/>
                  </a:lnTo>
                  <a:lnTo>
                    <a:pt x="254" y="4673"/>
                  </a:lnTo>
                  <a:lnTo>
                    <a:pt x="171" y="4607"/>
                  </a:lnTo>
                  <a:lnTo>
                    <a:pt x="136" y="4576"/>
                  </a:lnTo>
                  <a:lnTo>
                    <a:pt x="70" y="4484"/>
                  </a:lnTo>
                  <a:lnTo>
                    <a:pt x="26" y="4409"/>
                  </a:lnTo>
                  <a:lnTo>
                    <a:pt x="4" y="4352"/>
                  </a:lnTo>
                  <a:lnTo>
                    <a:pt x="0" y="4308"/>
                  </a:lnTo>
                  <a:lnTo>
                    <a:pt x="0" y="4282"/>
                  </a:lnTo>
                  <a:lnTo>
                    <a:pt x="8" y="4265"/>
                  </a:lnTo>
                  <a:lnTo>
                    <a:pt x="35" y="4247"/>
                  </a:lnTo>
                  <a:lnTo>
                    <a:pt x="65" y="4247"/>
                  </a:lnTo>
                  <a:lnTo>
                    <a:pt x="83" y="4256"/>
                  </a:lnTo>
                  <a:lnTo>
                    <a:pt x="100" y="4269"/>
                  </a:lnTo>
                  <a:lnTo>
                    <a:pt x="153" y="4326"/>
                  </a:lnTo>
                  <a:lnTo>
                    <a:pt x="254" y="4418"/>
                  </a:lnTo>
                  <a:lnTo>
                    <a:pt x="373" y="4510"/>
                  </a:lnTo>
                  <a:lnTo>
                    <a:pt x="491" y="4580"/>
                  </a:lnTo>
                  <a:lnTo>
                    <a:pt x="610" y="4633"/>
                  </a:lnTo>
                  <a:lnTo>
                    <a:pt x="719" y="4668"/>
                  </a:lnTo>
                  <a:lnTo>
                    <a:pt x="829" y="4690"/>
                  </a:lnTo>
                  <a:lnTo>
                    <a:pt x="939" y="4694"/>
                  </a:lnTo>
                  <a:lnTo>
                    <a:pt x="1040" y="4681"/>
                  </a:lnTo>
                  <a:lnTo>
                    <a:pt x="1141" y="4659"/>
                  </a:lnTo>
                  <a:lnTo>
                    <a:pt x="1242" y="4624"/>
                  </a:lnTo>
                  <a:lnTo>
                    <a:pt x="1334" y="4572"/>
                  </a:lnTo>
                  <a:lnTo>
                    <a:pt x="1431" y="4510"/>
                  </a:lnTo>
                  <a:lnTo>
                    <a:pt x="1524" y="4436"/>
                  </a:lnTo>
                  <a:lnTo>
                    <a:pt x="1616" y="4352"/>
                  </a:lnTo>
                  <a:lnTo>
                    <a:pt x="1699" y="4256"/>
                  </a:lnTo>
                  <a:lnTo>
                    <a:pt x="1787" y="4155"/>
                  </a:lnTo>
                  <a:lnTo>
                    <a:pt x="1870" y="4045"/>
                  </a:lnTo>
                  <a:lnTo>
                    <a:pt x="1989" y="3865"/>
                  </a:lnTo>
                  <a:lnTo>
                    <a:pt x="2103" y="3668"/>
                  </a:lnTo>
                  <a:lnTo>
                    <a:pt x="2217" y="3449"/>
                  </a:lnTo>
                  <a:lnTo>
                    <a:pt x="2322" y="3212"/>
                  </a:lnTo>
                  <a:lnTo>
                    <a:pt x="2423" y="2957"/>
                  </a:lnTo>
                  <a:lnTo>
                    <a:pt x="2524" y="2672"/>
                  </a:lnTo>
                  <a:lnTo>
                    <a:pt x="2621" y="2368"/>
                  </a:lnTo>
                  <a:lnTo>
                    <a:pt x="2709" y="2035"/>
                  </a:lnTo>
                  <a:lnTo>
                    <a:pt x="2893" y="1254"/>
                  </a:lnTo>
                  <a:lnTo>
                    <a:pt x="2889" y="1197"/>
                  </a:lnTo>
                  <a:lnTo>
                    <a:pt x="1677" y="1338"/>
                  </a:lnTo>
                  <a:lnTo>
                    <a:pt x="1515" y="1351"/>
                  </a:lnTo>
                  <a:lnTo>
                    <a:pt x="1484" y="1346"/>
                  </a:lnTo>
                  <a:lnTo>
                    <a:pt x="1427" y="1223"/>
                  </a:lnTo>
                  <a:lnTo>
                    <a:pt x="1308" y="1232"/>
                  </a:lnTo>
                  <a:lnTo>
                    <a:pt x="1290" y="1223"/>
                  </a:lnTo>
                  <a:lnTo>
                    <a:pt x="1277" y="1197"/>
                  </a:lnTo>
                  <a:lnTo>
                    <a:pt x="1281" y="1171"/>
                  </a:lnTo>
                  <a:lnTo>
                    <a:pt x="1286" y="1158"/>
                  </a:lnTo>
                  <a:lnTo>
                    <a:pt x="1312" y="1153"/>
                  </a:lnTo>
                  <a:lnTo>
                    <a:pt x="1351" y="1140"/>
                  </a:lnTo>
                  <a:lnTo>
                    <a:pt x="1378" y="1127"/>
                  </a:lnTo>
                  <a:lnTo>
                    <a:pt x="1400" y="1096"/>
                  </a:lnTo>
                  <a:lnTo>
                    <a:pt x="1404" y="1074"/>
                  </a:lnTo>
                  <a:lnTo>
                    <a:pt x="1391" y="1052"/>
                  </a:lnTo>
                  <a:lnTo>
                    <a:pt x="1334" y="1017"/>
                  </a:lnTo>
                  <a:lnTo>
                    <a:pt x="1268" y="978"/>
                  </a:lnTo>
                  <a:lnTo>
                    <a:pt x="1246" y="960"/>
                  </a:lnTo>
                  <a:lnTo>
                    <a:pt x="1233" y="938"/>
                  </a:lnTo>
                  <a:lnTo>
                    <a:pt x="1229" y="890"/>
                  </a:lnTo>
                  <a:lnTo>
                    <a:pt x="1237" y="855"/>
                  </a:lnTo>
                  <a:lnTo>
                    <a:pt x="1255" y="837"/>
                  </a:lnTo>
                  <a:lnTo>
                    <a:pt x="1281" y="829"/>
                  </a:lnTo>
                  <a:lnTo>
                    <a:pt x="1351" y="824"/>
                  </a:lnTo>
                  <a:lnTo>
                    <a:pt x="1400" y="824"/>
                  </a:lnTo>
                  <a:lnTo>
                    <a:pt x="1445" y="811"/>
                  </a:lnTo>
                  <a:lnTo>
                    <a:pt x="1445" y="776"/>
                  </a:lnTo>
                  <a:lnTo>
                    <a:pt x="1378" y="772"/>
                  </a:lnTo>
                  <a:lnTo>
                    <a:pt x="1334" y="758"/>
                  </a:lnTo>
                  <a:lnTo>
                    <a:pt x="1325" y="745"/>
                  </a:lnTo>
                  <a:lnTo>
                    <a:pt x="1321" y="723"/>
                  </a:lnTo>
                  <a:lnTo>
                    <a:pt x="1334" y="636"/>
                  </a:lnTo>
                  <a:lnTo>
                    <a:pt x="1338" y="627"/>
                  </a:lnTo>
                  <a:lnTo>
                    <a:pt x="1351" y="618"/>
                  </a:lnTo>
                  <a:lnTo>
                    <a:pt x="1400" y="609"/>
                  </a:lnTo>
                  <a:lnTo>
                    <a:pt x="1646" y="609"/>
                  </a:lnTo>
                  <a:lnTo>
                    <a:pt x="1875" y="596"/>
                  </a:lnTo>
                  <a:lnTo>
                    <a:pt x="2191" y="570"/>
                  </a:lnTo>
                  <a:lnTo>
                    <a:pt x="2608" y="517"/>
                  </a:lnTo>
                  <a:lnTo>
                    <a:pt x="3143" y="434"/>
                  </a:lnTo>
                  <a:lnTo>
                    <a:pt x="4834" y="105"/>
                  </a:lnTo>
                  <a:lnTo>
                    <a:pt x="5348" y="17"/>
                  </a:lnTo>
                  <a:lnTo>
                    <a:pt x="5501" y="0"/>
                  </a:lnTo>
                  <a:lnTo>
                    <a:pt x="5598" y="0"/>
                  </a:lnTo>
                  <a:lnTo>
                    <a:pt x="5659" y="13"/>
                  </a:lnTo>
                  <a:lnTo>
                    <a:pt x="5686" y="35"/>
                  </a:lnTo>
                  <a:lnTo>
                    <a:pt x="5694" y="65"/>
                  </a:lnTo>
                  <a:lnTo>
                    <a:pt x="5694" y="96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41640" y="2324160"/>
              <a:ext cx="1787760" cy="1667160"/>
            </a:xfrm>
            <a:custGeom>
              <a:avLst/>
              <a:gdLst/>
              <a:ahLst/>
              <a:rect l="0" t="0" r="r" b="b"/>
              <a:pathLst>
                <a:path w="4966" h="4631">
                  <a:moveTo>
                    <a:pt x="1486" y="306"/>
                  </a:moveTo>
                  <a:lnTo>
                    <a:pt x="1557" y="342"/>
                  </a:lnTo>
                  <a:lnTo>
                    <a:pt x="1605" y="372"/>
                  </a:lnTo>
                  <a:lnTo>
                    <a:pt x="1618" y="390"/>
                  </a:lnTo>
                  <a:lnTo>
                    <a:pt x="1627" y="412"/>
                  </a:lnTo>
                  <a:lnTo>
                    <a:pt x="1627" y="464"/>
                  </a:lnTo>
                  <a:lnTo>
                    <a:pt x="1596" y="539"/>
                  </a:lnTo>
                  <a:lnTo>
                    <a:pt x="1535" y="644"/>
                  </a:lnTo>
                  <a:lnTo>
                    <a:pt x="1337" y="969"/>
                  </a:lnTo>
                  <a:lnTo>
                    <a:pt x="1293" y="1012"/>
                  </a:lnTo>
                  <a:lnTo>
                    <a:pt x="1245" y="1223"/>
                  </a:lnTo>
                  <a:lnTo>
                    <a:pt x="1223" y="1280"/>
                  </a:lnTo>
                  <a:lnTo>
                    <a:pt x="1197" y="1319"/>
                  </a:lnTo>
                  <a:lnTo>
                    <a:pt x="1127" y="1420"/>
                  </a:lnTo>
                  <a:lnTo>
                    <a:pt x="1065" y="1512"/>
                  </a:lnTo>
                  <a:lnTo>
                    <a:pt x="986" y="1648"/>
                  </a:lnTo>
                  <a:lnTo>
                    <a:pt x="886" y="1933"/>
                  </a:lnTo>
                  <a:lnTo>
                    <a:pt x="855" y="1973"/>
                  </a:lnTo>
                  <a:lnTo>
                    <a:pt x="785" y="2073"/>
                  </a:lnTo>
                  <a:lnTo>
                    <a:pt x="736" y="2152"/>
                  </a:lnTo>
                  <a:lnTo>
                    <a:pt x="679" y="2253"/>
                  </a:lnTo>
                  <a:lnTo>
                    <a:pt x="561" y="2535"/>
                  </a:lnTo>
                  <a:lnTo>
                    <a:pt x="491" y="2745"/>
                  </a:lnTo>
                  <a:lnTo>
                    <a:pt x="438" y="2912"/>
                  </a:lnTo>
                  <a:lnTo>
                    <a:pt x="412" y="3039"/>
                  </a:lnTo>
                  <a:lnTo>
                    <a:pt x="403" y="3127"/>
                  </a:lnTo>
                  <a:lnTo>
                    <a:pt x="421" y="3184"/>
                  </a:lnTo>
                  <a:lnTo>
                    <a:pt x="434" y="3201"/>
                  </a:lnTo>
                  <a:lnTo>
                    <a:pt x="451" y="3206"/>
                  </a:lnTo>
                  <a:lnTo>
                    <a:pt x="469" y="3210"/>
                  </a:lnTo>
                  <a:lnTo>
                    <a:pt x="495" y="3206"/>
                  </a:lnTo>
                  <a:lnTo>
                    <a:pt x="557" y="3175"/>
                  </a:lnTo>
                  <a:lnTo>
                    <a:pt x="627" y="3131"/>
                  </a:lnTo>
                  <a:lnTo>
                    <a:pt x="710" y="3070"/>
                  </a:lnTo>
                  <a:lnTo>
                    <a:pt x="890" y="2908"/>
                  </a:lnTo>
                  <a:lnTo>
                    <a:pt x="1293" y="2535"/>
                  </a:lnTo>
                  <a:lnTo>
                    <a:pt x="1359" y="2473"/>
                  </a:lnTo>
                  <a:lnTo>
                    <a:pt x="1399" y="2430"/>
                  </a:lnTo>
                  <a:lnTo>
                    <a:pt x="1443" y="2373"/>
                  </a:lnTo>
                  <a:lnTo>
                    <a:pt x="1482" y="2306"/>
                  </a:lnTo>
                  <a:lnTo>
                    <a:pt x="1526" y="2227"/>
                  </a:lnTo>
                  <a:lnTo>
                    <a:pt x="1565" y="2130"/>
                  </a:lnTo>
                  <a:lnTo>
                    <a:pt x="1596" y="2016"/>
                  </a:lnTo>
                  <a:lnTo>
                    <a:pt x="1658" y="1767"/>
                  </a:lnTo>
                  <a:lnTo>
                    <a:pt x="1679" y="1657"/>
                  </a:lnTo>
                  <a:lnTo>
                    <a:pt x="1697" y="1626"/>
                  </a:lnTo>
                  <a:lnTo>
                    <a:pt x="1736" y="1582"/>
                  </a:lnTo>
                  <a:lnTo>
                    <a:pt x="1754" y="1574"/>
                  </a:lnTo>
                  <a:lnTo>
                    <a:pt x="1750" y="1482"/>
                  </a:lnTo>
                  <a:lnTo>
                    <a:pt x="1750" y="1411"/>
                  </a:lnTo>
                  <a:lnTo>
                    <a:pt x="1763" y="1354"/>
                  </a:lnTo>
                  <a:lnTo>
                    <a:pt x="1780" y="1315"/>
                  </a:lnTo>
                  <a:lnTo>
                    <a:pt x="1802" y="1293"/>
                  </a:lnTo>
                  <a:lnTo>
                    <a:pt x="1820" y="1275"/>
                  </a:lnTo>
                  <a:lnTo>
                    <a:pt x="1855" y="1262"/>
                  </a:lnTo>
                  <a:lnTo>
                    <a:pt x="1899" y="1227"/>
                  </a:lnTo>
                  <a:lnTo>
                    <a:pt x="1868" y="1153"/>
                  </a:lnTo>
                  <a:lnTo>
                    <a:pt x="1864" y="1126"/>
                  </a:lnTo>
                  <a:lnTo>
                    <a:pt x="1864" y="1096"/>
                  </a:lnTo>
                  <a:lnTo>
                    <a:pt x="1912" y="1004"/>
                  </a:lnTo>
                  <a:lnTo>
                    <a:pt x="2030" y="819"/>
                  </a:lnTo>
                  <a:lnTo>
                    <a:pt x="2101" y="714"/>
                  </a:lnTo>
                  <a:lnTo>
                    <a:pt x="2158" y="613"/>
                  </a:lnTo>
                  <a:lnTo>
                    <a:pt x="2250" y="451"/>
                  </a:lnTo>
                  <a:lnTo>
                    <a:pt x="2302" y="394"/>
                  </a:lnTo>
                  <a:lnTo>
                    <a:pt x="2355" y="363"/>
                  </a:lnTo>
                  <a:lnTo>
                    <a:pt x="2421" y="355"/>
                  </a:lnTo>
                  <a:lnTo>
                    <a:pt x="2460" y="359"/>
                  </a:lnTo>
                  <a:lnTo>
                    <a:pt x="2501" y="372"/>
                  </a:lnTo>
                  <a:lnTo>
                    <a:pt x="2518" y="399"/>
                  </a:lnTo>
                  <a:lnTo>
                    <a:pt x="2667" y="381"/>
                  </a:lnTo>
                  <a:lnTo>
                    <a:pt x="2720" y="390"/>
                  </a:lnTo>
                  <a:lnTo>
                    <a:pt x="2760" y="416"/>
                  </a:lnTo>
                  <a:lnTo>
                    <a:pt x="2786" y="491"/>
                  </a:lnTo>
                  <a:lnTo>
                    <a:pt x="2790" y="539"/>
                  </a:lnTo>
                  <a:lnTo>
                    <a:pt x="2790" y="578"/>
                  </a:lnTo>
                  <a:lnTo>
                    <a:pt x="2781" y="600"/>
                  </a:lnTo>
                  <a:lnTo>
                    <a:pt x="2768" y="635"/>
                  </a:lnTo>
                  <a:lnTo>
                    <a:pt x="2768" y="648"/>
                  </a:lnTo>
                  <a:lnTo>
                    <a:pt x="2781" y="657"/>
                  </a:lnTo>
                  <a:lnTo>
                    <a:pt x="2803" y="670"/>
                  </a:lnTo>
                  <a:lnTo>
                    <a:pt x="2834" y="679"/>
                  </a:lnTo>
                  <a:lnTo>
                    <a:pt x="2865" y="697"/>
                  </a:lnTo>
                  <a:lnTo>
                    <a:pt x="2874" y="714"/>
                  </a:lnTo>
                  <a:lnTo>
                    <a:pt x="2882" y="736"/>
                  </a:lnTo>
                  <a:lnTo>
                    <a:pt x="2882" y="771"/>
                  </a:lnTo>
                  <a:lnTo>
                    <a:pt x="2874" y="806"/>
                  </a:lnTo>
                  <a:lnTo>
                    <a:pt x="2838" y="903"/>
                  </a:lnTo>
                  <a:lnTo>
                    <a:pt x="2698" y="1179"/>
                  </a:lnTo>
                  <a:lnTo>
                    <a:pt x="2478" y="1609"/>
                  </a:lnTo>
                  <a:lnTo>
                    <a:pt x="2351" y="1894"/>
                  </a:lnTo>
                  <a:lnTo>
                    <a:pt x="2215" y="2227"/>
                  </a:lnTo>
                  <a:lnTo>
                    <a:pt x="2087" y="2579"/>
                  </a:lnTo>
                  <a:lnTo>
                    <a:pt x="1995" y="2842"/>
                  </a:lnTo>
                  <a:lnTo>
                    <a:pt x="1943" y="3022"/>
                  </a:lnTo>
                  <a:lnTo>
                    <a:pt x="1921" y="3149"/>
                  </a:lnTo>
                  <a:lnTo>
                    <a:pt x="1929" y="3228"/>
                  </a:lnTo>
                  <a:lnTo>
                    <a:pt x="1943" y="3254"/>
                  </a:lnTo>
                  <a:lnTo>
                    <a:pt x="1960" y="3276"/>
                  </a:lnTo>
                  <a:lnTo>
                    <a:pt x="2013" y="3307"/>
                  </a:lnTo>
                  <a:lnTo>
                    <a:pt x="2079" y="3342"/>
                  </a:lnTo>
                  <a:lnTo>
                    <a:pt x="2285" y="3048"/>
                  </a:lnTo>
                  <a:lnTo>
                    <a:pt x="2390" y="2912"/>
                  </a:lnTo>
                  <a:lnTo>
                    <a:pt x="2447" y="2837"/>
                  </a:lnTo>
                  <a:lnTo>
                    <a:pt x="2501" y="2732"/>
                  </a:lnTo>
                  <a:lnTo>
                    <a:pt x="2272" y="2798"/>
                  </a:lnTo>
                  <a:lnTo>
                    <a:pt x="2285" y="2732"/>
                  </a:lnTo>
                  <a:lnTo>
                    <a:pt x="2298" y="2715"/>
                  </a:lnTo>
                  <a:lnTo>
                    <a:pt x="2315" y="2697"/>
                  </a:lnTo>
                  <a:lnTo>
                    <a:pt x="2346" y="2644"/>
                  </a:lnTo>
                  <a:lnTo>
                    <a:pt x="2333" y="2614"/>
                  </a:lnTo>
                  <a:lnTo>
                    <a:pt x="2315" y="2579"/>
                  </a:lnTo>
                  <a:lnTo>
                    <a:pt x="2307" y="2548"/>
                  </a:lnTo>
                  <a:lnTo>
                    <a:pt x="2311" y="2535"/>
                  </a:lnTo>
                  <a:lnTo>
                    <a:pt x="2315" y="2522"/>
                  </a:lnTo>
                  <a:lnTo>
                    <a:pt x="2733" y="2253"/>
                  </a:lnTo>
                  <a:lnTo>
                    <a:pt x="2838" y="2183"/>
                  </a:lnTo>
                  <a:lnTo>
                    <a:pt x="2900" y="2130"/>
                  </a:lnTo>
                  <a:lnTo>
                    <a:pt x="2922" y="2104"/>
                  </a:lnTo>
                  <a:lnTo>
                    <a:pt x="2939" y="2078"/>
                  </a:lnTo>
                  <a:lnTo>
                    <a:pt x="2974" y="2008"/>
                  </a:lnTo>
                  <a:lnTo>
                    <a:pt x="3031" y="1902"/>
                  </a:lnTo>
                  <a:lnTo>
                    <a:pt x="3119" y="1740"/>
                  </a:lnTo>
                  <a:lnTo>
                    <a:pt x="3286" y="1556"/>
                  </a:lnTo>
                  <a:lnTo>
                    <a:pt x="3334" y="1530"/>
                  </a:lnTo>
                  <a:lnTo>
                    <a:pt x="3343" y="1464"/>
                  </a:lnTo>
                  <a:lnTo>
                    <a:pt x="3374" y="1438"/>
                  </a:lnTo>
                  <a:lnTo>
                    <a:pt x="3453" y="1363"/>
                  </a:lnTo>
                  <a:lnTo>
                    <a:pt x="3518" y="1289"/>
                  </a:lnTo>
                  <a:lnTo>
                    <a:pt x="3610" y="1170"/>
                  </a:lnTo>
                  <a:lnTo>
                    <a:pt x="3874" y="833"/>
                  </a:lnTo>
                  <a:lnTo>
                    <a:pt x="3988" y="714"/>
                  </a:lnTo>
                  <a:lnTo>
                    <a:pt x="4058" y="662"/>
                  </a:lnTo>
                  <a:lnTo>
                    <a:pt x="4119" y="618"/>
                  </a:lnTo>
                  <a:lnTo>
                    <a:pt x="4211" y="534"/>
                  </a:lnTo>
                  <a:lnTo>
                    <a:pt x="4242" y="499"/>
                  </a:lnTo>
                  <a:lnTo>
                    <a:pt x="4268" y="460"/>
                  </a:lnTo>
                  <a:lnTo>
                    <a:pt x="4295" y="381"/>
                  </a:lnTo>
                  <a:lnTo>
                    <a:pt x="4312" y="245"/>
                  </a:lnTo>
                  <a:lnTo>
                    <a:pt x="4325" y="192"/>
                  </a:lnTo>
                  <a:lnTo>
                    <a:pt x="4334" y="175"/>
                  </a:lnTo>
                  <a:lnTo>
                    <a:pt x="4356" y="162"/>
                  </a:lnTo>
                  <a:lnTo>
                    <a:pt x="4418" y="157"/>
                  </a:lnTo>
                  <a:lnTo>
                    <a:pt x="4523" y="179"/>
                  </a:lnTo>
                  <a:lnTo>
                    <a:pt x="4567" y="214"/>
                  </a:lnTo>
                  <a:lnTo>
                    <a:pt x="4567" y="267"/>
                  </a:lnTo>
                  <a:lnTo>
                    <a:pt x="4575" y="276"/>
                  </a:lnTo>
                  <a:lnTo>
                    <a:pt x="4589" y="280"/>
                  </a:lnTo>
                  <a:lnTo>
                    <a:pt x="4681" y="285"/>
                  </a:lnTo>
                  <a:lnTo>
                    <a:pt x="4891" y="315"/>
                  </a:lnTo>
                  <a:lnTo>
                    <a:pt x="4926" y="324"/>
                  </a:lnTo>
                  <a:lnTo>
                    <a:pt x="4948" y="342"/>
                  </a:lnTo>
                  <a:lnTo>
                    <a:pt x="4961" y="363"/>
                  </a:lnTo>
                  <a:lnTo>
                    <a:pt x="4966" y="394"/>
                  </a:lnTo>
                  <a:lnTo>
                    <a:pt x="4961" y="495"/>
                  </a:lnTo>
                  <a:lnTo>
                    <a:pt x="4931" y="653"/>
                  </a:lnTo>
                  <a:lnTo>
                    <a:pt x="4887" y="885"/>
                  </a:lnTo>
                  <a:lnTo>
                    <a:pt x="4839" y="1201"/>
                  </a:lnTo>
                  <a:lnTo>
                    <a:pt x="4786" y="1617"/>
                  </a:lnTo>
                  <a:lnTo>
                    <a:pt x="4747" y="2144"/>
                  </a:lnTo>
                  <a:lnTo>
                    <a:pt x="4676" y="3166"/>
                  </a:lnTo>
                  <a:lnTo>
                    <a:pt x="4597" y="3947"/>
                  </a:lnTo>
                  <a:lnTo>
                    <a:pt x="4584" y="4126"/>
                  </a:lnTo>
                  <a:lnTo>
                    <a:pt x="4575" y="4289"/>
                  </a:lnTo>
                  <a:lnTo>
                    <a:pt x="4567" y="4346"/>
                  </a:lnTo>
                  <a:lnTo>
                    <a:pt x="4554" y="4385"/>
                  </a:lnTo>
                  <a:lnTo>
                    <a:pt x="4545" y="4394"/>
                  </a:lnTo>
                  <a:lnTo>
                    <a:pt x="4532" y="4398"/>
                  </a:lnTo>
                  <a:lnTo>
                    <a:pt x="4497" y="4381"/>
                  </a:lnTo>
                  <a:lnTo>
                    <a:pt x="4497" y="4354"/>
                  </a:lnTo>
                  <a:lnTo>
                    <a:pt x="4479" y="4341"/>
                  </a:lnTo>
                  <a:lnTo>
                    <a:pt x="4466" y="4179"/>
                  </a:lnTo>
                  <a:lnTo>
                    <a:pt x="4396" y="4148"/>
                  </a:lnTo>
                  <a:lnTo>
                    <a:pt x="4365" y="4118"/>
                  </a:lnTo>
                  <a:lnTo>
                    <a:pt x="4356" y="4100"/>
                  </a:lnTo>
                  <a:lnTo>
                    <a:pt x="4356" y="4074"/>
                  </a:lnTo>
                  <a:lnTo>
                    <a:pt x="4378" y="4061"/>
                  </a:lnTo>
                  <a:lnTo>
                    <a:pt x="4396" y="4039"/>
                  </a:lnTo>
                  <a:lnTo>
                    <a:pt x="4413" y="3995"/>
                  </a:lnTo>
                  <a:lnTo>
                    <a:pt x="4418" y="3947"/>
                  </a:lnTo>
                  <a:lnTo>
                    <a:pt x="4413" y="3912"/>
                  </a:lnTo>
                  <a:lnTo>
                    <a:pt x="4365" y="3885"/>
                  </a:lnTo>
                  <a:lnTo>
                    <a:pt x="4343" y="3811"/>
                  </a:lnTo>
                  <a:lnTo>
                    <a:pt x="4339" y="3793"/>
                  </a:lnTo>
                  <a:lnTo>
                    <a:pt x="4361" y="3789"/>
                  </a:lnTo>
                  <a:lnTo>
                    <a:pt x="4378" y="3780"/>
                  </a:lnTo>
                  <a:lnTo>
                    <a:pt x="4400" y="3754"/>
                  </a:lnTo>
                  <a:lnTo>
                    <a:pt x="4404" y="3727"/>
                  </a:lnTo>
                  <a:lnTo>
                    <a:pt x="4400" y="3719"/>
                  </a:lnTo>
                  <a:lnTo>
                    <a:pt x="4321" y="3719"/>
                  </a:lnTo>
                  <a:lnTo>
                    <a:pt x="4273" y="3438"/>
                  </a:lnTo>
                  <a:lnTo>
                    <a:pt x="4246" y="3276"/>
                  </a:lnTo>
                  <a:lnTo>
                    <a:pt x="4238" y="3245"/>
                  </a:lnTo>
                  <a:lnTo>
                    <a:pt x="4229" y="3241"/>
                  </a:lnTo>
                  <a:lnTo>
                    <a:pt x="4181" y="3333"/>
                  </a:lnTo>
                  <a:lnTo>
                    <a:pt x="4146" y="3026"/>
                  </a:lnTo>
                  <a:lnTo>
                    <a:pt x="4146" y="2925"/>
                  </a:lnTo>
                  <a:lnTo>
                    <a:pt x="4163" y="2903"/>
                  </a:lnTo>
                  <a:lnTo>
                    <a:pt x="4168" y="2886"/>
                  </a:lnTo>
                  <a:lnTo>
                    <a:pt x="4172" y="2846"/>
                  </a:lnTo>
                  <a:lnTo>
                    <a:pt x="4146" y="2697"/>
                  </a:lnTo>
                  <a:lnTo>
                    <a:pt x="4132" y="2671"/>
                  </a:lnTo>
                  <a:lnTo>
                    <a:pt x="4124" y="2623"/>
                  </a:lnTo>
                  <a:lnTo>
                    <a:pt x="4124" y="2500"/>
                  </a:lnTo>
                  <a:lnTo>
                    <a:pt x="4146" y="2244"/>
                  </a:lnTo>
                  <a:lnTo>
                    <a:pt x="4159" y="2135"/>
                  </a:lnTo>
                  <a:lnTo>
                    <a:pt x="4154" y="2025"/>
                  </a:lnTo>
                  <a:lnTo>
                    <a:pt x="3979" y="2078"/>
                  </a:lnTo>
                  <a:lnTo>
                    <a:pt x="3847" y="2126"/>
                  </a:lnTo>
                  <a:lnTo>
                    <a:pt x="3755" y="2170"/>
                  </a:lnTo>
                  <a:lnTo>
                    <a:pt x="3694" y="2209"/>
                  </a:lnTo>
                  <a:lnTo>
                    <a:pt x="3606" y="2284"/>
                  </a:lnTo>
                  <a:lnTo>
                    <a:pt x="3567" y="2320"/>
                  </a:lnTo>
                  <a:lnTo>
                    <a:pt x="3510" y="2351"/>
                  </a:lnTo>
                  <a:lnTo>
                    <a:pt x="3391" y="2390"/>
                  </a:lnTo>
                  <a:lnTo>
                    <a:pt x="3321" y="2403"/>
                  </a:lnTo>
                  <a:lnTo>
                    <a:pt x="3281" y="2399"/>
                  </a:lnTo>
                  <a:lnTo>
                    <a:pt x="3242" y="2412"/>
                  </a:lnTo>
                  <a:lnTo>
                    <a:pt x="3229" y="2469"/>
                  </a:lnTo>
                  <a:lnTo>
                    <a:pt x="3159" y="2513"/>
                  </a:lnTo>
                  <a:lnTo>
                    <a:pt x="3141" y="2535"/>
                  </a:lnTo>
                  <a:lnTo>
                    <a:pt x="3119" y="2579"/>
                  </a:lnTo>
                  <a:lnTo>
                    <a:pt x="3071" y="2675"/>
                  </a:lnTo>
                  <a:lnTo>
                    <a:pt x="2988" y="2842"/>
                  </a:lnTo>
                  <a:lnTo>
                    <a:pt x="2852" y="3096"/>
                  </a:lnTo>
                  <a:lnTo>
                    <a:pt x="2641" y="3460"/>
                  </a:lnTo>
                  <a:lnTo>
                    <a:pt x="2430" y="3837"/>
                  </a:lnTo>
                  <a:lnTo>
                    <a:pt x="2408" y="3872"/>
                  </a:lnTo>
                  <a:lnTo>
                    <a:pt x="2394" y="3885"/>
                  </a:lnTo>
                  <a:lnTo>
                    <a:pt x="2377" y="3890"/>
                  </a:lnTo>
                  <a:lnTo>
                    <a:pt x="2355" y="3885"/>
                  </a:lnTo>
                  <a:lnTo>
                    <a:pt x="2329" y="3872"/>
                  </a:lnTo>
                  <a:lnTo>
                    <a:pt x="2315" y="3863"/>
                  </a:lnTo>
                  <a:lnTo>
                    <a:pt x="2311" y="3868"/>
                  </a:lnTo>
                  <a:lnTo>
                    <a:pt x="2298" y="3885"/>
                  </a:lnTo>
                  <a:lnTo>
                    <a:pt x="2237" y="4008"/>
                  </a:lnTo>
                  <a:lnTo>
                    <a:pt x="2175" y="4122"/>
                  </a:lnTo>
                  <a:lnTo>
                    <a:pt x="2079" y="4289"/>
                  </a:lnTo>
                  <a:lnTo>
                    <a:pt x="2022" y="4359"/>
                  </a:lnTo>
                  <a:lnTo>
                    <a:pt x="1995" y="4385"/>
                  </a:lnTo>
                  <a:lnTo>
                    <a:pt x="1965" y="4407"/>
                  </a:lnTo>
                  <a:lnTo>
                    <a:pt x="1925" y="4429"/>
                  </a:lnTo>
                  <a:lnTo>
                    <a:pt x="1899" y="4425"/>
                  </a:lnTo>
                  <a:lnTo>
                    <a:pt x="1868" y="4376"/>
                  </a:lnTo>
                  <a:lnTo>
                    <a:pt x="1864" y="4376"/>
                  </a:lnTo>
                  <a:lnTo>
                    <a:pt x="1851" y="4390"/>
                  </a:lnTo>
                  <a:lnTo>
                    <a:pt x="1829" y="4433"/>
                  </a:lnTo>
                  <a:lnTo>
                    <a:pt x="1802" y="4468"/>
                  </a:lnTo>
                  <a:lnTo>
                    <a:pt x="1772" y="4499"/>
                  </a:lnTo>
                  <a:lnTo>
                    <a:pt x="1728" y="4490"/>
                  </a:lnTo>
                  <a:lnTo>
                    <a:pt x="1723" y="4429"/>
                  </a:lnTo>
                  <a:lnTo>
                    <a:pt x="1715" y="4403"/>
                  </a:lnTo>
                  <a:lnTo>
                    <a:pt x="1701" y="4411"/>
                  </a:lnTo>
                  <a:lnTo>
                    <a:pt x="1679" y="4447"/>
                  </a:lnTo>
                  <a:lnTo>
                    <a:pt x="1618" y="4547"/>
                  </a:lnTo>
                  <a:lnTo>
                    <a:pt x="1574" y="4596"/>
                  </a:lnTo>
                  <a:lnTo>
                    <a:pt x="1522" y="4631"/>
                  </a:lnTo>
                  <a:lnTo>
                    <a:pt x="1460" y="4631"/>
                  </a:lnTo>
                  <a:lnTo>
                    <a:pt x="1469" y="4490"/>
                  </a:lnTo>
                  <a:lnTo>
                    <a:pt x="1386" y="4482"/>
                  </a:lnTo>
                  <a:lnTo>
                    <a:pt x="1408" y="4429"/>
                  </a:lnTo>
                  <a:lnTo>
                    <a:pt x="1429" y="4372"/>
                  </a:lnTo>
                  <a:lnTo>
                    <a:pt x="1504" y="4262"/>
                  </a:lnTo>
                  <a:lnTo>
                    <a:pt x="1583" y="4153"/>
                  </a:lnTo>
                  <a:lnTo>
                    <a:pt x="1653" y="4048"/>
                  </a:lnTo>
                  <a:lnTo>
                    <a:pt x="1750" y="3863"/>
                  </a:lnTo>
                  <a:lnTo>
                    <a:pt x="1794" y="3749"/>
                  </a:lnTo>
                  <a:lnTo>
                    <a:pt x="1802" y="3714"/>
                  </a:lnTo>
                  <a:lnTo>
                    <a:pt x="1802" y="3692"/>
                  </a:lnTo>
                  <a:lnTo>
                    <a:pt x="1794" y="3679"/>
                  </a:lnTo>
                  <a:lnTo>
                    <a:pt x="1776" y="3675"/>
                  </a:lnTo>
                  <a:lnTo>
                    <a:pt x="1719" y="3684"/>
                  </a:lnTo>
                  <a:lnTo>
                    <a:pt x="1649" y="3710"/>
                  </a:lnTo>
                  <a:lnTo>
                    <a:pt x="1565" y="3736"/>
                  </a:lnTo>
                  <a:lnTo>
                    <a:pt x="1478" y="3745"/>
                  </a:lnTo>
                  <a:lnTo>
                    <a:pt x="1399" y="3736"/>
                  </a:lnTo>
                  <a:lnTo>
                    <a:pt x="1337" y="3710"/>
                  </a:lnTo>
                  <a:lnTo>
                    <a:pt x="1289" y="3666"/>
                  </a:lnTo>
                  <a:lnTo>
                    <a:pt x="1254" y="3618"/>
                  </a:lnTo>
                  <a:lnTo>
                    <a:pt x="1254" y="3526"/>
                  </a:lnTo>
                  <a:lnTo>
                    <a:pt x="1250" y="3508"/>
                  </a:lnTo>
                  <a:lnTo>
                    <a:pt x="1241" y="3495"/>
                  </a:lnTo>
                  <a:lnTo>
                    <a:pt x="1219" y="3460"/>
                  </a:lnTo>
                  <a:lnTo>
                    <a:pt x="1210" y="3385"/>
                  </a:lnTo>
                  <a:lnTo>
                    <a:pt x="1219" y="3232"/>
                  </a:lnTo>
                  <a:lnTo>
                    <a:pt x="1258" y="3052"/>
                  </a:lnTo>
                  <a:lnTo>
                    <a:pt x="1298" y="2938"/>
                  </a:lnTo>
                  <a:lnTo>
                    <a:pt x="1329" y="2881"/>
                  </a:lnTo>
                  <a:lnTo>
                    <a:pt x="1329" y="2868"/>
                  </a:lnTo>
                  <a:lnTo>
                    <a:pt x="1320" y="2872"/>
                  </a:lnTo>
                  <a:lnTo>
                    <a:pt x="1250" y="2934"/>
                  </a:lnTo>
                  <a:lnTo>
                    <a:pt x="1162" y="3026"/>
                  </a:lnTo>
                  <a:lnTo>
                    <a:pt x="956" y="3254"/>
                  </a:lnTo>
                  <a:lnTo>
                    <a:pt x="837" y="3368"/>
                  </a:lnTo>
                  <a:lnTo>
                    <a:pt x="719" y="3464"/>
                  </a:lnTo>
                  <a:lnTo>
                    <a:pt x="653" y="3504"/>
                  </a:lnTo>
                  <a:lnTo>
                    <a:pt x="592" y="3530"/>
                  </a:lnTo>
                  <a:lnTo>
                    <a:pt x="526" y="3556"/>
                  </a:lnTo>
                  <a:lnTo>
                    <a:pt x="460" y="3561"/>
                  </a:lnTo>
                  <a:lnTo>
                    <a:pt x="350" y="3561"/>
                  </a:lnTo>
                  <a:lnTo>
                    <a:pt x="302" y="3548"/>
                  </a:lnTo>
                  <a:lnTo>
                    <a:pt x="254" y="3535"/>
                  </a:lnTo>
                  <a:lnTo>
                    <a:pt x="214" y="3517"/>
                  </a:lnTo>
                  <a:lnTo>
                    <a:pt x="175" y="3495"/>
                  </a:lnTo>
                  <a:lnTo>
                    <a:pt x="144" y="3469"/>
                  </a:lnTo>
                  <a:lnTo>
                    <a:pt x="118" y="3438"/>
                  </a:lnTo>
                  <a:lnTo>
                    <a:pt x="70" y="3372"/>
                  </a:lnTo>
                  <a:lnTo>
                    <a:pt x="35" y="3293"/>
                  </a:lnTo>
                  <a:lnTo>
                    <a:pt x="17" y="3210"/>
                  </a:lnTo>
                  <a:lnTo>
                    <a:pt x="4" y="3118"/>
                  </a:lnTo>
                  <a:lnTo>
                    <a:pt x="0" y="3026"/>
                  </a:lnTo>
                  <a:lnTo>
                    <a:pt x="4" y="2929"/>
                  </a:lnTo>
                  <a:lnTo>
                    <a:pt x="26" y="2750"/>
                  </a:lnTo>
                  <a:lnTo>
                    <a:pt x="61" y="2592"/>
                  </a:lnTo>
                  <a:lnTo>
                    <a:pt x="92" y="2478"/>
                  </a:lnTo>
                  <a:lnTo>
                    <a:pt x="153" y="2266"/>
                  </a:lnTo>
                  <a:lnTo>
                    <a:pt x="184" y="2144"/>
                  </a:lnTo>
                  <a:lnTo>
                    <a:pt x="232" y="1990"/>
                  </a:lnTo>
                  <a:lnTo>
                    <a:pt x="302" y="1793"/>
                  </a:lnTo>
                  <a:lnTo>
                    <a:pt x="399" y="1534"/>
                  </a:lnTo>
                  <a:lnTo>
                    <a:pt x="719" y="784"/>
                  </a:lnTo>
                  <a:lnTo>
                    <a:pt x="793" y="635"/>
                  </a:lnTo>
                  <a:lnTo>
                    <a:pt x="846" y="543"/>
                  </a:lnTo>
                  <a:lnTo>
                    <a:pt x="907" y="407"/>
                  </a:lnTo>
                  <a:lnTo>
                    <a:pt x="969" y="280"/>
                  </a:lnTo>
                  <a:lnTo>
                    <a:pt x="1026" y="188"/>
                  </a:lnTo>
                  <a:lnTo>
                    <a:pt x="1074" y="135"/>
                  </a:lnTo>
                  <a:lnTo>
                    <a:pt x="1122" y="96"/>
                  </a:lnTo>
                  <a:lnTo>
                    <a:pt x="1157" y="74"/>
                  </a:lnTo>
                  <a:lnTo>
                    <a:pt x="1193" y="65"/>
                  </a:lnTo>
                  <a:lnTo>
                    <a:pt x="1245" y="65"/>
                  </a:lnTo>
                  <a:lnTo>
                    <a:pt x="1276" y="70"/>
                  </a:lnTo>
                  <a:lnTo>
                    <a:pt x="1298" y="52"/>
                  </a:lnTo>
                  <a:lnTo>
                    <a:pt x="1320" y="21"/>
                  </a:lnTo>
                  <a:lnTo>
                    <a:pt x="1350" y="0"/>
                  </a:lnTo>
                  <a:lnTo>
                    <a:pt x="1394" y="4"/>
                  </a:lnTo>
                  <a:lnTo>
                    <a:pt x="1416" y="17"/>
                  </a:lnTo>
                  <a:lnTo>
                    <a:pt x="1429" y="35"/>
                  </a:lnTo>
                  <a:lnTo>
                    <a:pt x="1438" y="70"/>
                  </a:lnTo>
                  <a:lnTo>
                    <a:pt x="1447" y="153"/>
                  </a:lnTo>
                  <a:lnTo>
                    <a:pt x="1469" y="175"/>
                  </a:lnTo>
                  <a:lnTo>
                    <a:pt x="1491" y="197"/>
                  </a:lnTo>
                  <a:lnTo>
                    <a:pt x="1500" y="236"/>
                  </a:lnTo>
                  <a:lnTo>
                    <a:pt x="1486" y="306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684760" y="2357280"/>
              <a:ext cx="2065680" cy="1913400"/>
            </a:xfrm>
            <a:custGeom>
              <a:avLst/>
              <a:gdLst/>
              <a:ahLst/>
              <a:rect l="0" t="0" r="r" b="b"/>
              <a:pathLst>
                <a:path w="5738" h="5315">
                  <a:moveTo>
                    <a:pt x="5470" y="4710"/>
                  </a:moveTo>
                  <a:lnTo>
                    <a:pt x="5435" y="4732"/>
                  </a:lnTo>
                  <a:lnTo>
                    <a:pt x="5404" y="4745"/>
                  </a:lnTo>
                  <a:lnTo>
                    <a:pt x="5378" y="4740"/>
                  </a:lnTo>
                  <a:lnTo>
                    <a:pt x="5347" y="4727"/>
                  </a:lnTo>
                  <a:lnTo>
                    <a:pt x="5268" y="4653"/>
                  </a:lnTo>
                  <a:lnTo>
                    <a:pt x="5119" y="4525"/>
                  </a:lnTo>
                  <a:lnTo>
                    <a:pt x="4289" y="3857"/>
                  </a:lnTo>
                  <a:lnTo>
                    <a:pt x="4061" y="3682"/>
                  </a:lnTo>
                  <a:lnTo>
                    <a:pt x="3837" y="3520"/>
                  </a:lnTo>
                  <a:lnTo>
                    <a:pt x="3727" y="3441"/>
                  </a:lnTo>
                  <a:lnTo>
                    <a:pt x="3644" y="3366"/>
                  </a:lnTo>
                  <a:lnTo>
                    <a:pt x="3574" y="3300"/>
                  </a:lnTo>
                  <a:lnTo>
                    <a:pt x="3521" y="3243"/>
                  </a:lnTo>
                  <a:lnTo>
                    <a:pt x="3442" y="3147"/>
                  </a:lnTo>
                  <a:lnTo>
                    <a:pt x="3416" y="3116"/>
                  </a:lnTo>
                  <a:lnTo>
                    <a:pt x="3385" y="3085"/>
                  </a:lnTo>
                  <a:lnTo>
                    <a:pt x="3271" y="3041"/>
                  </a:lnTo>
                  <a:lnTo>
                    <a:pt x="2950" y="2673"/>
                  </a:lnTo>
                  <a:lnTo>
                    <a:pt x="2866" y="2581"/>
                  </a:lnTo>
                  <a:lnTo>
                    <a:pt x="2822" y="2537"/>
                  </a:lnTo>
                  <a:lnTo>
                    <a:pt x="2787" y="2515"/>
                  </a:lnTo>
                  <a:lnTo>
                    <a:pt x="2743" y="2545"/>
                  </a:lnTo>
                  <a:lnTo>
                    <a:pt x="2278" y="2208"/>
                  </a:lnTo>
                  <a:lnTo>
                    <a:pt x="2124" y="2107"/>
                  </a:lnTo>
                  <a:lnTo>
                    <a:pt x="2128" y="2111"/>
                  </a:lnTo>
                  <a:lnTo>
                    <a:pt x="2159" y="2142"/>
                  </a:lnTo>
                  <a:lnTo>
                    <a:pt x="2247" y="2230"/>
                  </a:lnTo>
                  <a:lnTo>
                    <a:pt x="2282" y="2278"/>
                  </a:lnTo>
                  <a:lnTo>
                    <a:pt x="2286" y="2295"/>
                  </a:lnTo>
                  <a:lnTo>
                    <a:pt x="2282" y="2300"/>
                  </a:lnTo>
                  <a:lnTo>
                    <a:pt x="2291" y="2313"/>
                  </a:lnTo>
                  <a:lnTo>
                    <a:pt x="2409" y="2431"/>
                  </a:lnTo>
                  <a:lnTo>
                    <a:pt x="2800" y="2782"/>
                  </a:lnTo>
                  <a:lnTo>
                    <a:pt x="2990" y="2945"/>
                  </a:lnTo>
                  <a:lnTo>
                    <a:pt x="3073" y="3011"/>
                  </a:lnTo>
                  <a:lnTo>
                    <a:pt x="3091" y="3028"/>
                  </a:lnTo>
                  <a:lnTo>
                    <a:pt x="3069" y="3041"/>
                  </a:lnTo>
                  <a:lnTo>
                    <a:pt x="3051" y="3050"/>
                  </a:lnTo>
                  <a:lnTo>
                    <a:pt x="3034" y="3054"/>
                  </a:lnTo>
                  <a:lnTo>
                    <a:pt x="3029" y="3050"/>
                  </a:lnTo>
                  <a:lnTo>
                    <a:pt x="3082" y="3081"/>
                  </a:lnTo>
                  <a:lnTo>
                    <a:pt x="3222" y="3186"/>
                  </a:lnTo>
                  <a:lnTo>
                    <a:pt x="3995" y="3814"/>
                  </a:lnTo>
                  <a:lnTo>
                    <a:pt x="4140" y="3941"/>
                  </a:lnTo>
                  <a:lnTo>
                    <a:pt x="4201" y="3999"/>
                  </a:lnTo>
                  <a:lnTo>
                    <a:pt x="4276" y="4082"/>
                  </a:lnTo>
                  <a:lnTo>
                    <a:pt x="4399" y="4192"/>
                  </a:lnTo>
                  <a:lnTo>
                    <a:pt x="4649" y="4411"/>
                  </a:lnTo>
                  <a:lnTo>
                    <a:pt x="5395" y="5074"/>
                  </a:lnTo>
                  <a:lnTo>
                    <a:pt x="5738" y="5293"/>
                  </a:lnTo>
                  <a:lnTo>
                    <a:pt x="5733" y="5311"/>
                  </a:lnTo>
                  <a:lnTo>
                    <a:pt x="5724" y="5315"/>
                  </a:lnTo>
                  <a:lnTo>
                    <a:pt x="5689" y="5315"/>
                  </a:lnTo>
                  <a:lnTo>
                    <a:pt x="5637" y="5293"/>
                  </a:lnTo>
                  <a:lnTo>
                    <a:pt x="5566" y="5254"/>
                  </a:lnTo>
                  <a:lnTo>
                    <a:pt x="5479" y="5201"/>
                  </a:lnTo>
                  <a:lnTo>
                    <a:pt x="5382" y="5131"/>
                  </a:lnTo>
                  <a:lnTo>
                    <a:pt x="5154" y="4964"/>
                  </a:lnTo>
                  <a:lnTo>
                    <a:pt x="4680" y="4596"/>
                  </a:lnTo>
                  <a:lnTo>
                    <a:pt x="4465" y="4433"/>
                  </a:lnTo>
                  <a:lnTo>
                    <a:pt x="4298" y="4310"/>
                  </a:lnTo>
                  <a:lnTo>
                    <a:pt x="4026" y="4117"/>
                  </a:lnTo>
                  <a:lnTo>
                    <a:pt x="3841" y="3967"/>
                  </a:lnTo>
                  <a:lnTo>
                    <a:pt x="3705" y="3840"/>
                  </a:lnTo>
                  <a:lnTo>
                    <a:pt x="3595" y="3721"/>
                  </a:lnTo>
                  <a:lnTo>
                    <a:pt x="3477" y="3599"/>
                  </a:lnTo>
                  <a:lnTo>
                    <a:pt x="3319" y="3449"/>
                  </a:lnTo>
                  <a:lnTo>
                    <a:pt x="3218" y="3362"/>
                  </a:lnTo>
                  <a:lnTo>
                    <a:pt x="3091" y="3265"/>
                  </a:lnTo>
                  <a:lnTo>
                    <a:pt x="2760" y="3024"/>
                  </a:lnTo>
                  <a:lnTo>
                    <a:pt x="2651" y="2984"/>
                  </a:lnTo>
                  <a:lnTo>
                    <a:pt x="2484" y="2791"/>
                  </a:lnTo>
                  <a:lnTo>
                    <a:pt x="2466" y="2708"/>
                  </a:lnTo>
                  <a:lnTo>
                    <a:pt x="2387" y="2651"/>
                  </a:lnTo>
                  <a:lnTo>
                    <a:pt x="2317" y="2594"/>
                  </a:lnTo>
                  <a:lnTo>
                    <a:pt x="2212" y="2488"/>
                  </a:lnTo>
                  <a:lnTo>
                    <a:pt x="2124" y="2409"/>
                  </a:lnTo>
                  <a:lnTo>
                    <a:pt x="2080" y="2379"/>
                  </a:lnTo>
                  <a:lnTo>
                    <a:pt x="2041" y="2361"/>
                  </a:lnTo>
                  <a:lnTo>
                    <a:pt x="1931" y="2348"/>
                  </a:lnTo>
                  <a:lnTo>
                    <a:pt x="1861" y="2265"/>
                  </a:lnTo>
                  <a:lnTo>
                    <a:pt x="1808" y="2212"/>
                  </a:lnTo>
                  <a:lnTo>
                    <a:pt x="1729" y="2168"/>
                  </a:lnTo>
                  <a:lnTo>
                    <a:pt x="1711" y="2159"/>
                  </a:lnTo>
                  <a:lnTo>
                    <a:pt x="1711" y="2146"/>
                  </a:lnTo>
                  <a:lnTo>
                    <a:pt x="1764" y="2076"/>
                  </a:lnTo>
                  <a:lnTo>
                    <a:pt x="1782" y="2054"/>
                  </a:lnTo>
                  <a:lnTo>
                    <a:pt x="1795" y="2032"/>
                  </a:lnTo>
                  <a:lnTo>
                    <a:pt x="1804" y="2001"/>
                  </a:lnTo>
                  <a:lnTo>
                    <a:pt x="1812" y="1993"/>
                  </a:lnTo>
                  <a:lnTo>
                    <a:pt x="1826" y="1984"/>
                  </a:lnTo>
                  <a:lnTo>
                    <a:pt x="1878" y="1984"/>
                  </a:lnTo>
                  <a:lnTo>
                    <a:pt x="1931" y="2010"/>
                  </a:lnTo>
                  <a:lnTo>
                    <a:pt x="1997" y="2001"/>
                  </a:lnTo>
                  <a:lnTo>
                    <a:pt x="2045" y="1984"/>
                  </a:lnTo>
                  <a:lnTo>
                    <a:pt x="2067" y="1971"/>
                  </a:lnTo>
                  <a:lnTo>
                    <a:pt x="2080" y="1953"/>
                  </a:lnTo>
                  <a:lnTo>
                    <a:pt x="2076" y="1931"/>
                  </a:lnTo>
                  <a:lnTo>
                    <a:pt x="2063" y="1909"/>
                  </a:lnTo>
                  <a:lnTo>
                    <a:pt x="2010" y="1865"/>
                  </a:lnTo>
                  <a:lnTo>
                    <a:pt x="1953" y="1808"/>
                  </a:lnTo>
                  <a:lnTo>
                    <a:pt x="1909" y="1751"/>
                  </a:lnTo>
                  <a:lnTo>
                    <a:pt x="1896" y="1725"/>
                  </a:lnTo>
                  <a:lnTo>
                    <a:pt x="1896" y="1694"/>
                  </a:lnTo>
                  <a:lnTo>
                    <a:pt x="1909" y="1664"/>
                  </a:lnTo>
                  <a:lnTo>
                    <a:pt x="1940" y="1633"/>
                  </a:lnTo>
                  <a:lnTo>
                    <a:pt x="1970" y="1624"/>
                  </a:lnTo>
                  <a:lnTo>
                    <a:pt x="2001" y="1633"/>
                  </a:lnTo>
                  <a:lnTo>
                    <a:pt x="2036" y="1655"/>
                  </a:lnTo>
                  <a:lnTo>
                    <a:pt x="2067" y="1685"/>
                  </a:lnTo>
                  <a:lnTo>
                    <a:pt x="2142" y="1756"/>
                  </a:lnTo>
                  <a:lnTo>
                    <a:pt x="2168" y="1786"/>
                  </a:lnTo>
                  <a:lnTo>
                    <a:pt x="2199" y="1800"/>
                  </a:lnTo>
                  <a:lnTo>
                    <a:pt x="2317" y="1782"/>
                  </a:lnTo>
                  <a:lnTo>
                    <a:pt x="2383" y="1808"/>
                  </a:lnTo>
                  <a:lnTo>
                    <a:pt x="2664" y="1440"/>
                  </a:lnTo>
                  <a:lnTo>
                    <a:pt x="2752" y="1311"/>
                  </a:lnTo>
                  <a:lnTo>
                    <a:pt x="2800" y="1211"/>
                  </a:lnTo>
                  <a:lnTo>
                    <a:pt x="2813" y="1171"/>
                  </a:lnTo>
                  <a:lnTo>
                    <a:pt x="2813" y="1132"/>
                  </a:lnTo>
                  <a:lnTo>
                    <a:pt x="2809" y="1101"/>
                  </a:lnTo>
                  <a:lnTo>
                    <a:pt x="2796" y="1066"/>
                  </a:lnTo>
                  <a:lnTo>
                    <a:pt x="2769" y="1039"/>
                  </a:lnTo>
                  <a:lnTo>
                    <a:pt x="2743" y="1009"/>
                  </a:lnTo>
                  <a:lnTo>
                    <a:pt x="2651" y="952"/>
                  </a:lnTo>
                  <a:lnTo>
                    <a:pt x="2585" y="921"/>
                  </a:lnTo>
                  <a:lnTo>
                    <a:pt x="2519" y="899"/>
                  </a:lnTo>
                  <a:lnTo>
                    <a:pt x="2387" y="873"/>
                  </a:lnTo>
                  <a:lnTo>
                    <a:pt x="2256" y="868"/>
                  </a:lnTo>
                  <a:lnTo>
                    <a:pt x="2133" y="881"/>
                  </a:lnTo>
                  <a:lnTo>
                    <a:pt x="2027" y="903"/>
                  </a:lnTo>
                  <a:lnTo>
                    <a:pt x="1944" y="925"/>
                  </a:lnTo>
                  <a:lnTo>
                    <a:pt x="1891" y="947"/>
                  </a:lnTo>
                  <a:lnTo>
                    <a:pt x="1865" y="960"/>
                  </a:lnTo>
                  <a:lnTo>
                    <a:pt x="1808" y="1110"/>
                  </a:lnTo>
                  <a:lnTo>
                    <a:pt x="1764" y="1219"/>
                  </a:lnTo>
                  <a:lnTo>
                    <a:pt x="1747" y="1254"/>
                  </a:lnTo>
                  <a:lnTo>
                    <a:pt x="1729" y="1272"/>
                  </a:lnTo>
                  <a:lnTo>
                    <a:pt x="1711" y="1272"/>
                  </a:lnTo>
                  <a:lnTo>
                    <a:pt x="1689" y="1254"/>
                  </a:lnTo>
                  <a:lnTo>
                    <a:pt x="1689" y="1206"/>
                  </a:lnTo>
                  <a:lnTo>
                    <a:pt x="1672" y="1211"/>
                  </a:lnTo>
                  <a:lnTo>
                    <a:pt x="1654" y="1224"/>
                  </a:lnTo>
                  <a:lnTo>
                    <a:pt x="1619" y="1272"/>
                  </a:lnTo>
                  <a:lnTo>
                    <a:pt x="1562" y="1422"/>
                  </a:lnTo>
                  <a:lnTo>
                    <a:pt x="1514" y="1589"/>
                  </a:lnTo>
                  <a:lnTo>
                    <a:pt x="1488" y="1664"/>
                  </a:lnTo>
                  <a:lnTo>
                    <a:pt x="1461" y="1716"/>
                  </a:lnTo>
                  <a:lnTo>
                    <a:pt x="1426" y="1707"/>
                  </a:lnTo>
                  <a:lnTo>
                    <a:pt x="1409" y="1721"/>
                  </a:lnTo>
                  <a:lnTo>
                    <a:pt x="1387" y="1760"/>
                  </a:lnTo>
                  <a:lnTo>
                    <a:pt x="1268" y="2181"/>
                  </a:lnTo>
                  <a:lnTo>
                    <a:pt x="1176" y="2554"/>
                  </a:lnTo>
                  <a:lnTo>
                    <a:pt x="1044" y="3160"/>
                  </a:lnTo>
                  <a:lnTo>
                    <a:pt x="1000" y="3388"/>
                  </a:lnTo>
                  <a:lnTo>
                    <a:pt x="956" y="3559"/>
                  </a:lnTo>
                  <a:lnTo>
                    <a:pt x="934" y="3629"/>
                  </a:lnTo>
                  <a:lnTo>
                    <a:pt x="913" y="3678"/>
                  </a:lnTo>
                  <a:lnTo>
                    <a:pt x="886" y="3717"/>
                  </a:lnTo>
                  <a:lnTo>
                    <a:pt x="860" y="3739"/>
                  </a:lnTo>
                  <a:lnTo>
                    <a:pt x="825" y="3721"/>
                  </a:lnTo>
                  <a:lnTo>
                    <a:pt x="825" y="3528"/>
                  </a:lnTo>
                  <a:lnTo>
                    <a:pt x="408" y="4446"/>
                  </a:lnTo>
                  <a:lnTo>
                    <a:pt x="390" y="4249"/>
                  </a:lnTo>
                  <a:lnTo>
                    <a:pt x="316" y="4258"/>
                  </a:lnTo>
                  <a:lnTo>
                    <a:pt x="210" y="4574"/>
                  </a:lnTo>
                  <a:lnTo>
                    <a:pt x="184" y="4635"/>
                  </a:lnTo>
                  <a:lnTo>
                    <a:pt x="175" y="4648"/>
                  </a:lnTo>
                  <a:lnTo>
                    <a:pt x="166" y="4648"/>
                  </a:lnTo>
                  <a:lnTo>
                    <a:pt x="162" y="4604"/>
                  </a:lnTo>
                  <a:lnTo>
                    <a:pt x="158" y="4543"/>
                  </a:lnTo>
                  <a:lnTo>
                    <a:pt x="149" y="4547"/>
                  </a:lnTo>
                  <a:lnTo>
                    <a:pt x="131" y="4574"/>
                  </a:lnTo>
                  <a:lnTo>
                    <a:pt x="105" y="4609"/>
                  </a:lnTo>
                  <a:lnTo>
                    <a:pt x="79" y="4635"/>
                  </a:lnTo>
                  <a:lnTo>
                    <a:pt x="48" y="4635"/>
                  </a:lnTo>
                  <a:lnTo>
                    <a:pt x="35" y="4618"/>
                  </a:lnTo>
                  <a:lnTo>
                    <a:pt x="26" y="4587"/>
                  </a:lnTo>
                  <a:lnTo>
                    <a:pt x="8" y="4482"/>
                  </a:lnTo>
                  <a:lnTo>
                    <a:pt x="0" y="4293"/>
                  </a:lnTo>
                  <a:lnTo>
                    <a:pt x="8" y="4240"/>
                  </a:lnTo>
                  <a:lnTo>
                    <a:pt x="30" y="4170"/>
                  </a:lnTo>
                  <a:lnTo>
                    <a:pt x="96" y="4030"/>
                  </a:lnTo>
                  <a:lnTo>
                    <a:pt x="162" y="3906"/>
                  </a:lnTo>
                  <a:lnTo>
                    <a:pt x="197" y="3849"/>
                  </a:lnTo>
                  <a:lnTo>
                    <a:pt x="232" y="3831"/>
                  </a:lnTo>
                  <a:lnTo>
                    <a:pt x="232" y="3647"/>
                  </a:lnTo>
                  <a:lnTo>
                    <a:pt x="237" y="3638"/>
                  </a:lnTo>
                  <a:lnTo>
                    <a:pt x="250" y="3629"/>
                  </a:lnTo>
                  <a:lnTo>
                    <a:pt x="272" y="3620"/>
                  </a:lnTo>
                  <a:lnTo>
                    <a:pt x="298" y="3603"/>
                  </a:lnTo>
                  <a:lnTo>
                    <a:pt x="250" y="3537"/>
                  </a:lnTo>
                  <a:lnTo>
                    <a:pt x="386" y="3182"/>
                  </a:lnTo>
                  <a:lnTo>
                    <a:pt x="417" y="3094"/>
                  </a:lnTo>
                  <a:lnTo>
                    <a:pt x="417" y="3098"/>
                  </a:lnTo>
                  <a:lnTo>
                    <a:pt x="430" y="3107"/>
                  </a:lnTo>
                  <a:lnTo>
                    <a:pt x="452" y="3090"/>
                  </a:lnTo>
                  <a:lnTo>
                    <a:pt x="478" y="3068"/>
                  </a:lnTo>
                  <a:lnTo>
                    <a:pt x="509" y="3033"/>
                  </a:lnTo>
                  <a:lnTo>
                    <a:pt x="531" y="2997"/>
                  </a:lnTo>
                  <a:lnTo>
                    <a:pt x="535" y="2980"/>
                  </a:lnTo>
                  <a:lnTo>
                    <a:pt x="531" y="2971"/>
                  </a:lnTo>
                  <a:lnTo>
                    <a:pt x="517" y="2958"/>
                  </a:lnTo>
                  <a:lnTo>
                    <a:pt x="504" y="2932"/>
                  </a:lnTo>
                  <a:lnTo>
                    <a:pt x="500" y="2896"/>
                  </a:lnTo>
                  <a:lnTo>
                    <a:pt x="513" y="2835"/>
                  </a:lnTo>
                  <a:lnTo>
                    <a:pt x="535" y="2739"/>
                  </a:lnTo>
                  <a:lnTo>
                    <a:pt x="798" y="1957"/>
                  </a:lnTo>
                  <a:lnTo>
                    <a:pt x="926" y="1602"/>
                  </a:lnTo>
                  <a:lnTo>
                    <a:pt x="992" y="1444"/>
                  </a:lnTo>
                  <a:lnTo>
                    <a:pt x="1066" y="1237"/>
                  </a:lnTo>
                  <a:lnTo>
                    <a:pt x="943" y="1290"/>
                  </a:lnTo>
                  <a:lnTo>
                    <a:pt x="798" y="1356"/>
                  </a:lnTo>
                  <a:lnTo>
                    <a:pt x="724" y="1378"/>
                  </a:lnTo>
                  <a:lnTo>
                    <a:pt x="658" y="1396"/>
                  </a:lnTo>
                  <a:lnTo>
                    <a:pt x="632" y="1396"/>
                  </a:lnTo>
                  <a:lnTo>
                    <a:pt x="605" y="1387"/>
                  </a:lnTo>
                  <a:lnTo>
                    <a:pt x="583" y="1378"/>
                  </a:lnTo>
                  <a:lnTo>
                    <a:pt x="566" y="1356"/>
                  </a:lnTo>
                  <a:lnTo>
                    <a:pt x="548" y="1281"/>
                  </a:lnTo>
                  <a:lnTo>
                    <a:pt x="333" y="1263"/>
                  </a:lnTo>
                  <a:lnTo>
                    <a:pt x="316" y="1184"/>
                  </a:lnTo>
                  <a:lnTo>
                    <a:pt x="285" y="1149"/>
                  </a:lnTo>
                  <a:lnTo>
                    <a:pt x="250" y="1136"/>
                  </a:lnTo>
                  <a:lnTo>
                    <a:pt x="215" y="1136"/>
                  </a:lnTo>
                  <a:lnTo>
                    <a:pt x="184" y="1136"/>
                  </a:lnTo>
                  <a:lnTo>
                    <a:pt x="171" y="1132"/>
                  </a:lnTo>
                  <a:lnTo>
                    <a:pt x="162" y="1118"/>
                  </a:lnTo>
                  <a:lnTo>
                    <a:pt x="149" y="1079"/>
                  </a:lnTo>
                  <a:lnTo>
                    <a:pt x="149" y="996"/>
                  </a:lnTo>
                  <a:lnTo>
                    <a:pt x="162" y="903"/>
                  </a:lnTo>
                  <a:lnTo>
                    <a:pt x="171" y="877"/>
                  </a:lnTo>
                  <a:lnTo>
                    <a:pt x="210" y="877"/>
                  </a:lnTo>
                  <a:lnTo>
                    <a:pt x="289" y="860"/>
                  </a:lnTo>
                  <a:lnTo>
                    <a:pt x="333" y="838"/>
                  </a:lnTo>
                  <a:lnTo>
                    <a:pt x="346" y="824"/>
                  </a:lnTo>
                  <a:lnTo>
                    <a:pt x="359" y="807"/>
                  </a:lnTo>
                  <a:lnTo>
                    <a:pt x="381" y="776"/>
                  </a:lnTo>
                  <a:lnTo>
                    <a:pt x="395" y="737"/>
                  </a:lnTo>
                  <a:lnTo>
                    <a:pt x="421" y="662"/>
                  </a:lnTo>
                  <a:lnTo>
                    <a:pt x="447" y="627"/>
                  </a:lnTo>
                  <a:lnTo>
                    <a:pt x="482" y="601"/>
                  </a:lnTo>
                  <a:lnTo>
                    <a:pt x="776" y="469"/>
                  </a:lnTo>
                  <a:lnTo>
                    <a:pt x="1185" y="315"/>
                  </a:lnTo>
                  <a:lnTo>
                    <a:pt x="1571" y="184"/>
                  </a:lnTo>
                  <a:lnTo>
                    <a:pt x="1711" y="144"/>
                  </a:lnTo>
                  <a:lnTo>
                    <a:pt x="1804" y="122"/>
                  </a:lnTo>
                  <a:lnTo>
                    <a:pt x="1997" y="114"/>
                  </a:lnTo>
                  <a:lnTo>
                    <a:pt x="2115" y="105"/>
                  </a:lnTo>
                  <a:lnTo>
                    <a:pt x="2164" y="96"/>
                  </a:lnTo>
                  <a:lnTo>
                    <a:pt x="2199" y="83"/>
                  </a:lnTo>
                  <a:lnTo>
                    <a:pt x="2273" y="21"/>
                  </a:lnTo>
                  <a:lnTo>
                    <a:pt x="2405" y="8"/>
                  </a:lnTo>
                  <a:lnTo>
                    <a:pt x="2510" y="0"/>
                  </a:lnTo>
                  <a:lnTo>
                    <a:pt x="2633" y="0"/>
                  </a:lnTo>
                  <a:lnTo>
                    <a:pt x="2769" y="13"/>
                  </a:lnTo>
                  <a:lnTo>
                    <a:pt x="2920" y="43"/>
                  </a:lnTo>
                  <a:lnTo>
                    <a:pt x="3069" y="92"/>
                  </a:lnTo>
                  <a:lnTo>
                    <a:pt x="3143" y="127"/>
                  </a:lnTo>
                  <a:lnTo>
                    <a:pt x="3218" y="166"/>
                  </a:lnTo>
                  <a:lnTo>
                    <a:pt x="3358" y="272"/>
                  </a:lnTo>
                  <a:lnTo>
                    <a:pt x="3477" y="377"/>
                  </a:lnTo>
                  <a:lnTo>
                    <a:pt x="3574" y="491"/>
                  </a:lnTo>
                  <a:lnTo>
                    <a:pt x="3648" y="609"/>
                  </a:lnTo>
                  <a:lnTo>
                    <a:pt x="3701" y="732"/>
                  </a:lnTo>
                  <a:lnTo>
                    <a:pt x="3723" y="860"/>
                  </a:lnTo>
                  <a:lnTo>
                    <a:pt x="3727" y="925"/>
                  </a:lnTo>
                  <a:lnTo>
                    <a:pt x="3727" y="987"/>
                  </a:lnTo>
                  <a:lnTo>
                    <a:pt x="3723" y="1053"/>
                  </a:lnTo>
                  <a:lnTo>
                    <a:pt x="3705" y="1118"/>
                  </a:lnTo>
                  <a:lnTo>
                    <a:pt x="3666" y="1250"/>
                  </a:lnTo>
                  <a:lnTo>
                    <a:pt x="3600" y="1378"/>
                  </a:lnTo>
                  <a:lnTo>
                    <a:pt x="3516" y="1510"/>
                  </a:lnTo>
                  <a:lnTo>
                    <a:pt x="3459" y="1576"/>
                  </a:lnTo>
                  <a:lnTo>
                    <a:pt x="3402" y="1637"/>
                  </a:lnTo>
                  <a:lnTo>
                    <a:pt x="3341" y="1699"/>
                  </a:lnTo>
                  <a:lnTo>
                    <a:pt x="3271" y="1764"/>
                  </a:lnTo>
                  <a:lnTo>
                    <a:pt x="3117" y="1887"/>
                  </a:lnTo>
                  <a:lnTo>
                    <a:pt x="3029" y="1949"/>
                  </a:lnTo>
                  <a:lnTo>
                    <a:pt x="2937" y="2006"/>
                  </a:lnTo>
                  <a:lnTo>
                    <a:pt x="2734" y="2120"/>
                  </a:lnTo>
                  <a:lnTo>
                    <a:pt x="2999" y="2379"/>
                  </a:lnTo>
                  <a:lnTo>
                    <a:pt x="3038" y="2427"/>
                  </a:lnTo>
                  <a:lnTo>
                    <a:pt x="3069" y="2475"/>
                  </a:lnTo>
                  <a:lnTo>
                    <a:pt x="3301" y="2756"/>
                  </a:lnTo>
                  <a:lnTo>
                    <a:pt x="3394" y="2857"/>
                  </a:lnTo>
                  <a:lnTo>
                    <a:pt x="3464" y="2927"/>
                  </a:lnTo>
                  <a:lnTo>
                    <a:pt x="3521" y="2975"/>
                  </a:lnTo>
                  <a:lnTo>
                    <a:pt x="3565" y="3006"/>
                  </a:lnTo>
                  <a:lnTo>
                    <a:pt x="3639" y="3041"/>
                  </a:lnTo>
                  <a:lnTo>
                    <a:pt x="3674" y="3059"/>
                  </a:lnTo>
                  <a:lnTo>
                    <a:pt x="3714" y="3085"/>
                  </a:lnTo>
                  <a:lnTo>
                    <a:pt x="3925" y="3335"/>
                  </a:lnTo>
                  <a:lnTo>
                    <a:pt x="4289" y="3620"/>
                  </a:lnTo>
                  <a:lnTo>
                    <a:pt x="4517" y="3849"/>
                  </a:lnTo>
                  <a:lnTo>
                    <a:pt x="4684" y="4016"/>
                  </a:lnTo>
                  <a:lnTo>
                    <a:pt x="4825" y="4135"/>
                  </a:lnTo>
                  <a:lnTo>
                    <a:pt x="5149" y="4394"/>
                  </a:lnTo>
                  <a:lnTo>
                    <a:pt x="5334" y="4543"/>
                  </a:lnTo>
                  <a:lnTo>
                    <a:pt x="5386" y="4591"/>
                  </a:lnTo>
                  <a:lnTo>
                    <a:pt x="5426" y="4631"/>
                  </a:lnTo>
                  <a:lnTo>
                    <a:pt x="5452" y="4670"/>
                  </a:lnTo>
                  <a:lnTo>
                    <a:pt x="5470" y="471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000160" y="2379600"/>
              <a:ext cx="1060920" cy="1575000"/>
            </a:xfrm>
            <a:custGeom>
              <a:avLst/>
              <a:gdLst/>
              <a:ahLst/>
              <a:rect l="0" t="0" r="r" b="b"/>
              <a:pathLst>
                <a:path w="2947" h="4375">
                  <a:moveTo>
                    <a:pt x="2916" y="295"/>
                  </a:moveTo>
                  <a:lnTo>
                    <a:pt x="2934" y="339"/>
                  </a:lnTo>
                  <a:lnTo>
                    <a:pt x="2943" y="388"/>
                  </a:lnTo>
                  <a:lnTo>
                    <a:pt x="2947" y="498"/>
                  </a:lnTo>
                  <a:lnTo>
                    <a:pt x="2943" y="635"/>
                  </a:lnTo>
                  <a:lnTo>
                    <a:pt x="2930" y="789"/>
                  </a:lnTo>
                  <a:lnTo>
                    <a:pt x="2890" y="1177"/>
                  </a:lnTo>
                  <a:lnTo>
                    <a:pt x="2855" y="1680"/>
                  </a:lnTo>
                  <a:lnTo>
                    <a:pt x="2833" y="2708"/>
                  </a:lnTo>
                  <a:lnTo>
                    <a:pt x="2828" y="3370"/>
                  </a:lnTo>
                  <a:lnTo>
                    <a:pt x="2815" y="3550"/>
                  </a:lnTo>
                  <a:lnTo>
                    <a:pt x="2806" y="3603"/>
                  </a:lnTo>
                  <a:lnTo>
                    <a:pt x="2793" y="3616"/>
                  </a:lnTo>
                  <a:lnTo>
                    <a:pt x="2784" y="3625"/>
                  </a:lnTo>
                  <a:lnTo>
                    <a:pt x="2775" y="3625"/>
                  </a:lnTo>
                  <a:lnTo>
                    <a:pt x="2762" y="3621"/>
                  </a:lnTo>
                  <a:lnTo>
                    <a:pt x="2731" y="3586"/>
                  </a:lnTo>
                  <a:lnTo>
                    <a:pt x="2652" y="3436"/>
                  </a:lnTo>
                  <a:lnTo>
                    <a:pt x="2581" y="3824"/>
                  </a:lnTo>
                  <a:lnTo>
                    <a:pt x="2542" y="3797"/>
                  </a:lnTo>
                  <a:lnTo>
                    <a:pt x="2515" y="3775"/>
                  </a:lnTo>
                  <a:lnTo>
                    <a:pt x="2506" y="3744"/>
                  </a:lnTo>
                  <a:lnTo>
                    <a:pt x="2497" y="3713"/>
                  </a:lnTo>
                  <a:lnTo>
                    <a:pt x="2497" y="3643"/>
                  </a:lnTo>
                  <a:lnTo>
                    <a:pt x="2497" y="3555"/>
                  </a:lnTo>
                  <a:lnTo>
                    <a:pt x="2414" y="3405"/>
                  </a:lnTo>
                  <a:lnTo>
                    <a:pt x="2405" y="3458"/>
                  </a:lnTo>
                  <a:lnTo>
                    <a:pt x="2392" y="3493"/>
                  </a:lnTo>
                  <a:lnTo>
                    <a:pt x="2378" y="3511"/>
                  </a:lnTo>
                  <a:lnTo>
                    <a:pt x="2361" y="3524"/>
                  </a:lnTo>
                  <a:lnTo>
                    <a:pt x="2347" y="3519"/>
                  </a:lnTo>
                  <a:lnTo>
                    <a:pt x="2330" y="3506"/>
                  </a:lnTo>
                  <a:lnTo>
                    <a:pt x="2303" y="3462"/>
                  </a:lnTo>
                  <a:lnTo>
                    <a:pt x="2255" y="3330"/>
                  </a:lnTo>
                  <a:lnTo>
                    <a:pt x="2242" y="3273"/>
                  </a:lnTo>
                  <a:lnTo>
                    <a:pt x="2237" y="3224"/>
                  </a:lnTo>
                  <a:lnTo>
                    <a:pt x="2273" y="3180"/>
                  </a:lnTo>
                  <a:lnTo>
                    <a:pt x="2273" y="3070"/>
                  </a:lnTo>
                  <a:lnTo>
                    <a:pt x="2220" y="2929"/>
                  </a:lnTo>
                  <a:lnTo>
                    <a:pt x="2220" y="2156"/>
                  </a:lnTo>
                  <a:lnTo>
                    <a:pt x="2201" y="2028"/>
                  </a:lnTo>
                  <a:lnTo>
                    <a:pt x="1760" y="2192"/>
                  </a:lnTo>
                  <a:lnTo>
                    <a:pt x="1504" y="2280"/>
                  </a:lnTo>
                  <a:lnTo>
                    <a:pt x="1376" y="2329"/>
                  </a:lnTo>
                  <a:lnTo>
                    <a:pt x="1345" y="2346"/>
                  </a:lnTo>
                  <a:lnTo>
                    <a:pt x="1328" y="2364"/>
                  </a:lnTo>
                  <a:lnTo>
                    <a:pt x="736" y="3621"/>
                  </a:lnTo>
                  <a:lnTo>
                    <a:pt x="537" y="4088"/>
                  </a:lnTo>
                  <a:lnTo>
                    <a:pt x="502" y="4172"/>
                  </a:lnTo>
                  <a:lnTo>
                    <a:pt x="423" y="4278"/>
                  </a:lnTo>
                  <a:lnTo>
                    <a:pt x="463" y="4049"/>
                  </a:lnTo>
                  <a:lnTo>
                    <a:pt x="480" y="3868"/>
                  </a:lnTo>
                  <a:lnTo>
                    <a:pt x="489" y="3775"/>
                  </a:lnTo>
                  <a:lnTo>
                    <a:pt x="418" y="3868"/>
                  </a:lnTo>
                  <a:lnTo>
                    <a:pt x="238" y="4278"/>
                  </a:lnTo>
                  <a:lnTo>
                    <a:pt x="202" y="4265"/>
                  </a:lnTo>
                  <a:lnTo>
                    <a:pt x="189" y="4251"/>
                  </a:lnTo>
                  <a:lnTo>
                    <a:pt x="185" y="4234"/>
                  </a:lnTo>
                  <a:lnTo>
                    <a:pt x="189" y="4216"/>
                  </a:lnTo>
                  <a:lnTo>
                    <a:pt x="220" y="4172"/>
                  </a:lnTo>
                  <a:lnTo>
                    <a:pt x="238" y="4141"/>
                  </a:lnTo>
                  <a:lnTo>
                    <a:pt x="242" y="4106"/>
                  </a:lnTo>
                  <a:lnTo>
                    <a:pt x="233" y="4049"/>
                  </a:lnTo>
                  <a:lnTo>
                    <a:pt x="220" y="4035"/>
                  </a:lnTo>
                  <a:lnTo>
                    <a:pt x="207" y="4057"/>
                  </a:lnTo>
                  <a:lnTo>
                    <a:pt x="189" y="4102"/>
                  </a:lnTo>
                  <a:lnTo>
                    <a:pt x="163" y="4168"/>
                  </a:lnTo>
                  <a:lnTo>
                    <a:pt x="127" y="4238"/>
                  </a:lnTo>
                  <a:lnTo>
                    <a:pt x="79" y="4309"/>
                  </a:lnTo>
                  <a:lnTo>
                    <a:pt x="48" y="4344"/>
                  </a:lnTo>
                  <a:lnTo>
                    <a:pt x="13" y="4375"/>
                  </a:lnTo>
                  <a:lnTo>
                    <a:pt x="0" y="4124"/>
                  </a:lnTo>
                  <a:lnTo>
                    <a:pt x="0" y="4071"/>
                  </a:lnTo>
                  <a:lnTo>
                    <a:pt x="4" y="4049"/>
                  </a:lnTo>
                  <a:lnTo>
                    <a:pt x="35" y="4018"/>
                  </a:lnTo>
                  <a:lnTo>
                    <a:pt x="66" y="3982"/>
                  </a:lnTo>
                  <a:lnTo>
                    <a:pt x="97" y="3899"/>
                  </a:lnTo>
                  <a:lnTo>
                    <a:pt x="105" y="3802"/>
                  </a:lnTo>
                  <a:lnTo>
                    <a:pt x="167" y="3749"/>
                  </a:lnTo>
                  <a:lnTo>
                    <a:pt x="194" y="3718"/>
                  </a:lnTo>
                  <a:lnTo>
                    <a:pt x="207" y="3691"/>
                  </a:lnTo>
                  <a:lnTo>
                    <a:pt x="220" y="3656"/>
                  </a:lnTo>
                  <a:lnTo>
                    <a:pt x="238" y="3594"/>
                  </a:lnTo>
                  <a:lnTo>
                    <a:pt x="273" y="3493"/>
                  </a:lnTo>
                  <a:lnTo>
                    <a:pt x="352" y="3339"/>
                  </a:lnTo>
                  <a:lnTo>
                    <a:pt x="471" y="3114"/>
                  </a:lnTo>
                  <a:lnTo>
                    <a:pt x="635" y="2823"/>
                  </a:lnTo>
                  <a:lnTo>
                    <a:pt x="723" y="2642"/>
                  </a:lnTo>
                  <a:lnTo>
                    <a:pt x="763" y="2545"/>
                  </a:lnTo>
                  <a:lnTo>
                    <a:pt x="785" y="2483"/>
                  </a:lnTo>
                  <a:lnTo>
                    <a:pt x="821" y="2417"/>
                  </a:lnTo>
                  <a:lnTo>
                    <a:pt x="727" y="2399"/>
                  </a:lnTo>
                  <a:lnTo>
                    <a:pt x="709" y="2391"/>
                  </a:lnTo>
                  <a:lnTo>
                    <a:pt x="705" y="2386"/>
                  </a:lnTo>
                  <a:lnTo>
                    <a:pt x="705" y="2364"/>
                  </a:lnTo>
                  <a:lnTo>
                    <a:pt x="705" y="2346"/>
                  </a:lnTo>
                  <a:lnTo>
                    <a:pt x="687" y="2316"/>
                  </a:lnTo>
                  <a:lnTo>
                    <a:pt x="674" y="2280"/>
                  </a:lnTo>
                  <a:lnTo>
                    <a:pt x="679" y="2263"/>
                  </a:lnTo>
                  <a:lnTo>
                    <a:pt x="692" y="2249"/>
                  </a:lnTo>
                  <a:lnTo>
                    <a:pt x="727" y="2232"/>
                  </a:lnTo>
                  <a:lnTo>
                    <a:pt x="772" y="2214"/>
                  </a:lnTo>
                  <a:lnTo>
                    <a:pt x="891" y="2182"/>
                  </a:lnTo>
                  <a:lnTo>
                    <a:pt x="949" y="2165"/>
                  </a:lnTo>
                  <a:lnTo>
                    <a:pt x="988" y="2138"/>
                  </a:lnTo>
                  <a:lnTo>
                    <a:pt x="1099" y="1944"/>
                  </a:lnTo>
                  <a:lnTo>
                    <a:pt x="1099" y="1852"/>
                  </a:lnTo>
                  <a:lnTo>
                    <a:pt x="1191" y="1759"/>
                  </a:lnTo>
                  <a:lnTo>
                    <a:pt x="1209" y="1737"/>
                  </a:lnTo>
                  <a:lnTo>
                    <a:pt x="1209" y="1719"/>
                  </a:lnTo>
                  <a:lnTo>
                    <a:pt x="1209" y="1675"/>
                  </a:lnTo>
                  <a:lnTo>
                    <a:pt x="1218" y="1640"/>
                  </a:lnTo>
                  <a:lnTo>
                    <a:pt x="1235" y="1578"/>
                  </a:lnTo>
                  <a:lnTo>
                    <a:pt x="1385" y="1349"/>
                  </a:lnTo>
                  <a:lnTo>
                    <a:pt x="1438" y="1247"/>
                  </a:lnTo>
                  <a:lnTo>
                    <a:pt x="1473" y="1203"/>
                  </a:lnTo>
                  <a:lnTo>
                    <a:pt x="1522" y="1137"/>
                  </a:lnTo>
                  <a:lnTo>
                    <a:pt x="1597" y="1018"/>
                  </a:lnTo>
                  <a:lnTo>
                    <a:pt x="1606" y="961"/>
                  </a:lnTo>
                  <a:lnTo>
                    <a:pt x="1654" y="934"/>
                  </a:lnTo>
                  <a:lnTo>
                    <a:pt x="1786" y="630"/>
                  </a:lnTo>
                  <a:lnTo>
                    <a:pt x="1831" y="555"/>
                  </a:lnTo>
                  <a:lnTo>
                    <a:pt x="1857" y="511"/>
                  </a:lnTo>
                  <a:lnTo>
                    <a:pt x="1901" y="471"/>
                  </a:lnTo>
                  <a:lnTo>
                    <a:pt x="1923" y="445"/>
                  </a:lnTo>
                  <a:lnTo>
                    <a:pt x="1954" y="396"/>
                  </a:lnTo>
                  <a:lnTo>
                    <a:pt x="1989" y="330"/>
                  </a:lnTo>
                  <a:lnTo>
                    <a:pt x="2011" y="273"/>
                  </a:lnTo>
                  <a:lnTo>
                    <a:pt x="2029" y="189"/>
                  </a:lnTo>
                  <a:lnTo>
                    <a:pt x="2038" y="171"/>
                  </a:lnTo>
                  <a:lnTo>
                    <a:pt x="2055" y="154"/>
                  </a:lnTo>
                  <a:lnTo>
                    <a:pt x="2082" y="145"/>
                  </a:lnTo>
                  <a:lnTo>
                    <a:pt x="2130" y="145"/>
                  </a:lnTo>
                  <a:lnTo>
                    <a:pt x="2157" y="145"/>
                  </a:lnTo>
                  <a:lnTo>
                    <a:pt x="2174" y="158"/>
                  </a:lnTo>
                  <a:lnTo>
                    <a:pt x="2179" y="167"/>
                  </a:lnTo>
                  <a:lnTo>
                    <a:pt x="2183" y="180"/>
                  </a:lnTo>
                  <a:lnTo>
                    <a:pt x="2188" y="220"/>
                  </a:lnTo>
                  <a:lnTo>
                    <a:pt x="2201" y="255"/>
                  </a:lnTo>
                  <a:lnTo>
                    <a:pt x="2211" y="264"/>
                  </a:lnTo>
                  <a:lnTo>
                    <a:pt x="2224" y="255"/>
                  </a:lnTo>
                  <a:lnTo>
                    <a:pt x="2246" y="189"/>
                  </a:lnTo>
                  <a:lnTo>
                    <a:pt x="2259" y="154"/>
                  </a:lnTo>
                  <a:lnTo>
                    <a:pt x="2281" y="119"/>
                  </a:lnTo>
                  <a:lnTo>
                    <a:pt x="2308" y="88"/>
                  </a:lnTo>
                  <a:lnTo>
                    <a:pt x="2339" y="70"/>
                  </a:lnTo>
                  <a:lnTo>
                    <a:pt x="2418" y="74"/>
                  </a:lnTo>
                  <a:lnTo>
                    <a:pt x="2467" y="83"/>
                  </a:lnTo>
                  <a:lnTo>
                    <a:pt x="2493" y="83"/>
                  </a:lnTo>
                  <a:lnTo>
                    <a:pt x="2528" y="74"/>
                  </a:lnTo>
                  <a:lnTo>
                    <a:pt x="2647" y="17"/>
                  </a:lnTo>
                  <a:lnTo>
                    <a:pt x="2674" y="4"/>
                  </a:lnTo>
                  <a:lnTo>
                    <a:pt x="2722" y="0"/>
                  </a:lnTo>
                  <a:lnTo>
                    <a:pt x="2784" y="4"/>
                  </a:lnTo>
                  <a:lnTo>
                    <a:pt x="2810" y="17"/>
                  </a:lnTo>
                  <a:lnTo>
                    <a:pt x="2828" y="35"/>
                  </a:lnTo>
                  <a:lnTo>
                    <a:pt x="2841" y="70"/>
                  </a:lnTo>
                  <a:lnTo>
                    <a:pt x="2841" y="110"/>
                  </a:lnTo>
                  <a:lnTo>
                    <a:pt x="2833" y="189"/>
                  </a:lnTo>
                  <a:lnTo>
                    <a:pt x="2837" y="229"/>
                  </a:lnTo>
                  <a:lnTo>
                    <a:pt x="2850" y="260"/>
                  </a:lnTo>
                  <a:lnTo>
                    <a:pt x="2859" y="273"/>
                  </a:lnTo>
                  <a:lnTo>
                    <a:pt x="2877" y="282"/>
                  </a:lnTo>
                  <a:lnTo>
                    <a:pt x="2916" y="29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106800" y="2416320"/>
              <a:ext cx="852840" cy="1251360"/>
            </a:xfrm>
            <a:custGeom>
              <a:avLst/>
              <a:gdLst/>
              <a:ahLst/>
              <a:rect l="0" t="0" r="r" b="b"/>
              <a:pathLst>
                <a:path w="2369" h="3476">
                  <a:moveTo>
                    <a:pt x="2063" y="437"/>
                  </a:moveTo>
                  <a:lnTo>
                    <a:pt x="2081" y="494"/>
                  </a:lnTo>
                  <a:lnTo>
                    <a:pt x="2076" y="533"/>
                  </a:lnTo>
                  <a:lnTo>
                    <a:pt x="2063" y="564"/>
                  </a:lnTo>
                  <a:lnTo>
                    <a:pt x="2033" y="586"/>
                  </a:lnTo>
                  <a:lnTo>
                    <a:pt x="1937" y="621"/>
                  </a:lnTo>
                  <a:lnTo>
                    <a:pt x="1802" y="652"/>
                  </a:lnTo>
                  <a:lnTo>
                    <a:pt x="1623" y="704"/>
                  </a:lnTo>
                  <a:lnTo>
                    <a:pt x="1518" y="743"/>
                  </a:lnTo>
                  <a:lnTo>
                    <a:pt x="1405" y="796"/>
                  </a:lnTo>
                  <a:lnTo>
                    <a:pt x="1283" y="866"/>
                  </a:lnTo>
                  <a:lnTo>
                    <a:pt x="1151" y="950"/>
                  </a:lnTo>
                  <a:lnTo>
                    <a:pt x="1016" y="1055"/>
                  </a:lnTo>
                  <a:lnTo>
                    <a:pt x="872" y="1182"/>
                  </a:lnTo>
                  <a:lnTo>
                    <a:pt x="798" y="1265"/>
                  </a:lnTo>
                  <a:lnTo>
                    <a:pt x="728" y="1357"/>
                  </a:lnTo>
                  <a:lnTo>
                    <a:pt x="667" y="1453"/>
                  </a:lnTo>
                  <a:lnTo>
                    <a:pt x="614" y="1558"/>
                  </a:lnTo>
                  <a:lnTo>
                    <a:pt x="575" y="1668"/>
                  </a:lnTo>
                  <a:lnTo>
                    <a:pt x="536" y="1773"/>
                  </a:lnTo>
                  <a:lnTo>
                    <a:pt x="514" y="1887"/>
                  </a:lnTo>
                  <a:lnTo>
                    <a:pt x="497" y="1996"/>
                  </a:lnTo>
                  <a:lnTo>
                    <a:pt x="488" y="2215"/>
                  </a:lnTo>
                  <a:lnTo>
                    <a:pt x="497" y="2316"/>
                  </a:lnTo>
                  <a:lnTo>
                    <a:pt x="514" y="2416"/>
                  </a:lnTo>
                  <a:lnTo>
                    <a:pt x="536" y="2504"/>
                  </a:lnTo>
                  <a:lnTo>
                    <a:pt x="571" y="2587"/>
                  </a:lnTo>
                  <a:lnTo>
                    <a:pt x="614" y="2662"/>
                  </a:lnTo>
                  <a:lnTo>
                    <a:pt x="662" y="2724"/>
                  </a:lnTo>
                  <a:lnTo>
                    <a:pt x="780" y="2837"/>
                  </a:lnTo>
                  <a:lnTo>
                    <a:pt x="898" y="2929"/>
                  </a:lnTo>
                  <a:lnTo>
                    <a:pt x="1029" y="3008"/>
                  </a:lnTo>
                  <a:lnTo>
                    <a:pt x="1160" y="3056"/>
                  </a:lnTo>
                  <a:lnTo>
                    <a:pt x="1296" y="3078"/>
                  </a:lnTo>
                  <a:lnTo>
                    <a:pt x="1365" y="3078"/>
                  </a:lnTo>
                  <a:lnTo>
                    <a:pt x="1431" y="3065"/>
                  </a:lnTo>
                  <a:lnTo>
                    <a:pt x="1501" y="3047"/>
                  </a:lnTo>
                  <a:lnTo>
                    <a:pt x="1570" y="3017"/>
                  </a:lnTo>
                  <a:lnTo>
                    <a:pt x="1645" y="2977"/>
                  </a:lnTo>
                  <a:lnTo>
                    <a:pt x="1714" y="2925"/>
                  </a:lnTo>
                  <a:lnTo>
                    <a:pt x="1675" y="2855"/>
                  </a:lnTo>
                  <a:lnTo>
                    <a:pt x="1658" y="2802"/>
                  </a:lnTo>
                  <a:lnTo>
                    <a:pt x="1645" y="2724"/>
                  </a:lnTo>
                  <a:lnTo>
                    <a:pt x="1649" y="2610"/>
                  </a:lnTo>
                  <a:lnTo>
                    <a:pt x="1666" y="2451"/>
                  </a:lnTo>
                  <a:lnTo>
                    <a:pt x="1706" y="2246"/>
                  </a:lnTo>
                  <a:lnTo>
                    <a:pt x="1771" y="1979"/>
                  </a:lnTo>
                  <a:lnTo>
                    <a:pt x="1549" y="2018"/>
                  </a:lnTo>
                  <a:lnTo>
                    <a:pt x="1370" y="2062"/>
                  </a:lnTo>
                  <a:lnTo>
                    <a:pt x="1235" y="2110"/>
                  </a:lnTo>
                  <a:lnTo>
                    <a:pt x="1133" y="2154"/>
                  </a:lnTo>
                  <a:lnTo>
                    <a:pt x="1011" y="2215"/>
                  </a:lnTo>
                  <a:lnTo>
                    <a:pt x="972" y="2228"/>
                  </a:lnTo>
                  <a:lnTo>
                    <a:pt x="937" y="2219"/>
                  </a:lnTo>
                  <a:lnTo>
                    <a:pt x="920" y="2206"/>
                  </a:lnTo>
                  <a:lnTo>
                    <a:pt x="915" y="2193"/>
                  </a:lnTo>
                  <a:lnTo>
                    <a:pt x="924" y="2184"/>
                  </a:lnTo>
                  <a:lnTo>
                    <a:pt x="937" y="2171"/>
                  </a:lnTo>
                  <a:lnTo>
                    <a:pt x="981" y="2149"/>
                  </a:lnTo>
                  <a:lnTo>
                    <a:pt x="1020" y="2119"/>
                  </a:lnTo>
                  <a:lnTo>
                    <a:pt x="1138" y="1909"/>
                  </a:lnTo>
                  <a:lnTo>
                    <a:pt x="1217" y="1869"/>
                  </a:lnTo>
                  <a:lnTo>
                    <a:pt x="1248" y="1843"/>
                  </a:lnTo>
                  <a:lnTo>
                    <a:pt x="1261" y="1821"/>
                  </a:lnTo>
                  <a:lnTo>
                    <a:pt x="1296" y="1786"/>
                  </a:lnTo>
                  <a:lnTo>
                    <a:pt x="1496" y="1716"/>
                  </a:lnTo>
                  <a:lnTo>
                    <a:pt x="1509" y="1664"/>
                  </a:lnTo>
                  <a:lnTo>
                    <a:pt x="1514" y="1659"/>
                  </a:lnTo>
                  <a:lnTo>
                    <a:pt x="1562" y="1664"/>
                  </a:lnTo>
                  <a:lnTo>
                    <a:pt x="1614" y="1655"/>
                  </a:lnTo>
                  <a:lnTo>
                    <a:pt x="1688" y="1633"/>
                  </a:lnTo>
                  <a:lnTo>
                    <a:pt x="1793" y="1598"/>
                  </a:lnTo>
                  <a:lnTo>
                    <a:pt x="1876" y="1554"/>
                  </a:lnTo>
                  <a:lnTo>
                    <a:pt x="1941" y="1510"/>
                  </a:lnTo>
                  <a:lnTo>
                    <a:pt x="1993" y="1467"/>
                  </a:lnTo>
                  <a:lnTo>
                    <a:pt x="2076" y="1410"/>
                  </a:lnTo>
                  <a:lnTo>
                    <a:pt x="2107" y="1397"/>
                  </a:lnTo>
                  <a:lnTo>
                    <a:pt x="2137" y="1401"/>
                  </a:lnTo>
                  <a:lnTo>
                    <a:pt x="2168" y="1423"/>
                  </a:lnTo>
                  <a:lnTo>
                    <a:pt x="2185" y="1445"/>
                  </a:lnTo>
                  <a:lnTo>
                    <a:pt x="2198" y="1484"/>
                  </a:lnTo>
                  <a:lnTo>
                    <a:pt x="2207" y="1510"/>
                  </a:lnTo>
                  <a:lnTo>
                    <a:pt x="2220" y="1515"/>
                  </a:lnTo>
                  <a:lnTo>
                    <a:pt x="2238" y="1502"/>
                  </a:lnTo>
                  <a:lnTo>
                    <a:pt x="2303" y="1449"/>
                  </a:lnTo>
                  <a:lnTo>
                    <a:pt x="2369" y="1458"/>
                  </a:lnTo>
                  <a:lnTo>
                    <a:pt x="2347" y="1712"/>
                  </a:lnTo>
                  <a:lnTo>
                    <a:pt x="2312" y="1926"/>
                  </a:lnTo>
                  <a:lnTo>
                    <a:pt x="2220" y="2285"/>
                  </a:lnTo>
                  <a:lnTo>
                    <a:pt x="2181" y="2451"/>
                  </a:lnTo>
                  <a:lnTo>
                    <a:pt x="2150" y="2627"/>
                  </a:lnTo>
                  <a:lnTo>
                    <a:pt x="2133" y="2824"/>
                  </a:lnTo>
                  <a:lnTo>
                    <a:pt x="2137" y="3052"/>
                  </a:lnTo>
                  <a:lnTo>
                    <a:pt x="2164" y="3319"/>
                  </a:lnTo>
                  <a:lnTo>
                    <a:pt x="2177" y="3419"/>
                  </a:lnTo>
                  <a:lnTo>
                    <a:pt x="2172" y="3437"/>
                  </a:lnTo>
                  <a:lnTo>
                    <a:pt x="2164" y="3437"/>
                  </a:lnTo>
                  <a:lnTo>
                    <a:pt x="2120" y="3450"/>
                  </a:lnTo>
                  <a:lnTo>
                    <a:pt x="2098" y="3402"/>
                  </a:lnTo>
                  <a:lnTo>
                    <a:pt x="2076" y="3393"/>
                  </a:lnTo>
                  <a:lnTo>
                    <a:pt x="2050" y="3402"/>
                  </a:lnTo>
                  <a:lnTo>
                    <a:pt x="2037" y="3398"/>
                  </a:lnTo>
                  <a:lnTo>
                    <a:pt x="2020" y="3384"/>
                  </a:lnTo>
                  <a:lnTo>
                    <a:pt x="1980" y="3275"/>
                  </a:lnTo>
                  <a:lnTo>
                    <a:pt x="1954" y="3262"/>
                  </a:lnTo>
                  <a:lnTo>
                    <a:pt x="1924" y="3236"/>
                  </a:lnTo>
                  <a:lnTo>
                    <a:pt x="1863" y="3183"/>
                  </a:lnTo>
                  <a:lnTo>
                    <a:pt x="1806" y="3144"/>
                  </a:lnTo>
                  <a:lnTo>
                    <a:pt x="1784" y="3135"/>
                  </a:lnTo>
                  <a:lnTo>
                    <a:pt x="1762" y="3135"/>
                  </a:lnTo>
                  <a:lnTo>
                    <a:pt x="1723" y="3170"/>
                  </a:lnTo>
                  <a:lnTo>
                    <a:pt x="1693" y="3218"/>
                  </a:lnTo>
                  <a:lnTo>
                    <a:pt x="1658" y="3271"/>
                  </a:lnTo>
                  <a:lnTo>
                    <a:pt x="1614" y="3328"/>
                  </a:lnTo>
                  <a:lnTo>
                    <a:pt x="1592" y="3354"/>
                  </a:lnTo>
                  <a:lnTo>
                    <a:pt x="1557" y="3380"/>
                  </a:lnTo>
                  <a:lnTo>
                    <a:pt x="1479" y="3424"/>
                  </a:lnTo>
                  <a:lnTo>
                    <a:pt x="1374" y="3459"/>
                  </a:lnTo>
                  <a:lnTo>
                    <a:pt x="1304" y="3472"/>
                  </a:lnTo>
                  <a:lnTo>
                    <a:pt x="1230" y="3476"/>
                  </a:lnTo>
                  <a:lnTo>
                    <a:pt x="1129" y="3472"/>
                  </a:lnTo>
                  <a:lnTo>
                    <a:pt x="1020" y="3463"/>
                  </a:lnTo>
                  <a:lnTo>
                    <a:pt x="920" y="3441"/>
                  </a:lnTo>
                  <a:lnTo>
                    <a:pt x="815" y="3406"/>
                  </a:lnTo>
                  <a:lnTo>
                    <a:pt x="719" y="3367"/>
                  </a:lnTo>
                  <a:lnTo>
                    <a:pt x="619" y="3314"/>
                  </a:lnTo>
                  <a:lnTo>
                    <a:pt x="527" y="3249"/>
                  </a:lnTo>
                  <a:lnTo>
                    <a:pt x="440" y="3174"/>
                  </a:lnTo>
                  <a:lnTo>
                    <a:pt x="361" y="3096"/>
                  </a:lnTo>
                  <a:lnTo>
                    <a:pt x="283" y="2999"/>
                  </a:lnTo>
                  <a:lnTo>
                    <a:pt x="213" y="2899"/>
                  </a:lnTo>
                  <a:lnTo>
                    <a:pt x="152" y="2789"/>
                  </a:lnTo>
                  <a:lnTo>
                    <a:pt x="104" y="2667"/>
                  </a:lnTo>
                  <a:lnTo>
                    <a:pt x="61" y="2534"/>
                  </a:lnTo>
                  <a:lnTo>
                    <a:pt x="30" y="2394"/>
                  </a:lnTo>
                  <a:lnTo>
                    <a:pt x="8" y="2246"/>
                  </a:lnTo>
                  <a:lnTo>
                    <a:pt x="0" y="2049"/>
                  </a:lnTo>
                  <a:lnTo>
                    <a:pt x="8" y="1860"/>
                  </a:lnTo>
                  <a:lnTo>
                    <a:pt x="34" y="1685"/>
                  </a:lnTo>
                  <a:lnTo>
                    <a:pt x="69" y="1519"/>
                  </a:lnTo>
                  <a:lnTo>
                    <a:pt x="122" y="1366"/>
                  </a:lnTo>
                  <a:lnTo>
                    <a:pt x="178" y="1222"/>
                  </a:lnTo>
                  <a:lnTo>
                    <a:pt x="244" y="1090"/>
                  </a:lnTo>
                  <a:lnTo>
                    <a:pt x="313" y="968"/>
                  </a:lnTo>
                  <a:lnTo>
                    <a:pt x="453" y="752"/>
                  </a:lnTo>
                  <a:lnTo>
                    <a:pt x="593" y="582"/>
                  </a:lnTo>
                  <a:lnTo>
                    <a:pt x="702" y="459"/>
                  </a:lnTo>
                  <a:lnTo>
                    <a:pt x="771" y="380"/>
                  </a:lnTo>
                  <a:lnTo>
                    <a:pt x="850" y="301"/>
                  </a:lnTo>
                  <a:lnTo>
                    <a:pt x="915" y="249"/>
                  </a:lnTo>
                  <a:lnTo>
                    <a:pt x="1007" y="192"/>
                  </a:lnTo>
                  <a:lnTo>
                    <a:pt x="1120" y="135"/>
                  </a:lnTo>
                  <a:lnTo>
                    <a:pt x="1261" y="78"/>
                  </a:lnTo>
                  <a:lnTo>
                    <a:pt x="1427" y="35"/>
                  </a:lnTo>
                  <a:lnTo>
                    <a:pt x="1614" y="0"/>
                  </a:lnTo>
                  <a:lnTo>
                    <a:pt x="1662" y="0"/>
                  </a:lnTo>
                  <a:lnTo>
                    <a:pt x="1679" y="8"/>
                  </a:lnTo>
                  <a:lnTo>
                    <a:pt x="1693" y="26"/>
                  </a:lnTo>
                  <a:lnTo>
                    <a:pt x="1727" y="52"/>
                  </a:lnTo>
                  <a:lnTo>
                    <a:pt x="1845" y="78"/>
                  </a:lnTo>
                  <a:lnTo>
                    <a:pt x="1867" y="113"/>
                  </a:lnTo>
                  <a:lnTo>
                    <a:pt x="1871" y="131"/>
                  </a:lnTo>
                  <a:lnTo>
                    <a:pt x="1867" y="144"/>
                  </a:lnTo>
                  <a:lnTo>
                    <a:pt x="1867" y="157"/>
                  </a:lnTo>
                  <a:lnTo>
                    <a:pt x="1876" y="175"/>
                  </a:lnTo>
                  <a:lnTo>
                    <a:pt x="1946" y="253"/>
                  </a:lnTo>
                  <a:lnTo>
                    <a:pt x="1998" y="310"/>
                  </a:lnTo>
                  <a:lnTo>
                    <a:pt x="2020" y="323"/>
                  </a:lnTo>
                  <a:lnTo>
                    <a:pt x="2046" y="315"/>
                  </a:lnTo>
                  <a:lnTo>
                    <a:pt x="2102" y="319"/>
                  </a:lnTo>
                  <a:lnTo>
                    <a:pt x="2120" y="323"/>
                  </a:lnTo>
                  <a:lnTo>
                    <a:pt x="2129" y="332"/>
                  </a:lnTo>
                  <a:lnTo>
                    <a:pt x="2133" y="350"/>
                  </a:lnTo>
                  <a:lnTo>
                    <a:pt x="2133" y="363"/>
                  </a:lnTo>
                  <a:lnTo>
                    <a:pt x="2111" y="402"/>
                  </a:lnTo>
                  <a:lnTo>
                    <a:pt x="2094" y="420"/>
                  </a:lnTo>
                  <a:lnTo>
                    <a:pt x="2063" y="43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237280" y="2697120"/>
              <a:ext cx="208440" cy="251280"/>
            </a:xfrm>
            <a:custGeom>
              <a:avLst/>
              <a:gdLst/>
              <a:ahLst/>
              <a:rect l="0" t="0" r="r" b="b"/>
              <a:pathLst>
                <a:path w="579" h="698">
                  <a:moveTo>
                    <a:pt x="0" y="698"/>
                  </a:moveTo>
                  <a:lnTo>
                    <a:pt x="54" y="677"/>
                  </a:lnTo>
                  <a:lnTo>
                    <a:pt x="105" y="647"/>
                  </a:lnTo>
                  <a:lnTo>
                    <a:pt x="216" y="575"/>
                  </a:lnTo>
                  <a:lnTo>
                    <a:pt x="275" y="541"/>
                  </a:lnTo>
                  <a:lnTo>
                    <a:pt x="338" y="519"/>
                  </a:lnTo>
                  <a:lnTo>
                    <a:pt x="401" y="506"/>
                  </a:lnTo>
                  <a:lnTo>
                    <a:pt x="465" y="510"/>
                  </a:lnTo>
                  <a:lnTo>
                    <a:pt x="478" y="455"/>
                  </a:lnTo>
                  <a:lnTo>
                    <a:pt x="478" y="413"/>
                  </a:lnTo>
                  <a:lnTo>
                    <a:pt x="474" y="362"/>
                  </a:lnTo>
                  <a:lnTo>
                    <a:pt x="470" y="328"/>
                  </a:lnTo>
                  <a:lnTo>
                    <a:pt x="491" y="277"/>
                  </a:lnTo>
                  <a:lnTo>
                    <a:pt x="512" y="243"/>
                  </a:lnTo>
                  <a:lnTo>
                    <a:pt x="529" y="204"/>
                  </a:lnTo>
                  <a:lnTo>
                    <a:pt x="579" y="29"/>
                  </a:lnTo>
                  <a:lnTo>
                    <a:pt x="516" y="29"/>
                  </a:lnTo>
                  <a:lnTo>
                    <a:pt x="516" y="21"/>
                  </a:lnTo>
                  <a:lnTo>
                    <a:pt x="507" y="0"/>
                  </a:lnTo>
                  <a:lnTo>
                    <a:pt x="486" y="12"/>
                  </a:lnTo>
                  <a:lnTo>
                    <a:pt x="440" y="59"/>
                  </a:lnTo>
                  <a:lnTo>
                    <a:pt x="304" y="234"/>
                  </a:lnTo>
                  <a:lnTo>
                    <a:pt x="143" y="468"/>
                  </a:lnTo>
                  <a:lnTo>
                    <a:pt x="0" y="698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76520" y="2703600"/>
              <a:ext cx="217800" cy="375120"/>
            </a:xfrm>
            <a:custGeom>
              <a:avLst/>
              <a:gdLst/>
              <a:ahLst/>
              <a:rect l="0" t="0" r="r" b="b"/>
              <a:pathLst>
                <a:path w="605" h="1042">
                  <a:moveTo>
                    <a:pt x="0" y="1042"/>
                  </a:moveTo>
                  <a:lnTo>
                    <a:pt x="33" y="1038"/>
                  </a:lnTo>
                  <a:lnTo>
                    <a:pt x="46" y="1034"/>
                  </a:lnTo>
                  <a:lnTo>
                    <a:pt x="54" y="1025"/>
                  </a:lnTo>
                  <a:lnTo>
                    <a:pt x="63" y="1008"/>
                  </a:lnTo>
                  <a:lnTo>
                    <a:pt x="71" y="986"/>
                  </a:lnTo>
                  <a:lnTo>
                    <a:pt x="80" y="965"/>
                  </a:lnTo>
                  <a:lnTo>
                    <a:pt x="101" y="939"/>
                  </a:lnTo>
                  <a:lnTo>
                    <a:pt x="139" y="917"/>
                  </a:lnTo>
                  <a:lnTo>
                    <a:pt x="202" y="896"/>
                  </a:lnTo>
                  <a:lnTo>
                    <a:pt x="287" y="879"/>
                  </a:lnTo>
                  <a:lnTo>
                    <a:pt x="299" y="874"/>
                  </a:lnTo>
                  <a:lnTo>
                    <a:pt x="309" y="862"/>
                  </a:lnTo>
                  <a:lnTo>
                    <a:pt x="376" y="819"/>
                  </a:lnTo>
                  <a:lnTo>
                    <a:pt x="592" y="706"/>
                  </a:lnTo>
                  <a:lnTo>
                    <a:pt x="605" y="0"/>
                  </a:lnTo>
                  <a:lnTo>
                    <a:pt x="550" y="81"/>
                  </a:lnTo>
                  <a:lnTo>
                    <a:pt x="541" y="77"/>
                  </a:lnTo>
                  <a:lnTo>
                    <a:pt x="516" y="81"/>
                  </a:lnTo>
                  <a:lnTo>
                    <a:pt x="478" y="73"/>
                  </a:lnTo>
                  <a:lnTo>
                    <a:pt x="8" y="952"/>
                  </a:lnTo>
                  <a:lnTo>
                    <a:pt x="0" y="1042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99200" y="3139920"/>
              <a:ext cx="1626120" cy="1330560"/>
            </a:xfrm>
            <a:custGeom>
              <a:avLst/>
              <a:gdLst/>
              <a:ahLst/>
              <a:rect l="0" t="0" r="r" b="b"/>
              <a:pathLst>
                <a:path w="4517" h="3696">
                  <a:moveTo>
                    <a:pt x="96" y="0"/>
                  </a:moveTo>
                  <a:lnTo>
                    <a:pt x="162" y="17"/>
                  </a:lnTo>
                  <a:lnTo>
                    <a:pt x="271" y="56"/>
                  </a:lnTo>
                  <a:lnTo>
                    <a:pt x="381" y="100"/>
                  </a:lnTo>
                  <a:lnTo>
                    <a:pt x="434" y="131"/>
                  </a:lnTo>
                  <a:lnTo>
                    <a:pt x="797" y="472"/>
                  </a:lnTo>
                  <a:lnTo>
                    <a:pt x="977" y="647"/>
                  </a:lnTo>
                  <a:lnTo>
                    <a:pt x="1544" y="1234"/>
                  </a:lnTo>
                  <a:lnTo>
                    <a:pt x="1903" y="1519"/>
                  </a:lnTo>
                  <a:lnTo>
                    <a:pt x="1938" y="1558"/>
                  </a:lnTo>
                  <a:lnTo>
                    <a:pt x="1965" y="1598"/>
                  </a:lnTo>
                  <a:lnTo>
                    <a:pt x="2022" y="1676"/>
                  </a:lnTo>
                  <a:lnTo>
                    <a:pt x="2065" y="1716"/>
                  </a:lnTo>
                  <a:lnTo>
                    <a:pt x="2136" y="1764"/>
                  </a:lnTo>
                  <a:lnTo>
                    <a:pt x="2232" y="1817"/>
                  </a:lnTo>
                  <a:lnTo>
                    <a:pt x="2363" y="1879"/>
                  </a:lnTo>
                  <a:lnTo>
                    <a:pt x="2368" y="1879"/>
                  </a:lnTo>
                  <a:lnTo>
                    <a:pt x="2363" y="1866"/>
                  </a:lnTo>
                  <a:lnTo>
                    <a:pt x="2368" y="1866"/>
                  </a:lnTo>
                  <a:lnTo>
                    <a:pt x="2399" y="1888"/>
                  </a:lnTo>
                  <a:lnTo>
                    <a:pt x="2587" y="2054"/>
                  </a:lnTo>
                  <a:lnTo>
                    <a:pt x="3056" y="2483"/>
                  </a:lnTo>
                  <a:lnTo>
                    <a:pt x="3461" y="2868"/>
                  </a:lnTo>
                  <a:lnTo>
                    <a:pt x="3592" y="2956"/>
                  </a:lnTo>
                  <a:lnTo>
                    <a:pt x="3688" y="3008"/>
                  </a:lnTo>
                  <a:lnTo>
                    <a:pt x="3838" y="3078"/>
                  </a:lnTo>
                  <a:lnTo>
                    <a:pt x="3925" y="3131"/>
                  </a:lnTo>
                  <a:lnTo>
                    <a:pt x="4044" y="3219"/>
                  </a:lnTo>
                  <a:lnTo>
                    <a:pt x="4206" y="3359"/>
                  </a:lnTo>
                  <a:lnTo>
                    <a:pt x="4429" y="3564"/>
                  </a:lnTo>
                  <a:lnTo>
                    <a:pt x="4508" y="3648"/>
                  </a:lnTo>
                  <a:lnTo>
                    <a:pt x="4517" y="3674"/>
                  </a:lnTo>
                  <a:lnTo>
                    <a:pt x="4513" y="3683"/>
                  </a:lnTo>
                  <a:lnTo>
                    <a:pt x="4504" y="3683"/>
                  </a:lnTo>
                  <a:lnTo>
                    <a:pt x="4486" y="3696"/>
                  </a:lnTo>
                  <a:lnTo>
                    <a:pt x="4473" y="3696"/>
                  </a:lnTo>
                  <a:lnTo>
                    <a:pt x="4460" y="3691"/>
                  </a:lnTo>
                  <a:lnTo>
                    <a:pt x="4434" y="3670"/>
                  </a:lnTo>
                  <a:lnTo>
                    <a:pt x="4307" y="3564"/>
                  </a:lnTo>
                  <a:lnTo>
                    <a:pt x="4013" y="3337"/>
                  </a:lnTo>
                  <a:lnTo>
                    <a:pt x="3188" y="2724"/>
                  </a:lnTo>
                  <a:lnTo>
                    <a:pt x="3012" y="2601"/>
                  </a:lnTo>
                  <a:lnTo>
                    <a:pt x="2933" y="2549"/>
                  </a:lnTo>
                  <a:lnTo>
                    <a:pt x="2911" y="2540"/>
                  </a:lnTo>
                  <a:lnTo>
                    <a:pt x="2894" y="2540"/>
                  </a:lnTo>
                  <a:lnTo>
                    <a:pt x="2841" y="2505"/>
                  </a:lnTo>
                  <a:lnTo>
                    <a:pt x="2705" y="2409"/>
                  </a:lnTo>
                  <a:lnTo>
                    <a:pt x="2613" y="2339"/>
                  </a:lnTo>
                  <a:lnTo>
                    <a:pt x="2521" y="2255"/>
                  </a:lnTo>
                  <a:lnTo>
                    <a:pt x="2350" y="2093"/>
                  </a:lnTo>
                  <a:lnTo>
                    <a:pt x="2263" y="2015"/>
                  </a:lnTo>
                  <a:lnTo>
                    <a:pt x="2171" y="1944"/>
                  </a:lnTo>
                  <a:lnTo>
                    <a:pt x="2070" y="1879"/>
                  </a:lnTo>
                  <a:lnTo>
                    <a:pt x="1960" y="1821"/>
                  </a:lnTo>
                  <a:lnTo>
                    <a:pt x="1903" y="1799"/>
                  </a:lnTo>
                  <a:lnTo>
                    <a:pt x="1894" y="1795"/>
                  </a:lnTo>
                  <a:lnTo>
                    <a:pt x="1877" y="1764"/>
                  </a:lnTo>
                  <a:lnTo>
                    <a:pt x="1798" y="1663"/>
                  </a:lnTo>
                  <a:lnTo>
                    <a:pt x="1741" y="1598"/>
                  </a:lnTo>
                  <a:lnTo>
                    <a:pt x="1680" y="1549"/>
                  </a:lnTo>
                  <a:lnTo>
                    <a:pt x="1561" y="1479"/>
                  </a:lnTo>
                  <a:lnTo>
                    <a:pt x="1456" y="1422"/>
                  </a:lnTo>
                  <a:lnTo>
                    <a:pt x="1408" y="1396"/>
                  </a:lnTo>
                  <a:lnTo>
                    <a:pt x="1360" y="1361"/>
                  </a:lnTo>
                  <a:lnTo>
                    <a:pt x="1175" y="1133"/>
                  </a:lnTo>
                  <a:lnTo>
                    <a:pt x="995" y="1028"/>
                  </a:lnTo>
                  <a:lnTo>
                    <a:pt x="916" y="936"/>
                  </a:lnTo>
                  <a:lnTo>
                    <a:pt x="841" y="840"/>
                  </a:lnTo>
                  <a:lnTo>
                    <a:pt x="797" y="788"/>
                  </a:lnTo>
                  <a:lnTo>
                    <a:pt x="740" y="726"/>
                  </a:lnTo>
                  <a:lnTo>
                    <a:pt x="675" y="661"/>
                  </a:lnTo>
                  <a:lnTo>
                    <a:pt x="583" y="591"/>
                  </a:lnTo>
                  <a:lnTo>
                    <a:pt x="517" y="542"/>
                  </a:lnTo>
                  <a:lnTo>
                    <a:pt x="486" y="525"/>
                  </a:lnTo>
                  <a:lnTo>
                    <a:pt x="381" y="363"/>
                  </a:lnTo>
                  <a:lnTo>
                    <a:pt x="236" y="354"/>
                  </a:lnTo>
                  <a:lnTo>
                    <a:pt x="206" y="350"/>
                  </a:lnTo>
                  <a:lnTo>
                    <a:pt x="197" y="341"/>
                  </a:lnTo>
                  <a:lnTo>
                    <a:pt x="192" y="323"/>
                  </a:lnTo>
                  <a:lnTo>
                    <a:pt x="188" y="315"/>
                  </a:lnTo>
                  <a:lnTo>
                    <a:pt x="166" y="306"/>
                  </a:lnTo>
                  <a:lnTo>
                    <a:pt x="39" y="306"/>
                  </a:lnTo>
                  <a:lnTo>
                    <a:pt x="13" y="275"/>
                  </a:lnTo>
                  <a:lnTo>
                    <a:pt x="0" y="258"/>
                  </a:lnTo>
                  <a:lnTo>
                    <a:pt x="4" y="249"/>
                  </a:lnTo>
                  <a:lnTo>
                    <a:pt x="13" y="240"/>
                  </a:lnTo>
                  <a:lnTo>
                    <a:pt x="21" y="232"/>
                  </a:lnTo>
                  <a:lnTo>
                    <a:pt x="30" y="210"/>
                  </a:lnTo>
                  <a:lnTo>
                    <a:pt x="30" y="179"/>
                  </a:lnTo>
                  <a:lnTo>
                    <a:pt x="13" y="122"/>
                  </a:lnTo>
                  <a:lnTo>
                    <a:pt x="17" y="87"/>
                  </a:lnTo>
                  <a:lnTo>
                    <a:pt x="30" y="48"/>
                  </a:lnTo>
                  <a:lnTo>
                    <a:pt x="52" y="1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192720" y="3294000"/>
              <a:ext cx="1710000" cy="1389600"/>
            </a:xfrm>
            <a:custGeom>
              <a:avLst/>
              <a:gdLst/>
              <a:ahLst/>
              <a:rect l="0" t="0" r="r" b="b"/>
              <a:pathLst>
                <a:path w="4750" h="3860">
                  <a:moveTo>
                    <a:pt x="0" y="100"/>
                  </a:moveTo>
                  <a:lnTo>
                    <a:pt x="4" y="61"/>
                  </a:lnTo>
                  <a:lnTo>
                    <a:pt x="17" y="30"/>
                  </a:lnTo>
                  <a:lnTo>
                    <a:pt x="43" y="8"/>
                  </a:lnTo>
                  <a:lnTo>
                    <a:pt x="83" y="0"/>
                  </a:lnTo>
                  <a:lnTo>
                    <a:pt x="149" y="13"/>
                  </a:lnTo>
                  <a:lnTo>
                    <a:pt x="232" y="43"/>
                  </a:lnTo>
                  <a:lnTo>
                    <a:pt x="342" y="105"/>
                  </a:lnTo>
                  <a:lnTo>
                    <a:pt x="477" y="192"/>
                  </a:lnTo>
                  <a:lnTo>
                    <a:pt x="561" y="245"/>
                  </a:lnTo>
                  <a:lnTo>
                    <a:pt x="644" y="284"/>
                  </a:lnTo>
                  <a:lnTo>
                    <a:pt x="684" y="315"/>
                  </a:lnTo>
                  <a:lnTo>
                    <a:pt x="719" y="341"/>
                  </a:lnTo>
                  <a:lnTo>
                    <a:pt x="754" y="381"/>
                  </a:lnTo>
                  <a:lnTo>
                    <a:pt x="776" y="420"/>
                  </a:lnTo>
                  <a:lnTo>
                    <a:pt x="784" y="468"/>
                  </a:lnTo>
                  <a:lnTo>
                    <a:pt x="802" y="538"/>
                  </a:lnTo>
                  <a:lnTo>
                    <a:pt x="833" y="591"/>
                  </a:lnTo>
                  <a:lnTo>
                    <a:pt x="877" y="661"/>
                  </a:lnTo>
                  <a:lnTo>
                    <a:pt x="951" y="744"/>
                  </a:lnTo>
                  <a:lnTo>
                    <a:pt x="1052" y="845"/>
                  </a:lnTo>
                  <a:lnTo>
                    <a:pt x="1210" y="986"/>
                  </a:lnTo>
                  <a:lnTo>
                    <a:pt x="1302" y="1065"/>
                  </a:lnTo>
                  <a:lnTo>
                    <a:pt x="1346" y="1100"/>
                  </a:lnTo>
                  <a:lnTo>
                    <a:pt x="1368" y="1109"/>
                  </a:lnTo>
                  <a:lnTo>
                    <a:pt x="1390" y="1148"/>
                  </a:lnTo>
                  <a:lnTo>
                    <a:pt x="1504" y="1332"/>
                  </a:lnTo>
                  <a:lnTo>
                    <a:pt x="1543" y="1389"/>
                  </a:lnTo>
                  <a:lnTo>
                    <a:pt x="1574" y="1411"/>
                  </a:lnTo>
                  <a:lnTo>
                    <a:pt x="1596" y="1415"/>
                  </a:lnTo>
                  <a:lnTo>
                    <a:pt x="1613" y="1406"/>
                  </a:lnTo>
                  <a:lnTo>
                    <a:pt x="1635" y="1402"/>
                  </a:lnTo>
                  <a:lnTo>
                    <a:pt x="1666" y="1398"/>
                  </a:lnTo>
                  <a:lnTo>
                    <a:pt x="1710" y="1415"/>
                  </a:lnTo>
                  <a:lnTo>
                    <a:pt x="1771" y="1459"/>
                  </a:lnTo>
                  <a:lnTo>
                    <a:pt x="1859" y="1542"/>
                  </a:lnTo>
                  <a:lnTo>
                    <a:pt x="1911" y="1599"/>
                  </a:lnTo>
                  <a:lnTo>
                    <a:pt x="1933" y="1639"/>
                  </a:lnTo>
                  <a:lnTo>
                    <a:pt x="1942" y="1665"/>
                  </a:lnTo>
                  <a:lnTo>
                    <a:pt x="1942" y="1687"/>
                  </a:lnTo>
                  <a:lnTo>
                    <a:pt x="1951" y="1709"/>
                  </a:lnTo>
                  <a:lnTo>
                    <a:pt x="1982" y="1735"/>
                  </a:lnTo>
                  <a:lnTo>
                    <a:pt x="2039" y="1783"/>
                  </a:lnTo>
                  <a:lnTo>
                    <a:pt x="2131" y="1827"/>
                  </a:lnTo>
                  <a:lnTo>
                    <a:pt x="2161" y="1849"/>
                  </a:lnTo>
                  <a:lnTo>
                    <a:pt x="2205" y="1879"/>
                  </a:lnTo>
                  <a:lnTo>
                    <a:pt x="2315" y="1976"/>
                  </a:lnTo>
                  <a:lnTo>
                    <a:pt x="2469" y="2103"/>
                  </a:lnTo>
                  <a:lnTo>
                    <a:pt x="2566" y="2173"/>
                  </a:lnTo>
                  <a:lnTo>
                    <a:pt x="2667" y="2243"/>
                  </a:lnTo>
                  <a:lnTo>
                    <a:pt x="2776" y="2287"/>
                  </a:lnTo>
                  <a:lnTo>
                    <a:pt x="2820" y="2361"/>
                  </a:lnTo>
                  <a:lnTo>
                    <a:pt x="2842" y="2387"/>
                  </a:lnTo>
                  <a:lnTo>
                    <a:pt x="2868" y="2405"/>
                  </a:lnTo>
                  <a:lnTo>
                    <a:pt x="2982" y="2484"/>
                  </a:lnTo>
                  <a:lnTo>
                    <a:pt x="3211" y="2663"/>
                  </a:lnTo>
                  <a:lnTo>
                    <a:pt x="3276" y="2681"/>
                  </a:lnTo>
                  <a:lnTo>
                    <a:pt x="3316" y="2755"/>
                  </a:lnTo>
                  <a:lnTo>
                    <a:pt x="3368" y="2795"/>
                  </a:lnTo>
                  <a:lnTo>
                    <a:pt x="3478" y="2852"/>
                  </a:lnTo>
                  <a:lnTo>
                    <a:pt x="3684" y="2988"/>
                  </a:lnTo>
                  <a:lnTo>
                    <a:pt x="4750" y="3834"/>
                  </a:lnTo>
                  <a:lnTo>
                    <a:pt x="4732" y="3856"/>
                  </a:lnTo>
                  <a:lnTo>
                    <a:pt x="4706" y="3860"/>
                  </a:lnTo>
                  <a:lnTo>
                    <a:pt x="4666" y="3842"/>
                  </a:lnTo>
                  <a:lnTo>
                    <a:pt x="4596" y="3794"/>
                  </a:lnTo>
                  <a:lnTo>
                    <a:pt x="4338" y="3597"/>
                  </a:lnTo>
                  <a:lnTo>
                    <a:pt x="3838" y="3234"/>
                  </a:lnTo>
                  <a:lnTo>
                    <a:pt x="2640" y="2374"/>
                  </a:lnTo>
                  <a:lnTo>
                    <a:pt x="2297" y="2120"/>
                  </a:lnTo>
                  <a:lnTo>
                    <a:pt x="2280" y="2103"/>
                  </a:lnTo>
                  <a:lnTo>
                    <a:pt x="2275" y="2098"/>
                  </a:lnTo>
                  <a:lnTo>
                    <a:pt x="2047" y="1928"/>
                  </a:lnTo>
                  <a:lnTo>
                    <a:pt x="1797" y="1726"/>
                  </a:lnTo>
                  <a:lnTo>
                    <a:pt x="1776" y="1674"/>
                  </a:lnTo>
                  <a:lnTo>
                    <a:pt x="1749" y="1643"/>
                  </a:lnTo>
                  <a:lnTo>
                    <a:pt x="1719" y="1621"/>
                  </a:lnTo>
                  <a:lnTo>
                    <a:pt x="1679" y="1608"/>
                  </a:lnTo>
                  <a:lnTo>
                    <a:pt x="1574" y="1564"/>
                  </a:lnTo>
                  <a:lnTo>
                    <a:pt x="1499" y="1520"/>
                  </a:lnTo>
                  <a:lnTo>
                    <a:pt x="1412" y="1441"/>
                  </a:lnTo>
                  <a:lnTo>
                    <a:pt x="1096" y="1148"/>
                  </a:lnTo>
                  <a:lnTo>
                    <a:pt x="1021" y="1065"/>
                  </a:lnTo>
                  <a:lnTo>
                    <a:pt x="977" y="1012"/>
                  </a:lnTo>
                  <a:lnTo>
                    <a:pt x="951" y="968"/>
                  </a:lnTo>
                  <a:lnTo>
                    <a:pt x="942" y="950"/>
                  </a:lnTo>
                  <a:lnTo>
                    <a:pt x="920" y="928"/>
                  </a:lnTo>
                  <a:lnTo>
                    <a:pt x="771" y="797"/>
                  </a:lnTo>
                  <a:lnTo>
                    <a:pt x="666" y="713"/>
                  </a:lnTo>
                  <a:lnTo>
                    <a:pt x="627" y="683"/>
                  </a:lnTo>
                  <a:lnTo>
                    <a:pt x="592" y="648"/>
                  </a:lnTo>
                  <a:lnTo>
                    <a:pt x="565" y="604"/>
                  </a:lnTo>
                  <a:lnTo>
                    <a:pt x="535" y="551"/>
                  </a:lnTo>
                  <a:lnTo>
                    <a:pt x="521" y="508"/>
                  </a:lnTo>
                  <a:lnTo>
                    <a:pt x="517" y="481"/>
                  </a:lnTo>
                  <a:lnTo>
                    <a:pt x="517" y="459"/>
                  </a:lnTo>
                  <a:lnTo>
                    <a:pt x="469" y="433"/>
                  </a:lnTo>
                  <a:lnTo>
                    <a:pt x="302" y="359"/>
                  </a:lnTo>
                  <a:lnTo>
                    <a:pt x="249" y="324"/>
                  </a:lnTo>
                  <a:lnTo>
                    <a:pt x="232" y="293"/>
                  </a:lnTo>
                  <a:lnTo>
                    <a:pt x="214" y="249"/>
                  </a:lnTo>
                  <a:lnTo>
                    <a:pt x="192" y="218"/>
                  </a:lnTo>
                  <a:lnTo>
                    <a:pt x="157" y="175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907240" y="3719520"/>
              <a:ext cx="89280" cy="168480"/>
            </a:xfrm>
            <a:custGeom>
              <a:avLst/>
              <a:gdLst/>
              <a:ahLst/>
              <a:rect l="0" t="0" r="r" b="b"/>
              <a:pathLst>
                <a:path w="248" h="468">
                  <a:moveTo>
                    <a:pt x="248" y="37"/>
                  </a:moveTo>
                  <a:lnTo>
                    <a:pt x="236" y="112"/>
                  </a:lnTo>
                  <a:lnTo>
                    <a:pt x="217" y="196"/>
                  </a:lnTo>
                  <a:lnTo>
                    <a:pt x="168" y="305"/>
                  </a:lnTo>
                  <a:lnTo>
                    <a:pt x="132" y="380"/>
                  </a:lnTo>
                  <a:lnTo>
                    <a:pt x="80" y="468"/>
                  </a:lnTo>
                  <a:lnTo>
                    <a:pt x="31" y="426"/>
                  </a:lnTo>
                  <a:lnTo>
                    <a:pt x="7" y="393"/>
                  </a:lnTo>
                  <a:lnTo>
                    <a:pt x="0" y="368"/>
                  </a:lnTo>
                  <a:lnTo>
                    <a:pt x="7" y="351"/>
                  </a:lnTo>
                  <a:lnTo>
                    <a:pt x="43" y="330"/>
                  </a:lnTo>
                  <a:lnTo>
                    <a:pt x="64" y="322"/>
                  </a:lnTo>
                  <a:lnTo>
                    <a:pt x="72" y="309"/>
                  </a:lnTo>
                  <a:lnTo>
                    <a:pt x="92" y="268"/>
                  </a:lnTo>
                  <a:lnTo>
                    <a:pt x="100" y="221"/>
                  </a:lnTo>
                  <a:lnTo>
                    <a:pt x="104" y="141"/>
                  </a:lnTo>
                  <a:lnTo>
                    <a:pt x="120" y="70"/>
                  </a:lnTo>
                  <a:lnTo>
                    <a:pt x="144" y="33"/>
                  </a:lnTo>
                  <a:lnTo>
                    <a:pt x="180" y="0"/>
                  </a:lnTo>
                  <a:lnTo>
                    <a:pt x="197" y="0"/>
                  </a:lnTo>
                  <a:lnTo>
                    <a:pt x="248" y="3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677000" y="4068720"/>
              <a:ext cx="182880" cy="138600"/>
            </a:xfrm>
            <a:custGeom>
              <a:avLst/>
              <a:gdLst/>
              <a:ahLst/>
              <a:rect l="0" t="0" r="r" b="b"/>
              <a:pathLst>
                <a:path w="508" h="385">
                  <a:moveTo>
                    <a:pt x="25" y="0"/>
                  </a:moveTo>
                  <a:lnTo>
                    <a:pt x="67" y="4"/>
                  </a:lnTo>
                  <a:lnTo>
                    <a:pt x="79" y="12"/>
                  </a:lnTo>
                  <a:lnTo>
                    <a:pt x="88" y="20"/>
                  </a:lnTo>
                  <a:lnTo>
                    <a:pt x="108" y="53"/>
                  </a:lnTo>
                  <a:lnTo>
                    <a:pt x="129" y="74"/>
                  </a:lnTo>
                  <a:lnTo>
                    <a:pt x="163" y="100"/>
                  </a:lnTo>
                  <a:lnTo>
                    <a:pt x="201" y="120"/>
                  </a:lnTo>
                  <a:lnTo>
                    <a:pt x="226" y="128"/>
                  </a:lnTo>
                  <a:lnTo>
                    <a:pt x="260" y="133"/>
                  </a:lnTo>
                  <a:lnTo>
                    <a:pt x="285" y="145"/>
                  </a:lnTo>
                  <a:lnTo>
                    <a:pt x="332" y="178"/>
                  </a:lnTo>
                  <a:lnTo>
                    <a:pt x="499" y="340"/>
                  </a:lnTo>
                  <a:lnTo>
                    <a:pt x="508" y="356"/>
                  </a:lnTo>
                  <a:lnTo>
                    <a:pt x="508" y="369"/>
                  </a:lnTo>
                  <a:lnTo>
                    <a:pt x="495" y="381"/>
                  </a:lnTo>
                  <a:lnTo>
                    <a:pt x="474" y="385"/>
                  </a:lnTo>
                  <a:lnTo>
                    <a:pt x="436" y="377"/>
                  </a:lnTo>
                  <a:lnTo>
                    <a:pt x="386" y="352"/>
                  </a:lnTo>
                  <a:lnTo>
                    <a:pt x="315" y="307"/>
                  </a:lnTo>
                  <a:lnTo>
                    <a:pt x="226" y="236"/>
                  </a:lnTo>
                  <a:lnTo>
                    <a:pt x="129" y="166"/>
                  </a:lnTo>
                  <a:lnTo>
                    <a:pt x="50" y="116"/>
                  </a:lnTo>
                  <a:lnTo>
                    <a:pt x="20" y="90"/>
                  </a:lnTo>
                  <a:lnTo>
                    <a:pt x="4" y="66"/>
                  </a:lnTo>
                  <a:lnTo>
                    <a:pt x="0" y="41"/>
                  </a:lnTo>
                  <a:lnTo>
                    <a:pt x="8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885080" y="4213080"/>
              <a:ext cx="265320" cy="155880"/>
            </a:xfrm>
            <a:custGeom>
              <a:avLst/>
              <a:gdLst/>
              <a:ahLst/>
              <a:rect l="0" t="0" r="r" b="b"/>
              <a:pathLst>
                <a:path w="737" h="433">
                  <a:moveTo>
                    <a:pt x="21" y="0"/>
                  </a:moveTo>
                  <a:lnTo>
                    <a:pt x="51" y="8"/>
                  </a:lnTo>
                  <a:lnTo>
                    <a:pt x="136" y="58"/>
                  </a:lnTo>
                  <a:lnTo>
                    <a:pt x="340" y="182"/>
                  </a:lnTo>
                  <a:lnTo>
                    <a:pt x="711" y="399"/>
                  </a:lnTo>
                  <a:lnTo>
                    <a:pt x="737" y="416"/>
                  </a:lnTo>
                  <a:lnTo>
                    <a:pt x="737" y="424"/>
                  </a:lnTo>
                  <a:lnTo>
                    <a:pt x="724" y="428"/>
                  </a:lnTo>
                  <a:lnTo>
                    <a:pt x="699" y="433"/>
                  </a:lnTo>
                  <a:lnTo>
                    <a:pt x="648" y="420"/>
                  </a:lnTo>
                  <a:lnTo>
                    <a:pt x="562" y="391"/>
                  </a:lnTo>
                  <a:lnTo>
                    <a:pt x="439" y="333"/>
                  </a:lnTo>
                  <a:lnTo>
                    <a:pt x="268" y="250"/>
                  </a:lnTo>
                  <a:lnTo>
                    <a:pt x="38" y="120"/>
                  </a:lnTo>
                  <a:lnTo>
                    <a:pt x="21" y="99"/>
                  </a:lnTo>
                  <a:lnTo>
                    <a:pt x="4" y="62"/>
                  </a:lnTo>
                  <a:lnTo>
                    <a:pt x="0" y="20"/>
                  </a:lnTo>
                  <a:lnTo>
                    <a:pt x="4" y="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802640" y="4303800"/>
              <a:ext cx="171720" cy="108360"/>
            </a:xfrm>
            <a:custGeom>
              <a:avLst/>
              <a:gdLst/>
              <a:ahLst/>
              <a:rect l="0" t="0" r="r" b="b"/>
              <a:pathLst>
                <a:path w="477" h="301">
                  <a:moveTo>
                    <a:pt x="16" y="0"/>
                  </a:moveTo>
                  <a:lnTo>
                    <a:pt x="41" y="0"/>
                  </a:lnTo>
                  <a:lnTo>
                    <a:pt x="87" y="20"/>
                  </a:lnTo>
                  <a:lnTo>
                    <a:pt x="221" y="94"/>
                  </a:lnTo>
                  <a:lnTo>
                    <a:pt x="368" y="187"/>
                  </a:lnTo>
                  <a:lnTo>
                    <a:pt x="431" y="232"/>
                  </a:lnTo>
                  <a:lnTo>
                    <a:pt x="477" y="269"/>
                  </a:lnTo>
                  <a:lnTo>
                    <a:pt x="477" y="297"/>
                  </a:lnTo>
                  <a:lnTo>
                    <a:pt x="460" y="301"/>
                  </a:lnTo>
                  <a:lnTo>
                    <a:pt x="422" y="297"/>
                  </a:lnTo>
                  <a:lnTo>
                    <a:pt x="280" y="237"/>
                  </a:lnTo>
                  <a:lnTo>
                    <a:pt x="154" y="167"/>
                  </a:lnTo>
                  <a:lnTo>
                    <a:pt x="83" y="122"/>
                  </a:lnTo>
                  <a:lnTo>
                    <a:pt x="8" y="64"/>
                  </a:lnTo>
                  <a:lnTo>
                    <a:pt x="0" y="24"/>
                  </a:lnTo>
                  <a:lnTo>
                    <a:pt x="8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856640" y="4489560"/>
              <a:ext cx="59040" cy="39960"/>
            </a:xfrm>
            <a:custGeom>
              <a:avLst/>
              <a:gdLst/>
              <a:ahLst/>
              <a:rect l="0" t="0" r="r" b="b"/>
              <a:pathLst>
                <a:path w="164" h="111">
                  <a:moveTo>
                    <a:pt x="0" y="35"/>
                  </a:moveTo>
                  <a:lnTo>
                    <a:pt x="15" y="14"/>
                  </a:lnTo>
                  <a:lnTo>
                    <a:pt x="26" y="7"/>
                  </a:lnTo>
                  <a:lnTo>
                    <a:pt x="41" y="0"/>
                  </a:lnTo>
                  <a:lnTo>
                    <a:pt x="60" y="0"/>
                  </a:lnTo>
                  <a:lnTo>
                    <a:pt x="84" y="14"/>
                  </a:lnTo>
                  <a:lnTo>
                    <a:pt x="118" y="39"/>
                  </a:lnTo>
                  <a:lnTo>
                    <a:pt x="160" y="82"/>
                  </a:lnTo>
                  <a:lnTo>
                    <a:pt x="164" y="100"/>
                  </a:lnTo>
                  <a:lnTo>
                    <a:pt x="160" y="111"/>
                  </a:lnTo>
                  <a:lnTo>
                    <a:pt x="130" y="111"/>
                  </a:lnTo>
                  <a:lnTo>
                    <a:pt x="72" y="8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56440" y="2484360"/>
              <a:ext cx="59040" cy="70200"/>
            </a:xfrm>
            <a:custGeom>
              <a:avLst/>
              <a:gdLst/>
              <a:ahLst/>
              <a:rect l="0" t="0" r="r" b="b"/>
              <a:pathLst>
                <a:path w="164" h="195">
                  <a:moveTo>
                    <a:pt x="53" y="195"/>
                  </a:moveTo>
                  <a:lnTo>
                    <a:pt x="53" y="46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4" y="46"/>
                  </a:lnTo>
                  <a:lnTo>
                    <a:pt x="107" y="46"/>
                  </a:lnTo>
                  <a:lnTo>
                    <a:pt x="107" y="195"/>
                  </a:lnTo>
                  <a:lnTo>
                    <a:pt x="53" y="19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37440" y="2484360"/>
              <a:ext cx="95760" cy="79560"/>
            </a:xfrm>
            <a:custGeom>
              <a:avLst/>
              <a:gdLst/>
              <a:ahLst/>
              <a:rect l="0" t="0" r="r" b="b"/>
              <a:pathLst>
                <a:path w="266" h="221">
                  <a:moveTo>
                    <a:pt x="13" y="0"/>
                  </a:moveTo>
                  <a:lnTo>
                    <a:pt x="30" y="0"/>
                  </a:lnTo>
                  <a:lnTo>
                    <a:pt x="39" y="4"/>
                  </a:lnTo>
                  <a:lnTo>
                    <a:pt x="133" y="146"/>
                  </a:lnTo>
                  <a:lnTo>
                    <a:pt x="226" y="8"/>
                  </a:lnTo>
                  <a:lnTo>
                    <a:pt x="235" y="0"/>
                  </a:lnTo>
                  <a:lnTo>
                    <a:pt x="253" y="0"/>
                  </a:lnTo>
                  <a:lnTo>
                    <a:pt x="262" y="22"/>
                  </a:lnTo>
                  <a:lnTo>
                    <a:pt x="266" y="30"/>
                  </a:lnTo>
                  <a:lnTo>
                    <a:pt x="266" y="221"/>
                  </a:lnTo>
                  <a:lnTo>
                    <a:pt x="222" y="221"/>
                  </a:lnTo>
                  <a:lnTo>
                    <a:pt x="222" y="74"/>
                  </a:lnTo>
                  <a:lnTo>
                    <a:pt x="133" y="217"/>
                  </a:lnTo>
                  <a:lnTo>
                    <a:pt x="44" y="74"/>
                  </a:lnTo>
                  <a:lnTo>
                    <a:pt x="44" y="217"/>
                  </a:lnTo>
                  <a:lnTo>
                    <a:pt x="0" y="217"/>
                  </a:lnTo>
                  <a:lnTo>
                    <a:pt x="0" y="26"/>
                  </a:lnTo>
                  <a:lnTo>
                    <a:pt x="4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237440" y="2484360"/>
              <a:ext cx="95760" cy="79560"/>
            </a:xfrm>
            <a:custGeom>
              <a:avLst/>
              <a:gdLst/>
              <a:ahLst/>
              <a:rect l="0" t="0" r="r" b="b"/>
              <a:pathLst>
                <a:path w="266" h="221">
                  <a:moveTo>
                    <a:pt x="13" y="0"/>
                  </a:moveTo>
                  <a:lnTo>
                    <a:pt x="30" y="0"/>
                  </a:lnTo>
                  <a:lnTo>
                    <a:pt x="39" y="4"/>
                  </a:lnTo>
                  <a:lnTo>
                    <a:pt x="133" y="146"/>
                  </a:lnTo>
                  <a:lnTo>
                    <a:pt x="226" y="8"/>
                  </a:lnTo>
                  <a:lnTo>
                    <a:pt x="235" y="0"/>
                  </a:lnTo>
                  <a:lnTo>
                    <a:pt x="253" y="0"/>
                  </a:lnTo>
                  <a:lnTo>
                    <a:pt x="262" y="22"/>
                  </a:lnTo>
                  <a:lnTo>
                    <a:pt x="266" y="30"/>
                  </a:lnTo>
                  <a:lnTo>
                    <a:pt x="266" y="221"/>
                  </a:lnTo>
                  <a:lnTo>
                    <a:pt x="222" y="221"/>
                  </a:lnTo>
                  <a:lnTo>
                    <a:pt x="222" y="74"/>
                  </a:lnTo>
                  <a:lnTo>
                    <a:pt x="133" y="217"/>
                  </a:lnTo>
                  <a:lnTo>
                    <a:pt x="44" y="74"/>
                  </a:lnTo>
                  <a:lnTo>
                    <a:pt x="44" y="217"/>
                  </a:lnTo>
                  <a:lnTo>
                    <a:pt x="0" y="217"/>
                  </a:lnTo>
                  <a:lnTo>
                    <a:pt x="0" y="26"/>
                  </a:lnTo>
                  <a:lnTo>
                    <a:pt x="4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1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762120" y="128520"/>
            <a:ext cx="762012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ottom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times more powerful than SNES and 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than twice the performance of 3D0 at less than 1/2 of the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that brings the consumer closer to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ded, textured 3D polygons in a 3D world in re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- 16 million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nd - 16-Bit CD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imation - 850+ million pixels/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ed - 55 M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Times New Roman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tion - Unrestricted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1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2857680"/>
            <a:ext cx="8229600" cy="18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merging Market Opportunit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62120" y="30492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589720" y="5483160"/>
            <a:ext cx="3408480" cy="1200600"/>
            <a:chOff x="5589720" y="5483160"/>
            <a:chExt cx="3408480" cy="1200600"/>
          </a:xfrm>
        </p:grpSpPr>
        <p:sp>
          <p:nvSpPr>
            <p:cNvPr id="87" name=""/>
            <p:cNvSpPr/>
            <p:nvPr/>
          </p:nvSpPr>
          <p:spPr>
            <a:xfrm>
              <a:off x="5589720" y="5483160"/>
              <a:ext cx="973440" cy="868680"/>
            </a:xfrm>
            <a:custGeom>
              <a:avLst/>
              <a:gdLst/>
              <a:ahLst/>
              <a:rect l="0" t="0" r="r" b="b"/>
              <a:pathLst>
                <a:path w="2704" h="2413">
                  <a:moveTo>
                    <a:pt x="2704" y="45"/>
                  </a:moveTo>
                  <a:lnTo>
                    <a:pt x="2691" y="52"/>
                  </a:lnTo>
                  <a:lnTo>
                    <a:pt x="2674" y="56"/>
                  </a:lnTo>
                  <a:lnTo>
                    <a:pt x="2631" y="66"/>
                  </a:lnTo>
                  <a:lnTo>
                    <a:pt x="2518" y="83"/>
                  </a:lnTo>
                  <a:lnTo>
                    <a:pt x="2399" y="101"/>
                  </a:lnTo>
                  <a:lnTo>
                    <a:pt x="2308" y="118"/>
                  </a:lnTo>
                  <a:lnTo>
                    <a:pt x="2314" y="137"/>
                  </a:lnTo>
                  <a:lnTo>
                    <a:pt x="2314" y="141"/>
                  </a:lnTo>
                  <a:lnTo>
                    <a:pt x="2318" y="143"/>
                  </a:lnTo>
                  <a:lnTo>
                    <a:pt x="2341" y="147"/>
                  </a:lnTo>
                  <a:lnTo>
                    <a:pt x="2395" y="154"/>
                  </a:lnTo>
                  <a:lnTo>
                    <a:pt x="2393" y="178"/>
                  </a:lnTo>
                  <a:lnTo>
                    <a:pt x="2343" y="216"/>
                  </a:lnTo>
                  <a:lnTo>
                    <a:pt x="2331" y="226"/>
                  </a:lnTo>
                  <a:lnTo>
                    <a:pt x="2326" y="233"/>
                  </a:lnTo>
                  <a:lnTo>
                    <a:pt x="2329" y="241"/>
                  </a:lnTo>
                  <a:lnTo>
                    <a:pt x="2331" y="245"/>
                  </a:lnTo>
                  <a:lnTo>
                    <a:pt x="2326" y="249"/>
                  </a:lnTo>
                  <a:lnTo>
                    <a:pt x="2312" y="264"/>
                  </a:lnTo>
                  <a:lnTo>
                    <a:pt x="2291" y="272"/>
                  </a:lnTo>
                  <a:lnTo>
                    <a:pt x="2272" y="280"/>
                  </a:lnTo>
                  <a:lnTo>
                    <a:pt x="2251" y="283"/>
                  </a:lnTo>
                  <a:lnTo>
                    <a:pt x="2212" y="291"/>
                  </a:lnTo>
                  <a:lnTo>
                    <a:pt x="2183" y="301"/>
                  </a:lnTo>
                  <a:lnTo>
                    <a:pt x="2170" y="314"/>
                  </a:lnTo>
                  <a:lnTo>
                    <a:pt x="2168" y="320"/>
                  </a:lnTo>
                  <a:lnTo>
                    <a:pt x="2168" y="326"/>
                  </a:lnTo>
                  <a:lnTo>
                    <a:pt x="2164" y="332"/>
                  </a:lnTo>
                  <a:lnTo>
                    <a:pt x="2147" y="343"/>
                  </a:lnTo>
                  <a:lnTo>
                    <a:pt x="2112" y="355"/>
                  </a:lnTo>
                  <a:lnTo>
                    <a:pt x="1949" y="403"/>
                  </a:lnTo>
                  <a:lnTo>
                    <a:pt x="1941" y="407"/>
                  </a:lnTo>
                  <a:lnTo>
                    <a:pt x="1933" y="416"/>
                  </a:lnTo>
                  <a:lnTo>
                    <a:pt x="1918" y="437"/>
                  </a:lnTo>
                  <a:lnTo>
                    <a:pt x="1901" y="459"/>
                  </a:lnTo>
                  <a:lnTo>
                    <a:pt x="1893" y="472"/>
                  </a:lnTo>
                  <a:lnTo>
                    <a:pt x="1882" y="476"/>
                  </a:lnTo>
                  <a:lnTo>
                    <a:pt x="1868" y="480"/>
                  </a:lnTo>
                  <a:lnTo>
                    <a:pt x="1845" y="482"/>
                  </a:lnTo>
                  <a:lnTo>
                    <a:pt x="1803" y="493"/>
                  </a:lnTo>
                  <a:lnTo>
                    <a:pt x="1739" y="524"/>
                  </a:lnTo>
                  <a:lnTo>
                    <a:pt x="1714" y="653"/>
                  </a:lnTo>
                  <a:lnTo>
                    <a:pt x="1687" y="776"/>
                  </a:lnTo>
                  <a:lnTo>
                    <a:pt x="1657" y="896"/>
                  </a:lnTo>
                  <a:lnTo>
                    <a:pt x="1626" y="1013"/>
                  </a:lnTo>
                  <a:lnTo>
                    <a:pt x="1559" y="1233"/>
                  </a:lnTo>
                  <a:lnTo>
                    <a:pt x="1489" y="1428"/>
                  </a:lnTo>
                  <a:lnTo>
                    <a:pt x="1453" y="1520"/>
                  </a:lnTo>
                  <a:lnTo>
                    <a:pt x="1418" y="1605"/>
                  </a:lnTo>
                  <a:lnTo>
                    <a:pt x="1346" y="1757"/>
                  </a:lnTo>
                  <a:lnTo>
                    <a:pt x="1310" y="1822"/>
                  </a:lnTo>
                  <a:lnTo>
                    <a:pt x="1277" y="1880"/>
                  </a:lnTo>
                  <a:lnTo>
                    <a:pt x="1244" y="1932"/>
                  </a:lnTo>
                  <a:lnTo>
                    <a:pt x="1212" y="1976"/>
                  </a:lnTo>
                  <a:lnTo>
                    <a:pt x="1125" y="2084"/>
                  </a:lnTo>
                  <a:lnTo>
                    <a:pt x="1085" y="2132"/>
                  </a:lnTo>
                  <a:lnTo>
                    <a:pt x="1044" y="2173"/>
                  </a:lnTo>
                  <a:lnTo>
                    <a:pt x="1006" y="2213"/>
                  </a:lnTo>
                  <a:lnTo>
                    <a:pt x="969" y="2246"/>
                  </a:lnTo>
                  <a:lnTo>
                    <a:pt x="933" y="2277"/>
                  </a:lnTo>
                  <a:lnTo>
                    <a:pt x="896" y="2306"/>
                  </a:lnTo>
                  <a:lnTo>
                    <a:pt x="862" y="2331"/>
                  </a:lnTo>
                  <a:lnTo>
                    <a:pt x="829" y="2350"/>
                  </a:lnTo>
                  <a:lnTo>
                    <a:pt x="762" y="2381"/>
                  </a:lnTo>
                  <a:lnTo>
                    <a:pt x="698" y="2402"/>
                  </a:lnTo>
                  <a:lnTo>
                    <a:pt x="633" y="2411"/>
                  </a:lnTo>
                  <a:lnTo>
                    <a:pt x="585" y="2413"/>
                  </a:lnTo>
                  <a:lnTo>
                    <a:pt x="535" y="2406"/>
                  </a:lnTo>
                  <a:lnTo>
                    <a:pt x="487" y="2396"/>
                  </a:lnTo>
                  <a:lnTo>
                    <a:pt x="437" y="2383"/>
                  </a:lnTo>
                  <a:lnTo>
                    <a:pt x="391" y="2367"/>
                  </a:lnTo>
                  <a:lnTo>
                    <a:pt x="343" y="2346"/>
                  </a:lnTo>
                  <a:lnTo>
                    <a:pt x="256" y="2302"/>
                  </a:lnTo>
                  <a:lnTo>
                    <a:pt x="181" y="2259"/>
                  </a:lnTo>
                  <a:lnTo>
                    <a:pt x="120" y="2217"/>
                  </a:lnTo>
                  <a:lnTo>
                    <a:pt x="81" y="2186"/>
                  </a:lnTo>
                  <a:lnTo>
                    <a:pt x="64" y="2171"/>
                  </a:lnTo>
                  <a:lnTo>
                    <a:pt x="33" y="2127"/>
                  </a:lnTo>
                  <a:lnTo>
                    <a:pt x="12" y="2092"/>
                  </a:lnTo>
                  <a:lnTo>
                    <a:pt x="2" y="2065"/>
                  </a:lnTo>
                  <a:lnTo>
                    <a:pt x="0" y="2044"/>
                  </a:lnTo>
                  <a:lnTo>
                    <a:pt x="0" y="2032"/>
                  </a:lnTo>
                  <a:lnTo>
                    <a:pt x="4" y="2023"/>
                  </a:lnTo>
                  <a:lnTo>
                    <a:pt x="16" y="2015"/>
                  </a:lnTo>
                  <a:lnTo>
                    <a:pt x="31" y="2015"/>
                  </a:lnTo>
                  <a:lnTo>
                    <a:pt x="39" y="2019"/>
                  </a:lnTo>
                  <a:lnTo>
                    <a:pt x="47" y="2026"/>
                  </a:lnTo>
                  <a:lnTo>
                    <a:pt x="72" y="2053"/>
                  </a:lnTo>
                  <a:lnTo>
                    <a:pt x="120" y="2096"/>
                  </a:lnTo>
                  <a:lnTo>
                    <a:pt x="177" y="2140"/>
                  </a:lnTo>
                  <a:lnTo>
                    <a:pt x="233" y="2173"/>
                  </a:lnTo>
                  <a:lnTo>
                    <a:pt x="289" y="2198"/>
                  </a:lnTo>
                  <a:lnTo>
                    <a:pt x="341" y="2215"/>
                  </a:lnTo>
                  <a:lnTo>
                    <a:pt x="393" y="2225"/>
                  </a:lnTo>
                  <a:lnTo>
                    <a:pt x="446" y="2227"/>
                  </a:lnTo>
                  <a:lnTo>
                    <a:pt x="493" y="2221"/>
                  </a:lnTo>
                  <a:lnTo>
                    <a:pt x="541" y="2211"/>
                  </a:lnTo>
                  <a:lnTo>
                    <a:pt x="589" y="2194"/>
                  </a:lnTo>
                  <a:lnTo>
                    <a:pt x="633" y="2169"/>
                  </a:lnTo>
                  <a:lnTo>
                    <a:pt x="679" y="2140"/>
                  </a:lnTo>
                  <a:lnTo>
                    <a:pt x="723" y="2105"/>
                  </a:lnTo>
                  <a:lnTo>
                    <a:pt x="766" y="2065"/>
                  </a:lnTo>
                  <a:lnTo>
                    <a:pt x="806" y="2019"/>
                  </a:lnTo>
                  <a:lnTo>
                    <a:pt x="848" y="1971"/>
                  </a:lnTo>
                  <a:lnTo>
                    <a:pt x="887" y="1919"/>
                  </a:lnTo>
                  <a:lnTo>
                    <a:pt x="944" y="1834"/>
                  </a:lnTo>
                  <a:lnTo>
                    <a:pt x="998" y="1740"/>
                  </a:lnTo>
                  <a:lnTo>
                    <a:pt x="1052" y="1636"/>
                  </a:lnTo>
                  <a:lnTo>
                    <a:pt x="1102" y="1524"/>
                  </a:lnTo>
                  <a:lnTo>
                    <a:pt x="1150" y="1403"/>
                  </a:lnTo>
                  <a:lnTo>
                    <a:pt x="1198" y="1268"/>
                  </a:lnTo>
                  <a:lnTo>
                    <a:pt x="1244" y="1123"/>
                  </a:lnTo>
                  <a:lnTo>
                    <a:pt x="1285" y="965"/>
                  </a:lnTo>
                  <a:lnTo>
                    <a:pt x="1374" y="595"/>
                  </a:lnTo>
                  <a:lnTo>
                    <a:pt x="1372" y="568"/>
                  </a:lnTo>
                  <a:lnTo>
                    <a:pt x="796" y="634"/>
                  </a:lnTo>
                  <a:lnTo>
                    <a:pt x="719" y="641"/>
                  </a:lnTo>
                  <a:lnTo>
                    <a:pt x="704" y="638"/>
                  </a:lnTo>
                  <a:lnTo>
                    <a:pt x="677" y="580"/>
                  </a:lnTo>
                  <a:lnTo>
                    <a:pt x="621" y="584"/>
                  </a:lnTo>
                  <a:lnTo>
                    <a:pt x="612" y="580"/>
                  </a:lnTo>
                  <a:lnTo>
                    <a:pt x="606" y="568"/>
                  </a:lnTo>
                  <a:lnTo>
                    <a:pt x="608" y="555"/>
                  </a:lnTo>
                  <a:lnTo>
                    <a:pt x="610" y="549"/>
                  </a:lnTo>
                  <a:lnTo>
                    <a:pt x="623" y="547"/>
                  </a:lnTo>
                  <a:lnTo>
                    <a:pt x="641" y="541"/>
                  </a:lnTo>
                  <a:lnTo>
                    <a:pt x="654" y="534"/>
                  </a:lnTo>
                  <a:lnTo>
                    <a:pt x="664" y="520"/>
                  </a:lnTo>
                  <a:lnTo>
                    <a:pt x="666" y="509"/>
                  </a:lnTo>
                  <a:lnTo>
                    <a:pt x="660" y="499"/>
                  </a:lnTo>
                  <a:lnTo>
                    <a:pt x="633" y="482"/>
                  </a:lnTo>
                  <a:lnTo>
                    <a:pt x="602" y="464"/>
                  </a:lnTo>
                  <a:lnTo>
                    <a:pt x="591" y="455"/>
                  </a:lnTo>
                  <a:lnTo>
                    <a:pt x="585" y="445"/>
                  </a:lnTo>
                  <a:lnTo>
                    <a:pt x="583" y="422"/>
                  </a:lnTo>
                  <a:lnTo>
                    <a:pt x="587" y="405"/>
                  </a:lnTo>
                  <a:lnTo>
                    <a:pt x="596" y="397"/>
                  </a:lnTo>
                  <a:lnTo>
                    <a:pt x="608" y="393"/>
                  </a:lnTo>
                  <a:lnTo>
                    <a:pt x="641" y="391"/>
                  </a:lnTo>
                  <a:lnTo>
                    <a:pt x="664" y="391"/>
                  </a:lnTo>
                  <a:lnTo>
                    <a:pt x="685" y="385"/>
                  </a:lnTo>
                  <a:lnTo>
                    <a:pt x="685" y="368"/>
                  </a:lnTo>
                  <a:lnTo>
                    <a:pt x="654" y="366"/>
                  </a:lnTo>
                  <a:lnTo>
                    <a:pt x="633" y="360"/>
                  </a:lnTo>
                  <a:lnTo>
                    <a:pt x="629" y="353"/>
                  </a:lnTo>
                  <a:lnTo>
                    <a:pt x="627" y="343"/>
                  </a:lnTo>
                  <a:lnTo>
                    <a:pt x="633" y="301"/>
                  </a:lnTo>
                  <a:lnTo>
                    <a:pt x="635" y="297"/>
                  </a:lnTo>
                  <a:lnTo>
                    <a:pt x="641" y="293"/>
                  </a:lnTo>
                  <a:lnTo>
                    <a:pt x="664" y="289"/>
                  </a:lnTo>
                  <a:lnTo>
                    <a:pt x="781" y="289"/>
                  </a:lnTo>
                  <a:lnTo>
                    <a:pt x="889" y="283"/>
                  </a:lnTo>
                  <a:lnTo>
                    <a:pt x="1039" y="270"/>
                  </a:lnTo>
                  <a:lnTo>
                    <a:pt x="1237" y="245"/>
                  </a:lnTo>
                  <a:lnTo>
                    <a:pt x="1493" y="206"/>
                  </a:lnTo>
                  <a:lnTo>
                    <a:pt x="2295" y="49"/>
                  </a:lnTo>
                  <a:lnTo>
                    <a:pt x="2539" y="8"/>
                  </a:lnTo>
                  <a:lnTo>
                    <a:pt x="2612" y="0"/>
                  </a:lnTo>
                  <a:lnTo>
                    <a:pt x="2658" y="0"/>
                  </a:lnTo>
                  <a:lnTo>
                    <a:pt x="2687" y="6"/>
                  </a:lnTo>
                  <a:lnTo>
                    <a:pt x="2699" y="16"/>
                  </a:lnTo>
                  <a:lnTo>
                    <a:pt x="2704" y="31"/>
                  </a:lnTo>
                  <a:lnTo>
                    <a:pt x="2704" y="4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99120" y="5564160"/>
              <a:ext cx="849600" cy="790920"/>
            </a:xfrm>
            <a:custGeom>
              <a:avLst/>
              <a:gdLst/>
              <a:ahLst/>
              <a:rect l="0" t="0" r="r" b="b"/>
              <a:pathLst>
                <a:path w="2360" h="2197">
                  <a:moveTo>
                    <a:pt x="706" y="145"/>
                  </a:moveTo>
                  <a:lnTo>
                    <a:pt x="739" y="162"/>
                  </a:lnTo>
                  <a:lnTo>
                    <a:pt x="762" y="176"/>
                  </a:lnTo>
                  <a:lnTo>
                    <a:pt x="769" y="185"/>
                  </a:lnTo>
                  <a:lnTo>
                    <a:pt x="773" y="195"/>
                  </a:lnTo>
                  <a:lnTo>
                    <a:pt x="773" y="220"/>
                  </a:lnTo>
                  <a:lnTo>
                    <a:pt x="758" y="255"/>
                  </a:lnTo>
                  <a:lnTo>
                    <a:pt x="729" y="305"/>
                  </a:lnTo>
                  <a:lnTo>
                    <a:pt x="635" y="459"/>
                  </a:lnTo>
                  <a:lnTo>
                    <a:pt x="614" y="480"/>
                  </a:lnTo>
                  <a:lnTo>
                    <a:pt x="591" y="580"/>
                  </a:lnTo>
                  <a:lnTo>
                    <a:pt x="581" y="607"/>
                  </a:lnTo>
                  <a:lnTo>
                    <a:pt x="568" y="625"/>
                  </a:lnTo>
                  <a:lnTo>
                    <a:pt x="535" y="673"/>
                  </a:lnTo>
                  <a:lnTo>
                    <a:pt x="506" y="717"/>
                  </a:lnTo>
                  <a:lnTo>
                    <a:pt x="468" y="781"/>
                  </a:lnTo>
                  <a:lnTo>
                    <a:pt x="420" y="917"/>
                  </a:lnTo>
                  <a:lnTo>
                    <a:pt x="406" y="935"/>
                  </a:lnTo>
                  <a:lnTo>
                    <a:pt x="373" y="983"/>
                  </a:lnTo>
                  <a:lnTo>
                    <a:pt x="350" y="1021"/>
                  </a:lnTo>
                  <a:lnTo>
                    <a:pt x="323" y="1068"/>
                  </a:lnTo>
                  <a:lnTo>
                    <a:pt x="266" y="1203"/>
                  </a:lnTo>
                  <a:lnTo>
                    <a:pt x="233" y="1302"/>
                  </a:lnTo>
                  <a:lnTo>
                    <a:pt x="208" y="1381"/>
                  </a:lnTo>
                  <a:lnTo>
                    <a:pt x="195" y="1442"/>
                  </a:lnTo>
                  <a:lnTo>
                    <a:pt x="191" y="1483"/>
                  </a:lnTo>
                  <a:lnTo>
                    <a:pt x="200" y="1510"/>
                  </a:lnTo>
                  <a:lnTo>
                    <a:pt x="206" y="1519"/>
                  </a:lnTo>
                  <a:lnTo>
                    <a:pt x="214" y="1521"/>
                  </a:lnTo>
                  <a:lnTo>
                    <a:pt x="222" y="1523"/>
                  </a:lnTo>
                  <a:lnTo>
                    <a:pt x="235" y="1521"/>
                  </a:lnTo>
                  <a:lnTo>
                    <a:pt x="264" y="1506"/>
                  </a:lnTo>
                  <a:lnTo>
                    <a:pt x="298" y="1485"/>
                  </a:lnTo>
                  <a:lnTo>
                    <a:pt x="337" y="1456"/>
                  </a:lnTo>
                  <a:lnTo>
                    <a:pt x="423" y="1379"/>
                  </a:lnTo>
                  <a:lnTo>
                    <a:pt x="614" y="1203"/>
                  </a:lnTo>
                  <a:lnTo>
                    <a:pt x="646" y="1173"/>
                  </a:lnTo>
                  <a:lnTo>
                    <a:pt x="664" y="1153"/>
                  </a:lnTo>
                  <a:lnTo>
                    <a:pt x="685" y="1126"/>
                  </a:lnTo>
                  <a:lnTo>
                    <a:pt x="704" y="1093"/>
                  </a:lnTo>
                  <a:lnTo>
                    <a:pt x="725" y="1056"/>
                  </a:lnTo>
                  <a:lnTo>
                    <a:pt x="744" y="1010"/>
                  </a:lnTo>
                  <a:lnTo>
                    <a:pt x="758" y="956"/>
                  </a:lnTo>
                  <a:lnTo>
                    <a:pt x="787" y="838"/>
                  </a:lnTo>
                  <a:lnTo>
                    <a:pt x="798" y="786"/>
                  </a:lnTo>
                  <a:lnTo>
                    <a:pt x="806" y="771"/>
                  </a:lnTo>
                  <a:lnTo>
                    <a:pt x="825" y="750"/>
                  </a:lnTo>
                  <a:lnTo>
                    <a:pt x="833" y="746"/>
                  </a:lnTo>
                  <a:lnTo>
                    <a:pt x="831" y="702"/>
                  </a:lnTo>
                  <a:lnTo>
                    <a:pt x="831" y="669"/>
                  </a:lnTo>
                  <a:lnTo>
                    <a:pt x="837" y="642"/>
                  </a:lnTo>
                  <a:lnTo>
                    <a:pt x="846" y="623"/>
                  </a:lnTo>
                  <a:lnTo>
                    <a:pt x="856" y="613"/>
                  </a:lnTo>
                  <a:lnTo>
                    <a:pt x="864" y="605"/>
                  </a:lnTo>
                  <a:lnTo>
                    <a:pt x="881" y="598"/>
                  </a:lnTo>
                  <a:lnTo>
                    <a:pt x="902" y="582"/>
                  </a:lnTo>
                  <a:lnTo>
                    <a:pt x="887" y="546"/>
                  </a:lnTo>
                  <a:lnTo>
                    <a:pt x="885" y="534"/>
                  </a:lnTo>
                  <a:lnTo>
                    <a:pt x="885" y="519"/>
                  </a:lnTo>
                  <a:lnTo>
                    <a:pt x="908" y="476"/>
                  </a:lnTo>
                  <a:lnTo>
                    <a:pt x="964" y="388"/>
                  </a:lnTo>
                  <a:lnTo>
                    <a:pt x="998" y="338"/>
                  </a:lnTo>
                  <a:lnTo>
                    <a:pt x="1025" y="291"/>
                  </a:lnTo>
                  <a:lnTo>
                    <a:pt x="1069" y="214"/>
                  </a:lnTo>
                  <a:lnTo>
                    <a:pt x="1094" y="187"/>
                  </a:lnTo>
                  <a:lnTo>
                    <a:pt x="1119" y="172"/>
                  </a:lnTo>
                  <a:lnTo>
                    <a:pt x="1150" y="168"/>
                  </a:lnTo>
                  <a:lnTo>
                    <a:pt x="1169" y="170"/>
                  </a:lnTo>
                  <a:lnTo>
                    <a:pt x="1188" y="176"/>
                  </a:lnTo>
                  <a:lnTo>
                    <a:pt x="1197" y="189"/>
                  </a:lnTo>
                  <a:lnTo>
                    <a:pt x="1268" y="180"/>
                  </a:lnTo>
                  <a:lnTo>
                    <a:pt x="1293" y="185"/>
                  </a:lnTo>
                  <a:lnTo>
                    <a:pt x="1311" y="197"/>
                  </a:lnTo>
                  <a:lnTo>
                    <a:pt x="1324" y="232"/>
                  </a:lnTo>
                  <a:lnTo>
                    <a:pt x="1326" y="255"/>
                  </a:lnTo>
                  <a:lnTo>
                    <a:pt x="1326" y="274"/>
                  </a:lnTo>
                  <a:lnTo>
                    <a:pt x="1322" y="284"/>
                  </a:lnTo>
                  <a:lnTo>
                    <a:pt x="1316" y="301"/>
                  </a:lnTo>
                  <a:lnTo>
                    <a:pt x="1316" y="307"/>
                  </a:lnTo>
                  <a:lnTo>
                    <a:pt x="1322" y="311"/>
                  </a:lnTo>
                  <a:lnTo>
                    <a:pt x="1332" y="318"/>
                  </a:lnTo>
                  <a:lnTo>
                    <a:pt x="1347" y="322"/>
                  </a:lnTo>
                  <a:lnTo>
                    <a:pt x="1361" y="330"/>
                  </a:lnTo>
                  <a:lnTo>
                    <a:pt x="1366" y="338"/>
                  </a:lnTo>
                  <a:lnTo>
                    <a:pt x="1370" y="349"/>
                  </a:lnTo>
                  <a:lnTo>
                    <a:pt x="1370" y="366"/>
                  </a:lnTo>
                  <a:lnTo>
                    <a:pt x="1366" y="382"/>
                  </a:lnTo>
                  <a:lnTo>
                    <a:pt x="1349" y="428"/>
                  </a:lnTo>
                  <a:lnTo>
                    <a:pt x="1282" y="559"/>
                  </a:lnTo>
                  <a:lnTo>
                    <a:pt x="1177" y="763"/>
                  </a:lnTo>
                  <a:lnTo>
                    <a:pt x="1117" y="898"/>
                  </a:lnTo>
                  <a:lnTo>
                    <a:pt x="1052" y="1056"/>
                  </a:lnTo>
                  <a:lnTo>
                    <a:pt x="992" y="1223"/>
                  </a:lnTo>
                  <a:lnTo>
                    <a:pt x="948" y="1348"/>
                  </a:lnTo>
                  <a:lnTo>
                    <a:pt x="923" y="1433"/>
                  </a:lnTo>
                  <a:lnTo>
                    <a:pt x="912" y="1494"/>
                  </a:lnTo>
                  <a:lnTo>
                    <a:pt x="917" y="1531"/>
                  </a:lnTo>
                  <a:lnTo>
                    <a:pt x="923" y="1544"/>
                  </a:lnTo>
                  <a:lnTo>
                    <a:pt x="931" y="1554"/>
                  </a:lnTo>
                  <a:lnTo>
                    <a:pt x="956" y="1569"/>
                  </a:lnTo>
                  <a:lnTo>
                    <a:pt x="987" y="1585"/>
                  </a:lnTo>
                  <a:lnTo>
                    <a:pt x="1085" y="1446"/>
                  </a:lnTo>
                  <a:lnTo>
                    <a:pt x="1135" y="1381"/>
                  </a:lnTo>
                  <a:lnTo>
                    <a:pt x="1162" y="1346"/>
                  </a:lnTo>
                  <a:lnTo>
                    <a:pt x="1188" y="1296"/>
                  </a:lnTo>
                  <a:lnTo>
                    <a:pt x="1079" y="1327"/>
                  </a:lnTo>
                  <a:lnTo>
                    <a:pt x="1085" y="1296"/>
                  </a:lnTo>
                  <a:lnTo>
                    <a:pt x="1092" y="1288"/>
                  </a:lnTo>
                  <a:lnTo>
                    <a:pt x="1100" y="1279"/>
                  </a:lnTo>
                  <a:lnTo>
                    <a:pt x="1114" y="1254"/>
                  </a:lnTo>
                  <a:lnTo>
                    <a:pt x="1108" y="1240"/>
                  </a:lnTo>
                  <a:lnTo>
                    <a:pt x="1100" y="1223"/>
                  </a:lnTo>
                  <a:lnTo>
                    <a:pt x="1096" y="1209"/>
                  </a:lnTo>
                  <a:lnTo>
                    <a:pt x="1098" y="1203"/>
                  </a:lnTo>
                  <a:lnTo>
                    <a:pt x="1100" y="1196"/>
                  </a:lnTo>
                  <a:lnTo>
                    <a:pt x="1299" y="1068"/>
                  </a:lnTo>
                  <a:lnTo>
                    <a:pt x="1349" y="1035"/>
                  </a:lnTo>
                  <a:lnTo>
                    <a:pt x="1378" y="1010"/>
                  </a:lnTo>
                  <a:lnTo>
                    <a:pt x="1389" y="998"/>
                  </a:lnTo>
                  <a:lnTo>
                    <a:pt x="1397" y="985"/>
                  </a:lnTo>
                  <a:lnTo>
                    <a:pt x="1414" y="952"/>
                  </a:lnTo>
                  <a:lnTo>
                    <a:pt x="1441" y="902"/>
                  </a:lnTo>
                  <a:lnTo>
                    <a:pt x="1482" y="825"/>
                  </a:lnTo>
                  <a:lnTo>
                    <a:pt x="1561" y="738"/>
                  </a:lnTo>
                  <a:lnTo>
                    <a:pt x="1584" y="725"/>
                  </a:lnTo>
                  <a:lnTo>
                    <a:pt x="1589" y="694"/>
                  </a:lnTo>
                  <a:lnTo>
                    <a:pt x="1603" y="682"/>
                  </a:lnTo>
                  <a:lnTo>
                    <a:pt x="1641" y="646"/>
                  </a:lnTo>
                  <a:lnTo>
                    <a:pt x="1672" y="611"/>
                  </a:lnTo>
                  <a:lnTo>
                    <a:pt x="1716" y="555"/>
                  </a:lnTo>
                  <a:lnTo>
                    <a:pt x="1841" y="395"/>
                  </a:lnTo>
                  <a:lnTo>
                    <a:pt x="1895" y="338"/>
                  </a:lnTo>
                  <a:lnTo>
                    <a:pt x="1928" y="314"/>
                  </a:lnTo>
                  <a:lnTo>
                    <a:pt x="1957" y="293"/>
                  </a:lnTo>
                  <a:lnTo>
                    <a:pt x="2001" y="253"/>
                  </a:lnTo>
                  <a:lnTo>
                    <a:pt x="2016" y="237"/>
                  </a:lnTo>
                  <a:lnTo>
                    <a:pt x="2028" y="218"/>
                  </a:lnTo>
                  <a:lnTo>
                    <a:pt x="2041" y="180"/>
                  </a:lnTo>
                  <a:lnTo>
                    <a:pt x="2049" y="116"/>
                  </a:lnTo>
                  <a:lnTo>
                    <a:pt x="2055" y="91"/>
                  </a:lnTo>
                  <a:lnTo>
                    <a:pt x="2060" y="83"/>
                  </a:lnTo>
                  <a:lnTo>
                    <a:pt x="2070" y="76"/>
                  </a:lnTo>
                  <a:lnTo>
                    <a:pt x="2099" y="74"/>
                  </a:lnTo>
                  <a:lnTo>
                    <a:pt x="2149" y="85"/>
                  </a:lnTo>
                  <a:lnTo>
                    <a:pt x="2170" y="101"/>
                  </a:lnTo>
                  <a:lnTo>
                    <a:pt x="2170" y="126"/>
                  </a:lnTo>
                  <a:lnTo>
                    <a:pt x="2174" y="131"/>
                  </a:lnTo>
                  <a:lnTo>
                    <a:pt x="2180" y="133"/>
                  </a:lnTo>
                  <a:lnTo>
                    <a:pt x="2224" y="135"/>
                  </a:lnTo>
                  <a:lnTo>
                    <a:pt x="2324" y="149"/>
                  </a:lnTo>
                  <a:lnTo>
                    <a:pt x="2341" y="153"/>
                  </a:lnTo>
                  <a:lnTo>
                    <a:pt x="2351" y="162"/>
                  </a:lnTo>
                  <a:lnTo>
                    <a:pt x="2358" y="172"/>
                  </a:lnTo>
                  <a:lnTo>
                    <a:pt x="2360" y="187"/>
                  </a:lnTo>
                  <a:lnTo>
                    <a:pt x="2358" y="234"/>
                  </a:lnTo>
                  <a:lnTo>
                    <a:pt x="2343" y="309"/>
                  </a:lnTo>
                  <a:lnTo>
                    <a:pt x="2322" y="420"/>
                  </a:lnTo>
                  <a:lnTo>
                    <a:pt x="2299" y="569"/>
                  </a:lnTo>
                  <a:lnTo>
                    <a:pt x="2274" y="767"/>
                  </a:lnTo>
                  <a:lnTo>
                    <a:pt x="2255" y="1016"/>
                  </a:lnTo>
                  <a:lnTo>
                    <a:pt x="2222" y="1502"/>
                  </a:lnTo>
                  <a:lnTo>
                    <a:pt x="2185" y="1872"/>
                  </a:lnTo>
                  <a:lnTo>
                    <a:pt x="2178" y="1957"/>
                  </a:lnTo>
                  <a:lnTo>
                    <a:pt x="2174" y="2034"/>
                  </a:lnTo>
                  <a:lnTo>
                    <a:pt x="2170" y="2061"/>
                  </a:lnTo>
                  <a:lnTo>
                    <a:pt x="2164" y="2080"/>
                  </a:lnTo>
                  <a:lnTo>
                    <a:pt x="2160" y="2084"/>
                  </a:lnTo>
                  <a:lnTo>
                    <a:pt x="2153" y="2086"/>
                  </a:lnTo>
                  <a:lnTo>
                    <a:pt x="2137" y="2078"/>
                  </a:lnTo>
                  <a:lnTo>
                    <a:pt x="2137" y="2066"/>
                  </a:lnTo>
                  <a:lnTo>
                    <a:pt x="2128" y="2059"/>
                  </a:lnTo>
                  <a:lnTo>
                    <a:pt x="2122" y="1982"/>
                  </a:lnTo>
                  <a:lnTo>
                    <a:pt x="2089" y="1968"/>
                  </a:lnTo>
                  <a:lnTo>
                    <a:pt x="2074" y="1953"/>
                  </a:lnTo>
                  <a:lnTo>
                    <a:pt x="2070" y="1945"/>
                  </a:lnTo>
                  <a:lnTo>
                    <a:pt x="2070" y="1932"/>
                  </a:lnTo>
                  <a:lnTo>
                    <a:pt x="2080" y="1926"/>
                  </a:lnTo>
                  <a:lnTo>
                    <a:pt x="2089" y="1916"/>
                  </a:lnTo>
                  <a:lnTo>
                    <a:pt x="2097" y="1895"/>
                  </a:lnTo>
                  <a:lnTo>
                    <a:pt x="2099" y="1872"/>
                  </a:lnTo>
                  <a:lnTo>
                    <a:pt x="2097" y="1855"/>
                  </a:lnTo>
                  <a:lnTo>
                    <a:pt x="2074" y="1843"/>
                  </a:lnTo>
                  <a:lnTo>
                    <a:pt x="2064" y="1808"/>
                  </a:lnTo>
                  <a:lnTo>
                    <a:pt x="2062" y="1799"/>
                  </a:lnTo>
                  <a:lnTo>
                    <a:pt x="2072" y="1797"/>
                  </a:lnTo>
                  <a:lnTo>
                    <a:pt x="2080" y="1793"/>
                  </a:lnTo>
                  <a:lnTo>
                    <a:pt x="2091" y="1781"/>
                  </a:lnTo>
                  <a:lnTo>
                    <a:pt x="2093" y="1768"/>
                  </a:lnTo>
                  <a:lnTo>
                    <a:pt x="2091" y="1764"/>
                  </a:lnTo>
                  <a:lnTo>
                    <a:pt x="2053" y="1764"/>
                  </a:lnTo>
                  <a:lnTo>
                    <a:pt x="2030" y="1631"/>
                  </a:lnTo>
                  <a:lnTo>
                    <a:pt x="2018" y="1554"/>
                  </a:lnTo>
                  <a:lnTo>
                    <a:pt x="2014" y="1539"/>
                  </a:lnTo>
                  <a:lnTo>
                    <a:pt x="2010" y="1537"/>
                  </a:lnTo>
                  <a:lnTo>
                    <a:pt x="1987" y="1581"/>
                  </a:lnTo>
                  <a:lnTo>
                    <a:pt x="1970" y="1435"/>
                  </a:lnTo>
                  <a:lnTo>
                    <a:pt x="1970" y="1388"/>
                  </a:lnTo>
                  <a:lnTo>
                    <a:pt x="1978" y="1377"/>
                  </a:lnTo>
                  <a:lnTo>
                    <a:pt x="1980" y="1369"/>
                  </a:lnTo>
                  <a:lnTo>
                    <a:pt x="1982" y="1350"/>
                  </a:lnTo>
                  <a:lnTo>
                    <a:pt x="1970" y="1279"/>
                  </a:lnTo>
                  <a:lnTo>
                    <a:pt x="1964" y="1267"/>
                  </a:lnTo>
                  <a:lnTo>
                    <a:pt x="1960" y="1244"/>
                  </a:lnTo>
                  <a:lnTo>
                    <a:pt x="1960" y="1186"/>
                  </a:lnTo>
                  <a:lnTo>
                    <a:pt x="1970" y="1064"/>
                  </a:lnTo>
                  <a:lnTo>
                    <a:pt x="1976" y="1012"/>
                  </a:lnTo>
                  <a:lnTo>
                    <a:pt x="1974" y="960"/>
                  </a:lnTo>
                  <a:lnTo>
                    <a:pt x="1891" y="985"/>
                  </a:lnTo>
                  <a:lnTo>
                    <a:pt x="1828" y="1008"/>
                  </a:lnTo>
                  <a:lnTo>
                    <a:pt x="1784" y="1029"/>
                  </a:lnTo>
                  <a:lnTo>
                    <a:pt x="1755" y="1048"/>
                  </a:lnTo>
                  <a:lnTo>
                    <a:pt x="1714" y="1083"/>
                  </a:lnTo>
                  <a:lnTo>
                    <a:pt x="1695" y="1101"/>
                  </a:lnTo>
                  <a:lnTo>
                    <a:pt x="1668" y="1115"/>
                  </a:lnTo>
                  <a:lnTo>
                    <a:pt x="1612" y="1134"/>
                  </a:lnTo>
                  <a:lnTo>
                    <a:pt x="1578" y="1140"/>
                  </a:lnTo>
                  <a:lnTo>
                    <a:pt x="1559" y="1138"/>
                  </a:lnTo>
                  <a:lnTo>
                    <a:pt x="1541" y="1144"/>
                  </a:lnTo>
                  <a:lnTo>
                    <a:pt x="1534" y="1171"/>
                  </a:lnTo>
                  <a:lnTo>
                    <a:pt x="1501" y="1192"/>
                  </a:lnTo>
                  <a:lnTo>
                    <a:pt x="1493" y="1203"/>
                  </a:lnTo>
                  <a:lnTo>
                    <a:pt x="1482" y="1223"/>
                  </a:lnTo>
                  <a:lnTo>
                    <a:pt x="1459" y="1269"/>
                  </a:lnTo>
                  <a:lnTo>
                    <a:pt x="1420" y="1348"/>
                  </a:lnTo>
                  <a:lnTo>
                    <a:pt x="1355" y="1469"/>
                  </a:lnTo>
                  <a:lnTo>
                    <a:pt x="1255" y="1641"/>
                  </a:lnTo>
                  <a:lnTo>
                    <a:pt x="1154" y="1820"/>
                  </a:lnTo>
                  <a:lnTo>
                    <a:pt x="1144" y="1837"/>
                  </a:lnTo>
                  <a:lnTo>
                    <a:pt x="1137" y="1843"/>
                  </a:lnTo>
                  <a:lnTo>
                    <a:pt x="1129" y="1845"/>
                  </a:lnTo>
                  <a:lnTo>
                    <a:pt x="1119" y="1843"/>
                  </a:lnTo>
                  <a:lnTo>
                    <a:pt x="1106" y="1837"/>
                  </a:lnTo>
                  <a:lnTo>
                    <a:pt x="1100" y="1833"/>
                  </a:lnTo>
                  <a:lnTo>
                    <a:pt x="1098" y="1835"/>
                  </a:lnTo>
                  <a:lnTo>
                    <a:pt x="1092" y="1843"/>
                  </a:lnTo>
                  <a:lnTo>
                    <a:pt x="1062" y="1901"/>
                  </a:lnTo>
                  <a:lnTo>
                    <a:pt x="1033" y="1955"/>
                  </a:lnTo>
                  <a:lnTo>
                    <a:pt x="987" y="2034"/>
                  </a:lnTo>
                  <a:lnTo>
                    <a:pt x="960" y="2068"/>
                  </a:lnTo>
                  <a:lnTo>
                    <a:pt x="948" y="2080"/>
                  </a:lnTo>
                  <a:lnTo>
                    <a:pt x="933" y="2090"/>
                  </a:lnTo>
                  <a:lnTo>
                    <a:pt x="914" y="2101"/>
                  </a:lnTo>
                  <a:lnTo>
                    <a:pt x="902" y="2099"/>
                  </a:lnTo>
                  <a:lnTo>
                    <a:pt x="887" y="2076"/>
                  </a:lnTo>
                  <a:lnTo>
                    <a:pt x="885" y="2076"/>
                  </a:lnTo>
                  <a:lnTo>
                    <a:pt x="879" y="2082"/>
                  </a:lnTo>
                  <a:lnTo>
                    <a:pt x="869" y="2103"/>
                  </a:lnTo>
                  <a:lnTo>
                    <a:pt x="856" y="2120"/>
                  </a:lnTo>
                  <a:lnTo>
                    <a:pt x="841" y="2134"/>
                  </a:lnTo>
                  <a:lnTo>
                    <a:pt x="821" y="2130"/>
                  </a:lnTo>
                  <a:lnTo>
                    <a:pt x="819" y="2101"/>
                  </a:lnTo>
                  <a:lnTo>
                    <a:pt x="814" y="2088"/>
                  </a:lnTo>
                  <a:lnTo>
                    <a:pt x="808" y="2093"/>
                  </a:lnTo>
                  <a:lnTo>
                    <a:pt x="798" y="2109"/>
                  </a:lnTo>
                  <a:lnTo>
                    <a:pt x="769" y="2157"/>
                  </a:lnTo>
                  <a:lnTo>
                    <a:pt x="748" y="2180"/>
                  </a:lnTo>
                  <a:lnTo>
                    <a:pt x="723" y="2197"/>
                  </a:lnTo>
                  <a:lnTo>
                    <a:pt x="694" y="2197"/>
                  </a:lnTo>
                  <a:lnTo>
                    <a:pt x="698" y="2130"/>
                  </a:lnTo>
                  <a:lnTo>
                    <a:pt x="658" y="2126"/>
                  </a:lnTo>
                  <a:lnTo>
                    <a:pt x="668" y="2101"/>
                  </a:lnTo>
                  <a:lnTo>
                    <a:pt x="679" y="2074"/>
                  </a:lnTo>
                  <a:lnTo>
                    <a:pt x="714" y="2022"/>
                  </a:lnTo>
                  <a:lnTo>
                    <a:pt x="752" y="1970"/>
                  </a:lnTo>
                  <a:lnTo>
                    <a:pt x="785" y="1920"/>
                  </a:lnTo>
                  <a:lnTo>
                    <a:pt x="831" y="1833"/>
                  </a:lnTo>
                  <a:lnTo>
                    <a:pt x="852" y="1779"/>
                  </a:lnTo>
                  <a:lnTo>
                    <a:pt x="856" y="1762"/>
                  </a:lnTo>
                  <a:lnTo>
                    <a:pt x="856" y="1752"/>
                  </a:lnTo>
                  <a:lnTo>
                    <a:pt x="852" y="1745"/>
                  </a:lnTo>
                  <a:lnTo>
                    <a:pt x="844" y="1743"/>
                  </a:lnTo>
                  <a:lnTo>
                    <a:pt x="816" y="1747"/>
                  </a:lnTo>
                  <a:lnTo>
                    <a:pt x="783" y="1760"/>
                  </a:lnTo>
                  <a:lnTo>
                    <a:pt x="744" y="1772"/>
                  </a:lnTo>
                  <a:lnTo>
                    <a:pt x="702" y="1776"/>
                  </a:lnTo>
                  <a:lnTo>
                    <a:pt x="664" y="1772"/>
                  </a:lnTo>
                  <a:lnTo>
                    <a:pt x="635" y="1760"/>
                  </a:lnTo>
                  <a:lnTo>
                    <a:pt x="612" y="1739"/>
                  </a:lnTo>
                  <a:lnTo>
                    <a:pt x="596" y="1716"/>
                  </a:lnTo>
                  <a:lnTo>
                    <a:pt x="596" y="1672"/>
                  </a:lnTo>
                  <a:lnTo>
                    <a:pt x="593" y="1664"/>
                  </a:lnTo>
                  <a:lnTo>
                    <a:pt x="589" y="1658"/>
                  </a:lnTo>
                  <a:lnTo>
                    <a:pt x="579" y="1641"/>
                  </a:lnTo>
                  <a:lnTo>
                    <a:pt x="575" y="1606"/>
                  </a:lnTo>
                  <a:lnTo>
                    <a:pt x="579" y="1533"/>
                  </a:lnTo>
                  <a:lnTo>
                    <a:pt x="598" y="1448"/>
                  </a:lnTo>
                  <a:lnTo>
                    <a:pt x="616" y="1394"/>
                  </a:lnTo>
                  <a:lnTo>
                    <a:pt x="631" y="1367"/>
                  </a:lnTo>
                  <a:lnTo>
                    <a:pt x="631" y="1361"/>
                  </a:lnTo>
                  <a:lnTo>
                    <a:pt x="627" y="1363"/>
                  </a:lnTo>
                  <a:lnTo>
                    <a:pt x="593" y="1392"/>
                  </a:lnTo>
                  <a:lnTo>
                    <a:pt x="552" y="1435"/>
                  </a:lnTo>
                  <a:lnTo>
                    <a:pt x="454" y="1544"/>
                  </a:lnTo>
                  <a:lnTo>
                    <a:pt x="398" y="1598"/>
                  </a:lnTo>
                  <a:lnTo>
                    <a:pt x="341" y="1643"/>
                  </a:lnTo>
                  <a:lnTo>
                    <a:pt x="310" y="1662"/>
                  </a:lnTo>
                  <a:lnTo>
                    <a:pt x="281" y="1675"/>
                  </a:lnTo>
                  <a:lnTo>
                    <a:pt x="250" y="1687"/>
                  </a:lnTo>
                  <a:lnTo>
                    <a:pt x="218" y="1689"/>
                  </a:lnTo>
                  <a:lnTo>
                    <a:pt x="166" y="1689"/>
                  </a:lnTo>
                  <a:lnTo>
                    <a:pt x="143" y="1683"/>
                  </a:lnTo>
                  <a:lnTo>
                    <a:pt x="120" y="1677"/>
                  </a:lnTo>
                  <a:lnTo>
                    <a:pt x="102" y="1668"/>
                  </a:lnTo>
                  <a:lnTo>
                    <a:pt x="83" y="1658"/>
                  </a:lnTo>
                  <a:lnTo>
                    <a:pt x="68" y="1645"/>
                  </a:lnTo>
                  <a:lnTo>
                    <a:pt x="56" y="1631"/>
                  </a:lnTo>
                  <a:lnTo>
                    <a:pt x="33" y="1600"/>
                  </a:lnTo>
                  <a:lnTo>
                    <a:pt x="16" y="1562"/>
                  </a:lnTo>
                  <a:lnTo>
                    <a:pt x="8" y="1523"/>
                  </a:lnTo>
                  <a:lnTo>
                    <a:pt x="2" y="1479"/>
                  </a:lnTo>
                  <a:lnTo>
                    <a:pt x="0" y="1435"/>
                  </a:lnTo>
                  <a:lnTo>
                    <a:pt x="2" y="1390"/>
                  </a:lnTo>
                  <a:lnTo>
                    <a:pt x="12" y="1304"/>
                  </a:lnTo>
                  <a:lnTo>
                    <a:pt x="29" y="1230"/>
                  </a:lnTo>
                  <a:lnTo>
                    <a:pt x="43" y="1175"/>
                  </a:lnTo>
                  <a:lnTo>
                    <a:pt x="72" y="1075"/>
                  </a:lnTo>
                  <a:lnTo>
                    <a:pt x="87" y="1016"/>
                  </a:lnTo>
                  <a:lnTo>
                    <a:pt x="110" y="944"/>
                  </a:lnTo>
                  <a:lnTo>
                    <a:pt x="143" y="850"/>
                  </a:lnTo>
                  <a:lnTo>
                    <a:pt x="189" y="727"/>
                  </a:lnTo>
                  <a:lnTo>
                    <a:pt x="341" y="372"/>
                  </a:lnTo>
                  <a:lnTo>
                    <a:pt x="377" y="301"/>
                  </a:lnTo>
                  <a:lnTo>
                    <a:pt x="402" y="257"/>
                  </a:lnTo>
                  <a:lnTo>
                    <a:pt x="431" y="193"/>
                  </a:lnTo>
                  <a:lnTo>
                    <a:pt x="460" y="133"/>
                  </a:lnTo>
                  <a:lnTo>
                    <a:pt x="487" y="89"/>
                  </a:lnTo>
                  <a:lnTo>
                    <a:pt x="510" y="64"/>
                  </a:lnTo>
                  <a:lnTo>
                    <a:pt x="533" y="45"/>
                  </a:lnTo>
                  <a:lnTo>
                    <a:pt x="550" y="35"/>
                  </a:lnTo>
                  <a:lnTo>
                    <a:pt x="566" y="31"/>
                  </a:lnTo>
                  <a:lnTo>
                    <a:pt x="591" y="31"/>
                  </a:lnTo>
                  <a:lnTo>
                    <a:pt x="606" y="33"/>
                  </a:lnTo>
                  <a:lnTo>
                    <a:pt x="616" y="24"/>
                  </a:lnTo>
                  <a:lnTo>
                    <a:pt x="627" y="10"/>
                  </a:lnTo>
                  <a:lnTo>
                    <a:pt x="641" y="0"/>
                  </a:lnTo>
                  <a:lnTo>
                    <a:pt x="662" y="2"/>
                  </a:lnTo>
                  <a:lnTo>
                    <a:pt x="673" y="8"/>
                  </a:lnTo>
                  <a:lnTo>
                    <a:pt x="679" y="16"/>
                  </a:lnTo>
                  <a:lnTo>
                    <a:pt x="683" y="33"/>
                  </a:lnTo>
                  <a:lnTo>
                    <a:pt x="687" y="72"/>
                  </a:lnTo>
                  <a:lnTo>
                    <a:pt x="698" y="83"/>
                  </a:lnTo>
                  <a:lnTo>
                    <a:pt x="708" y="93"/>
                  </a:lnTo>
                  <a:lnTo>
                    <a:pt x="712" y="112"/>
                  </a:lnTo>
                  <a:lnTo>
                    <a:pt x="706" y="14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826400" y="5580000"/>
              <a:ext cx="981360" cy="908280"/>
            </a:xfrm>
            <a:custGeom>
              <a:avLst/>
              <a:gdLst/>
              <a:ahLst/>
              <a:rect l="0" t="0" r="r" b="b"/>
              <a:pathLst>
                <a:path w="2726" h="2523">
                  <a:moveTo>
                    <a:pt x="2599" y="2235"/>
                  </a:moveTo>
                  <a:lnTo>
                    <a:pt x="2582" y="2246"/>
                  </a:lnTo>
                  <a:lnTo>
                    <a:pt x="2567" y="2252"/>
                  </a:lnTo>
                  <a:lnTo>
                    <a:pt x="2555" y="2250"/>
                  </a:lnTo>
                  <a:lnTo>
                    <a:pt x="2540" y="2244"/>
                  </a:lnTo>
                  <a:lnTo>
                    <a:pt x="2503" y="2208"/>
                  </a:lnTo>
                  <a:lnTo>
                    <a:pt x="2432" y="2148"/>
                  </a:lnTo>
                  <a:lnTo>
                    <a:pt x="2038" y="1831"/>
                  </a:lnTo>
                  <a:lnTo>
                    <a:pt x="1929" y="1748"/>
                  </a:lnTo>
                  <a:lnTo>
                    <a:pt x="1823" y="1671"/>
                  </a:lnTo>
                  <a:lnTo>
                    <a:pt x="1771" y="1633"/>
                  </a:lnTo>
                  <a:lnTo>
                    <a:pt x="1731" y="1598"/>
                  </a:lnTo>
                  <a:lnTo>
                    <a:pt x="1698" y="1567"/>
                  </a:lnTo>
                  <a:lnTo>
                    <a:pt x="1673" y="1540"/>
                  </a:lnTo>
                  <a:lnTo>
                    <a:pt x="1635" y="1494"/>
                  </a:lnTo>
                  <a:lnTo>
                    <a:pt x="1623" y="1479"/>
                  </a:lnTo>
                  <a:lnTo>
                    <a:pt x="1608" y="1465"/>
                  </a:lnTo>
                  <a:lnTo>
                    <a:pt x="1554" y="1444"/>
                  </a:lnTo>
                  <a:lnTo>
                    <a:pt x="1402" y="1269"/>
                  </a:lnTo>
                  <a:lnTo>
                    <a:pt x="1361" y="1224"/>
                  </a:lnTo>
                  <a:lnTo>
                    <a:pt x="1340" y="1203"/>
                  </a:lnTo>
                  <a:lnTo>
                    <a:pt x="1324" y="1193"/>
                  </a:lnTo>
                  <a:lnTo>
                    <a:pt x="1303" y="1208"/>
                  </a:lnTo>
                  <a:lnTo>
                    <a:pt x="1082" y="1047"/>
                  </a:lnTo>
                  <a:lnTo>
                    <a:pt x="1009" y="999"/>
                  </a:lnTo>
                  <a:lnTo>
                    <a:pt x="1011" y="1001"/>
                  </a:lnTo>
                  <a:lnTo>
                    <a:pt x="1025" y="1016"/>
                  </a:lnTo>
                  <a:lnTo>
                    <a:pt x="1067" y="1058"/>
                  </a:lnTo>
                  <a:lnTo>
                    <a:pt x="1084" y="1081"/>
                  </a:lnTo>
                  <a:lnTo>
                    <a:pt x="1086" y="1089"/>
                  </a:lnTo>
                  <a:lnTo>
                    <a:pt x="1084" y="1091"/>
                  </a:lnTo>
                  <a:lnTo>
                    <a:pt x="1088" y="1097"/>
                  </a:lnTo>
                  <a:lnTo>
                    <a:pt x="1144" y="1153"/>
                  </a:lnTo>
                  <a:lnTo>
                    <a:pt x="1330" y="1321"/>
                  </a:lnTo>
                  <a:lnTo>
                    <a:pt x="1420" y="1398"/>
                  </a:lnTo>
                  <a:lnTo>
                    <a:pt x="1460" y="1429"/>
                  </a:lnTo>
                  <a:lnTo>
                    <a:pt x="1468" y="1438"/>
                  </a:lnTo>
                  <a:lnTo>
                    <a:pt x="1458" y="1444"/>
                  </a:lnTo>
                  <a:lnTo>
                    <a:pt x="1450" y="1448"/>
                  </a:lnTo>
                  <a:lnTo>
                    <a:pt x="1441" y="1450"/>
                  </a:lnTo>
                  <a:lnTo>
                    <a:pt x="1439" y="1448"/>
                  </a:lnTo>
                  <a:lnTo>
                    <a:pt x="1464" y="1463"/>
                  </a:lnTo>
                  <a:lnTo>
                    <a:pt x="1531" y="1513"/>
                  </a:lnTo>
                  <a:lnTo>
                    <a:pt x="1898" y="1811"/>
                  </a:lnTo>
                  <a:lnTo>
                    <a:pt x="1967" y="1871"/>
                  </a:lnTo>
                  <a:lnTo>
                    <a:pt x="1996" y="1898"/>
                  </a:lnTo>
                  <a:lnTo>
                    <a:pt x="2031" y="1938"/>
                  </a:lnTo>
                  <a:lnTo>
                    <a:pt x="2090" y="1990"/>
                  </a:lnTo>
                  <a:lnTo>
                    <a:pt x="2209" y="2094"/>
                  </a:lnTo>
                  <a:lnTo>
                    <a:pt x="2563" y="2408"/>
                  </a:lnTo>
                  <a:lnTo>
                    <a:pt x="2726" y="2512"/>
                  </a:lnTo>
                  <a:lnTo>
                    <a:pt x="2724" y="2521"/>
                  </a:lnTo>
                  <a:lnTo>
                    <a:pt x="2719" y="2523"/>
                  </a:lnTo>
                  <a:lnTo>
                    <a:pt x="2703" y="2523"/>
                  </a:lnTo>
                  <a:lnTo>
                    <a:pt x="2678" y="2512"/>
                  </a:lnTo>
                  <a:lnTo>
                    <a:pt x="2644" y="2494"/>
                  </a:lnTo>
                  <a:lnTo>
                    <a:pt x="2603" y="2469"/>
                  </a:lnTo>
                  <a:lnTo>
                    <a:pt x="2557" y="2435"/>
                  </a:lnTo>
                  <a:lnTo>
                    <a:pt x="2448" y="2356"/>
                  </a:lnTo>
                  <a:lnTo>
                    <a:pt x="2223" y="2181"/>
                  </a:lnTo>
                  <a:lnTo>
                    <a:pt x="2121" y="2104"/>
                  </a:lnTo>
                  <a:lnTo>
                    <a:pt x="2042" y="2046"/>
                  </a:lnTo>
                  <a:lnTo>
                    <a:pt x="1913" y="1954"/>
                  </a:lnTo>
                  <a:lnTo>
                    <a:pt x="1825" y="1883"/>
                  </a:lnTo>
                  <a:lnTo>
                    <a:pt x="1760" y="1823"/>
                  </a:lnTo>
                  <a:lnTo>
                    <a:pt x="1708" y="1767"/>
                  </a:lnTo>
                  <a:lnTo>
                    <a:pt x="1652" y="1708"/>
                  </a:lnTo>
                  <a:lnTo>
                    <a:pt x="1577" y="1638"/>
                  </a:lnTo>
                  <a:lnTo>
                    <a:pt x="1529" y="1596"/>
                  </a:lnTo>
                  <a:lnTo>
                    <a:pt x="1468" y="1550"/>
                  </a:lnTo>
                  <a:lnTo>
                    <a:pt x="1311" y="1436"/>
                  </a:lnTo>
                  <a:lnTo>
                    <a:pt x="1259" y="1417"/>
                  </a:lnTo>
                  <a:lnTo>
                    <a:pt x="1180" y="1325"/>
                  </a:lnTo>
                  <a:lnTo>
                    <a:pt x="1171" y="1286"/>
                  </a:lnTo>
                  <a:lnTo>
                    <a:pt x="1134" y="1258"/>
                  </a:lnTo>
                  <a:lnTo>
                    <a:pt x="1100" y="1230"/>
                  </a:lnTo>
                  <a:lnTo>
                    <a:pt x="1050" y="1180"/>
                  </a:lnTo>
                  <a:lnTo>
                    <a:pt x="1009" y="1143"/>
                  </a:lnTo>
                  <a:lnTo>
                    <a:pt x="988" y="1128"/>
                  </a:lnTo>
                  <a:lnTo>
                    <a:pt x="969" y="1120"/>
                  </a:lnTo>
                  <a:lnTo>
                    <a:pt x="917" y="1114"/>
                  </a:lnTo>
                  <a:lnTo>
                    <a:pt x="884" y="1074"/>
                  </a:lnTo>
                  <a:lnTo>
                    <a:pt x="859" y="1049"/>
                  </a:lnTo>
                  <a:lnTo>
                    <a:pt x="821" y="1028"/>
                  </a:lnTo>
                  <a:lnTo>
                    <a:pt x="813" y="1024"/>
                  </a:lnTo>
                  <a:lnTo>
                    <a:pt x="813" y="1018"/>
                  </a:lnTo>
                  <a:lnTo>
                    <a:pt x="838" y="985"/>
                  </a:lnTo>
                  <a:lnTo>
                    <a:pt x="846" y="974"/>
                  </a:lnTo>
                  <a:lnTo>
                    <a:pt x="852" y="964"/>
                  </a:lnTo>
                  <a:lnTo>
                    <a:pt x="856" y="949"/>
                  </a:lnTo>
                  <a:lnTo>
                    <a:pt x="861" y="945"/>
                  </a:lnTo>
                  <a:lnTo>
                    <a:pt x="867" y="941"/>
                  </a:lnTo>
                  <a:lnTo>
                    <a:pt x="892" y="941"/>
                  </a:lnTo>
                  <a:lnTo>
                    <a:pt x="917" y="953"/>
                  </a:lnTo>
                  <a:lnTo>
                    <a:pt x="948" y="949"/>
                  </a:lnTo>
                  <a:lnTo>
                    <a:pt x="971" y="941"/>
                  </a:lnTo>
                  <a:lnTo>
                    <a:pt x="982" y="935"/>
                  </a:lnTo>
                  <a:lnTo>
                    <a:pt x="988" y="926"/>
                  </a:lnTo>
                  <a:lnTo>
                    <a:pt x="986" y="916"/>
                  </a:lnTo>
                  <a:lnTo>
                    <a:pt x="979" y="906"/>
                  </a:lnTo>
                  <a:lnTo>
                    <a:pt x="954" y="885"/>
                  </a:lnTo>
                  <a:lnTo>
                    <a:pt x="927" y="858"/>
                  </a:lnTo>
                  <a:lnTo>
                    <a:pt x="907" y="831"/>
                  </a:lnTo>
                  <a:lnTo>
                    <a:pt x="900" y="818"/>
                  </a:lnTo>
                  <a:lnTo>
                    <a:pt x="900" y="803"/>
                  </a:lnTo>
                  <a:lnTo>
                    <a:pt x="907" y="789"/>
                  </a:lnTo>
                  <a:lnTo>
                    <a:pt x="921" y="774"/>
                  </a:lnTo>
                  <a:lnTo>
                    <a:pt x="936" y="770"/>
                  </a:lnTo>
                  <a:lnTo>
                    <a:pt x="950" y="774"/>
                  </a:lnTo>
                  <a:lnTo>
                    <a:pt x="967" y="785"/>
                  </a:lnTo>
                  <a:lnTo>
                    <a:pt x="982" y="799"/>
                  </a:lnTo>
                  <a:lnTo>
                    <a:pt x="1017" y="833"/>
                  </a:lnTo>
                  <a:lnTo>
                    <a:pt x="1030" y="847"/>
                  </a:lnTo>
                  <a:lnTo>
                    <a:pt x="1044" y="853"/>
                  </a:lnTo>
                  <a:lnTo>
                    <a:pt x="1100" y="845"/>
                  </a:lnTo>
                  <a:lnTo>
                    <a:pt x="1132" y="858"/>
                  </a:lnTo>
                  <a:lnTo>
                    <a:pt x="1265" y="683"/>
                  </a:lnTo>
                  <a:lnTo>
                    <a:pt x="1307" y="622"/>
                  </a:lnTo>
                  <a:lnTo>
                    <a:pt x="1330" y="574"/>
                  </a:lnTo>
                  <a:lnTo>
                    <a:pt x="1336" y="556"/>
                  </a:lnTo>
                  <a:lnTo>
                    <a:pt x="1336" y="537"/>
                  </a:lnTo>
                  <a:lnTo>
                    <a:pt x="1334" y="522"/>
                  </a:lnTo>
                  <a:lnTo>
                    <a:pt x="1328" y="506"/>
                  </a:lnTo>
                  <a:lnTo>
                    <a:pt x="1315" y="493"/>
                  </a:lnTo>
                  <a:lnTo>
                    <a:pt x="1303" y="479"/>
                  </a:lnTo>
                  <a:lnTo>
                    <a:pt x="1259" y="451"/>
                  </a:lnTo>
                  <a:lnTo>
                    <a:pt x="1228" y="437"/>
                  </a:lnTo>
                  <a:lnTo>
                    <a:pt x="1196" y="426"/>
                  </a:lnTo>
                  <a:lnTo>
                    <a:pt x="1134" y="414"/>
                  </a:lnTo>
                  <a:lnTo>
                    <a:pt x="1071" y="412"/>
                  </a:lnTo>
                  <a:lnTo>
                    <a:pt x="1013" y="418"/>
                  </a:lnTo>
                  <a:lnTo>
                    <a:pt x="963" y="429"/>
                  </a:lnTo>
                  <a:lnTo>
                    <a:pt x="923" y="439"/>
                  </a:lnTo>
                  <a:lnTo>
                    <a:pt x="898" y="449"/>
                  </a:lnTo>
                  <a:lnTo>
                    <a:pt x="886" y="456"/>
                  </a:lnTo>
                  <a:lnTo>
                    <a:pt x="859" y="526"/>
                  </a:lnTo>
                  <a:lnTo>
                    <a:pt x="838" y="579"/>
                  </a:lnTo>
                  <a:lnTo>
                    <a:pt x="829" y="595"/>
                  </a:lnTo>
                  <a:lnTo>
                    <a:pt x="821" y="604"/>
                  </a:lnTo>
                  <a:lnTo>
                    <a:pt x="813" y="604"/>
                  </a:lnTo>
                  <a:lnTo>
                    <a:pt x="802" y="595"/>
                  </a:lnTo>
                  <a:lnTo>
                    <a:pt x="802" y="572"/>
                  </a:lnTo>
                  <a:lnTo>
                    <a:pt x="794" y="574"/>
                  </a:lnTo>
                  <a:lnTo>
                    <a:pt x="786" y="581"/>
                  </a:lnTo>
                  <a:lnTo>
                    <a:pt x="769" y="604"/>
                  </a:lnTo>
                  <a:lnTo>
                    <a:pt x="742" y="674"/>
                  </a:lnTo>
                  <a:lnTo>
                    <a:pt x="719" y="754"/>
                  </a:lnTo>
                  <a:lnTo>
                    <a:pt x="706" y="789"/>
                  </a:lnTo>
                  <a:lnTo>
                    <a:pt x="694" y="814"/>
                  </a:lnTo>
                  <a:lnTo>
                    <a:pt x="677" y="810"/>
                  </a:lnTo>
                  <a:lnTo>
                    <a:pt x="669" y="816"/>
                  </a:lnTo>
                  <a:lnTo>
                    <a:pt x="658" y="835"/>
                  </a:lnTo>
                  <a:lnTo>
                    <a:pt x="602" y="1035"/>
                  </a:lnTo>
                  <a:lnTo>
                    <a:pt x="558" y="1212"/>
                  </a:lnTo>
                  <a:lnTo>
                    <a:pt x="496" y="1500"/>
                  </a:lnTo>
                  <a:lnTo>
                    <a:pt x="475" y="1608"/>
                  </a:lnTo>
                  <a:lnTo>
                    <a:pt x="454" y="1690"/>
                  </a:lnTo>
                  <a:lnTo>
                    <a:pt x="444" y="1723"/>
                  </a:lnTo>
                  <a:lnTo>
                    <a:pt x="433" y="1746"/>
                  </a:lnTo>
                  <a:lnTo>
                    <a:pt x="421" y="1765"/>
                  </a:lnTo>
                  <a:lnTo>
                    <a:pt x="408" y="1775"/>
                  </a:lnTo>
                  <a:lnTo>
                    <a:pt x="391" y="1767"/>
                  </a:lnTo>
                  <a:lnTo>
                    <a:pt x="391" y="1675"/>
                  </a:lnTo>
                  <a:lnTo>
                    <a:pt x="193" y="2110"/>
                  </a:lnTo>
                  <a:lnTo>
                    <a:pt x="185" y="2017"/>
                  </a:lnTo>
                  <a:lnTo>
                    <a:pt x="150" y="2021"/>
                  </a:lnTo>
                  <a:lnTo>
                    <a:pt x="100" y="2171"/>
                  </a:lnTo>
                  <a:lnTo>
                    <a:pt x="87" y="2200"/>
                  </a:lnTo>
                  <a:lnTo>
                    <a:pt x="83" y="2206"/>
                  </a:lnTo>
                  <a:lnTo>
                    <a:pt x="79" y="2206"/>
                  </a:lnTo>
                  <a:lnTo>
                    <a:pt x="77" y="2185"/>
                  </a:lnTo>
                  <a:lnTo>
                    <a:pt x="75" y="2156"/>
                  </a:lnTo>
                  <a:lnTo>
                    <a:pt x="70" y="2158"/>
                  </a:lnTo>
                  <a:lnTo>
                    <a:pt x="62" y="2171"/>
                  </a:lnTo>
                  <a:lnTo>
                    <a:pt x="50" y="2188"/>
                  </a:lnTo>
                  <a:lnTo>
                    <a:pt x="37" y="2200"/>
                  </a:lnTo>
                  <a:lnTo>
                    <a:pt x="22" y="2200"/>
                  </a:lnTo>
                  <a:lnTo>
                    <a:pt x="16" y="2192"/>
                  </a:lnTo>
                  <a:lnTo>
                    <a:pt x="12" y="2177"/>
                  </a:lnTo>
                  <a:lnTo>
                    <a:pt x="4" y="2127"/>
                  </a:lnTo>
                  <a:lnTo>
                    <a:pt x="0" y="2038"/>
                  </a:lnTo>
                  <a:lnTo>
                    <a:pt x="4" y="2013"/>
                  </a:lnTo>
                  <a:lnTo>
                    <a:pt x="14" y="1979"/>
                  </a:lnTo>
                  <a:lnTo>
                    <a:pt x="45" y="1913"/>
                  </a:lnTo>
                  <a:lnTo>
                    <a:pt x="77" y="1854"/>
                  </a:lnTo>
                  <a:lnTo>
                    <a:pt x="93" y="1827"/>
                  </a:lnTo>
                  <a:lnTo>
                    <a:pt x="110" y="1819"/>
                  </a:lnTo>
                  <a:lnTo>
                    <a:pt x="110" y="1731"/>
                  </a:lnTo>
                  <a:lnTo>
                    <a:pt x="112" y="1727"/>
                  </a:lnTo>
                  <a:lnTo>
                    <a:pt x="118" y="1723"/>
                  </a:lnTo>
                  <a:lnTo>
                    <a:pt x="129" y="1719"/>
                  </a:lnTo>
                  <a:lnTo>
                    <a:pt x="141" y="1711"/>
                  </a:lnTo>
                  <a:lnTo>
                    <a:pt x="118" y="1679"/>
                  </a:lnTo>
                  <a:lnTo>
                    <a:pt x="183" y="1511"/>
                  </a:lnTo>
                  <a:lnTo>
                    <a:pt x="198" y="1469"/>
                  </a:lnTo>
                  <a:lnTo>
                    <a:pt x="198" y="1471"/>
                  </a:lnTo>
                  <a:lnTo>
                    <a:pt x="204" y="1475"/>
                  </a:lnTo>
                  <a:lnTo>
                    <a:pt x="214" y="1467"/>
                  </a:lnTo>
                  <a:lnTo>
                    <a:pt x="227" y="1456"/>
                  </a:lnTo>
                  <a:lnTo>
                    <a:pt x="241" y="1440"/>
                  </a:lnTo>
                  <a:lnTo>
                    <a:pt x="252" y="1423"/>
                  </a:lnTo>
                  <a:lnTo>
                    <a:pt x="254" y="1415"/>
                  </a:lnTo>
                  <a:lnTo>
                    <a:pt x="252" y="1411"/>
                  </a:lnTo>
                  <a:lnTo>
                    <a:pt x="246" y="1404"/>
                  </a:lnTo>
                  <a:lnTo>
                    <a:pt x="239" y="1392"/>
                  </a:lnTo>
                  <a:lnTo>
                    <a:pt x="237" y="1375"/>
                  </a:lnTo>
                  <a:lnTo>
                    <a:pt x="243" y="1346"/>
                  </a:lnTo>
                  <a:lnTo>
                    <a:pt x="254" y="1300"/>
                  </a:lnTo>
                  <a:lnTo>
                    <a:pt x="379" y="928"/>
                  </a:lnTo>
                  <a:lnTo>
                    <a:pt x="439" y="760"/>
                  </a:lnTo>
                  <a:lnTo>
                    <a:pt x="471" y="685"/>
                  </a:lnTo>
                  <a:lnTo>
                    <a:pt x="506" y="587"/>
                  </a:lnTo>
                  <a:lnTo>
                    <a:pt x="448" y="612"/>
                  </a:lnTo>
                  <a:lnTo>
                    <a:pt x="379" y="643"/>
                  </a:lnTo>
                  <a:lnTo>
                    <a:pt x="344" y="654"/>
                  </a:lnTo>
                  <a:lnTo>
                    <a:pt x="312" y="662"/>
                  </a:lnTo>
                  <a:lnTo>
                    <a:pt x="300" y="662"/>
                  </a:lnTo>
                  <a:lnTo>
                    <a:pt x="287" y="658"/>
                  </a:lnTo>
                  <a:lnTo>
                    <a:pt x="277" y="654"/>
                  </a:lnTo>
                  <a:lnTo>
                    <a:pt x="268" y="643"/>
                  </a:lnTo>
                  <a:lnTo>
                    <a:pt x="260" y="608"/>
                  </a:lnTo>
                  <a:lnTo>
                    <a:pt x="158" y="599"/>
                  </a:lnTo>
                  <a:lnTo>
                    <a:pt x="150" y="562"/>
                  </a:lnTo>
                  <a:lnTo>
                    <a:pt x="135" y="545"/>
                  </a:lnTo>
                  <a:lnTo>
                    <a:pt x="118" y="539"/>
                  </a:lnTo>
                  <a:lnTo>
                    <a:pt x="102" y="539"/>
                  </a:lnTo>
                  <a:lnTo>
                    <a:pt x="87" y="539"/>
                  </a:lnTo>
                  <a:lnTo>
                    <a:pt x="81" y="537"/>
                  </a:lnTo>
                  <a:lnTo>
                    <a:pt x="77" y="531"/>
                  </a:lnTo>
                  <a:lnTo>
                    <a:pt x="70" y="512"/>
                  </a:lnTo>
                  <a:lnTo>
                    <a:pt x="70" y="472"/>
                  </a:lnTo>
                  <a:lnTo>
                    <a:pt x="77" y="429"/>
                  </a:lnTo>
                  <a:lnTo>
                    <a:pt x="81" y="416"/>
                  </a:lnTo>
                  <a:lnTo>
                    <a:pt x="100" y="416"/>
                  </a:lnTo>
                  <a:lnTo>
                    <a:pt x="137" y="408"/>
                  </a:lnTo>
                  <a:lnTo>
                    <a:pt x="158" y="397"/>
                  </a:lnTo>
                  <a:lnTo>
                    <a:pt x="164" y="391"/>
                  </a:lnTo>
                  <a:lnTo>
                    <a:pt x="170" y="383"/>
                  </a:lnTo>
                  <a:lnTo>
                    <a:pt x="181" y="368"/>
                  </a:lnTo>
                  <a:lnTo>
                    <a:pt x="187" y="349"/>
                  </a:lnTo>
                  <a:lnTo>
                    <a:pt x="200" y="314"/>
                  </a:lnTo>
                  <a:lnTo>
                    <a:pt x="212" y="297"/>
                  </a:lnTo>
                  <a:lnTo>
                    <a:pt x="229" y="285"/>
                  </a:lnTo>
                  <a:lnTo>
                    <a:pt x="369" y="222"/>
                  </a:lnTo>
                  <a:lnTo>
                    <a:pt x="562" y="149"/>
                  </a:lnTo>
                  <a:lnTo>
                    <a:pt x="746" y="87"/>
                  </a:lnTo>
                  <a:lnTo>
                    <a:pt x="813" y="68"/>
                  </a:lnTo>
                  <a:lnTo>
                    <a:pt x="856" y="58"/>
                  </a:lnTo>
                  <a:lnTo>
                    <a:pt x="948" y="54"/>
                  </a:lnTo>
                  <a:lnTo>
                    <a:pt x="1005" y="49"/>
                  </a:lnTo>
                  <a:lnTo>
                    <a:pt x="1027" y="45"/>
                  </a:lnTo>
                  <a:lnTo>
                    <a:pt x="1044" y="39"/>
                  </a:lnTo>
                  <a:lnTo>
                    <a:pt x="1080" y="10"/>
                  </a:lnTo>
                  <a:lnTo>
                    <a:pt x="1142" y="4"/>
                  </a:lnTo>
                  <a:lnTo>
                    <a:pt x="1192" y="0"/>
                  </a:lnTo>
                  <a:lnTo>
                    <a:pt x="1251" y="0"/>
                  </a:lnTo>
                  <a:lnTo>
                    <a:pt x="1315" y="6"/>
                  </a:lnTo>
                  <a:lnTo>
                    <a:pt x="1387" y="20"/>
                  </a:lnTo>
                  <a:lnTo>
                    <a:pt x="1458" y="43"/>
                  </a:lnTo>
                  <a:lnTo>
                    <a:pt x="1493" y="60"/>
                  </a:lnTo>
                  <a:lnTo>
                    <a:pt x="1529" y="79"/>
                  </a:lnTo>
                  <a:lnTo>
                    <a:pt x="1596" y="129"/>
                  </a:lnTo>
                  <a:lnTo>
                    <a:pt x="1652" y="179"/>
                  </a:lnTo>
                  <a:lnTo>
                    <a:pt x="1698" y="233"/>
                  </a:lnTo>
                  <a:lnTo>
                    <a:pt x="1733" y="289"/>
                  </a:lnTo>
                  <a:lnTo>
                    <a:pt x="1758" y="347"/>
                  </a:lnTo>
                  <a:lnTo>
                    <a:pt x="1769" y="408"/>
                  </a:lnTo>
                  <a:lnTo>
                    <a:pt x="1771" y="439"/>
                  </a:lnTo>
                  <a:lnTo>
                    <a:pt x="1771" y="468"/>
                  </a:lnTo>
                  <a:lnTo>
                    <a:pt x="1769" y="499"/>
                  </a:lnTo>
                  <a:lnTo>
                    <a:pt x="1760" y="531"/>
                  </a:lnTo>
                  <a:lnTo>
                    <a:pt x="1742" y="593"/>
                  </a:lnTo>
                  <a:lnTo>
                    <a:pt x="1710" y="654"/>
                  </a:lnTo>
                  <a:lnTo>
                    <a:pt x="1671" y="716"/>
                  </a:lnTo>
                  <a:lnTo>
                    <a:pt x="1644" y="747"/>
                  </a:lnTo>
                  <a:lnTo>
                    <a:pt x="1616" y="776"/>
                  </a:lnTo>
                  <a:lnTo>
                    <a:pt x="1587" y="806"/>
                  </a:lnTo>
                  <a:lnTo>
                    <a:pt x="1554" y="837"/>
                  </a:lnTo>
                  <a:lnTo>
                    <a:pt x="1481" y="895"/>
                  </a:lnTo>
                  <a:lnTo>
                    <a:pt x="1439" y="924"/>
                  </a:lnTo>
                  <a:lnTo>
                    <a:pt x="1395" y="951"/>
                  </a:lnTo>
                  <a:lnTo>
                    <a:pt x="1299" y="1006"/>
                  </a:lnTo>
                  <a:lnTo>
                    <a:pt x="1425" y="1128"/>
                  </a:lnTo>
                  <a:lnTo>
                    <a:pt x="1443" y="1151"/>
                  </a:lnTo>
                  <a:lnTo>
                    <a:pt x="1458" y="1174"/>
                  </a:lnTo>
                  <a:lnTo>
                    <a:pt x="1568" y="1309"/>
                  </a:lnTo>
                  <a:lnTo>
                    <a:pt x="1612" y="1356"/>
                  </a:lnTo>
                  <a:lnTo>
                    <a:pt x="1646" y="1390"/>
                  </a:lnTo>
                  <a:lnTo>
                    <a:pt x="1673" y="1413"/>
                  </a:lnTo>
                  <a:lnTo>
                    <a:pt x="1694" y="1427"/>
                  </a:lnTo>
                  <a:lnTo>
                    <a:pt x="1729" y="1444"/>
                  </a:lnTo>
                  <a:lnTo>
                    <a:pt x="1746" y="1452"/>
                  </a:lnTo>
                  <a:lnTo>
                    <a:pt x="1764" y="1465"/>
                  </a:lnTo>
                  <a:lnTo>
                    <a:pt x="1865" y="1583"/>
                  </a:lnTo>
                  <a:lnTo>
                    <a:pt x="2038" y="1719"/>
                  </a:lnTo>
                  <a:lnTo>
                    <a:pt x="2146" y="1827"/>
                  </a:lnTo>
                  <a:lnTo>
                    <a:pt x="2225" y="1906"/>
                  </a:lnTo>
                  <a:lnTo>
                    <a:pt x="2292" y="1963"/>
                  </a:lnTo>
                  <a:lnTo>
                    <a:pt x="2446" y="2085"/>
                  </a:lnTo>
                  <a:lnTo>
                    <a:pt x="2534" y="2156"/>
                  </a:lnTo>
                  <a:lnTo>
                    <a:pt x="2559" y="2179"/>
                  </a:lnTo>
                  <a:lnTo>
                    <a:pt x="2578" y="2198"/>
                  </a:lnTo>
                  <a:lnTo>
                    <a:pt x="2590" y="2217"/>
                  </a:lnTo>
                  <a:lnTo>
                    <a:pt x="2599" y="223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76800" y="5589720"/>
              <a:ext cx="503640" cy="748080"/>
            </a:xfrm>
            <a:custGeom>
              <a:avLst/>
              <a:gdLst/>
              <a:ahLst/>
              <a:rect l="0" t="0" r="r" b="b"/>
              <a:pathLst>
                <a:path w="1399" h="2078">
                  <a:moveTo>
                    <a:pt x="1385" y="140"/>
                  </a:moveTo>
                  <a:lnTo>
                    <a:pt x="1393" y="161"/>
                  </a:lnTo>
                  <a:lnTo>
                    <a:pt x="1397" y="184"/>
                  </a:lnTo>
                  <a:lnTo>
                    <a:pt x="1399" y="236"/>
                  </a:lnTo>
                  <a:lnTo>
                    <a:pt x="1397" y="301"/>
                  </a:lnTo>
                  <a:lnTo>
                    <a:pt x="1391" y="374"/>
                  </a:lnTo>
                  <a:lnTo>
                    <a:pt x="1372" y="560"/>
                  </a:lnTo>
                  <a:lnTo>
                    <a:pt x="1355" y="798"/>
                  </a:lnTo>
                  <a:lnTo>
                    <a:pt x="1345" y="1286"/>
                  </a:lnTo>
                  <a:lnTo>
                    <a:pt x="1343" y="1601"/>
                  </a:lnTo>
                  <a:lnTo>
                    <a:pt x="1337" y="1687"/>
                  </a:lnTo>
                  <a:lnTo>
                    <a:pt x="1332" y="1712"/>
                  </a:lnTo>
                  <a:lnTo>
                    <a:pt x="1326" y="1718"/>
                  </a:lnTo>
                  <a:lnTo>
                    <a:pt x="1322" y="1723"/>
                  </a:lnTo>
                  <a:lnTo>
                    <a:pt x="1318" y="1723"/>
                  </a:lnTo>
                  <a:lnTo>
                    <a:pt x="1311" y="1720"/>
                  </a:lnTo>
                  <a:lnTo>
                    <a:pt x="1297" y="1704"/>
                  </a:lnTo>
                  <a:lnTo>
                    <a:pt x="1259" y="1633"/>
                  </a:lnTo>
                  <a:lnTo>
                    <a:pt x="1226" y="1817"/>
                  </a:lnTo>
                  <a:lnTo>
                    <a:pt x="1207" y="1804"/>
                  </a:lnTo>
                  <a:lnTo>
                    <a:pt x="1194" y="1794"/>
                  </a:lnTo>
                  <a:lnTo>
                    <a:pt x="1190" y="1779"/>
                  </a:lnTo>
                  <a:lnTo>
                    <a:pt x="1186" y="1764"/>
                  </a:lnTo>
                  <a:lnTo>
                    <a:pt x="1186" y="1731"/>
                  </a:lnTo>
                  <a:lnTo>
                    <a:pt x="1186" y="1689"/>
                  </a:lnTo>
                  <a:lnTo>
                    <a:pt x="1146" y="1618"/>
                  </a:lnTo>
                  <a:lnTo>
                    <a:pt x="1142" y="1643"/>
                  </a:lnTo>
                  <a:lnTo>
                    <a:pt x="1136" y="1660"/>
                  </a:lnTo>
                  <a:lnTo>
                    <a:pt x="1129" y="1668"/>
                  </a:lnTo>
                  <a:lnTo>
                    <a:pt x="1121" y="1674"/>
                  </a:lnTo>
                  <a:lnTo>
                    <a:pt x="1115" y="1672"/>
                  </a:lnTo>
                  <a:lnTo>
                    <a:pt x="1106" y="1666"/>
                  </a:lnTo>
                  <a:lnTo>
                    <a:pt x="1094" y="1645"/>
                  </a:lnTo>
                  <a:lnTo>
                    <a:pt x="1071" y="1582"/>
                  </a:lnTo>
                  <a:lnTo>
                    <a:pt x="1065" y="1554"/>
                  </a:lnTo>
                  <a:lnTo>
                    <a:pt x="1062" y="1531"/>
                  </a:lnTo>
                  <a:lnTo>
                    <a:pt x="1079" y="1510"/>
                  </a:lnTo>
                  <a:lnTo>
                    <a:pt x="1079" y="1458"/>
                  </a:lnTo>
                  <a:lnTo>
                    <a:pt x="1054" y="1391"/>
                  </a:lnTo>
                  <a:lnTo>
                    <a:pt x="1054" y="1024"/>
                  </a:lnTo>
                  <a:lnTo>
                    <a:pt x="1045" y="964"/>
                  </a:lnTo>
                  <a:lnTo>
                    <a:pt x="835" y="1041"/>
                  </a:lnTo>
                  <a:lnTo>
                    <a:pt x="714" y="1083"/>
                  </a:lnTo>
                  <a:lnTo>
                    <a:pt x="653" y="1106"/>
                  </a:lnTo>
                  <a:lnTo>
                    <a:pt x="639" y="1114"/>
                  </a:lnTo>
                  <a:lnTo>
                    <a:pt x="630" y="1123"/>
                  </a:lnTo>
                  <a:lnTo>
                    <a:pt x="349" y="1720"/>
                  </a:lnTo>
                  <a:lnTo>
                    <a:pt x="255" y="1942"/>
                  </a:lnTo>
                  <a:lnTo>
                    <a:pt x="238" y="1982"/>
                  </a:lnTo>
                  <a:lnTo>
                    <a:pt x="200" y="2032"/>
                  </a:lnTo>
                  <a:lnTo>
                    <a:pt x="219" y="1924"/>
                  </a:lnTo>
                  <a:lnTo>
                    <a:pt x="228" y="1838"/>
                  </a:lnTo>
                  <a:lnTo>
                    <a:pt x="232" y="1794"/>
                  </a:lnTo>
                  <a:lnTo>
                    <a:pt x="198" y="1838"/>
                  </a:lnTo>
                  <a:lnTo>
                    <a:pt x="113" y="2032"/>
                  </a:lnTo>
                  <a:lnTo>
                    <a:pt x="96" y="2026"/>
                  </a:lnTo>
                  <a:lnTo>
                    <a:pt x="89" y="2020"/>
                  </a:lnTo>
                  <a:lnTo>
                    <a:pt x="87" y="2011"/>
                  </a:lnTo>
                  <a:lnTo>
                    <a:pt x="89" y="2003"/>
                  </a:lnTo>
                  <a:lnTo>
                    <a:pt x="104" y="1982"/>
                  </a:lnTo>
                  <a:lnTo>
                    <a:pt x="113" y="1968"/>
                  </a:lnTo>
                  <a:lnTo>
                    <a:pt x="115" y="1951"/>
                  </a:lnTo>
                  <a:lnTo>
                    <a:pt x="110" y="1924"/>
                  </a:lnTo>
                  <a:lnTo>
                    <a:pt x="104" y="1917"/>
                  </a:lnTo>
                  <a:lnTo>
                    <a:pt x="98" y="1928"/>
                  </a:lnTo>
                  <a:lnTo>
                    <a:pt x="89" y="1949"/>
                  </a:lnTo>
                  <a:lnTo>
                    <a:pt x="77" y="1980"/>
                  </a:lnTo>
                  <a:lnTo>
                    <a:pt x="60" y="2014"/>
                  </a:lnTo>
                  <a:lnTo>
                    <a:pt x="37" y="2047"/>
                  </a:lnTo>
                  <a:lnTo>
                    <a:pt x="23" y="2064"/>
                  </a:lnTo>
                  <a:lnTo>
                    <a:pt x="6" y="2078"/>
                  </a:lnTo>
                  <a:lnTo>
                    <a:pt x="0" y="1959"/>
                  </a:lnTo>
                  <a:lnTo>
                    <a:pt x="0" y="1934"/>
                  </a:lnTo>
                  <a:lnTo>
                    <a:pt x="2" y="1924"/>
                  </a:lnTo>
                  <a:lnTo>
                    <a:pt x="16" y="1909"/>
                  </a:lnTo>
                  <a:lnTo>
                    <a:pt x="31" y="1892"/>
                  </a:lnTo>
                  <a:lnTo>
                    <a:pt x="46" y="1852"/>
                  </a:lnTo>
                  <a:lnTo>
                    <a:pt x="50" y="1806"/>
                  </a:lnTo>
                  <a:lnTo>
                    <a:pt x="79" y="1781"/>
                  </a:lnTo>
                  <a:lnTo>
                    <a:pt x="92" y="1767"/>
                  </a:lnTo>
                  <a:lnTo>
                    <a:pt x="98" y="1754"/>
                  </a:lnTo>
                  <a:lnTo>
                    <a:pt x="104" y="1737"/>
                  </a:lnTo>
                  <a:lnTo>
                    <a:pt x="113" y="1708"/>
                  </a:lnTo>
                  <a:lnTo>
                    <a:pt x="129" y="1660"/>
                  </a:lnTo>
                  <a:lnTo>
                    <a:pt x="167" y="1586"/>
                  </a:lnTo>
                  <a:lnTo>
                    <a:pt x="223" y="1479"/>
                  </a:lnTo>
                  <a:lnTo>
                    <a:pt x="301" y="1340"/>
                  </a:lnTo>
                  <a:lnTo>
                    <a:pt x="343" y="1255"/>
                  </a:lnTo>
                  <a:lnTo>
                    <a:pt x="363" y="1209"/>
                  </a:lnTo>
                  <a:lnTo>
                    <a:pt x="373" y="1179"/>
                  </a:lnTo>
                  <a:lnTo>
                    <a:pt x="390" y="1148"/>
                  </a:lnTo>
                  <a:lnTo>
                    <a:pt x="345" y="1139"/>
                  </a:lnTo>
                  <a:lnTo>
                    <a:pt x="336" y="1135"/>
                  </a:lnTo>
                  <a:lnTo>
                    <a:pt x="334" y="1133"/>
                  </a:lnTo>
                  <a:lnTo>
                    <a:pt x="334" y="1123"/>
                  </a:lnTo>
                  <a:lnTo>
                    <a:pt x="334" y="1114"/>
                  </a:lnTo>
                  <a:lnTo>
                    <a:pt x="326" y="1100"/>
                  </a:lnTo>
                  <a:lnTo>
                    <a:pt x="320" y="1083"/>
                  </a:lnTo>
                  <a:lnTo>
                    <a:pt x="322" y="1075"/>
                  </a:lnTo>
                  <a:lnTo>
                    <a:pt x="328" y="1068"/>
                  </a:lnTo>
                  <a:lnTo>
                    <a:pt x="345" y="1060"/>
                  </a:lnTo>
                  <a:lnTo>
                    <a:pt x="367" y="1052"/>
                  </a:lnTo>
                  <a:lnTo>
                    <a:pt x="423" y="1037"/>
                  </a:lnTo>
                  <a:lnTo>
                    <a:pt x="450" y="1029"/>
                  </a:lnTo>
                  <a:lnTo>
                    <a:pt x="469" y="1016"/>
                  </a:lnTo>
                  <a:lnTo>
                    <a:pt x="522" y="924"/>
                  </a:lnTo>
                  <a:lnTo>
                    <a:pt x="522" y="880"/>
                  </a:lnTo>
                  <a:lnTo>
                    <a:pt x="566" y="836"/>
                  </a:lnTo>
                  <a:lnTo>
                    <a:pt x="574" y="825"/>
                  </a:lnTo>
                  <a:lnTo>
                    <a:pt x="574" y="817"/>
                  </a:lnTo>
                  <a:lnTo>
                    <a:pt x="574" y="796"/>
                  </a:lnTo>
                  <a:lnTo>
                    <a:pt x="578" y="779"/>
                  </a:lnTo>
                  <a:lnTo>
                    <a:pt x="586" y="750"/>
                  </a:lnTo>
                  <a:lnTo>
                    <a:pt x="658" y="641"/>
                  </a:lnTo>
                  <a:lnTo>
                    <a:pt x="683" y="593"/>
                  </a:lnTo>
                  <a:lnTo>
                    <a:pt x="699" y="572"/>
                  </a:lnTo>
                  <a:lnTo>
                    <a:pt x="722" y="541"/>
                  </a:lnTo>
                  <a:lnTo>
                    <a:pt x="758" y="483"/>
                  </a:lnTo>
                  <a:lnTo>
                    <a:pt x="762" y="456"/>
                  </a:lnTo>
                  <a:lnTo>
                    <a:pt x="785" y="443"/>
                  </a:lnTo>
                  <a:lnTo>
                    <a:pt x="848" y="299"/>
                  </a:lnTo>
                  <a:lnTo>
                    <a:pt x="869" y="263"/>
                  </a:lnTo>
                  <a:lnTo>
                    <a:pt x="882" y="242"/>
                  </a:lnTo>
                  <a:lnTo>
                    <a:pt x="902" y="224"/>
                  </a:lnTo>
                  <a:lnTo>
                    <a:pt x="913" y="211"/>
                  </a:lnTo>
                  <a:lnTo>
                    <a:pt x="928" y="188"/>
                  </a:lnTo>
                  <a:lnTo>
                    <a:pt x="944" y="157"/>
                  </a:lnTo>
                  <a:lnTo>
                    <a:pt x="955" y="129"/>
                  </a:lnTo>
                  <a:lnTo>
                    <a:pt x="963" y="90"/>
                  </a:lnTo>
                  <a:lnTo>
                    <a:pt x="967" y="81"/>
                  </a:lnTo>
                  <a:lnTo>
                    <a:pt x="976" y="73"/>
                  </a:lnTo>
                  <a:lnTo>
                    <a:pt x="988" y="69"/>
                  </a:lnTo>
                  <a:lnTo>
                    <a:pt x="1011" y="69"/>
                  </a:lnTo>
                  <a:lnTo>
                    <a:pt x="1024" y="69"/>
                  </a:lnTo>
                  <a:lnTo>
                    <a:pt x="1032" y="75"/>
                  </a:lnTo>
                  <a:lnTo>
                    <a:pt x="1034" y="79"/>
                  </a:lnTo>
                  <a:lnTo>
                    <a:pt x="1036" y="85"/>
                  </a:lnTo>
                  <a:lnTo>
                    <a:pt x="1038" y="104"/>
                  </a:lnTo>
                  <a:lnTo>
                    <a:pt x="1045" y="121"/>
                  </a:lnTo>
                  <a:lnTo>
                    <a:pt x="1050" y="125"/>
                  </a:lnTo>
                  <a:lnTo>
                    <a:pt x="1056" y="121"/>
                  </a:lnTo>
                  <a:lnTo>
                    <a:pt x="1067" y="90"/>
                  </a:lnTo>
                  <a:lnTo>
                    <a:pt x="1073" y="73"/>
                  </a:lnTo>
                  <a:lnTo>
                    <a:pt x="1083" y="56"/>
                  </a:lnTo>
                  <a:lnTo>
                    <a:pt x="1096" y="41"/>
                  </a:lnTo>
                  <a:lnTo>
                    <a:pt x="1111" y="33"/>
                  </a:lnTo>
                  <a:lnTo>
                    <a:pt x="1148" y="35"/>
                  </a:lnTo>
                  <a:lnTo>
                    <a:pt x="1171" y="39"/>
                  </a:lnTo>
                  <a:lnTo>
                    <a:pt x="1184" y="39"/>
                  </a:lnTo>
                  <a:lnTo>
                    <a:pt x="1201" y="35"/>
                  </a:lnTo>
                  <a:lnTo>
                    <a:pt x="1257" y="8"/>
                  </a:lnTo>
                  <a:lnTo>
                    <a:pt x="1270" y="2"/>
                  </a:lnTo>
                  <a:lnTo>
                    <a:pt x="1293" y="0"/>
                  </a:lnTo>
                  <a:lnTo>
                    <a:pt x="1322" y="2"/>
                  </a:lnTo>
                  <a:lnTo>
                    <a:pt x="1335" y="8"/>
                  </a:lnTo>
                  <a:lnTo>
                    <a:pt x="1343" y="16"/>
                  </a:lnTo>
                  <a:lnTo>
                    <a:pt x="1349" y="33"/>
                  </a:lnTo>
                  <a:lnTo>
                    <a:pt x="1349" y="52"/>
                  </a:lnTo>
                  <a:lnTo>
                    <a:pt x="1345" y="90"/>
                  </a:lnTo>
                  <a:lnTo>
                    <a:pt x="1347" y="108"/>
                  </a:lnTo>
                  <a:lnTo>
                    <a:pt x="1353" y="123"/>
                  </a:lnTo>
                  <a:lnTo>
                    <a:pt x="1358" y="129"/>
                  </a:lnTo>
                  <a:lnTo>
                    <a:pt x="1366" y="133"/>
                  </a:lnTo>
                  <a:lnTo>
                    <a:pt x="1385" y="14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02400" y="5607000"/>
              <a:ext cx="405000" cy="594000"/>
            </a:xfrm>
            <a:custGeom>
              <a:avLst/>
              <a:gdLst/>
              <a:ahLst/>
              <a:rect l="0" t="0" r="r" b="b"/>
              <a:pathLst>
                <a:path w="1125" h="1650">
                  <a:moveTo>
                    <a:pt x="980" y="207"/>
                  </a:moveTo>
                  <a:lnTo>
                    <a:pt x="988" y="234"/>
                  </a:lnTo>
                  <a:lnTo>
                    <a:pt x="986" y="253"/>
                  </a:lnTo>
                  <a:lnTo>
                    <a:pt x="980" y="267"/>
                  </a:lnTo>
                  <a:lnTo>
                    <a:pt x="966" y="278"/>
                  </a:lnTo>
                  <a:lnTo>
                    <a:pt x="920" y="294"/>
                  </a:lnTo>
                  <a:lnTo>
                    <a:pt x="856" y="309"/>
                  </a:lnTo>
                  <a:lnTo>
                    <a:pt x="771" y="334"/>
                  </a:lnTo>
                  <a:lnTo>
                    <a:pt x="721" y="353"/>
                  </a:lnTo>
                  <a:lnTo>
                    <a:pt x="667" y="378"/>
                  </a:lnTo>
                  <a:lnTo>
                    <a:pt x="609" y="411"/>
                  </a:lnTo>
                  <a:lnTo>
                    <a:pt x="546" y="450"/>
                  </a:lnTo>
                  <a:lnTo>
                    <a:pt x="482" y="500"/>
                  </a:lnTo>
                  <a:lnTo>
                    <a:pt x="414" y="560"/>
                  </a:lnTo>
                  <a:lnTo>
                    <a:pt x="378" y="600"/>
                  </a:lnTo>
                  <a:lnTo>
                    <a:pt x="345" y="643"/>
                  </a:lnTo>
                  <a:lnTo>
                    <a:pt x="316" y="689"/>
                  </a:lnTo>
                  <a:lnTo>
                    <a:pt x="291" y="739"/>
                  </a:lnTo>
                  <a:lnTo>
                    <a:pt x="273" y="791"/>
                  </a:lnTo>
                  <a:lnTo>
                    <a:pt x="254" y="842"/>
                  </a:lnTo>
                  <a:lnTo>
                    <a:pt x="244" y="896"/>
                  </a:lnTo>
                  <a:lnTo>
                    <a:pt x="236" y="948"/>
                  </a:lnTo>
                  <a:lnTo>
                    <a:pt x="231" y="1052"/>
                  </a:lnTo>
                  <a:lnTo>
                    <a:pt x="236" y="1099"/>
                  </a:lnTo>
                  <a:lnTo>
                    <a:pt x="244" y="1147"/>
                  </a:lnTo>
                  <a:lnTo>
                    <a:pt x="254" y="1189"/>
                  </a:lnTo>
                  <a:lnTo>
                    <a:pt x="271" y="1228"/>
                  </a:lnTo>
                  <a:lnTo>
                    <a:pt x="291" y="1263"/>
                  </a:lnTo>
                  <a:lnTo>
                    <a:pt x="314" y="1292"/>
                  </a:lnTo>
                  <a:lnTo>
                    <a:pt x="370" y="1346"/>
                  </a:lnTo>
                  <a:lnTo>
                    <a:pt x="426" y="1390"/>
                  </a:lnTo>
                  <a:lnTo>
                    <a:pt x="488" y="1427"/>
                  </a:lnTo>
                  <a:lnTo>
                    <a:pt x="550" y="1450"/>
                  </a:lnTo>
                  <a:lnTo>
                    <a:pt x="616" y="1461"/>
                  </a:lnTo>
                  <a:lnTo>
                    <a:pt x="649" y="1461"/>
                  </a:lnTo>
                  <a:lnTo>
                    <a:pt x="680" y="1454"/>
                  </a:lnTo>
                  <a:lnTo>
                    <a:pt x="713" y="1446"/>
                  </a:lnTo>
                  <a:lnTo>
                    <a:pt x="746" y="1432"/>
                  </a:lnTo>
                  <a:lnTo>
                    <a:pt x="781" y="1413"/>
                  </a:lnTo>
                  <a:lnTo>
                    <a:pt x="814" y="1388"/>
                  </a:lnTo>
                  <a:lnTo>
                    <a:pt x="796" y="1355"/>
                  </a:lnTo>
                  <a:lnTo>
                    <a:pt x="787" y="1330"/>
                  </a:lnTo>
                  <a:lnTo>
                    <a:pt x="781" y="1292"/>
                  </a:lnTo>
                  <a:lnTo>
                    <a:pt x="783" y="1238"/>
                  </a:lnTo>
                  <a:lnTo>
                    <a:pt x="792" y="1164"/>
                  </a:lnTo>
                  <a:lnTo>
                    <a:pt x="810" y="1066"/>
                  </a:lnTo>
                  <a:lnTo>
                    <a:pt x="841" y="939"/>
                  </a:lnTo>
                  <a:lnTo>
                    <a:pt x="736" y="958"/>
                  </a:lnTo>
                  <a:lnTo>
                    <a:pt x="651" y="979"/>
                  </a:lnTo>
                  <a:lnTo>
                    <a:pt x="587" y="1002"/>
                  </a:lnTo>
                  <a:lnTo>
                    <a:pt x="538" y="1022"/>
                  </a:lnTo>
                  <a:lnTo>
                    <a:pt x="480" y="1052"/>
                  </a:lnTo>
                  <a:lnTo>
                    <a:pt x="461" y="1058"/>
                  </a:lnTo>
                  <a:lnTo>
                    <a:pt x="445" y="1054"/>
                  </a:lnTo>
                  <a:lnTo>
                    <a:pt x="436" y="1047"/>
                  </a:lnTo>
                  <a:lnTo>
                    <a:pt x="434" y="1041"/>
                  </a:lnTo>
                  <a:lnTo>
                    <a:pt x="439" y="1037"/>
                  </a:lnTo>
                  <a:lnTo>
                    <a:pt x="445" y="1031"/>
                  </a:lnTo>
                  <a:lnTo>
                    <a:pt x="465" y="1020"/>
                  </a:lnTo>
                  <a:lnTo>
                    <a:pt x="484" y="1006"/>
                  </a:lnTo>
                  <a:lnTo>
                    <a:pt x="540" y="906"/>
                  </a:lnTo>
                  <a:lnTo>
                    <a:pt x="578" y="887"/>
                  </a:lnTo>
                  <a:lnTo>
                    <a:pt x="593" y="875"/>
                  </a:lnTo>
                  <a:lnTo>
                    <a:pt x="599" y="865"/>
                  </a:lnTo>
                  <a:lnTo>
                    <a:pt x="616" y="848"/>
                  </a:lnTo>
                  <a:lnTo>
                    <a:pt x="711" y="814"/>
                  </a:lnTo>
                  <a:lnTo>
                    <a:pt x="717" y="789"/>
                  </a:lnTo>
                  <a:lnTo>
                    <a:pt x="719" y="787"/>
                  </a:lnTo>
                  <a:lnTo>
                    <a:pt x="742" y="789"/>
                  </a:lnTo>
                  <a:lnTo>
                    <a:pt x="767" y="785"/>
                  </a:lnTo>
                  <a:lnTo>
                    <a:pt x="802" y="774"/>
                  </a:lnTo>
                  <a:lnTo>
                    <a:pt x="852" y="758"/>
                  </a:lnTo>
                  <a:lnTo>
                    <a:pt x="891" y="737"/>
                  </a:lnTo>
                  <a:lnTo>
                    <a:pt x="922" y="716"/>
                  </a:lnTo>
                  <a:lnTo>
                    <a:pt x="947" y="695"/>
                  </a:lnTo>
                  <a:lnTo>
                    <a:pt x="986" y="668"/>
                  </a:lnTo>
                  <a:lnTo>
                    <a:pt x="1001" y="662"/>
                  </a:lnTo>
                  <a:lnTo>
                    <a:pt x="1015" y="664"/>
                  </a:lnTo>
                  <a:lnTo>
                    <a:pt x="1030" y="675"/>
                  </a:lnTo>
                  <a:lnTo>
                    <a:pt x="1038" y="685"/>
                  </a:lnTo>
                  <a:lnTo>
                    <a:pt x="1044" y="704"/>
                  </a:lnTo>
                  <a:lnTo>
                    <a:pt x="1048" y="716"/>
                  </a:lnTo>
                  <a:lnTo>
                    <a:pt x="1055" y="718"/>
                  </a:lnTo>
                  <a:lnTo>
                    <a:pt x="1063" y="712"/>
                  </a:lnTo>
                  <a:lnTo>
                    <a:pt x="1094" y="687"/>
                  </a:lnTo>
                  <a:lnTo>
                    <a:pt x="1125" y="691"/>
                  </a:lnTo>
                  <a:lnTo>
                    <a:pt x="1115" y="812"/>
                  </a:lnTo>
                  <a:lnTo>
                    <a:pt x="1098" y="914"/>
                  </a:lnTo>
                  <a:lnTo>
                    <a:pt x="1055" y="1085"/>
                  </a:lnTo>
                  <a:lnTo>
                    <a:pt x="1036" y="1164"/>
                  </a:lnTo>
                  <a:lnTo>
                    <a:pt x="1021" y="1247"/>
                  </a:lnTo>
                  <a:lnTo>
                    <a:pt x="1013" y="1340"/>
                  </a:lnTo>
                  <a:lnTo>
                    <a:pt x="1015" y="1448"/>
                  </a:lnTo>
                  <a:lnTo>
                    <a:pt x="1028" y="1575"/>
                  </a:lnTo>
                  <a:lnTo>
                    <a:pt x="1034" y="1623"/>
                  </a:lnTo>
                  <a:lnTo>
                    <a:pt x="1032" y="1631"/>
                  </a:lnTo>
                  <a:lnTo>
                    <a:pt x="1028" y="1631"/>
                  </a:lnTo>
                  <a:lnTo>
                    <a:pt x="1007" y="1637"/>
                  </a:lnTo>
                  <a:lnTo>
                    <a:pt x="997" y="1614"/>
                  </a:lnTo>
                  <a:lnTo>
                    <a:pt x="986" y="1610"/>
                  </a:lnTo>
                  <a:lnTo>
                    <a:pt x="974" y="1614"/>
                  </a:lnTo>
                  <a:lnTo>
                    <a:pt x="968" y="1612"/>
                  </a:lnTo>
                  <a:lnTo>
                    <a:pt x="959" y="1606"/>
                  </a:lnTo>
                  <a:lnTo>
                    <a:pt x="941" y="1554"/>
                  </a:lnTo>
                  <a:lnTo>
                    <a:pt x="928" y="1548"/>
                  </a:lnTo>
                  <a:lnTo>
                    <a:pt x="914" y="1535"/>
                  </a:lnTo>
                  <a:lnTo>
                    <a:pt x="885" y="1511"/>
                  </a:lnTo>
                  <a:lnTo>
                    <a:pt x="858" y="1492"/>
                  </a:lnTo>
                  <a:lnTo>
                    <a:pt x="847" y="1488"/>
                  </a:lnTo>
                  <a:lnTo>
                    <a:pt x="837" y="1488"/>
                  </a:lnTo>
                  <a:lnTo>
                    <a:pt x="818" y="1504"/>
                  </a:lnTo>
                  <a:lnTo>
                    <a:pt x="804" y="1527"/>
                  </a:lnTo>
                  <a:lnTo>
                    <a:pt x="787" y="1552"/>
                  </a:lnTo>
                  <a:lnTo>
                    <a:pt x="767" y="1579"/>
                  </a:lnTo>
                  <a:lnTo>
                    <a:pt x="756" y="1592"/>
                  </a:lnTo>
                  <a:lnTo>
                    <a:pt x="740" y="1604"/>
                  </a:lnTo>
                  <a:lnTo>
                    <a:pt x="703" y="1625"/>
                  </a:lnTo>
                  <a:lnTo>
                    <a:pt x="653" y="1641"/>
                  </a:lnTo>
                  <a:lnTo>
                    <a:pt x="620" y="1648"/>
                  </a:lnTo>
                  <a:lnTo>
                    <a:pt x="584" y="1650"/>
                  </a:lnTo>
                  <a:lnTo>
                    <a:pt x="536" y="1648"/>
                  </a:lnTo>
                  <a:lnTo>
                    <a:pt x="484" y="1644"/>
                  </a:lnTo>
                  <a:lnTo>
                    <a:pt x="436" y="1633"/>
                  </a:lnTo>
                  <a:lnTo>
                    <a:pt x="387" y="1617"/>
                  </a:lnTo>
                  <a:lnTo>
                    <a:pt x="341" y="1598"/>
                  </a:lnTo>
                  <a:lnTo>
                    <a:pt x="294" y="1573"/>
                  </a:lnTo>
                  <a:lnTo>
                    <a:pt x="250" y="1542"/>
                  </a:lnTo>
                  <a:lnTo>
                    <a:pt x="209" y="1506"/>
                  </a:lnTo>
                  <a:lnTo>
                    <a:pt x="171" y="1469"/>
                  </a:lnTo>
                  <a:lnTo>
                    <a:pt x="134" y="1423"/>
                  </a:lnTo>
                  <a:lnTo>
                    <a:pt x="101" y="1376"/>
                  </a:lnTo>
                  <a:lnTo>
                    <a:pt x="72" y="1324"/>
                  </a:lnTo>
                  <a:lnTo>
                    <a:pt x="49" y="1265"/>
                  </a:lnTo>
                  <a:lnTo>
                    <a:pt x="28" y="1203"/>
                  </a:lnTo>
                  <a:lnTo>
                    <a:pt x="14" y="1137"/>
                  </a:lnTo>
                  <a:lnTo>
                    <a:pt x="4" y="1066"/>
                  </a:lnTo>
                  <a:lnTo>
                    <a:pt x="0" y="973"/>
                  </a:lnTo>
                  <a:lnTo>
                    <a:pt x="4" y="883"/>
                  </a:lnTo>
                  <a:lnTo>
                    <a:pt x="16" y="799"/>
                  </a:lnTo>
                  <a:lnTo>
                    <a:pt x="33" y="720"/>
                  </a:lnTo>
                  <a:lnTo>
                    <a:pt x="57" y="648"/>
                  </a:lnTo>
                  <a:lnTo>
                    <a:pt x="84" y="579"/>
                  </a:lnTo>
                  <a:lnTo>
                    <a:pt x="115" y="517"/>
                  </a:lnTo>
                  <a:lnTo>
                    <a:pt x="149" y="459"/>
                  </a:lnTo>
                  <a:lnTo>
                    <a:pt x="215" y="357"/>
                  </a:lnTo>
                  <a:lnTo>
                    <a:pt x="281" y="276"/>
                  </a:lnTo>
                  <a:lnTo>
                    <a:pt x="333" y="218"/>
                  </a:lnTo>
                  <a:lnTo>
                    <a:pt x="366" y="180"/>
                  </a:lnTo>
                  <a:lnTo>
                    <a:pt x="403" y="143"/>
                  </a:lnTo>
                  <a:lnTo>
                    <a:pt x="434" y="118"/>
                  </a:lnTo>
                  <a:lnTo>
                    <a:pt x="478" y="91"/>
                  </a:lnTo>
                  <a:lnTo>
                    <a:pt x="532" y="64"/>
                  </a:lnTo>
                  <a:lnTo>
                    <a:pt x="599" y="37"/>
                  </a:lnTo>
                  <a:lnTo>
                    <a:pt x="678" y="16"/>
                  </a:lnTo>
                  <a:lnTo>
                    <a:pt x="767" y="0"/>
                  </a:lnTo>
                  <a:lnTo>
                    <a:pt x="790" y="0"/>
                  </a:lnTo>
                  <a:lnTo>
                    <a:pt x="798" y="4"/>
                  </a:lnTo>
                  <a:lnTo>
                    <a:pt x="804" y="12"/>
                  </a:lnTo>
                  <a:lnTo>
                    <a:pt x="821" y="24"/>
                  </a:lnTo>
                  <a:lnTo>
                    <a:pt x="876" y="37"/>
                  </a:lnTo>
                  <a:lnTo>
                    <a:pt x="887" y="54"/>
                  </a:lnTo>
                  <a:lnTo>
                    <a:pt x="889" y="62"/>
                  </a:lnTo>
                  <a:lnTo>
                    <a:pt x="887" y="68"/>
                  </a:lnTo>
                  <a:lnTo>
                    <a:pt x="887" y="74"/>
                  </a:lnTo>
                  <a:lnTo>
                    <a:pt x="891" y="83"/>
                  </a:lnTo>
                  <a:lnTo>
                    <a:pt x="924" y="120"/>
                  </a:lnTo>
                  <a:lnTo>
                    <a:pt x="949" y="147"/>
                  </a:lnTo>
                  <a:lnTo>
                    <a:pt x="959" y="153"/>
                  </a:lnTo>
                  <a:lnTo>
                    <a:pt x="972" y="149"/>
                  </a:lnTo>
                  <a:lnTo>
                    <a:pt x="999" y="151"/>
                  </a:lnTo>
                  <a:lnTo>
                    <a:pt x="1007" y="153"/>
                  </a:lnTo>
                  <a:lnTo>
                    <a:pt x="1011" y="157"/>
                  </a:lnTo>
                  <a:lnTo>
                    <a:pt x="1013" y="166"/>
                  </a:lnTo>
                  <a:lnTo>
                    <a:pt x="1013" y="172"/>
                  </a:lnTo>
                  <a:lnTo>
                    <a:pt x="1003" y="191"/>
                  </a:lnTo>
                  <a:lnTo>
                    <a:pt x="995" y="199"/>
                  </a:lnTo>
                  <a:lnTo>
                    <a:pt x="980" y="20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3640" y="5740560"/>
              <a:ext cx="100440" cy="119520"/>
            </a:xfrm>
            <a:custGeom>
              <a:avLst/>
              <a:gdLst/>
              <a:ahLst/>
              <a:rect l="0" t="0" r="r" b="b"/>
              <a:pathLst>
                <a:path w="279" h="332">
                  <a:moveTo>
                    <a:pt x="0" y="332"/>
                  </a:moveTo>
                  <a:lnTo>
                    <a:pt x="26" y="322"/>
                  </a:lnTo>
                  <a:lnTo>
                    <a:pt x="50" y="308"/>
                  </a:lnTo>
                  <a:lnTo>
                    <a:pt x="104" y="274"/>
                  </a:lnTo>
                  <a:lnTo>
                    <a:pt x="132" y="258"/>
                  </a:lnTo>
                  <a:lnTo>
                    <a:pt x="163" y="247"/>
                  </a:lnTo>
                  <a:lnTo>
                    <a:pt x="193" y="240"/>
                  </a:lnTo>
                  <a:lnTo>
                    <a:pt x="225" y="242"/>
                  </a:lnTo>
                  <a:lnTo>
                    <a:pt x="231" y="216"/>
                  </a:lnTo>
                  <a:lnTo>
                    <a:pt x="231" y="196"/>
                  </a:lnTo>
                  <a:lnTo>
                    <a:pt x="229" y="172"/>
                  </a:lnTo>
                  <a:lnTo>
                    <a:pt x="227" y="156"/>
                  </a:lnTo>
                  <a:lnTo>
                    <a:pt x="237" y="132"/>
                  </a:lnTo>
                  <a:lnTo>
                    <a:pt x="247" y="115"/>
                  </a:lnTo>
                  <a:lnTo>
                    <a:pt x="255" y="97"/>
                  </a:lnTo>
                  <a:lnTo>
                    <a:pt x="279" y="14"/>
                  </a:lnTo>
                  <a:lnTo>
                    <a:pt x="249" y="14"/>
                  </a:lnTo>
                  <a:lnTo>
                    <a:pt x="249" y="10"/>
                  </a:lnTo>
                  <a:lnTo>
                    <a:pt x="245" y="0"/>
                  </a:lnTo>
                  <a:lnTo>
                    <a:pt x="235" y="6"/>
                  </a:lnTo>
                  <a:lnTo>
                    <a:pt x="212" y="28"/>
                  </a:lnTo>
                  <a:lnTo>
                    <a:pt x="147" y="111"/>
                  </a:lnTo>
                  <a:lnTo>
                    <a:pt x="68" y="222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50040" y="5743440"/>
              <a:ext cx="103680" cy="178200"/>
            </a:xfrm>
            <a:custGeom>
              <a:avLst/>
              <a:gdLst/>
              <a:ahLst/>
              <a:rect l="0" t="0" r="r" b="b"/>
              <a:pathLst>
                <a:path w="288" h="495">
                  <a:moveTo>
                    <a:pt x="0" y="495"/>
                  </a:moveTo>
                  <a:lnTo>
                    <a:pt x="16" y="493"/>
                  </a:lnTo>
                  <a:lnTo>
                    <a:pt x="22" y="491"/>
                  </a:lnTo>
                  <a:lnTo>
                    <a:pt x="26" y="487"/>
                  </a:lnTo>
                  <a:lnTo>
                    <a:pt x="30" y="479"/>
                  </a:lnTo>
                  <a:lnTo>
                    <a:pt x="34" y="469"/>
                  </a:lnTo>
                  <a:lnTo>
                    <a:pt x="38" y="459"/>
                  </a:lnTo>
                  <a:lnTo>
                    <a:pt x="48" y="446"/>
                  </a:lnTo>
                  <a:lnTo>
                    <a:pt x="66" y="436"/>
                  </a:lnTo>
                  <a:lnTo>
                    <a:pt x="97" y="426"/>
                  </a:lnTo>
                  <a:lnTo>
                    <a:pt x="137" y="418"/>
                  </a:lnTo>
                  <a:lnTo>
                    <a:pt x="143" y="416"/>
                  </a:lnTo>
                  <a:lnTo>
                    <a:pt x="147" y="410"/>
                  </a:lnTo>
                  <a:lnTo>
                    <a:pt x="179" y="389"/>
                  </a:lnTo>
                  <a:lnTo>
                    <a:pt x="282" y="335"/>
                  </a:lnTo>
                  <a:lnTo>
                    <a:pt x="288" y="0"/>
                  </a:lnTo>
                  <a:lnTo>
                    <a:pt x="262" y="38"/>
                  </a:lnTo>
                  <a:lnTo>
                    <a:pt x="258" y="36"/>
                  </a:lnTo>
                  <a:lnTo>
                    <a:pt x="246" y="38"/>
                  </a:lnTo>
                  <a:lnTo>
                    <a:pt x="228" y="34"/>
                  </a:lnTo>
                  <a:lnTo>
                    <a:pt x="4" y="453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70840" y="5951520"/>
              <a:ext cx="773640" cy="630720"/>
            </a:xfrm>
            <a:custGeom>
              <a:avLst/>
              <a:gdLst/>
              <a:ahLst/>
              <a:rect l="0" t="0" r="r" b="b"/>
              <a:pathLst>
                <a:path w="2149" h="1752">
                  <a:moveTo>
                    <a:pt x="45" y="0"/>
                  </a:moveTo>
                  <a:lnTo>
                    <a:pt x="77" y="8"/>
                  </a:lnTo>
                  <a:lnTo>
                    <a:pt x="129" y="26"/>
                  </a:lnTo>
                  <a:lnTo>
                    <a:pt x="181" y="47"/>
                  </a:lnTo>
                  <a:lnTo>
                    <a:pt x="206" y="62"/>
                  </a:lnTo>
                  <a:lnTo>
                    <a:pt x="379" y="224"/>
                  </a:lnTo>
                  <a:lnTo>
                    <a:pt x="464" y="306"/>
                  </a:lnTo>
                  <a:lnTo>
                    <a:pt x="734" y="585"/>
                  </a:lnTo>
                  <a:lnTo>
                    <a:pt x="905" y="720"/>
                  </a:lnTo>
                  <a:lnTo>
                    <a:pt x="922" y="739"/>
                  </a:lnTo>
                  <a:lnTo>
                    <a:pt x="935" y="758"/>
                  </a:lnTo>
                  <a:lnTo>
                    <a:pt x="962" y="795"/>
                  </a:lnTo>
                  <a:lnTo>
                    <a:pt x="983" y="814"/>
                  </a:lnTo>
                  <a:lnTo>
                    <a:pt x="1016" y="836"/>
                  </a:lnTo>
                  <a:lnTo>
                    <a:pt x="1062" y="861"/>
                  </a:lnTo>
                  <a:lnTo>
                    <a:pt x="1124" y="890"/>
                  </a:lnTo>
                  <a:lnTo>
                    <a:pt x="1126" y="890"/>
                  </a:lnTo>
                  <a:lnTo>
                    <a:pt x="1124" y="884"/>
                  </a:lnTo>
                  <a:lnTo>
                    <a:pt x="1126" y="884"/>
                  </a:lnTo>
                  <a:lnTo>
                    <a:pt x="1141" y="894"/>
                  </a:lnTo>
                  <a:lnTo>
                    <a:pt x="1231" y="973"/>
                  </a:lnTo>
                  <a:lnTo>
                    <a:pt x="1454" y="1177"/>
                  </a:lnTo>
                  <a:lnTo>
                    <a:pt x="1647" y="1360"/>
                  </a:lnTo>
                  <a:lnTo>
                    <a:pt x="1709" y="1402"/>
                  </a:lnTo>
                  <a:lnTo>
                    <a:pt x="1755" y="1427"/>
                  </a:lnTo>
                  <a:lnTo>
                    <a:pt x="1826" y="1460"/>
                  </a:lnTo>
                  <a:lnTo>
                    <a:pt x="1868" y="1485"/>
                  </a:lnTo>
                  <a:lnTo>
                    <a:pt x="1924" y="1526"/>
                  </a:lnTo>
                  <a:lnTo>
                    <a:pt x="2001" y="1592"/>
                  </a:lnTo>
                  <a:lnTo>
                    <a:pt x="2107" y="1690"/>
                  </a:lnTo>
                  <a:lnTo>
                    <a:pt x="2145" y="1729"/>
                  </a:lnTo>
                  <a:lnTo>
                    <a:pt x="2149" y="1742"/>
                  </a:lnTo>
                  <a:lnTo>
                    <a:pt x="2147" y="1746"/>
                  </a:lnTo>
                  <a:lnTo>
                    <a:pt x="2143" y="1746"/>
                  </a:lnTo>
                  <a:lnTo>
                    <a:pt x="2134" y="1752"/>
                  </a:lnTo>
                  <a:lnTo>
                    <a:pt x="2128" y="1752"/>
                  </a:lnTo>
                  <a:lnTo>
                    <a:pt x="2122" y="1750"/>
                  </a:lnTo>
                  <a:lnTo>
                    <a:pt x="2109" y="1740"/>
                  </a:lnTo>
                  <a:lnTo>
                    <a:pt x="2049" y="1690"/>
                  </a:lnTo>
                  <a:lnTo>
                    <a:pt x="1909" y="1582"/>
                  </a:lnTo>
                  <a:lnTo>
                    <a:pt x="1516" y="1291"/>
                  </a:lnTo>
                  <a:lnTo>
                    <a:pt x="1433" y="1233"/>
                  </a:lnTo>
                  <a:lnTo>
                    <a:pt x="1395" y="1208"/>
                  </a:lnTo>
                  <a:lnTo>
                    <a:pt x="1385" y="1204"/>
                  </a:lnTo>
                  <a:lnTo>
                    <a:pt x="1377" y="1204"/>
                  </a:lnTo>
                  <a:lnTo>
                    <a:pt x="1352" y="1187"/>
                  </a:lnTo>
                  <a:lnTo>
                    <a:pt x="1287" y="1141"/>
                  </a:lnTo>
                  <a:lnTo>
                    <a:pt x="1243" y="1108"/>
                  </a:lnTo>
                  <a:lnTo>
                    <a:pt x="1199" y="1069"/>
                  </a:lnTo>
                  <a:lnTo>
                    <a:pt x="1118" y="992"/>
                  </a:lnTo>
                  <a:lnTo>
                    <a:pt x="1076" y="955"/>
                  </a:lnTo>
                  <a:lnTo>
                    <a:pt x="1033" y="921"/>
                  </a:lnTo>
                  <a:lnTo>
                    <a:pt x="985" y="890"/>
                  </a:lnTo>
                  <a:lnTo>
                    <a:pt x="932" y="863"/>
                  </a:lnTo>
                  <a:lnTo>
                    <a:pt x="905" y="853"/>
                  </a:lnTo>
                  <a:lnTo>
                    <a:pt x="901" y="851"/>
                  </a:lnTo>
                  <a:lnTo>
                    <a:pt x="893" y="836"/>
                  </a:lnTo>
                  <a:lnTo>
                    <a:pt x="855" y="789"/>
                  </a:lnTo>
                  <a:lnTo>
                    <a:pt x="828" y="758"/>
                  </a:lnTo>
                  <a:lnTo>
                    <a:pt x="799" y="735"/>
                  </a:lnTo>
                  <a:lnTo>
                    <a:pt x="743" y="702"/>
                  </a:lnTo>
                  <a:lnTo>
                    <a:pt x="693" y="675"/>
                  </a:lnTo>
                  <a:lnTo>
                    <a:pt x="670" y="662"/>
                  </a:lnTo>
                  <a:lnTo>
                    <a:pt x="647" y="646"/>
                  </a:lnTo>
                  <a:lnTo>
                    <a:pt x="559" y="538"/>
                  </a:lnTo>
                  <a:lnTo>
                    <a:pt x="473" y="488"/>
                  </a:lnTo>
                  <a:lnTo>
                    <a:pt x="435" y="444"/>
                  </a:lnTo>
                  <a:lnTo>
                    <a:pt x="400" y="398"/>
                  </a:lnTo>
                  <a:lnTo>
                    <a:pt x="379" y="373"/>
                  </a:lnTo>
                  <a:lnTo>
                    <a:pt x="352" y="344"/>
                  </a:lnTo>
                  <a:lnTo>
                    <a:pt x="321" y="313"/>
                  </a:lnTo>
                  <a:lnTo>
                    <a:pt x="277" y="280"/>
                  </a:lnTo>
                  <a:lnTo>
                    <a:pt x="246" y="257"/>
                  </a:lnTo>
                  <a:lnTo>
                    <a:pt x="231" y="248"/>
                  </a:lnTo>
                  <a:lnTo>
                    <a:pt x="181" y="172"/>
                  </a:lnTo>
                  <a:lnTo>
                    <a:pt x="112" y="168"/>
                  </a:lnTo>
                  <a:lnTo>
                    <a:pt x="97" y="165"/>
                  </a:lnTo>
                  <a:lnTo>
                    <a:pt x="93" y="161"/>
                  </a:lnTo>
                  <a:lnTo>
                    <a:pt x="91" y="153"/>
                  </a:lnTo>
                  <a:lnTo>
                    <a:pt x="89" y="149"/>
                  </a:lnTo>
                  <a:lnTo>
                    <a:pt x="79" y="145"/>
                  </a:lnTo>
                  <a:lnTo>
                    <a:pt x="18" y="145"/>
                  </a:lnTo>
                  <a:lnTo>
                    <a:pt x="6" y="130"/>
                  </a:lnTo>
                  <a:lnTo>
                    <a:pt x="0" y="122"/>
                  </a:lnTo>
                  <a:lnTo>
                    <a:pt x="2" y="118"/>
                  </a:lnTo>
                  <a:lnTo>
                    <a:pt x="6" y="114"/>
                  </a:lnTo>
                  <a:lnTo>
                    <a:pt x="10" y="109"/>
                  </a:lnTo>
                  <a:lnTo>
                    <a:pt x="14" y="99"/>
                  </a:lnTo>
                  <a:lnTo>
                    <a:pt x="14" y="85"/>
                  </a:lnTo>
                  <a:lnTo>
                    <a:pt x="6" y="58"/>
                  </a:lnTo>
                  <a:lnTo>
                    <a:pt x="8" y="41"/>
                  </a:lnTo>
                  <a:lnTo>
                    <a:pt x="14" y="22"/>
                  </a:lnTo>
                  <a:lnTo>
                    <a:pt x="25" y="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7600" y="6024600"/>
              <a:ext cx="813240" cy="659160"/>
            </a:xfrm>
            <a:custGeom>
              <a:avLst/>
              <a:gdLst/>
              <a:ahLst/>
              <a:rect l="0" t="0" r="r" b="b"/>
              <a:pathLst>
                <a:path w="2259" h="1831">
                  <a:moveTo>
                    <a:pt x="0" y="47"/>
                  </a:moveTo>
                  <a:lnTo>
                    <a:pt x="2" y="29"/>
                  </a:lnTo>
                  <a:lnTo>
                    <a:pt x="8" y="14"/>
                  </a:lnTo>
                  <a:lnTo>
                    <a:pt x="20" y="4"/>
                  </a:lnTo>
                  <a:lnTo>
                    <a:pt x="39" y="0"/>
                  </a:lnTo>
                  <a:lnTo>
                    <a:pt x="70" y="6"/>
                  </a:lnTo>
                  <a:lnTo>
                    <a:pt x="110" y="20"/>
                  </a:lnTo>
                  <a:lnTo>
                    <a:pt x="162" y="49"/>
                  </a:lnTo>
                  <a:lnTo>
                    <a:pt x="227" y="91"/>
                  </a:lnTo>
                  <a:lnTo>
                    <a:pt x="266" y="116"/>
                  </a:lnTo>
                  <a:lnTo>
                    <a:pt x="306" y="135"/>
                  </a:lnTo>
                  <a:lnTo>
                    <a:pt x="325" y="149"/>
                  </a:lnTo>
                  <a:lnTo>
                    <a:pt x="341" y="162"/>
                  </a:lnTo>
                  <a:lnTo>
                    <a:pt x="358" y="180"/>
                  </a:lnTo>
                  <a:lnTo>
                    <a:pt x="368" y="199"/>
                  </a:lnTo>
                  <a:lnTo>
                    <a:pt x="373" y="222"/>
                  </a:lnTo>
                  <a:lnTo>
                    <a:pt x="381" y="255"/>
                  </a:lnTo>
                  <a:lnTo>
                    <a:pt x="396" y="280"/>
                  </a:lnTo>
                  <a:lnTo>
                    <a:pt x="416" y="313"/>
                  </a:lnTo>
                  <a:lnTo>
                    <a:pt x="452" y="353"/>
                  </a:lnTo>
                  <a:lnTo>
                    <a:pt x="500" y="400"/>
                  </a:lnTo>
                  <a:lnTo>
                    <a:pt x="576" y="467"/>
                  </a:lnTo>
                  <a:lnTo>
                    <a:pt x="620" y="504"/>
                  </a:lnTo>
                  <a:lnTo>
                    <a:pt x="641" y="521"/>
                  </a:lnTo>
                  <a:lnTo>
                    <a:pt x="651" y="525"/>
                  </a:lnTo>
                  <a:lnTo>
                    <a:pt x="661" y="544"/>
                  </a:lnTo>
                  <a:lnTo>
                    <a:pt x="716" y="631"/>
                  </a:lnTo>
                  <a:lnTo>
                    <a:pt x="734" y="658"/>
                  </a:lnTo>
                  <a:lnTo>
                    <a:pt x="749" y="668"/>
                  </a:lnTo>
                  <a:lnTo>
                    <a:pt x="759" y="670"/>
                  </a:lnTo>
                  <a:lnTo>
                    <a:pt x="768" y="666"/>
                  </a:lnTo>
                  <a:lnTo>
                    <a:pt x="778" y="664"/>
                  </a:lnTo>
                  <a:lnTo>
                    <a:pt x="793" y="662"/>
                  </a:lnTo>
                  <a:lnTo>
                    <a:pt x="814" y="670"/>
                  </a:lnTo>
                  <a:lnTo>
                    <a:pt x="843" y="691"/>
                  </a:lnTo>
                  <a:lnTo>
                    <a:pt x="884" y="731"/>
                  </a:lnTo>
                  <a:lnTo>
                    <a:pt x="909" y="758"/>
                  </a:lnTo>
                  <a:lnTo>
                    <a:pt x="920" y="776"/>
                  </a:lnTo>
                  <a:lnTo>
                    <a:pt x="924" y="789"/>
                  </a:lnTo>
                  <a:lnTo>
                    <a:pt x="924" y="799"/>
                  </a:lnTo>
                  <a:lnTo>
                    <a:pt x="928" y="810"/>
                  </a:lnTo>
                  <a:lnTo>
                    <a:pt x="943" y="822"/>
                  </a:lnTo>
                  <a:lnTo>
                    <a:pt x="970" y="845"/>
                  </a:lnTo>
                  <a:lnTo>
                    <a:pt x="1014" y="866"/>
                  </a:lnTo>
                  <a:lnTo>
                    <a:pt x="1028" y="876"/>
                  </a:lnTo>
                  <a:lnTo>
                    <a:pt x="1049" y="891"/>
                  </a:lnTo>
                  <a:lnTo>
                    <a:pt x="1101" y="937"/>
                  </a:lnTo>
                  <a:lnTo>
                    <a:pt x="1174" y="998"/>
                  </a:lnTo>
                  <a:lnTo>
                    <a:pt x="1220" y="1031"/>
                  </a:lnTo>
                  <a:lnTo>
                    <a:pt x="1268" y="1064"/>
                  </a:lnTo>
                  <a:lnTo>
                    <a:pt x="1320" y="1085"/>
                  </a:lnTo>
                  <a:lnTo>
                    <a:pt x="1341" y="1120"/>
                  </a:lnTo>
                  <a:lnTo>
                    <a:pt x="1351" y="1133"/>
                  </a:lnTo>
                  <a:lnTo>
                    <a:pt x="1364" y="1141"/>
                  </a:lnTo>
                  <a:lnTo>
                    <a:pt x="1418" y="1178"/>
                  </a:lnTo>
                  <a:lnTo>
                    <a:pt x="1527" y="1263"/>
                  </a:lnTo>
                  <a:lnTo>
                    <a:pt x="1558" y="1272"/>
                  </a:lnTo>
                  <a:lnTo>
                    <a:pt x="1577" y="1307"/>
                  </a:lnTo>
                  <a:lnTo>
                    <a:pt x="1602" y="1326"/>
                  </a:lnTo>
                  <a:lnTo>
                    <a:pt x="1654" y="1353"/>
                  </a:lnTo>
                  <a:lnTo>
                    <a:pt x="1753" y="1417"/>
                  </a:lnTo>
                  <a:lnTo>
                    <a:pt x="2259" y="1818"/>
                  </a:lnTo>
                  <a:lnTo>
                    <a:pt x="2251" y="1828"/>
                  </a:lnTo>
                  <a:lnTo>
                    <a:pt x="2238" y="1831"/>
                  </a:lnTo>
                  <a:lnTo>
                    <a:pt x="2220" y="1822"/>
                  </a:lnTo>
                  <a:lnTo>
                    <a:pt x="2186" y="1799"/>
                  </a:lnTo>
                  <a:lnTo>
                    <a:pt x="2063" y="1706"/>
                  </a:lnTo>
                  <a:lnTo>
                    <a:pt x="1826" y="1533"/>
                  </a:lnTo>
                  <a:lnTo>
                    <a:pt x="1256" y="1126"/>
                  </a:lnTo>
                  <a:lnTo>
                    <a:pt x="1093" y="1006"/>
                  </a:lnTo>
                  <a:lnTo>
                    <a:pt x="1085" y="998"/>
                  </a:lnTo>
                  <a:lnTo>
                    <a:pt x="1082" y="995"/>
                  </a:lnTo>
                  <a:lnTo>
                    <a:pt x="974" y="913"/>
                  </a:lnTo>
                  <a:lnTo>
                    <a:pt x="855" y="818"/>
                  </a:lnTo>
                  <a:lnTo>
                    <a:pt x="845" y="793"/>
                  </a:lnTo>
                  <a:lnTo>
                    <a:pt x="832" y="778"/>
                  </a:lnTo>
                  <a:lnTo>
                    <a:pt x="818" y="768"/>
                  </a:lnTo>
                  <a:lnTo>
                    <a:pt x="799" y="762"/>
                  </a:lnTo>
                  <a:lnTo>
                    <a:pt x="749" y="741"/>
                  </a:lnTo>
                  <a:lnTo>
                    <a:pt x="713" y="720"/>
                  </a:lnTo>
                  <a:lnTo>
                    <a:pt x="672" y="683"/>
                  </a:lnTo>
                  <a:lnTo>
                    <a:pt x="521" y="544"/>
                  </a:lnTo>
                  <a:lnTo>
                    <a:pt x="485" y="504"/>
                  </a:lnTo>
                  <a:lnTo>
                    <a:pt x="464" y="479"/>
                  </a:lnTo>
                  <a:lnTo>
                    <a:pt x="452" y="459"/>
                  </a:lnTo>
                  <a:lnTo>
                    <a:pt x="448" y="450"/>
                  </a:lnTo>
                  <a:lnTo>
                    <a:pt x="437" y="440"/>
                  </a:lnTo>
                  <a:lnTo>
                    <a:pt x="366" y="378"/>
                  </a:lnTo>
                  <a:lnTo>
                    <a:pt x="316" y="338"/>
                  </a:lnTo>
                  <a:lnTo>
                    <a:pt x="298" y="324"/>
                  </a:lnTo>
                  <a:lnTo>
                    <a:pt x="281" y="307"/>
                  </a:lnTo>
                  <a:lnTo>
                    <a:pt x="268" y="286"/>
                  </a:lnTo>
                  <a:lnTo>
                    <a:pt x="254" y="261"/>
                  </a:lnTo>
                  <a:lnTo>
                    <a:pt x="248" y="240"/>
                  </a:lnTo>
                  <a:lnTo>
                    <a:pt x="245" y="228"/>
                  </a:lnTo>
                  <a:lnTo>
                    <a:pt x="245" y="218"/>
                  </a:lnTo>
                  <a:lnTo>
                    <a:pt x="223" y="205"/>
                  </a:lnTo>
                  <a:lnTo>
                    <a:pt x="143" y="170"/>
                  </a:lnTo>
                  <a:lnTo>
                    <a:pt x="118" y="153"/>
                  </a:lnTo>
                  <a:lnTo>
                    <a:pt x="110" y="139"/>
                  </a:lnTo>
                  <a:lnTo>
                    <a:pt x="102" y="118"/>
                  </a:lnTo>
                  <a:lnTo>
                    <a:pt x="91" y="103"/>
                  </a:lnTo>
                  <a:lnTo>
                    <a:pt x="75" y="83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932600" y="6226200"/>
              <a:ext cx="41760" cy="79560"/>
            </a:xfrm>
            <a:custGeom>
              <a:avLst/>
              <a:gdLst/>
              <a:ahLst/>
              <a:rect l="0" t="0" r="r" b="b"/>
              <a:pathLst>
                <a:path w="116" h="221">
                  <a:moveTo>
                    <a:pt x="116" y="17"/>
                  </a:moveTo>
                  <a:lnTo>
                    <a:pt x="111" y="53"/>
                  </a:lnTo>
                  <a:lnTo>
                    <a:pt x="101" y="92"/>
                  </a:lnTo>
                  <a:lnTo>
                    <a:pt x="78" y="144"/>
                  </a:lnTo>
                  <a:lnTo>
                    <a:pt x="62" y="180"/>
                  </a:lnTo>
                  <a:lnTo>
                    <a:pt x="37" y="221"/>
                  </a:lnTo>
                  <a:lnTo>
                    <a:pt x="14" y="201"/>
                  </a:lnTo>
                  <a:lnTo>
                    <a:pt x="3" y="186"/>
                  </a:lnTo>
                  <a:lnTo>
                    <a:pt x="0" y="174"/>
                  </a:lnTo>
                  <a:lnTo>
                    <a:pt x="3" y="166"/>
                  </a:lnTo>
                  <a:lnTo>
                    <a:pt x="20" y="156"/>
                  </a:lnTo>
                  <a:lnTo>
                    <a:pt x="30" y="152"/>
                  </a:lnTo>
                  <a:lnTo>
                    <a:pt x="34" y="146"/>
                  </a:lnTo>
                  <a:lnTo>
                    <a:pt x="43" y="126"/>
                  </a:lnTo>
                  <a:lnTo>
                    <a:pt x="47" y="104"/>
                  </a:lnTo>
                  <a:lnTo>
                    <a:pt x="49" y="66"/>
                  </a:lnTo>
                  <a:lnTo>
                    <a:pt x="56" y="33"/>
                  </a:lnTo>
                  <a:lnTo>
                    <a:pt x="67" y="15"/>
                  </a:lnTo>
                  <a:lnTo>
                    <a:pt x="84" y="0"/>
                  </a:lnTo>
                  <a:lnTo>
                    <a:pt x="92" y="0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772480" y="6391440"/>
              <a:ext cx="87840" cy="66960"/>
            </a:xfrm>
            <a:custGeom>
              <a:avLst/>
              <a:gdLst/>
              <a:ahLst/>
              <a:rect l="0" t="0" r="r" b="b"/>
              <a:pathLst>
                <a:path w="244" h="186">
                  <a:moveTo>
                    <a:pt x="12" y="0"/>
                  </a:moveTo>
                  <a:lnTo>
                    <a:pt x="32" y="1"/>
                  </a:lnTo>
                  <a:lnTo>
                    <a:pt x="38" y="5"/>
                  </a:lnTo>
                  <a:lnTo>
                    <a:pt x="42" y="9"/>
                  </a:lnTo>
                  <a:lnTo>
                    <a:pt x="52" y="25"/>
                  </a:lnTo>
                  <a:lnTo>
                    <a:pt x="63" y="35"/>
                  </a:lnTo>
                  <a:lnTo>
                    <a:pt x="79" y="47"/>
                  </a:lnTo>
                  <a:lnTo>
                    <a:pt x="97" y="57"/>
                  </a:lnTo>
                  <a:lnTo>
                    <a:pt x="109" y="61"/>
                  </a:lnTo>
                  <a:lnTo>
                    <a:pt x="125" y="63"/>
                  </a:lnTo>
                  <a:lnTo>
                    <a:pt x="137" y="69"/>
                  </a:lnTo>
                  <a:lnTo>
                    <a:pt x="159" y="85"/>
                  </a:lnTo>
                  <a:lnTo>
                    <a:pt x="240" y="164"/>
                  </a:lnTo>
                  <a:lnTo>
                    <a:pt x="244" y="172"/>
                  </a:lnTo>
                  <a:lnTo>
                    <a:pt x="244" y="178"/>
                  </a:lnTo>
                  <a:lnTo>
                    <a:pt x="238" y="184"/>
                  </a:lnTo>
                  <a:lnTo>
                    <a:pt x="228" y="186"/>
                  </a:lnTo>
                  <a:lnTo>
                    <a:pt x="210" y="182"/>
                  </a:lnTo>
                  <a:lnTo>
                    <a:pt x="186" y="170"/>
                  </a:lnTo>
                  <a:lnTo>
                    <a:pt x="151" y="148"/>
                  </a:lnTo>
                  <a:lnTo>
                    <a:pt x="109" y="114"/>
                  </a:lnTo>
                  <a:lnTo>
                    <a:pt x="63" y="79"/>
                  </a:lnTo>
                  <a:lnTo>
                    <a:pt x="24" y="55"/>
                  </a:lnTo>
                  <a:lnTo>
                    <a:pt x="10" y="43"/>
                  </a:lnTo>
                  <a:lnTo>
                    <a:pt x="2" y="31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872560" y="6461280"/>
              <a:ext cx="125640" cy="73440"/>
            </a:xfrm>
            <a:custGeom>
              <a:avLst/>
              <a:gdLst/>
              <a:ahLst/>
              <a:rect l="0" t="0" r="r" b="b"/>
              <a:pathLst>
                <a:path w="349" h="204">
                  <a:moveTo>
                    <a:pt x="10" y="0"/>
                  </a:moveTo>
                  <a:lnTo>
                    <a:pt x="24" y="3"/>
                  </a:lnTo>
                  <a:lnTo>
                    <a:pt x="64" y="27"/>
                  </a:lnTo>
                  <a:lnTo>
                    <a:pt x="161" y="86"/>
                  </a:lnTo>
                  <a:lnTo>
                    <a:pt x="337" y="189"/>
                  </a:lnTo>
                  <a:lnTo>
                    <a:pt x="349" y="197"/>
                  </a:lnTo>
                  <a:lnTo>
                    <a:pt x="349" y="200"/>
                  </a:lnTo>
                  <a:lnTo>
                    <a:pt x="343" y="202"/>
                  </a:lnTo>
                  <a:lnTo>
                    <a:pt x="331" y="204"/>
                  </a:lnTo>
                  <a:lnTo>
                    <a:pt x="307" y="198"/>
                  </a:lnTo>
                  <a:lnTo>
                    <a:pt x="266" y="185"/>
                  </a:lnTo>
                  <a:lnTo>
                    <a:pt x="208" y="158"/>
                  </a:lnTo>
                  <a:lnTo>
                    <a:pt x="126" y="118"/>
                  </a:lnTo>
                  <a:lnTo>
                    <a:pt x="18" y="57"/>
                  </a:lnTo>
                  <a:lnTo>
                    <a:pt x="10" y="46"/>
                  </a:lnTo>
                  <a:lnTo>
                    <a:pt x="2" y="29"/>
                  </a:lnTo>
                  <a:lnTo>
                    <a:pt x="0" y="9"/>
                  </a:lnTo>
                  <a:lnTo>
                    <a:pt x="2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832960" y="6504120"/>
              <a:ext cx="81360" cy="51120"/>
            </a:xfrm>
            <a:custGeom>
              <a:avLst/>
              <a:gdLst/>
              <a:ahLst/>
              <a:rect l="0" t="0" r="r" b="b"/>
              <a:pathLst>
                <a:path w="226" h="142">
                  <a:moveTo>
                    <a:pt x="7" y="0"/>
                  </a:moveTo>
                  <a:lnTo>
                    <a:pt x="19" y="0"/>
                  </a:lnTo>
                  <a:lnTo>
                    <a:pt x="41" y="9"/>
                  </a:lnTo>
                  <a:lnTo>
                    <a:pt x="105" y="43"/>
                  </a:lnTo>
                  <a:lnTo>
                    <a:pt x="175" y="88"/>
                  </a:lnTo>
                  <a:lnTo>
                    <a:pt x="205" y="109"/>
                  </a:lnTo>
                  <a:lnTo>
                    <a:pt x="226" y="126"/>
                  </a:lnTo>
                  <a:lnTo>
                    <a:pt x="226" y="140"/>
                  </a:lnTo>
                  <a:lnTo>
                    <a:pt x="219" y="142"/>
                  </a:lnTo>
                  <a:lnTo>
                    <a:pt x="201" y="140"/>
                  </a:lnTo>
                  <a:lnTo>
                    <a:pt x="133" y="111"/>
                  </a:lnTo>
                  <a:lnTo>
                    <a:pt x="73" y="79"/>
                  </a:lnTo>
                  <a:lnTo>
                    <a:pt x="39" y="57"/>
                  </a:lnTo>
                  <a:lnTo>
                    <a:pt x="3" y="30"/>
                  </a:lnTo>
                  <a:lnTo>
                    <a:pt x="0" y="11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58160" y="6591240"/>
              <a:ext cx="28800" cy="19440"/>
            </a:xfrm>
            <a:custGeom>
              <a:avLst/>
              <a:gdLst/>
              <a:ahLst/>
              <a:rect l="0" t="0" r="r" b="b"/>
              <a:pathLst>
                <a:path w="80" h="54">
                  <a:moveTo>
                    <a:pt x="0" y="18"/>
                  </a:moveTo>
                  <a:lnTo>
                    <a:pt x="7" y="6"/>
                  </a:lnTo>
                  <a:lnTo>
                    <a:pt x="12" y="3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41" y="6"/>
                  </a:lnTo>
                  <a:lnTo>
                    <a:pt x="58" y="19"/>
                  </a:lnTo>
                  <a:lnTo>
                    <a:pt x="78" y="41"/>
                  </a:lnTo>
                  <a:lnTo>
                    <a:pt x="80" y="49"/>
                  </a:lnTo>
                  <a:lnTo>
                    <a:pt x="78" y="54"/>
                  </a:lnTo>
                  <a:lnTo>
                    <a:pt x="63" y="54"/>
                  </a:lnTo>
                  <a:lnTo>
                    <a:pt x="35" y="4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26600" y="5640480"/>
              <a:ext cx="27360" cy="33840"/>
            </a:xfrm>
            <a:custGeom>
              <a:avLst/>
              <a:gdLst/>
              <a:ahLst/>
              <a:rect l="0" t="0" r="r" b="b"/>
              <a:pathLst>
                <a:path w="76" h="94">
                  <a:moveTo>
                    <a:pt x="25" y="94"/>
                  </a:moveTo>
                  <a:lnTo>
                    <a:pt x="25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6" y="0"/>
                  </a:lnTo>
                  <a:lnTo>
                    <a:pt x="76" y="22"/>
                  </a:lnTo>
                  <a:lnTo>
                    <a:pt x="49" y="22"/>
                  </a:lnTo>
                  <a:lnTo>
                    <a:pt x="49" y="94"/>
                  </a:lnTo>
                  <a:lnTo>
                    <a:pt x="25" y="94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564400" y="5640480"/>
              <a:ext cx="44640" cy="36720"/>
            </a:xfrm>
            <a:custGeom>
              <a:avLst/>
              <a:gdLst/>
              <a:ahLst/>
              <a:rect l="0" t="0" r="r" b="b"/>
              <a:pathLst>
                <a:path w="124" h="102">
                  <a:moveTo>
                    <a:pt x="6" y="0"/>
                  </a:moveTo>
                  <a:lnTo>
                    <a:pt x="14" y="0"/>
                  </a:lnTo>
                  <a:lnTo>
                    <a:pt x="18" y="2"/>
                  </a:lnTo>
                  <a:lnTo>
                    <a:pt x="61" y="67"/>
                  </a:lnTo>
                  <a:lnTo>
                    <a:pt x="105" y="4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2" y="10"/>
                  </a:lnTo>
                  <a:lnTo>
                    <a:pt x="124" y="14"/>
                  </a:lnTo>
                  <a:lnTo>
                    <a:pt x="124" y="102"/>
                  </a:lnTo>
                  <a:lnTo>
                    <a:pt x="103" y="102"/>
                  </a:lnTo>
                  <a:lnTo>
                    <a:pt x="103" y="34"/>
                  </a:lnTo>
                  <a:lnTo>
                    <a:pt x="61" y="100"/>
                  </a:lnTo>
                  <a:lnTo>
                    <a:pt x="20" y="34"/>
                  </a:lnTo>
                  <a:lnTo>
                    <a:pt x="20" y="100"/>
                  </a:lnTo>
                  <a:lnTo>
                    <a:pt x="0" y="10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564400" y="5640480"/>
              <a:ext cx="44640" cy="36720"/>
            </a:xfrm>
            <a:custGeom>
              <a:avLst/>
              <a:gdLst/>
              <a:ahLst/>
              <a:rect l="0" t="0" r="r" b="b"/>
              <a:pathLst>
                <a:path w="124" h="102">
                  <a:moveTo>
                    <a:pt x="6" y="0"/>
                  </a:moveTo>
                  <a:lnTo>
                    <a:pt x="14" y="0"/>
                  </a:lnTo>
                  <a:lnTo>
                    <a:pt x="18" y="2"/>
                  </a:lnTo>
                  <a:lnTo>
                    <a:pt x="61" y="67"/>
                  </a:lnTo>
                  <a:lnTo>
                    <a:pt x="105" y="4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2" y="10"/>
                  </a:lnTo>
                  <a:lnTo>
                    <a:pt x="124" y="14"/>
                  </a:lnTo>
                  <a:lnTo>
                    <a:pt x="124" y="102"/>
                  </a:lnTo>
                  <a:lnTo>
                    <a:pt x="103" y="102"/>
                  </a:lnTo>
                  <a:lnTo>
                    <a:pt x="103" y="34"/>
                  </a:lnTo>
                  <a:lnTo>
                    <a:pt x="61" y="100"/>
                  </a:lnTo>
                  <a:lnTo>
                    <a:pt x="20" y="34"/>
                  </a:lnTo>
                  <a:lnTo>
                    <a:pt x="20" y="100"/>
                  </a:lnTo>
                  <a:lnTo>
                    <a:pt x="0" y="10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1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62120" y="22860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ig Picture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90000"/>
              </a:lnSpc>
              <a:spcBef>
                <a:spcPts val="241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gence Creates a $100-Billion “Interactive Megamarke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997360" y="2119320"/>
            <a:ext cx="3208320" cy="152244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598320" y="4591080"/>
            <a:ext cx="2502360" cy="782640"/>
            <a:chOff x="598320" y="4591080"/>
            <a:chExt cx="2502360" cy="782640"/>
          </a:xfrm>
        </p:grpSpPr>
        <p:sp>
          <p:nvSpPr>
            <p:cNvPr id="107" name=""/>
            <p:cNvSpPr/>
            <p:nvPr/>
          </p:nvSpPr>
          <p:spPr>
            <a:xfrm>
              <a:off x="598320" y="4591080"/>
              <a:ext cx="2502360" cy="687600"/>
            </a:xfrm>
            <a:custGeom>
              <a:avLst/>
              <a:gdLst/>
              <a:ahLst/>
              <a:rect l="0" t="0" r="r" b="b"/>
              <a:pathLst>
                <a:path w="6951" h="1910">
                  <a:moveTo>
                    <a:pt x="0" y="0"/>
                  </a:moveTo>
                  <a:lnTo>
                    <a:pt x="2085" y="1910"/>
                  </a:lnTo>
                  <a:lnTo>
                    <a:pt x="4865" y="1910"/>
                  </a:lnTo>
                  <a:lnTo>
                    <a:pt x="695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688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985680" y="4646520"/>
              <a:ext cx="1719360" cy="72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414141"/>
                  </a:solidFill>
                  <a:latin typeface="Goudy"/>
                  <a:ea typeface="Goudy"/>
                </a:rPr>
                <a:t>Telecommunic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414141"/>
                  </a:solidFill>
                  <a:latin typeface="Goudy"/>
                  <a:ea typeface="Goudy"/>
                </a:rPr>
                <a:t>Service Provi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805360" y="4621320"/>
            <a:ext cx="1311480" cy="876600"/>
            <a:chOff x="5805360" y="4621320"/>
            <a:chExt cx="1311480" cy="876600"/>
          </a:xfrm>
        </p:grpSpPr>
        <p:sp>
          <p:nvSpPr>
            <p:cNvPr id="110" name=""/>
            <p:cNvSpPr/>
            <p:nvPr/>
          </p:nvSpPr>
          <p:spPr>
            <a:xfrm>
              <a:off x="5805360" y="4621320"/>
              <a:ext cx="1311480" cy="876600"/>
            </a:xfrm>
            <a:custGeom>
              <a:avLst/>
              <a:gdLst/>
              <a:ahLst/>
              <a:rect l="0" t="0" r="r" b="b"/>
              <a:pathLst>
                <a:path w="3643" h="2435">
                  <a:moveTo>
                    <a:pt x="0" y="2435"/>
                  </a:moveTo>
                  <a:lnTo>
                    <a:pt x="2550" y="2435"/>
                  </a:lnTo>
                  <a:lnTo>
                    <a:pt x="3643" y="0"/>
                  </a:lnTo>
                  <a:lnTo>
                    <a:pt x="1092" y="0"/>
                  </a:lnTo>
                  <a:lnTo>
                    <a:pt x="0" y="2435"/>
                  </a:lnTo>
                  <a:close/>
                </a:path>
              </a:pathLst>
            </a:custGeom>
            <a:solidFill>
              <a:srgbClr val="b760f9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6116760" y="4668840"/>
              <a:ext cx="752400" cy="72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414141"/>
                  </a:solidFill>
                  <a:latin typeface="Goudy"/>
                  <a:ea typeface="Goudy"/>
                </a:rPr>
                <a:t>Fib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414141"/>
                  </a:solidFill>
                  <a:latin typeface="Goudy"/>
                  <a:ea typeface="Goudy"/>
                </a:rPr>
                <a:t>Op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414141"/>
                  </a:solidFill>
                  <a:latin typeface="Goudy"/>
                  <a:ea typeface="Goudy"/>
                </a:rPr>
                <a:t>Cab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183360" y="3870360"/>
            <a:ext cx="1814760" cy="1095840"/>
            <a:chOff x="6183360" y="3870360"/>
            <a:chExt cx="1814760" cy="1095840"/>
          </a:xfrm>
        </p:grpSpPr>
        <p:sp>
          <p:nvSpPr>
            <p:cNvPr id="113" name=""/>
            <p:cNvSpPr/>
            <p:nvPr/>
          </p:nvSpPr>
          <p:spPr>
            <a:xfrm>
              <a:off x="6183360" y="3870360"/>
              <a:ext cx="1814760" cy="1095840"/>
            </a:xfrm>
            <a:custGeom>
              <a:avLst/>
              <a:gdLst/>
              <a:ahLst/>
              <a:rect l="0" t="0" r="r" b="b"/>
              <a:pathLst>
                <a:path w="5041" h="3044">
                  <a:moveTo>
                    <a:pt x="0" y="0"/>
                  </a:moveTo>
                  <a:lnTo>
                    <a:pt x="5041" y="0"/>
                  </a:lnTo>
                  <a:lnTo>
                    <a:pt x="2521" y="30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6892920" y="3960720"/>
              <a:ext cx="701640" cy="501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414141"/>
                  </a:solidFill>
                  <a:latin typeface="Goudy"/>
                  <a:ea typeface="Goudy"/>
                </a:rPr>
                <a:t>Virt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414141"/>
                  </a:solidFill>
                  <a:latin typeface="Goudy"/>
                  <a:ea typeface="Goudy"/>
                </a:rPr>
                <a:t>Rea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255840" y="5823000"/>
            <a:ext cx="4753440" cy="727200"/>
            <a:chOff x="3255840" y="5823000"/>
            <a:chExt cx="4753440" cy="727200"/>
          </a:xfrm>
        </p:grpSpPr>
        <p:sp>
          <p:nvSpPr>
            <p:cNvPr id="116" name=""/>
            <p:cNvSpPr/>
            <p:nvPr/>
          </p:nvSpPr>
          <p:spPr>
            <a:xfrm>
              <a:off x="3255840" y="5826240"/>
              <a:ext cx="4753440" cy="625680"/>
            </a:xfrm>
            <a:custGeom>
              <a:avLst/>
              <a:gdLst/>
              <a:ahLst/>
              <a:rect l="0" t="0" r="r" b="b"/>
              <a:pathLst>
                <a:path w="13204" h="1738">
                  <a:moveTo>
                    <a:pt x="6602" y="1738"/>
                  </a:moveTo>
                  <a:lnTo>
                    <a:pt x="13204" y="868"/>
                  </a:lnTo>
                  <a:lnTo>
                    <a:pt x="6602" y="0"/>
                  </a:lnTo>
                  <a:lnTo>
                    <a:pt x="0" y="868"/>
                  </a:lnTo>
                  <a:lnTo>
                    <a:pt x="6602" y="1738"/>
                  </a:lnTo>
                  <a:close/>
                </a:path>
              </a:pathLst>
            </a:custGeom>
            <a:solidFill>
              <a:srgbClr val="009688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4452840" y="5823000"/>
              <a:ext cx="2481120" cy="72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414141"/>
                  </a:solidFill>
                  <a:latin typeface="Goudy"/>
                  <a:ea typeface="Goudy"/>
                </a:rPr>
                <a:t>T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414141"/>
                  </a:solidFill>
                  <a:latin typeface="Goudy"/>
                  <a:ea typeface="Goudy"/>
                </a:rPr>
                <a:t>“</a:t>
              </a:r>
              <a:r>
                <a:rPr b="1" lang="en-US" sz="1400" spc="-1" strike="noStrike">
                  <a:solidFill>
                    <a:srgbClr val="414141"/>
                  </a:solidFill>
                  <a:latin typeface="Goudy"/>
                  <a:ea typeface="Goudy"/>
                </a:rPr>
                <a:t>Information Super Highway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586320" y="3651120"/>
            <a:ext cx="937080" cy="1627560"/>
            <a:chOff x="3586320" y="3651120"/>
            <a:chExt cx="937080" cy="1627560"/>
          </a:xfrm>
        </p:grpSpPr>
        <p:sp>
          <p:nvSpPr>
            <p:cNvPr id="119" name=""/>
            <p:cNvSpPr/>
            <p:nvPr/>
          </p:nvSpPr>
          <p:spPr>
            <a:xfrm>
              <a:off x="3586320" y="3651120"/>
              <a:ext cx="937080" cy="1627560"/>
            </a:xfrm>
            <a:custGeom>
              <a:avLst/>
              <a:gdLst/>
              <a:ahLst/>
              <a:rect l="0" t="0" r="r" b="b"/>
              <a:pathLst>
                <a:path w="2603" h="4521">
                  <a:moveTo>
                    <a:pt x="0" y="4521"/>
                  </a:moveTo>
                  <a:lnTo>
                    <a:pt x="781" y="0"/>
                  </a:lnTo>
                  <a:lnTo>
                    <a:pt x="1822" y="0"/>
                  </a:lnTo>
                  <a:lnTo>
                    <a:pt x="2603" y="4521"/>
                  </a:lnTo>
                  <a:lnTo>
                    <a:pt x="0" y="4521"/>
                  </a:lnTo>
                  <a:close/>
                </a:path>
              </a:pathLst>
            </a:custGeom>
            <a:solidFill>
              <a:srgbClr val="f35b1b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3701880" y="4449600"/>
              <a:ext cx="762120" cy="72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414141"/>
                  </a:solidFill>
                  <a:latin typeface="Goudy"/>
                  <a:ea typeface="Goudy"/>
                </a:rPr>
                <a:t>Mo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414141"/>
                  </a:solidFill>
                  <a:latin typeface="Goudy"/>
                  <a:ea typeface="Goudy"/>
                </a:rPr>
                <a:t>Pi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414141"/>
                  </a:solidFill>
                  <a:latin typeface="Goudy"/>
                  <a:ea typeface="Goudy"/>
                </a:rPr>
                <a:t>Cont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787400" y="2846520"/>
            <a:ext cx="512748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210200" y="4686120"/>
            <a:ext cx="1751400" cy="1099800"/>
            <a:chOff x="4210200" y="4686120"/>
            <a:chExt cx="1751400" cy="1099800"/>
          </a:xfrm>
        </p:grpSpPr>
        <p:sp>
          <p:nvSpPr>
            <p:cNvPr id="123" name=""/>
            <p:cNvSpPr/>
            <p:nvPr/>
          </p:nvSpPr>
          <p:spPr>
            <a:xfrm>
              <a:off x="4210200" y="4686120"/>
              <a:ext cx="1751400" cy="1000440"/>
            </a:xfrm>
            <a:custGeom>
              <a:avLst/>
              <a:gdLst/>
              <a:ahLst/>
              <a:rect l="0" t="0" r="r" b="b"/>
              <a:pathLst>
                <a:path w="4865" h="2779">
                  <a:moveTo>
                    <a:pt x="0" y="2779"/>
                  </a:moveTo>
                  <a:lnTo>
                    <a:pt x="1460" y="0"/>
                  </a:lnTo>
                  <a:lnTo>
                    <a:pt x="3405" y="0"/>
                  </a:lnTo>
                  <a:lnTo>
                    <a:pt x="4865" y="2779"/>
                  </a:lnTo>
                  <a:lnTo>
                    <a:pt x="0" y="2779"/>
                  </a:lnTo>
                  <a:close/>
                </a:path>
              </a:pathLst>
            </a:custGeom>
            <a:solidFill>
              <a:srgbClr val="00279f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4452840" y="4816440"/>
              <a:ext cx="1265400" cy="96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cecece"/>
                  </a:solidFill>
                  <a:latin typeface="Goudy"/>
                  <a:ea typeface="Goudy"/>
                </a:rPr>
                <a:t>Interac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cecece"/>
                  </a:solidFill>
                  <a:latin typeface="Goudy"/>
                  <a:ea typeface="Goudy"/>
                </a:rPr>
                <a:t>Entertai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cecece"/>
                  </a:solidFill>
                  <a:latin typeface="Goudy"/>
                  <a:ea typeface="Goudy"/>
                </a:rPr>
                <a:t>Cont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39800" y="5041800"/>
            <a:ext cx="1891080" cy="1322640"/>
            <a:chOff x="739800" y="5041800"/>
            <a:chExt cx="1891080" cy="1322640"/>
          </a:xfrm>
        </p:grpSpPr>
        <p:sp>
          <p:nvSpPr>
            <p:cNvPr id="126" name=""/>
            <p:cNvSpPr/>
            <p:nvPr/>
          </p:nvSpPr>
          <p:spPr>
            <a:xfrm>
              <a:off x="739800" y="5041800"/>
              <a:ext cx="1891080" cy="1322640"/>
            </a:xfrm>
            <a:custGeom>
              <a:avLst/>
              <a:gdLst/>
              <a:ahLst/>
              <a:rect l="0" t="0" r="r" b="b"/>
              <a:pathLst>
                <a:path w="5253" h="3674">
                  <a:moveTo>
                    <a:pt x="2626" y="3674"/>
                  </a:moveTo>
                  <a:lnTo>
                    <a:pt x="5253" y="1836"/>
                  </a:lnTo>
                  <a:lnTo>
                    <a:pt x="2626" y="0"/>
                  </a:lnTo>
                  <a:lnTo>
                    <a:pt x="0" y="1836"/>
                  </a:lnTo>
                  <a:lnTo>
                    <a:pt x="2626" y="3674"/>
                  </a:lnTo>
                  <a:close/>
                </a:path>
              </a:pathLst>
            </a:custGeom>
            <a:solidFill>
              <a:srgbClr val="00279f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1195560" y="5450040"/>
              <a:ext cx="977760" cy="72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cecece"/>
                  </a:solidFill>
                  <a:latin typeface="Goudy"/>
                  <a:ea typeface="Goudy"/>
                </a:rPr>
                <a:t>Interac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cecece"/>
                  </a:solidFill>
                  <a:latin typeface="Goudy"/>
                  <a:ea typeface="Goudy"/>
                </a:rPr>
                <a:t>Televi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683320" y="5433840"/>
            <a:ext cx="2127600" cy="484920"/>
            <a:chOff x="5683320" y="5433840"/>
            <a:chExt cx="2127600" cy="484920"/>
          </a:xfrm>
        </p:grpSpPr>
        <p:sp>
          <p:nvSpPr>
            <p:cNvPr id="129" name=""/>
            <p:cNvSpPr/>
            <p:nvPr/>
          </p:nvSpPr>
          <p:spPr>
            <a:xfrm>
              <a:off x="5683320" y="5433840"/>
              <a:ext cx="2127600" cy="282960"/>
            </a:xfrm>
            <a:custGeom>
              <a:avLst/>
              <a:gdLst/>
              <a:ahLst/>
              <a:rect l="0" t="0" r="r" b="b"/>
              <a:pathLst>
                <a:path w="5910" h="786">
                  <a:moveTo>
                    <a:pt x="0" y="0"/>
                  </a:moveTo>
                  <a:lnTo>
                    <a:pt x="1772" y="786"/>
                  </a:lnTo>
                  <a:lnTo>
                    <a:pt x="4137" y="786"/>
                  </a:lnTo>
                  <a:lnTo>
                    <a:pt x="59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6175440" y="5433840"/>
              <a:ext cx="114768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414141"/>
                  </a:solidFill>
                  <a:latin typeface="Goudy"/>
                  <a:ea typeface="Goudy"/>
                </a:rPr>
                <a:t>Edutai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319480" y="4575240"/>
            <a:ext cx="1000440" cy="1502280"/>
            <a:chOff x="2319480" y="4575240"/>
            <a:chExt cx="1000440" cy="1502280"/>
          </a:xfrm>
        </p:grpSpPr>
        <p:sp>
          <p:nvSpPr>
            <p:cNvPr id="132" name=""/>
            <p:cNvSpPr/>
            <p:nvPr/>
          </p:nvSpPr>
          <p:spPr>
            <a:xfrm>
              <a:off x="2319480" y="4575240"/>
              <a:ext cx="1000440" cy="1502280"/>
            </a:xfrm>
            <a:custGeom>
              <a:avLst/>
              <a:gdLst/>
              <a:ahLst/>
              <a:rect l="0" t="0" r="r" b="b"/>
              <a:pathLst>
                <a:path w="2779" h="4173">
                  <a:moveTo>
                    <a:pt x="0" y="0"/>
                  </a:moveTo>
                  <a:lnTo>
                    <a:pt x="833" y="4173"/>
                  </a:lnTo>
                  <a:lnTo>
                    <a:pt x="1945" y="4173"/>
                  </a:lnTo>
                  <a:lnTo>
                    <a:pt x="27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379600" y="4618080"/>
              <a:ext cx="874800" cy="501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414141"/>
                  </a:solidFill>
                  <a:latin typeface="Goudy"/>
                  <a:ea typeface="Goudy"/>
                </a:rPr>
                <a:t>Video 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414141"/>
                  </a:solidFill>
                  <a:latin typeface="Goudy"/>
                  <a:ea typeface="Goudy"/>
                </a:rPr>
                <a:t>Dem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988920" y="3166920"/>
            <a:ext cx="1375200" cy="1189440"/>
            <a:chOff x="988920" y="3166920"/>
            <a:chExt cx="1375200" cy="1189440"/>
          </a:xfrm>
        </p:grpSpPr>
        <p:sp>
          <p:nvSpPr>
            <p:cNvPr id="135" name=""/>
            <p:cNvSpPr/>
            <p:nvPr/>
          </p:nvSpPr>
          <p:spPr>
            <a:xfrm>
              <a:off x="988920" y="3166920"/>
              <a:ext cx="1375200" cy="1189440"/>
            </a:xfrm>
            <a:custGeom>
              <a:avLst/>
              <a:gdLst/>
              <a:ahLst/>
              <a:rect l="0" t="0" r="r" b="b"/>
              <a:pathLst>
                <a:path w="3820" h="3304">
                  <a:moveTo>
                    <a:pt x="0" y="3304"/>
                  </a:moveTo>
                  <a:lnTo>
                    <a:pt x="3820" y="3304"/>
                  </a:lnTo>
                  <a:lnTo>
                    <a:pt x="1910" y="0"/>
                  </a:lnTo>
                  <a:lnTo>
                    <a:pt x="0" y="3304"/>
                  </a:lnTo>
                  <a:close/>
                </a:path>
              </a:pathLst>
            </a:custGeom>
            <a:solidFill>
              <a:srgbClr val="b760f9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1241280" y="3836880"/>
              <a:ext cx="871560" cy="501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cecece"/>
                  </a:solidFill>
                  <a:latin typeface="Goudy"/>
                  <a:ea typeface="Goudy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cecece"/>
                  </a:solidFill>
                  <a:latin typeface="Goudy"/>
                  <a:ea typeface="Goudy"/>
                </a:rPr>
                <a:t>Shopp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562640" y="2633760"/>
            <a:ext cx="2735640" cy="1878480"/>
            <a:chOff x="4562640" y="2633760"/>
            <a:chExt cx="2735640" cy="1878480"/>
          </a:xfrm>
        </p:grpSpPr>
        <p:sp>
          <p:nvSpPr>
            <p:cNvPr id="138" name=""/>
            <p:cNvSpPr/>
            <p:nvPr/>
          </p:nvSpPr>
          <p:spPr>
            <a:xfrm>
              <a:off x="4562640" y="2633760"/>
              <a:ext cx="2735640" cy="1878480"/>
            </a:xfrm>
            <a:custGeom>
              <a:avLst/>
              <a:gdLst/>
              <a:ahLst/>
              <a:rect l="0" t="0" r="r" b="b"/>
              <a:pathLst>
                <a:path w="7599" h="5218">
                  <a:moveTo>
                    <a:pt x="3799" y="0"/>
                  </a:moveTo>
                  <a:lnTo>
                    <a:pt x="2911" y="1998"/>
                  </a:lnTo>
                  <a:lnTo>
                    <a:pt x="0" y="1998"/>
                  </a:lnTo>
                  <a:lnTo>
                    <a:pt x="2365" y="3235"/>
                  </a:lnTo>
                  <a:lnTo>
                    <a:pt x="1476" y="5218"/>
                  </a:lnTo>
                  <a:lnTo>
                    <a:pt x="3799" y="4071"/>
                  </a:lnTo>
                  <a:lnTo>
                    <a:pt x="6122" y="5218"/>
                  </a:lnTo>
                  <a:lnTo>
                    <a:pt x="5228" y="3235"/>
                  </a:lnTo>
                  <a:lnTo>
                    <a:pt x="7599" y="1994"/>
                  </a:lnTo>
                  <a:lnTo>
                    <a:pt x="4686" y="1994"/>
                  </a:lnTo>
                  <a:lnTo>
                    <a:pt x="3799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5452920" y="3348000"/>
              <a:ext cx="998640" cy="72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Goudy"/>
                  <a:ea typeface="Goudy"/>
                </a:rPr>
                <a:t>Desk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Goudy"/>
                  <a:ea typeface="Goudy"/>
                </a:rPr>
                <a:t>Pers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Goudy"/>
                  <a:ea typeface="Goudy"/>
                </a:rPr>
                <a:t>Comput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401840" y="2633760"/>
            <a:ext cx="2738880" cy="1878480"/>
            <a:chOff x="1401840" y="2633760"/>
            <a:chExt cx="2738880" cy="1878480"/>
          </a:xfrm>
        </p:grpSpPr>
        <p:sp>
          <p:nvSpPr>
            <p:cNvPr id="141" name=""/>
            <p:cNvSpPr/>
            <p:nvPr/>
          </p:nvSpPr>
          <p:spPr>
            <a:xfrm>
              <a:off x="1401840" y="2633760"/>
              <a:ext cx="2738880" cy="1878480"/>
            </a:xfrm>
            <a:custGeom>
              <a:avLst/>
              <a:gdLst/>
              <a:ahLst/>
              <a:rect l="0" t="0" r="r" b="b"/>
              <a:pathLst>
                <a:path w="7608" h="5218">
                  <a:moveTo>
                    <a:pt x="3804" y="0"/>
                  </a:moveTo>
                  <a:lnTo>
                    <a:pt x="2914" y="1998"/>
                  </a:lnTo>
                  <a:lnTo>
                    <a:pt x="0" y="1998"/>
                  </a:lnTo>
                  <a:lnTo>
                    <a:pt x="2368" y="3235"/>
                  </a:lnTo>
                  <a:lnTo>
                    <a:pt x="1477" y="5218"/>
                  </a:lnTo>
                  <a:lnTo>
                    <a:pt x="3804" y="4071"/>
                  </a:lnTo>
                  <a:lnTo>
                    <a:pt x="6130" y="5218"/>
                  </a:lnTo>
                  <a:lnTo>
                    <a:pt x="5234" y="3235"/>
                  </a:lnTo>
                  <a:lnTo>
                    <a:pt x="7608" y="1994"/>
                  </a:lnTo>
                  <a:lnTo>
                    <a:pt x="4692" y="1994"/>
                  </a:lnTo>
                  <a:lnTo>
                    <a:pt x="3804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2214720" y="3348000"/>
              <a:ext cx="1092240" cy="72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Goudy"/>
                  <a:ea typeface="Goudy"/>
                </a:rPr>
                <a:t>Set-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Goudy"/>
                  <a:ea typeface="Goudy"/>
                </a:rPr>
                <a:t>Video G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Goudy"/>
                  <a:ea typeface="Goudy"/>
                </a:rPr>
                <a:t>Syste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381480" y="5064120"/>
            <a:ext cx="938520" cy="1330560"/>
            <a:chOff x="3381480" y="5064120"/>
            <a:chExt cx="938520" cy="1330560"/>
          </a:xfrm>
        </p:grpSpPr>
        <p:sp>
          <p:nvSpPr>
            <p:cNvPr id="144" name=""/>
            <p:cNvSpPr/>
            <p:nvPr/>
          </p:nvSpPr>
          <p:spPr>
            <a:xfrm>
              <a:off x="3381480" y="5064120"/>
              <a:ext cx="938520" cy="1330560"/>
            </a:xfrm>
            <a:custGeom>
              <a:avLst/>
              <a:gdLst/>
              <a:ahLst/>
              <a:rect l="0" t="0" r="r" b="b"/>
              <a:pathLst>
                <a:path w="2607" h="3696">
                  <a:moveTo>
                    <a:pt x="0" y="0"/>
                  </a:moveTo>
                  <a:lnTo>
                    <a:pt x="0" y="2587"/>
                  </a:lnTo>
                  <a:lnTo>
                    <a:pt x="2607" y="3696"/>
                  </a:lnTo>
                  <a:lnTo>
                    <a:pt x="2607" y="1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3389400" y="5526000"/>
              <a:ext cx="919080" cy="72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414141"/>
                  </a:solidFill>
                  <a:latin typeface="Goudy"/>
                  <a:ea typeface="Goudy"/>
                </a:rPr>
                <a:t>On-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414141"/>
                  </a:solidFill>
                  <a:latin typeface="Goudy"/>
                  <a:ea typeface="Goudy"/>
                </a:rPr>
                <a:t>Databa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444840" y="3059280"/>
            <a:ext cx="1811520" cy="514080"/>
            <a:chOff x="3444840" y="3059280"/>
            <a:chExt cx="1811520" cy="514080"/>
          </a:xfrm>
        </p:grpSpPr>
        <p:sp>
          <p:nvSpPr>
            <p:cNvPr id="147" name=""/>
            <p:cNvSpPr/>
            <p:nvPr/>
          </p:nvSpPr>
          <p:spPr>
            <a:xfrm flipV="1">
              <a:off x="3444840" y="3059280"/>
              <a:ext cx="561960" cy="514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4694400" y="3059280"/>
              <a:ext cx="561960" cy="514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1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762120" y="30492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ing the W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3 U.S. Entertainment Spe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n Mill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87280" y="2046240"/>
            <a:ext cx="8623440" cy="4519800"/>
            <a:chOff x="287280" y="2046240"/>
            <a:chExt cx="8623440" cy="4519800"/>
          </a:xfrm>
        </p:grpSpPr>
        <p:sp>
          <p:nvSpPr>
            <p:cNvPr id="151" name=""/>
            <p:cNvSpPr txBox="1"/>
            <p:nvPr/>
          </p:nvSpPr>
          <p:spPr>
            <a:xfrm>
              <a:off x="884160" y="572940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$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414360" y="4992840"/>
              <a:ext cx="8827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$5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287280" y="4255920"/>
              <a:ext cx="1011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$10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287280" y="3519360"/>
              <a:ext cx="1011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$15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287280" y="2782800"/>
              <a:ext cx="1011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$20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287280" y="2046240"/>
              <a:ext cx="1011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$25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86000" y="5200560"/>
              <a:ext cx="746280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86000" y="4464000"/>
              <a:ext cx="746280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86000" y="3727440"/>
              <a:ext cx="746280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86000" y="2990880"/>
              <a:ext cx="746280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86000" y="2254320"/>
              <a:ext cx="746280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95520" y="5219640"/>
              <a:ext cx="816120" cy="6984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44720" y="5016600"/>
              <a:ext cx="804960" cy="90180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83120" y="4737240"/>
              <a:ext cx="819000" cy="11811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19720" y="4267080"/>
              <a:ext cx="817560" cy="16509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70720" y="4241880"/>
              <a:ext cx="803160" cy="1676520"/>
            </a:xfrm>
            <a:prstGeom prst="rect">
              <a:avLst/>
            </a:prstGeom>
            <a:solidFill>
              <a:srgbClr val="f2088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807320" y="2755800"/>
              <a:ext cx="820800" cy="3162240"/>
            </a:xfrm>
            <a:prstGeom prst="rect">
              <a:avLst/>
            </a:prstGeom>
            <a:solidFill>
              <a:srgbClr val="02ab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392120" y="2247840"/>
              <a:ext cx="0" cy="36831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25520" y="5937120"/>
              <a:ext cx="13356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5520" y="5200560"/>
              <a:ext cx="13356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25520" y="4464000"/>
              <a:ext cx="13356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25520" y="3727440"/>
              <a:ext cx="13356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25520" y="2990880"/>
              <a:ext cx="13356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25520" y="2254320"/>
              <a:ext cx="13356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86000" y="5937120"/>
              <a:ext cx="746280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392120" y="5867280"/>
              <a:ext cx="0" cy="1144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643120" y="5867280"/>
              <a:ext cx="0" cy="1144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881520" y="5867280"/>
              <a:ext cx="0" cy="1144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130720" y="5867280"/>
              <a:ext cx="0" cy="1144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367320" y="5867280"/>
              <a:ext cx="0" cy="1144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605720" y="5867280"/>
              <a:ext cx="0" cy="1144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8858160" y="5867280"/>
              <a:ext cx="0" cy="1144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1595520" y="5996160"/>
              <a:ext cx="8319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Mov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1525680" y="6199200"/>
              <a:ext cx="9716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Tick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2827440" y="5996160"/>
              <a:ext cx="806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Vide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2757600" y="6199200"/>
              <a:ext cx="946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Ga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4014720" y="5996160"/>
              <a:ext cx="1022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Mus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3843360" y="6199200"/>
              <a:ext cx="1365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Tapes/C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5106960" y="5996160"/>
              <a:ext cx="1276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Videota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5342040" y="6199200"/>
              <a:ext cx="806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Reta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6491160" y="5996160"/>
              <a:ext cx="946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Toys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6491160" y="6199200"/>
              <a:ext cx="946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Ga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7856640" y="5996160"/>
              <a:ext cx="806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C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7608960" y="6199200"/>
              <a:ext cx="13017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Televi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 txBox="1"/>
          <p:nvPr/>
        </p:nvSpPr>
        <p:spPr>
          <a:xfrm>
            <a:off x="5927760" y="6523200"/>
            <a:ext cx="3147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Source: V&amp;A Primary and Compil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1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762120" y="30492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ong Sales Growth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.S. Video Game/“IES” Retail S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n Mill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95360" y="2125800"/>
            <a:ext cx="8167680" cy="4289040"/>
            <a:chOff x="495360" y="2125800"/>
            <a:chExt cx="8167680" cy="4289040"/>
          </a:xfrm>
        </p:grpSpPr>
        <p:sp>
          <p:nvSpPr>
            <p:cNvPr id="198" name=""/>
            <p:cNvSpPr/>
            <p:nvPr/>
          </p:nvSpPr>
          <p:spPr>
            <a:xfrm>
              <a:off x="1627200" y="5359320"/>
              <a:ext cx="702612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27200" y="4756320"/>
              <a:ext cx="702612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27200" y="4140360"/>
              <a:ext cx="702612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27200" y="3535200"/>
              <a:ext cx="702612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27200" y="2917800"/>
              <a:ext cx="702612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27200" y="2300400"/>
              <a:ext cx="702612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82640" y="5916600"/>
              <a:ext cx="222120" cy="428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38320" y="5902200"/>
              <a:ext cx="223920" cy="572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81400" y="5780160"/>
              <a:ext cx="223920" cy="179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38520" y="5834160"/>
              <a:ext cx="222120" cy="125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81240" y="5931000"/>
              <a:ext cx="222120" cy="284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0800000">
              <a:off x="3438360" y="5959440"/>
              <a:ext cx="222120" cy="111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94040" y="5902200"/>
              <a:ext cx="222120" cy="572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37120" y="5807160"/>
              <a:ext cx="222120" cy="152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94240" y="5711760"/>
              <a:ext cx="222120" cy="2476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36960" y="5600880"/>
              <a:ext cx="222120" cy="3589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92640" y="5586480"/>
              <a:ext cx="223920" cy="3729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49760" y="5532480"/>
              <a:ext cx="222120" cy="4269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92840" y="5354640"/>
              <a:ext cx="222120" cy="6048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49960" y="5299200"/>
              <a:ext cx="222120" cy="6602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93040" y="5257800"/>
              <a:ext cx="222120" cy="7016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50160" y="5175360"/>
              <a:ext cx="220680" cy="7840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07280" y="5011560"/>
              <a:ext cx="220680" cy="9478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50000" y="4941720"/>
              <a:ext cx="220680" cy="10177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05680" y="4983120"/>
              <a:ext cx="222120" cy="9763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348760" y="5121360"/>
              <a:ext cx="235080" cy="8380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82640" y="5821200"/>
              <a:ext cx="222120" cy="842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38320" y="5654520"/>
              <a:ext cx="223920" cy="2365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81400" y="5052960"/>
              <a:ext cx="223920" cy="716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38520" y="5354640"/>
              <a:ext cx="222120" cy="4683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81240" y="5724360"/>
              <a:ext cx="222120" cy="1951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38360" y="5943600"/>
              <a:ext cx="222120" cy="158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94040" y="5821200"/>
              <a:ext cx="222120" cy="698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37120" y="5586480"/>
              <a:ext cx="222120" cy="2095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94240" y="5135400"/>
              <a:ext cx="222120" cy="56340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36960" y="4915080"/>
              <a:ext cx="222120" cy="6746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92640" y="4832280"/>
              <a:ext cx="223920" cy="743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49760" y="4778280"/>
              <a:ext cx="222120" cy="743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92840" y="4367160"/>
              <a:ext cx="222120" cy="9748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49960" y="4092480"/>
              <a:ext cx="222120" cy="11955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93040" y="3913200"/>
              <a:ext cx="222120" cy="13334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50160" y="3708360"/>
              <a:ext cx="220680" cy="14558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07280" y="3270240"/>
              <a:ext cx="220680" cy="17287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50000" y="3105000"/>
              <a:ext cx="220680" cy="18255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05680" y="2913120"/>
              <a:ext cx="222120" cy="20588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48760" y="2871720"/>
              <a:ext cx="235080" cy="22384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1633680" y="2295360"/>
              <a:ext cx="0" cy="36784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73200" y="5977080"/>
              <a:ext cx="11268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73200" y="5359320"/>
              <a:ext cx="11268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73200" y="4756320"/>
              <a:ext cx="11268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73200" y="4140360"/>
              <a:ext cx="11268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73200" y="3535200"/>
              <a:ext cx="11268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73200" y="2917800"/>
              <a:ext cx="11268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73200" y="2300400"/>
              <a:ext cx="11268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27200" y="5977080"/>
              <a:ext cx="702612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1633680" y="5916600"/>
              <a:ext cx="0" cy="1126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1976400" y="5916600"/>
              <a:ext cx="0" cy="1126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2333520" y="5916600"/>
              <a:ext cx="0" cy="1126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690640" y="5916600"/>
              <a:ext cx="0" cy="1126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033720" y="5916600"/>
              <a:ext cx="0" cy="1126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389400" y="5916600"/>
              <a:ext cx="0" cy="1126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732120" y="5916600"/>
              <a:ext cx="0" cy="1126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4089240" y="5916600"/>
              <a:ext cx="0" cy="1126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4444920" y="5916600"/>
              <a:ext cx="0" cy="1126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4788000" y="5916600"/>
              <a:ext cx="0" cy="1126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5145120" y="5916600"/>
              <a:ext cx="0" cy="1126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487840" y="5916600"/>
              <a:ext cx="0" cy="1126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5845320" y="5916600"/>
              <a:ext cx="0" cy="1126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00640" y="5916600"/>
              <a:ext cx="0" cy="1126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543720" y="5916600"/>
              <a:ext cx="0" cy="1126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6900840" y="5916600"/>
              <a:ext cx="0" cy="1126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243920" y="5916600"/>
              <a:ext cx="0" cy="1126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7599240" y="5916600"/>
              <a:ext cx="0" cy="1126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7956720" y="5916600"/>
              <a:ext cx="0" cy="1126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8299440" y="5916600"/>
              <a:ext cx="0" cy="1126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8656560" y="5916600"/>
              <a:ext cx="0" cy="1126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1058760" y="5786280"/>
              <a:ext cx="39060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$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619200" y="5184720"/>
              <a:ext cx="78732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$2,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619200" y="4567320"/>
              <a:ext cx="78732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$4,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619200" y="3962520"/>
              <a:ext cx="78732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$6,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619200" y="3344760"/>
              <a:ext cx="78732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$8,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495360" y="2728800"/>
              <a:ext cx="90000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$10,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495360" y="2125800"/>
              <a:ext cx="90000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$12,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1606680" y="6087960"/>
              <a:ext cx="39060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1949400" y="6087960"/>
              <a:ext cx="39060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2305080" y="6087960"/>
              <a:ext cx="39060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8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2647800" y="6087960"/>
              <a:ext cx="39060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8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3005280" y="6087960"/>
              <a:ext cx="39060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8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3362400" y="6087960"/>
              <a:ext cx="39060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8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3705120" y="6087960"/>
              <a:ext cx="39060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8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4060800" y="6087960"/>
              <a:ext cx="39060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8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4403880" y="6087960"/>
              <a:ext cx="39060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8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4761000" y="6087960"/>
              <a:ext cx="39060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8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5116680" y="6087960"/>
              <a:ext cx="39060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5459400" y="6087960"/>
              <a:ext cx="39060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5816520" y="6087960"/>
              <a:ext cx="39060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9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6159600" y="6087960"/>
              <a:ext cx="39060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9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6516720" y="6087960"/>
              <a:ext cx="39060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9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6873840" y="6087960"/>
              <a:ext cx="39060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9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7216920" y="6087960"/>
              <a:ext cx="39060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9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7574040" y="6087960"/>
              <a:ext cx="39060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9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7916760" y="6087960"/>
              <a:ext cx="39060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9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8272440" y="6087960"/>
              <a:ext cx="39060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9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934920" y="6404040"/>
            <a:ext cx="3637080" cy="326880"/>
            <a:chOff x="934920" y="6404040"/>
            <a:chExt cx="3637080" cy="326880"/>
          </a:xfrm>
        </p:grpSpPr>
        <p:sp>
          <p:nvSpPr>
            <p:cNvPr id="302" name=""/>
            <p:cNvSpPr/>
            <p:nvPr/>
          </p:nvSpPr>
          <p:spPr>
            <a:xfrm>
              <a:off x="934920" y="6464160"/>
              <a:ext cx="154080" cy="152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1085760" y="6404040"/>
              <a:ext cx="163368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Total Hardw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55880" y="6464160"/>
              <a:ext cx="152280" cy="1522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006720" y="6404040"/>
              <a:ext cx="156528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Total Softw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 txBox="1"/>
          <p:nvPr/>
        </p:nvSpPr>
        <p:spPr>
          <a:xfrm>
            <a:off x="5927760" y="6446880"/>
            <a:ext cx="3147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Source: V&amp;A Primary and Compil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1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762120" y="30492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2600 to 64-Bit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ail Sales By Hardware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n Mill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6080" y="2685960"/>
            <a:ext cx="90518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136520" y="5489640"/>
            <a:ext cx="76503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36520" y="4998960"/>
            <a:ext cx="76503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36520" y="4521240"/>
            <a:ext cx="76503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36520" y="4029120"/>
            <a:ext cx="76503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36520" y="3538440"/>
            <a:ext cx="76503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36520" y="3046320"/>
            <a:ext cx="76503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36520" y="2568600"/>
            <a:ext cx="76503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81160" y="5889600"/>
            <a:ext cx="160200" cy="7308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55840" y="5861160"/>
            <a:ext cx="160200" cy="10152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16120" y="5672160"/>
            <a:ext cx="162000" cy="29052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74960" y="5757840"/>
            <a:ext cx="162000" cy="204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36680" y="5916600"/>
            <a:ext cx="162000" cy="4608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71640" y="5875200"/>
            <a:ext cx="160200" cy="8748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32280" y="5716440"/>
            <a:ext cx="160200" cy="2462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92560" y="5556240"/>
            <a:ext cx="160200" cy="4064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552840" y="5440320"/>
            <a:ext cx="160200" cy="52236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25720" y="5584680"/>
            <a:ext cx="162000" cy="37800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086360" y="5757840"/>
            <a:ext cx="163440" cy="204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46640" y="5875200"/>
            <a:ext cx="160200" cy="8748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867200" y="5875200"/>
            <a:ext cx="176040" cy="8748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3680" y="5700600"/>
            <a:ext cx="160200" cy="26208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400720" y="5338800"/>
            <a:ext cx="163440" cy="62388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662440" y="5338800"/>
            <a:ext cx="160200" cy="62388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923080" y="5440320"/>
            <a:ext cx="174600" cy="52236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97760" y="5627520"/>
            <a:ext cx="160200" cy="33480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58040" y="5802480"/>
            <a:ext cx="160200" cy="160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718320" y="5889600"/>
            <a:ext cx="160200" cy="7308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251840" y="5815080"/>
            <a:ext cx="162000" cy="14760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513560" y="5643720"/>
            <a:ext cx="162000" cy="31896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772400" y="5369040"/>
            <a:ext cx="162000" cy="5936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034480" y="5021280"/>
            <a:ext cx="158760" cy="94140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292960" y="4848120"/>
            <a:ext cx="176040" cy="111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569440" y="4832280"/>
            <a:ext cx="160200" cy="113040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1160" y="5743440"/>
            <a:ext cx="160200" cy="133200"/>
          </a:xfrm>
          <a:prstGeom prst="rect">
            <a:avLst/>
          </a:prstGeom>
          <a:solidFill>
            <a:srgbClr val="00ae00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55840" y="5481720"/>
            <a:ext cx="160200" cy="365040"/>
          </a:xfrm>
          <a:prstGeom prst="rect">
            <a:avLst/>
          </a:prstGeom>
          <a:solidFill>
            <a:srgbClr val="00ae00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716120" y="4500720"/>
            <a:ext cx="162000" cy="1157400"/>
          </a:xfrm>
          <a:prstGeom prst="rect">
            <a:avLst/>
          </a:prstGeom>
          <a:solidFill>
            <a:srgbClr val="00ae00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74960" y="4992840"/>
            <a:ext cx="162000" cy="752400"/>
          </a:xfrm>
          <a:prstGeom prst="rect">
            <a:avLst/>
          </a:prstGeom>
          <a:solidFill>
            <a:srgbClr val="00ae00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236680" y="5584680"/>
            <a:ext cx="162000" cy="320760"/>
          </a:xfrm>
          <a:prstGeom prst="rect">
            <a:avLst/>
          </a:prstGeom>
          <a:solidFill>
            <a:srgbClr val="00ae00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771640" y="5730840"/>
            <a:ext cx="160200" cy="130320"/>
          </a:xfrm>
          <a:prstGeom prst="rect">
            <a:avLst/>
          </a:prstGeom>
          <a:solidFill>
            <a:srgbClr val="00ae00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32280" y="5369040"/>
            <a:ext cx="160200" cy="334800"/>
          </a:xfrm>
          <a:prstGeom prst="rect">
            <a:avLst/>
          </a:prstGeom>
          <a:solidFill>
            <a:srgbClr val="00ae00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92560" y="4645080"/>
            <a:ext cx="160200" cy="898560"/>
          </a:xfrm>
          <a:prstGeom prst="rect">
            <a:avLst/>
          </a:prstGeom>
          <a:solidFill>
            <a:srgbClr val="00ae00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52840" y="4413240"/>
            <a:ext cx="160200" cy="1014480"/>
          </a:xfrm>
          <a:prstGeom prst="rect">
            <a:avLst/>
          </a:prstGeom>
          <a:solidFill>
            <a:srgbClr val="00ae00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25720" y="4572000"/>
            <a:ext cx="162000" cy="1001880"/>
          </a:xfrm>
          <a:prstGeom prst="rect">
            <a:avLst/>
          </a:prstGeom>
          <a:solidFill>
            <a:srgbClr val="00ae00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086360" y="5106960"/>
            <a:ext cx="163440" cy="638280"/>
          </a:xfrm>
          <a:prstGeom prst="rect">
            <a:avLst/>
          </a:prstGeom>
          <a:solidFill>
            <a:srgbClr val="00ae00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46640" y="5497560"/>
            <a:ext cx="160200" cy="363600"/>
          </a:xfrm>
          <a:prstGeom prst="rect">
            <a:avLst/>
          </a:prstGeom>
          <a:solidFill>
            <a:srgbClr val="00ae00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67200" y="5815080"/>
            <a:ext cx="176040" cy="46080"/>
          </a:xfrm>
          <a:prstGeom prst="rect">
            <a:avLst/>
          </a:prstGeom>
          <a:solidFill>
            <a:srgbClr val="00ae00"/>
          </a:solidFill>
          <a:ln w="12600">
            <a:solidFill>
              <a:srgbClr val="fc0128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43680" y="5338800"/>
            <a:ext cx="160200" cy="349200"/>
          </a:xfrm>
          <a:prstGeom prst="rect">
            <a:avLst/>
          </a:prstGeom>
          <a:solidFill>
            <a:srgbClr val="00ae00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400720" y="4500720"/>
            <a:ext cx="163440" cy="824040"/>
          </a:xfrm>
          <a:prstGeom prst="rect">
            <a:avLst/>
          </a:prstGeom>
          <a:solidFill>
            <a:srgbClr val="00ae00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662440" y="4152960"/>
            <a:ext cx="160200" cy="1171440"/>
          </a:xfrm>
          <a:prstGeom prst="rect">
            <a:avLst/>
          </a:prstGeom>
          <a:solidFill>
            <a:srgbClr val="00ae00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23080" y="4008600"/>
            <a:ext cx="174600" cy="1419120"/>
          </a:xfrm>
          <a:prstGeom prst="rect">
            <a:avLst/>
          </a:prstGeom>
          <a:solidFill>
            <a:srgbClr val="00ae00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97760" y="4327560"/>
            <a:ext cx="160200" cy="1287360"/>
          </a:xfrm>
          <a:prstGeom prst="rect">
            <a:avLst/>
          </a:prstGeom>
          <a:solidFill>
            <a:srgbClr val="00ae00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458040" y="4964040"/>
            <a:ext cx="160200" cy="825480"/>
          </a:xfrm>
          <a:prstGeom prst="rect">
            <a:avLst/>
          </a:prstGeom>
          <a:solidFill>
            <a:srgbClr val="00ae00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718320" y="5338800"/>
            <a:ext cx="160200" cy="538200"/>
          </a:xfrm>
          <a:prstGeom prst="rect">
            <a:avLst/>
          </a:prstGeom>
          <a:solidFill>
            <a:srgbClr val="00ae00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251840" y="5716440"/>
            <a:ext cx="162000" cy="87480"/>
          </a:xfrm>
          <a:prstGeom prst="rect">
            <a:avLst/>
          </a:prstGeom>
          <a:solidFill>
            <a:srgbClr val="00ae00"/>
          </a:solidFill>
          <a:ln w="12600">
            <a:solidFill>
              <a:srgbClr val="fc0128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513560" y="5440320"/>
            <a:ext cx="162000" cy="190440"/>
          </a:xfrm>
          <a:prstGeom prst="rect">
            <a:avLst/>
          </a:prstGeom>
          <a:solidFill>
            <a:srgbClr val="00ae00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772400" y="4948200"/>
            <a:ext cx="162000" cy="407880"/>
          </a:xfrm>
          <a:prstGeom prst="rect">
            <a:avLst/>
          </a:prstGeom>
          <a:solidFill>
            <a:srgbClr val="00ae00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034480" y="4124160"/>
            <a:ext cx="158760" cy="884160"/>
          </a:xfrm>
          <a:prstGeom prst="rect">
            <a:avLst/>
          </a:prstGeom>
          <a:solidFill>
            <a:srgbClr val="00ae00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292960" y="3154320"/>
            <a:ext cx="176040" cy="1681200"/>
          </a:xfrm>
          <a:prstGeom prst="rect">
            <a:avLst/>
          </a:prstGeom>
          <a:solidFill>
            <a:srgbClr val="00ae00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569440" y="2519280"/>
            <a:ext cx="160200" cy="2300400"/>
          </a:xfrm>
          <a:prstGeom prst="rect">
            <a:avLst/>
          </a:prstGeom>
          <a:solidFill>
            <a:srgbClr val="00ae00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143000" y="2492280"/>
            <a:ext cx="0" cy="34848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79640" y="5981760"/>
            <a:ext cx="1173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79640" y="5489640"/>
            <a:ext cx="1173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79640" y="4998960"/>
            <a:ext cx="1173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79640" y="4521240"/>
            <a:ext cx="1173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079640" y="4029120"/>
            <a:ext cx="1173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79640" y="3538440"/>
            <a:ext cx="1173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079640" y="3046320"/>
            <a:ext cx="1173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79640" y="2568600"/>
            <a:ext cx="1173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36520" y="5981760"/>
            <a:ext cx="76503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14300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40508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167796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93824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219852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46060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73384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299556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25584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51324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78936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404964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430992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457056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483084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10372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36580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62464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88492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616104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41988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668196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694224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720108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747540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773748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799632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825660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853272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8790120" y="5916600"/>
            <a:ext cx="0" cy="117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47640" y="5753160"/>
            <a:ext cx="434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$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41200" y="5261040"/>
            <a:ext cx="879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41200" y="4770360"/>
            <a:ext cx="879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41200" y="4294080"/>
            <a:ext cx="879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$3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41200" y="3800520"/>
            <a:ext cx="879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41200" y="3309840"/>
            <a:ext cx="879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$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241200" y="2817720"/>
            <a:ext cx="879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$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241200" y="2341440"/>
            <a:ext cx="879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$7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139760" y="6080040"/>
            <a:ext cx="406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413000" y="6080040"/>
            <a:ext cx="406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673280" y="6080040"/>
            <a:ext cx="406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33560" y="6080040"/>
            <a:ext cx="406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193840" y="6080040"/>
            <a:ext cx="406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2730600" y="6080040"/>
            <a:ext cx="406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989440" y="6080040"/>
            <a:ext cx="406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247920" y="6080040"/>
            <a:ext cx="406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510000" y="6080040"/>
            <a:ext cx="406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782880" y="6080040"/>
            <a:ext cx="406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044960" y="6080040"/>
            <a:ext cx="406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305240" y="6080040"/>
            <a:ext cx="406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838760" y="6080040"/>
            <a:ext cx="406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5100480" y="6080040"/>
            <a:ext cx="406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5359320" y="6080040"/>
            <a:ext cx="406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5621400" y="6080040"/>
            <a:ext cx="406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880240" y="6080040"/>
            <a:ext cx="406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54560" y="6080040"/>
            <a:ext cx="406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416640" y="6080040"/>
            <a:ext cx="406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675480" y="6080040"/>
            <a:ext cx="406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7210440" y="6080040"/>
            <a:ext cx="406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7470720" y="6080040"/>
            <a:ext cx="406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7731000" y="6080040"/>
            <a:ext cx="406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7993080" y="6080040"/>
            <a:ext cx="406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251920" y="6080040"/>
            <a:ext cx="406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528040" y="6080040"/>
            <a:ext cx="406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073320" y="3227400"/>
            <a:ext cx="1224000" cy="73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c012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186000" y="3332160"/>
            <a:ext cx="1057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Cycl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8-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091120" y="2906640"/>
            <a:ext cx="1225440" cy="73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c012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5202360" y="3024360"/>
            <a:ext cx="1057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Cycle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16-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44520" y="3586320"/>
            <a:ext cx="1225440" cy="73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c012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327320" y="3560760"/>
            <a:ext cx="10573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Cycl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A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2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19920" y="2473200"/>
            <a:ext cx="1227240" cy="73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c012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967440" y="2449440"/>
            <a:ext cx="11336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Cycle 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32/64-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934920" y="6404040"/>
            <a:ext cx="3637080" cy="326880"/>
            <a:chOff x="934920" y="6404040"/>
            <a:chExt cx="3637080" cy="326880"/>
          </a:xfrm>
        </p:grpSpPr>
        <p:sp>
          <p:nvSpPr>
            <p:cNvPr id="451" name=""/>
            <p:cNvSpPr/>
            <p:nvPr/>
          </p:nvSpPr>
          <p:spPr>
            <a:xfrm>
              <a:off x="934920" y="6464160"/>
              <a:ext cx="154080" cy="152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1085760" y="6404040"/>
              <a:ext cx="163368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Total Hardw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55880" y="6464160"/>
              <a:ext cx="152280" cy="1522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3006720" y="6404040"/>
              <a:ext cx="156528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Total Softw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 txBox="1"/>
          <p:nvPr/>
        </p:nvSpPr>
        <p:spPr>
          <a:xfrm>
            <a:off x="5927760" y="6446880"/>
            <a:ext cx="3147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Source: V&amp;A Primary and Compil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1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380880" y="3049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ext Cycle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ari Jaguar Hardware Sales Potent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nits in Thous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457200" y="2475000"/>
            <a:ext cx="8244000" cy="3195360"/>
            <a:chOff x="457200" y="2475000"/>
            <a:chExt cx="8244000" cy="3195360"/>
          </a:xfrm>
        </p:grpSpPr>
        <p:sp>
          <p:nvSpPr>
            <p:cNvPr id="458" name=""/>
            <p:cNvSpPr txBox="1"/>
            <p:nvPr/>
          </p:nvSpPr>
          <p:spPr>
            <a:xfrm>
              <a:off x="457200" y="27050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89160" y="4494240"/>
              <a:ext cx="740556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89160" y="3781440"/>
              <a:ext cx="740556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89160" y="3068640"/>
              <a:ext cx="740556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41520" y="5046840"/>
              <a:ext cx="963720" cy="1382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22560" y="4768920"/>
              <a:ext cx="949320" cy="4158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89560" y="4389480"/>
              <a:ext cx="963720" cy="7952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69160" y="4192560"/>
              <a:ext cx="979560" cy="9921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450200" y="3762360"/>
              <a:ext cx="977760" cy="14223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212840" y="2475000"/>
              <a:ext cx="6480" cy="27241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233360" y="5205240"/>
              <a:ext cx="11124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33360" y="4494240"/>
              <a:ext cx="11124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233360" y="3781440"/>
              <a:ext cx="11124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233360" y="3068640"/>
              <a:ext cx="11124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289160" y="5205240"/>
              <a:ext cx="740556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1297080" y="5129280"/>
              <a:ext cx="0" cy="1252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2778120" y="5129280"/>
              <a:ext cx="0" cy="1252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4257720" y="5129280"/>
              <a:ext cx="0" cy="1252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5738760" y="5129280"/>
              <a:ext cx="0" cy="1252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219800" y="5129280"/>
              <a:ext cx="0" cy="1252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8701200" y="5129280"/>
              <a:ext cx="0" cy="1252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 txBox="1"/>
            <p:nvPr/>
          </p:nvSpPr>
          <p:spPr>
            <a:xfrm>
              <a:off x="880920" y="5018040"/>
              <a:ext cx="309600" cy="33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afd00"/>
                  </a:solidFill>
                  <a:latin typeface="Arial"/>
                  <a:ea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 txBox="1"/>
            <p:nvPr/>
          </p:nvSpPr>
          <p:spPr>
            <a:xfrm>
              <a:off x="503280" y="4307040"/>
              <a:ext cx="679320" cy="33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afd00"/>
                  </a:solidFill>
                  <a:latin typeface="Arial"/>
                  <a:ea typeface="Arial"/>
                </a:rPr>
                <a:t>2,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 txBox="1"/>
            <p:nvPr/>
          </p:nvSpPr>
          <p:spPr>
            <a:xfrm>
              <a:off x="503280" y="3594240"/>
              <a:ext cx="679320" cy="33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afd00"/>
                  </a:solidFill>
                  <a:latin typeface="Arial"/>
                  <a:ea typeface="Arial"/>
                </a:rPr>
                <a:t>4,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503280" y="2881440"/>
              <a:ext cx="679320" cy="33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afd00"/>
                  </a:solidFill>
                  <a:latin typeface="Arial"/>
                  <a:ea typeface="Arial"/>
                </a:rPr>
                <a:t>6,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 txBox="1"/>
            <p:nvPr/>
          </p:nvSpPr>
          <p:spPr>
            <a:xfrm>
              <a:off x="1801800" y="5340240"/>
              <a:ext cx="414360" cy="33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afd00"/>
                  </a:solidFill>
                  <a:latin typeface="Arial"/>
                  <a:ea typeface="Arial"/>
                </a:rPr>
                <a:t>9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 txBox="1"/>
            <p:nvPr/>
          </p:nvSpPr>
          <p:spPr>
            <a:xfrm>
              <a:off x="3282840" y="5340240"/>
              <a:ext cx="414360" cy="33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afd00"/>
                  </a:solidFill>
                  <a:latin typeface="Arial"/>
                  <a:ea typeface="Arial"/>
                </a:rPr>
                <a:t>9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>
              <a:off x="4764240" y="5340240"/>
              <a:ext cx="414360" cy="33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afd00"/>
                  </a:solidFill>
                  <a:latin typeface="Arial"/>
                  <a:ea typeface="Arial"/>
                </a:rPr>
                <a:t>9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 txBox="1"/>
            <p:nvPr/>
          </p:nvSpPr>
          <p:spPr>
            <a:xfrm>
              <a:off x="6245280" y="5340240"/>
              <a:ext cx="414360" cy="33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afd00"/>
                  </a:solidFill>
                  <a:latin typeface="Arial"/>
                  <a:ea typeface="Arial"/>
                </a:rPr>
                <a:t>9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 txBox="1"/>
            <p:nvPr/>
          </p:nvSpPr>
          <p:spPr>
            <a:xfrm>
              <a:off x="7726320" y="5340240"/>
              <a:ext cx="414360" cy="33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afd00"/>
                  </a:solidFill>
                  <a:latin typeface="Arial"/>
                  <a:ea typeface="Arial"/>
                </a:rPr>
                <a:t>98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1011240" y="5931000"/>
            <a:ext cx="1540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238400" y="5870520"/>
            <a:ext cx="32259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Total Jaguar Unit Sales By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5927760" y="6523200"/>
            <a:ext cx="3147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Source: V&amp;A Primary and Compil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